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2.png" ContentType="image/png"/>
  <Override PartName="/ppt/media/image21.jpeg" ContentType="image/jpeg"/>
  <Override PartName="/ppt/media/image26.jpeg" ContentType="image/jpeg"/>
  <Override PartName="/ppt/media/image25.jpeg" ContentType="image/jpeg"/>
  <Override PartName="/ppt/media/image4.jpeg" ContentType="image/jpeg"/>
  <Override PartName="/ppt/media/image31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8.png" ContentType="image/png"/>
  <Override PartName="/ppt/media/image13.png" ContentType="image/png"/>
  <Override PartName="/ppt/media/image28.jpeg" ContentType="image/jpeg"/>
  <Override PartName="/ppt/media/image7.jpeg" ContentType="image/jpeg"/>
  <Override PartName="/ppt/media/image11.png" ContentType="image/png"/>
  <Override PartName="/ppt/media/image30.jpeg" ContentType="image/jpeg"/>
  <Override PartName="/ppt/media/image9.png" ContentType="image/png"/>
  <Override PartName="/ppt/media/image3.gif" ContentType="image/gif"/>
  <Override PartName="/ppt/media/image2.jpeg" ContentType="image/jpeg"/>
  <Override PartName="/ppt/media/image23.jpeg" ContentType="image/jpeg"/>
  <Override PartName="/ppt/media/image12.png" ContentType="image/png"/>
  <Override PartName="/ppt/media/image5.png" ContentType="image/png"/>
  <Override PartName="/ppt/media/image29.jpeg" ContentType="image/jpeg"/>
  <Override PartName="/ppt/media/image10.png" ContentType="image/png"/>
  <Override PartName="/ppt/media/image1.jpeg" ContentType="image/jpeg"/>
  <Override PartName="/ppt/media/image14.png" ContentType="image/png"/>
  <Override PartName="/ppt/media/image15.jpeg" ContentType="image/jpeg"/>
  <Override PartName="/ppt/media/image16.gif" ContentType="image/gif"/>
  <Override PartName="/ppt/media/image17.jpeg" ContentType="image/jpeg"/>
  <Override PartName="/ppt/media/image18.jpeg" ContentType="image/jpeg"/>
  <Override PartName="/ppt/media/image19.wmf" ContentType="image/x-wmf"/>
  <Override PartName="/ppt/media/image32.jpeg" ContentType="image/jpeg"/>
  <Override PartName="/ppt/media/image2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8D45-C499-46F8-BCFB-B693F989C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410C-20AC-4657-955C-F669B8ADD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D376-59D1-47B4-8E6E-75BD2A771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A43B-A9A9-4BBC-9822-A6EC65435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AB0D-C21C-4B01-A397-113D44F08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0684-80C0-4F5A-934B-4559E5536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066D-4F8B-4DAF-9846-2C8139BAF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61E5-DBF2-462E-97EE-EC5CFBDF0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110C-0B83-481E-BB6D-B03A015DC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9C83-BE16-40A2-B71E-D42FF1CF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D73F-F87A-44F4-801D-FD09E520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C3A8-4832-43FE-A5B4-FBA5B445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40153-ABD2-409D-BAF1-B22275CA56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ydt.com/video/n_show/Nav_5/E4DA3B7F_1.htm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1ydt.com/video/n_show/Nav_5/E4DA3B7F_1.htm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9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20.wmf"/><Relationship Id="rId8" Type="http://schemas.openxmlformats.org/officeDocument/2006/relationships/image" Target="../media/image20.wmf"/><Relationship Id="rId9" Type="http://schemas.openxmlformats.org/officeDocument/2006/relationships/image" Target="../media/image20.wmf"/><Relationship Id="rId10" Type="http://schemas.openxmlformats.org/officeDocument/2006/relationships/hyperlink" Target="http://www.1ydt.com/video/n_show/Nav_5/E4DA3B7F_1.htm" TargetMode="External"/><Relationship Id="rId1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1ydt.com/video/n_show/Nav_5/E4DA3B7F_1.htm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hyperlink" Target="http://www.1ydt.com/video/n_show/Nav_5/E4DA3B7F_1.htm" TargetMode="External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www.1ydt.com/video/n_show/Nav_5/E4DA3B7F_1.htm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hyperlink" Target="http://www.1ydt.com/video/n_show/Nav_5/E4DA3B7F_1.htm" TargetMode="External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1ydt.com/video/n_show/Nav_5/E4DA3B7F_1.ht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aihuafood.cn/eBusiness/product_images/s/cn_s_3_1.gif" TargetMode="Externa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taihuafood.cn/eBusiness/product_images/s/cn_s_3_1.gif" TargetMode="External"/><Relationship Id="rId2" Type="http://schemas.openxmlformats.org/officeDocument/2006/relationships/image" Target="../media/image12.png"/><Relationship Id="rId3" Type="http://schemas.openxmlformats.org/officeDocument/2006/relationships/image" Target="../media/image4.jpeg"/><Relationship Id="rId4" Type="http://schemas.openxmlformats.org/officeDocument/2006/relationships/image" Target="../media/image13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image" Target="../media/image16.gif"/><Relationship Id="rId8" Type="http://schemas.openxmlformats.org/officeDocument/2006/relationships/image" Target="../media/image16.gif"/><Relationship Id="rId9" Type="http://schemas.openxmlformats.org/officeDocument/2006/relationships/image" Target="../media/image16.gif"/><Relationship Id="rId10" Type="http://schemas.openxmlformats.org/officeDocument/2006/relationships/image" Target="../media/image16.gif"/><Relationship Id="rId11" Type="http://schemas.openxmlformats.org/officeDocument/2006/relationships/hyperlink" Target="http://www.1ydt.com/video/n_show/Nav_5/E4DA3B7F_1.htm" TargetMode="External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276720" y="476280"/>
            <a:ext cx="33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二年级语文上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472428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梅河口市第三实验小学姚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71640" y="2421000"/>
            <a:ext cx="6321240" cy="14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汉仪雁翎体简"/>
              </a:rPr>
              <a:t>秋天的图画</a:t>
            </a:r>
            <a:endParaRPr b="1" lang="en-US" sz="2400" spc="-1" strike="noStrike">
              <a:ln w="0">
                <a:noFill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汉仪雁翎体简"/>
              <a:ea typeface="汉仪雁翎体简"/>
            </a:endParaRPr>
          </a:p>
        </p:txBody>
      </p:sp>
      <p:sp>
        <p:nvSpPr>
          <p:cNvPr id="45" name=""/>
          <p:cNvSpPr/>
          <p:nvPr/>
        </p:nvSpPr>
        <p:spPr>
          <a:xfrm>
            <a:off x="5796000" y="4292640"/>
            <a:ext cx="1655640" cy="2160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ea typeface="仿宋_GB2312"/>
                <a:hlinkClick r:id="rId2"/>
              </a:rPr>
              <a:t>点此播放动画视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828720" y="1844640"/>
            <a:ext cx="799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6600" spc="-1" strike="noStrike">
                <a:solidFill>
                  <a:srgbClr val="000000"/>
                </a:solidFill>
                <a:latin typeface="宋体"/>
              </a:rPr>
              <a:t>勤劳的人们画出秋天</a:t>
            </a:r>
            <a:r>
              <a:rPr b="1" lang="en-US" sz="6600" spc="-1" strike="noStrike" u="sng">
                <a:solidFill>
                  <a:srgbClr val="000000"/>
                </a:solidFill>
                <a:uFillTx/>
                <a:latin typeface="宋体"/>
              </a:rPr>
              <a:t>     </a:t>
            </a:r>
            <a:r>
              <a:rPr b="1" lang="zh-CN" sz="6600" spc="-1" strike="noStrike">
                <a:solidFill>
                  <a:srgbClr val="000000"/>
                </a:solidFill>
                <a:latin typeface="宋体"/>
              </a:rPr>
              <a:t>的图画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459640" y="6237360"/>
            <a:ext cx="505080" cy="504720"/>
          </a:xfrm>
          <a:custGeom>
            <a:avLst/>
            <a:gdLst>
              <a:gd name="textAreaLeft" fmla="*/ 31320 w 505080"/>
              <a:gd name="textAreaRight" fmla="*/ 473760 w 505080"/>
              <a:gd name="textAreaTop" fmla="*/ 31320 h 504720"/>
              <a:gd name="textAreaBottom" fmla="*/ 47340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65" y="1350"/>
                </a:lnTo>
                <a:lnTo>
                  <a:pt x="1350" y="135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65" y="20250"/>
                </a:lnTo>
                <a:lnTo>
                  <a:pt x="20265" y="135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65" y="2025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15" h="21600">
                <a:moveTo>
                  <a:pt x="10808" y="3800"/>
                </a:moveTo>
                <a:lnTo>
                  <a:pt x="13398" y="6425"/>
                </a:lnTo>
                <a:lnTo>
                  <a:pt x="13398" y="4675"/>
                </a:lnTo>
                <a:lnTo>
                  <a:pt x="15183" y="4675"/>
                </a:lnTo>
                <a:lnTo>
                  <a:pt x="15183" y="8210"/>
                </a:lnTo>
                <a:lnTo>
                  <a:pt x="17808" y="10800"/>
                </a:lnTo>
                <a:lnTo>
                  <a:pt x="16145" y="10800"/>
                </a:lnTo>
                <a:lnTo>
                  <a:pt x="16145" y="18028"/>
                </a:lnTo>
                <a:lnTo>
                  <a:pt x="5470" y="18028"/>
                </a:lnTo>
                <a:lnTo>
                  <a:pt x="5470" y="10800"/>
                </a:lnTo>
                <a:lnTo>
                  <a:pt x="3808" y="10800"/>
                </a:lnTo>
                <a:close/>
              </a:path>
              <a:path fill="darkenLess" w="21615" h="21600">
                <a:moveTo>
                  <a:pt x="13398" y="6425"/>
                </a:moveTo>
                <a:lnTo>
                  <a:pt x="13398" y="4675"/>
                </a:lnTo>
                <a:lnTo>
                  <a:pt x="15183" y="4675"/>
                </a:lnTo>
                <a:lnTo>
                  <a:pt x="15183" y="8210"/>
                </a:lnTo>
                <a:close/>
              </a:path>
              <a:path fill="darkenLess" w="21615" h="21600">
                <a:moveTo>
                  <a:pt x="9880" y="14318"/>
                </a:moveTo>
                <a:lnTo>
                  <a:pt x="11735" y="14318"/>
                </a:lnTo>
                <a:lnTo>
                  <a:pt x="11735" y="18028"/>
                </a:lnTo>
                <a:lnTo>
                  <a:pt x="16145" y="18028"/>
                </a:lnTo>
                <a:lnTo>
                  <a:pt x="16145" y="10800"/>
                </a:lnTo>
                <a:lnTo>
                  <a:pt x="5470" y="10800"/>
                </a:lnTo>
                <a:lnTo>
                  <a:pt x="5470" y="18028"/>
                </a:lnTo>
                <a:lnTo>
                  <a:pt x="9880" y="18028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80000" y="6453360"/>
            <a:ext cx="165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ea typeface="仿宋_GB2312"/>
                <a:hlinkClick r:id="rId2"/>
              </a:rPr>
              <a:t>点此播放动画视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62120" y="609480"/>
            <a:ext cx="7696080" cy="60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00cc"/>
                </a:solidFill>
                <a:latin typeface="宋体"/>
              </a:rPr>
              <a:t>   </a:t>
            </a:r>
            <a:r>
              <a:rPr b="1" lang="zh-CN" sz="5000" spc="-1" strike="noStrike">
                <a:solidFill>
                  <a:srgbClr val="9900ff"/>
                </a:solidFill>
                <a:latin typeface="宋体"/>
              </a:rPr>
              <a:t>谁使你这样美丽？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梨树说：“是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让我挂起金黄的灯笼。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苹果说：“是勤劳的人们让我露出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稻海说：“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粱说：“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9640" y="6237360"/>
            <a:ext cx="505080" cy="504720"/>
          </a:xfrm>
          <a:custGeom>
            <a:avLst/>
            <a:gdLst>
              <a:gd name="textAreaLeft" fmla="*/ 31320 w 505080"/>
              <a:gd name="textAreaRight" fmla="*/ 473760 w 505080"/>
              <a:gd name="textAreaTop" fmla="*/ 31320 h 504720"/>
              <a:gd name="textAreaBottom" fmla="*/ 47340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65" y="1350"/>
                </a:lnTo>
                <a:lnTo>
                  <a:pt x="1350" y="135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65" y="20250"/>
                </a:lnTo>
                <a:lnTo>
                  <a:pt x="20265" y="135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65" y="2025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15" h="21600">
                <a:moveTo>
                  <a:pt x="10808" y="3800"/>
                </a:moveTo>
                <a:lnTo>
                  <a:pt x="13398" y="6425"/>
                </a:lnTo>
                <a:lnTo>
                  <a:pt x="13398" y="4675"/>
                </a:lnTo>
                <a:lnTo>
                  <a:pt x="15183" y="4675"/>
                </a:lnTo>
                <a:lnTo>
                  <a:pt x="15183" y="8210"/>
                </a:lnTo>
                <a:lnTo>
                  <a:pt x="17808" y="10800"/>
                </a:lnTo>
                <a:lnTo>
                  <a:pt x="16145" y="10800"/>
                </a:lnTo>
                <a:lnTo>
                  <a:pt x="16145" y="18028"/>
                </a:lnTo>
                <a:lnTo>
                  <a:pt x="5470" y="18028"/>
                </a:lnTo>
                <a:lnTo>
                  <a:pt x="5470" y="10800"/>
                </a:lnTo>
                <a:lnTo>
                  <a:pt x="3808" y="10800"/>
                </a:lnTo>
                <a:close/>
              </a:path>
              <a:path fill="darkenLess" w="21615" h="21600">
                <a:moveTo>
                  <a:pt x="13398" y="6425"/>
                </a:moveTo>
                <a:lnTo>
                  <a:pt x="13398" y="4675"/>
                </a:lnTo>
                <a:lnTo>
                  <a:pt x="15183" y="4675"/>
                </a:lnTo>
                <a:lnTo>
                  <a:pt x="15183" y="8210"/>
                </a:lnTo>
                <a:close/>
              </a:path>
              <a:path fill="darkenLess" w="21615" h="21600">
                <a:moveTo>
                  <a:pt x="9880" y="14318"/>
                </a:moveTo>
                <a:lnTo>
                  <a:pt x="11735" y="14318"/>
                </a:lnTo>
                <a:lnTo>
                  <a:pt x="11735" y="18028"/>
                </a:lnTo>
                <a:lnTo>
                  <a:pt x="16145" y="18028"/>
                </a:lnTo>
                <a:lnTo>
                  <a:pt x="16145" y="10800"/>
                </a:lnTo>
                <a:lnTo>
                  <a:pt x="5470" y="10800"/>
                </a:lnTo>
                <a:lnTo>
                  <a:pt x="5470" y="18028"/>
                </a:lnTo>
                <a:lnTo>
                  <a:pt x="9880" y="18028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1311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44360" y="1125360"/>
            <a:ext cx="8999640" cy="2104920"/>
          </a:xfrm>
          <a:prstGeom prst="rect">
            <a:avLst/>
          </a:prstGeom>
          <a:noFill/>
          <a:ln w="0">
            <a:noFill/>
          </a:ln>
          <a:effectLst>
            <a:outerShdw dist="40186" dir="1189635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秋天来啦， 秋天来啦，山野就是美丽的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画。梨树挂起金黄的灯笼，苹果露出红红的脸颊，稻海翻起金色的波浪，高粱举起燃烧的火把。谁使秋天这样美丽？    看，蓝天上的大雁作出了回答，它们排成一个大大的“人”字，好像在说 —勤劳的人们画出秋天的图画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459640" y="6237360"/>
            <a:ext cx="505080" cy="504720"/>
          </a:xfrm>
          <a:custGeom>
            <a:avLst/>
            <a:gdLst>
              <a:gd name="textAreaLeft" fmla="*/ 31320 w 505080"/>
              <a:gd name="textAreaRight" fmla="*/ 473760 w 505080"/>
              <a:gd name="textAreaTop" fmla="*/ 31320 h 504720"/>
              <a:gd name="textAreaBottom" fmla="*/ 47340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65" y="1350"/>
                </a:lnTo>
                <a:lnTo>
                  <a:pt x="1350" y="135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65" y="20250"/>
                </a:lnTo>
                <a:lnTo>
                  <a:pt x="20265" y="135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65" y="2025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15" h="21600">
                <a:moveTo>
                  <a:pt x="10808" y="3800"/>
                </a:moveTo>
                <a:lnTo>
                  <a:pt x="13398" y="6425"/>
                </a:lnTo>
                <a:lnTo>
                  <a:pt x="13398" y="4675"/>
                </a:lnTo>
                <a:lnTo>
                  <a:pt x="15183" y="4675"/>
                </a:lnTo>
                <a:lnTo>
                  <a:pt x="15183" y="8210"/>
                </a:lnTo>
                <a:lnTo>
                  <a:pt x="17808" y="10800"/>
                </a:lnTo>
                <a:lnTo>
                  <a:pt x="16145" y="10800"/>
                </a:lnTo>
                <a:lnTo>
                  <a:pt x="16145" y="18028"/>
                </a:lnTo>
                <a:lnTo>
                  <a:pt x="5470" y="18028"/>
                </a:lnTo>
                <a:lnTo>
                  <a:pt x="5470" y="10800"/>
                </a:lnTo>
                <a:lnTo>
                  <a:pt x="3808" y="10800"/>
                </a:lnTo>
                <a:close/>
              </a:path>
              <a:path fill="darkenLess" w="21615" h="21600">
                <a:moveTo>
                  <a:pt x="13398" y="6425"/>
                </a:moveTo>
                <a:lnTo>
                  <a:pt x="13398" y="4675"/>
                </a:lnTo>
                <a:lnTo>
                  <a:pt x="15183" y="4675"/>
                </a:lnTo>
                <a:lnTo>
                  <a:pt x="15183" y="8210"/>
                </a:lnTo>
                <a:close/>
              </a:path>
              <a:path fill="darkenLess" w="21615" h="21600">
                <a:moveTo>
                  <a:pt x="9880" y="14318"/>
                </a:moveTo>
                <a:lnTo>
                  <a:pt x="11735" y="14318"/>
                </a:lnTo>
                <a:lnTo>
                  <a:pt x="11735" y="18028"/>
                </a:lnTo>
                <a:lnTo>
                  <a:pt x="16145" y="18028"/>
                </a:lnTo>
                <a:lnTo>
                  <a:pt x="16145" y="10800"/>
                </a:lnTo>
                <a:lnTo>
                  <a:pt x="5470" y="10800"/>
                </a:lnTo>
                <a:lnTo>
                  <a:pt x="5470" y="18028"/>
                </a:lnTo>
                <a:lnTo>
                  <a:pt x="9880" y="18028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556000" y="333360"/>
            <a:ext cx="3240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秋天的图画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12" presetSubtype="4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684360" y="336600"/>
            <a:ext cx="5099040" cy="5433840"/>
            <a:chOff x="684360" y="336600"/>
            <a:chExt cx="5099040" cy="5433840"/>
          </a:xfrm>
        </p:grpSpPr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684360" y="336600"/>
              <a:ext cx="5099040" cy="54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1658160" y="1594080"/>
              <a:ext cx="3245400" cy="39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100" spc="-1" strike="noStrike">
                  <a:solidFill>
                    <a:srgbClr val="ff0000"/>
                  </a:solidFill>
                  <a:latin typeface="Arial"/>
                  <a:ea typeface="华文楷体"/>
                </a:rPr>
                <a:t>图</a:t>
              </a:r>
              <a:endParaRPr b="0" lang="en-US" sz="25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684360" y="517680"/>
            <a:ext cx="4775040" cy="5073480"/>
            <a:chOff x="684360" y="517680"/>
            <a:chExt cx="4775040" cy="5073480"/>
          </a:xfrm>
        </p:grpSpPr>
        <p:pic>
          <p:nvPicPr>
            <p:cNvPr id="108" name="" descr=""/>
            <p:cNvPicPr/>
            <p:nvPr/>
          </p:nvPicPr>
          <p:blipFill>
            <a:blip r:embed="rId2"/>
            <a:stretch/>
          </p:blipFill>
          <p:spPr>
            <a:xfrm>
              <a:off x="684360" y="517680"/>
              <a:ext cx="4775040" cy="507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1414080" y="1633320"/>
              <a:ext cx="2979000" cy="39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100" spc="-1" strike="noStrike">
                  <a:solidFill>
                    <a:srgbClr val="00cc00"/>
                  </a:solidFill>
                  <a:latin typeface="Arial"/>
                  <a:ea typeface="华文楷体"/>
                </a:rPr>
                <a:t>笼</a:t>
              </a:r>
              <a:endParaRPr b="0" lang="en-US" sz="25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684360" y="336600"/>
            <a:ext cx="5099040" cy="5433840"/>
            <a:chOff x="684360" y="336600"/>
            <a:chExt cx="5099040" cy="5433840"/>
          </a:xfrm>
        </p:grpSpPr>
        <p:pic>
          <p:nvPicPr>
            <p:cNvPr id="111" name="" descr=""/>
            <p:cNvPicPr/>
            <p:nvPr/>
          </p:nvPicPr>
          <p:blipFill>
            <a:blip r:embed="rId3"/>
            <a:stretch/>
          </p:blipFill>
          <p:spPr>
            <a:xfrm>
              <a:off x="684360" y="336600"/>
              <a:ext cx="5099040" cy="54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1658160" y="1531440"/>
              <a:ext cx="3210840" cy="39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100" spc="-1" strike="noStrike">
                  <a:solidFill>
                    <a:srgbClr val="ff00ff"/>
                  </a:solidFill>
                  <a:latin typeface="Arial"/>
                  <a:ea typeface="华文楷体"/>
                </a:rPr>
                <a:t>梁</a:t>
              </a:r>
              <a:endParaRPr b="0" lang="en-US" sz="25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84360" y="274680"/>
            <a:ext cx="6551640" cy="5557680"/>
            <a:chOff x="684360" y="274680"/>
            <a:chExt cx="6551640" cy="5557680"/>
          </a:xfrm>
        </p:grpSpPr>
        <p:pic>
          <p:nvPicPr>
            <p:cNvPr id="114" name="" descr=""/>
            <p:cNvPicPr/>
            <p:nvPr/>
          </p:nvPicPr>
          <p:blipFill>
            <a:blip r:embed="rId4"/>
            <a:stretch/>
          </p:blipFill>
          <p:spPr>
            <a:xfrm>
              <a:off x="684360" y="274680"/>
              <a:ext cx="6551640" cy="555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2240280" y="1067400"/>
              <a:ext cx="3047400" cy="39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100" spc="-1" strike="noStrike">
                  <a:solidFill>
                    <a:srgbClr val="ffff00"/>
                  </a:solidFill>
                  <a:latin typeface="Arial"/>
                  <a:ea typeface="华文楷体"/>
                </a:rPr>
                <a:t>劳</a:t>
              </a:r>
              <a:endParaRPr b="0" lang="en-US" sz="25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684360" y="258840"/>
            <a:ext cx="5689440" cy="5589360"/>
            <a:chOff x="684360" y="258840"/>
            <a:chExt cx="5689440" cy="5589360"/>
          </a:xfrm>
        </p:grpSpPr>
        <p:pic>
          <p:nvPicPr>
            <p:cNvPr id="117" name="" descr=""/>
            <p:cNvPicPr/>
            <p:nvPr/>
          </p:nvPicPr>
          <p:blipFill>
            <a:blip r:embed="rId5"/>
            <a:stretch/>
          </p:blipFill>
          <p:spPr>
            <a:xfrm>
              <a:off x="684360" y="258840"/>
              <a:ext cx="5689440" cy="55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2183760" y="1175760"/>
              <a:ext cx="2815560" cy="378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200" spc="-1" strike="noStrike">
                  <a:solidFill>
                    <a:srgbClr val="00ff00"/>
                  </a:solidFill>
                  <a:latin typeface="Arial"/>
                  <a:ea typeface="华文楷体"/>
                </a:rPr>
                <a:t>梨</a:t>
              </a:r>
              <a:endParaRPr b="0" lang="en-US" sz="24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684360" y="274680"/>
            <a:ext cx="6551640" cy="5557680"/>
            <a:chOff x="684360" y="274680"/>
            <a:chExt cx="6551640" cy="5557680"/>
          </a:xfrm>
        </p:grpSpPr>
        <p:pic>
          <p:nvPicPr>
            <p:cNvPr id="120" name="" descr=""/>
            <p:cNvPicPr/>
            <p:nvPr/>
          </p:nvPicPr>
          <p:blipFill>
            <a:blip r:embed="rId6"/>
            <a:stretch/>
          </p:blipFill>
          <p:spPr>
            <a:xfrm>
              <a:off x="684360" y="274680"/>
              <a:ext cx="6551640" cy="555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2240280" y="1005120"/>
              <a:ext cx="3179160" cy="39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100" spc="-1" strike="noStrike">
                  <a:solidFill>
                    <a:srgbClr val="99ff33"/>
                  </a:solidFill>
                  <a:latin typeface="Arial"/>
                  <a:ea typeface="华文楷体"/>
                </a:rPr>
                <a:t>燃</a:t>
              </a:r>
              <a:endParaRPr b="0" lang="en-US" sz="25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684360" y="274680"/>
            <a:ext cx="6551640" cy="5557680"/>
            <a:chOff x="684360" y="274680"/>
            <a:chExt cx="6551640" cy="5557680"/>
          </a:xfrm>
        </p:grpSpPr>
        <p:pic>
          <p:nvPicPr>
            <p:cNvPr id="123" name="" descr=""/>
            <p:cNvPicPr/>
            <p:nvPr/>
          </p:nvPicPr>
          <p:blipFill>
            <a:blip r:embed="rId7"/>
            <a:stretch/>
          </p:blipFill>
          <p:spPr>
            <a:xfrm>
              <a:off x="684360" y="274680"/>
              <a:ext cx="6551640" cy="555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2046960" y="1067400"/>
              <a:ext cx="3308040" cy="39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100" spc="-1" strike="noStrike">
                  <a:solidFill>
                    <a:srgbClr val="ff00ff"/>
                  </a:solidFill>
                  <a:latin typeface="Arial"/>
                  <a:ea typeface="华文楷体"/>
                </a:rPr>
                <a:t>勤</a:t>
              </a:r>
              <a:endParaRPr b="0" lang="en-US" sz="25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84360" y="281160"/>
            <a:ext cx="6696000" cy="5545080"/>
            <a:chOff x="684360" y="281160"/>
            <a:chExt cx="6696000" cy="5545080"/>
          </a:xfrm>
        </p:grpSpPr>
        <p:pic>
          <p:nvPicPr>
            <p:cNvPr id="126" name="" descr=""/>
            <p:cNvPicPr/>
            <p:nvPr/>
          </p:nvPicPr>
          <p:blipFill>
            <a:blip r:embed="rId8"/>
            <a:stretch/>
          </p:blipFill>
          <p:spPr>
            <a:xfrm>
              <a:off x="684360" y="281160"/>
              <a:ext cx="6696000" cy="554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2143080" y="1221840"/>
              <a:ext cx="2784240" cy="39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100" spc="-1" strike="noStrike">
                  <a:solidFill>
                    <a:srgbClr val="0000ff"/>
                  </a:solidFill>
                  <a:latin typeface="Arial"/>
                  <a:ea typeface="华文楷体"/>
                </a:rPr>
                <a:t>颊</a:t>
              </a:r>
              <a:endParaRPr b="0" lang="en-US" sz="25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755640" y="189000"/>
            <a:ext cx="6624720" cy="5557680"/>
            <a:chOff x="755640" y="189000"/>
            <a:chExt cx="6624720" cy="5557680"/>
          </a:xfrm>
        </p:grpSpPr>
        <p:pic>
          <p:nvPicPr>
            <p:cNvPr id="129" name="" descr=""/>
            <p:cNvPicPr/>
            <p:nvPr/>
          </p:nvPicPr>
          <p:blipFill>
            <a:blip r:embed="rId9"/>
            <a:stretch/>
          </p:blipFill>
          <p:spPr>
            <a:xfrm>
              <a:off x="755640" y="189000"/>
              <a:ext cx="6624720" cy="55576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1c1c1c"/>
              </a:outerShdw>
            </a:effectLst>
          </p:spPr>
        </p:pic>
        <p:sp>
          <p:nvSpPr>
            <p:cNvPr id="130" name=""/>
            <p:cNvSpPr/>
            <p:nvPr/>
          </p:nvSpPr>
          <p:spPr>
            <a:xfrm>
              <a:off x="2001960" y="981720"/>
              <a:ext cx="3049560" cy="391932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100" spc="-1" strike="noStrike">
                  <a:solidFill>
                    <a:srgbClr val="0000ff"/>
                  </a:solidFill>
                  <a:latin typeface="Arial"/>
                  <a:ea typeface="华文楷体"/>
                </a:rPr>
                <a:t>浪</a:t>
              </a:r>
              <a:endParaRPr b="0" lang="en-US" sz="25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 txBox="1"/>
          <p:nvPr/>
        </p:nvSpPr>
        <p:spPr>
          <a:xfrm>
            <a:off x="8028000" y="189000"/>
            <a:ext cx="79200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我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会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认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132" name=""/>
          <p:cNvSpPr/>
          <p:nvPr/>
        </p:nvSpPr>
        <p:spPr>
          <a:xfrm>
            <a:off x="5724360" y="3357720"/>
            <a:ext cx="165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ea typeface="仿宋_GB2312"/>
                <a:hlinkClick r:id="rId10"/>
              </a:rPr>
              <a:t>点此播放动画视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" dur="1000" fill="hold"/>
                                        <p:tgtEl>
                                          <p:spTgt spid="1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" dur="1000" fill="hold"/>
                                        <p:tgtEl>
                                          <p:spTgt spid="1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9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" dur="1000" fill="hold"/>
                                        <p:tgtEl>
                                          <p:spTgt spid="1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4" dur="1000" fill="hold"/>
                                        <p:tgtEl>
                                          <p:spTgt spid="1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9" dur="1000" fill="hold"/>
                                        <p:tgtEl>
                                          <p:spTgt spid="11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0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9" dur="1000" fill="hold"/>
                                        <p:tgtEl>
                                          <p:spTgt spid="1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40" dur="1000" fill="hold"/>
                                        <p:tgtEl>
                                          <p:spTgt spid="1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1" dur="1000" fill="hold"/>
                                        <p:tgtEl>
                                          <p:spTgt spid="1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 rot="8925600">
            <a:off x="4140360" y="2852280"/>
            <a:ext cx="2033280" cy="2590920"/>
          </a:xfrm>
          <a:custGeom>
            <a:avLst/>
            <a:gdLst>
              <a:gd name="textAreaLeft" fmla="*/ 477720 w 2033280"/>
              <a:gd name="textAreaRight" fmla="*/ 1554120 w 2033280"/>
              <a:gd name="textAreaTop" fmla="*/ 304560 h 2590920"/>
              <a:gd name="textAreaBottom" fmla="*/ 1625040 h 25909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9a0000"/>
              </a:gs>
            </a:gsLst>
            <a:lin ang="18072000"/>
          </a:gradFill>
          <a:ln w="0">
            <a:noFill/>
          </a:ln>
          <a:effectLst>
            <a:outerShdw dist="137587" dir="2021404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14696400">
            <a:off x="1696680" y="2125440"/>
            <a:ext cx="2076480" cy="2520720"/>
          </a:xfrm>
          <a:custGeom>
            <a:avLst/>
            <a:gdLst>
              <a:gd name="textAreaLeft" fmla="*/ 487800 w 2076480"/>
              <a:gd name="textAreaRight" fmla="*/ 1587240 w 2076480"/>
              <a:gd name="textAreaTop" fmla="*/ 296280 h 2520720"/>
              <a:gd name="textAreaBottom" fmla="*/ 1581120 h 2520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9a0000"/>
              </a:gs>
            </a:gsLst>
            <a:lin ang="12306000"/>
          </a:gra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3178800">
            <a:off x="4355640" y="405000"/>
            <a:ext cx="2232000" cy="2663640"/>
          </a:xfrm>
          <a:custGeom>
            <a:avLst/>
            <a:gdLst>
              <a:gd name="textAreaLeft" fmla="*/ 524520 w 2232000"/>
              <a:gd name="textAreaRight" fmla="*/ 1706040 w 2232000"/>
              <a:gd name="textAreaTop" fmla="*/ 313200 h 2663640"/>
              <a:gd name="textAreaBottom" fmla="*/ 1670760 h 2663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9a0000"/>
              </a:gs>
            </a:gsLst>
            <a:lin ang="2220000"/>
          </a:gradFill>
          <a:ln w="0">
            <a:noFill/>
          </a:ln>
          <a:effectLst>
            <a:outerShdw dist="134955" dir="2927119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6156600">
            <a:off x="4931640" y="1802880"/>
            <a:ext cx="2087640" cy="2519640"/>
          </a:xfrm>
          <a:custGeom>
            <a:avLst/>
            <a:gdLst>
              <a:gd name="textAreaLeft" fmla="*/ 490680 w 2087640"/>
              <a:gd name="textAreaRight" fmla="*/ 1595520 w 2087640"/>
              <a:gd name="textAreaTop" fmla="*/ 296280 h 2519640"/>
              <a:gd name="textAreaBottom" fmla="*/ 1580400 h 251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9a0000"/>
              </a:gs>
            </a:gsLst>
            <a:lin ang="20844000"/>
          </a:gradFill>
          <a:ln w="0">
            <a:noFill/>
          </a:ln>
          <a:effectLst>
            <a:outerShdw dist="137587" dir="3378595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21401400">
            <a:off x="2843280" y="0"/>
            <a:ext cx="2320920" cy="2565360"/>
          </a:xfrm>
          <a:custGeom>
            <a:avLst/>
            <a:gdLst>
              <a:gd name="textAreaLeft" fmla="*/ 545400 w 2320920"/>
              <a:gd name="textAreaRight" fmla="*/ 1774080 w 2320920"/>
              <a:gd name="textAreaTop" fmla="*/ 301680 h 2565360"/>
              <a:gd name="textAreaBottom" fmla="*/ 1609200 h 2565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9a0000"/>
              </a:gs>
            </a:gsLst>
            <a:lin ang="5598000"/>
          </a:gra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17946600">
            <a:off x="1657080" y="726480"/>
            <a:ext cx="2157480" cy="2519280"/>
          </a:xfrm>
          <a:custGeom>
            <a:avLst/>
            <a:gdLst>
              <a:gd name="textAreaLeft" fmla="*/ 506880 w 2157480"/>
              <a:gd name="textAreaRight" fmla="*/ 1649160 w 2157480"/>
              <a:gd name="textAreaTop" fmla="*/ 295920 h 2519280"/>
              <a:gd name="textAreaBottom" fmla="*/ 1580400 h 251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9a0000"/>
              </a:gs>
            </a:gsLst>
            <a:lin ang="9054000"/>
          </a:gra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11655000">
            <a:off x="2700360" y="3139920"/>
            <a:ext cx="2016000" cy="2448000"/>
          </a:xfrm>
          <a:custGeom>
            <a:avLst/>
            <a:gdLst>
              <a:gd name="textAreaLeft" fmla="*/ 473760 w 2016000"/>
              <a:gd name="textAreaRight" fmla="*/ 1540800 w 2016000"/>
              <a:gd name="textAreaTop" fmla="*/ 287640 h 2448000"/>
              <a:gd name="textAreaBottom" fmla="*/ 1535400 h 2448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9a0000"/>
              </a:gs>
            </a:gsLst>
            <a:lin ang="15348000"/>
          </a:gradFill>
          <a:ln w="0">
            <a:noFill/>
          </a:ln>
          <a:effectLst>
            <a:outerShdw dist="137587" dir="3378595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132000" y="1773360"/>
            <a:ext cx="2376720" cy="2376360"/>
          </a:xfrm>
          <a:prstGeom prst="ellipse">
            <a:avLst/>
          </a:prstGeom>
          <a:gradFill rotWithShape="0">
            <a:gsLst>
              <a:gs pos="0">
                <a:srgbClr val="d3fc04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62651" dir="308278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勤劳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1515000">
            <a:off x="1958400" y="6638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4f913"/>
                </a:solidFill>
                <a:latin typeface="Times New Roman"/>
                <a:ea typeface="楷体_GB2312"/>
              </a:rPr>
              <a:t>地图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32000" y="190440"/>
            <a:ext cx="187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4f913"/>
                </a:solidFill>
                <a:latin typeface="Times New Roman"/>
                <a:ea typeface="楷体_GB2312"/>
              </a:rPr>
              <a:t>梨树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38920" y="213192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4f913"/>
                </a:solidFill>
                <a:latin typeface="Times New Roman"/>
                <a:ea typeface="楷体_GB2312"/>
              </a:rPr>
              <a:t>脸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20050800">
            <a:off x="4572360" y="4147920"/>
            <a:ext cx="180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4f913"/>
                </a:solidFill>
                <a:latin typeface="Times New Roman"/>
                <a:ea typeface="楷体_GB2312"/>
              </a:rPr>
              <a:t>浪花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776400">
            <a:off x="2555640" y="4437000"/>
            <a:ext cx="208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4f913"/>
                </a:solidFill>
                <a:latin typeface="Times New Roman"/>
                <a:ea typeface="楷体_GB2312"/>
              </a:rPr>
              <a:t>高粱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20709600">
            <a:off x="1286280" y="258048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4f913"/>
                </a:solidFill>
                <a:latin typeface="Times New Roman"/>
                <a:ea typeface="楷体_GB2312"/>
              </a:rPr>
              <a:t>燃烧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9985400">
            <a:off x="4941720" y="238320"/>
            <a:ext cx="143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4f913"/>
                </a:solidFill>
                <a:latin typeface="Times New Roman"/>
                <a:ea typeface="楷体_GB2312"/>
              </a:rPr>
              <a:t>灯笼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459640" y="6237360"/>
            <a:ext cx="505080" cy="504720"/>
          </a:xfrm>
          <a:custGeom>
            <a:avLst/>
            <a:gdLst>
              <a:gd name="textAreaLeft" fmla="*/ 31320 w 505080"/>
              <a:gd name="textAreaRight" fmla="*/ 473760 w 505080"/>
              <a:gd name="textAreaTop" fmla="*/ 31320 h 504720"/>
              <a:gd name="textAreaBottom" fmla="*/ 47340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65" y="1350"/>
                </a:lnTo>
                <a:lnTo>
                  <a:pt x="1350" y="135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65" y="20250"/>
                </a:lnTo>
                <a:lnTo>
                  <a:pt x="20265" y="135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65" y="2025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15" h="21600">
                <a:moveTo>
                  <a:pt x="10808" y="3800"/>
                </a:moveTo>
                <a:lnTo>
                  <a:pt x="13398" y="6425"/>
                </a:lnTo>
                <a:lnTo>
                  <a:pt x="13398" y="4675"/>
                </a:lnTo>
                <a:lnTo>
                  <a:pt x="15183" y="4675"/>
                </a:lnTo>
                <a:lnTo>
                  <a:pt x="15183" y="8210"/>
                </a:lnTo>
                <a:lnTo>
                  <a:pt x="17808" y="10800"/>
                </a:lnTo>
                <a:lnTo>
                  <a:pt x="16145" y="10800"/>
                </a:lnTo>
                <a:lnTo>
                  <a:pt x="16145" y="18028"/>
                </a:lnTo>
                <a:lnTo>
                  <a:pt x="5470" y="18028"/>
                </a:lnTo>
                <a:lnTo>
                  <a:pt x="5470" y="10800"/>
                </a:lnTo>
                <a:lnTo>
                  <a:pt x="3808" y="10800"/>
                </a:lnTo>
                <a:close/>
              </a:path>
              <a:path fill="darkenLess" w="21615" h="21600">
                <a:moveTo>
                  <a:pt x="13398" y="6425"/>
                </a:moveTo>
                <a:lnTo>
                  <a:pt x="13398" y="4675"/>
                </a:lnTo>
                <a:lnTo>
                  <a:pt x="15183" y="4675"/>
                </a:lnTo>
                <a:lnTo>
                  <a:pt x="15183" y="8210"/>
                </a:lnTo>
                <a:close/>
              </a:path>
              <a:path fill="darkenLess" w="21615" h="21600">
                <a:moveTo>
                  <a:pt x="9880" y="14318"/>
                </a:moveTo>
                <a:lnTo>
                  <a:pt x="11735" y="14318"/>
                </a:lnTo>
                <a:lnTo>
                  <a:pt x="11735" y="18028"/>
                </a:lnTo>
                <a:lnTo>
                  <a:pt x="16145" y="18028"/>
                </a:lnTo>
                <a:lnTo>
                  <a:pt x="16145" y="10800"/>
                </a:lnTo>
                <a:lnTo>
                  <a:pt x="5470" y="10800"/>
                </a:lnTo>
                <a:lnTo>
                  <a:pt x="5470" y="18028"/>
                </a:lnTo>
                <a:lnTo>
                  <a:pt x="9880" y="18028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64000" y="6093000"/>
            <a:ext cx="165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ea typeface="仿宋_GB2312"/>
                <a:hlinkClick r:id="rId1"/>
              </a:rPr>
              <a:t>点此播放动画视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7885080" y="5734080"/>
            <a:ext cx="512640" cy="512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4724280"/>
            <a:ext cx="1655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ea typeface="仿宋_GB2312"/>
                <a:hlinkClick r:id="rId3"/>
              </a:rPr>
              <a:t>点此播放动画视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random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6" dur="1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3000"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3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7236000" y="5661000"/>
            <a:ext cx="1655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ea typeface="仿宋_GB2312"/>
                <a:hlinkClick r:id="rId2"/>
              </a:rPr>
              <a:t>点此播放动画视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3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2781360"/>
            <a:ext cx="9144000" cy="407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1187280" y="1484280"/>
            <a:ext cx="50328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我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会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找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300720" y="1484280"/>
            <a:ext cx="50328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请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欣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赏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556000" y="1484280"/>
            <a:ext cx="50328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我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会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说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132000" y="404640"/>
            <a:ext cx="2664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目    录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780000" y="1484280"/>
            <a:ext cx="50292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课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文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076720" y="1484280"/>
            <a:ext cx="50328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我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会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认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00000" y="34290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2195640" y="3429000"/>
            <a:ext cx="952200" cy="1143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3419640" y="3429000"/>
            <a:ext cx="952200" cy="1143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4643280" y="34290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5940360" y="3429000"/>
            <a:ext cx="952560" cy="1143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7667640" y="1484280"/>
            <a:ext cx="50328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谢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谢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7308720" y="3429000"/>
            <a:ext cx="9525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3000"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300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3000">
    <p:plus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3000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340000" y="115920"/>
            <a:ext cx="1655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ea typeface="仿宋_GB2312"/>
                <a:hlinkClick r:id="rId2"/>
              </a:rPr>
              <a:t>点此播放动画视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8459640" y="6237360"/>
            <a:ext cx="505080" cy="504720"/>
          </a:xfrm>
          <a:custGeom>
            <a:avLst/>
            <a:gdLst>
              <a:gd name="textAreaLeft" fmla="*/ 31320 w 505080"/>
              <a:gd name="textAreaRight" fmla="*/ 473760 w 505080"/>
              <a:gd name="textAreaTop" fmla="*/ 31320 h 504720"/>
              <a:gd name="textAreaBottom" fmla="*/ 47340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65" y="1350"/>
                </a:lnTo>
                <a:lnTo>
                  <a:pt x="1350" y="135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65" y="20250"/>
                </a:lnTo>
                <a:lnTo>
                  <a:pt x="20265" y="135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65" y="2025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15" h="21600">
                <a:moveTo>
                  <a:pt x="10808" y="3800"/>
                </a:moveTo>
                <a:lnTo>
                  <a:pt x="13398" y="6425"/>
                </a:lnTo>
                <a:lnTo>
                  <a:pt x="13398" y="4675"/>
                </a:lnTo>
                <a:lnTo>
                  <a:pt x="15183" y="4675"/>
                </a:lnTo>
                <a:lnTo>
                  <a:pt x="15183" y="8210"/>
                </a:lnTo>
                <a:lnTo>
                  <a:pt x="17808" y="10800"/>
                </a:lnTo>
                <a:lnTo>
                  <a:pt x="16145" y="10800"/>
                </a:lnTo>
                <a:lnTo>
                  <a:pt x="16145" y="18028"/>
                </a:lnTo>
                <a:lnTo>
                  <a:pt x="5470" y="18028"/>
                </a:lnTo>
                <a:lnTo>
                  <a:pt x="5470" y="10800"/>
                </a:lnTo>
                <a:lnTo>
                  <a:pt x="3808" y="10800"/>
                </a:lnTo>
                <a:close/>
              </a:path>
              <a:path fill="darkenLess" w="21615" h="21600">
                <a:moveTo>
                  <a:pt x="13398" y="6425"/>
                </a:moveTo>
                <a:lnTo>
                  <a:pt x="13398" y="4675"/>
                </a:lnTo>
                <a:lnTo>
                  <a:pt x="15183" y="4675"/>
                </a:lnTo>
                <a:lnTo>
                  <a:pt x="15183" y="8210"/>
                </a:lnTo>
                <a:close/>
              </a:path>
              <a:path fill="darkenLess" w="21615" h="21600">
                <a:moveTo>
                  <a:pt x="9880" y="14318"/>
                </a:moveTo>
                <a:lnTo>
                  <a:pt x="11735" y="14318"/>
                </a:lnTo>
                <a:lnTo>
                  <a:pt x="11735" y="18028"/>
                </a:lnTo>
                <a:lnTo>
                  <a:pt x="16145" y="18028"/>
                </a:lnTo>
                <a:lnTo>
                  <a:pt x="16145" y="10800"/>
                </a:lnTo>
                <a:lnTo>
                  <a:pt x="5470" y="10800"/>
                </a:lnTo>
                <a:lnTo>
                  <a:pt x="5470" y="18028"/>
                </a:lnTo>
                <a:lnTo>
                  <a:pt x="9880" y="18028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newsflash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95280" y="2134440"/>
            <a:ext cx="806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果实累累的秋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是秋天，一个凉凉爽爽丰收的季节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天空蓝蓝的，大雁排成一个“人”字，飞向南方，天空下面有一座座山，山已经变成了五花山了，山脚下有一个漂亮的小村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村子的前面种着稻子，稻子丰收了，稻浪一望无际，金黄的一片。稻田的前面有一个小池塘，池塘里面有几条小鱼，他们三三两两的都在快活地游来游去。池塘旁边有一片高粱地，高粱红红的，火把似的果实随风摆动。高粱地的旁边种了一棵棵高大的果树，果树上的果子成熟了，果实累累的，散发出香甜的气味，一看就很好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秋天真美呀！秋高气爽的秋天永远在我心里留下了深深的印象。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971640" y="2492280"/>
            <a:ext cx="4897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黑体"/>
              </a:rPr>
              <a:t>谢谢，再见！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7740720" y="4869000"/>
            <a:ext cx="59364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2" dur="202485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678168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802560" y="0"/>
            <a:ext cx="1917720" cy="67816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梨树挂起金黄的灯笼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95640" y="1628640"/>
            <a:ext cx="1655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ea typeface="仿宋_GB2312"/>
                <a:hlinkClick r:id="rId2"/>
              </a:rPr>
              <a:t>点此播放动画视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76320"/>
            <a:ext cx="9144000" cy="556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936720" y="5783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5759280"/>
            <a:ext cx="8229600" cy="1099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苹果露出红红的脸颊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39640" y="4149720"/>
            <a:ext cx="8077320" cy="1099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稻海翻起金色的波浪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39640" y="4797360"/>
            <a:ext cx="8077320" cy="1099440"/>
          </a:xfrm>
          <a:prstGeom prst="rect">
            <a:avLst/>
          </a:prstGeom>
          <a:solidFill>
            <a:srgbClr val="ff3c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高粱举起燃烧的火把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52280"/>
            <a:ext cx="3809880" cy="3353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609480" y="152280"/>
            <a:ext cx="3581640" cy="3375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4876920" y="3657600"/>
            <a:ext cx="3581280" cy="2995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609480" y="3672000"/>
          <a:ext cx="3810240" cy="3033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3672000"/>
                    <a:ext cx="3810240" cy="30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1584360" y="2916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380880"/>
            <a:ext cx="3733920" cy="40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梨树挂起金黄的灯笼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800600" y="393840"/>
            <a:ext cx="3733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苹果露出红红的脸颊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93720" y="3670200"/>
            <a:ext cx="3878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稻海翻起金色的波浪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76920" y="3594240"/>
            <a:ext cx="3573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高粱举起燃烧的火把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52280"/>
            <a:ext cx="3809880" cy="33530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609480" y="152280"/>
            <a:ext cx="3581640" cy="3375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4876920" y="3657600"/>
            <a:ext cx="3581280" cy="2995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" name=""/>
          <p:cNvGraphicFramePr/>
          <p:nvPr/>
        </p:nvGraphicFramePr>
        <p:xfrm>
          <a:off x="609480" y="3672000"/>
          <a:ext cx="3810240" cy="3033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3672000"/>
                    <a:ext cx="3810240" cy="30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4437000"/>
            <a:ext cx="9144000" cy="2421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086600" y="206280"/>
            <a:ext cx="762120" cy="4032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172200" y="420840"/>
            <a:ext cx="762120" cy="4032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6705720" y="457200"/>
            <a:ext cx="914400" cy="5572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6400800" y="838080"/>
            <a:ext cx="1066680" cy="5637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6019920" y="1265400"/>
            <a:ext cx="1066680" cy="5634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5638680" y="1676520"/>
            <a:ext cx="1295640" cy="6080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8"/>
          <a:stretch/>
        </p:blipFill>
        <p:spPr>
          <a:xfrm>
            <a:off x="3352680" y="1143000"/>
            <a:ext cx="1143000" cy="603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9"/>
          <a:stretch/>
        </p:blipFill>
        <p:spPr>
          <a:xfrm>
            <a:off x="4343400" y="838080"/>
            <a:ext cx="990720" cy="524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0"/>
          <a:stretch/>
        </p:blipFill>
        <p:spPr>
          <a:xfrm>
            <a:off x="5410080" y="609480"/>
            <a:ext cx="838440" cy="4431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826920" y="5589720"/>
            <a:ext cx="165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ea typeface="仿宋_GB2312"/>
                <a:hlinkClick r:id="rId11"/>
              </a:rPr>
              <a:t>点此播放动画视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2T12:17:42Z</dcterms:created>
  <dc:creator>陈京森</dc:creator>
  <dc:description/>
  <dc:language>en-US</dc:language>
  <cp:lastModifiedBy>微软用户</cp:lastModifiedBy>
  <dcterms:modified xsi:type="dcterms:W3CDTF">2015-10-23T07:53:48Z</dcterms:modified>
  <cp:revision>4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