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2EF0-CFA9-4DC3-A72B-58268A44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9847-1B87-4186-A3F0-0EDE0E99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2CC-8BDB-421D-83CA-132FB978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0747-6C42-48A7-824B-F380F2AA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D1AE-382F-4717-AA93-87C4D732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7C30-D3E0-4265-BE6F-FC0D0534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583D-6F76-45A6-955F-7876DC2A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ACFA-A5E3-45AF-8A28-7F367630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32D3-ADBA-4F9D-A4E3-1A9804C7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3516-5A0A-4BDA-88C4-A8651446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49C0-0284-418E-A509-C9E881BB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AEC-E734-42DE-BE24-891968C0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9F66-098C-48F6-8123-D3C3E303C8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44337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357720" y="51926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中国情人节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87696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64076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3140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497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/>
          <p:cNvSpPr/>
          <p:nvPr/>
        </p:nvSpPr>
        <p:spPr>
          <a:xfrm>
            <a:off x="2357280" y="4473720"/>
            <a:ext cx="5214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乞巧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七月七日，一年一度的七夕就要来了，人们称这天为“乞巧节”或“少女节”、“女儿节”。七夕节是我国传统节日中最具有浪漫色彩的一个节日，也是过去姑娘最为重视的日子。中国的情人节，浪漫古典之最浓的节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618120" y="285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283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12000" y="5059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212000" y="355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2836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2132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31000" y="3357720"/>
            <a:ext cx="16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421380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7340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857760" y="3714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5696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6405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8056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5569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2783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3548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0695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9486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59266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19976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1926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85496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34261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27835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854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59112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4569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27118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42120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57837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07-24T03:19:58Z</dcterms:modified>
  <cp:revision>52</cp:revision>
  <dc:subject/>
  <dc:title>幻灯片 1</dc:title>
</cp:coreProperties>
</file>