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617-FF19-4798-99EF-DD715767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A9C0-E648-4A46-A626-7B6D6C42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ECA-887F-4A5F-B28E-EC51B1E0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C1E-A4EC-47E7-ADDD-A9E5C5D9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2CB-ED46-4BF7-A7EF-B3B21DB4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908-0E1D-4406-90F0-B481808F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C72-3333-4E44-B024-14DA1CDF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499-EA40-4E27-81B3-52CC0C07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F8E-C38F-42E5-8CC6-6A5CC4C8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067-30C6-4022-929C-75EFF064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C67-60DA-483C-BD56-D509A2B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F94-2E91-42AF-8BD5-CE942449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4F1B-8BF2-46DD-B9C1-B4A02186EB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143160" y="407196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七夕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14800" y="45720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5" descr="13212066_091307118000_2.jpg"/>
          <p:cNvPicPr/>
          <p:nvPr/>
        </p:nvPicPr>
        <p:blipFill>
          <a:blip r:embed="rId2"/>
          <a:stretch/>
        </p:blipFill>
        <p:spPr>
          <a:xfrm>
            <a:off x="1285920" y="1357200"/>
            <a:ext cx="647388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流程图: 文档 10"/>
          <p:cNvSpPr/>
          <p:nvPr/>
        </p:nvSpPr>
        <p:spPr>
          <a:xfrm>
            <a:off x="928800" y="1785960"/>
            <a:ext cx="7429320" cy="2357280"/>
          </a:xfrm>
          <a:prstGeom prst="flowChartDocument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1500120" y="2259000"/>
            <a:ext cx="6072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夕节，又名乞巧节、七巧节或七姐诞，发源于中国，是华人地区以及部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汉族文化影响的东亚国家传统节日，农历七月七日夜或七月六日夜妇女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庭院向织女星乞求智巧，故称为“”乞巧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1"/>
          <p:cNvSpPr/>
          <p:nvPr/>
        </p:nvSpPr>
        <p:spPr>
          <a:xfrm>
            <a:off x="928800" y="1857240"/>
            <a:ext cx="428400" cy="21456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2"/>
          <p:cNvSpPr/>
          <p:nvPr/>
        </p:nvSpPr>
        <p:spPr>
          <a:xfrm>
            <a:off x="928800" y="242892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3"/>
          <p:cNvSpPr/>
          <p:nvPr/>
        </p:nvSpPr>
        <p:spPr>
          <a:xfrm>
            <a:off x="928800" y="285768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14"/>
          <p:cNvSpPr/>
          <p:nvPr/>
        </p:nvSpPr>
        <p:spPr>
          <a:xfrm>
            <a:off x="928800" y="3357720"/>
            <a:ext cx="428400" cy="28548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928800" y="3714840"/>
            <a:ext cx="42840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6"/>
          <p:cNvSpPr/>
          <p:nvPr/>
        </p:nvSpPr>
        <p:spPr>
          <a:xfrm>
            <a:off x="928800" y="414324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8"/>
          <p:cNvSpPr/>
          <p:nvPr/>
        </p:nvSpPr>
        <p:spPr>
          <a:xfrm>
            <a:off x="928800" y="4572000"/>
            <a:ext cx="714240" cy="285840"/>
          </a:xfrm>
          <a:prstGeom prst="roundRect">
            <a:avLst>
              <a:gd name="adj" fmla="val 16667"/>
            </a:avLst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857160" y="1828800"/>
            <a:ext cx="7358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七：此日月、日皆为七，故称，也称重七。香日：俗传七夕牛女相会，织女要梳妆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扮、涂脂抹粉，以至满天飘香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星期：牛郎织女二星所在的方位特别，一年才能一相遇，故称这一日为星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夕：因七夕有乞巧的风俗，故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节：七夕节以少女拜仙及乞巧、赛巧等为主要节俗活动，故称女节，亦称女儿节、少女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兰夜：农历七月古称“兰月”，故七夕又称“兰夜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儿节：因为乞巧、乞文等俗多由少女、童子为之，故称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节：因为这天有穿针的习俗，故称。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9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左大括号 19"/>
          <p:cNvSpPr/>
          <p:nvPr/>
        </p:nvSpPr>
        <p:spPr>
          <a:xfrm>
            <a:off x="428760" y="2000160"/>
            <a:ext cx="357120" cy="2786040"/>
          </a:xfrm>
          <a:custGeom>
            <a:avLst/>
            <a:gdLst>
              <a:gd name="textAreaLeft" fmla="*/ 228240 w 357120"/>
              <a:gd name="textAreaRight" fmla="*/ 357480 w 357120"/>
              <a:gd name="textAreaTop" fmla="*/ 51480 h 2786040"/>
              <a:gd name="textAreaBottom" fmla="*/ 273456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2"/>
                  <a:pt x="10800" y="1284"/>
                </a:cubicBezTo>
                <a:lnTo>
                  <a:pt x="10800" y="9516"/>
                </a:lnTo>
                <a:cubicBezTo>
                  <a:pt x="10800" y="10158"/>
                  <a:pt x="5400" y="10800"/>
                  <a:pt x="0" y="10800"/>
                </a:cubicBezTo>
                <a:cubicBezTo>
                  <a:pt x="5400" y="10800"/>
                  <a:pt x="10800" y="11442"/>
                  <a:pt x="10800" y="12084"/>
                </a:cubicBezTo>
                <a:lnTo>
                  <a:pt x="10800" y="20316"/>
                </a:lnTo>
                <a:cubicBezTo>
                  <a:pt x="10800" y="2095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b54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节日习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1643040" y="41432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穿针乞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1" descr="1281988710_AAmf6t.jpg"/>
          <p:cNvPicPr/>
          <p:nvPr/>
        </p:nvPicPr>
        <p:blipFill>
          <a:blip r:embed="rId2"/>
          <a:stretch/>
        </p:blipFill>
        <p:spPr>
          <a:xfrm>
            <a:off x="1143000" y="2357280"/>
            <a:ext cx="2235240" cy="1513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2" descr="qixiqiqiaotu(2).jpg"/>
          <p:cNvPicPr/>
          <p:nvPr/>
        </p:nvPicPr>
        <p:blipFill>
          <a:blip r:embed="rId3"/>
          <a:stretch/>
        </p:blipFill>
        <p:spPr>
          <a:xfrm>
            <a:off x="3786120" y="2382840"/>
            <a:ext cx="1970280" cy="1474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13"/>
          <p:cNvSpPr/>
          <p:nvPr/>
        </p:nvSpPr>
        <p:spPr>
          <a:xfrm>
            <a:off x="4286160" y="413064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拜织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5" descr="u=3280869929,164404997&amp;fm=15&amp;gp=0.jpg"/>
          <p:cNvPicPr/>
          <p:nvPr/>
        </p:nvPicPr>
        <p:blipFill>
          <a:blip r:embed="rId4"/>
          <a:stretch/>
        </p:blipFill>
        <p:spPr>
          <a:xfrm>
            <a:off x="6221520" y="2428920"/>
            <a:ext cx="1850760" cy="141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16"/>
          <p:cNvSpPr/>
          <p:nvPr/>
        </p:nvSpPr>
        <p:spPr>
          <a:xfrm>
            <a:off x="6643800" y="4071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扎巧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571680" y="1785960"/>
            <a:ext cx="6429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巧歌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乞手巧，乞貌巧；乞心通，乞颜容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乞我爹娘千百岁；乞我姊妹千万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皇皇地皇皇，俺请七姐姐下天堂。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不图你的针，不图你的线，光学你的七十二样好手段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巧芽芽，生的怪。盆盆生，手中盖； 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  七月七日摘下来，姐姐妹妹照影来。又像花，又像菜，看谁心灵手儿快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1" descr="19300001332062131242905757163_950.jpg"/>
          <p:cNvPicPr/>
          <p:nvPr/>
        </p:nvPicPr>
        <p:blipFill>
          <a:blip r:embed="rId2"/>
          <a:stretch/>
        </p:blipFill>
        <p:spPr>
          <a:xfrm>
            <a:off x="5572080" y="142920"/>
            <a:ext cx="34434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 形 10"/>
          <p:cNvSpPr/>
          <p:nvPr/>
        </p:nvSpPr>
        <p:spPr>
          <a:xfrm rot="18976800">
            <a:off x="3992400" y="925200"/>
            <a:ext cx="1714680" cy="171432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 形 11"/>
          <p:cNvSpPr/>
          <p:nvPr/>
        </p:nvSpPr>
        <p:spPr>
          <a:xfrm rot="18976800">
            <a:off x="2711520" y="2139840"/>
            <a:ext cx="1714320" cy="171468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 形 12"/>
          <p:cNvSpPr/>
          <p:nvPr/>
        </p:nvSpPr>
        <p:spPr>
          <a:xfrm rot="18976800">
            <a:off x="5207040" y="2217600"/>
            <a:ext cx="1714320" cy="171468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 形 13"/>
          <p:cNvSpPr/>
          <p:nvPr/>
        </p:nvSpPr>
        <p:spPr>
          <a:xfrm rot="18976800">
            <a:off x="3921120" y="3425400"/>
            <a:ext cx="1714680" cy="171468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640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43549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2999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对角圆角矩形 14"/>
          <p:cNvSpPr/>
          <p:nvPr/>
        </p:nvSpPr>
        <p:spPr>
          <a:xfrm>
            <a:off x="1857240" y="3500280"/>
            <a:ext cx="1865520" cy="186552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对角圆角矩形 15"/>
          <p:cNvSpPr/>
          <p:nvPr/>
        </p:nvSpPr>
        <p:spPr>
          <a:xfrm>
            <a:off x="3722760" y="2259000"/>
            <a:ext cx="1865160" cy="186516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对角圆角矩形 16"/>
          <p:cNvSpPr/>
          <p:nvPr/>
        </p:nvSpPr>
        <p:spPr>
          <a:xfrm>
            <a:off x="5580000" y="1000080"/>
            <a:ext cx="1865520" cy="186552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426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6069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19"/>
          <p:cNvGrpSpPr/>
          <p:nvPr/>
        </p:nvGrpSpPr>
        <p:grpSpPr>
          <a:xfrm>
            <a:off x="2071800" y="1400040"/>
            <a:ext cx="5567400" cy="3814920"/>
            <a:chOff x="2071800" y="1400040"/>
            <a:chExt cx="5567400" cy="3814920"/>
          </a:xfrm>
        </p:grpSpPr>
        <p:sp>
          <p:nvSpPr>
            <p:cNvPr id="108" name="流程图: 决策 14"/>
            <p:cNvSpPr/>
            <p:nvPr/>
          </p:nvSpPr>
          <p:spPr>
            <a:xfrm>
              <a:off x="2690280" y="1855800"/>
              <a:ext cx="4312800" cy="2891880"/>
            </a:xfrm>
            <a:prstGeom prst="flowChartDecision">
              <a:avLst/>
            </a:prstGeom>
            <a:noFill/>
            <a:ln w="25560">
              <a:solidFill>
                <a:srgbClr val="fb54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流程图: 决策 15"/>
            <p:cNvSpPr/>
            <p:nvPr/>
          </p:nvSpPr>
          <p:spPr>
            <a:xfrm>
              <a:off x="2071800" y="1400040"/>
              <a:ext cx="2264400" cy="151668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流程图: 决策 16"/>
            <p:cNvSpPr/>
            <p:nvPr/>
          </p:nvSpPr>
          <p:spPr>
            <a:xfrm>
              <a:off x="5374800" y="1413720"/>
              <a:ext cx="2264400" cy="151848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流程图: 决策 17"/>
            <p:cNvSpPr/>
            <p:nvPr/>
          </p:nvSpPr>
          <p:spPr>
            <a:xfrm>
              <a:off x="2104920" y="3698280"/>
              <a:ext cx="2264400" cy="151668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流程图: 决策 18"/>
            <p:cNvSpPr/>
            <p:nvPr/>
          </p:nvSpPr>
          <p:spPr>
            <a:xfrm>
              <a:off x="5341680" y="3698280"/>
              <a:ext cx="2264400" cy="1516680"/>
            </a:xfrm>
            <a:prstGeom prst="flowChartDecision">
              <a:avLst/>
            </a:prstGeom>
            <a:solidFill>
              <a:srgbClr val="fb54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784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5997960" y="42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607104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2640600" y="19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426560" y="31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剪去同侧角的矩形 14"/>
          <p:cNvSpPr/>
          <p:nvPr/>
        </p:nvSpPr>
        <p:spPr>
          <a:xfrm rot="16200000">
            <a:off x="892800" y="2178720"/>
            <a:ext cx="4214880" cy="242892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剪去同侧角的矩形 15"/>
          <p:cNvSpPr/>
          <p:nvPr/>
        </p:nvSpPr>
        <p:spPr>
          <a:xfrm flipH="1" flipV="1" rot="16200000">
            <a:off x="4321080" y="2178720"/>
            <a:ext cx="4214880" cy="2428920"/>
          </a:xfrm>
          <a:prstGeom prst="pie">
            <a:avLst/>
          </a:prstGeom>
          <a:solidFill>
            <a:srgbClr val="fb5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右箭头 16"/>
          <p:cNvSpPr/>
          <p:nvPr/>
        </p:nvSpPr>
        <p:spPr>
          <a:xfrm>
            <a:off x="4429080" y="3000240"/>
            <a:ext cx="654120" cy="571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568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4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7-06T06:35:20Z</dcterms:modified>
  <cp:revision>300</cp:revision>
  <dc:subject/>
  <dc:title>幻灯片 1</dc:title>
</cp:coreProperties>
</file>