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2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281-E0EA-427B-BA82-45CE46EC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975-F321-4031-851F-BADB39BD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B46-1C84-4CB9-AB96-D5AF768B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6A8-EBB2-4F80-900C-A22D11BC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C7D-27CC-41D6-97DF-6BA88BA2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A51-A5E6-42BE-A549-4DFFC7AC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072-9C39-4BD2-9C45-2923B159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57E-DE43-4BEC-9F40-526E42F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ED1-9493-4FCE-B671-0EF68053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AF4-C953-4875-955B-0437F59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7C4-61C8-49B5-BE0D-9E73DBB3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B61-957A-45FC-8CDA-42F9BDC1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C0C7-A3FC-404B-9921-FFC3B9C2BF5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E154-66F7-4627-8502-D9FD7149D3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 flipH="1">
            <a:off x="-360" y="0"/>
            <a:ext cx="771372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266920" y="2716200"/>
            <a:ext cx="1625760" cy="601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4675320" y="169560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一听就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单圆角矩形 3"/>
          <p:cNvSpPr/>
          <p:nvPr/>
        </p:nvSpPr>
        <p:spPr>
          <a:xfrm flipH="1">
            <a:off x="5940360" y="2820960"/>
            <a:ext cx="2705040" cy="3985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788000" y="2805120"/>
            <a:ext cx="40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硬笔楷书繁体"/>
                <a:ea typeface="方正硬笔楷书繁体"/>
              </a:rPr>
              <a:t>从耳朵</a:t>
            </a:r>
            <a:r>
              <a:rPr b="1" lang="en-US" sz="2000" spc="-1" strike="noStrike">
                <a:solidFill>
                  <a:srgbClr val="3f3f3f"/>
                </a:solidFill>
                <a:latin typeface="方正硬笔楷书繁体"/>
                <a:ea typeface="方正硬笔楷书繁体"/>
              </a:rPr>
              <a:t>· </a:t>
            </a:r>
            <a:r>
              <a:rPr b="0" lang="zh-CN" sz="2000" spc="-1" strike="noStrike">
                <a:solidFill>
                  <a:srgbClr val="ffffff"/>
                </a:solidFill>
                <a:latin typeface="方正硬笔楷书繁体"/>
                <a:ea typeface="方正硬笔楷书繁体"/>
              </a:rPr>
              <a:t>读对老板和客户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34" descr=""/>
          <p:cNvPicPr/>
          <p:nvPr/>
        </p:nvPicPr>
        <p:blipFill>
          <a:blip r:embed="rId1"/>
          <a:srcRect l="0" t="9022" r="0" b="0"/>
          <a:stretch/>
        </p:blipFill>
        <p:spPr>
          <a:xfrm>
            <a:off x="0" y="468360"/>
            <a:ext cx="1332000" cy="9079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31" descr=""/>
          <p:cNvPicPr/>
          <p:nvPr/>
        </p:nvPicPr>
        <p:blipFill>
          <a:blip r:embed="rId2"/>
          <a:srcRect l="0" t="0" r="0" b="15076"/>
          <a:stretch/>
        </p:blipFill>
        <p:spPr>
          <a:xfrm>
            <a:off x="3708360" y="482760"/>
            <a:ext cx="66672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0" y="482760"/>
          <a:ext cx="9144000" cy="4174920"/>
        </p:xfrm>
        <a:graphic>
          <a:graphicData uri="http://schemas.openxmlformats.org/drawingml/2006/table">
            <a:tbl>
              <a:tblPr/>
              <a:tblGrid>
                <a:gridCol w="539640"/>
                <a:gridCol w="2952720"/>
                <a:gridCol w="216000"/>
                <a:gridCol w="503280"/>
                <a:gridCol w="4932360"/>
              </a:tblGrid>
              <a:tr h="834840"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对方想到什么说什么，背景资讯不清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事先掌握主题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将每段话与主题交叉对照，分析对方真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对方着急丢出一堆庞大复杂的资讯，一时听不清重点是什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丢弃资讯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先丢弃“开场白”“已知信息”“重复信息”，以免占脑内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对方说的内容细小且没有关联性，分散且不容易记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分类排序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在脑中或借用纸笔把类似的部分归类，重组排出次序和关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5200"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适时归纳，及时确认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每隔</a:t>
                      </a:r>
                      <a:r>
                        <a:rPr b="0" lang="en-US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10-15</a:t>
                      </a: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分钟，适时插入对话，帮对方小结并确定信息正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矩形 2"/>
          <p:cNvSpPr/>
          <p:nvPr/>
        </p:nvSpPr>
        <p:spPr>
          <a:xfrm>
            <a:off x="0" y="0"/>
            <a:ext cx="914400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0" y="4660920"/>
            <a:ext cx="914400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8"/>
          <p:cNvGrpSpPr/>
          <p:nvPr/>
        </p:nvGrpSpPr>
        <p:grpSpPr>
          <a:xfrm>
            <a:off x="3767040" y="1546200"/>
            <a:ext cx="374400" cy="459720"/>
            <a:chOff x="3767040" y="1546200"/>
            <a:chExt cx="374400" cy="459720"/>
          </a:xfrm>
        </p:grpSpPr>
        <p:sp>
          <p:nvSpPr>
            <p:cNvPr id="178" name="矩形 5"/>
            <p:cNvSpPr/>
            <p:nvPr/>
          </p:nvSpPr>
          <p:spPr>
            <a:xfrm>
              <a:off x="3840480" y="1725120"/>
              <a:ext cx="216000" cy="215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7"/>
            <p:cNvSpPr/>
            <p:nvPr/>
          </p:nvSpPr>
          <p:spPr>
            <a:xfrm>
              <a:off x="3767040" y="154620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9"/>
          <p:cNvGrpSpPr/>
          <p:nvPr/>
        </p:nvGrpSpPr>
        <p:grpSpPr>
          <a:xfrm>
            <a:off x="99360" y="1488960"/>
            <a:ext cx="358920" cy="459720"/>
            <a:chOff x="99360" y="1488960"/>
            <a:chExt cx="358920" cy="459720"/>
          </a:xfrm>
        </p:grpSpPr>
        <p:sp>
          <p:nvSpPr>
            <p:cNvPr id="181" name="矩形 10"/>
            <p:cNvSpPr/>
            <p:nvPr/>
          </p:nvSpPr>
          <p:spPr>
            <a:xfrm>
              <a:off x="161640" y="1668600"/>
              <a:ext cx="215640" cy="2163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1"/>
            <p:cNvSpPr/>
            <p:nvPr/>
          </p:nvSpPr>
          <p:spPr>
            <a:xfrm>
              <a:off x="99360" y="1488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2"/>
          <p:cNvGrpSpPr/>
          <p:nvPr/>
        </p:nvGrpSpPr>
        <p:grpSpPr>
          <a:xfrm>
            <a:off x="99360" y="2355840"/>
            <a:ext cx="358920" cy="459720"/>
            <a:chOff x="99360" y="2355840"/>
            <a:chExt cx="358920" cy="459720"/>
          </a:xfrm>
        </p:grpSpPr>
        <p:sp>
          <p:nvSpPr>
            <p:cNvPr id="184" name="矩形 13"/>
            <p:cNvSpPr/>
            <p:nvPr/>
          </p:nvSpPr>
          <p:spPr>
            <a:xfrm>
              <a:off x="161640" y="2535480"/>
              <a:ext cx="21564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4"/>
            <p:cNvSpPr/>
            <p:nvPr/>
          </p:nvSpPr>
          <p:spPr>
            <a:xfrm>
              <a:off x="99360" y="2355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8"/>
          <p:cNvGrpSpPr/>
          <p:nvPr/>
        </p:nvGrpSpPr>
        <p:grpSpPr>
          <a:xfrm>
            <a:off x="3767040" y="2413080"/>
            <a:ext cx="374400" cy="459720"/>
            <a:chOff x="3767040" y="2413080"/>
            <a:chExt cx="374400" cy="459720"/>
          </a:xfrm>
        </p:grpSpPr>
        <p:sp>
          <p:nvSpPr>
            <p:cNvPr id="187" name="矩形 19"/>
            <p:cNvSpPr/>
            <p:nvPr/>
          </p:nvSpPr>
          <p:spPr>
            <a:xfrm>
              <a:off x="3840480" y="2592000"/>
              <a:ext cx="216000" cy="215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20"/>
            <p:cNvSpPr/>
            <p:nvPr/>
          </p:nvSpPr>
          <p:spPr>
            <a:xfrm>
              <a:off x="3767040" y="24130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21"/>
          <p:cNvGrpSpPr/>
          <p:nvPr/>
        </p:nvGrpSpPr>
        <p:grpSpPr>
          <a:xfrm>
            <a:off x="3767040" y="3219480"/>
            <a:ext cx="374400" cy="459720"/>
            <a:chOff x="3767040" y="3219480"/>
            <a:chExt cx="374400" cy="459720"/>
          </a:xfrm>
        </p:grpSpPr>
        <p:sp>
          <p:nvSpPr>
            <p:cNvPr id="190" name="矩形 22"/>
            <p:cNvSpPr/>
            <p:nvPr/>
          </p:nvSpPr>
          <p:spPr>
            <a:xfrm>
              <a:off x="3840480" y="3399120"/>
              <a:ext cx="21600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3"/>
            <p:cNvSpPr/>
            <p:nvPr/>
          </p:nvSpPr>
          <p:spPr>
            <a:xfrm>
              <a:off x="3767040" y="3219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24"/>
          <p:cNvGrpSpPr/>
          <p:nvPr/>
        </p:nvGrpSpPr>
        <p:grpSpPr>
          <a:xfrm>
            <a:off x="3767040" y="4011480"/>
            <a:ext cx="374400" cy="459720"/>
            <a:chOff x="3767040" y="4011480"/>
            <a:chExt cx="374400" cy="459720"/>
          </a:xfrm>
        </p:grpSpPr>
        <p:sp>
          <p:nvSpPr>
            <p:cNvPr id="193" name="矩形 25"/>
            <p:cNvSpPr/>
            <p:nvPr/>
          </p:nvSpPr>
          <p:spPr>
            <a:xfrm>
              <a:off x="3840480" y="4191120"/>
              <a:ext cx="216000" cy="2163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6"/>
            <p:cNvSpPr/>
            <p:nvPr/>
          </p:nvSpPr>
          <p:spPr>
            <a:xfrm>
              <a:off x="3767040" y="4011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29"/>
          <p:cNvSpPr/>
          <p:nvPr/>
        </p:nvSpPr>
        <p:spPr>
          <a:xfrm>
            <a:off x="1441440" y="56844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困境</a:t>
            </a:r>
            <a:r>
              <a:rPr b="0" lang="en-US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3</a:t>
            </a: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内容复杂，难抓重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0"/>
          <p:cNvSpPr/>
          <p:nvPr/>
        </p:nvSpPr>
        <p:spPr>
          <a:xfrm>
            <a:off x="5473800" y="7207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破解法：边听边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35"/>
          <p:cNvGrpSpPr/>
          <p:nvPr/>
        </p:nvGrpSpPr>
        <p:grpSpPr>
          <a:xfrm>
            <a:off x="99360" y="3219480"/>
            <a:ext cx="358920" cy="459720"/>
            <a:chOff x="99360" y="3219480"/>
            <a:chExt cx="358920" cy="459720"/>
          </a:xfrm>
        </p:grpSpPr>
        <p:sp>
          <p:nvSpPr>
            <p:cNvPr id="198" name="矩形 36"/>
            <p:cNvSpPr/>
            <p:nvPr/>
          </p:nvSpPr>
          <p:spPr>
            <a:xfrm>
              <a:off x="161640" y="3399120"/>
              <a:ext cx="21564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7"/>
            <p:cNvSpPr/>
            <p:nvPr/>
          </p:nvSpPr>
          <p:spPr>
            <a:xfrm>
              <a:off x="99360" y="321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8"/>
          <p:cNvSpPr/>
          <p:nvPr/>
        </p:nvSpPr>
        <p:spPr>
          <a:xfrm>
            <a:off x="6804000" y="46926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方正硬笔楷书繁体"/>
                <a:ea typeface="方正硬笔楷书繁体"/>
              </a:rPr>
              <a:t>突破凌乱困境  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33" descr=""/>
          <p:cNvPicPr/>
          <p:nvPr/>
        </p:nvPicPr>
        <p:blipFill>
          <a:blip r:embed="rId1"/>
          <a:srcRect l="0" t="7171" r="0" b="0"/>
          <a:stretch/>
        </p:blipFill>
        <p:spPr>
          <a:xfrm>
            <a:off x="0" y="482760"/>
            <a:ext cx="1227240" cy="8539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1" descr=""/>
          <p:cNvPicPr/>
          <p:nvPr/>
        </p:nvPicPr>
        <p:blipFill>
          <a:blip r:embed="rId2"/>
          <a:srcRect l="0" t="0" r="0" b="15076"/>
          <a:stretch/>
        </p:blipFill>
        <p:spPr>
          <a:xfrm>
            <a:off x="3708360" y="482760"/>
            <a:ext cx="66672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482760"/>
          <a:ext cx="9144000" cy="4174920"/>
        </p:xfrm>
        <a:graphic>
          <a:graphicData uri="http://schemas.openxmlformats.org/drawingml/2006/table">
            <a:tbl>
              <a:tblPr/>
              <a:tblGrid>
                <a:gridCol w="539640"/>
                <a:gridCol w="2952720"/>
                <a:gridCol w="216000"/>
                <a:gridCol w="503280"/>
                <a:gridCol w="4932360"/>
              </a:tblGrid>
              <a:tr h="834840"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对方惜字如金，不太开口，及时很想听，也不得其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提供话题当引子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主动提供一些与对方生活、工作、兴趣相关的话题，引起兴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5200">
                <a:tc gridSpan="2" rowSpan="3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积极回应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对方可能不确定自己说的内容是否正确，用肢体言语积极鼓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4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善用发问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友善地发文，引导对方从回答问题开始，慢慢吐露心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5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耐心等待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话不多的人，沉默时间多，对话可能感觉时间长，不可不耐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矩形 2"/>
          <p:cNvSpPr/>
          <p:nvPr/>
        </p:nvSpPr>
        <p:spPr>
          <a:xfrm>
            <a:off x="0" y="0"/>
            <a:ext cx="914400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0" y="4660920"/>
            <a:ext cx="914400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8"/>
          <p:cNvGrpSpPr/>
          <p:nvPr/>
        </p:nvGrpSpPr>
        <p:grpSpPr>
          <a:xfrm>
            <a:off x="3767040" y="1546200"/>
            <a:ext cx="374400" cy="459720"/>
            <a:chOff x="3767040" y="1546200"/>
            <a:chExt cx="374400" cy="459720"/>
          </a:xfrm>
        </p:grpSpPr>
        <p:sp>
          <p:nvSpPr>
            <p:cNvPr id="207" name="矩形 5"/>
            <p:cNvSpPr/>
            <p:nvPr/>
          </p:nvSpPr>
          <p:spPr>
            <a:xfrm>
              <a:off x="3840480" y="1725120"/>
              <a:ext cx="216000" cy="215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7"/>
            <p:cNvSpPr/>
            <p:nvPr/>
          </p:nvSpPr>
          <p:spPr>
            <a:xfrm>
              <a:off x="3767040" y="154620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9"/>
          <p:cNvGrpSpPr/>
          <p:nvPr/>
        </p:nvGrpSpPr>
        <p:grpSpPr>
          <a:xfrm>
            <a:off x="99360" y="1488960"/>
            <a:ext cx="358920" cy="459720"/>
            <a:chOff x="99360" y="1488960"/>
            <a:chExt cx="358920" cy="459720"/>
          </a:xfrm>
        </p:grpSpPr>
        <p:sp>
          <p:nvSpPr>
            <p:cNvPr id="210" name="矩形 10"/>
            <p:cNvSpPr/>
            <p:nvPr/>
          </p:nvSpPr>
          <p:spPr>
            <a:xfrm>
              <a:off x="161640" y="1668600"/>
              <a:ext cx="215640" cy="2163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1"/>
            <p:cNvSpPr/>
            <p:nvPr/>
          </p:nvSpPr>
          <p:spPr>
            <a:xfrm>
              <a:off x="99360" y="1488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8"/>
          <p:cNvGrpSpPr/>
          <p:nvPr/>
        </p:nvGrpSpPr>
        <p:grpSpPr>
          <a:xfrm>
            <a:off x="3767040" y="2413080"/>
            <a:ext cx="374400" cy="459720"/>
            <a:chOff x="3767040" y="2413080"/>
            <a:chExt cx="374400" cy="459720"/>
          </a:xfrm>
        </p:grpSpPr>
        <p:sp>
          <p:nvSpPr>
            <p:cNvPr id="213" name="矩形 19"/>
            <p:cNvSpPr/>
            <p:nvPr/>
          </p:nvSpPr>
          <p:spPr>
            <a:xfrm>
              <a:off x="3840480" y="2592000"/>
              <a:ext cx="216000" cy="215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0"/>
            <p:cNvSpPr/>
            <p:nvPr/>
          </p:nvSpPr>
          <p:spPr>
            <a:xfrm>
              <a:off x="3767040" y="24130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21"/>
          <p:cNvGrpSpPr/>
          <p:nvPr/>
        </p:nvGrpSpPr>
        <p:grpSpPr>
          <a:xfrm>
            <a:off x="3767040" y="3219480"/>
            <a:ext cx="374400" cy="459720"/>
            <a:chOff x="3767040" y="3219480"/>
            <a:chExt cx="374400" cy="459720"/>
          </a:xfrm>
        </p:grpSpPr>
        <p:sp>
          <p:nvSpPr>
            <p:cNvPr id="216" name="矩形 22"/>
            <p:cNvSpPr/>
            <p:nvPr/>
          </p:nvSpPr>
          <p:spPr>
            <a:xfrm>
              <a:off x="3840480" y="3399120"/>
              <a:ext cx="21600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23"/>
            <p:cNvSpPr/>
            <p:nvPr/>
          </p:nvSpPr>
          <p:spPr>
            <a:xfrm>
              <a:off x="3767040" y="3219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4"/>
          <p:cNvGrpSpPr/>
          <p:nvPr/>
        </p:nvGrpSpPr>
        <p:grpSpPr>
          <a:xfrm>
            <a:off x="3767040" y="4011480"/>
            <a:ext cx="374400" cy="459720"/>
            <a:chOff x="3767040" y="4011480"/>
            <a:chExt cx="374400" cy="459720"/>
          </a:xfrm>
        </p:grpSpPr>
        <p:sp>
          <p:nvSpPr>
            <p:cNvPr id="219" name="矩形 25"/>
            <p:cNvSpPr/>
            <p:nvPr/>
          </p:nvSpPr>
          <p:spPr>
            <a:xfrm>
              <a:off x="3840480" y="4191120"/>
              <a:ext cx="216000" cy="2163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26"/>
            <p:cNvSpPr/>
            <p:nvPr/>
          </p:nvSpPr>
          <p:spPr>
            <a:xfrm>
              <a:off x="3767040" y="4011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矩形 29"/>
          <p:cNvSpPr/>
          <p:nvPr/>
        </p:nvSpPr>
        <p:spPr>
          <a:xfrm>
            <a:off x="1722240" y="568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困境</a:t>
            </a:r>
            <a:r>
              <a:rPr b="0" lang="en-US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4</a:t>
            </a: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对方沉默少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0"/>
          <p:cNvSpPr/>
          <p:nvPr/>
        </p:nvSpPr>
        <p:spPr>
          <a:xfrm>
            <a:off x="5526000" y="720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破解法：鼓励对方多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2"/>
          <p:cNvSpPr/>
          <p:nvPr/>
        </p:nvSpPr>
        <p:spPr>
          <a:xfrm>
            <a:off x="6804000" y="46926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方正硬笔楷书繁体"/>
                <a:ea typeface="方正硬笔楷书繁体"/>
              </a:rPr>
              <a:t>突破无语困境  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>
            <a:off x="2688120" y="1527120"/>
            <a:ext cx="401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有听也有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方正硬笔楷书繁体"/>
                <a:ea typeface="方正硬笔楷书繁体"/>
              </a:rPr>
              <a:t>① ② ③ ④ ⑤ 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2" descr=""/>
          <p:cNvPicPr/>
          <p:nvPr/>
        </p:nvPicPr>
        <p:blipFill>
          <a:blip r:embed="rId1"/>
          <a:stretch/>
        </p:blipFill>
        <p:spPr>
          <a:xfrm>
            <a:off x="7932600" y="4300560"/>
            <a:ext cx="1105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rcRect l="0" t="10633" r="0" b="5031"/>
          <a:stretch/>
        </p:blipFill>
        <p:spPr>
          <a:xfrm>
            <a:off x="-4680" y="0"/>
            <a:ext cx="9148680" cy="51465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5796000" y="7714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学会闭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5796000" y="1415880"/>
            <a:ext cx="25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Bodoni MT"/>
                <a:ea typeface="微软雅黑"/>
              </a:rPr>
              <a:t>让对方得以充分表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6804000" y="4660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有听也有懂  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" descr=""/>
          <p:cNvPicPr/>
          <p:nvPr/>
        </p:nvPicPr>
        <p:blipFill>
          <a:blip r:embed="rId1"/>
          <a:srcRect l="0" t="9735" r="0" b="5931"/>
          <a:stretch/>
        </p:blipFill>
        <p:spPr>
          <a:xfrm>
            <a:off x="-144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4211640" y="4111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转移焦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3995640" y="1055520"/>
            <a:ext cx="3024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Bodoni MT"/>
                <a:ea typeface="微软雅黑"/>
              </a:rPr>
              <a:t>把关注点转移到别人身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6804000" y="4660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有听也有懂  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"/>
          <p:cNvPicPr/>
          <p:nvPr/>
        </p:nvPicPr>
        <p:blipFill>
          <a:blip r:embed="rId1"/>
          <a:srcRect l="0" t="12660" r="0" b="918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6516720" y="27874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聚焦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6624720" y="35719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Bodoni MT"/>
                <a:ea typeface="微软雅黑"/>
              </a:rPr>
              <a:t>首先弄清沟通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Bodoni MT"/>
                <a:ea typeface="微软雅黑"/>
              </a:rPr>
              <a:t>避免情绪干扰障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6804000" y="4660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有听也有懂  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" descr="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-3240"/>
            <a:ext cx="9150480" cy="5146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547640" y="1527120"/>
            <a:ext cx="25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找出核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547640" y="2281320"/>
            <a:ext cx="25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Bodoni MT"/>
                <a:ea typeface="微软雅黑"/>
              </a:rPr>
              <a:t>像剥洋葱一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Bodoni MT"/>
                <a:ea typeface="微软雅黑"/>
              </a:rPr>
              <a:t>除去不必要的包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Bodoni MT"/>
                <a:ea typeface="微软雅黑"/>
              </a:rPr>
              <a:t>直击事件核心本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6804000" y="4660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硬笔楷书繁体"/>
                <a:ea typeface="方正硬笔楷书繁体"/>
              </a:rPr>
              <a:t>有听也有懂  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" descr=""/>
          <p:cNvPicPr/>
          <p:nvPr/>
        </p:nvPicPr>
        <p:blipFill>
          <a:blip r:embed="rId1"/>
          <a:srcRect l="0" t="7830" r="0" b="783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611280" y="3537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肢体语言解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250920" y="4222800"/>
            <a:ext cx="403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Bodoni MT"/>
                <a:ea typeface="微软雅黑"/>
              </a:rPr>
              <a:t>肢体语言传递的信息往往超过言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6804000" y="4660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有听也有懂  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rcRect l="0" t="5002" r="0" b="5002"/>
          <a:stretch/>
        </p:blipFill>
        <p:spPr>
          <a:xfrm>
            <a:off x="0" y="-4680"/>
            <a:ext cx="9153360" cy="514836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5"/>
          <p:cNvGrpSpPr/>
          <p:nvPr/>
        </p:nvGrpSpPr>
        <p:grpSpPr>
          <a:xfrm>
            <a:off x="3243600" y="1470600"/>
            <a:ext cx="3486600" cy="2508120"/>
            <a:chOff x="3243600" y="1470600"/>
            <a:chExt cx="3486600" cy="2508120"/>
          </a:xfrm>
        </p:grpSpPr>
        <p:sp>
          <p:nvSpPr>
            <p:cNvPr id="248" name="TextBox 2"/>
            <p:cNvSpPr/>
            <p:nvPr/>
          </p:nvSpPr>
          <p:spPr>
            <a:xfrm rot="21108600">
              <a:off x="3544560" y="1651680"/>
              <a:ext cx="259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情感关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"/>
            <p:cNvSpPr/>
            <p:nvPr/>
          </p:nvSpPr>
          <p:spPr>
            <a:xfrm rot="21108600">
              <a:off x="3331080" y="2284920"/>
              <a:ext cx="3311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以情感关怀为基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是沟通中最重要的一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也是最难取代的个人优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4"/>
          <p:cNvSpPr/>
          <p:nvPr/>
        </p:nvSpPr>
        <p:spPr>
          <a:xfrm>
            <a:off x="6804000" y="4660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有听也有懂  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5"/>
          <p:cNvGrpSpPr/>
          <p:nvPr/>
        </p:nvGrpSpPr>
        <p:grpSpPr>
          <a:xfrm>
            <a:off x="2576520" y="627120"/>
            <a:ext cx="4170240" cy="4032360"/>
            <a:chOff x="2576520" y="627120"/>
            <a:chExt cx="4170240" cy="4032360"/>
          </a:xfrm>
        </p:grpSpPr>
        <p:sp>
          <p:nvSpPr>
            <p:cNvPr id="252" name="椭圆 1"/>
            <p:cNvSpPr/>
            <p:nvPr/>
          </p:nvSpPr>
          <p:spPr>
            <a:xfrm>
              <a:off x="2576520" y="627120"/>
              <a:ext cx="4033440" cy="40323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"/>
            <p:cNvSpPr/>
            <p:nvPr/>
          </p:nvSpPr>
          <p:spPr>
            <a:xfrm>
              <a:off x="2706480" y="968400"/>
              <a:ext cx="3827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80%-90%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4"/>
            <p:cNvSpPr/>
            <p:nvPr/>
          </p:nvSpPr>
          <p:spPr>
            <a:xfrm>
              <a:off x="2843280" y="1997640"/>
              <a:ext cx="390348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沟通占了人们每天</a:t>
              </a:r>
              <a:r>
                <a:rPr b="0" lang="en-US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80-90%</a:t>
              </a:r>
              <a:r>
                <a:rPr b="0" lang="zh-CN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的时间，也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与生活中最多挫折与冲突的来源，我们花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  </a:t>
              </a:r>
              <a:r>
                <a:rPr b="0" lang="zh-CN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众多的精力学习表达、说话、做简报，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往往忽略了，在开口前，有一种能力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        </a:t>
              </a:r>
              <a:r>
                <a:rPr b="0" lang="zh-CN" sz="1400" spc="-1" strike="noStrike">
                  <a:solidFill>
                    <a:srgbClr val="f2f2f2"/>
                  </a:solidFill>
                  <a:latin typeface="Bodoni MT"/>
                  <a:ea typeface="微软雅黑"/>
                </a:rPr>
                <a:t>重要性更先于表达，那就是：聆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rcRect l="0" t="13822" r="0" b="1382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735280" y="843120"/>
            <a:ext cx="392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Bodoni MT"/>
                <a:ea typeface="微软雅黑"/>
              </a:rPr>
              <a:t>你是否有过这样的经验：跟老板、客户、部署沟通时，明明都是同一种语言，频率却老是对不上、不是失焦断线、就是鸡同鸭讲？或是事后发现，他讲的明明是</a:t>
            </a:r>
            <a:r>
              <a:rPr b="1" lang="en-US" sz="1800" spc="-1" strike="noStrike">
                <a:solidFill>
                  <a:srgbClr val="3f3f3f"/>
                </a:solidFill>
                <a:latin typeface="Bodoni MT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3f3f3f"/>
                </a:solidFill>
                <a:latin typeface="Bodoni MT"/>
                <a:ea typeface="微软雅黑"/>
              </a:rPr>
              <a:t>，内心解读却是</a:t>
            </a:r>
            <a:r>
              <a:rPr b="1" lang="en-US" sz="1800" spc="-1" strike="noStrike">
                <a:solidFill>
                  <a:srgbClr val="3f3f3f"/>
                </a:solidFill>
                <a:latin typeface="Bodoni MT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3f3f3f"/>
                </a:solidFill>
                <a:latin typeface="Bodoni MT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2" descr=""/>
          <p:cNvPicPr/>
          <p:nvPr/>
        </p:nvPicPr>
        <p:blipFill>
          <a:blip r:embed="rId1"/>
          <a:stretch/>
        </p:blipFill>
        <p:spPr>
          <a:xfrm flipH="1">
            <a:off x="-360" y="0"/>
            <a:ext cx="77137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56" name="组合 23"/>
          <p:cNvGrpSpPr/>
          <p:nvPr/>
        </p:nvGrpSpPr>
        <p:grpSpPr>
          <a:xfrm>
            <a:off x="5800680" y="2933640"/>
            <a:ext cx="2371680" cy="702360"/>
            <a:chOff x="5800680" y="2933640"/>
            <a:chExt cx="2371680" cy="702360"/>
          </a:xfrm>
        </p:grpSpPr>
        <p:pic>
          <p:nvPicPr>
            <p:cNvPr id="257" name="图片 9" descr=""/>
            <p:cNvPicPr/>
            <p:nvPr/>
          </p:nvPicPr>
          <p:blipFill>
            <a:blip r:embed="rId2"/>
            <a:stretch/>
          </p:blipFill>
          <p:spPr>
            <a:xfrm>
              <a:off x="5800680" y="3144600"/>
              <a:ext cx="495000" cy="40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10"/>
            <p:cNvSpPr/>
            <p:nvPr/>
          </p:nvSpPr>
          <p:spPr>
            <a:xfrm>
              <a:off x="6469200" y="2933640"/>
              <a:ext cx="1703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Bodoni MT"/>
                  <a:ea typeface="微软雅黑"/>
                </a:rPr>
                <a:t>应芳萍的</a:t>
              </a:r>
              <a:r>
                <a:rPr b="0" lang="en-US" sz="1600" spc="-1" strike="noStrike">
                  <a:solidFill>
                    <a:srgbClr val="595959"/>
                  </a:solidFill>
                  <a:latin typeface="Bodoni MT"/>
                  <a:ea typeface="微软雅黑"/>
                </a:rPr>
                <a:t>P</a:t>
              </a:r>
              <a:r>
                <a:rPr b="0" lang="zh-CN" sz="1600" spc="-1" strike="noStrike">
                  <a:solidFill>
                    <a:srgbClr val="595959"/>
                  </a:solidFill>
                  <a:latin typeface="Bodoni MT"/>
                  <a:ea typeface="微软雅黑"/>
                </a:rPr>
                <a:t>生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24"/>
          <p:cNvGrpSpPr/>
          <p:nvPr/>
        </p:nvGrpSpPr>
        <p:grpSpPr>
          <a:xfrm>
            <a:off x="5724360" y="3800520"/>
            <a:ext cx="2340000" cy="702360"/>
            <a:chOff x="5724360" y="3800520"/>
            <a:chExt cx="2340000" cy="702360"/>
          </a:xfrm>
        </p:grpSpPr>
        <p:pic>
          <p:nvPicPr>
            <p:cNvPr id="260" name="图片 11" descr=""/>
            <p:cNvPicPr/>
            <p:nvPr/>
          </p:nvPicPr>
          <p:blipFill>
            <a:blip r:embed="rId3"/>
            <a:stretch/>
          </p:blipFill>
          <p:spPr>
            <a:xfrm>
              <a:off x="5724360" y="3896280"/>
              <a:ext cx="648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Box 12"/>
            <p:cNvSpPr/>
            <p:nvPr/>
          </p:nvSpPr>
          <p:spPr>
            <a:xfrm>
              <a:off x="6469560" y="3800520"/>
              <a:ext cx="1594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Bodoni MT"/>
                  <a:ea typeface="微软雅黑"/>
                </a:rPr>
                <a:t>你猜</a:t>
              </a:r>
              <a:r>
                <a:rPr b="0" lang="en-US" sz="1600" spc="-1" strike="noStrike">
                  <a:solidFill>
                    <a:srgbClr val="595959"/>
                  </a:solidFill>
                  <a:latin typeface="Bodoni MT"/>
                  <a:ea typeface="微软雅黑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22"/>
          <p:cNvGrpSpPr/>
          <p:nvPr/>
        </p:nvGrpSpPr>
        <p:grpSpPr>
          <a:xfrm>
            <a:off x="5810400" y="2066760"/>
            <a:ext cx="2253960" cy="702360"/>
            <a:chOff x="5810400" y="2066760"/>
            <a:chExt cx="2253960" cy="702360"/>
          </a:xfrm>
        </p:grpSpPr>
        <p:sp>
          <p:nvSpPr>
            <p:cNvPr id="263" name="TextBox 7"/>
            <p:cNvSpPr/>
            <p:nvPr/>
          </p:nvSpPr>
          <p:spPr>
            <a:xfrm>
              <a:off x="6469920" y="2066760"/>
              <a:ext cx="159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Bodoni MT"/>
                  <a:ea typeface="微软雅黑"/>
                </a:rPr>
                <a:t>8768019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图片 13" descr=""/>
            <p:cNvPicPr/>
            <p:nvPr/>
          </p:nvPicPr>
          <p:blipFill>
            <a:blip r:embed="rId4"/>
            <a:srcRect l="50035" t="5287" r="4019" b="4106"/>
            <a:stretch/>
          </p:blipFill>
          <p:spPr>
            <a:xfrm>
              <a:off x="5810400" y="2163240"/>
              <a:ext cx="477360" cy="58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Picture 2" descr=""/>
          <p:cNvPicPr/>
          <p:nvPr/>
        </p:nvPicPr>
        <p:blipFill>
          <a:blip r:embed="rId5"/>
          <a:stretch/>
        </p:blipFill>
        <p:spPr>
          <a:xfrm>
            <a:off x="5076720" y="1131840"/>
            <a:ext cx="2952720" cy="858960"/>
          </a:xfrm>
          <a:prstGeom prst="rect">
            <a:avLst/>
          </a:prstGeom>
          <a:ln w="0">
            <a:noFill/>
          </a:ln>
        </p:spPr>
      </p:pic>
      <p:sp>
        <p:nvSpPr>
          <p:cNvPr id="266" name="直接连接符 21"/>
          <p:cNvSpPr/>
          <p:nvPr/>
        </p:nvSpPr>
        <p:spPr>
          <a:xfrm>
            <a:off x="5580000" y="2854440"/>
            <a:ext cx="248436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6"/>
          <p:cNvSpPr/>
          <p:nvPr/>
        </p:nvSpPr>
        <p:spPr>
          <a:xfrm>
            <a:off x="5580000" y="3720960"/>
            <a:ext cx="2484360" cy="180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27"/>
          <p:cNvSpPr/>
          <p:nvPr/>
        </p:nvSpPr>
        <p:spPr>
          <a:xfrm>
            <a:off x="5580000" y="4587840"/>
            <a:ext cx="2484360" cy="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2627280" y="1276200"/>
            <a:ext cx="26398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听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肘形连接符 6"/>
          <p:cNvCxnSpPr/>
          <p:nvPr/>
        </p:nvCxnSpPr>
        <p:spPr>
          <a:xfrm flipH="1" rot="16200000">
            <a:off x="4546440" y="673560"/>
            <a:ext cx="361080" cy="1562760"/>
          </a:xfrm>
          <a:prstGeom prst="bentConnector4">
            <a:avLst>
              <a:gd name="adj1" fmla="val -63473"/>
              <a:gd name="adj2" fmla="val 92258"/>
            </a:avLst>
          </a:prstGeom>
          <a:ln w="9360">
            <a:solidFill>
              <a:srgbClr val="3f3f3f"/>
            </a:solidFill>
            <a:bevel/>
            <a:headEnd len="med" type="oval" w="med"/>
            <a:tailEnd len="med" type="oval" w="med"/>
          </a:ln>
        </p:spPr>
      </p:cxnSp>
      <p:sp>
        <p:nvSpPr>
          <p:cNvPr id="50" name="TextBox 7"/>
          <p:cNvSpPr/>
          <p:nvPr/>
        </p:nvSpPr>
        <p:spPr>
          <a:xfrm>
            <a:off x="5796000" y="1455840"/>
            <a:ext cx="1800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十目</a:t>
            </a:r>
            <a:r>
              <a:rPr b="0" lang="en-US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3f3f3f"/>
                </a:solidFill>
                <a:latin typeface="Bodoni MT"/>
                <a:ea typeface="微软雅黑"/>
              </a:rPr>
              <a:t>多用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Bodoni MT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3f3f3f"/>
                </a:solidFill>
                <a:latin typeface="Bodoni MT"/>
                <a:ea typeface="微软雅黑"/>
              </a:rPr>
              <a:t>听需要善于观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肘形连接符 8"/>
          <p:cNvCxnSpPr/>
          <p:nvPr/>
        </p:nvCxnSpPr>
        <p:spPr>
          <a:xfrm flipH="1" flipV="1" rot="5400000">
            <a:off x="4644720" y="3059280"/>
            <a:ext cx="164160" cy="1562760"/>
          </a:xfrm>
          <a:prstGeom prst="bentConnector4">
            <a:avLst>
              <a:gd name="adj1" fmla="val -140439"/>
              <a:gd name="adj2" fmla="val 92258"/>
            </a:avLst>
          </a:prstGeom>
          <a:ln w="9360">
            <a:solidFill>
              <a:srgbClr val="3f3f3f"/>
            </a:solidFill>
            <a:bevel/>
            <a:headEnd len="med" type="oval" w="med"/>
            <a:tailEnd len="med" type="oval" w="med"/>
          </a:ln>
        </p:spPr>
      </p:cxnSp>
      <p:sp>
        <p:nvSpPr>
          <p:cNvPr id="52" name="TextBox 9"/>
          <p:cNvSpPr/>
          <p:nvPr/>
        </p:nvSpPr>
        <p:spPr>
          <a:xfrm>
            <a:off x="5796000" y="3579840"/>
            <a:ext cx="3168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一心</a:t>
            </a:r>
            <a:r>
              <a:rPr b="0" lang="en-US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3f3f3f"/>
                </a:solidFill>
                <a:latin typeface="Bodoni MT"/>
                <a:ea typeface="微软雅黑"/>
              </a:rPr>
              <a:t>常用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Bodoni MT"/>
                <a:ea typeface="微软雅黑"/>
              </a:rPr>
              <a:t>听需要体察对方内心深处的声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8"/>
          <p:cNvSpPr/>
          <p:nvPr/>
        </p:nvSpPr>
        <p:spPr>
          <a:xfrm flipH="1">
            <a:off x="611280" y="3003480"/>
            <a:ext cx="2232000" cy="0"/>
          </a:xfrm>
          <a:prstGeom prst="line">
            <a:avLst/>
          </a:prstGeom>
          <a:ln w="9360">
            <a:solidFill>
              <a:srgbClr val="3f3f3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934920" y="1635120"/>
            <a:ext cx="17290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耳</a:t>
            </a:r>
            <a:r>
              <a:rPr b="0" lang="en-US" sz="1800" spc="-1" strike="noStrike">
                <a:solidFill>
                  <a:srgbClr val="c00000"/>
                </a:solidFill>
                <a:latin typeface="Bodoni MT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3f3f3f"/>
                </a:solidFill>
                <a:latin typeface="Bodoni MT"/>
                <a:ea typeface="微软雅黑"/>
              </a:rPr>
              <a:t>耳为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Bodoni MT"/>
                <a:ea typeface="微软雅黑"/>
              </a:rPr>
              <a:t>听需要少说多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Bodoni MT"/>
                <a:ea typeface="微软雅黑"/>
              </a:rPr>
              <a:t>听用耳优于用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701640" y="522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倾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060720" y="11224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Bodoni MT"/>
                <a:ea typeface="微软雅黑"/>
              </a:rPr>
              <a:t>是一种</a:t>
            </a:r>
            <a:r>
              <a:rPr b="1" lang="zh-CN" sz="2800" spc="-1" strike="noStrike">
                <a:solidFill>
                  <a:srgbClr val="c00000"/>
                </a:solidFill>
                <a:latin typeface="Bodoni MT"/>
                <a:ea typeface="微软雅黑"/>
              </a:rPr>
              <a:t>以心读心</a:t>
            </a:r>
            <a:r>
              <a:rPr b="0" lang="zh-CN" sz="2800" spc="-1" strike="noStrike">
                <a:solidFill>
                  <a:srgbClr val="3f3f3f"/>
                </a:solidFill>
                <a:latin typeface="Bodoni MT"/>
                <a:ea typeface="微软雅黑"/>
              </a:rPr>
              <a:t>的本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13"/>
          <p:cNvGrpSpPr/>
          <p:nvPr/>
        </p:nvGrpSpPr>
        <p:grpSpPr>
          <a:xfrm>
            <a:off x="1925640" y="2049480"/>
            <a:ext cx="4159080" cy="916920"/>
            <a:chOff x="1925640" y="2049480"/>
            <a:chExt cx="4159080" cy="916920"/>
          </a:xfrm>
        </p:grpSpPr>
        <p:sp>
          <p:nvSpPr>
            <p:cNvPr id="58" name="TextBox 3"/>
            <p:cNvSpPr/>
            <p:nvPr/>
          </p:nvSpPr>
          <p:spPr>
            <a:xfrm>
              <a:off x="2844360" y="2049480"/>
              <a:ext cx="324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【</a:t>
              </a:r>
              <a:r>
                <a:rPr b="0" lang="en-US" sz="18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Hearing</a:t>
              </a:r>
              <a:r>
                <a:rPr b="0" lang="en-US" sz="18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】</a:t>
              </a:r>
              <a:r>
                <a:rPr b="0" lang="zh-CN" sz="18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耳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                      </a:t>
              </a:r>
              <a:r>
                <a:rPr b="0" lang="zh-CN" sz="18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理解语言表面涵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8"/>
            <p:cNvSpPr/>
            <p:nvPr/>
          </p:nvSpPr>
          <p:spPr>
            <a:xfrm>
              <a:off x="1925640" y="2121840"/>
              <a:ext cx="774720" cy="777240"/>
            </a:xfrm>
            <a:custGeom>
              <a:avLst/>
              <a:gdLst>
                <a:gd name="textAreaLeft" fmla="*/ 16560 w 774720"/>
                <a:gd name="textAreaRight" fmla="*/ 758160 w 774720"/>
                <a:gd name="textAreaTop" fmla="*/ 16560 h 777240"/>
                <a:gd name="textAreaBottom" fmla="*/ 760680 h 777240"/>
              </a:gdLst>
              <a:ahLst/>
              <a:rect l="textAreaLeft" t="textAreaTop" r="textAreaRight" b="textAreaBottom"/>
              <a:pathLst>
                <a:path w="21600" h="21670">
                  <a:moveTo>
                    <a:pt x="1607" y="0"/>
                  </a:moveTo>
                  <a:arcTo wR="1607" hR="1607" stAng="16200000" swAng="-5400000"/>
                  <a:lnTo>
                    <a:pt x="0" y="20063"/>
                  </a:lnTo>
                  <a:arcTo wR="1607" hR="1607" stAng="10800000" swAng="-5400000"/>
                  <a:lnTo>
                    <a:pt x="19993" y="21670"/>
                  </a:lnTo>
                  <a:arcTo wR="1607" hR="1607" stAng="5400000" swAng="-5400000"/>
                  <a:lnTo>
                    <a:pt x="21600" y="1607"/>
                  </a:lnTo>
                  <a:arcTo wR="1607" hR="1607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b2b2b2"/>
                  </a:solidFill>
                  <a:latin typeface="Webdings"/>
                  <a:ea typeface="Webdings"/>
                </a:rPr>
                <a:t>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4"/>
          <p:cNvGrpSpPr/>
          <p:nvPr/>
        </p:nvGrpSpPr>
        <p:grpSpPr>
          <a:xfrm>
            <a:off x="1116000" y="3417840"/>
            <a:ext cx="7704000" cy="916920"/>
            <a:chOff x="1116000" y="3417840"/>
            <a:chExt cx="7704000" cy="916920"/>
          </a:xfrm>
        </p:grpSpPr>
        <p:sp>
          <p:nvSpPr>
            <p:cNvPr id="61" name="TextBox 4"/>
            <p:cNvSpPr/>
            <p:nvPr/>
          </p:nvSpPr>
          <p:spPr>
            <a:xfrm>
              <a:off x="2844000" y="3417840"/>
              <a:ext cx="597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【</a:t>
              </a:r>
              <a:r>
                <a:rPr b="0" lang="en-US" sz="18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Listening</a:t>
              </a:r>
              <a:r>
                <a:rPr b="0" lang="en-US" sz="18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】</a:t>
              </a:r>
              <a:r>
                <a:rPr b="0" lang="zh-CN" sz="18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用脑或心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                         </a:t>
              </a:r>
              <a:r>
                <a:rPr b="0" lang="zh-CN" sz="18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理解对方的真意（包括事实、情绪、动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12"/>
            <p:cNvGrpSpPr/>
            <p:nvPr/>
          </p:nvGrpSpPr>
          <p:grpSpPr>
            <a:xfrm>
              <a:off x="1925280" y="3490200"/>
              <a:ext cx="774360" cy="777240"/>
              <a:chOff x="1925280" y="3490200"/>
              <a:chExt cx="774360" cy="777240"/>
            </a:xfrm>
          </p:grpSpPr>
          <p:sp>
            <p:nvSpPr>
              <p:cNvPr id="63" name="AutoShape 8"/>
              <p:cNvSpPr/>
              <p:nvPr/>
            </p:nvSpPr>
            <p:spPr>
              <a:xfrm>
                <a:off x="1925280" y="3490200"/>
                <a:ext cx="774360" cy="777240"/>
              </a:xfrm>
              <a:custGeom>
                <a:avLst/>
                <a:gdLst>
                  <a:gd name="textAreaLeft" fmla="*/ 16560 w 774360"/>
                  <a:gd name="textAreaRight" fmla="*/ 757800 w 774360"/>
                  <a:gd name="textAreaTop" fmla="*/ 16560 h 777240"/>
                  <a:gd name="textAreaBottom" fmla="*/ 760680 h 777240"/>
                </a:gdLst>
                <a:ahLst/>
                <a:rect l="textAreaLeft" t="textAreaTop" r="textAreaRight" b="textAreaBottom"/>
                <a:pathLst>
                  <a:path w="21600" h="21680">
                    <a:moveTo>
                      <a:pt x="1607" y="0"/>
                    </a:moveTo>
                    <a:arcTo wR="1607" hR="1607" stAng="16200000" swAng="-5400000"/>
                    <a:lnTo>
                      <a:pt x="0" y="20073"/>
                    </a:lnTo>
                    <a:arcTo wR="1607" hR="1607" stAng="10800000" swAng="-5400000"/>
                    <a:lnTo>
                      <a:pt x="19993" y="21680"/>
                    </a:lnTo>
                    <a:arcTo wR="1607" hR="1607" stAng="5400000" swAng="-5400000"/>
                    <a:lnTo>
                      <a:pt x="21600" y="1607"/>
                    </a:lnTo>
                    <a:arcTo wR="1607" hR="1607" stAng="0" swAng="-5400000"/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图片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086200" y="3681000"/>
                <a:ext cx="452520" cy="395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" name="组合 11"/>
            <p:cNvGrpSpPr/>
            <p:nvPr/>
          </p:nvGrpSpPr>
          <p:grpSpPr>
            <a:xfrm>
              <a:off x="1116000" y="3490200"/>
              <a:ext cx="774360" cy="777240"/>
              <a:chOff x="1116000" y="3490200"/>
              <a:chExt cx="774360" cy="777240"/>
            </a:xfrm>
          </p:grpSpPr>
          <p:sp>
            <p:nvSpPr>
              <p:cNvPr id="66" name="AutoShape 8"/>
              <p:cNvSpPr/>
              <p:nvPr/>
            </p:nvSpPr>
            <p:spPr>
              <a:xfrm>
                <a:off x="1116000" y="3490200"/>
                <a:ext cx="774360" cy="777240"/>
              </a:xfrm>
              <a:custGeom>
                <a:avLst/>
                <a:gdLst>
                  <a:gd name="textAreaLeft" fmla="*/ 16560 w 774360"/>
                  <a:gd name="textAreaRight" fmla="*/ 757800 w 774360"/>
                  <a:gd name="textAreaTop" fmla="*/ 16560 h 777240"/>
                  <a:gd name="textAreaBottom" fmla="*/ 760680 h 777240"/>
                </a:gdLst>
                <a:ahLst/>
                <a:rect l="textAreaLeft" t="textAreaTop" r="textAreaRight" b="textAreaBottom"/>
                <a:pathLst>
                  <a:path w="21600" h="21680">
                    <a:moveTo>
                      <a:pt x="1607" y="0"/>
                    </a:moveTo>
                    <a:arcTo wR="1607" hR="1607" stAng="16200000" swAng="-5400000"/>
                    <a:lnTo>
                      <a:pt x="0" y="20073"/>
                    </a:lnTo>
                    <a:arcTo wR="1607" hR="1607" stAng="10800000" swAng="-5400000"/>
                    <a:lnTo>
                      <a:pt x="19993" y="21680"/>
                    </a:lnTo>
                    <a:arcTo wR="1607" hR="1607" stAng="5400000" swAng="-5400000"/>
                    <a:lnTo>
                      <a:pt x="21600" y="1607"/>
                    </a:lnTo>
                    <a:arcTo wR="1607" hR="1607" stAng="0" swAng="-5400000"/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" name="图片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1000" y="3685680"/>
                <a:ext cx="504000" cy="36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53"/>
          <p:cNvGrpSpPr/>
          <p:nvPr/>
        </p:nvGrpSpPr>
        <p:grpSpPr>
          <a:xfrm>
            <a:off x="539640" y="274680"/>
            <a:ext cx="1554120" cy="4691160"/>
            <a:chOff x="539640" y="274680"/>
            <a:chExt cx="1554120" cy="4691160"/>
          </a:xfrm>
        </p:grpSpPr>
        <p:pic>
          <p:nvPicPr>
            <p:cNvPr id="69" name="图片 1" descr=""/>
            <p:cNvPicPr/>
            <p:nvPr/>
          </p:nvPicPr>
          <p:blipFill>
            <a:blip r:embed="rId1"/>
            <a:stretch/>
          </p:blipFill>
          <p:spPr>
            <a:xfrm>
              <a:off x="539640" y="274680"/>
              <a:ext cx="1554120" cy="46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3"/>
            <p:cNvSpPr/>
            <p:nvPr/>
          </p:nvSpPr>
          <p:spPr>
            <a:xfrm>
              <a:off x="569160" y="3579480"/>
              <a:ext cx="1152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didas Unity"/>
                  <a:ea typeface="微软雅黑"/>
                </a:rPr>
                <a:t>表面上在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4"/>
            <p:cNvSpPr/>
            <p:nvPr/>
          </p:nvSpPr>
          <p:spPr>
            <a:xfrm>
              <a:off x="569160" y="4394880"/>
              <a:ext cx="1152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didas Unity"/>
                  <a:ea typeface="微软雅黑"/>
                </a:rPr>
                <a:t>完全不想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44"/>
            <p:cNvSpPr/>
            <p:nvPr/>
          </p:nvSpPr>
          <p:spPr>
            <a:xfrm>
              <a:off x="569160" y="2931480"/>
              <a:ext cx="1152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didas Unity"/>
                  <a:ea typeface="微软雅黑"/>
                </a:rPr>
                <a:t>选择性聆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45"/>
            <p:cNvSpPr/>
            <p:nvPr/>
          </p:nvSpPr>
          <p:spPr>
            <a:xfrm>
              <a:off x="569160" y="2283480"/>
              <a:ext cx="1152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didas Unity"/>
                  <a:ea typeface="微软雅黑"/>
                </a:rPr>
                <a:t>评断性聆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46"/>
            <p:cNvSpPr/>
            <p:nvPr/>
          </p:nvSpPr>
          <p:spPr>
            <a:xfrm>
              <a:off x="569160" y="1586880"/>
              <a:ext cx="1152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didas Unity"/>
                  <a:ea typeface="微软雅黑"/>
                </a:rPr>
                <a:t>同理心聆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32"/>
          <p:cNvGrpSpPr/>
          <p:nvPr/>
        </p:nvGrpSpPr>
        <p:grpSpPr>
          <a:xfrm>
            <a:off x="2771640" y="3201840"/>
            <a:ext cx="5616720" cy="792360"/>
            <a:chOff x="2771640" y="3201840"/>
            <a:chExt cx="5616720" cy="792360"/>
          </a:xfrm>
        </p:grpSpPr>
        <p:sp>
          <p:nvSpPr>
            <p:cNvPr id="76" name="矩形 33"/>
            <p:cNvSpPr/>
            <p:nvPr/>
          </p:nvSpPr>
          <p:spPr>
            <a:xfrm>
              <a:off x="2771640" y="3201840"/>
              <a:ext cx="792000" cy="79236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4"/>
            <p:cNvSpPr/>
            <p:nvPr/>
          </p:nvSpPr>
          <p:spPr>
            <a:xfrm>
              <a:off x="3635640" y="3201840"/>
              <a:ext cx="4752720" cy="79236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心不在焉的听，边听边做别的事等算</a:t>
              </a:r>
              <a:r>
                <a:rPr b="0" lang="en-US" sz="1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2</a:t>
              </a:r>
              <a:r>
                <a:rPr b="0" lang="zh-CN" sz="1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级倾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doni MT"/>
                  <a:ea typeface="Bodoni MT"/>
                </a:rPr>
                <a:t>【</a:t>
              </a: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案例</a:t>
              </a:r>
              <a:r>
                <a:rPr b="0" lang="en-US" sz="1400" spc="-1" strike="noStrike">
                  <a:solidFill>
                    <a:srgbClr val="ffffff"/>
                  </a:solidFill>
                  <a:latin typeface="Bodoni MT"/>
                  <a:ea typeface="Bodoni MT"/>
                </a:rPr>
                <a:t>】</a:t>
              </a: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老婆碎碎念；主管在训话；边讲电话边看电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61"/>
          <p:cNvGrpSpPr/>
          <p:nvPr/>
        </p:nvGrpSpPr>
        <p:grpSpPr>
          <a:xfrm>
            <a:off x="2771640" y="555480"/>
            <a:ext cx="5616720" cy="792360"/>
            <a:chOff x="2771640" y="555480"/>
            <a:chExt cx="5616720" cy="792360"/>
          </a:xfrm>
        </p:grpSpPr>
        <p:grpSp>
          <p:nvGrpSpPr>
            <p:cNvPr id="79" name="组合 41"/>
            <p:cNvGrpSpPr/>
            <p:nvPr/>
          </p:nvGrpSpPr>
          <p:grpSpPr>
            <a:xfrm>
              <a:off x="2771640" y="555480"/>
              <a:ext cx="5616720" cy="792360"/>
              <a:chOff x="2771640" y="555480"/>
              <a:chExt cx="5616720" cy="792360"/>
            </a:xfrm>
          </p:grpSpPr>
          <p:sp>
            <p:nvSpPr>
              <p:cNvPr id="80" name="矩形 42"/>
              <p:cNvSpPr/>
              <p:nvPr/>
            </p:nvSpPr>
            <p:spPr>
              <a:xfrm>
                <a:off x="2771640" y="555480"/>
                <a:ext cx="823680" cy="792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43"/>
              <p:cNvSpPr/>
              <p:nvPr/>
            </p:nvSpPr>
            <p:spPr>
              <a:xfrm>
                <a:off x="3670200" y="555480"/>
                <a:ext cx="4718160" cy="792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站在对方的立场，也将对方的经验、个性、年纪、能力、背景等一并考虑产生共鸣是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5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级同理心倾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图片 48" descr=""/>
            <p:cNvPicPr/>
            <p:nvPr/>
          </p:nvPicPr>
          <p:blipFill>
            <a:blip r:embed="rId2"/>
            <a:stretch/>
          </p:blipFill>
          <p:spPr>
            <a:xfrm>
              <a:off x="2941200" y="753480"/>
              <a:ext cx="4525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组合 56"/>
          <p:cNvGrpSpPr/>
          <p:nvPr/>
        </p:nvGrpSpPr>
        <p:grpSpPr>
          <a:xfrm>
            <a:off x="2771640" y="4083120"/>
            <a:ext cx="5616720" cy="792000"/>
            <a:chOff x="2771640" y="4083120"/>
            <a:chExt cx="5616720" cy="792000"/>
          </a:xfrm>
        </p:grpSpPr>
        <p:grpSp>
          <p:nvGrpSpPr>
            <p:cNvPr id="84" name="组合 31"/>
            <p:cNvGrpSpPr/>
            <p:nvPr/>
          </p:nvGrpSpPr>
          <p:grpSpPr>
            <a:xfrm>
              <a:off x="2771640" y="4083120"/>
              <a:ext cx="5616720" cy="792000"/>
              <a:chOff x="2771640" y="4083120"/>
              <a:chExt cx="5616720" cy="792000"/>
            </a:xfrm>
          </p:grpSpPr>
          <p:sp>
            <p:nvSpPr>
              <p:cNvPr id="85" name="矩形 23"/>
              <p:cNvSpPr/>
              <p:nvPr/>
            </p:nvSpPr>
            <p:spPr>
              <a:xfrm>
                <a:off x="2771640" y="4083120"/>
                <a:ext cx="792000" cy="792000"/>
              </a:xfrm>
              <a:prstGeom prst="rect">
                <a:avLst/>
              </a:prstGeom>
              <a:solidFill>
                <a:srgbClr val="d0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24"/>
              <p:cNvSpPr/>
              <p:nvPr/>
            </p:nvSpPr>
            <p:spPr>
              <a:xfrm>
                <a:off x="3635640" y="4083120"/>
                <a:ext cx="4752720" cy="792000"/>
              </a:xfrm>
              <a:prstGeom prst="rect">
                <a:avLst/>
              </a:prstGeom>
              <a:solidFill>
                <a:srgbClr val="d0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工作太忙或压力太大时，会出现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1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级漠视的倾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Bodoni MT"/>
                    <a:ea typeface="Bodoni MT"/>
                  </a:rPr>
                  <a:t>【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</a:rPr>
                  <a:t>案例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Bodoni MT"/>
                    <a:ea typeface="Bodoni MT"/>
                  </a:rPr>
                  <a:t>】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</a:rPr>
                  <a:t>服务生忙到听见客人呼叫却不理会；客户刚刚告诉你的个人资料，一回头就忘记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" name="图片 50" descr=""/>
            <p:cNvPicPr/>
            <p:nvPr/>
          </p:nvPicPr>
          <p:blipFill>
            <a:blip r:embed="rId3"/>
            <a:stretch/>
          </p:blipFill>
          <p:spPr>
            <a:xfrm>
              <a:off x="2802960" y="4159800"/>
              <a:ext cx="714960" cy="71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60"/>
          <p:cNvGrpSpPr/>
          <p:nvPr/>
        </p:nvGrpSpPr>
        <p:grpSpPr>
          <a:xfrm>
            <a:off x="2771640" y="1438200"/>
            <a:ext cx="5616720" cy="790560"/>
            <a:chOff x="2771640" y="1438200"/>
            <a:chExt cx="5616720" cy="790560"/>
          </a:xfrm>
        </p:grpSpPr>
        <p:grpSp>
          <p:nvGrpSpPr>
            <p:cNvPr id="89" name="组合 38"/>
            <p:cNvGrpSpPr/>
            <p:nvPr/>
          </p:nvGrpSpPr>
          <p:grpSpPr>
            <a:xfrm>
              <a:off x="2771640" y="1438200"/>
              <a:ext cx="5616720" cy="790560"/>
              <a:chOff x="2771640" y="1438200"/>
              <a:chExt cx="5616720" cy="790560"/>
            </a:xfrm>
          </p:grpSpPr>
          <p:sp>
            <p:nvSpPr>
              <p:cNvPr id="90" name="矩形 39"/>
              <p:cNvSpPr/>
              <p:nvPr/>
            </p:nvSpPr>
            <p:spPr>
              <a:xfrm>
                <a:off x="2771640" y="1438200"/>
                <a:ext cx="792000" cy="79056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40"/>
              <p:cNvSpPr/>
              <p:nvPr/>
            </p:nvSpPr>
            <p:spPr>
              <a:xfrm>
                <a:off x="3635640" y="1438200"/>
                <a:ext cx="4752720" cy="79056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很积极的听对方发言，但以自己的价值观作为标准，有权威性的情况下会出现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4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级评论家式聆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Bodoni MT"/>
                    <a:ea typeface="Bodoni MT"/>
                  </a:rPr>
                  <a:t>【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</a:rPr>
                  <a:t>案例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Bodoni MT"/>
                    <a:ea typeface="Bodoni MT"/>
                  </a:rPr>
                  <a:t>】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</a:rPr>
                  <a:t>上司对下属；父母对孩子的忠告、建议、说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图片 52" descr=""/>
            <p:cNvPicPr/>
            <p:nvPr/>
          </p:nvPicPr>
          <p:blipFill>
            <a:blip r:embed="rId4"/>
            <a:stretch/>
          </p:blipFill>
          <p:spPr>
            <a:xfrm>
              <a:off x="2941200" y="1628640"/>
              <a:ext cx="46836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59"/>
          <p:cNvGrpSpPr/>
          <p:nvPr/>
        </p:nvGrpSpPr>
        <p:grpSpPr>
          <a:xfrm>
            <a:off x="2771640" y="2319480"/>
            <a:ext cx="5616720" cy="792000"/>
            <a:chOff x="2771640" y="2319480"/>
            <a:chExt cx="5616720" cy="792000"/>
          </a:xfrm>
        </p:grpSpPr>
        <p:grpSp>
          <p:nvGrpSpPr>
            <p:cNvPr id="94" name="组合 35"/>
            <p:cNvGrpSpPr/>
            <p:nvPr/>
          </p:nvGrpSpPr>
          <p:grpSpPr>
            <a:xfrm>
              <a:off x="2771640" y="2319480"/>
              <a:ext cx="5616720" cy="792000"/>
              <a:chOff x="2771640" y="2319480"/>
              <a:chExt cx="5616720" cy="792000"/>
            </a:xfrm>
          </p:grpSpPr>
          <p:sp>
            <p:nvSpPr>
              <p:cNvPr id="95" name="矩形 36"/>
              <p:cNvSpPr/>
              <p:nvPr/>
            </p:nvSpPr>
            <p:spPr>
              <a:xfrm>
                <a:off x="2771640" y="2319480"/>
                <a:ext cx="792000" cy="792000"/>
              </a:xfrm>
              <a:prstGeom prst="rect">
                <a:avLst/>
              </a:prstGeom>
              <a:solidFill>
                <a:srgbClr val="d6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37"/>
              <p:cNvSpPr/>
              <p:nvPr/>
            </p:nvSpPr>
            <p:spPr>
              <a:xfrm>
                <a:off x="3635640" y="2319480"/>
                <a:ext cx="4752720" cy="792000"/>
              </a:xfrm>
              <a:prstGeom prst="rect">
                <a:avLst/>
              </a:prstGeom>
              <a:solidFill>
                <a:srgbClr val="d6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像吸管一样只选择自己想听的资讯，在立场和角色不同时会出现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3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级选择性聆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Bodoni MT"/>
                    <a:ea typeface="Bodoni MT"/>
                  </a:rPr>
                  <a:t>【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</a:rPr>
                  <a:t>案例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Bodoni MT"/>
                    <a:ea typeface="Bodoni MT"/>
                  </a:rPr>
                  <a:t>】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Arial"/>
                  </a:rPr>
                  <a:t>上司与下属；客户与业务员；父母与孩子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Picture 2" descr="D:\7-图片库\ai1\png1\Color picker 512x512.png"/>
            <p:cNvPicPr/>
            <p:nvPr/>
          </p:nvPicPr>
          <p:blipFill>
            <a:blip r:embed="rId5"/>
            <a:stretch/>
          </p:blipFill>
          <p:spPr>
            <a:xfrm>
              <a:off x="2915640" y="2460240"/>
              <a:ext cx="493920" cy="49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Box 58"/>
          <p:cNvSpPr/>
          <p:nvPr/>
        </p:nvSpPr>
        <p:spPr>
          <a:xfrm>
            <a:off x="34920" y="1825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5</a:t>
            </a:r>
            <a:r>
              <a:rPr b="0" lang="zh-CN" sz="44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级倾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611280" y="35388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倾听失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2"/>
          <p:cNvGrpSpPr/>
          <p:nvPr/>
        </p:nvGrpSpPr>
        <p:grpSpPr>
          <a:xfrm>
            <a:off x="158760" y="1384200"/>
            <a:ext cx="2828880" cy="3162960"/>
            <a:chOff x="158760" y="1384200"/>
            <a:chExt cx="2828880" cy="3162960"/>
          </a:xfrm>
        </p:grpSpPr>
        <p:pic>
          <p:nvPicPr>
            <p:cNvPr id="101" name="图片 3" descr=""/>
            <p:cNvPicPr/>
            <p:nvPr/>
          </p:nvPicPr>
          <p:blipFill>
            <a:blip r:embed="rId1"/>
            <a:srcRect l="0" t="5494" r="0" b="0"/>
            <a:stretch/>
          </p:blipFill>
          <p:spPr>
            <a:xfrm>
              <a:off x="158760" y="1806120"/>
              <a:ext cx="2756880" cy="17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5"/>
            <p:cNvSpPr/>
            <p:nvPr/>
          </p:nvSpPr>
          <p:spPr>
            <a:xfrm>
              <a:off x="204840" y="1384200"/>
              <a:ext cx="26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1 </a:t>
              </a:r>
              <a:r>
                <a:rPr b="0" lang="zh-CN" sz="20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预设立场 聚焦错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9"/>
            <p:cNvSpPr/>
            <p:nvPr/>
          </p:nvSpPr>
          <p:spPr>
            <a:xfrm>
              <a:off x="158760" y="3813840"/>
              <a:ext cx="2828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每个人都会主动产生接收筛子，聚焦错误，听得再久，问得再多都算失败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3146400" y="1384200"/>
            <a:ext cx="2828880" cy="3162960"/>
            <a:chOff x="3146400" y="1384200"/>
            <a:chExt cx="2828880" cy="3162960"/>
          </a:xfrm>
        </p:grpSpPr>
        <p:pic>
          <p:nvPicPr>
            <p:cNvPr id="105" name="图片 2" descr=""/>
            <p:cNvPicPr/>
            <p:nvPr/>
          </p:nvPicPr>
          <p:blipFill>
            <a:blip r:embed="rId2"/>
            <a:srcRect l="0" t="5494" r="0" b="0"/>
            <a:stretch/>
          </p:blipFill>
          <p:spPr>
            <a:xfrm>
              <a:off x="3182400" y="1806120"/>
              <a:ext cx="2756880" cy="17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>
              <a:off x="3228480" y="1384200"/>
              <a:ext cx="26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2 </a:t>
              </a:r>
              <a:r>
                <a:rPr b="0" lang="zh-CN" sz="20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只想说话而分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0"/>
            <p:cNvSpPr/>
            <p:nvPr/>
          </p:nvSpPr>
          <p:spPr>
            <a:xfrm>
              <a:off x="3146400" y="3813840"/>
              <a:ext cx="2828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表面在听，脑子却在不断再转，只想着带回如何插口，以致于漏听重要信息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4"/>
          <p:cNvGrpSpPr/>
          <p:nvPr/>
        </p:nvGrpSpPr>
        <p:grpSpPr>
          <a:xfrm>
            <a:off x="6207120" y="1384200"/>
            <a:ext cx="2828880" cy="2843280"/>
            <a:chOff x="6207120" y="1384200"/>
            <a:chExt cx="2828880" cy="2843280"/>
          </a:xfrm>
        </p:grpSpPr>
        <p:pic>
          <p:nvPicPr>
            <p:cNvPr id="109" name="图片 4" descr=""/>
            <p:cNvPicPr/>
            <p:nvPr/>
          </p:nvPicPr>
          <p:blipFill>
            <a:blip r:embed="rId3"/>
            <a:srcRect l="0" t="5487" r="0" b="0"/>
            <a:stretch/>
          </p:blipFill>
          <p:spPr>
            <a:xfrm>
              <a:off x="6207120" y="1806120"/>
              <a:ext cx="2756880" cy="17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8"/>
            <p:cNvSpPr/>
            <p:nvPr/>
          </p:nvSpPr>
          <p:spPr>
            <a:xfrm>
              <a:off x="6253200" y="1384200"/>
              <a:ext cx="26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3 </a:t>
              </a:r>
              <a:r>
                <a:rPr b="0" lang="zh-CN" sz="20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被抓狂的情绪左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11"/>
            <p:cNvSpPr/>
            <p:nvPr/>
          </p:nvSpPr>
          <p:spPr>
            <a:xfrm>
              <a:off x="6207120" y="3813840"/>
              <a:ext cx="2828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Bodoni MT"/>
                  <a:ea typeface="微软雅黑"/>
                </a:rPr>
                <a:t>看不到对方的情绪或被自己的情绪淹没，不能接纳其他人的声音和信息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8EF-AE93-4C97-8805-641FE1297B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3131640" y="1527120"/>
            <a:ext cx="3131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方正硬笔楷书繁体"/>
                <a:ea typeface="方正硬笔楷书繁体"/>
              </a:rPr>
              <a:t>突破困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f3f3f"/>
                </a:solidFill>
                <a:latin typeface="方正硬笔楷书繁体"/>
                <a:ea typeface="方正硬笔楷书繁体"/>
              </a:rPr>
              <a:t>① ② ③ 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1"/>
          <a:stretch/>
        </p:blipFill>
        <p:spPr>
          <a:xfrm>
            <a:off x="8101080" y="4227480"/>
            <a:ext cx="78408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1" descr=""/>
          <p:cNvPicPr/>
          <p:nvPr/>
        </p:nvPicPr>
        <p:blipFill>
          <a:blip r:embed="rId1"/>
          <a:srcRect l="0" t="0" r="0" b="15076"/>
          <a:stretch/>
        </p:blipFill>
        <p:spPr>
          <a:xfrm>
            <a:off x="4572000" y="482760"/>
            <a:ext cx="666720" cy="8031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7" descr=""/>
          <p:cNvPicPr/>
          <p:nvPr/>
        </p:nvPicPr>
        <p:blipFill>
          <a:blip r:embed="rId2"/>
          <a:srcRect l="0" t="4093" r="0" b="0"/>
          <a:stretch/>
        </p:blipFill>
        <p:spPr>
          <a:xfrm>
            <a:off x="0" y="544680"/>
            <a:ext cx="111600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0" y="482760"/>
          <a:ext cx="9144000" cy="4174920"/>
        </p:xfrm>
        <a:graphic>
          <a:graphicData uri="http://schemas.openxmlformats.org/drawingml/2006/table">
            <a:tbl>
              <a:tblPr/>
              <a:tblGrid>
                <a:gridCol w="539640"/>
                <a:gridCol w="3816360"/>
                <a:gridCol w="216000"/>
                <a:gridCol w="504720"/>
                <a:gridCol w="4067280"/>
              </a:tblGrid>
              <a:tr h="834840"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身旁有人随时进出，容易打断谈话，需要重新接续或回想话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改时间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真的无法专心，协商改期或中断休息</a:t>
                      </a:r>
                      <a:r>
                        <a:rPr b="0" lang="en-US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10</a:t>
                      </a: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分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周围环境吵杂，无法听清楚，说与听都得费力确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改地点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长谈时，选择安静的场所；短暂交谈，移到角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内在的情绪、状态不对，太累、太紧绷或另有烦心的事情，人在心不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改情绪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放松心情，有时间看或听点别的；没时间，数数房间的颜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5200"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改习惯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好好管理自己的健康和生活作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矩形 2"/>
          <p:cNvSpPr/>
          <p:nvPr/>
        </p:nvSpPr>
        <p:spPr>
          <a:xfrm>
            <a:off x="0" y="0"/>
            <a:ext cx="914400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0" y="4660920"/>
            <a:ext cx="914400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372360" y="46926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方正硬笔楷书繁体"/>
                <a:ea typeface="方正硬笔楷书繁体"/>
              </a:rPr>
              <a:t>突破情绪场所困境  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8"/>
          <p:cNvGrpSpPr/>
          <p:nvPr/>
        </p:nvGrpSpPr>
        <p:grpSpPr>
          <a:xfrm>
            <a:off x="4642560" y="1546200"/>
            <a:ext cx="374400" cy="459720"/>
            <a:chOff x="4642560" y="1546200"/>
            <a:chExt cx="374400" cy="459720"/>
          </a:xfrm>
        </p:grpSpPr>
        <p:sp>
          <p:nvSpPr>
            <p:cNvPr id="121" name="矩形 5"/>
            <p:cNvSpPr/>
            <p:nvPr/>
          </p:nvSpPr>
          <p:spPr>
            <a:xfrm>
              <a:off x="4715640" y="1725120"/>
              <a:ext cx="216360" cy="215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7"/>
            <p:cNvSpPr/>
            <p:nvPr/>
          </p:nvSpPr>
          <p:spPr>
            <a:xfrm>
              <a:off x="4642560" y="154620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9"/>
          <p:cNvGrpSpPr/>
          <p:nvPr/>
        </p:nvGrpSpPr>
        <p:grpSpPr>
          <a:xfrm>
            <a:off x="99360" y="1488960"/>
            <a:ext cx="358920" cy="459720"/>
            <a:chOff x="99360" y="1488960"/>
            <a:chExt cx="358920" cy="459720"/>
          </a:xfrm>
        </p:grpSpPr>
        <p:sp>
          <p:nvSpPr>
            <p:cNvPr id="124" name="矩形 10"/>
            <p:cNvSpPr/>
            <p:nvPr/>
          </p:nvSpPr>
          <p:spPr>
            <a:xfrm>
              <a:off x="161640" y="1668600"/>
              <a:ext cx="215640" cy="2163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1"/>
            <p:cNvSpPr/>
            <p:nvPr/>
          </p:nvSpPr>
          <p:spPr>
            <a:xfrm>
              <a:off x="99360" y="1488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2"/>
          <p:cNvGrpSpPr/>
          <p:nvPr/>
        </p:nvGrpSpPr>
        <p:grpSpPr>
          <a:xfrm>
            <a:off x="99360" y="2355840"/>
            <a:ext cx="358920" cy="459720"/>
            <a:chOff x="99360" y="2355840"/>
            <a:chExt cx="358920" cy="459720"/>
          </a:xfrm>
        </p:grpSpPr>
        <p:sp>
          <p:nvSpPr>
            <p:cNvPr id="127" name="矩形 13"/>
            <p:cNvSpPr/>
            <p:nvPr/>
          </p:nvSpPr>
          <p:spPr>
            <a:xfrm>
              <a:off x="161640" y="2535480"/>
              <a:ext cx="21564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99360" y="2355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5"/>
          <p:cNvGrpSpPr/>
          <p:nvPr/>
        </p:nvGrpSpPr>
        <p:grpSpPr>
          <a:xfrm>
            <a:off x="99360" y="3219480"/>
            <a:ext cx="358920" cy="459720"/>
            <a:chOff x="99360" y="3219480"/>
            <a:chExt cx="358920" cy="459720"/>
          </a:xfrm>
        </p:grpSpPr>
        <p:sp>
          <p:nvSpPr>
            <p:cNvPr id="130" name="矩形 16"/>
            <p:cNvSpPr/>
            <p:nvPr/>
          </p:nvSpPr>
          <p:spPr>
            <a:xfrm>
              <a:off x="161640" y="3399120"/>
              <a:ext cx="21564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7"/>
            <p:cNvSpPr/>
            <p:nvPr/>
          </p:nvSpPr>
          <p:spPr>
            <a:xfrm>
              <a:off x="99360" y="321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8"/>
          <p:cNvGrpSpPr/>
          <p:nvPr/>
        </p:nvGrpSpPr>
        <p:grpSpPr>
          <a:xfrm>
            <a:off x="4642560" y="2413080"/>
            <a:ext cx="374400" cy="459720"/>
            <a:chOff x="4642560" y="2413080"/>
            <a:chExt cx="374400" cy="459720"/>
          </a:xfrm>
        </p:grpSpPr>
        <p:sp>
          <p:nvSpPr>
            <p:cNvPr id="133" name="矩形 19"/>
            <p:cNvSpPr/>
            <p:nvPr/>
          </p:nvSpPr>
          <p:spPr>
            <a:xfrm>
              <a:off x="4715640" y="2592000"/>
              <a:ext cx="216360" cy="215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20"/>
            <p:cNvSpPr/>
            <p:nvPr/>
          </p:nvSpPr>
          <p:spPr>
            <a:xfrm>
              <a:off x="4642560" y="24130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1"/>
          <p:cNvGrpSpPr/>
          <p:nvPr/>
        </p:nvGrpSpPr>
        <p:grpSpPr>
          <a:xfrm>
            <a:off x="4642560" y="3219480"/>
            <a:ext cx="374400" cy="459720"/>
            <a:chOff x="4642560" y="3219480"/>
            <a:chExt cx="374400" cy="459720"/>
          </a:xfrm>
        </p:grpSpPr>
        <p:sp>
          <p:nvSpPr>
            <p:cNvPr id="136" name="矩形 22"/>
            <p:cNvSpPr/>
            <p:nvPr/>
          </p:nvSpPr>
          <p:spPr>
            <a:xfrm>
              <a:off x="4715640" y="3399120"/>
              <a:ext cx="21636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3"/>
            <p:cNvSpPr/>
            <p:nvPr/>
          </p:nvSpPr>
          <p:spPr>
            <a:xfrm>
              <a:off x="4642560" y="3219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24"/>
          <p:cNvGrpSpPr/>
          <p:nvPr/>
        </p:nvGrpSpPr>
        <p:grpSpPr>
          <a:xfrm>
            <a:off x="4642560" y="4011480"/>
            <a:ext cx="374400" cy="459720"/>
            <a:chOff x="4642560" y="4011480"/>
            <a:chExt cx="374400" cy="459720"/>
          </a:xfrm>
        </p:grpSpPr>
        <p:sp>
          <p:nvSpPr>
            <p:cNvPr id="139" name="矩形 25"/>
            <p:cNvSpPr/>
            <p:nvPr/>
          </p:nvSpPr>
          <p:spPr>
            <a:xfrm>
              <a:off x="4715640" y="4191120"/>
              <a:ext cx="216360" cy="2163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6"/>
            <p:cNvSpPr/>
            <p:nvPr/>
          </p:nvSpPr>
          <p:spPr>
            <a:xfrm>
              <a:off x="4642560" y="4011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29"/>
          <p:cNvSpPr/>
          <p:nvPr/>
        </p:nvSpPr>
        <p:spPr>
          <a:xfrm>
            <a:off x="1599480" y="771480"/>
            <a:ext cx="20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困境</a:t>
            </a:r>
            <a:r>
              <a:rPr b="0" lang="en-US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1</a:t>
            </a: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：情绪</a:t>
            </a:r>
            <a:r>
              <a:rPr b="0" lang="en-US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/</a:t>
            </a: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场所不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0"/>
          <p:cNvSpPr/>
          <p:nvPr/>
        </p:nvSpPr>
        <p:spPr>
          <a:xfrm>
            <a:off x="6246720" y="771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破解法：随时随地转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2465" t="0" r="0" b="0"/>
          <a:stretch/>
        </p:blipFill>
        <p:spPr>
          <a:xfrm>
            <a:off x="15840" y="415800"/>
            <a:ext cx="1028880" cy="9367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1" descr=""/>
          <p:cNvPicPr/>
          <p:nvPr/>
        </p:nvPicPr>
        <p:blipFill>
          <a:blip r:embed="rId2"/>
          <a:srcRect l="0" t="0" r="0" b="15076"/>
          <a:stretch/>
        </p:blipFill>
        <p:spPr>
          <a:xfrm>
            <a:off x="3708360" y="482760"/>
            <a:ext cx="66672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482760"/>
          <a:ext cx="9144000" cy="4174920"/>
        </p:xfrm>
        <a:graphic>
          <a:graphicData uri="http://schemas.openxmlformats.org/drawingml/2006/table">
            <a:tbl>
              <a:tblPr/>
              <a:tblGrid>
                <a:gridCol w="539640"/>
                <a:gridCol w="2952720"/>
                <a:gridCol w="216000"/>
                <a:gridCol w="503280"/>
                <a:gridCol w="4932360"/>
              </a:tblGrid>
              <a:tr h="834840"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冗长的会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调整心态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不预设“对方说话一定很无趣”的立场，试着找不同解读方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上司的例行“精神训话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协助推进提提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当总是重复时，帮对方总结，使话题往前推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客户爱吹嘘，往事提了又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适时提醒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如果是经常提到的话题，可以平稳提醒“之前听过这件事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35200">
                <a:tc gridSpan="2"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1840" rIns="51840" tIns="25920" bIns="259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【</a:t>
                      </a:r>
                      <a:r>
                        <a:rPr b="0" lang="zh-CN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提供建议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华康俪金黑W8"/>
                          <a:ea typeface="华康俪金黑W8"/>
                        </a:rPr>
                        <a:t>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f3f3f"/>
                          </a:solidFill>
                          <a:latin typeface="Bodoni MT"/>
                          <a:ea typeface="微软雅黑"/>
                        </a:rPr>
                        <a:t>可以想象情境或转化角色，主动建议说话者增加资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840" marR="518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矩形 2"/>
          <p:cNvSpPr/>
          <p:nvPr/>
        </p:nvSpPr>
        <p:spPr>
          <a:xfrm>
            <a:off x="0" y="0"/>
            <a:ext cx="914400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0" y="4660920"/>
            <a:ext cx="914400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8"/>
          <p:cNvGrpSpPr/>
          <p:nvPr/>
        </p:nvGrpSpPr>
        <p:grpSpPr>
          <a:xfrm>
            <a:off x="3767040" y="1546200"/>
            <a:ext cx="374400" cy="459720"/>
            <a:chOff x="3767040" y="1546200"/>
            <a:chExt cx="374400" cy="459720"/>
          </a:xfrm>
        </p:grpSpPr>
        <p:sp>
          <p:nvSpPr>
            <p:cNvPr id="149" name="矩形 5"/>
            <p:cNvSpPr/>
            <p:nvPr/>
          </p:nvSpPr>
          <p:spPr>
            <a:xfrm>
              <a:off x="3840480" y="1725120"/>
              <a:ext cx="216000" cy="215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7"/>
            <p:cNvSpPr/>
            <p:nvPr/>
          </p:nvSpPr>
          <p:spPr>
            <a:xfrm>
              <a:off x="3767040" y="154620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9"/>
          <p:cNvGrpSpPr/>
          <p:nvPr/>
        </p:nvGrpSpPr>
        <p:grpSpPr>
          <a:xfrm>
            <a:off x="99360" y="1488960"/>
            <a:ext cx="358920" cy="459720"/>
            <a:chOff x="99360" y="1488960"/>
            <a:chExt cx="358920" cy="459720"/>
          </a:xfrm>
        </p:grpSpPr>
        <p:sp>
          <p:nvSpPr>
            <p:cNvPr id="152" name="矩形 10"/>
            <p:cNvSpPr/>
            <p:nvPr/>
          </p:nvSpPr>
          <p:spPr>
            <a:xfrm>
              <a:off x="161640" y="1668600"/>
              <a:ext cx="215640" cy="2163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1"/>
            <p:cNvSpPr/>
            <p:nvPr/>
          </p:nvSpPr>
          <p:spPr>
            <a:xfrm>
              <a:off x="99360" y="1488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2"/>
          <p:cNvGrpSpPr/>
          <p:nvPr/>
        </p:nvGrpSpPr>
        <p:grpSpPr>
          <a:xfrm>
            <a:off x="99360" y="2355840"/>
            <a:ext cx="358920" cy="459720"/>
            <a:chOff x="99360" y="2355840"/>
            <a:chExt cx="358920" cy="459720"/>
          </a:xfrm>
        </p:grpSpPr>
        <p:sp>
          <p:nvSpPr>
            <p:cNvPr id="155" name="矩形 13"/>
            <p:cNvSpPr/>
            <p:nvPr/>
          </p:nvSpPr>
          <p:spPr>
            <a:xfrm>
              <a:off x="161640" y="2535480"/>
              <a:ext cx="21564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4"/>
            <p:cNvSpPr/>
            <p:nvPr/>
          </p:nvSpPr>
          <p:spPr>
            <a:xfrm>
              <a:off x="99360" y="2355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5"/>
          <p:cNvGrpSpPr/>
          <p:nvPr/>
        </p:nvGrpSpPr>
        <p:grpSpPr>
          <a:xfrm>
            <a:off x="99360" y="3219480"/>
            <a:ext cx="358920" cy="459720"/>
            <a:chOff x="99360" y="3219480"/>
            <a:chExt cx="358920" cy="459720"/>
          </a:xfrm>
        </p:grpSpPr>
        <p:sp>
          <p:nvSpPr>
            <p:cNvPr id="158" name="矩形 16"/>
            <p:cNvSpPr/>
            <p:nvPr/>
          </p:nvSpPr>
          <p:spPr>
            <a:xfrm>
              <a:off x="161640" y="3399120"/>
              <a:ext cx="21564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7"/>
            <p:cNvSpPr/>
            <p:nvPr/>
          </p:nvSpPr>
          <p:spPr>
            <a:xfrm>
              <a:off x="99360" y="321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华康俪金黑W8"/>
                  <a:ea typeface="华康俪金黑W8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8"/>
          <p:cNvGrpSpPr/>
          <p:nvPr/>
        </p:nvGrpSpPr>
        <p:grpSpPr>
          <a:xfrm>
            <a:off x="3767040" y="2413080"/>
            <a:ext cx="374400" cy="459720"/>
            <a:chOff x="3767040" y="2413080"/>
            <a:chExt cx="374400" cy="459720"/>
          </a:xfrm>
        </p:grpSpPr>
        <p:sp>
          <p:nvSpPr>
            <p:cNvPr id="161" name="矩形 19"/>
            <p:cNvSpPr/>
            <p:nvPr/>
          </p:nvSpPr>
          <p:spPr>
            <a:xfrm>
              <a:off x="3840480" y="2592000"/>
              <a:ext cx="216000" cy="215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0"/>
            <p:cNvSpPr/>
            <p:nvPr/>
          </p:nvSpPr>
          <p:spPr>
            <a:xfrm>
              <a:off x="3767040" y="24130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1"/>
          <p:cNvGrpSpPr/>
          <p:nvPr/>
        </p:nvGrpSpPr>
        <p:grpSpPr>
          <a:xfrm>
            <a:off x="3767040" y="3219480"/>
            <a:ext cx="374400" cy="459720"/>
            <a:chOff x="3767040" y="3219480"/>
            <a:chExt cx="374400" cy="459720"/>
          </a:xfrm>
        </p:grpSpPr>
        <p:sp>
          <p:nvSpPr>
            <p:cNvPr id="164" name="矩形 22"/>
            <p:cNvSpPr/>
            <p:nvPr/>
          </p:nvSpPr>
          <p:spPr>
            <a:xfrm>
              <a:off x="3840480" y="3399120"/>
              <a:ext cx="216000" cy="2160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3"/>
            <p:cNvSpPr/>
            <p:nvPr/>
          </p:nvSpPr>
          <p:spPr>
            <a:xfrm>
              <a:off x="3767040" y="3219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4"/>
          <p:cNvGrpSpPr/>
          <p:nvPr/>
        </p:nvGrpSpPr>
        <p:grpSpPr>
          <a:xfrm>
            <a:off x="3767040" y="4011480"/>
            <a:ext cx="374400" cy="459720"/>
            <a:chOff x="3767040" y="4011480"/>
            <a:chExt cx="374400" cy="459720"/>
          </a:xfrm>
        </p:grpSpPr>
        <p:sp>
          <p:nvSpPr>
            <p:cNvPr id="167" name="矩形 25"/>
            <p:cNvSpPr/>
            <p:nvPr/>
          </p:nvSpPr>
          <p:spPr>
            <a:xfrm>
              <a:off x="3840480" y="4191120"/>
              <a:ext cx="216000" cy="2163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6"/>
            <p:cNvSpPr/>
            <p:nvPr/>
          </p:nvSpPr>
          <p:spPr>
            <a:xfrm>
              <a:off x="3767040" y="4011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29"/>
          <p:cNvSpPr/>
          <p:nvPr/>
        </p:nvSpPr>
        <p:spPr>
          <a:xfrm>
            <a:off x="1441440" y="56844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困境</a:t>
            </a:r>
            <a:r>
              <a:rPr b="0" lang="en-US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2</a:t>
            </a: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华康俪金黑W8"/>
                <a:ea typeface="华康俪金黑W8"/>
              </a:rPr>
              <a:t>言谈无趣，听不下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0"/>
          <p:cNvSpPr/>
          <p:nvPr/>
        </p:nvSpPr>
        <p:spPr>
          <a:xfrm>
            <a:off x="5578200" y="720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破解法：主动出击变有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6804000" y="46926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方正硬笔楷书繁体"/>
                <a:ea typeface="方正硬笔楷书繁体"/>
              </a:rPr>
              <a:t>突破无聊困境  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4T02:32:26Z</dcterms:created>
  <dc:creator>joyce</dc:creator>
  <dc:description/>
  <dc:language>en-US</dc:language>
  <cp:lastModifiedBy>Administrator</cp:lastModifiedBy>
  <dcterms:modified xsi:type="dcterms:W3CDTF">2015-08-04T02:42:3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