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398-D743-43A3-99E3-C1910AFC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259-4D8E-4C3B-A80F-3A889368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B34-B530-43DA-B553-F2F55E61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AC9-B61A-4127-9482-954F44D5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81D-EC67-4683-9E03-A438F18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8DC-00E8-4736-BAD3-AB261F22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024-7A37-47A1-8CA8-DD6CDE1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CAD-B5C1-4975-BADF-3F7F215C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975-E89D-4F3D-9EB4-3D804C10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6F5-5347-4D4B-8EF4-DF73C53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A14-C510-4538-8D19-3E09958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910-1F21-45F8-9A78-271C4A3C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B4E-9DFC-4CC1-B5BC-B19020BEC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489960" y="6518160"/>
            <a:ext cx="196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ww.1ppt.com/jier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959400" y="1197000"/>
            <a:ext cx="348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40800" y="19177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686320" y="198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759400" y="29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831040" y="400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831040" y="494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97272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727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97272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72720" y="494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063760" y="220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63760" y="29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136120" y="378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055040" y="371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63940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999760" y="486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dministrator</cp:lastModifiedBy>
  <cp:lastPrinted>1899-12-30T00:00:00Z</cp:lastPrinted>
  <dcterms:modified xsi:type="dcterms:W3CDTF">2015-09-10T00:51:32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