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DA3-3412-4FAF-B44E-97D7A234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B8C-4960-4A8F-AE00-DD312E2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BB8-13E7-4008-B1A7-2C53D55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9D0-0779-4C9C-8346-E5F99EAC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B0-EA2B-4CAA-B061-6185952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500-AF57-4F30-870B-9D3D506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E19-7457-417B-9E0B-F96F3CAA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871-C0BF-450B-8A33-DF5D8AA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254-C060-4FE4-B190-58416EB7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DB9-7F04-48F8-AA05-1F5F0F2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C70-4914-4A59-84D6-F6A077F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1E4-E8E4-4BB8-A308-593F5E7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8D7-7FD4-4BAB-A1C4-DD5DC0037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4320" y="755640"/>
            <a:ext cx="789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6c21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4680" y="4294080"/>
            <a:ext cx="1399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66c21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85840" y="765000"/>
            <a:ext cx="9118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6c21"/>
                </a:solidFill>
                <a:latin typeface="Arial"/>
                <a:ea typeface="微软雅黑"/>
              </a:rPr>
              <a:t>适用于商务经济及其相关类别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20500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7080" y="220032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1920" y="48657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37160" y="4794120"/>
            <a:ext cx="28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30560" y="2200320"/>
            <a:ext cx="27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3486240"/>
            <a:ext cx="28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51120" y="485460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微软用户</cp:lastModifiedBy>
  <dcterms:modified xsi:type="dcterms:W3CDTF">2014-09-18T14:39:3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