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4C2-A127-400C-887D-E11B7BAD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641-5794-4D4C-B7C6-FE0F885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9B9-E236-459E-8E47-67A84EC6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49E-C926-4E45-AEAF-E4BCA8B3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579-A148-416E-8D32-086601E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9ED-00DF-470E-A140-28120206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80B-23B3-4F8D-82D8-2C114C31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340-0489-40AF-BE31-00ADB065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1E0-C590-4EEB-AACD-47B04AEB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BC5-0CD5-4505-912D-8223B49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01E-9B77-4B9C-8654-E9066EC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39B-E131-4287-AE5A-E556754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FDB-74D9-4E6E-8692-B9F46FA7EB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-3636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包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比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3168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关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列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比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7:54:44Z</dcterms:created>
  <dc:creator>Paralife</dc:creator>
  <dc:description/>
  <cp:keywords/>
  <dc:language>en-US</dc:language>
  <cp:lastModifiedBy>Sky123.Org</cp:lastModifiedBy>
  <cp:lastPrinted>1899-12-30T00:00:00Z</cp:lastPrinted>
  <dcterms:modified xsi:type="dcterms:W3CDTF">2015-08-03T04:03:31Z</dcterms:modified>
  <cp:revision>3</cp:revision>
  <dc:subject/>
  <dc:title>使用须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