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A07D-4180-434B-A2A0-54EDB6D8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291E-096C-4947-ACFB-793B1C20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7789-0E7B-43B5-A6E1-2324C118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0530-8CE1-489A-826F-C485D2CFA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931C-8360-44CF-8D0D-D6DF281FF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6289-2757-456E-9E3B-07ECDF81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4D31-7A42-47A8-AB59-81165FA7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79D5-E2FA-48D4-9B23-6FE76ADA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AF4F-9FBB-4017-A618-31F371F2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33D4-0226-405E-AA6F-7EAA2A72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DB9EE-30CA-4120-94C4-43348B1D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BAD7-E90A-4F54-BC27-5315514F4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F218-BB36-4BC0-9F71-AEE133F2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0E5E-7699-49C2-9B62-92F0964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551A-91ED-4E65-93C1-07ADB161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CCFC1-1FFA-43BE-9786-F1BEF309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A484-41D9-481D-9717-F6A10305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CA5-08E4-46A6-BF04-7BAF9C97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F92-C95D-4AA8-B55D-82A9762F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E3CE-71C3-4507-95D8-1DBCD1AF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0BCA-FC6B-4C9F-9F93-7EFF76214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814D-1385-446A-A047-68B1EECB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234-52C9-41F6-A996-D3AB61A6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F6E5-6D5C-4B40-A4A5-C1EC0EC5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5A36-F05D-4E29-BD0B-F704F5405CC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84807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8EF6-08DB-45E8-85A6-2AA693C8A1D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://www.nordridesign.cn/index.php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标题 1" descr=""/>
          <p:cNvPicPr/>
          <p:nvPr/>
        </p:nvPicPr>
        <p:blipFill>
          <a:blip r:embed="rId1"/>
          <a:stretch/>
        </p:blipFill>
        <p:spPr>
          <a:xfrm>
            <a:off x="1189080" y="2419200"/>
            <a:ext cx="7558200" cy="1530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47640" y="4941720"/>
            <a:ext cx="73440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84807"/>
                </a:solidFill>
                <a:latin typeface="微软雅黑"/>
                <a:ea typeface="微软雅黑"/>
              </a:rPr>
              <a:t>作者：</a:t>
            </a:r>
            <a:r>
              <a:rPr b="0" lang="en-US" sz="3200" spc="-1" strike="noStrike">
                <a:solidFill>
                  <a:srgbClr val="984807"/>
                </a:solidFill>
                <a:latin typeface="微软雅黑"/>
                <a:ea typeface="微软雅黑"/>
              </a:rPr>
              <a:t>Rh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84807"/>
                </a:solidFill>
                <a:latin typeface="微软雅黑"/>
              </a:rPr>
              <a:t>单击此处添加标题</a:t>
            </a:r>
            <a:endParaRPr b="1" lang="en-US" sz="3600" spc="-1" strike="noStrike">
              <a:solidFill>
                <a:srgbClr val="984807"/>
              </a:solidFill>
              <a:latin typeface="微软雅黑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默认设置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微软雅黑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副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微软雅黑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中文微软雅黑英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加粗加阴影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（微软雅黑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1093680" y="4052880"/>
            <a:ext cx="7276680" cy="329760"/>
            <a:chOff x="1093680" y="4052880"/>
            <a:chExt cx="7276680" cy="329760"/>
          </a:xfrm>
        </p:grpSpPr>
        <p:sp>
          <p:nvSpPr>
            <p:cNvPr id="87" name="Text Box 5"/>
            <p:cNvSpPr/>
            <p:nvPr/>
          </p:nvSpPr>
          <p:spPr>
            <a:xfrm>
              <a:off x="1204200" y="4114080"/>
              <a:ext cx="7010280" cy="26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6"/>
            <p:cNvSpPr/>
            <p:nvPr/>
          </p:nvSpPr>
          <p:spPr>
            <a:xfrm>
              <a:off x="1093680" y="4052880"/>
              <a:ext cx="7276680" cy="0"/>
            </a:xfrm>
            <a:prstGeom prst="line">
              <a:avLst/>
            </a:prstGeom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Text Box 7"/>
          <p:cNvSpPr/>
          <p:nvPr/>
        </p:nvSpPr>
        <p:spPr>
          <a:xfrm>
            <a:off x="-34920" y="3654360"/>
            <a:ext cx="906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PB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模板组：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Rhe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3813120" y="247320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402912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4255920" y="247320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4356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475776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03712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526428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5478480" y="247320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16"/>
          <p:cNvSpPr/>
          <p:nvPr/>
        </p:nvSpPr>
        <p:spPr>
          <a:xfrm>
            <a:off x="4110120" y="2901960"/>
            <a:ext cx="14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7" descr="logo"/>
          <p:cNvPicPr/>
          <p:nvPr/>
        </p:nvPicPr>
        <p:blipFill>
          <a:blip r:embed="rId1"/>
          <a:stretch/>
        </p:blipFill>
        <p:spPr>
          <a:xfrm>
            <a:off x="3116160" y="2463840"/>
            <a:ext cx="782640" cy="655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8" descr="logo2"/>
          <p:cNvPicPr/>
          <p:nvPr/>
        </p:nvPicPr>
        <p:blipFill>
          <a:blip r:embed="rId2"/>
          <a:stretch/>
        </p:blipFill>
        <p:spPr>
          <a:xfrm>
            <a:off x="2563920" y="2305080"/>
            <a:ext cx="3828960" cy="11793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9">
            <a:hlinkClick r:id="rId3"/>
          </p:cNvPr>
          <p:cNvSpPr/>
          <p:nvPr/>
        </p:nvSpPr>
        <p:spPr>
          <a:xfrm>
            <a:off x="2484360" y="2050920"/>
            <a:ext cx="3987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iterate type="lt">
                                    <p:tmAbs val="116.666999816895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43 -4.07407E-006 L -4.72222E-006 -4.07407E-006 E">
                                      <p:cBhvr>
                                        <p:cTn id="153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7:00:57Z</dcterms:created>
  <dc:creator>Rhea</dc:creator>
  <dc:description>www.nordridesign.cn</dc:description>
  <cp:keywords>www.nordridesign.cn</cp:keywords>
  <dc:language>en-US</dc:language>
  <cp:lastModifiedBy>Sky123.Org</cp:lastModifiedBy>
  <cp:lastPrinted>1899-12-30T00:00:00Z</cp:lastPrinted>
  <dcterms:modified xsi:type="dcterms:W3CDTF">2015-09-30T01:53:05Z</dcterms:modified>
  <cp:revision>5</cp:revision>
  <dc:subject>Powerbar妯℃澘绲</dc:subject>
  <dc:title>绠€娲佽姳绾硅儗鏅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