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camera.wav" ContentType="audio/x-wav"/>
  <Override PartName="/ppt/media/image9.jpeg" ContentType="image/jpeg"/>
  <Override PartName="/ppt/media/image11.jpeg" ContentType="image/jpeg"/>
  <Override PartName="/ppt/media/image26.jpeg" ContentType="image/jpeg"/>
  <Override PartName="/ppt/media/image5.jpeg" ContentType="image/jpeg"/>
  <Override PartName="/ppt/media/image32.gif" ContentType="image/gif"/>
  <Override PartName="/ppt/media/image6.jpeg" ContentType="image/jpeg"/>
  <Override PartName="/ppt/media/image10.png" ContentType="image/png"/>
  <Override PartName="/ppt/media/image27.jpeg" ContentType="image/jpeg"/>
  <Override PartName="/ppt/media/image13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30.gif" ContentType="image/gif"/>
  <Override PartName="/ppt/media/image31.jpeg" ContentType="image/jpeg"/>
  <Override PartName="/ppt/media/image2.png" ContentType="image/png"/>
  <Override PartName="/ppt/media/image25.jpeg" ContentType="image/jpeg"/>
  <Override PartName="/ppt/media/image16.jpeg" ContentType="image/jpeg"/>
  <Override PartName="/ppt/media/image21.jpeg" ContentType="image/jpeg"/>
  <Override PartName="/ppt/media/chimes.wav" ContentType="audio/x-wav"/>
  <Override PartName="/ppt/media/image4.wmf" ContentType="image/x-wmf"/>
  <Override PartName="/ppt/media/image8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1.png" ContentType="image/png"/>
  <Override PartName="/ppt/media/image19.gif" ContentType="image/gif"/>
  <Override PartName="/ppt/media/image14.png" ContentType="image/png"/>
  <Override PartName="/ppt/media/image17.jpeg" ContentType="image/jpeg"/>
  <Override PartName="/ppt/media/image18.gif" ContentType="image/gif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5CFF-FD3C-49E4-A64A-8D3105B5E9C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0CAD-333D-495E-A9B7-B42D5DA9AB8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去除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模板上的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-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无忧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整理发布的文字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首先打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模板，选择视图，然后选择幻灯片母版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然后再在幻灯片母版视图中点击“无忧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整理发布”的文字文本框，删除，保存即可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更多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模板资源，请访问</a:t>
            </a:r>
            <a:r>
              <a:rPr b="1" lang="zh-CN" sz="1200" spc="-1" strike="noStrike" u="sng">
                <a:solidFill>
                  <a:srgbClr val="000000"/>
                </a:solidFill>
                <a:uFillTx/>
                <a:latin typeface="Calibri"/>
              </a:rPr>
              <a:t>无忧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PPT</a:t>
            </a:r>
            <a:r>
              <a:rPr b="1" lang="zh-CN" sz="1200" spc="-1" strike="noStrike" u="sng">
                <a:solidFill>
                  <a:srgbClr val="000000"/>
                </a:solidFill>
                <a:uFillTx/>
                <a:latin typeface="Calibri"/>
              </a:rPr>
              <a:t>网站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--http://www.51ppt.com.c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用时删除本备注即可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华文彩云"/>
                <a:ea typeface="华文彩云"/>
              </a:rPr>
              <a:t>展示您的作品</a:t>
            </a:r>
            <a:r>
              <a:rPr b="1" lang="en-US" sz="1200" spc="-1" strike="noStrike">
                <a:solidFill>
                  <a:srgbClr val="ff0000"/>
                </a:solidFill>
                <a:latin typeface="华文彩云"/>
                <a:ea typeface="华文彩云"/>
              </a:rPr>
              <a:t>,PPT</a:t>
            </a:r>
            <a:r>
              <a:rPr b="1" lang="zh-CN" sz="1200" spc="-1" strike="noStrike">
                <a:solidFill>
                  <a:srgbClr val="ff0000"/>
                </a:solidFill>
                <a:latin typeface="华文彩云"/>
                <a:ea typeface="华文彩云"/>
              </a:rPr>
              <a:t>模板作品投稿绿色通道 </a:t>
            </a:r>
            <a:r>
              <a:rPr b="1" lang="en-US" sz="1200" spc="-1" strike="noStrike">
                <a:solidFill>
                  <a:srgbClr val="ff0000"/>
                </a:solidFill>
                <a:latin typeface="华文彩云"/>
                <a:ea typeface="华文彩云"/>
              </a:rPr>
              <a:t>:chinappt2011@gmail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将此幻灯片插入到演示文稿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将此模板作为演示文稿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ppt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）保存到计算机上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打开将包含该图像幻灯片的演示文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在“幻灯片”选项卡上，将插入点置于将位于该图像幻灯片之前的幻灯片之后。（确保不要选择幻灯片。插入点应位于幻灯片之间。）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在“插入”菜单上，单击“幻灯片（从文件）”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在“幻灯片搜索器”对话框中，单击“搜索演示文稿”选项卡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单击“浏览”，找到并选择包含该图像幻灯片的演示文稿，然后单击“打开”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在“幻灯片（从文件）”对话框中，选择该图像幻灯片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选中“保留源格式”复选框。如果不选中此复选框，复制的幻灯片将继承在演示文稿中位于它之前的幻灯片的设计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单击“插入”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单击“关闭”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模板来源于互联网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版权归原作者所有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如有问题请与站长联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2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B9C5-1A2B-4A02-8067-4C07DF360D8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B989-351A-4C5E-924E-A1026735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B987-5A34-452C-B95D-BFA4F062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D5EB-BCF5-4893-A3FC-8AEDD6C1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39BF-50CA-4AC3-ADF4-2DC4B49C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CF5F-0666-4EDA-8B2D-3FD0BE51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06AB-C0F6-48B4-8CD7-C315FEB0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485A-97A1-405D-ACAE-A28AB95F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487B-EEB7-455B-B800-B89E2DD5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B099-BD17-4D2F-BBF9-4A7DB635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B176-D30F-44CA-9422-44B98F9F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7C43-1A38-4E13-BB1C-C5E0BFA5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A606-AFB3-445B-B47C-E06E7B08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6EA0-E116-4CBD-8BCB-9BC5C27A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31B4-3C9C-4190-A65D-E2C86E13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D2ED-408F-4586-9456-2853F2C5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2487-21EB-4BBD-94DE-0D30B114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637A-5269-4237-82F9-23E3FF8F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DED4-865F-4B7B-B55B-13C006DD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AFC7-85E0-4336-8C37-20D3331F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3AA5-942F-4639-BD29-63E04DB4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2FE9-19B8-4D70-B04B-D927A027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B1A-0330-4D87-AECD-E3EFB7BE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195A-1710-463E-9720-EED3CA88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B8F5-E950-433D-9F19-5C917919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00EA-BCC8-4835-93FD-283CF2E5A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FDD7-A6BF-41E4-8724-8F413813A8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2.png"/><Relationship Id="rId41" Type="http://schemas.openxmlformats.org/officeDocument/2006/relationships/image" Target="../media/image3.wmf"/><Relationship Id="rId42" Type="http://schemas.openxmlformats.org/officeDocument/2006/relationships/image" Target="../media/image4.wmf"/><Relationship Id="rId43" Type="http://schemas.openxmlformats.org/officeDocument/2006/relationships/image" Target="../media/image4.wmf"/><Relationship Id="rId44" Type="http://schemas.openxmlformats.org/officeDocument/2006/relationships/image" Target="../media/image4.wmf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audio" Target="../media/chimes.wav"/><Relationship Id="rId49" Type="http://schemas.openxmlformats.org/officeDocument/2006/relationships/slideLayout" Target="../slideLayouts/slideLayout1.xml"/><Relationship Id="rId5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:/Users/Administrator/Desktop/&#24515;&#29702;&#20581;&#24247;&#25945;&#32946;/&#36229;&#38142;&#25509;ppt/&#19968;&#24515;&#21521;&#23398;.ppt" TargetMode="External"/><Relationship Id="rId2" Type="http://schemas.openxmlformats.org/officeDocument/2006/relationships/hyperlink" Target="file:///C:/Users/Administrator/Desktop/&#24515;&#29702;&#20581;&#24247;&#25945;&#32946;/&#36229;&#38142;&#25509;ppt/&#19987;&#24515;&#33268;&#24535;.ppt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2.png"/><Relationship Id="rId41" Type="http://schemas.openxmlformats.org/officeDocument/2006/relationships/image" Target="../media/image3.wmf"/><Relationship Id="rId42" Type="http://schemas.openxmlformats.org/officeDocument/2006/relationships/image" Target="../media/image4.wmf"/><Relationship Id="rId43" Type="http://schemas.openxmlformats.org/officeDocument/2006/relationships/image" Target="../media/image4.wmf"/><Relationship Id="rId44" Type="http://schemas.openxmlformats.org/officeDocument/2006/relationships/image" Target="../media/image4.wmf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audio" Target="../media/chimes.wav"/><Relationship Id="rId49" Type="http://schemas.openxmlformats.org/officeDocument/2006/relationships/slideLayout" Target="../slideLayouts/slideLayout1.xml"/><Relationship Id="rId50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4319640" y="3141720"/>
            <a:ext cx="1799640" cy="1457280"/>
            <a:chOff x="4319640" y="3141720"/>
            <a:chExt cx="1799640" cy="1457280"/>
          </a:xfrm>
        </p:grpSpPr>
        <p:sp>
          <p:nvSpPr>
            <p:cNvPr id="89" name="Cloud"/>
            <p:cNvSpPr/>
            <p:nvPr/>
          </p:nvSpPr>
          <p:spPr>
            <a:xfrm>
              <a:off x="4803480" y="3633840"/>
              <a:ext cx="1315800" cy="735120"/>
            </a:xfrm>
            <a:custGeom>
              <a:avLst/>
              <a:gdLst>
                <a:gd name="textAreaLeft" fmla="*/ 180720 w 1315800"/>
                <a:gd name="textAreaRight" fmla="*/ 1041120 w 1315800"/>
                <a:gd name="textAreaTop" fmla="*/ 110880 h 735120"/>
                <a:gd name="textAreaBottom" fmla="*/ 5907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Cloud"/>
            <p:cNvSpPr/>
            <p:nvPr/>
          </p:nvSpPr>
          <p:spPr>
            <a:xfrm>
              <a:off x="4319640" y="3719520"/>
              <a:ext cx="1315800" cy="736560"/>
            </a:xfrm>
            <a:custGeom>
              <a:avLst/>
              <a:gdLst>
                <a:gd name="textAreaLeft" fmla="*/ 180720 w 1315800"/>
                <a:gd name="textAreaRight" fmla="*/ 1041120 w 1315800"/>
                <a:gd name="textAreaTop" fmla="*/ 110880 h 736560"/>
                <a:gd name="textAreaBottom" fmla="*/ 590760 h 7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Cloud"/>
            <p:cNvSpPr/>
            <p:nvPr/>
          </p:nvSpPr>
          <p:spPr>
            <a:xfrm>
              <a:off x="4803480" y="3862440"/>
              <a:ext cx="1315800" cy="736560"/>
            </a:xfrm>
            <a:custGeom>
              <a:avLst/>
              <a:gdLst>
                <a:gd name="textAreaLeft" fmla="*/ 180720 w 1315800"/>
                <a:gd name="textAreaRight" fmla="*/ 1041120 w 1315800"/>
                <a:gd name="textAreaTop" fmla="*/ 110880 h 736560"/>
                <a:gd name="textAreaBottom" fmla="*/ 590760 h 7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Cloud"/>
            <p:cNvSpPr/>
            <p:nvPr/>
          </p:nvSpPr>
          <p:spPr>
            <a:xfrm>
              <a:off x="4679640" y="3375000"/>
              <a:ext cx="1028520" cy="735120"/>
            </a:xfrm>
            <a:custGeom>
              <a:avLst/>
              <a:gdLst>
                <a:gd name="textAreaLeft" fmla="*/ 141120 w 1028520"/>
                <a:gd name="textAreaRight" fmla="*/ 814320 w 1028520"/>
                <a:gd name="textAreaTop" fmla="*/ 110880 h 735120"/>
                <a:gd name="textAreaBottom" fmla="*/ 5907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Cloud"/>
            <p:cNvSpPr/>
            <p:nvPr/>
          </p:nvSpPr>
          <p:spPr>
            <a:xfrm>
              <a:off x="4966920" y="3141720"/>
              <a:ext cx="576000" cy="880920"/>
            </a:xfrm>
            <a:custGeom>
              <a:avLst/>
              <a:gdLst>
                <a:gd name="textAreaLeft" fmla="*/ 79200 w 576000"/>
                <a:gd name="textAreaRight" fmla="*/ 455400 w 576000"/>
                <a:gd name="textAreaTop" fmla="*/ 133200 h 880920"/>
                <a:gd name="textAreaBottom" fmla="*/ 706320 h 88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Freeform 4"/>
          <p:cNvSpPr/>
          <p:nvPr/>
        </p:nvSpPr>
        <p:spPr>
          <a:xfrm>
            <a:off x="-19080" y="2852640"/>
            <a:ext cx="9207360" cy="2473560"/>
          </a:xfrm>
          <a:custGeom>
            <a:avLst/>
            <a:gdLst>
              <a:gd name="textAreaLeft" fmla="*/ 0 w 9207360"/>
              <a:gd name="textAreaRight" fmla="*/ 9207720 w 9207360"/>
              <a:gd name="textAreaTop" fmla="*/ 0 h 2473560"/>
              <a:gd name="textAreaBottom" fmla="*/ 2473920 h 2473560"/>
            </a:gdLst>
            <a:ahLst/>
            <a:rect l="textAreaLeft" t="textAreaTop" r="textAreaRight" b="textAreaBottom"/>
            <a:pathLst>
              <a:path w="5811" h="1558">
                <a:moveTo>
                  <a:pt x="23" y="583"/>
                </a:moveTo>
                <a:cubicBezTo>
                  <a:pt x="342" y="689"/>
                  <a:pt x="488" y="937"/>
                  <a:pt x="635" y="953"/>
                </a:cubicBezTo>
                <a:cubicBezTo>
                  <a:pt x="782" y="969"/>
                  <a:pt x="819" y="706"/>
                  <a:pt x="907" y="681"/>
                </a:cubicBezTo>
                <a:cubicBezTo>
                  <a:pt x="995" y="656"/>
                  <a:pt x="1052" y="861"/>
                  <a:pt x="1166" y="800"/>
                </a:cubicBezTo>
                <a:cubicBezTo>
                  <a:pt x="1280" y="739"/>
                  <a:pt x="1451" y="321"/>
                  <a:pt x="1588" y="318"/>
                </a:cubicBezTo>
                <a:cubicBezTo>
                  <a:pt x="1751" y="431"/>
                  <a:pt x="1987" y="781"/>
                  <a:pt x="1987" y="781"/>
                </a:cubicBezTo>
                <a:cubicBezTo>
                  <a:pt x="2100" y="819"/>
                  <a:pt x="2115" y="538"/>
                  <a:pt x="2268" y="544"/>
                </a:cubicBezTo>
                <a:cubicBezTo>
                  <a:pt x="2516" y="809"/>
                  <a:pt x="2903" y="817"/>
                  <a:pt x="2903" y="817"/>
                </a:cubicBezTo>
                <a:cubicBezTo>
                  <a:pt x="3144" y="728"/>
                  <a:pt x="3630" y="30"/>
                  <a:pt x="3715" y="7"/>
                </a:cubicBezTo>
                <a:cubicBezTo>
                  <a:pt x="3809" y="16"/>
                  <a:pt x="3931" y="137"/>
                  <a:pt x="3992" y="136"/>
                </a:cubicBezTo>
                <a:cubicBezTo>
                  <a:pt x="4053" y="135"/>
                  <a:pt x="4008" y="35"/>
                  <a:pt x="4082" y="0"/>
                </a:cubicBezTo>
                <a:cubicBezTo>
                  <a:pt x="4112" y="25"/>
                  <a:pt x="4355" y="227"/>
                  <a:pt x="4355" y="227"/>
                </a:cubicBezTo>
                <a:cubicBezTo>
                  <a:pt x="4437" y="241"/>
                  <a:pt x="4489" y="35"/>
                  <a:pt x="4574" y="82"/>
                </a:cubicBezTo>
                <a:cubicBezTo>
                  <a:pt x="4659" y="129"/>
                  <a:pt x="4967" y="681"/>
                  <a:pt x="5171" y="726"/>
                </a:cubicBezTo>
                <a:cubicBezTo>
                  <a:pt x="5632" y="715"/>
                  <a:pt x="5699" y="44"/>
                  <a:pt x="5802" y="346"/>
                </a:cubicBezTo>
                <a:cubicBezTo>
                  <a:pt x="5811" y="658"/>
                  <a:pt x="5798" y="462"/>
                  <a:pt x="5798" y="1416"/>
                </a:cubicBezTo>
                <a:cubicBezTo>
                  <a:pt x="4656" y="1435"/>
                  <a:pt x="1477" y="1381"/>
                  <a:pt x="23" y="1371"/>
                </a:cubicBezTo>
                <a:cubicBezTo>
                  <a:pt x="41" y="1060"/>
                  <a:pt x="0" y="1558"/>
                  <a:pt x="23" y="583"/>
                </a:cubicBezTo>
                <a:close/>
              </a:path>
            </a:pathLst>
          </a:custGeom>
          <a:gradFill rotWithShape="0">
            <a:gsLst>
              <a:gs pos="0">
                <a:srgbClr val="9bda07"/>
              </a:gs>
              <a:gs pos="100000">
                <a:srgbClr val="44b8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9"/>
          <p:cNvGrpSpPr/>
          <p:nvPr/>
        </p:nvGrpSpPr>
        <p:grpSpPr>
          <a:xfrm>
            <a:off x="3464640" y="4159080"/>
            <a:ext cx="1395000" cy="898200"/>
            <a:chOff x="3464640" y="4159080"/>
            <a:chExt cx="1395000" cy="898200"/>
          </a:xfrm>
        </p:grpSpPr>
        <p:sp>
          <p:nvSpPr>
            <p:cNvPr id="96" name="Freeform 1971"/>
            <p:cNvSpPr/>
            <p:nvPr/>
          </p:nvSpPr>
          <p:spPr>
            <a:xfrm rot="735600">
              <a:off x="4380840" y="4395960"/>
              <a:ext cx="416880" cy="6242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972"/>
            <p:cNvSpPr/>
            <p:nvPr/>
          </p:nvSpPr>
          <p:spPr>
            <a:xfrm rot="735600">
              <a:off x="4133520" y="4328280"/>
              <a:ext cx="416880" cy="6242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973"/>
            <p:cNvSpPr/>
            <p:nvPr/>
          </p:nvSpPr>
          <p:spPr>
            <a:xfrm rot="735600">
              <a:off x="3809160" y="4271760"/>
              <a:ext cx="416880" cy="6242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74"/>
            <p:cNvSpPr/>
            <p:nvPr/>
          </p:nvSpPr>
          <p:spPr>
            <a:xfrm rot="735600">
              <a:off x="3525840" y="4196160"/>
              <a:ext cx="416880" cy="6242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6815880" y="4283640"/>
            <a:ext cx="1492200" cy="1062000"/>
            <a:chOff x="6815880" y="4283640"/>
            <a:chExt cx="1492200" cy="1062000"/>
          </a:xfrm>
        </p:grpSpPr>
        <p:sp>
          <p:nvSpPr>
            <p:cNvPr id="101" name="Freeform 156"/>
            <p:cNvSpPr/>
            <p:nvPr/>
          </p:nvSpPr>
          <p:spPr>
            <a:xfrm rot="1183800">
              <a:off x="7775640" y="4665240"/>
              <a:ext cx="439920" cy="62424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57"/>
            <p:cNvSpPr/>
            <p:nvPr/>
          </p:nvSpPr>
          <p:spPr>
            <a:xfrm rot="1183800">
              <a:off x="7525800" y="4561200"/>
              <a:ext cx="439920" cy="62424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58"/>
            <p:cNvSpPr/>
            <p:nvPr/>
          </p:nvSpPr>
          <p:spPr>
            <a:xfrm rot="1183800">
              <a:off x="7193880" y="4456800"/>
              <a:ext cx="439920" cy="62424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59"/>
            <p:cNvSpPr/>
            <p:nvPr/>
          </p:nvSpPr>
          <p:spPr>
            <a:xfrm rot="1183800">
              <a:off x="6908040" y="4339440"/>
              <a:ext cx="439920" cy="62424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9"/>
          <p:cNvGrpSpPr/>
          <p:nvPr/>
        </p:nvGrpSpPr>
        <p:grpSpPr>
          <a:xfrm>
            <a:off x="2190600" y="4190040"/>
            <a:ext cx="1450800" cy="1080720"/>
            <a:chOff x="2190600" y="4190040"/>
            <a:chExt cx="1450800" cy="1080720"/>
          </a:xfrm>
        </p:grpSpPr>
        <p:sp>
          <p:nvSpPr>
            <p:cNvPr id="106" name="Freeform 146"/>
            <p:cNvSpPr/>
            <p:nvPr/>
          </p:nvSpPr>
          <p:spPr>
            <a:xfrm rot="20841000">
              <a:off x="3137760" y="4225680"/>
              <a:ext cx="416880" cy="8348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47"/>
            <p:cNvSpPr/>
            <p:nvPr/>
          </p:nvSpPr>
          <p:spPr>
            <a:xfrm rot="20841000">
              <a:off x="2883600" y="4263840"/>
              <a:ext cx="416880" cy="8348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48"/>
            <p:cNvSpPr/>
            <p:nvPr/>
          </p:nvSpPr>
          <p:spPr>
            <a:xfrm rot="20841000">
              <a:off x="2566080" y="4353840"/>
              <a:ext cx="416880" cy="8348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49"/>
            <p:cNvSpPr/>
            <p:nvPr/>
          </p:nvSpPr>
          <p:spPr>
            <a:xfrm rot="20841000">
              <a:off x="2276640" y="4400280"/>
              <a:ext cx="416880" cy="8348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4"/>
          <p:cNvGrpSpPr/>
          <p:nvPr/>
        </p:nvGrpSpPr>
        <p:grpSpPr>
          <a:xfrm>
            <a:off x="4932360" y="4230720"/>
            <a:ext cx="2160360" cy="637920"/>
            <a:chOff x="4932360" y="4230720"/>
            <a:chExt cx="2160360" cy="637920"/>
          </a:xfrm>
        </p:grpSpPr>
        <p:sp>
          <p:nvSpPr>
            <p:cNvPr id="111" name="Freeform 151"/>
            <p:cNvSpPr/>
            <p:nvPr/>
          </p:nvSpPr>
          <p:spPr>
            <a:xfrm>
              <a:off x="6397200" y="4244400"/>
              <a:ext cx="695520" cy="624240"/>
            </a:xfrm>
            <a:custGeom>
              <a:avLst/>
              <a:gdLst>
                <a:gd name="textAreaLeft" fmla="*/ 0 w 695520"/>
                <a:gd name="textAreaRight" fmla="*/ 695880 w 69552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52"/>
            <p:cNvSpPr/>
            <p:nvPr/>
          </p:nvSpPr>
          <p:spPr>
            <a:xfrm>
              <a:off x="5969520" y="4230720"/>
              <a:ext cx="695520" cy="624240"/>
            </a:xfrm>
            <a:custGeom>
              <a:avLst/>
              <a:gdLst>
                <a:gd name="textAreaLeft" fmla="*/ 0 w 695520"/>
                <a:gd name="textAreaRight" fmla="*/ 695880 w 69552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53"/>
            <p:cNvSpPr/>
            <p:nvPr/>
          </p:nvSpPr>
          <p:spPr>
            <a:xfrm>
              <a:off x="5420520" y="4244400"/>
              <a:ext cx="695520" cy="624240"/>
            </a:xfrm>
            <a:custGeom>
              <a:avLst/>
              <a:gdLst>
                <a:gd name="textAreaLeft" fmla="*/ 0 w 695520"/>
                <a:gd name="textAreaRight" fmla="*/ 695880 w 69552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4"/>
            <p:cNvSpPr/>
            <p:nvPr/>
          </p:nvSpPr>
          <p:spPr>
            <a:xfrm>
              <a:off x="4932360" y="4230720"/>
              <a:ext cx="695520" cy="624240"/>
            </a:xfrm>
            <a:custGeom>
              <a:avLst/>
              <a:gdLst>
                <a:gd name="textAreaLeft" fmla="*/ 0 w 695520"/>
                <a:gd name="textAreaRight" fmla="*/ 695880 w 69552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9"/>
          <p:cNvGrpSpPr/>
          <p:nvPr/>
        </p:nvGrpSpPr>
        <p:grpSpPr>
          <a:xfrm>
            <a:off x="-23400" y="4489560"/>
            <a:ext cx="2385360" cy="856440"/>
            <a:chOff x="-23400" y="4489560"/>
            <a:chExt cx="2385360" cy="856440"/>
          </a:xfrm>
        </p:grpSpPr>
        <p:sp>
          <p:nvSpPr>
            <p:cNvPr id="116" name="Freeform 141"/>
            <p:cNvSpPr/>
            <p:nvPr/>
          </p:nvSpPr>
          <p:spPr>
            <a:xfrm rot="326400">
              <a:off x="1581120" y="4687560"/>
              <a:ext cx="752760" cy="624240"/>
            </a:xfrm>
            <a:custGeom>
              <a:avLst/>
              <a:gdLst>
                <a:gd name="textAreaLeft" fmla="*/ 0 w 752760"/>
                <a:gd name="textAreaRight" fmla="*/ 753120 w 75276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42"/>
            <p:cNvSpPr/>
            <p:nvPr/>
          </p:nvSpPr>
          <p:spPr>
            <a:xfrm rot="326400">
              <a:off x="1121760" y="4630320"/>
              <a:ext cx="752760" cy="624240"/>
            </a:xfrm>
            <a:custGeom>
              <a:avLst/>
              <a:gdLst>
                <a:gd name="textAreaLeft" fmla="*/ 0 w 752760"/>
                <a:gd name="textAreaRight" fmla="*/ 753120 w 75276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43"/>
            <p:cNvSpPr/>
            <p:nvPr/>
          </p:nvSpPr>
          <p:spPr>
            <a:xfrm rot="326400">
              <a:off x="528840" y="4587480"/>
              <a:ext cx="752760" cy="624240"/>
            </a:xfrm>
            <a:custGeom>
              <a:avLst/>
              <a:gdLst>
                <a:gd name="textAreaLeft" fmla="*/ 0 w 752760"/>
                <a:gd name="textAreaRight" fmla="*/ 753120 w 75276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44"/>
            <p:cNvSpPr/>
            <p:nvPr/>
          </p:nvSpPr>
          <p:spPr>
            <a:xfrm rot="326400">
              <a:off x="4320" y="4523760"/>
              <a:ext cx="752760" cy="624240"/>
            </a:xfrm>
            <a:custGeom>
              <a:avLst/>
              <a:gdLst>
                <a:gd name="textAreaLeft" fmla="*/ 0 w 752760"/>
                <a:gd name="textAreaRight" fmla="*/ 753120 w 75276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34"/>
          <p:cNvGrpSpPr/>
          <p:nvPr/>
        </p:nvGrpSpPr>
        <p:grpSpPr>
          <a:xfrm>
            <a:off x="9144000" y="2637000"/>
            <a:ext cx="1366920" cy="792000"/>
            <a:chOff x="9144000" y="2637000"/>
            <a:chExt cx="1366920" cy="792000"/>
          </a:xfrm>
        </p:grpSpPr>
        <p:sp>
          <p:nvSpPr>
            <p:cNvPr id="121" name="Cloud"/>
            <p:cNvSpPr/>
            <p:nvPr/>
          </p:nvSpPr>
          <p:spPr>
            <a:xfrm>
              <a:off x="9343440" y="2637000"/>
              <a:ext cx="1046160" cy="576360"/>
            </a:xfrm>
            <a:custGeom>
              <a:avLst/>
              <a:gdLst>
                <a:gd name="textAreaLeft" fmla="*/ 144000 w 1046160"/>
                <a:gd name="textAreaRight" fmla="*/ 828000 w 1046160"/>
                <a:gd name="textAreaTop" fmla="*/ 87120 h 576360"/>
                <a:gd name="textAreaBottom" fmla="*/ 46224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Cloud"/>
            <p:cNvSpPr/>
            <p:nvPr/>
          </p:nvSpPr>
          <p:spPr>
            <a:xfrm>
              <a:off x="9144000" y="2853000"/>
              <a:ext cx="1046160" cy="576000"/>
            </a:xfrm>
            <a:custGeom>
              <a:avLst/>
              <a:gdLst>
                <a:gd name="textAreaLeft" fmla="*/ 144000 w 1046160"/>
                <a:gd name="textAreaRight" fmla="*/ 828000 w 1046160"/>
                <a:gd name="textAreaTop" fmla="*/ 87120 h 576000"/>
                <a:gd name="textAreaBottom" fmla="*/ 46188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Cloud"/>
            <p:cNvSpPr/>
            <p:nvPr/>
          </p:nvSpPr>
          <p:spPr>
            <a:xfrm>
              <a:off x="9464760" y="2853000"/>
              <a:ext cx="1046160" cy="576000"/>
            </a:xfrm>
            <a:custGeom>
              <a:avLst/>
              <a:gdLst>
                <a:gd name="textAreaLeft" fmla="*/ 144000 w 1046160"/>
                <a:gd name="textAreaRight" fmla="*/ 828000 w 1046160"/>
                <a:gd name="textAreaTop" fmla="*/ 87120 h 576000"/>
                <a:gd name="textAreaBottom" fmla="*/ 46188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Cloud"/>
            <p:cNvSpPr/>
            <p:nvPr/>
          </p:nvSpPr>
          <p:spPr>
            <a:xfrm>
              <a:off x="9343440" y="2779920"/>
              <a:ext cx="1046160" cy="576360"/>
            </a:xfrm>
            <a:custGeom>
              <a:avLst/>
              <a:gdLst>
                <a:gd name="textAreaLeft" fmla="*/ 144000 w 1046160"/>
                <a:gd name="textAreaRight" fmla="*/ 828000 w 1046160"/>
                <a:gd name="textAreaTop" fmla="*/ 87120 h 576360"/>
                <a:gd name="textAreaBottom" fmla="*/ 46224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Freeform 5"/>
          <p:cNvSpPr/>
          <p:nvPr/>
        </p:nvSpPr>
        <p:spPr>
          <a:xfrm>
            <a:off x="-520560" y="4365720"/>
            <a:ext cx="10545480" cy="1655640"/>
          </a:xfrm>
          <a:custGeom>
            <a:avLst/>
            <a:gdLst>
              <a:gd name="textAreaLeft" fmla="*/ 0 w 10545480"/>
              <a:gd name="textAreaRight" fmla="*/ 10545480 w 1054548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6654" h="466">
                <a:moveTo>
                  <a:pt x="323" y="466"/>
                </a:moveTo>
                <a:cubicBezTo>
                  <a:pt x="0" y="396"/>
                  <a:pt x="3133" y="20"/>
                  <a:pt x="4082" y="15"/>
                </a:cubicBezTo>
                <a:cubicBezTo>
                  <a:pt x="5035" y="0"/>
                  <a:pt x="6654" y="358"/>
                  <a:pt x="6019" y="434"/>
                </a:cubicBezTo>
                <a:lnTo>
                  <a:pt x="323" y="466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6"/>
          <p:cNvSpPr/>
          <p:nvPr/>
        </p:nvSpPr>
        <p:spPr>
          <a:xfrm>
            <a:off x="-450720" y="4365720"/>
            <a:ext cx="7076880" cy="1628640"/>
          </a:xfrm>
          <a:custGeom>
            <a:avLst/>
            <a:gdLst>
              <a:gd name="textAreaLeft" fmla="*/ 0 w 7076880"/>
              <a:gd name="textAreaRight" fmla="*/ 7077240 w 7076880"/>
              <a:gd name="textAreaTop" fmla="*/ 0 h 1628640"/>
              <a:gd name="textAreaBottom" fmla="*/ 1629000 h 1628640"/>
            </a:gdLst>
            <a:ahLst/>
            <a:rect l="textAreaLeft" t="textAreaTop" r="textAreaRight" b="textAreaBottom"/>
            <a:pathLst>
              <a:path w="4469" h="1026">
                <a:moveTo>
                  <a:pt x="242" y="1026"/>
                </a:moveTo>
                <a:cubicBezTo>
                  <a:pt x="0" y="890"/>
                  <a:pt x="1917" y="73"/>
                  <a:pt x="2543" y="46"/>
                </a:cubicBezTo>
                <a:cubicBezTo>
                  <a:pt x="3256" y="0"/>
                  <a:pt x="4469" y="706"/>
                  <a:pt x="3997" y="863"/>
                </a:cubicBezTo>
                <a:lnTo>
                  <a:pt x="242" y="1026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99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41"/>
          <p:cNvGrpSpPr/>
          <p:nvPr/>
        </p:nvGrpSpPr>
        <p:grpSpPr>
          <a:xfrm>
            <a:off x="2519280" y="2060640"/>
            <a:ext cx="1584000" cy="927000"/>
            <a:chOff x="2519280" y="2060640"/>
            <a:chExt cx="1584000" cy="927000"/>
          </a:xfrm>
        </p:grpSpPr>
        <p:sp>
          <p:nvSpPr>
            <p:cNvPr id="128" name="Cloud"/>
            <p:cNvSpPr/>
            <p:nvPr/>
          </p:nvSpPr>
          <p:spPr>
            <a:xfrm>
              <a:off x="2652120" y="2383920"/>
              <a:ext cx="897120" cy="426960"/>
            </a:xfrm>
            <a:custGeom>
              <a:avLst/>
              <a:gdLst>
                <a:gd name="textAreaLeft" fmla="*/ 123120 w 897120"/>
                <a:gd name="textAreaRight" fmla="*/ 709920 w 897120"/>
                <a:gd name="textAreaTop" fmla="*/ 64440 h 426960"/>
                <a:gd name="textAreaBottom" fmla="*/ 34308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Cloud"/>
            <p:cNvSpPr/>
            <p:nvPr/>
          </p:nvSpPr>
          <p:spPr>
            <a:xfrm>
              <a:off x="2519280" y="2433960"/>
              <a:ext cx="897120" cy="428760"/>
            </a:xfrm>
            <a:custGeom>
              <a:avLst/>
              <a:gdLst>
                <a:gd name="textAreaLeft" fmla="*/ 123120 w 897120"/>
                <a:gd name="textAreaRight" fmla="*/ 709920 w 897120"/>
                <a:gd name="textAreaTop" fmla="*/ 64440 h 428760"/>
                <a:gd name="textAreaBottom" fmla="*/ 34380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Cloud"/>
            <p:cNvSpPr/>
            <p:nvPr/>
          </p:nvSpPr>
          <p:spPr>
            <a:xfrm>
              <a:off x="3206160" y="2474640"/>
              <a:ext cx="897120" cy="428760"/>
            </a:xfrm>
            <a:custGeom>
              <a:avLst/>
              <a:gdLst>
                <a:gd name="textAreaLeft" fmla="*/ 123120 w 897120"/>
                <a:gd name="textAreaRight" fmla="*/ 709920 w 897120"/>
                <a:gd name="textAreaTop" fmla="*/ 64440 h 428760"/>
                <a:gd name="textAreaBottom" fmla="*/ 34380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Cloud"/>
            <p:cNvSpPr/>
            <p:nvPr/>
          </p:nvSpPr>
          <p:spPr>
            <a:xfrm>
              <a:off x="2567520" y="2233440"/>
              <a:ext cx="700200" cy="426960"/>
            </a:xfrm>
            <a:custGeom>
              <a:avLst/>
              <a:gdLst>
                <a:gd name="textAreaLeft" fmla="*/ 96120 w 700200"/>
                <a:gd name="textAreaRight" fmla="*/ 554040 w 700200"/>
                <a:gd name="textAreaTop" fmla="*/ 64440 h 426960"/>
                <a:gd name="textAreaBottom" fmla="*/ 34308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Cloud"/>
            <p:cNvSpPr/>
            <p:nvPr/>
          </p:nvSpPr>
          <p:spPr>
            <a:xfrm>
              <a:off x="2567520" y="2060640"/>
              <a:ext cx="540000" cy="637560"/>
            </a:xfrm>
            <a:custGeom>
              <a:avLst/>
              <a:gdLst>
                <a:gd name="textAreaLeft" fmla="*/ 74520 w 540000"/>
                <a:gd name="textAreaRight" fmla="*/ 427680 w 540000"/>
                <a:gd name="textAreaTop" fmla="*/ 96120 h 637560"/>
                <a:gd name="textAreaBottom" fmla="*/ 511920 h 63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Cloud"/>
            <p:cNvSpPr/>
            <p:nvPr/>
          </p:nvSpPr>
          <p:spPr>
            <a:xfrm>
              <a:off x="2666520" y="2558880"/>
              <a:ext cx="896760" cy="428760"/>
            </a:xfrm>
            <a:custGeom>
              <a:avLst/>
              <a:gdLst>
                <a:gd name="textAreaLeft" fmla="*/ 123120 w 896760"/>
                <a:gd name="textAreaRight" fmla="*/ 709560 w 896760"/>
                <a:gd name="textAreaTop" fmla="*/ 64440 h 428760"/>
                <a:gd name="textAreaBottom" fmla="*/ 34380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48"/>
          <p:cNvGrpSpPr/>
          <p:nvPr/>
        </p:nvGrpSpPr>
        <p:grpSpPr>
          <a:xfrm>
            <a:off x="8064360" y="1701720"/>
            <a:ext cx="936360" cy="576000"/>
            <a:chOff x="8064360" y="1701720"/>
            <a:chExt cx="936360" cy="576000"/>
          </a:xfrm>
        </p:grpSpPr>
        <p:sp>
          <p:nvSpPr>
            <p:cNvPr id="135" name="Cloud"/>
            <p:cNvSpPr/>
            <p:nvPr/>
          </p:nvSpPr>
          <p:spPr>
            <a:xfrm>
              <a:off x="8143560" y="1903320"/>
              <a:ext cx="530280" cy="264960"/>
            </a:xfrm>
            <a:custGeom>
              <a:avLst/>
              <a:gdLst>
                <a:gd name="textAreaLeft" fmla="*/ 72720 w 530280"/>
                <a:gd name="textAreaRight" fmla="*/ 419760 w 530280"/>
                <a:gd name="textAreaTop" fmla="*/ 39960 h 264960"/>
                <a:gd name="textAreaBottom" fmla="*/ 212760 h 2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Cloud"/>
            <p:cNvSpPr/>
            <p:nvPr/>
          </p:nvSpPr>
          <p:spPr>
            <a:xfrm>
              <a:off x="8064360" y="1933200"/>
              <a:ext cx="530280" cy="266400"/>
            </a:xfrm>
            <a:custGeom>
              <a:avLst/>
              <a:gdLst>
                <a:gd name="textAreaLeft" fmla="*/ 72720 w 530280"/>
                <a:gd name="textAreaRight" fmla="*/ 419760 w 530280"/>
                <a:gd name="textAreaTop" fmla="*/ 39960 h 266400"/>
                <a:gd name="textAreaBottom" fmla="*/ 213840 h 26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Cloud"/>
            <p:cNvSpPr/>
            <p:nvPr/>
          </p:nvSpPr>
          <p:spPr>
            <a:xfrm>
              <a:off x="8470440" y="1959120"/>
              <a:ext cx="530280" cy="266400"/>
            </a:xfrm>
            <a:custGeom>
              <a:avLst/>
              <a:gdLst>
                <a:gd name="textAreaLeft" fmla="*/ 72720 w 530280"/>
                <a:gd name="textAreaRight" fmla="*/ 419760 w 530280"/>
                <a:gd name="textAreaTop" fmla="*/ 39960 h 266400"/>
                <a:gd name="textAreaBottom" fmla="*/ 213840 h 26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Cloud"/>
            <p:cNvSpPr/>
            <p:nvPr/>
          </p:nvSpPr>
          <p:spPr>
            <a:xfrm>
              <a:off x="8092800" y="1809720"/>
              <a:ext cx="414720" cy="264960"/>
            </a:xfrm>
            <a:custGeom>
              <a:avLst/>
              <a:gdLst>
                <a:gd name="textAreaLeft" fmla="*/ 56880 w 414720"/>
                <a:gd name="textAreaRight" fmla="*/ 328320 w 414720"/>
                <a:gd name="textAreaTop" fmla="*/ 39960 h 264960"/>
                <a:gd name="textAreaBottom" fmla="*/ 212760 h 2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Cloud"/>
            <p:cNvSpPr/>
            <p:nvPr/>
          </p:nvSpPr>
          <p:spPr>
            <a:xfrm>
              <a:off x="8092800" y="1701720"/>
              <a:ext cx="319320" cy="397080"/>
            </a:xfrm>
            <a:custGeom>
              <a:avLst/>
              <a:gdLst>
                <a:gd name="textAreaLeft" fmla="*/ 43920 w 319320"/>
                <a:gd name="textAreaRight" fmla="*/ 252720 w 319320"/>
                <a:gd name="textAreaTop" fmla="*/ 59760 h 397080"/>
                <a:gd name="textAreaBottom" fmla="*/ 318960 h 3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Cloud"/>
            <p:cNvSpPr/>
            <p:nvPr/>
          </p:nvSpPr>
          <p:spPr>
            <a:xfrm>
              <a:off x="8151120" y="2011320"/>
              <a:ext cx="530280" cy="266400"/>
            </a:xfrm>
            <a:custGeom>
              <a:avLst/>
              <a:gdLst>
                <a:gd name="textAreaLeft" fmla="*/ 72720 w 530280"/>
                <a:gd name="textAreaRight" fmla="*/ 419760 w 530280"/>
                <a:gd name="textAreaTop" fmla="*/ 39960 h 266400"/>
                <a:gd name="textAreaBottom" fmla="*/ 213840 h 26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AutoShape 41"/>
          <p:cNvSpPr/>
          <p:nvPr/>
        </p:nvSpPr>
        <p:spPr>
          <a:xfrm>
            <a:off x="3851280" y="476280"/>
            <a:ext cx="182880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56"/>
          <p:cNvGrpSpPr/>
          <p:nvPr/>
        </p:nvGrpSpPr>
        <p:grpSpPr>
          <a:xfrm>
            <a:off x="1726920" y="4491720"/>
            <a:ext cx="2580840" cy="1374120"/>
            <a:chOff x="1726920" y="4491720"/>
            <a:chExt cx="2580840" cy="1374120"/>
          </a:xfrm>
        </p:grpSpPr>
        <p:sp>
          <p:nvSpPr>
            <p:cNvPr id="143" name="Freeform 135"/>
            <p:cNvSpPr/>
            <p:nvPr/>
          </p:nvSpPr>
          <p:spPr>
            <a:xfrm rot="930000">
              <a:off x="3426480" y="5050440"/>
              <a:ext cx="799200" cy="721800"/>
            </a:xfrm>
            <a:custGeom>
              <a:avLst/>
              <a:gdLst>
                <a:gd name="textAreaLeft" fmla="*/ 0 w 799200"/>
                <a:gd name="textAreaRight" fmla="*/ 799560 w 799200"/>
                <a:gd name="textAreaTop" fmla="*/ 0 h 721800"/>
                <a:gd name="textAreaBottom" fmla="*/ 722160 h 72180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36"/>
            <p:cNvSpPr/>
            <p:nvPr/>
          </p:nvSpPr>
          <p:spPr>
            <a:xfrm rot="930000">
              <a:off x="2957400" y="4903920"/>
              <a:ext cx="799200" cy="721800"/>
            </a:xfrm>
            <a:custGeom>
              <a:avLst/>
              <a:gdLst>
                <a:gd name="textAreaLeft" fmla="*/ 0 w 799200"/>
                <a:gd name="textAreaRight" fmla="*/ 799560 w 799200"/>
                <a:gd name="textAreaTop" fmla="*/ 0 h 721800"/>
                <a:gd name="textAreaBottom" fmla="*/ 722160 h 72180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7"/>
            <p:cNvSpPr/>
            <p:nvPr/>
          </p:nvSpPr>
          <p:spPr>
            <a:xfrm rot="930000">
              <a:off x="2345400" y="4750560"/>
              <a:ext cx="799200" cy="721800"/>
            </a:xfrm>
            <a:custGeom>
              <a:avLst/>
              <a:gdLst>
                <a:gd name="textAreaLeft" fmla="*/ 0 w 799200"/>
                <a:gd name="textAreaRight" fmla="*/ 799560 w 799200"/>
                <a:gd name="textAreaTop" fmla="*/ 0 h 721800"/>
                <a:gd name="textAreaBottom" fmla="*/ 722160 h 72180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38"/>
            <p:cNvSpPr/>
            <p:nvPr/>
          </p:nvSpPr>
          <p:spPr>
            <a:xfrm rot="930000">
              <a:off x="1808640" y="4585320"/>
              <a:ext cx="799200" cy="721800"/>
            </a:xfrm>
            <a:custGeom>
              <a:avLst/>
              <a:gdLst>
                <a:gd name="textAreaLeft" fmla="*/ 0 w 799200"/>
                <a:gd name="textAreaRight" fmla="*/ 799560 w 799200"/>
                <a:gd name="textAreaTop" fmla="*/ 0 h 721800"/>
                <a:gd name="textAreaBottom" fmla="*/ 722160 h 72180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Freeform 7"/>
          <p:cNvSpPr/>
          <p:nvPr/>
        </p:nvSpPr>
        <p:spPr>
          <a:xfrm>
            <a:off x="0" y="4784760"/>
            <a:ext cx="7631280" cy="2073240"/>
          </a:xfrm>
          <a:custGeom>
            <a:avLst/>
            <a:gdLst>
              <a:gd name="textAreaLeft" fmla="*/ 0 w 7631280"/>
              <a:gd name="textAreaRight" fmla="*/ 7631640 w 7631280"/>
              <a:gd name="textAreaTop" fmla="*/ 0 h 2073240"/>
              <a:gd name="textAreaBottom" fmla="*/ 2073600 h 2073240"/>
            </a:gdLst>
            <a:ahLst/>
            <a:rect l="textAreaLeft" t="textAreaTop" r="textAreaRight" b="textAreaBottom"/>
            <a:pathLst>
              <a:path w="4807" h="1306">
                <a:moveTo>
                  <a:pt x="0" y="106"/>
                </a:moveTo>
                <a:lnTo>
                  <a:pt x="16" y="1306"/>
                </a:lnTo>
                <a:lnTo>
                  <a:pt x="4289" y="1291"/>
                </a:lnTo>
                <a:cubicBezTo>
                  <a:pt x="4807" y="1172"/>
                  <a:pt x="3572" y="776"/>
                  <a:pt x="3124" y="590"/>
                </a:cubicBezTo>
                <a:cubicBezTo>
                  <a:pt x="2676" y="404"/>
                  <a:pt x="2125" y="255"/>
                  <a:pt x="1604" y="174"/>
                </a:cubicBezTo>
                <a:cubicBezTo>
                  <a:pt x="893" y="0"/>
                  <a:pt x="0" y="106"/>
                  <a:pt x="0" y="106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ccff3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62"/>
          <p:cNvGrpSpPr/>
          <p:nvPr/>
        </p:nvGrpSpPr>
        <p:grpSpPr>
          <a:xfrm>
            <a:off x="-19080" y="6237360"/>
            <a:ext cx="2531880" cy="647280"/>
            <a:chOff x="-19080" y="6237360"/>
            <a:chExt cx="2531880" cy="647280"/>
          </a:xfrm>
        </p:grpSpPr>
        <p:sp>
          <p:nvSpPr>
            <p:cNvPr id="149" name="Freeform 71"/>
            <p:cNvSpPr/>
            <p:nvPr/>
          </p:nvSpPr>
          <p:spPr>
            <a:xfrm>
              <a:off x="1697760" y="6251400"/>
              <a:ext cx="815040" cy="633240"/>
            </a:xfrm>
            <a:custGeom>
              <a:avLst/>
              <a:gdLst>
                <a:gd name="textAreaLeft" fmla="*/ 0 w 815040"/>
                <a:gd name="textAreaRight" fmla="*/ 815400 w 81504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2"/>
            <p:cNvSpPr/>
            <p:nvPr/>
          </p:nvSpPr>
          <p:spPr>
            <a:xfrm>
              <a:off x="1196280" y="6237360"/>
              <a:ext cx="815040" cy="633240"/>
            </a:xfrm>
            <a:custGeom>
              <a:avLst/>
              <a:gdLst>
                <a:gd name="textAreaLeft" fmla="*/ 0 w 815040"/>
                <a:gd name="textAreaRight" fmla="*/ 815400 w 81504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73"/>
            <p:cNvSpPr/>
            <p:nvPr/>
          </p:nvSpPr>
          <p:spPr>
            <a:xfrm>
              <a:off x="553320" y="6251400"/>
              <a:ext cx="815040" cy="633240"/>
            </a:xfrm>
            <a:custGeom>
              <a:avLst/>
              <a:gdLst>
                <a:gd name="textAreaLeft" fmla="*/ 0 w 815040"/>
                <a:gd name="textAreaRight" fmla="*/ 815400 w 81504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74"/>
            <p:cNvSpPr/>
            <p:nvPr/>
          </p:nvSpPr>
          <p:spPr>
            <a:xfrm>
              <a:off x="-19080" y="6237360"/>
              <a:ext cx="815040" cy="633240"/>
            </a:xfrm>
            <a:custGeom>
              <a:avLst/>
              <a:gdLst>
                <a:gd name="textAreaLeft" fmla="*/ 0 w 815040"/>
                <a:gd name="textAreaRight" fmla="*/ 815400 w 81504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67"/>
          <p:cNvGrpSpPr/>
          <p:nvPr/>
        </p:nvGrpSpPr>
        <p:grpSpPr>
          <a:xfrm>
            <a:off x="2015640" y="4724280"/>
            <a:ext cx="7186680" cy="1958760"/>
            <a:chOff x="2015640" y="4724280"/>
            <a:chExt cx="7186680" cy="1958760"/>
          </a:xfrm>
        </p:grpSpPr>
        <p:grpSp>
          <p:nvGrpSpPr>
            <p:cNvPr id="154" name="Group 68"/>
            <p:cNvGrpSpPr/>
            <p:nvPr/>
          </p:nvGrpSpPr>
          <p:grpSpPr>
            <a:xfrm>
              <a:off x="6610320" y="4724280"/>
              <a:ext cx="2549520" cy="647280"/>
              <a:chOff x="6610320" y="4724280"/>
              <a:chExt cx="2549520" cy="647280"/>
            </a:xfrm>
          </p:grpSpPr>
          <p:sp>
            <p:nvSpPr>
              <p:cNvPr id="155" name="Freeform 100"/>
              <p:cNvSpPr/>
              <p:nvPr/>
            </p:nvSpPr>
            <p:spPr>
              <a:xfrm>
                <a:off x="8339040" y="473832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01"/>
              <p:cNvSpPr/>
              <p:nvPr/>
            </p:nvSpPr>
            <p:spPr>
              <a:xfrm>
                <a:off x="7834320" y="472428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02"/>
              <p:cNvSpPr/>
              <p:nvPr/>
            </p:nvSpPr>
            <p:spPr>
              <a:xfrm>
                <a:off x="7186680" y="473832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03"/>
              <p:cNvSpPr/>
              <p:nvPr/>
            </p:nvSpPr>
            <p:spPr>
              <a:xfrm>
                <a:off x="6610320" y="472428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3"/>
            <p:cNvGrpSpPr/>
            <p:nvPr/>
          </p:nvGrpSpPr>
          <p:grpSpPr>
            <a:xfrm>
              <a:off x="2015640" y="4862160"/>
              <a:ext cx="3627720" cy="1820880"/>
              <a:chOff x="2015640" y="4862160"/>
              <a:chExt cx="3627720" cy="1820880"/>
            </a:xfrm>
          </p:grpSpPr>
          <p:sp>
            <p:nvSpPr>
              <p:cNvPr id="160" name="Freeform 105"/>
              <p:cNvSpPr/>
              <p:nvPr/>
            </p:nvSpPr>
            <p:spPr>
              <a:xfrm rot="20519400">
                <a:off x="4406040" y="5020200"/>
                <a:ext cx="1145160" cy="774720"/>
              </a:xfrm>
              <a:custGeom>
                <a:avLst/>
                <a:gdLst>
                  <a:gd name="textAreaLeft" fmla="*/ 0 w 1145160"/>
                  <a:gd name="textAreaRight" fmla="*/ 1145520 w 1145160"/>
                  <a:gd name="textAreaTop" fmla="*/ 0 h 774720"/>
                  <a:gd name="textAreaBottom" fmla="*/ 775080 h 77472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06"/>
              <p:cNvSpPr/>
              <p:nvPr/>
            </p:nvSpPr>
            <p:spPr>
              <a:xfrm rot="20519400">
                <a:off x="3731400" y="5221800"/>
                <a:ext cx="1145160" cy="774720"/>
              </a:xfrm>
              <a:custGeom>
                <a:avLst/>
                <a:gdLst>
                  <a:gd name="textAreaLeft" fmla="*/ 0 w 1145160"/>
                  <a:gd name="textAreaRight" fmla="*/ 1145520 w 1145160"/>
                  <a:gd name="textAreaTop" fmla="*/ 0 h 774720"/>
                  <a:gd name="textAreaBottom" fmla="*/ 775080 h 77472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07"/>
              <p:cNvSpPr/>
              <p:nvPr/>
            </p:nvSpPr>
            <p:spPr>
              <a:xfrm rot="20519400">
                <a:off x="2876760" y="5517360"/>
                <a:ext cx="1145160" cy="774720"/>
              </a:xfrm>
              <a:custGeom>
                <a:avLst/>
                <a:gdLst>
                  <a:gd name="textAreaLeft" fmla="*/ 0 w 1145160"/>
                  <a:gd name="textAreaRight" fmla="*/ 1145520 w 1145160"/>
                  <a:gd name="textAreaTop" fmla="*/ 0 h 774720"/>
                  <a:gd name="textAreaBottom" fmla="*/ 775080 h 77472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08"/>
              <p:cNvSpPr/>
              <p:nvPr/>
            </p:nvSpPr>
            <p:spPr>
              <a:xfrm rot="20519400">
                <a:off x="2107080" y="5749920"/>
                <a:ext cx="1145160" cy="774720"/>
              </a:xfrm>
              <a:custGeom>
                <a:avLst/>
                <a:gdLst>
                  <a:gd name="textAreaLeft" fmla="*/ 0 w 1145160"/>
                  <a:gd name="textAreaRight" fmla="*/ 1145520 w 1145160"/>
                  <a:gd name="textAreaTop" fmla="*/ 0 h 774720"/>
                  <a:gd name="textAreaBottom" fmla="*/ 775080 h 77472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8"/>
            <p:cNvGrpSpPr/>
            <p:nvPr/>
          </p:nvGrpSpPr>
          <p:grpSpPr>
            <a:xfrm>
              <a:off x="4494960" y="4776120"/>
              <a:ext cx="2073960" cy="832680"/>
              <a:chOff x="4494960" y="4776120"/>
              <a:chExt cx="2073960" cy="832680"/>
            </a:xfrm>
          </p:grpSpPr>
          <p:sp>
            <p:nvSpPr>
              <p:cNvPr id="165" name="Freeform 120"/>
              <p:cNvSpPr/>
              <p:nvPr/>
            </p:nvSpPr>
            <p:spPr>
              <a:xfrm rot="21228600">
                <a:off x="5887440" y="480888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21"/>
              <p:cNvSpPr/>
              <p:nvPr/>
            </p:nvSpPr>
            <p:spPr>
              <a:xfrm rot="21228600">
                <a:off x="5489640" y="483768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22"/>
              <p:cNvSpPr/>
              <p:nvPr/>
            </p:nvSpPr>
            <p:spPr>
              <a:xfrm rot="21228600">
                <a:off x="4981680" y="490680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3"/>
              <p:cNvSpPr/>
              <p:nvPr/>
            </p:nvSpPr>
            <p:spPr>
              <a:xfrm rot="21228600">
                <a:off x="4527000" y="494208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83"/>
            <p:cNvGrpSpPr/>
            <p:nvPr/>
          </p:nvGrpSpPr>
          <p:grpSpPr>
            <a:xfrm>
              <a:off x="6035400" y="4725720"/>
              <a:ext cx="2016000" cy="647640"/>
              <a:chOff x="6035400" y="4725720"/>
              <a:chExt cx="2016000" cy="647640"/>
            </a:xfrm>
          </p:grpSpPr>
          <p:sp>
            <p:nvSpPr>
              <p:cNvPr id="170" name="Freeform 125"/>
              <p:cNvSpPr/>
              <p:nvPr/>
            </p:nvSpPr>
            <p:spPr>
              <a:xfrm>
                <a:off x="7402320" y="4739760"/>
                <a:ext cx="649080" cy="63360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600"/>
                  <a:gd name="textAreaBottom" fmla="*/ 633960 h 63360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26"/>
              <p:cNvSpPr/>
              <p:nvPr/>
            </p:nvSpPr>
            <p:spPr>
              <a:xfrm>
                <a:off x="7003440" y="4725720"/>
                <a:ext cx="649080" cy="63360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600"/>
                  <a:gd name="textAreaBottom" fmla="*/ 633960 h 63360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27"/>
              <p:cNvSpPr/>
              <p:nvPr/>
            </p:nvSpPr>
            <p:spPr>
              <a:xfrm>
                <a:off x="6491160" y="4739760"/>
                <a:ext cx="649080" cy="63360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600"/>
                  <a:gd name="textAreaBottom" fmla="*/ 633960 h 63360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28"/>
              <p:cNvSpPr/>
              <p:nvPr/>
            </p:nvSpPr>
            <p:spPr>
              <a:xfrm>
                <a:off x="6035400" y="4725720"/>
                <a:ext cx="649080" cy="63360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600"/>
                  <a:gd name="textAreaBottom" fmla="*/ 633960 h 63360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88"/>
            <p:cNvGrpSpPr/>
            <p:nvPr/>
          </p:nvGrpSpPr>
          <p:grpSpPr>
            <a:xfrm>
              <a:off x="7186320" y="4724280"/>
              <a:ext cx="2016000" cy="647280"/>
              <a:chOff x="7186320" y="4724280"/>
              <a:chExt cx="2016000" cy="647280"/>
            </a:xfrm>
          </p:grpSpPr>
          <p:sp>
            <p:nvSpPr>
              <p:cNvPr id="175" name="Freeform 130"/>
              <p:cNvSpPr/>
              <p:nvPr/>
            </p:nvSpPr>
            <p:spPr>
              <a:xfrm>
                <a:off x="8553240" y="473832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31"/>
              <p:cNvSpPr/>
              <p:nvPr/>
            </p:nvSpPr>
            <p:spPr>
              <a:xfrm>
                <a:off x="8154360" y="472428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32"/>
              <p:cNvSpPr/>
              <p:nvPr/>
            </p:nvSpPr>
            <p:spPr>
              <a:xfrm>
                <a:off x="7642080" y="473832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33"/>
              <p:cNvSpPr/>
              <p:nvPr/>
            </p:nvSpPr>
            <p:spPr>
              <a:xfrm>
                <a:off x="7186320" y="472428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Freeform 9"/>
          <p:cNvSpPr/>
          <p:nvPr/>
        </p:nvSpPr>
        <p:spPr>
          <a:xfrm>
            <a:off x="1541520" y="5029200"/>
            <a:ext cx="7653240" cy="1854360"/>
          </a:xfrm>
          <a:custGeom>
            <a:avLst/>
            <a:gdLst>
              <a:gd name="textAreaLeft" fmla="*/ 0 w 7653240"/>
              <a:gd name="textAreaRight" fmla="*/ 7653600 w 7653240"/>
              <a:gd name="textAreaTop" fmla="*/ 0 h 1854360"/>
              <a:gd name="textAreaBottom" fmla="*/ 1854720 h 1854360"/>
            </a:gdLst>
            <a:ahLst/>
            <a:rect l="textAreaLeft" t="textAreaTop" r="textAreaRight" b="textAreaBottom"/>
            <a:pathLst>
              <a:path w="4821" h="1168">
                <a:moveTo>
                  <a:pt x="4821" y="0"/>
                </a:moveTo>
                <a:lnTo>
                  <a:pt x="4821" y="1168"/>
                </a:lnTo>
                <a:lnTo>
                  <a:pt x="469" y="1136"/>
                </a:lnTo>
                <a:cubicBezTo>
                  <a:pt x="0" y="973"/>
                  <a:pt x="1269" y="352"/>
                  <a:pt x="2005" y="192"/>
                </a:cubicBezTo>
                <a:cubicBezTo>
                  <a:pt x="2741" y="32"/>
                  <a:pt x="4821" y="0"/>
                  <a:pt x="4821" y="0"/>
                </a:cubicBez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00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94"/>
          <p:cNvGrpSpPr/>
          <p:nvPr/>
        </p:nvGrpSpPr>
        <p:grpSpPr>
          <a:xfrm>
            <a:off x="2050920" y="6237360"/>
            <a:ext cx="7129440" cy="647280"/>
            <a:chOff x="2050920" y="6237360"/>
            <a:chExt cx="7129440" cy="647280"/>
          </a:xfrm>
        </p:grpSpPr>
        <p:grpSp>
          <p:nvGrpSpPr>
            <p:cNvPr id="181" name="Group 95"/>
            <p:cNvGrpSpPr/>
            <p:nvPr/>
          </p:nvGrpSpPr>
          <p:grpSpPr>
            <a:xfrm>
              <a:off x="6630840" y="6237360"/>
              <a:ext cx="2549520" cy="647280"/>
              <a:chOff x="6630840" y="6237360"/>
              <a:chExt cx="2549520" cy="647280"/>
            </a:xfrm>
          </p:grpSpPr>
          <p:sp>
            <p:nvSpPr>
              <p:cNvPr id="182" name="Freeform 44"/>
              <p:cNvSpPr/>
              <p:nvPr/>
            </p:nvSpPr>
            <p:spPr>
              <a:xfrm>
                <a:off x="8359560" y="625140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56"/>
              <p:cNvSpPr/>
              <p:nvPr/>
            </p:nvSpPr>
            <p:spPr>
              <a:xfrm>
                <a:off x="7854840" y="623736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57"/>
              <p:cNvSpPr/>
              <p:nvPr/>
            </p:nvSpPr>
            <p:spPr>
              <a:xfrm>
                <a:off x="7207200" y="625140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58"/>
              <p:cNvSpPr/>
              <p:nvPr/>
            </p:nvSpPr>
            <p:spPr>
              <a:xfrm>
                <a:off x="6630840" y="623736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00"/>
            <p:cNvGrpSpPr/>
            <p:nvPr/>
          </p:nvGrpSpPr>
          <p:grpSpPr>
            <a:xfrm>
              <a:off x="4066920" y="6237360"/>
              <a:ext cx="2549520" cy="647280"/>
              <a:chOff x="4066920" y="6237360"/>
              <a:chExt cx="2549520" cy="647280"/>
            </a:xfrm>
          </p:grpSpPr>
          <p:sp>
            <p:nvSpPr>
              <p:cNvPr id="187" name="Freeform 61"/>
              <p:cNvSpPr/>
              <p:nvPr/>
            </p:nvSpPr>
            <p:spPr>
              <a:xfrm>
                <a:off x="5795640" y="625140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62"/>
              <p:cNvSpPr/>
              <p:nvPr/>
            </p:nvSpPr>
            <p:spPr>
              <a:xfrm>
                <a:off x="5290920" y="623736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63"/>
              <p:cNvSpPr/>
              <p:nvPr/>
            </p:nvSpPr>
            <p:spPr>
              <a:xfrm>
                <a:off x="4643280" y="625140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64"/>
              <p:cNvSpPr/>
              <p:nvPr/>
            </p:nvSpPr>
            <p:spPr>
              <a:xfrm>
                <a:off x="4066920" y="623736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05"/>
            <p:cNvGrpSpPr/>
            <p:nvPr/>
          </p:nvGrpSpPr>
          <p:grpSpPr>
            <a:xfrm>
              <a:off x="2527200" y="6237360"/>
              <a:ext cx="2549520" cy="647280"/>
              <a:chOff x="2527200" y="6237360"/>
              <a:chExt cx="2549520" cy="647280"/>
            </a:xfrm>
          </p:grpSpPr>
          <p:sp>
            <p:nvSpPr>
              <p:cNvPr id="192" name="Freeform 66"/>
              <p:cNvSpPr/>
              <p:nvPr/>
            </p:nvSpPr>
            <p:spPr>
              <a:xfrm>
                <a:off x="4255920" y="625140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67"/>
              <p:cNvSpPr/>
              <p:nvPr/>
            </p:nvSpPr>
            <p:spPr>
              <a:xfrm>
                <a:off x="3751200" y="623736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68"/>
              <p:cNvSpPr/>
              <p:nvPr/>
            </p:nvSpPr>
            <p:spPr>
              <a:xfrm>
                <a:off x="3103560" y="625140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69"/>
              <p:cNvSpPr/>
              <p:nvPr/>
            </p:nvSpPr>
            <p:spPr>
              <a:xfrm>
                <a:off x="2527200" y="623736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110"/>
            <p:cNvGrpSpPr/>
            <p:nvPr/>
          </p:nvGrpSpPr>
          <p:grpSpPr>
            <a:xfrm>
              <a:off x="2050920" y="6237360"/>
              <a:ext cx="2015640" cy="647280"/>
              <a:chOff x="2050920" y="6237360"/>
              <a:chExt cx="2015640" cy="647280"/>
            </a:xfrm>
          </p:grpSpPr>
          <p:sp>
            <p:nvSpPr>
              <p:cNvPr id="197" name="Freeform 78"/>
              <p:cNvSpPr/>
              <p:nvPr/>
            </p:nvSpPr>
            <p:spPr>
              <a:xfrm>
                <a:off x="3417840" y="6251400"/>
                <a:ext cx="648720" cy="633240"/>
              </a:xfrm>
              <a:custGeom>
                <a:avLst/>
                <a:gdLst>
                  <a:gd name="textAreaLeft" fmla="*/ 0 w 648720"/>
                  <a:gd name="textAreaRight" fmla="*/ 649080 w 64872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79"/>
              <p:cNvSpPr/>
              <p:nvPr/>
            </p:nvSpPr>
            <p:spPr>
              <a:xfrm>
                <a:off x="3018600" y="6237360"/>
                <a:ext cx="648720" cy="633240"/>
              </a:xfrm>
              <a:custGeom>
                <a:avLst/>
                <a:gdLst>
                  <a:gd name="textAreaLeft" fmla="*/ 0 w 648720"/>
                  <a:gd name="textAreaRight" fmla="*/ 649080 w 64872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80"/>
              <p:cNvSpPr/>
              <p:nvPr/>
            </p:nvSpPr>
            <p:spPr>
              <a:xfrm>
                <a:off x="2506680" y="6251400"/>
                <a:ext cx="648720" cy="633240"/>
              </a:xfrm>
              <a:custGeom>
                <a:avLst/>
                <a:gdLst>
                  <a:gd name="textAreaLeft" fmla="*/ 0 w 648720"/>
                  <a:gd name="textAreaRight" fmla="*/ 649080 w 64872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81"/>
              <p:cNvSpPr/>
              <p:nvPr/>
            </p:nvSpPr>
            <p:spPr>
              <a:xfrm>
                <a:off x="2050920" y="6237360"/>
                <a:ext cx="648720" cy="633240"/>
              </a:xfrm>
              <a:custGeom>
                <a:avLst/>
                <a:gdLst>
                  <a:gd name="textAreaLeft" fmla="*/ 0 w 648720"/>
                  <a:gd name="textAreaRight" fmla="*/ 649080 w 64872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15"/>
            <p:cNvGrpSpPr/>
            <p:nvPr/>
          </p:nvGrpSpPr>
          <p:grpSpPr>
            <a:xfrm>
              <a:off x="4284360" y="6237360"/>
              <a:ext cx="2016000" cy="647280"/>
              <a:chOff x="4284360" y="6237360"/>
              <a:chExt cx="2016000" cy="647280"/>
            </a:xfrm>
          </p:grpSpPr>
          <p:sp>
            <p:nvSpPr>
              <p:cNvPr id="202" name="Freeform 83"/>
              <p:cNvSpPr/>
              <p:nvPr/>
            </p:nvSpPr>
            <p:spPr>
              <a:xfrm>
                <a:off x="5651280" y="625140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84"/>
              <p:cNvSpPr/>
              <p:nvPr/>
            </p:nvSpPr>
            <p:spPr>
              <a:xfrm>
                <a:off x="5252400" y="623736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85"/>
              <p:cNvSpPr/>
              <p:nvPr/>
            </p:nvSpPr>
            <p:spPr>
              <a:xfrm>
                <a:off x="4740120" y="625140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86"/>
              <p:cNvSpPr/>
              <p:nvPr/>
            </p:nvSpPr>
            <p:spPr>
              <a:xfrm>
                <a:off x="4284360" y="623736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20"/>
            <p:cNvGrpSpPr/>
            <p:nvPr/>
          </p:nvGrpSpPr>
          <p:grpSpPr>
            <a:xfrm>
              <a:off x="5796000" y="6237360"/>
              <a:ext cx="2015640" cy="647280"/>
              <a:chOff x="5796000" y="6237360"/>
              <a:chExt cx="2015640" cy="647280"/>
            </a:xfrm>
          </p:grpSpPr>
          <p:sp>
            <p:nvSpPr>
              <p:cNvPr id="207" name="Freeform 88"/>
              <p:cNvSpPr/>
              <p:nvPr/>
            </p:nvSpPr>
            <p:spPr>
              <a:xfrm>
                <a:off x="7162920" y="6251400"/>
                <a:ext cx="648720" cy="633240"/>
              </a:xfrm>
              <a:custGeom>
                <a:avLst/>
                <a:gdLst>
                  <a:gd name="textAreaLeft" fmla="*/ 0 w 648720"/>
                  <a:gd name="textAreaRight" fmla="*/ 649080 w 64872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89"/>
              <p:cNvSpPr/>
              <p:nvPr/>
            </p:nvSpPr>
            <p:spPr>
              <a:xfrm>
                <a:off x="6763680" y="6237360"/>
                <a:ext cx="648720" cy="633240"/>
              </a:xfrm>
              <a:custGeom>
                <a:avLst/>
                <a:gdLst>
                  <a:gd name="textAreaLeft" fmla="*/ 0 w 648720"/>
                  <a:gd name="textAreaRight" fmla="*/ 649080 w 64872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90"/>
              <p:cNvSpPr/>
              <p:nvPr/>
            </p:nvSpPr>
            <p:spPr>
              <a:xfrm>
                <a:off x="6251760" y="6251400"/>
                <a:ext cx="648720" cy="633240"/>
              </a:xfrm>
              <a:custGeom>
                <a:avLst/>
                <a:gdLst>
                  <a:gd name="textAreaLeft" fmla="*/ 0 w 648720"/>
                  <a:gd name="textAreaRight" fmla="*/ 649080 w 64872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91"/>
              <p:cNvSpPr/>
              <p:nvPr/>
            </p:nvSpPr>
            <p:spPr>
              <a:xfrm>
                <a:off x="5796000" y="6237360"/>
                <a:ext cx="648720" cy="633240"/>
              </a:xfrm>
              <a:custGeom>
                <a:avLst/>
                <a:gdLst>
                  <a:gd name="textAreaLeft" fmla="*/ 0 w 648720"/>
                  <a:gd name="textAreaRight" fmla="*/ 649080 w 64872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25"/>
            <p:cNvGrpSpPr/>
            <p:nvPr/>
          </p:nvGrpSpPr>
          <p:grpSpPr>
            <a:xfrm>
              <a:off x="7092720" y="6237360"/>
              <a:ext cx="2016000" cy="647280"/>
              <a:chOff x="7092720" y="6237360"/>
              <a:chExt cx="2016000" cy="647280"/>
            </a:xfrm>
          </p:grpSpPr>
          <p:sp>
            <p:nvSpPr>
              <p:cNvPr id="212" name="Freeform 93"/>
              <p:cNvSpPr/>
              <p:nvPr/>
            </p:nvSpPr>
            <p:spPr>
              <a:xfrm>
                <a:off x="8459640" y="625140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94"/>
              <p:cNvSpPr/>
              <p:nvPr/>
            </p:nvSpPr>
            <p:spPr>
              <a:xfrm>
                <a:off x="8060760" y="623736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95"/>
              <p:cNvSpPr/>
              <p:nvPr/>
            </p:nvSpPr>
            <p:spPr>
              <a:xfrm>
                <a:off x="7548480" y="625140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96"/>
              <p:cNvSpPr/>
              <p:nvPr/>
            </p:nvSpPr>
            <p:spPr>
              <a:xfrm>
                <a:off x="7092720" y="623736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6" name="Group 130"/>
          <p:cNvGrpSpPr/>
          <p:nvPr/>
        </p:nvGrpSpPr>
        <p:grpSpPr>
          <a:xfrm>
            <a:off x="6584400" y="5155200"/>
            <a:ext cx="367920" cy="368640"/>
            <a:chOff x="6584400" y="5155200"/>
            <a:chExt cx="367920" cy="368640"/>
          </a:xfrm>
        </p:grpSpPr>
        <p:grpSp>
          <p:nvGrpSpPr>
            <p:cNvPr id="217" name="Group 131"/>
            <p:cNvGrpSpPr/>
            <p:nvPr/>
          </p:nvGrpSpPr>
          <p:grpSpPr>
            <a:xfrm>
              <a:off x="6588000" y="5157720"/>
              <a:ext cx="363240" cy="363240"/>
              <a:chOff x="6588000" y="5157720"/>
              <a:chExt cx="363240" cy="363240"/>
            </a:xfrm>
          </p:grpSpPr>
          <p:grpSp>
            <p:nvGrpSpPr>
              <p:cNvPr id="218" name="Group 132"/>
              <p:cNvGrpSpPr/>
              <p:nvPr/>
            </p:nvGrpSpPr>
            <p:grpSpPr>
              <a:xfrm>
                <a:off x="6588000" y="5157720"/>
                <a:ext cx="363240" cy="363240"/>
                <a:chOff x="6588000" y="5157720"/>
                <a:chExt cx="363240" cy="363240"/>
              </a:xfrm>
            </p:grpSpPr>
            <p:sp>
              <p:nvSpPr>
                <p:cNvPr id="219" name="Oval 163"/>
                <p:cNvSpPr/>
                <p:nvPr/>
              </p:nvSpPr>
              <p:spPr>
                <a:xfrm>
                  <a:off x="6588000" y="53017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164"/>
                <p:cNvSpPr/>
                <p:nvPr/>
              </p:nvSpPr>
              <p:spPr>
                <a:xfrm rot="5400000">
                  <a:off x="658728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Group 135"/>
              <p:cNvGrpSpPr/>
              <p:nvPr/>
            </p:nvGrpSpPr>
            <p:grpSpPr>
              <a:xfrm>
                <a:off x="6609240" y="5181480"/>
                <a:ext cx="317160" cy="317880"/>
                <a:chOff x="6609240" y="5181480"/>
                <a:chExt cx="317160" cy="317880"/>
              </a:xfrm>
            </p:grpSpPr>
            <p:sp>
              <p:nvSpPr>
                <p:cNvPr id="222" name="Oval 166"/>
                <p:cNvSpPr/>
                <p:nvPr/>
              </p:nvSpPr>
              <p:spPr>
                <a:xfrm rot="2700000">
                  <a:off x="6585120" y="53006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Oval 167"/>
                <p:cNvSpPr/>
                <p:nvPr/>
              </p:nvSpPr>
              <p:spPr>
                <a:xfrm rot="8100000">
                  <a:off x="658692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Group 138"/>
            <p:cNvGrpSpPr/>
            <p:nvPr/>
          </p:nvGrpSpPr>
          <p:grpSpPr>
            <a:xfrm>
              <a:off x="6584400" y="5155200"/>
              <a:ext cx="367920" cy="368640"/>
              <a:chOff x="6584400" y="5155200"/>
              <a:chExt cx="367920" cy="368640"/>
            </a:xfrm>
          </p:grpSpPr>
          <p:grpSp>
            <p:nvGrpSpPr>
              <p:cNvPr id="225" name="Group 139"/>
              <p:cNvGrpSpPr/>
              <p:nvPr/>
            </p:nvGrpSpPr>
            <p:grpSpPr>
              <a:xfrm>
                <a:off x="6584400" y="5155200"/>
                <a:ext cx="367920" cy="367920"/>
                <a:chOff x="6584400" y="5155200"/>
                <a:chExt cx="367920" cy="367920"/>
              </a:xfrm>
            </p:grpSpPr>
            <p:sp>
              <p:nvSpPr>
                <p:cNvPr id="226" name="Oval 170"/>
                <p:cNvSpPr/>
                <p:nvPr/>
              </p:nvSpPr>
              <p:spPr>
                <a:xfrm rot="1320000">
                  <a:off x="6586560" y="53010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171"/>
                <p:cNvSpPr/>
                <p:nvPr/>
              </p:nvSpPr>
              <p:spPr>
                <a:xfrm rot="6720000">
                  <a:off x="658728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Group 142"/>
              <p:cNvGrpSpPr/>
              <p:nvPr/>
            </p:nvGrpSpPr>
            <p:grpSpPr>
              <a:xfrm>
                <a:off x="6585840" y="5157360"/>
                <a:ext cx="366480" cy="366480"/>
                <a:chOff x="6585840" y="5157360"/>
                <a:chExt cx="366480" cy="366480"/>
              </a:xfrm>
            </p:grpSpPr>
            <p:sp>
              <p:nvSpPr>
                <p:cNvPr id="229" name="Oval 173"/>
                <p:cNvSpPr/>
                <p:nvPr/>
              </p:nvSpPr>
              <p:spPr>
                <a:xfrm rot="4020000">
                  <a:off x="6584400" y="52992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Oval 174"/>
                <p:cNvSpPr/>
                <p:nvPr/>
              </p:nvSpPr>
              <p:spPr>
                <a:xfrm rot="9420000">
                  <a:off x="6587280" y="5297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1" name="Oval 175"/>
            <p:cNvSpPr/>
            <p:nvPr/>
          </p:nvSpPr>
          <p:spPr>
            <a:xfrm>
              <a:off x="6710040" y="5285880"/>
              <a:ext cx="118800" cy="1058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146"/>
          <p:cNvGrpSpPr/>
          <p:nvPr/>
        </p:nvGrpSpPr>
        <p:grpSpPr>
          <a:xfrm>
            <a:off x="6081120" y="5226840"/>
            <a:ext cx="367920" cy="368280"/>
            <a:chOff x="6081120" y="5226840"/>
            <a:chExt cx="367920" cy="368280"/>
          </a:xfrm>
        </p:grpSpPr>
        <p:grpSp>
          <p:nvGrpSpPr>
            <p:cNvPr id="233" name="Group 147"/>
            <p:cNvGrpSpPr/>
            <p:nvPr/>
          </p:nvGrpSpPr>
          <p:grpSpPr>
            <a:xfrm>
              <a:off x="6084720" y="5229360"/>
              <a:ext cx="363240" cy="362880"/>
              <a:chOff x="6084720" y="5229360"/>
              <a:chExt cx="363240" cy="362880"/>
            </a:xfrm>
          </p:grpSpPr>
          <p:grpSp>
            <p:nvGrpSpPr>
              <p:cNvPr id="234" name="Group 148"/>
              <p:cNvGrpSpPr/>
              <p:nvPr/>
            </p:nvGrpSpPr>
            <p:grpSpPr>
              <a:xfrm>
                <a:off x="6084720" y="5229360"/>
                <a:ext cx="363240" cy="362880"/>
                <a:chOff x="6084720" y="5229360"/>
                <a:chExt cx="363240" cy="362880"/>
              </a:xfrm>
            </p:grpSpPr>
            <p:sp>
              <p:nvSpPr>
                <p:cNvPr id="235" name="Oval 179"/>
                <p:cNvSpPr/>
                <p:nvPr/>
              </p:nvSpPr>
              <p:spPr>
                <a:xfrm>
                  <a:off x="6084720" y="53733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Oval 180"/>
                <p:cNvSpPr/>
                <p:nvPr/>
              </p:nvSpPr>
              <p:spPr>
                <a:xfrm rot="5400000">
                  <a:off x="608400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Group 151"/>
              <p:cNvGrpSpPr/>
              <p:nvPr/>
            </p:nvGrpSpPr>
            <p:grpSpPr>
              <a:xfrm>
                <a:off x="6105960" y="5253120"/>
                <a:ext cx="317160" cy="317880"/>
                <a:chOff x="6105960" y="5253120"/>
                <a:chExt cx="317160" cy="317880"/>
              </a:xfrm>
            </p:grpSpPr>
            <p:sp>
              <p:nvSpPr>
                <p:cNvPr id="238" name="Oval 182"/>
                <p:cNvSpPr/>
                <p:nvPr/>
              </p:nvSpPr>
              <p:spPr>
                <a:xfrm rot="2700000">
                  <a:off x="6081840" y="53719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Oval 183"/>
                <p:cNvSpPr/>
                <p:nvPr/>
              </p:nvSpPr>
              <p:spPr>
                <a:xfrm rot="8100000">
                  <a:off x="6083640" y="5369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54"/>
            <p:cNvGrpSpPr/>
            <p:nvPr/>
          </p:nvGrpSpPr>
          <p:grpSpPr>
            <a:xfrm>
              <a:off x="6081120" y="5226840"/>
              <a:ext cx="367920" cy="368280"/>
              <a:chOff x="6081120" y="5226840"/>
              <a:chExt cx="367920" cy="368280"/>
            </a:xfrm>
          </p:grpSpPr>
          <p:grpSp>
            <p:nvGrpSpPr>
              <p:cNvPr id="241" name="Group 155"/>
              <p:cNvGrpSpPr/>
              <p:nvPr/>
            </p:nvGrpSpPr>
            <p:grpSpPr>
              <a:xfrm>
                <a:off x="6081120" y="5226840"/>
                <a:ext cx="367920" cy="367560"/>
                <a:chOff x="6081120" y="5226840"/>
                <a:chExt cx="367920" cy="367560"/>
              </a:xfrm>
            </p:grpSpPr>
            <p:sp>
              <p:nvSpPr>
                <p:cNvPr id="242" name="Oval 186"/>
                <p:cNvSpPr/>
                <p:nvPr/>
              </p:nvSpPr>
              <p:spPr>
                <a:xfrm rot="1320000">
                  <a:off x="6083280" y="53726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Oval 187"/>
                <p:cNvSpPr/>
                <p:nvPr/>
              </p:nvSpPr>
              <p:spPr>
                <a:xfrm rot="6720000">
                  <a:off x="608436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Group 158"/>
              <p:cNvGrpSpPr/>
              <p:nvPr/>
            </p:nvGrpSpPr>
            <p:grpSpPr>
              <a:xfrm>
                <a:off x="6082560" y="5229000"/>
                <a:ext cx="366480" cy="366120"/>
                <a:chOff x="6082560" y="5229000"/>
                <a:chExt cx="366480" cy="366120"/>
              </a:xfrm>
            </p:grpSpPr>
            <p:sp>
              <p:nvSpPr>
                <p:cNvPr id="245" name="Oval 189"/>
                <p:cNvSpPr/>
                <p:nvPr/>
              </p:nvSpPr>
              <p:spPr>
                <a:xfrm rot="4020000">
                  <a:off x="6081120" y="53708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Oval 190"/>
                <p:cNvSpPr/>
                <p:nvPr/>
              </p:nvSpPr>
              <p:spPr>
                <a:xfrm rot="9420000">
                  <a:off x="6084000" y="5369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7" name="Oval 191"/>
            <p:cNvSpPr/>
            <p:nvPr/>
          </p:nvSpPr>
          <p:spPr>
            <a:xfrm>
              <a:off x="6206760" y="5357520"/>
              <a:ext cx="118800" cy="1058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162"/>
          <p:cNvGrpSpPr/>
          <p:nvPr/>
        </p:nvGrpSpPr>
        <p:grpSpPr>
          <a:xfrm>
            <a:off x="6656040" y="5587200"/>
            <a:ext cx="367920" cy="368280"/>
            <a:chOff x="6656040" y="5587200"/>
            <a:chExt cx="367920" cy="368280"/>
          </a:xfrm>
        </p:grpSpPr>
        <p:grpSp>
          <p:nvGrpSpPr>
            <p:cNvPr id="249" name="Group 163"/>
            <p:cNvGrpSpPr/>
            <p:nvPr/>
          </p:nvGrpSpPr>
          <p:grpSpPr>
            <a:xfrm>
              <a:off x="6659640" y="5589720"/>
              <a:ext cx="363240" cy="362880"/>
              <a:chOff x="6659640" y="5589720"/>
              <a:chExt cx="363240" cy="362880"/>
            </a:xfrm>
          </p:grpSpPr>
          <p:grpSp>
            <p:nvGrpSpPr>
              <p:cNvPr id="250" name="Group 164"/>
              <p:cNvGrpSpPr/>
              <p:nvPr/>
            </p:nvGrpSpPr>
            <p:grpSpPr>
              <a:xfrm>
                <a:off x="6659640" y="5589720"/>
                <a:ext cx="363240" cy="362880"/>
                <a:chOff x="6659640" y="5589720"/>
                <a:chExt cx="363240" cy="362880"/>
              </a:xfrm>
            </p:grpSpPr>
            <p:sp>
              <p:nvSpPr>
                <p:cNvPr id="251" name="Oval 195"/>
                <p:cNvSpPr/>
                <p:nvPr/>
              </p:nvSpPr>
              <p:spPr>
                <a:xfrm>
                  <a:off x="6659640" y="57337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Oval 196"/>
                <p:cNvSpPr/>
                <p:nvPr/>
              </p:nvSpPr>
              <p:spPr>
                <a:xfrm rot="5400000">
                  <a:off x="6658920" y="572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Group 167"/>
              <p:cNvGrpSpPr/>
              <p:nvPr/>
            </p:nvGrpSpPr>
            <p:grpSpPr>
              <a:xfrm>
                <a:off x="6680880" y="5613480"/>
                <a:ext cx="317160" cy="317880"/>
                <a:chOff x="6680880" y="5613480"/>
                <a:chExt cx="317160" cy="317880"/>
              </a:xfrm>
            </p:grpSpPr>
            <p:sp>
              <p:nvSpPr>
                <p:cNvPr id="254" name="Oval 198"/>
                <p:cNvSpPr/>
                <p:nvPr/>
              </p:nvSpPr>
              <p:spPr>
                <a:xfrm rot="2700000">
                  <a:off x="6656760" y="573228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99"/>
                <p:cNvSpPr/>
                <p:nvPr/>
              </p:nvSpPr>
              <p:spPr>
                <a:xfrm rot="8100000">
                  <a:off x="6658560" y="5729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6" name="Group 170"/>
            <p:cNvGrpSpPr/>
            <p:nvPr/>
          </p:nvGrpSpPr>
          <p:grpSpPr>
            <a:xfrm>
              <a:off x="6656040" y="5587200"/>
              <a:ext cx="367920" cy="368280"/>
              <a:chOff x="6656040" y="5587200"/>
              <a:chExt cx="367920" cy="368280"/>
            </a:xfrm>
          </p:grpSpPr>
          <p:grpSp>
            <p:nvGrpSpPr>
              <p:cNvPr id="257" name="Group 171"/>
              <p:cNvGrpSpPr/>
              <p:nvPr/>
            </p:nvGrpSpPr>
            <p:grpSpPr>
              <a:xfrm>
                <a:off x="6656040" y="5587200"/>
                <a:ext cx="367920" cy="367560"/>
                <a:chOff x="6656040" y="5587200"/>
                <a:chExt cx="367920" cy="367560"/>
              </a:xfrm>
            </p:grpSpPr>
            <p:sp>
              <p:nvSpPr>
                <p:cNvPr id="258" name="Oval 202"/>
                <p:cNvSpPr/>
                <p:nvPr/>
              </p:nvSpPr>
              <p:spPr>
                <a:xfrm rot="1320000">
                  <a:off x="6658200" y="57330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Oval 203"/>
                <p:cNvSpPr/>
                <p:nvPr/>
              </p:nvSpPr>
              <p:spPr>
                <a:xfrm rot="6720000">
                  <a:off x="6659280" y="572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Group 174"/>
              <p:cNvGrpSpPr/>
              <p:nvPr/>
            </p:nvGrpSpPr>
            <p:grpSpPr>
              <a:xfrm>
                <a:off x="6657480" y="5589360"/>
                <a:ext cx="366480" cy="366120"/>
                <a:chOff x="6657480" y="5589360"/>
                <a:chExt cx="366480" cy="366120"/>
              </a:xfrm>
            </p:grpSpPr>
            <p:sp>
              <p:nvSpPr>
                <p:cNvPr id="261" name="Oval 205"/>
                <p:cNvSpPr/>
                <p:nvPr/>
              </p:nvSpPr>
              <p:spPr>
                <a:xfrm rot="4020000">
                  <a:off x="6656040" y="57312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206"/>
                <p:cNvSpPr/>
                <p:nvPr/>
              </p:nvSpPr>
              <p:spPr>
                <a:xfrm rot="9420000">
                  <a:off x="6658920" y="5729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3" name="Oval 207"/>
            <p:cNvSpPr/>
            <p:nvPr/>
          </p:nvSpPr>
          <p:spPr>
            <a:xfrm>
              <a:off x="6781680" y="5717880"/>
              <a:ext cx="118800" cy="1058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78"/>
          <p:cNvGrpSpPr/>
          <p:nvPr/>
        </p:nvGrpSpPr>
        <p:grpSpPr>
          <a:xfrm>
            <a:off x="7449480" y="5661000"/>
            <a:ext cx="219240" cy="219240"/>
            <a:chOff x="7449480" y="5661000"/>
            <a:chExt cx="219240" cy="219240"/>
          </a:xfrm>
        </p:grpSpPr>
        <p:grpSp>
          <p:nvGrpSpPr>
            <p:cNvPr id="265" name="Group 179"/>
            <p:cNvGrpSpPr/>
            <p:nvPr/>
          </p:nvGrpSpPr>
          <p:grpSpPr>
            <a:xfrm>
              <a:off x="7451640" y="5662440"/>
              <a:ext cx="216000" cy="216000"/>
              <a:chOff x="7451640" y="5662440"/>
              <a:chExt cx="216000" cy="216000"/>
            </a:xfrm>
          </p:grpSpPr>
          <p:grpSp>
            <p:nvGrpSpPr>
              <p:cNvPr id="266" name="Group 180"/>
              <p:cNvGrpSpPr/>
              <p:nvPr/>
            </p:nvGrpSpPr>
            <p:grpSpPr>
              <a:xfrm>
                <a:off x="7451640" y="5662440"/>
                <a:ext cx="216000" cy="216000"/>
                <a:chOff x="7451640" y="5662440"/>
                <a:chExt cx="216000" cy="216000"/>
              </a:xfrm>
            </p:grpSpPr>
            <p:sp>
              <p:nvSpPr>
                <p:cNvPr id="267" name="Oval 227"/>
                <p:cNvSpPr/>
                <p:nvPr/>
              </p:nvSpPr>
              <p:spPr>
                <a:xfrm>
                  <a:off x="7451640" y="57481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Oval 228"/>
                <p:cNvSpPr/>
                <p:nvPr/>
              </p:nvSpPr>
              <p:spPr>
                <a:xfrm rot="5400000">
                  <a:off x="7451280" y="5745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Group 183"/>
              <p:cNvGrpSpPr/>
              <p:nvPr/>
            </p:nvGrpSpPr>
            <p:grpSpPr>
              <a:xfrm>
                <a:off x="7464600" y="5676480"/>
                <a:ext cx="188640" cy="189000"/>
                <a:chOff x="7464600" y="5676480"/>
                <a:chExt cx="188640" cy="189000"/>
              </a:xfrm>
            </p:grpSpPr>
            <p:sp>
              <p:nvSpPr>
                <p:cNvPr id="270" name="Oval 230"/>
                <p:cNvSpPr/>
                <p:nvPr/>
              </p:nvSpPr>
              <p:spPr>
                <a:xfrm rot="2700000">
                  <a:off x="7450200" y="57474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Oval 231"/>
                <p:cNvSpPr/>
                <p:nvPr/>
              </p:nvSpPr>
              <p:spPr>
                <a:xfrm rot="8100000">
                  <a:off x="745128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2" name="Group 186"/>
            <p:cNvGrpSpPr/>
            <p:nvPr/>
          </p:nvGrpSpPr>
          <p:grpSpPr>
            <a:xfrm>
              <a:off x="7449480" y="5661000"/>
              <a:ext cx="219240" cy="219240"/>
              <a:chOff x="7449480" y="5661000"/>
              <a:chExt cx="219240" cy="219240"/>
            </a:xfrm>
          </p:grpSpPr>
          <p:grpSp>
            <p:nvGrpSpPr>
              <p:cNvPr id="273" name="Group 187"/>
              <p:cNvGrpSpPr/>
              <p:nvPr/>
            </p:nvGrpSpPr>
            <p:grpSpPr>
              <a:xfrm>
                <a:off x="7449480" y="5661000"/>
                <a:ext cx="218520" cy="218520"/>
                <a:chOff x="7449480" y="5661000"/>
                <a:chExt cx="218520" cy="218520"/>
              </a:xfrm>
            </p:grpSpPr>
            <p:sp>
              <p:nvSpPr>
                <p:cNvPr id="274" name="Oval 234"/>
                <p:cNvSpPr/>
                <p:nvPr/>
              </p:nvSpPr>
              <p:spPr>
                <a:xfrm rot="1320000">
                  <a:off x="7450560" y="57477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Oval 235"/>
                <p:cNvSpPr/>
                <p:nvPr/>
              </p:nvSpPr>
              <p:spPr>
                <a:xfrm rot="6720000">
                  <a:off x="745128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Group 190"/>
              <p:cNvGrpSpPr/>
              <p:nvPr/>
            </p:nvGrpSpPr>
            <p:grpSpPr>
              <a:xfrm>
                <a:off x="7450920" y="5662440"/>
                <a:ext cx="217800" cy="217800"/>
                <a:chOff x="7450920" y="5662440"/>
                <a:chExt cx="217800" cy="217800"/>
              </a:xfrm>
            </p:grpSpPr>
            <p:sp>
              <p:nvSpPr>
                <p:cNvPr id="277" name="Oval 237"/>
                <p:cNvSpPr/>
                <p:nvPr/>
              </p:nvSpPr>
              <p:spPr>
                <a:xfrm rot="4020000">
                  <a:off x="7449480" y="57466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Oval 238"/>
                <p:cNvSpPr/>
                <p:nvPr/>
              </p:nvSpPr>
              <p:spPr>
                <a:xfrm rot="9420000">
                  <a:off x="7451640" y="574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9" name="Oval 239"/>
            <p:cNvSpPr/>
            <p:nvPr/>
          </p:nvSpPr>
          <p:spPr>
            <a:xfrm>
              <a:off x="7524000" y="5738760"/>
              <a:ext cx="70560" cy="630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94"/>
          <p:cNvGrpSpPr/>
          <p:nvPr/>
        </p:nvGrpSpPr>
        <p:grpSpPr>
          <a:xfrm>
            <a:off x="4420800" y="5371200"/>
            <a:ext cx="367920" cy="368640"/>
            <a:chOff x="4420800" y="5371200"/>
            <a:chExt cx="367920" cy="368640"/>
          </a:xfrm>
        </p:grpSpPr>
        <p:grpSp>
          <p:nvGrpSpPr>
            <p:cNvPr id="281" name="Group 195"/>
            <p:cNvGrpSpPr/>
            <p:nvPr/>
          </p:nvGrpSpPr>
          <p:grpSpPr>
            <a:xfrm>
              <a:off x="4424400" y="5373720"/>
              <a:ext cx="363240" cy="363240"/>
              <a:chOff x="4424400" y="5373720"/>
              <a:chExt cx="363240" cy="363240"/>
            </a:xfrm>
          </p:grpSpPr>
          <p:grpSp>
            <p:nvGrpSpPr>
              <p:cNvPr id="282" name="Group 196"/>
              <p:cNvGrpSpPr/>
              <p:nvPr/>
            </p:nvGrpSpPr>
            <p:grpSpPr>
              <a:xfrm>
                <a:off x="4424400" y="5373720"/>
                <a:ext cx="363240" cy="363240"/>
                <a:chOff x="4424400" y="5373720"/>
                <a:chExt cx="363240" cy="363240"/>
              </a:xfrm>
            </p:grpSpPr>
            <p:sp>
              <p:nvSpPr>
                <p:cNvPr id="283" name="Oval 243"/>
                <p:cNvSpPr/>
                <p:nvPr/>
              </p:nvSpPr>
              <p:spPr>
                <a:xfrm>
                  <a:off x="4424400" y="55177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244"/>
                <p:cNvSpPr/>
                <p:nvPr/>
              </p:nvSpPr>
              <p:spPr>
                <a:xfrm rot="5400000">
                  <a:off x="4423680" y="551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Group 199"/>
              <p:cNvGrpSpPr/>
              <p:nvPr/>
            </p:nvGrpSpPr>
            <p:grpSpPr>
              <a:xfrm>
                <a:off x="4445640" y="5397480"/>
                <a:ext cx="317160" cy="317880"/>
                <a:chOff x="4445640" y="5397480"/>
                <a:chExt cx="317160" cy="317880"/>
              </a:xfrm>
            </p:grpSpPr>
            <p:sp>
              <p:nvSpPr>
                <p:cNvPr id="286" name="Oval 246"/>
                <p:cNvSpPr/>
                <p:nvPr/>
              </p:nvSpPr>
              <p:spPr>
                <a:xfrm rot="2700000">
                  <a:off x="4421520" y="55166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247"/>
                <p:cNvSpPr/>
                <p:nvPr/>
              </p:nvSpPr>
              <p:spPr>
                <a:xfrm rot="8100000">
                  <a:off x="4423320" y="5513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8" name="Group 202"/>
            <p:cNvGrpSpPr/>
            <p:nvPr/>
          </p:nvGrpSpPr>
          <p:grpSpPr>
            <a:xfrm>
              <a:off x="4420800" y="5371200"/>
              <a:ext cx="367920" cy="368640"/>
              <a:chOff x="4420800" y="5371200"/>
              <a:chExt cx="367920" cy="368640"/>
            </a:xfrm>
          </p:grpSpPr>
          <p:grpSp>
            <p:nvGrpSpPr>
              <p:cNvPr id="289" name="Group 203"/>
              <p:cNvGrpSpPr/>
              <p:nvPr/>
            </p:nvGrpSpPr>
            <p:grpSpPr>
              <a:xfrm>
                <a:off x="4420800" y="5371200"/>
                <a:ext cx="367920" cy="367920"/>
                <a:chOff x="4420800" y="5371200"/>
                <a:chExt cx="367920" cy="367920"/>
              </a:xfrm>
            </p:grpSpPr>
            <p:sp>
              <p:nvSpPr>
                <p:cNvPr id="290" name="Oval 250"/>
                <p:cNvSpPr/>
                <p:nvPr/>
              </p:nvSpPr>
              <p:spPr>
                <a:xfrm rot="1320000">
                  <a:off x="4422960" y="55170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Oval 251"/>
                <p:cNvSpPr/>
                <p:nvPr/>
              </p:nvSpPr>
              <p:spPr>
                <a:xfrm rot="6720000">
                  <a:off x="4423680" y="5513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Group 206"/>
              <p:cNvGrpSpPr/>
              <p:nvPr/>
            </p:nvGrpSpPr>
            <p:grpSpPr>
              <a:xfrm>
                <a:off x="4422240" y="5373360"/>
                <a:ext cx="366480" cy="366480"/>
                <a:chOff x="4422240" y="5373360"/>
                <a:chExt cx="366480" cy="366480"/>
              </a:xfrm>
            </p:grpSpPr>
            <p:sp>
              <p:nvSpPr>
                <p:cNvPr id="293" name="Oval 253"/>
                <p:cNvSpPr/>
                <p:nvPr/>
              </p:nvSpPr>
              <p:spPr>
                <a:xfrm rot="4020000">
                  <a:off x="4420800" y="55152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Oval 254"/>
                <p:cNvSpPr/>
                <p:nvPr/>
              </p:nvSpPr>
              <p:spPr>
                <a:xfrm rot="9420000">
                  <a:off x="4423680" y="5513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5" name="Oval 255"/>
            <p:cNvSpPr/>
            <p:nvPr/>
          </p:nvSpPr>
          <p:spPr>
            <a:xfrm>
              <a:off x="4546440" y="5501880"/>
              <a:ext cx="118800" cy="1058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210"/>
          <p:cNvGrpSpPr/>
          <p:nvPr/>
        </p:nvGrpSpPr>
        <p:grpSpPr>
          <a:xfrm>
            <a:off x="3988800" y="5514120"/>
            <a:ext cx="367920" cy="368640"/>
            <a:chOff x="3988800" y="5514120"/>
            <a:chExt cx="367920" cy="368640"/>
          </a:xfrm>
        </p:grpSpPr>
        <p:grpSp>
          <p:nvGrpSpPr>
            <p:cNvPr id="297" name="Group 211"/>
            <p:cNvGrpSpPr/>
            <p:nvPr/>
          </p:nvGrpSpPr>
          <p:grpSpPr>
            <a:xfrm>
              <a:off x="3992400" y="5516640"/>
              <a:ext cx="363240" cy="363240"/>
              <a:chOff x="3992400" y="5516640"/>
              <a:chExt cx="363240" cy="363240"/>
            </a:xfrm>
          </p:grpSpPr>
          <p:grpSp>
            <p:nvGrpSpPr>
              <p:cNvPr id="298" name="Group 212"/>
              <p:cNvGrpSpPr/>
              <p:nvPr/>
            </p:nvGrpSpPr>
            <p:grpSpPr>
              <a:xfrm>
                <a:off x="3992400" y="5516640"/>
                <a:ext cx="363240" cy="363240"/>
                <a:chOff x="3992400" y="5516640"/>
                <a:chExt cx="363240" cy="363240"/>
              </a:xfrm>
            </p:grpSpPr>
            <p:sp>
              <p:nvSpPr>
                <p:cNvPr id="299" name="Oval 259"/>
                <p:cNvSpPr/>
                <p:nvPr/>
              </p:nvSpPr>
              <p:spPr>
                <a:xfrm>
                  <a:off x="3992400" y="56606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Oval 260"/>
                <p:cNvSpPr/>
                <p:nvPr/>
              </p:nvSpPr>
              <p:spPr>
                <a:xfrm rot="5400000">
                  <a:off x="3991680" y="5657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Group 215"/>
              <p:cNvGrpSpPr/>
              <p:nvPr/>
            </p:nvGrpSpPr>
            <p:grpSpPr>
              <a:xfrm>
                <a:off x="4013640" y="5540400"/>
                <a:ext cx="317160" cy="317880"/>
                <a:chOff x="4013640" y="5540400"/>
                <a:chExt cx="317160" cy="317880"/>
              </a:xfrm>
            </p:grpSpPr>
            <p:sp>
              <p:nvSpPr>
                <p:cNvPr id="302" name="Oval 262"/>
                <p:cNvSpPr/>
                <p:nvPr/>
              </p:nvSpPr>
              <p:spPr>
                <a:xfrm rot="2700000">
                  <a:off x="3989520" y="56595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263"/>
                <p:cNvSpPr/>
                <p:nvPr/>
              </p:nvSpPr>
              <p:spPr>
                <a:xfrm rot="8100000">
                  <a:off x="3991320" y="5656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4" name="Group 218"/>
            <p:cNvGrpSpPr/>
            <p:nvPr/>
          </p:nvGrpSpPr>
          <p:grpSpPr>
            <a:xfrm>
              <a:off x="3988800" y="5514120"/>
              <a:ext cx="367920" cy="368640"/>
              <a:chOff x="3988800" y="5514120"/>
              <a:chExt cx="367920" cy="368640"/>
            </a:xfrm>
          </p:grpSpPr>
          <p:grpSp>
            <p:nvGrpSpPr>
              <p:cNvPr id="305" name="Group 219"/>
              <p:cNvGrpSpPr/>
              <p:nvPr/>
            </p:nvGrpSpPr>
            <p:grpSpPr>
              <a:xfrm>
                <a:off x="3988800" y="5514120"/>
                <a:ext cx="367920" cy="367920"/>
                <a:chOff x="3988800" y="5514120"/>
                <a:chExt cx="367920" cy="367920"/>
              </a:xfrm>
            </p:grpSpPr>
            <p:sp>
              <p:nvSpPr>
                <p:cNvPr id="306" name="Oval 266"/>
                <p:cNvSpPr/>
                <p:nvPr/>
              </p:nvSpPr>
              <p:spPr>
                <a:xfrm rot="1320000">
                  <a:off x="3990960" y="56599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267"/>
                <p:cNvSpPr/>
                <p:nvPr/>
              </p:nvSpPr>
              <p:spPr>
                <a:xfrm rot="6720000">
                  <a:off x="3991680" y="5656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Group 222"/>
              <p:cNvGrpSpPr/>
              <p:nvPr/>
            </p:nvGrpSpPr>
            <p:grpSpPr>
              <a:xfrm>
                <a:off x="3990240" y="5516280"/>
                <a:ext cx="366480" cy="366480"/>
                <a:chOff x="3990240" y="5516280"/>
                <a:chExt cx="366480" cy="366480"/>
              </a:xfrm>
            </p:grpSpPr>
            <p:sp>
              <p:nvSpPr>
                <p:cNvPr id="309" name="Oval 269"/>
                <p:cNvSpPr/>
                <p:nvPr/>
              </p:nvSpPr>
              <p:spPr>
                <a:xfrm rot="4020000">
                  <a:off x="3988800" y="565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270"/>
                <p:cNvSpPr/>
                <p:nvPr/>
              </p:nvSpPr>
              <p:spPr>
                <a:xfrm rot="9420000">
                  <a:off x="3991680" y="56563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1" name="Oval 271"/>
            <p:cNvSpPr/>
            <p:nvPr/>
          </p:nvSpPr>
          <p:spPr>
            <a:xfrm>
              <a:off x="4114440" y="5644800"/>
              <a:ext cx="118800" cy="10584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226"/>
          <p:cNvGrpSpPr/>
          <p:nvPr/>
        </p:nvGrpSpPr>
        <p:grpSpPr>
          <a:xfrm>
            <a:off x="3704760" y="5805720"/>
            <a:ext cx="218520" cy="219240"/>
            <a:chOff x="3704760" y="5805720"/>
            <a:chExt cx="218520" cy="219240"/>
          </a:xfrm>
        </p:grpSpPr>
        <p:grpSp>
          <p:nvGrpSpPr>
            <p:cNvPr id="313" name="Group 227"/>
            <p:cNvGrpSpPr/>
            <p:nvPr/>
          </p:nvGrpSpPr>
          <p:grpSpPr>
            <a:xfrm>
              <a:off x="3706920" y="5807160"/>
              <a:ext cx="215640" cy="215640"/>
              <a:chOff x="3706920" y="5807160"/>
              <a:chExt cx="215640" cy="215640"/>
            </a:xfrm>
          </p:grpSpPr>
          <p:grpSp>
            <p:nvGrpSpPr>
              <p:cNvPr id="314" name="Group 228"/>
              <p:cNvGrpSpPr/>
              <p:nvPr/>
            </p:nvGrpSpPr>
            <p:grpSpPr>
              <a:xfrm>
                <a:off x="3706920" y="5807160"/>
                <a:ext cx="215640" cy="215640"/>
                <a:chOff x="3706920" y="5807160"/>
                <a:chExt cx="215640" cy="215640"/>
              </a:xfrm>
            </p:grpSpPr>
            <p:sp>
              <p:nvSpPr>
                <p:cNvPr id="315" name="Oval 291"/>
                <p:cNvSpPr/>
                <p:nvPr/>
              </p:nvSpPr>
              <p:spPr>
                <a:xfrm>
                  <a:off x="3706920" y="589284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292"/>
                <p:cNvSpPr/>
                <p:nvPr/>
              </p:nvSpPr>
              <p:spPr>
                <a:xfrm rot="540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Group 231"/>
              <p:cNvGrpSpPr/>
              <p:nvPr/>
            </p:nvGrpSpPr>
            <p:grpSpPr>
              <a:xfrm>
                <a:off x="3719520" y="5821560"/>
                <a:ext cx="188640" cy="188640"/>
                <a:chOff x="3719520" y="5821560"/>
                <a:chExt cx="188640" cy="188640"/>
              </a:xfrm>
            </p:grpSpPr>
            <p:sp>
              <p:nvSpPr>
                <p:cNvPr id="318" name="Oval 294"/>
                <p:cNvSpPr/>
                <p:nvPr/>
              </p:nvSpPr>
              <p:spPr>
                <a:xfrm rot="2700000">
                  <a:off x="3705120" y="58917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295"/>
                <p:cNvSpPr/>
                <p:nvPr/>
              </p:nvSpPr>
              <p:spPr>
                <a:xfrm rot="810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0" name="Group 234"/>
            <p:cNvGrpSpPr/>
            <p:nvPr/>
          </p:nvGrpSpPr>
          <p:grpSpPr>
            <a:xfrm>
              <a:off x="3704760" y="5805720"/>
              <a:ext cx="218520" cy="219240"/>
              <a:chOff x="3704760" y="5805720"/>
              <a:chExt cx="218520" cy="219240"/>
            </a:xfrm>
          </p:grpSpPr>
          <p:grpSp>
            <p:nvGrpSpPr>
              <p:cNvPr id="321" name="Group 235"/>
              <p:cNvGrpSpPr/>
              <p:nvPr/>
            </p:nvGrpSpPr>
            <p:grpSpPr>
              <a:xfrm>
                <a:off x="3704760" y="5805720"/>
                <a:ext cx="218160" cy="218160"/>
                <a:chOff x="3704760" y="5805720"/>
                <a:chExt cx="218160" cy="218160"/>
              </a:xfrm>
            </p:grpSpPr>
            <p:sp>
              <p:nvSpPr>
                <p:cNvPr id="322" name="Oval 298"/>
                <p:cNvSpPr/>
                <p:nvPr/>
              </p:nvSpPr>
              <p:spPr>
                <a:xfrm rot="1320000">
                  <a:off x="3705840" y="58924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299"/>
                <p:cNvSpPr/>
                <p:nvPr/>
              </p:nvSpPr>
              <p:spPr>
                <a:xfrm rot="672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Group 238"/>
              <p:cNvGrpSpPr/>
              <p:nvPr/>
            </p:nvGrpSpPr>
            <p:grpSpPr>
              <a:xfrm>
                <a:off x="3705480" y="5807160"/>
                <a:ext cx="217800" cy="217800"/>
                <a:chOff x="3705480" y="5807160"/>
                <a:chExt cx="217800" cy="217800"/>
              </a:xfrm>
            </p:grpSpPr>
            <p:sp>
              <p:nvSpPr>
                <p:cNvPr id="325" name="Oval 301"/>
                <p:cNvSpPr/>
                <p:nvPr/>
              </p:nvSpPr>
              <p:spPr>
                <a:xfrm rot="4020000">
                  <a:off x="3704400" y="58914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302"/>
                <p:cNvSpPr/>
                <p:nvPr/>
              </p:nvSpPr>
              <p:spPr>
                <a:xfrm rot="942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7" name="Oval 303"/>
            <p:cNvSpPr/>
            <p:nvPr/>
          </p:nvSpPr>
          <p:spPr>
            <a:xfrm>
              <a:off x="3779280" y="5883120"/>
              <a:ext cx="70200" cy="626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242"/>
          <p:cNvGrpSpPr/>
          <p:nvPr/>
        </p:nvGrpSpPr>
        <p:grpSpPr>
          <a:xfrm>
            <a:off x="8457480" y="5300640"/>
            <a:ext cx="219240" cy="219240"/>
            <a:chOff x="8457480" y="5300640"/>
            <a:chExt cx="219240" cy="219240"/>
          </a:xfrm>
        </p:grpSpPr>
        <p:grpSp>
          <p:nvGrpSpPr>
            <p:cNvPr id="329" name="Group 243"/>
            <p:cNvGrpSpPr/>
            <p:nvPr/>
          </p:nvGrpSpPr>
          <p:grpSpPr>
            <a:xfrm>
              <a:off x="8459640" y="5302080"/>
              <a:ext cx="216000" cy="216000"/>
              <a:chOff x="8459640" y="5302080"/>
              <a:chExt cx="216000" cy="216000"/>
            </a:xfrm>
          </p:grpSpPr>
          <p:grpSp>
            <p:nvGrpSpPr>
              <p:cNvPr id="330" name="Group 244"/>
              <p:cNvGrpSpPr/>
              <p:nvPr/>
            </p:nvGrpSpPr>
            <p:grpSpPr>
              <a:xfrm>
                <a:off x="8459640" y="5302080"/>
                <a:ext cx="216000" cy="216000"/>
                <a:chOff x="8459640" y="5302080"/>
                <a:chExt cx="216000" cy="216000"/>
              </a:xfrm>
            </p:grpSpPr>
            <p:sp>
              <p:nvSpPr>
                <p:cNvPr id="331" name="Oval 307"/>
                <p:cNvSpPr/>
                <p:nvPr/>
              </p:nvSpPr>
              <p:spPr>
                <a:xfrm>
                  <a:off x="8459640" y="53877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308"/>
                <p:cNvSpPr/>
                <p:nvPr/>
              </p:nvSpPr>
              <p:spPr>
                <a:xfrm rot="5400000">
                  <a:off x="8459280" y="538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Group 247"/>
              <p:cNvGrpSpPr/>
              <p:nvPr/>
            </p:nvGrpSpPr>
            <p:grpSpPr>
              <a:xfrm>
                <a:off x="8472600" y="5316120"/>
                <a:ext cx="188640" cy="189000"/>
                <a:chOff x="8472600" y="5316120"/>
                <a:chExt cx="188640" cy="189000"/>
              </a:xfrm>
            </p:grpSpPr>
            <p:sp>
              <p:nvSpPr>
                <p:cNvPr id="334" name="Oval 310"/>
                <p:cNvSpPr/>
                <p:nvPr/>
              </p:nvSpPr>
              <p:spPr>
                <a:xfrm rot="2700000">
                  <a:off x="8458200" y="53870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Oval 311"/>
                <p:cNvSpPr/>
                <p:nvPr/>
              </p:nvSpPr>
              <p:spPr>
                <a:xfrm rot="8100000">
                  <a:off x="845928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6" name="Group 250"/>
            <p:cNvGrpSpPr/>
            <p:nvPr/>
          </p:nvGrpSpPr>
          <p:grpSpPr>
            <a:xfrm>
              <a:off x="8457480" y="5300640"/>
              <a:ext cx="219240" cy="219240"/>
              <a:chOff x="8457480" y="5300640"/>
              <a:chExt cx="219240" cy="219240"/>
            </a:xfrm>
          </p:grpSpPr>
          <p:grpSp>
            <p:nvGrpSpPr>
              <p:cNvPr id="337" name="Group 251"/>
              <p:cNvGrpSpPr/>
              <p:nvPr/>
            </p:nvGrpSpPr>
            <p:grpSpPr>
              <a:xfrm>
                <a:off x="8457480" y="5300640"/>
                <a:ext cx="218520" cy="218520"/>
                <a:chOff x="8457480" y="5300640"/>
                <a:chExt cx="218520" cy="218520"/>
              </a:xfrm>
            </p:grpSpPr>
            <p:sp>
              <p:nvSpPr>
                <p:cNvPr id="338" name="Oval 314"/>
                <p:cNvSpPr/>
                <p:nvPr/>
              </p:nvSpPr>
              <p:spPr>
                <a:xfrm rot="1320000">
                  <a:off x="8458560" y="53874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315"/>
                <p:cNvSpPr/>
                <p:nvPr/>
              </p:nvSpPr>
              <p:spPr>
                <a:xfrm rot="6720000">
                  <a:off x="845928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Group 254"/>
              <p:cNvGrpSpPr/>
              <p:nvPr/>
            </p:nvGrpSpPr>
            <p:grpSpPr>
              <a:xfrm>
                <a:off x="8458920" y="5302080"/>
                <a:ext cx="217800" cy="217800"/>
                <a:chOff x="8458920" y="5302080"/>
                <a:chExt cx="217800" cy="217800"/>
              </a:xfrm>
            </p:grpSpPr>
            <p:sp>
              <p:nvSpPr>
                <p:cNvPr id="341" name="Oval 317"/>
                <p:cNvSpPr/>
                <p:nvPr/>
              </p:nvSpPr>
              <p:spPr>
                <a:xfrm rot="4020000">
                  <a:off x="8457480" y="5386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Oval 318"/>
                <p:cNvSpPr/>
                <p:nvPr/>
              </p:nvSpPr>
              <p:spPr>
                <a:xfrm rot="9420000">
                  <a:off x="8459640" y="5384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3" name="Oval 319"/>
            <p:cNvSpPr/>
            <p:nvPr/>
          </p:nvSpPr>
          <p:spPr>
            <a:xfrm>
              <a:off x="8532000" y="5378400"/>
              <a:ext cx="70560" cy="630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258"/>
          <p:cNvGrpSpPr/>
          <p:nvPr/>
        </p:nvGrpSpPr>
        <p:grpSpPr>
          <a:xfrm>
            <a:off x="5144400" y="5445360"/>
            <a:ext cx="219240" cy="219240"/>
            <a:chOff x="5144400" y="5445360"/>
            <a:chExt cx="219240" cy="219240"/>
          </a:xfrm>
        </p:grpSpPr>
        <p:grpSp>
          <p:nvGrpSpPr>
            <p:cNvPr id="345" name="Group 259"/>
            <p:cNvGrpSpPr/>
            <p:nvPr/>
          </p:nvGrpSpPr>
          <p:grpSpPr>
            <a:xfrm>
              <a:off x="5146560" y="5446800"/>
              <a:ext cx="216000" cy="215640"/>
              <a:chOff x="5146560" y="5446800"/>
              <a:chExt cx="216000" cy="215640"/>
            </a:xfrm>
          </p:grpSpPr>
          <p:grpSp>
            <p:nvGrpSpPr>
              <p:cNvPr id="346" name="Group 260"/>
              <p:cNvGrpSpPr/>
              <p:nvPr/>
            </p:nvGrpSpPr>
            <p:grpSpPr>
              <a:xfrm>
                <a:off x="5146560" y="5446800"/>
                <a:ext cx="216000" cy="215640"/>
                <a:chOff x="5146560" y="5446800"/>
                <a:chExt cx="216000" cy="215640"/>
              </a:xfrm>
            </p:grpSpPr>
            <p:sp>
              <p:nvSpPr>
                <p:cNvPr id="347" name="Oval 323"/>
                <p:cNvSpPr/>
                <p:nvPr/>
              </p:nvSpPr>
              <p:spPr>
                <a:xfrm>
                  <a:off x="5146560" y="55324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Oval 324"/>
                <p:cNvSpPr/>
                <p:nvPr/>
              </p:nvSpPr>
              <p:spPr>
                <a:xfrm rot="5400000">
                  <a:off x="5146200" y="552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Group 263"/>
              <p:cNvGrpSpPr/>
              <p:nvPr/>
            </p:nvGrpSpPr>
            <p:grpSpPr>
              <a:xfrm>
                <a:off x="5159520" y="5460840"/>
                <a:ext cx="188640" cy="189000"/>
                <a:chOff x="5159520" y="5460840"/>
                <a:chExt cx="188640" cy="189000"/>
              </a:xfrm>
            </p:grpSpPr>
            <p:sp>
              <p:nvSpPr>
                <p:cNvPr id="350" name="Oval 326"/>
                <p:cNvSpPr/>
                <p:nvPr/>
              </p:nvSpPr>
              <p:spPr>
                <a:xfrm rot="2700000">
                  <a:off x="5145120" y="55314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Oval 327"/>
                <p:cNvSpPr/>
                <p:nvPr/>
              </p:nvSpPr>
              <p:spPr>
                <a:xfrm rot="8100000">
                  <a:off x="5146200" y="552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2" name="Group 266"/>
            <p:cNvGrpSpPr/>
            <p:nvPr/>
          </p:nvGrpSpPr>
          <p:grpSpPr>
            <a:xfrm>
              <a:off x="5144400" y="5445360"/>
              <a:ext cx="219240" cy="219240"/>
              <a:chOff x="5144400" y="5445360"/>
              <a:chExt cx="219240" cy="219240"/>
            </a:xfrm>
          </p:grpSpPr>
          <p:grpSp>
            <p:nvGrpSpPr>
              <p:cNvPr id="353" name="Group 267"/>
              <p:cNvGrpSpPr/>
              <p:nvPr/>
            </p:nvGrpSpPr>
            <p:grpSpPr>
              <a:xfrm>
                <a:off x="5144400" y="5445360"/>
                <a:ext cx="218520" cy="218160"/>
                <a:chOff x="5144400" y="5445360"/>
                <a:chExt cx="218520" cy="218160"/>
              </a:xfrm>
            </p:grpSpPr>
            <p:sp>
              <p:nvSpPr>
                <p:cNvPr id="354" name="Oval 330"/>
                <p:cNvSpPr/>
                <p:nvPr/>
              </p:nvSpPr>
              <p:spPr>
                <a:xfrm rot="1320000">
                  <a:off x="5145480" y="55321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Oval 331"/>
                <p:cNvSpPr/>
                <p:nvPr/>
              </p:nvSpPr>
              <p:spPr>
                <a:xfrm rot="6720000">
                  <a:off x="5146200" y="552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" name="Group 270"/>
              <p:cNvGrpSpPr/>
              <p:nvPr/>
            </p:nvGrpSpPr>
            <p:grpSpPr>
              <a:xfrm>
                <a:off x="5145840" y="5446800"/>
                <a:ext cx="217800" cy="217800"/>
                <a:chOff x="5145840" y="5446800"/>
                <a:chExt cx="217800" cy="217800"/>
              </a:xfrm>
            </p:grpSpPr>
            <p:sp>
              <p:nvSpPr>
                <p:cNvPr id="357" name="Oval 333"/>
                <p:cNvSpPr/>
                <p:nvPr/>
              </p:nvSpPr>
              <p:spPr>
                <a:xfrm rot="4020000">
                  <a:off x="5144400" y="553104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Oval 334"/>
                <p:cNvSpPr/>
                <p:nvPr/>
              </p:nvSpPr>
              <p:spPr>
                <a:xfrm rot="9420000">
                  <a:off x="5146560" y="5529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9" name="Oval 335"/>
            <p:cNvSpPr/>
            <p:nvPr/>
          </p:nvSpPr>
          <p:spPr>
            <a:xfrm>
              <a:off x="5218920" y="5522760"/>
              <a:ext cx="70560" cy="6264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274"/>
          <p:cNvGrpSpPr/>
          <p:nvPr/>
        </p:nvGrpSpPr>
        <p:grpSpPr>
          <a:xfrm>
            <a:off x="8097120" y="5229360"/>
            <a:ext cx="219240" cy="219240"/>
            <a:chOff x="8097120" y="5229360"/>
            <a:chExt cx="219240" cy="219240"/>
          </a:xfrm>
        </p:grpSpPr>
        <p:grpSp>
          <p:nvGrpSpPr>
            <p:cNvPr id="361" name="Group 275"/>
            <p:cNvGrpSpPr/>
            <p:nvPr/>
          </p:nvGrpSpPr>
          <p:grpSpPr>
            <a:xfrm>
              <a:off x="8099280" y="5230800"/>
              <a:ext cx="216000" cy="216000"/>
              <a:chOff x="8099280" y="5230800"/>
              <a:chExt cx="216000" cy="216000"/>
            </a:xfrm>
          </p:grpSpPr>
          <p:grpSp>
            <p:nvGrpSpPr>
              <p:cNvPr id="362" name="Group 276"/>
              <p:cNvGrpSpPr/>
              <p:nvPr/>
            </p:nvGrpSpPr>
            <p:grpSpPr>
              <a:xfrm>
                <a:off x="8099280" y="5230800"/>
                <a:ext cx="216000" cy="216000"/>
                <a:chOff x="8099280" y="5230800"/>
                <a:chExt cx="216000" cy="216000"/>
              </a:xfrm>
            </p:grpSpPr>
            <p:sp>
              <p:nvSpPr>
                <p:cNvPr id="363" name="Oval 339"/>
                <p:cNvSpPr/>
                <p:nvPr/>
              </p:nvSpPr>
              <p:spPr>
                <a:xfrm>
                  <a:off x="8099280" y="53164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Oval 340"/>
                <p:cNvSpPr/>
                <p:nvPr/>
              </p:nvSpPr>
              <p:spPr>
                <a:xfrm rot="5400000">
                  <a:off x="8098920" y="5314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279"/>
              <p:cNvGrpSpPr/>
              <p:nvPr/>
            </p:nvGrpSpPr>
            <p:grpSpPr>
              <a:xfrm>
                <a:off x="8112240" y="5244840"/>
                <a:ext cx="188640" cy="189000"/>
                <a:chOff x="8112240" y="5244840"/>
                <a:chExt cx="188640" cy="189000"/>
              </a:xfrm>
            </p:grpSpPr>
            <p:sp>
              <p:nvSpPr>
                <p:cNvPr id="366" name="Oval 342"/>
                <p:cNvSpPr/>
                <p:nvPr/>
              </p:nvSpPr>
              <p:spPr>
                <a:xfrm rot="2700000">
                  <a:off x="8097840" y="53157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Oval 343"/>
                <p:cNvSpPr/>
                <p:nvPr/>
              </p:nvSpPr>
              <p:spPr>
                <a:xfrm rot="8100000">
                  <a:off x="809892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8" name="Group 282"/>
            <p:cNvGrpSpPr/>
            <p:nvPr/>
          </p:nvGrpSpPr>
          <p:grpSpPr>
            <a:xfrm>
              <a:off x="8097120" y="5229360"/>
              <a:ext cx="219240" cy="219240"/>
              <a:chOff x="8097120" y="5229360"/>
              <a:chExt cx="219240" cy="219240"/>
            </a:xfrm>
          </p:grpSpPr>
          <p:grpSp>
            <p:nvGrpSpPr>
              <p:cNvPr id="369" name="Group 283"/>
              <p:cNvGrpSpPr/>
              <p:nvPr/>
            </p:nvGrpSpPr>
            <p:grpSpPr>
              <a:xfrm>
                <a:off x="8097120" y="5229360"/>
                <a:ext cx="218520" cy="218520"/>
                <a:chOff x="8097120" y="5229360"/>
                <a:chExt cx="218520" cy="218520"/>
              </a:xfrm>
            </p:grpSpPr>
            <p:sp>
              <p:nvSpPr>
                <p:cNvPr id="370" name="Oval 346"/>
                <p:cNvSpPr/>
                <p:nvPr/>
              </p:nvSpPr>
              <p:spPr>
                <a:xfrm rot="1320000">
                  <a:off x="8098200" y="53161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Oval 347"/>
                <p:cNvSpPr/>
                <p:nvPr/>
              </p:nvSpPr>
              <p:spPr>
                <a:xfrm rot="6720000">
                  <a:off x="809892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" name="Group 286"/>
              <p:cNvGrpSpPr/>
              <p:nvPr/>
            </p:nvGrpSpPr>
            <p:grpSpPr>
              <a:xfrm>
                <a:off x="8098560" y="5230800"/>
                <a:ext cx="217800" cy="217800"/>
                <a:chOff x="8098560" y="5230800"/>
                <a:chExt cx="217800" cy="217800"/>
              </a:xfrm>
            </p:grpSpPr>
            <p:sp>
              <p:nvSpPr>
                <p:cNvPr id="373" name="Oval 349"/>
                <p:cNvSpPr/>
                <p:nvPr/>
              </p:nvSpPr>
              <p:spPr>
                <a:xfrm rot="4020000">
                  <a:off x="8097120" y="53150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Oval 350"/>
                <p:cNvSpPr/>
                <p:nvPr/>
              </p:nvSpPr>
              <p:spPr>
                <a:xfrm rot="9420000">
                  <a:off x="8099280" y="5313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5" name="Oval 351"/>
            <p:cNvSpPr/>
            <p:nvPr/>
          </p:nvSpPr>
          <p:spPr>
            <a:xfrm>
              <a:off x="8171640" y="5307120"/>
              <a:ext cx="70560" cy="6300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290"/>
          <p:cNvGrpSpPr/>
          <p:nvPr/>
        </p:nvGrpSpPr>
        <p:grpSpPr>
          <a:xfrm>
            <a:off x="5649480" y="5372280"/>
            <a:ext cx="218520" cy="219240"/>
            <a:chOff x="5649480" y="5372280"/>
            <a:chExt cx="218520" cy="219240"/>
          </a:xfrm>
        </p:grpSpPr>
        <p:grpSp>
          <p:nvGrpSpPr>
            <p:cNvPr id="377" name="Group 291"/>
            <p:cNvGrpSpPr/>
            <p:nvPr/>
          </p:nvGrpSpPr>
          <p:grpSpPr>
            <a:xfrm>
              <a:off x="5651640" y="5373720"/>
              <a:ext cx="215640" cy="216000"/>
              <a:chOff x="5651640" y="5373720"/>
              <a:chExt cx="215640" cy="216000"/>
            </a:xfrm>
          </p:grpSpPr>
          <p:grpSp>
            <p:nvGrpSpPr>
              <p:cNvPr id="378" name="Group 292"/>
              <p:cNvGrpSpPr/>
              <p:nvPr/>
            </p:nvGrpSpPr>
            <p:grpSpPr>
              <a:xfrm>
                <a:off x="5651640" y="5373720"/>
                <a:ext cx="215640" cy="216000"/>
                <a:chOff x="5651640" y="5373720"/>
                <a:chExt cx="215640" cy="216000"/>
              </a:xfrm>
            </p:grpSpPr>
            <p:sp>
              <p:nvSpPr>
                <p:cNvPr id="379" name="Oval 355"/>
                <p:cNvSpPr/>
                <p:nvPr/>
              </p:nvSpPr>
              <p:spPr>
                <a:xfrm>
                  <a:off x="5651640" y="54594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Oval 356"/>
                <p:cNvSpPr/>
                <p:nvPr/>
              </p:nvSpPr>
              <p:spPr>
                <a:xfrm rot="5400000">
                  <a:off x="5651280" y="5457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Group 295"/>
              <p:cNvGrpSpPr/>
              <p:nvPr/>
            </p:nvGrpSpPr>
            <p:grpSpPr>
              <a:xfrm>
                <a:off x="5663880" y="5388120"/>
                <a:ext cx="188640" cy="189000"/>
                <a:chOff x="5663880" y="5388120"/>
                <a:chExt cx="188640" cy="189000"/>
              </a:xfrm>
            </p:grpSpPr>
            <p:sp>
              <p:nvSpPr>
                <p:cNvPr id="382" name="Oval 358"/>
                <p:cNvSpPr/>
                <p:nvPr/>
              </p:nvSpPr>
              <p:spPr>
                <a:xfrm rot="2700000">
                  <a:off x="5649480" y="54590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Oval 359"/>
                <p:cNvSpPr/>
                <p:nvPr/>
              </p:nvSpPr>
              <p:spPr>
                <a:xfrm rot="8100000">
                  <a:off x="5650920" y="54568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4" name="Group 298"/>
            <p:cNvGrpSpPr/>
            <p:nvPr/>
          </p:nvGrpSpPr>
          <p:grpSpPr>
            <a:xfrm>
              <a:off x="5649480" y="5372280"/>
              <a:ext cx="218520" cy="219240"/>
              <a:chOff x="5649480" y="5372280"/>
              <a:chExt cx="218520" cy="219240"/>
            </a:xfrm>
          </p:grpSpPr>
          <p:grpSp>
            <p:nvGrpSpPr>
              <p:cNvPr id="385" name="Group 299"/>
              <p:cNvGrpSpPr/>
              <p:nvPr/>
            </p:nvGrpSpPr>
            <p:grpSpPr>
              <a:xfrm>
                <a:off x="5649480" y="5372280"/>
                <a:ext cx="218160" cy="218520"/>
                <a:chOff x="5649480" y="5372280"/>
                <a:chExt cx="218160" cy="218520"/>
              </a:xfrm>
            </p:grpSpPr>
            <p:sp>
              <p:nvSpPr>
                <p:cNvPr id="386" name="Oval 362"/>
                <p:cNvSpPr/>
                <p:nvPr/>
              </p:nvSpPr>
              <p:spPr>
                <a:xfrm rot="1320000">
                  <a:off x="5650560" y="54594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Oval 363"/>
                <p:cNvSpPr/>
                <p:nvPr/>
              </p:nvSpPr>
              <p:spPr>
                <a:xfrm rot="6720000">
                  <a:off x="5650920" y="5456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" name="Group 302"/>
              <p:cNvGrpSpPr/>
              <p:nvPr/>
            </p:nvGrpSpPr>
            <p:grpSpPr>
              <a:xfrm>
                <a:off x="5650200" y="5373720"/>
                <a:ext cx="217800" cy="217800"/>
                <a:chOff x="5650200" y="5373720"/>
                <a:chExt cx="217800" cy="217800"/>
              </a:xfrm>
            </p:grpSpPr>
            <p:sp>
              <p:nvSpPr>
                <p:cNvPr id="389" name="Oval 365"/>
                <p:cNvSpPr/>
                <p:nvPr/>
              </p:nvSpPr>
              <p:spPr>
                <a:xfrm rot="4020000">
                  <a:off x="5648760" y="5457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Oval 366"/>
                <p:cNvSpPr/>
                <p:nvPr/>
              </p:nvSpPr>
              <p:spPr>
                <a:xfrm rot="9420000">
                  <a:off x="5651280" y="54568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1" name="Oval 367"/>
            <p:cNvSpPr/>
            <p:nvPr/>
          </p:nvSpPr>
          <p:spPr>
            <a:xfrm>
              <a:off x="5724000" y="5450040"/>
              <a:ext cx="70200" cy="6300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06"/>
          <p:cNvGrpSpPr/>
          <p:nvPr/>
        </p:nvGrpSpPr>
        <p:grpSpPr>
          <a:xfrm>
            <a:off x="7594920" y="6021720"/>
            <a:ext cx="146160" cy="147240"/>
            <a:chOff x="7594920" y="6021720"/>
            <a:chExt cx="146160" cy="147240"/>
          </a:xfrm>
        </p:grpSpPr>
        <p:grpSp>
          <p:nvGrpSpPr>
            <p:cNvPr id="393" name="Group 307"/>
            <p:cNvGrpSpPr/>
            <p:nvPr/>
          </p:nvGrpSpPr>
          <p:grpSpPr>
            <a:xfrm>
              <a:off x="7596360" y="6022800"/>
              <a:ext cx="144360" cy="144720"/>
              <a:chOff x="7596360" y="6022800"/>
              <a:chExt cx="144360" cy="144720"/>
            </a:xfrm>
          </p:grpSpPr>
          <p:grpSp>
            <p:nvGrpSpPr>
              <p:cNvPr id="394" name="Group 308"/>
              <p:cNvGrpSpPr/>
              <p:nvPr/>
            </p:nvGrpSpPr>
            <p:grpSpPr>
              <a:xfrm>
                <a:off x="7596360" y="6022800"/>
                <a:ext cx="144360" cy="144720"/>
                <a:chOff x="7596360" y="6022800"/>
                <a:chExt cx="144360" cy="144720"/>
              </a:xfrm>
            </p:grpSpPr>
            <p:sp>
              <p:nvSpPr>
                <p:cNvPr id="395" name="Oval 371"/>
                <p:cNvSpPr/>
                <p:nvPr/>
              </p:nvSpPr>
              <p:spPr>
                <a:xfrm>
                  <a:off x="7596360" y="60800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Oval 372"/>
                <p:cNvSpPr/>
                <p:nvPr/>
              </p:nvSpPr>
              <p:spPr>
                <a:xfrm rot="5400000">
                  <a:off x="7595640" y="60786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Group 311"/>
              <p:cNvGrpSpPr/>
              <p:nvPr/>
            </p:nvGrpSpPr>
            <p:grpSpPr>
              <a:xfrm>
                <a:off x="7604640" y="6032520"/>
                <a:ext cx="126000" cy="126720"/>
                <a:chOff x="7604640" y="6032520"/>
                <a:chExt cx="126000" cy="126720"/>
              </a:xfrm>
            </p:grpSpPr>
            <p:sp>
              <p:nvSpPr>
                <p:cNvPr id="398" name="Oval 374"/>
                <p:cNvSpPr/>
                <p:nvPr/>
              </p:nvSpPr>
              <p:spPr>
                <a:xfrm rot="2700000">
                  <a:off x="7594560" y="60796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Oval 375"/>
                <p:cNvSpPr/>
                <p:nvPr/>
              </p:nvSpPr>
              <p:spPr>
                <a:xfrm rot="8100000">
                  <a:off x="7595640" y="6078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0" name="Group 314"/>
            <p:cNvGrpSpPr/>
            <p:nvPr/>
          </p:nvGrpSpPr>
          <p:grpSpPr>
            <a:xfrm>
              <a:off x="7594920" y="6021720"/>
              <a:ext cx="146160" cy="147240"/>
              <a:chOff x="7594920" y="6021720"/>
              <a:chExt cx="146160" cy="147240"/>
            </a:xfrm>
          </p:grpSpPr>
          <p:grpSp>
            <p:nvGrpSpPr>
              <p:cNvPr id="401" name="Group 315"/>
              <p:cNvGrpSpPr/>
              <p:nvPr/>
            </p:nvGrpSpPr>
            <p:grpSpPr>
              <a:xfrm>
                <a:off x="7594920" y="6021720"/>
                <a:ext cx="146160" cy="146520"/>
                <a:chOff x="7594920" y="6021720"/>
                <a:chExt cx="146160" cy="146520"/>
              </a:xfrm>
            </p:grpSpPr>
            <p:sp>
              <p:nvSpPr>
                <p:cNvPr id="402" name="Oval 378"/>
                <p:cNvSpPr/>
                <p:nvPr/>
              </p:nvSpPr>
              <p:spPr>
                <a:xfrm rot="1320000">
                  <a:off x="7595640" y="60796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Oval 379"/>
                <p:cNvSpPr/>
                <p:nvPr/>
              </p:nvSpPr>
              <p:spPr>
                <a:xfrm rot="6720000">
                  <a:off x="7595640" y="607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Group 318"/>
              <p:cNvGrpSpPr/>
              <p:nvPr/>
            </p:nvGrpSpPr>
            <p:grpSpPr>
              <a:xfrm>
                <a:off x="7595280" y="6022800"/>
                <a:ext cx="145800" cy="146160"/>
                <a:chOff x="7595280" y="6022800"/>
                <a:chExt cx="145800" cy="146160"/>
              </a:xfrm>
            </p:grpSpPr>
            <p:sp>
              <p:nvSpPr>
                <p:cNvPr id="405" name="Oval 381"/>
                <p:cNvSpPr/>
                <p:nvPr/>
              </p:nvSpPr>
              <p:spPr>
                <a:xfrm rot="4020000">
                  <a:off x="7594200" y="607932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Oval 382"/>
                <p:cNvSpPr/>
                <p:nvPr/>
              </p:nvSpPr>
              <p:spPr>
                <a:xfrm rot="9420000">
                  <a:off x="7596000" y="607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7" name="Oval 383"/>
            <p:cNvSpPr/>
            <p:nvPr/>
          </p:nvSpPr>
          <p:spPr>
            <a:xfrm>
              <a:off x="7644600" y="6073920"/>
              <a:ext cx="47160" cy="4212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322"/>
          <p:cNvGrpSpPr/>
          <p:nvPr/>
        </p:nvGrpSpPr>
        <p:grpSpPr>
          <a:xfrm>
            <a:off x="3849840" y="6166440"/>
            <a:ext cx="146160" cy="146880"/>
            <a:chOff x="3849840" y="6166440"/>
            <a:chExt cx="146160" cy="146880"/>
          </a:xfrm>
        </p:grpSpPr>
        <p:grpSp>
          <p:nvGrpSpPr>
            <p:cNvPr id="409" name="Group 323"/>
            <p:cNvGrpSpPr/>
            <p:nvPr/>
          </p:nvGrpSpPr>
          <p:grpSpPr>
            <a:xfrm>
              <a:off x="3851280" y="6167520"/>
              <a:ext cx="144360" cy="144360"/>
              <a:chOff x="3851280" y="6167520"/>
              <a:chExt cx="144360" cy="144360"/>
            </a:xfrm>
          </p:grpSpPr>
          <p:grpSp>
            <p:nvGrpSpPr>
              <p:cNvPr id="410" name="Group 324"/>
              <p:cNvGrpSpPr/>
              <p:nvPr/>
            </p:nvGrpSpPr>
            <p:grpSpPr>
              <a:xfrm>
                <a:off x="3851280" y="6167520"/>
                <a:ext cx="144360" cy="144360"/>
                <a:chOff x="3851280" y="6167520"/>
                <a:chExt cx="144360" cy="144360"/>
              </a:xfrm>
            </p:grpSpPr>
            <p:sp>
              <p:nvSpPr>
                <p:cNvPr id="411" name="Oval 387"/>
                <p:cNvSpPr/>
                <p:nvPr/>
              </p:nvSpPr>
              <p:spPr>
                <a:xfrm>
                  <a:off x="3851280" y="62247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Oval 388"/>
                <p:cNvSpPr/>
                <p:nvPr/>
              </p:nvSpPr>
              <p:spPr>
                <a:xfrm rot="5400000">
                  <a:off x="385092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" name="Group 327"/>
              <p:cNvGrpSpPr/>
              <p:nvPr/>
            </p:nvGrpSpPr>
            <p:grpSpPr>
              <a:xfrm>
                <a:off x="3859920" y="6176880"/>
                <a:ext cx="125640" cy="126720"/>
                <a:chOff x="3859920" y="6176880"/>
                <a:chExt cx="125640" cy="126720"/>
              </a:xfrm>
            </p:grpSpPr>
            <p:sp>
              <p:nvSpPr>
                <p:cNvPr id="414" name="Oval 390"/>
                <p:cNvSpPr/>
                <p:nvPr/>
              </p:nvSpPr>
              <p:spPr>
                <a:xfrm rot="2700000">
                  <a:off x="3850200" y="62244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Oval 391"/>
                <p:cNvSpPr/>
                <p:nvPr/>
              </p:nvSpPr>
              <p:spPr>
                <a:xfrm rot="8100000">
                  <a:off x="385056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6" name="Group 330"/>
            <p:cNvGrpSpPr/>
            <p:nvPr/>
          </p:nvGrpSpPr>
          <p:grpSpPr>
            <a:xfrm>
              <a:off x="3849840" y="6166440"/>
              <a:ext cx="146160" cy="146880"/>
              <a:chOff x="3849840" y="6166440"/>
              <a:chExt cx="146160" cy="146880"/>
            </a:xfrm>
          </p:grpSpPr>
          <p:grpSp>
            <p:nvGrpSpPr>
              <p:cNvPr id="417" name="Group 331"/>
              <p:cNvGrpSpPr/>
              <p:nvPr/>
            </p:nvGrpSpPr>
            <p:grpSpPr>
              <a:xfrm>
                <a:off x="3849840" y="6166440"/>
                <a:ext cx="146160" cy="146160"/>
                <a:chOff x="3849840" y="6166440"/>
                <a:chExt cx="146160" cy="146160"/>
              </a:xfrm>
            </p:grpSpPr>
            <p:sp>
              <p:nvSpPr>
                <p:cNvPr id="418" name="Oval 394"/>
                <p:cNvSpPr/>
                <p:nvPr/>
              </p:nvSpPr>
              <p:spPr>
                <a:xfrm rot="1320000">
                  <a:off x="3850560" y="62244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Oval 395"/>
                <p:cNvSpPr/>
                <p:nvPr/>
              </p:nvSpPr>
              <p:spPr>
                <a:xfrm rot="6720000">
                  <a:off x="385092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" name="Group 334"/>
              <p:cNvGrpSpPr/>
              <p:nvPr/>
            </p:nvGrpSpPr>
            <p:grpSpPr>
              <a:xfrm>
                <a:off x="3850200" y="6167520"/>
                <a:ext cx="145800" cy="145800"/>
                <a:chOff x="3850200" y="6167520"/>
                <a:chExt cx="145800" cy="145800"/>
              </a:xfrm>
            </p:grpSpPr>
            <p:sp>
              <p:nvSpPr>
                <p:cNvPr id="421" name="Oval 397"/>
                <p:cNvSpPr/>
                <p:nvPr/>
              </p:nvSpPr>
              <p:spPr>
                <a:xfrm rot="4020000">
                  <a:off x="3849480" y="62236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Oval 398"/>
                <p:cNvSpPr/>
                <p:nvPr/>
              </p:nvSpPr>
              <p:spPr>
                <a:xfrm rot="9420000">
                  <a:off x="3850920" y="622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3" name="Oval 399"/>
            <p:cNvSpPr/>
            <p:nvPr/>
          </p:nvSpPr>
          <p:spPr>
            <a:xfrm>
              <a:off x="3899520" y="6218280"/>
              <a:ext cx="47160" cy="4212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338"/>
          <p:cNvGrpSpPr/>
          <p:nvPr/>
        </p:nvGrpSpPr>
        <p:grpSpPr>
          <a:xfrm>
            <a:off x="8602920" y="5661360"/>
            <a:ext cx="146160" cy="147240"/>
            <a:chOff x="8602920" y="5661360"/>
            <a:chExt cx="146160" cy="147240"/>
          </a:xfrm>
        </p:grpSpPr>
        <p:grpSp>
          <p:nvGrpSpPr>
            <p:cNvPr id="425" name="Group 339"/>
            <p:cNvGrpSpPr/>
            <p:nvPr/>
          </p:nvGrpSpPr>
          <p:grpSpPr>
            <a:xfrm>
              <a:off x="8604360" y="5662440"/>
              <a:ext cx="144360" cy="144720"/>
              <a:chOff x="8604360" y="5662440"/>
              <a:chExt cx="144360" cy="144720"/>
            </a:xfrm>
          </p:grpSpPr>
          <p:grpSp>
            <p:nvGrpSpPr>
              <p:cNvPr id="426" name="Group 340"/>
              <p:cNvGrpSpPr/>
              <p:nvPr/>
            </p:nvGrpSpPr>
            <p:grpSpPr>
              <a:xfrm>
                <a:off x="8604360" y="5662440"/>
                <a:ext cx="144360" cy="144720"/>
                <a:chOff x="8604360" y="5662440"/>
                <a:chExt cx="144360" cy="144720"/>
              </a:xfrm>
            </p:grpSpPr>
            <p:sp>
              <p:nvSpPr>
                <p:cNvPr id="427" name="Oval 403"/>
                <p:cNvSpPr/>
                <p:nvPr/>
              </p:nvSpPr>
              <p:spPr>
                <a:xfrm>
                  <a:off x="8604360" y="57196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Oval 404"/>
                <p:cNvSpPr/>
                <p:nvPr/>
              </p:nvSpPr>
              <p:spPr>
                <a:xfrm rot="5400000">
                  <a:off x="8603640" y="571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Group 343"/>
              <p:cNvGrpSpPr/>
              <p:nvPr/>
            </p:nvGrpSpPr>
            <p:grpSpPr>
              <a:xfrm>
                <a:off x="8612640" y="5672160"/>
                <a:ext cx="126000" cy="126720"/>
                <a:chOff x="8612640" y="5672160"/>
                <a:chExt cx="126000" cy="126720"/>
              </a:xfrm>
            </p:grpSpPr>
            <p:sp>
              <p:nvSpPr>
                <p:cNvPr id="430" name="Oval 406"/>
                <p:cNvSpPr/>
                <p:nvPr/>
              </p:nvSpPr>
              <p:spPr>
                <a:xfrm rot="2700000">
                  <a:off x="8602560" y="571932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Oval 407"/>
                <p:cNvSpPr/>
                <p:nvPr/>
              </p:nvSpPr>
              <p:spPr>
                <a:xfrm rot="8100000">
                  <a:off x="8603640" y="571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2" name="Group 346"/>
            <p:cNvGrpSpPr/>
            <p:nvPr/>
          </p:nvGrpSpPr>
          <p:grpSpPr>
            <a:xfrm>
              <a:off x="8602920" y="5661360"/>
              <a:ext cx="146160" cy="147240"/>
              <a:chOff x="8602920" y="5661360"/>
              <a:chExt cx="146160" cy="147240"/>
            </a:xfrm>
          </p:grpSpPr>
          <p:grpSp>
            <p:nvGrpSpPr>
              <p:cNvPr id="433" name="Group 347"/>
              <p:cNvGrpSpPr/>
              <p:nvPr/>
            </p:nvGrpSpPr>
            <p:grpSpPr>
              <a:xfrm>
                <a:off x="8602920" y="5661360"/>
                <a:ext cx="146160" cy="146520"/>
                <a:chOff x="8602920" y="5661360"/>
                <a:chExt cx="146160" cy="146520"/>
              </a:xfrm>
            </p:grpSpPr>
            <p:sp>
              <p:nvSpPr>
                <p:cNvPr id="434" name="Oval 410"/>
                <p:cNvSpPr/>
                <p:nvPr/>
              </p:nvSpPr>
              <p:spPr>
                <a:xfrm rot="1320000">
                  <a:off x="8603640" y="5719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Oval 411"/>
                <p:cNvSpPr/>
                <p:nvPr/>
              </p:nvSpPr>
              <p:spPr>
                <a:xfrm rot="6720000">
                  <a:off x="8603640" y="57178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" name="Group 350"/>
              <p:cNvGrpSpPr/>
              <p:nvPr/>
            </p:nvGrpSpPr>
            <p:grpSpPr>
              <a:xfrm>
                <a:off x="8603280" y="5662440"/>
                <a:ext cx="145800" cy="146160"/>
                <a:chOff x="8603280" y="5662440"/>
                <a:chExt cx="145800" cy="146160"/>
              </a:xfrm>
            </p:grpSpPr>
            <p:sp>
              <p:nvSpPr>
                <p:cNvPr id="437" name="Oval 413"/>
                <p:cNvSpPr/>
                <p:nvPr/>
              </p:nvSpPr>
              <p:spPr>
                <a:xfrm rot="4020000">
                  <a:off x="8602200" y="57189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Oval 414"/>
                <p:cNvSpPr/>
                <p:nvPr/>
              </p:nvSpPr>
              <p:spPr>
                <a:xfrm rot="9420000">
                  <a:off x="8604000" y="5717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9" name="Oval 415"/>
            <p:cNvSpPr/>
            <p:nvPr/>
          </p:nvSpPr>
          <p:spPr>
            <a:xfrm>
              <a:off x="8652600" y="5713560"/>
              <a:ext cx="47160" cy="42120"/>
            </a:xfrm>
            <a:prstGeom prst="ellips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354"/>
          <p:cNvGrpSpPr/>
          <p:nvPr/>
        </p:nvGrpSpPr>
        <p:grpSpPr>
          <a:xfrm>
            <a:off x="5289840" y="5806080"/>
            <a:ext cx="146160" cy="146880"/>
            <a:chOff x="5289840" y="5806080"/>
            <a:chExt cx="146160" cy="146880"/>
          </a:xfrm>
        </p:grpSpPr>
        <p:grpSp>
          <p:nvGrpSpPr>
            <p:cNvPr id="441" name="Group 355"/>
            <p:cNvGrpSpPr/>
            <p:nvPr/>
          </p:nvGrpSpPr>
          <p:grpSpPr>
            <a:xfrm>
              <a:off x="5291280" y="5807160"/>
              <a:ext cx="144360" cy="144360"/>
              <a:chOff x="5291280" y="5807160"/>
              <a:chExt cx="144360" cy="144360"/>
            </a:xfrm>
          </p:grpSpPr>
          <p:grpSp>
            <p:nvGrpSpPr>
              <p:cNvPr id="442" name="Group 356"/>
              <p:cNvGrpSpPr/>
              <p:nvPr/>
            </p:nvGrpSpPr>
            <p:grpSpPr>
              <a:xfrm>
                <a:off x="5291280" y="5807160"/>
                <a:ext cx="144360" cy="144360"/>
                <a:chOff x="5291280" y="5807160"/>
                <a:chExt cx="144360" cy="144360"/>
              </a:xfrm>
            </p:grpSpPr>
            <p:sp>
              <p:nvSpPr>
                <p:cNvPr id="443" name="Oval 419"/>
                <p:cNvSpPr/>
                <p:nvPr/>
              </p:nvSpPr>
              <p:spPr>
                <a:xfrm>
                  <a:off x="5291280" y="58644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420"/>
                <p:cNvSpPr/>
                <p:nvPr/>
              </p:nvSpPr>
              <p:spPr>
                <a:xfrm rot="5400000">
                  <a:off x="5290920" y="586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5" name="Group 359"/>
              <p:cNvGrpSpPr/>
              <p:nvPr/>
            </p:nvGrpSpPr>
            <p:grpSpPr>
              <a:xfrm>
                <a:off x="5299920" y="5816520"/>
                <a:ext cx="125640" cy="126720"/>
                <a:chOff x="5299920" y="5816520"/>
                <a:chExt cx="125640" cy="126720"/>
              </a:xfrm>
            </p:grpSpPr>
            <p:sp>
              <p:nvSpPr>
                <p:cNvPr id="446" name="Oval 422"/>
                <p:cNvSpPr/>
                <p:nvPr/>
              </p:nvSpPr>
              <p:spPr>
                <a:xfrm rot="2700000">
                  <a:off x="5290200" y="58640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Oval 423"/>
                <p:cNvSpPr/>
                <p:nvPr/>
              </p:nvSpPr>
              <p:spPr>
                <a:xfrm rot="8100000">
                  <a:off x="529056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8" name="Group 362"/>
            <p:cNvGrpSpPr/>
            <p:nvPr/>
          </p:nvGrpSpPr>
          <p:grpSpPr>
            <a:xfrm>
              <a:off x="5289840" y="5806080"/>
              <a:ext cx="146160" cy="146880"/>
              <a:chOff x="5289840" y="5806080"/>
              <a:chExt cx="146160" cy="146880"/>
            </a:xfrm>
          </p:grpSpPr>
          <p:grpSp>
            <p:nvGrpSpPr>
              <p:cNvPr id="449" name="Group 363"/>
              <p:cNvGrpSpPr/>
              <p:nvPr/>
            </p:nvGrpSpPr>
            <p:grpSpPr>
              <a:xfrm>
                <a:off x="5289840" y="5806080"/>
                <a:ext cx="146160" cy="146160"/>
                <a:chOff x="5289840" y="5806080"/>
                <a:chExt cx="146160" cy="146160"/>
              </a:xfrm>
            </p:grpSpPr>
            <p:sp>
              <p:nvSpPr>
                <p:cNvPr id="450" name="Oval 426"/>
                <p:cNvSpPr/>
                <p:nvPr/>
              </p:nvSpPr>
              <p:spPr>
                <a:xfrm rot="1320000">
                  <a:off x="5290560" y="58640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Oval 427"/>
                <p:cNvSpPr/>
                <p:nvPr/>
              </p:nvSpPr>
              <p:spPr>
                <a:xfrm rot="6720000">
                  <a:off x="529092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Group 366"/>
              <p:cNvGrpSpPr/>
              <p:nvPr/>
            </p:nvGrpSpPr>
            <p:grpSpPr>
              <a:xfrm>
                <a:off x="5290200" y="5807160"/>
                <a:ext cx="145800" cy="145800"/>
                <a:chOff x="5290200" y="5807160"/>
                <a:chExt cx="145800" cy="145800"/>
              </a:xfrm>
            </p:grpSpPr>
            <p:sp>
              <p:nvSpPr>
                <p:cNvPr id="453" name="Oval 429"/>
                <p:cNvSpPr/>
                <p:nvPr/>
              </p:nvSpPr>
              <p:spPr>
                <a:xfrm rot="4020000">
                  <a:off x="5289480" y="586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Oval 430"/>
                <p:cNvSpPr/>
                <p:nvPr/>
              </p:nvSpPr>
              <p:spPr>
                <a:xfrm rot="9420000">
                  <a:off x="5290920" y="586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5" name="Oval 431"/>
            <p:cNvSpPr/>
            <p:nvPr/>
          </p:nvSpPr>
          <p:spPr>
            <a:xfrm>
              <a:off x="5339520" y="5857920"/>
              <a:ext cx="47160" cy="42120"/>
            </a:xfrm>
            <a:prstGeom prst="ellips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370"/>
          <p:cNvGrpSpPr/>
          <p:nvPr/>
        </p:nvGrpSpPr>
        <p:grpSpPr>
          <a:xfrm>
            <a:off x="8242560" y="5590080"/>
            <a:ext cx="146160" cy="146880"/>
            <a:chOff x="8242560" y="5590080"/>
            <a:chExt cx="146160" cy="146880"/>
          </a:xfrm>
        </p:grpSpPr>
        <p:grpSp>
          <p:nvGrpSpPr>
            <p:cNvPr id="457" name="Group 371"/>
            <p:cNvGrpSpPr/>
            <p:nvPr/>
          </p:nvGrpSpPr>
          <p:grpSpPr>
            <a:xfrm>
              <a:off x="8244000" y="5591160"/>
              <a:ext cx="144360" cy="144360"/>
              <a:chOff x="8244000" y="5591160"/>
              <a:chExt cx="144360" cy="144360"/>
            </a:xfrm>
          </p:grpSpPr>
          <p:grpSp>
            <p:nvGrpSpPr>
              <p:cNvPr id="458" name="Group 372"/>
              <p:cNvGrpSpPr/>
              <p:nvPr/>
            </p:nvGrpSpPr>
            <p:grpSpPr>
              <a:xfrm>
                <a:off x="8244000" y="5591160"/>
                <a:ext cx="144360" cy="144360"/>
                <a:chOff x="8244000" y="5591160"/>
                <a:chExt cx="144360" cy="144360"/>
              </a:xfrm>
            </p:grpSpPr>
            <p:sp>
              <p:nvSpPr>
                <p:cNvPr id="459" name="Oval 435"/>
                <p:cNvSpPr/>
                <p:nvPr/>
              </p:nvSpPr>
              <p:spPr>
                <a:xfrm>
                  <a:off x="8244000" y="56484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Oval 436"/>
                <p:cNvSpPr/>
                <p:nvPr/>
              </p:nvSpPr>
              <p:spPr>
                <a:xfrm rot="5400000">
                  <a:off x="8243640" y="5646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Group 375"/>
              <p:cNvGrpSpPr/>
              <p:nvPr/>
            </p:nvGrpSpPr>
            <p:grpSpPr>
              <a:xfrm>
                <a:off x="8252640" y="5600520"/>
                <a:ext cx="125640" cy="126720"/>
                <a:chOff x="8252640" y="5600520"/>
                <a:chExt cx="125640" cy="126720"/>
              </a:xfrm>
            </p:grpSpPr>
            <p:sp>
              <p:nvSpPr>
                <p:cNvPr id="462" name="Oval 438"/>
                <p:cNvSpPr/>
                <p:nvPr/>
              </p:nvSpPr>
              <p:spPr>
                <a:xfrm rot="2700000">
                  <a:off x="8242920" y="56480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Oval 439"/>
                <p:cNvSpPr/>
                <p:nvPr/>
              </p:nvSpPr>
              <p:spPr>
                <a:xfrm rot="8100000">
                  <a:off x="824328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4" name="Group 378"/>
            <p:cNvGrpSpPr/>
            <p:nvPr/>
          </p:nvGrpSpPr>
          <p:grpSpPr>
            <a:xfrm>
              <a:off x="8242560" y="5590080"/>
              <a:ext cx="146160" cy="146880"/>
              <a:chOff x="8242560" y="5590080"/>
              <a:chExt cx="146160" cy="146880"/>
            </a:xfrm>
          </p:grpSpPr>
          <p:grpSp>
            <p:nvGrpSpPr>
              <p:cNvPr id="465" name="Group 379"/>
              <p:cNvGrpSpPr/>
              <p:nvPr/>
            </p:nvGrpSpPr>
            <p:grpSpPr>
              <a:xfrm>
                <a:off x="8242560" y="5590080"/>
                <a:ext cx="146160" cy="146160"/>
                <a:chOff x="8242560" y="5590080"/>
                <a:chExt cx="146160" cy="146160"/>
              </a:xfrm>
            </p:grpSpPr>
            <p:sp>
              <p:nvSpPr>
                <p:cNvPr id="466" name="Oval 442"/>
                <p:cNvSpPr/>
                <p:nvPr/>
              </p:nvSpPr>
              <p:spPr>
                <a:xfrm rot="1320000">
                  <a:off x="8243280" y="56480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Oval 443"/>
                <p:cNvSpPr/>
                <p:nvPr/>
              </p:nvSpPr>
              <p:spPr>
                <a:xfrm rot="6720000">
                  <a:off x="824364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8" name="Group 382"/>
              <p:cNvGrpSpPr/>
              <p:nvPr/>
            </p:nvGrpSpPr>
            <p:grpSpPr>
              <a:xfrm>
                <a:off x="8242920" y="5591160"/>
                <a:ext cx="145800" cy="145800"/>
                <a:chOff x="8242920" y="5591160"/>
                <a:chExt cx="145800" cy="145800"/>
              </a:xfrm>
            </p:grpSpPr>
            <p:sp>
              <p:nvSpPr>
                <p:cNvPr id="469" name="Oval 445"/>
                <p:cNvSpPr/>
                <p:nvPr/>
              </p:nvSpPr>
              <p:spPr>
                <a:xfrm rot="4020000">
                  <a:off x="8242200" y="5647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Oval 446"/>
                <p:cNvSpPr/>
                <p:nvPr/>
              </p:nvSpPr>
              <p:spPr>
                <a:xfrm rot="9420000">
                  <a:off x="8243640" y="5646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1" name="Oval 447"/>
            <p:cNvSpPr/>
            <p:nvPr/>
          </p:nvSpPr>
          <p:spPr>
            <a:xfrm>
              <a:off x="8292240" y="5641920"/>
              <a:ext cx="47160" cy="42120"/>
            </a:xfrm>
            <a:prstGeom prst="ellips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oup 386"/>
          <p:cNvGrpSpPr/>
          <p:nvPr/>
        </p:nvGrpSpPr>
        <p:grpSpPr>
          <a:xfrm>
            <a:off x="5361120" y="5445720"/>
            <a:ext cx="146160" cy="146880"/>
            <a:chOff x="5361120" y="5445720"/>
            <a:chExt cx="146160" cy="146880"/>
          </a:xfrm>
        </p:grpSpPr>
        <p:grpSp>
          <p:nvGrpSpPr>
            <p:cNvPr id="473" name="Group 387"/>
            <p:cNvGrpSpPr/>
            <p:nvPr/>
          </p:nvGrpSpPr>
          <p:grpSpPr>
            <a:xfrm>
              <a:off x="5362560" y="5446800"/>
              <a:ext cx="144360" cy="144360"/>
              <a:chOff x="5362560" y="5446800"/>
              <a:chExt cx="144360" cy="144360"/>
            </a:xfrm>
          </p:grpSpPr>
          <p:grpSp>
            <p:nvGrpSpPr>
              <p:cNvPr id="474" name="Group 388"/>
              <p:cNvGrpSpPr/>
              <p:nvPr/>
            </p:nvGrpSpPr>
            <p:grpSpPr>
              <a:xfrm>
                <a:off x="5362560" y="5446800"/>
                <a:ext cx="144360" cy="144360"/>
                <a:chOff x="5362560" y="5446800"/>
                <a:chExt cx="144360" cy="144360"/>
              </a:xfrm>
            </p:grpSpPr>
            <p:sp>
              <p:nvSpPr>
                <p:cNvPr id="475" name="Oval 451"/>
                <p:cNvSpPr/>
                <p:nvPr/>
              </p:nvSpPr>
              <p:spPr>
                <a:xfrm>
                  <a:off x="5362560" y="55040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Oval 452"/>
                <p:cNvSpPr/>
                <p:nvPr/>
              </p:nvSpPr>
              <p:spPr>
                <a:xfrm rot="5400000">
                  <a:off x="5362200" y="550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" name="Group 391"/>
              <p:cNvGrpSpPr/>
              <p:nvPr/>
            </p:nvGrpSpPr>
            <p:grpSpPr>
              <a:xfrm>
                <a:off x="5371200" y="5456160"/>
                <a:ext cx="125640" cy="126720"/>
                <a:chOff x="5371200" y="5456160"/>
                <a:chExt cx="125640" cy="126720"/>
              </a:xfrm>
            </p:grpSpPr>
            <p:sp>
              <p:nvSpPr>
                <p:cNvPr id="478" name="Oval 454"/>
                <p:cNvSpPr/>
                <p:nvPr/>
              </p:nvSpPr>
              <p:spPr>
                <a:xfrm rot="2700000">
                  <a:off x="5361480" y="55036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Oval 455"/>
                <p:cNvSpPr/>
                <p:nvPr/>
              </p:nvSpPr>
              <p:spPr>
                <a:xfrm rot="8100000">
                  <a:off x="536184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Group 394"/>
            <p:cNvGrpSpPr/>
            <p:nvPr/>
          </p:nvGrpSpPr>
          <p:grpSpPr>
            <a:xfrm>
              <a:off x="5361120" y="5445720"/>
              <a:ext cx="146160" cy="146880"/>
              <a:chOff x="5361120" y="5445720"/>
              <a:chExt cx="146160" cy="146880"/>
            </a:xfrm>
          </p:grpSpPr>
          <p:grpSp>
            <p:nvGrpSpPr>
              <p:cNvPr id="481" name="Group 395"/>
              <p:cNvGrpSpPr/>
              <p:nvPr/>
            </p:nvGrpSpPr>
            <p:grpSpPr>
              <a:xfrm>
                <a:off x="5361120" y="5445720"/>
                <a:ext cx="146160" cy="146160"/>
                <a:chOff x="5361120" y="5445720"/>
                <a:chExt cx="146160" cy="146160"/>
              </a:xfrm>
            </p:grpSpPr>
            <p:sp>
              <p:nvSpPr>
                <p:cNvPr id="482" name="Oval 458"/>
                <p:cNvSpPr/>
                <p:nvPr/>
              </p:nvSpPr>
              <p:spPr>
                <a:xfrm rot="1320000">
                  <a:off x="5361840" y="55036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Oval 459"/>
                <p:cNvSpPr/>
                <p:nvPr/>
              </p:nvSpPr>
              <p:spPr>
                <a:xfrm rot="6720000">
                  <a:off x="536220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4" name="Group 398"/>
              <p:cNvGrpSpPr/>
              <p:nvPr/>
            </p:nvGrpSpPr>
            <p:grpSpPr>
              <a:xfrm>
                <a:off x="5361480" y="5446800"/>
                <a:ext cx="145800" cy="145800"/>
                <a:chOff x="5361480" y="5446800"/>
                <a:chExt cx="145800" cy="145800"/>
              </a:xfrm>
            </p:grpSpPr>
            <p:sp>
              <p:nvSpPr>
                <p:cNvPr id="485" name="Oval 461"/>
                <p:cNvSpPr/>
                <p:nvPr/>
              </p:nvSpPr>
              <p:spPr>
                <a:xfrm rot="4020000">
                  <a:off x="5360760" y="550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Oval 462"/>
                <p:cNvSpPr/>
                <p:nvPr/>
              </p:nvSpPr>
              <p:spPr>
                <a:xfrm rot="9420000">
                  <a:off x="5362200" y="5501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7" name="Oval 463"/>
            <p:cNvSpPr/>
            <p:nvPr/>
          </p:nvSpPr>
          <p:spPr>
            <a:xfrm>
              <a:off x="5410800" y="5497560"/>
              <a:ext cx="47160" cy="42120"/>
            </a:xfrm>
            <a:prstGeom prst="ellips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402"/>
          <p:cNvGrpSpPr/>
          <p:nvPr/>
        </p:nvGrpSpPr>
        <p:grpSpPr>
          <a:xfrm>
            <a:off x="1399680" y="5658480"/>
            <a:ext cx="367920" cy="368640"/>
            <a:chOff x="1399680" y="5658480"/>
            <a:chExt cx="367920" cy="368640"/>
          </a:xfrm>
        </p:grpSpPr>
        <p:grpSp>
          <p:nvGrpSpPr>
            <p:cNvPr id="489" name="Group 403"/>
            <p:cNvGrpSpPr/>
            <p:nvPr/>
          </p:nvGrpSpPr>
          <p:grpSpPr>
            <a:xfrm>
              <a:off x="1403280" y="5661000"/>
              <a:ext cx="363240" cy="363240"/>
              <a:chOff x="1403280" y="5661000"/>
              <a:chExt cx="363240" cy="363240"/>
            </a:xfrm>
          </p:grpSpPr>
          <p:grpSp>
            <p:nvGrpSpPr>
              <p:cNvPr id="490" name="Group 404"/>
              <p:cNvGrpSpPr/>
              <p:nvPr/>
            </p:nvGrpSpPr>
            <p:grpSpPr>
              <a:xfrm>
                <a:off x="1403280" y="5661000"/>
                <a:ext cx="363240" cy="363240"/>
                <a:chOff x="1403280" y="5661000"/>
                <a:chExt cx="363240" cy="363240"/>
              </a:xfrm>
            </p:grpSpPr>
            <p:sp>
              <p:nvSpPr>
                <p:cNvPr id="491" name="Oval 467"/>
                <p:cNvSpPr/>
                <p:nvPr/>
              </p:nvSpPr>
              <p:spPr>
                <a:xfrm>
                  <a:off x="1403280" y="58050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Oval 468"/>
                <p:cNvSpPr/>
                <p:nvPr/>
              </p:nvSpPr>
              <p:spPr>
                <a:xfrm rot="5400000">
                  <a:off x="140256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Group 407"/>
              <p:cNvGrpSpPr/>
              <p:nvPr/>
            </p:nvGrpSpPr>
            <p:grpSpPr>
              <a:xfrm>
                <a:off x="1424520" y="5684760"/>
                <a:ext cx="317160" cy="317880"/>
                <a:chOff x="1424520" y="5684760"/>
                <a:chExt cx="317160" cy="317880"/>
              </a:xfrm>
            </p:grpSpPr>
            <p:sp>
              <p:nvSpPr>
                <p:cNvPr id="494" name="Oval 470"/>
                <p:cNvSpPr/>
                <p:nvPr/>
              </p:nvSpPr>
              <p:spPr>
                <a:xfrm rot="2700000">
                  <a:off x="1400400" y="58039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Oval 471"/>
                <p:cNvSpPr/>
                <p:nvPr/>
              </p:nvSpPr>
              <p:spPr>
                <a:xfrm rot="8100000">
                  <a:off x="140220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6" name="Group 410"/>
            <p:cNvGrpSpPr/>
            <p:nvPr/>
          </p:nvGrpSpPr>
          <p:grpSpPr>
            <a:xfrm>
              <a:off x="1399680" y="5658480"/>
              <a:ext cx="367920" cy="368640"/>
              <a:chOff x="1399680" y="5658480"/>
              <a:chExt cx="367920" cy="368640"/>
            </a:xfrm>
          </p:grpSpPr>
          <p:grpSp>
            <p:nvGrpSpPr>
              <p:cNvPr id="497" name="Group 411"/>
              <p:cNvGrpSpPr/>
              <p:nvPr/>
            </p:nvGrpSpPr>
            <p:grpSpPr>
              <a:xfrm>
                <a:off x="1399680" y="5658480"/>
                <a:ext cx="367920" cy="367920"/>
                <a:chOff x="1399680" y="5658480"/>
                <a:chExt cx="367920" cy="367920"/>
              </a:xfrm>
            </p:grpSpPr>
            <p:sp>
              <p:nvSpPr>
                <p:cNvPr id="498" name="Oval 474"/>
                <p:cNvSpPr/>
                <p:nvPr/>
              </p:nvSpPr>
              <p:spPr>
                <a:xfrm rot="1320000">
                  <a:off x="1401840" y="58042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Oval 475"/>
                <p:cNvSpPr/>
                <p:nvPr/>
              </p:nvSpPr>
              <p:spPr>
                <a:xfrm rot="6720000">
                  <a:off x="140256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Group 414"/>
              <p:cNvGrpSpPr/>
              <p:nvPr/>
            </p:nvGrpSpPr>
            <p:grpSpPr>
              <a:xfrm>
                <a:off x="1401120" y="5660640"/>
                <a:ext cx="366480" cy="366480"/>
                <a:chOff x="1401120" y="5660640"/>
                <a:chExt cx="366480" cy="366480"/>
              </a:xfrm>
            </p:grpSpPr>
            <p:sp>
              <p:nvSpPr>
                <p:cNvPr id="501" name="Oval 477"/>
                <p:cNvSpPr/>
                <p:nvPr/>
              </p:nvSpPr>
              <p:spPr>
                <a:xfrm rot="4020000">
                  <a:off x="1399680" y="580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Oval 478"/>
                <p:cNvSpPr/>
                <p:nvPr/>
              </p:nvSpPr>
              <p:spPr>
                <a:xfrm rot="9420000">
                  <a:off x="1402560" y="580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3" name="Oval 479"/>
            <p:cNvSpPr/>
            <p:nvPr/>
          </p:nvSpPr>
          <p:spPr>
            <a:xfrm>
              <a:off x="1525320" y="5789160"/>
              <a:ext cx="118800" cy="105840"/>
            </a:xfrm>
            <a:prstGeom prst="ellips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418"/>
          <p:cNvGrpSpPr/>
          <p:nvPr/>
        </p:nvGrpSpPr>
        <p:grpSpPr>
          <a:xfrm>
            <a:off x="2192040" y="5659920"/>
            <a:ext cx="367920" cy="368640"/>
            <a:chOff x="2192040" y="5659920"/>
            <a:chExt cx="367920" cy="368640"/>
          </a:xfrm>
        </p:grpSpPr>
        <p:grpSp>
          <p:nvGrpSpPr>
            <p:cNvPr id="505" name="Group 419"/>
            <p:cNvGrpSpPr/>
            <p:nvPr/>
          </p:nvGrpSpPr>
          <p:grpSpPr>
            <a:xfrm>
              <a:off x="2195640" y="5662440"/>
              <a:ext cx="362880" cy="363240"/>
              <a:chOff x="2195640" y="5662440"/>
              <a:chExt cx="362880" cy="363240"/>
            </a:xfrm>
          </p:grpSpPr>
          <p:grpSp>
            <p:nvGrpSpPr>
              <p:cNvPr id="506" name="Group 420"/>
              <p:cNvGrpSpPr/>
              <p:nvPr/>
            </p:nvGrpSpPr>
            <p:grpSpPr>
              <a:xfrm>
                <a:off x="2195640" y="5662440"/>
                <a:ext cx="362880" cy="363240"/>
                <a:chOff x="2195640" y="5662440"/>
                <a:chExt cx="362880" cy="363240"/>
              </a:xfrm>
            </p:grpSpPr>
            <p:sp>
              <p:nvSpPr>
                <p:cNvPr id="507" name="Oval 483"/>
                <p:cNvSpPr/>
                <p:nvPr/>
              </p:nvSpPr>
              <p:spPr>
                <a:xfrm>
                  <a:off x="2195640" y="58064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Oval 484"/>
                <p:cNvSpPr/>
                <p:nvPr/>
              </p:nvSpPr>
              <p:spPr>
                <a:xfrm rot="5400000">
                  <a:off x="2194920" y="580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Group 423"/>
              <p:cNvGrpSpPr/>
              <p:nvPr/>
            </p:nvGrpSpPr>
            <p:grpSpPr>
              <a:xfrm>
                <a:off x="2216880" y="5686200"/>
                <a:ext cx="317160" cy="317880"/>
                <a:chOff x="2216880" y="5686200"/>
                <a:chExt cx="317160" cy="317880"/>
              </a:xfrm>
            </p:grpSpPr>
            <p:sp>
              <p:nvSpPr>
                <p:cNvPr id="510" name="Oval 486"/>
                <p:cNvSpPr/>
                <p:nvPr/>
              </p:nvSpPr>
              <p:spPr>
                <a:xfrm rot="2700000">
                  <a:off x="2192760" y="58053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Oval 487"/>
                <p:cNvSpPr/>
                <p:nvPr/>
              </p:nvSpPr>
              <p:spPr>
                <a:xfrm rot="8100000">
                  <a:off x="2194920" y="5802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2" name="Group 426"/>
            <p:cNvGrpSpPr/>
            <p:nvPr/>
          </p:nvGrpSpPr>
          <p:grpSpPr>
            <a:xfrm>
              <a:off x="2192040" y="5659920"/>
              <a:ext cx="367920" cy="368640"/>
              <a:chOff x="2192040" y="5659920"/>
              <a:chExt cx="367920" cy="368640"/>
            </a:xfrm>
          </p:grpSpPr>
          <p:grpSp>
            <p:nvGrpSpPr>
              <p:cNvPr id="513" name="Group 427"/>
              <p:cNvGrpSpPr/>
              <p:nvPr/>
            </p:nvGrpSpPr>
            <p:grpSpPr>
              <a:xfrm>
                <a:off x="2192040" y="5659920"/>
                <a:ext cx="367560" cy="367920"/>
                <a:chOff x="2192040" y="5659920"/>
                <a:chExt cx="367560" cy="367920"/>
              </a:xfrm>
            </p:grpSpPr>
            <p:sp>
              <p:nvSpPr>
                <p:cNvPr id="514" name="Oval 490"/>
                <p:cNvSpPr/>
                <p:nvPr/>
              </p:nvSpPr>
              <p:spPr>
                <a:xfrm rot="1320000">
                  <a:off x="2194200" y="580608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Oval 491"/>
                <p:cNvSpPr/>
                <p:nvPr/>
              </p:nvSpPr>
              <p:spPr>
                <a:xfrm rot="6720000">
                  <a:off x="2194920" y="580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Group 430"/>
              <p:cNvGrpSpPr/>
              <p:nvPr/>
            </p:nvGrpSpPr>
            <p:grpSpPr>
              <a:xfrm>
                <a:off x="2193840" y="5662080"/>
                <a:ext cx="366120" cy="366480"/>
                <a:chOff x="2193840" y="5662080"/>
                <a:chExt cx="366120" cy="366480"/>
              </a:xfrm>
            </p:grpSpPr>
            <p:sp>
              <p:nvSpPr>
                <p:cNvPr id="517" name="Oval 493"/>
                <p:cNvSpPr/>
                <p:nvPr/>
              </p:nvSpPr>
              <p:spPr>
                <a:xfrm rot="4020000">
                  <a:off x="2192040" y="58039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Oval 494"/>
                <p:cNvSpPr/>
                <p:nvPr/>
              </p:nvSpPr>
              <p:spPr>
                <a:xfrm rot="9420000">
                  <a:off x="2195280" y="5802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9" name="Oval 495"/>
            <p:cNvSpPr/>
            <p:nvPr/>
          </p:nvSpPr>
          <p:spPr>
            <a:xfrm>
              <a:off x="2317320" y="5790600"/>
              <a:ext cx="118440" cy="105840"/>
            </a:xfrm>
            <a:prstGeom prst="ellipse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434"/>
          <p:cNvGrpSpPr/>
          <p:nvPr/>
        </p:nvGrpSpPr>
        <p:grpSpPr>
          <a:xfrm>
            <a:off x="1112400" y="5082120"/>
            <a:ext cx="367920" cy="368640"/>
            <a:chOff x="1112400" y="5082120"/>
            <a:chExt cx="367920" cy="368640"/>
          </a:xfrm>
        </p:grpSpPr>
        <p:grpSp>
          <p:nvGrpSpPr>
            <p:cNvPr id="521" name="Group 435"/>
            <p:cNvGrpSpPr/>
            <p:nvPr/>
          </p:nvGrpSpPr>
          <p:grpSpPr>
            <a:xfrm>
              <a:off x="1116000" y="5084640"/>
              <a:ext cx="363240" cy="363240"/>
              <a:chOff x="1116000" y="5084640"/>
              <a:chExt cx="363240" cy="363240"/>
            </a:xfrm>
          </p:grpSpPr>
          <p:grpSp>
            <p:nvGrpSpPr>
              <p:cNvPr id="522" name="Group 436"/>
              <p:cNvGrpSpPr/>
              <p:nvPr/>
            </p:nvGrpSpPr>
            <p:grpSpPr>
              <a:xfrm>
                <a:off x="1116000" y="5084640"/>
                <a:ext cx="363240" cy="363240"/>
                <a:chOff x="1116000" y="5084640"/>
                <a:chExt cx="363240" cy="363240"/>
              </a:xfrm>
            </p:grpSpPr>
            <p:sp>
              <p:nvSpPr>
                <p:cNvPr id="523" name="Oval 499"/>
                <p:cNvSpPr/>
                <p:nvPr/>
              </p:nvSpPr>
              <p:spPr>
                <a:xfrm>
                  <a:off x="1116000" y="52286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Oval 500"/>
                <p:cNvSpPr/>
                <p:nvPr/>
              </p:nvSpPr>
              <p:spPr>
                <a:xfrm rot="5400000">
                  <a:off x="1115280" y="5225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5" name="Group 439"/>
              <p:cNvGrpSpPr/>
              <p:nvPr/>
            </p:nvGrpSpPr>
            <p:grpSpPr>
              <a:xfrm>
                <a:off x="1137240" y="5108400"/>
                <a:ext cx="317160" cy="317880"/>
                <a:chOff x="1137240" y="5108400"/>
                <a:chExt cx="317160" cy="317880"/>
              </a:xfrm>
            </p:grpSpPr>
            <p:sp>
              <p:nvSpPr>
                <p:cNvPr id="526" name="Oval 502"/>
                <p:cNvSpPr/>
                <p:nvPr/>
              </p:nvSpPr>
              <p:spPr>
                <a:xfrm rot="2700000">
                  <a:off x="1113120" y="52275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Oval 503"/>
                <p:cNvSpPr/>
                <p:nvPr/>
              </p:nvSpPr>
              <p:spPr>
                <a:xfrm rot="8100000">
                  <a:off x="1114920" y="5224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8" name="Group 442"/>
            <p:cNvGrpSpPr/>
            <p:nvPr/>
          </p:nvGrpSpPr>
          <p:grpSpPr>
            <a:xfrm>
              <a:off x="1112400" y="5082120"/>
              <a:ext cx="367920" cy="368640"/>
              <a:chOff x="1112400" y="5082120"/>
              <a:chExt cx="367920" cy="368640"/>
            </a:xfrm>
          </p:grpSpPr>
          <p:grpSp>
            <p:nvGrpSpPr>
              <p:cNvPr id="529" name="Group 443"/>
              <p:cNvGrpSpPr/>
              <p:nvPr/>
            </p:nvGrpSpPr>
            <p:grpSpPr>
              <a:xfrm>
                <a:off x="1112400" y="5082120"/>
                <a:ext cx="367920" cy="367920"/>
                <a:chOff x="1112400" y="5082120"/>
                <a:chExt cx="367920" cy="367920"/>
              </a:xfrm>
            </p:grpSpPr>
            <p:sp>
              <p:nvSpPr>
                <p:cNvPr id="530" name="Oval 506"/>
                <p:cNvSpPr/>
                <p:nvPr/>
              </p:nvSpPr>
              <p:spPr>
                <a:xfrm rot="1320000">
                  <a:off x="1114560" y="52279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Oval 507"/>
                <p:cNvSpPr/>
                <p:nvPr/>
              </p:nvSpPr>
              <p:spPr>
                <a:xfrm rot="6720000">
                  <a:off x="1115280" y="5224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Group 446"/>
              <p:cNvGrpSpPr/>
              <p:nvPr/>
            </p:nvGrpSpPr>
            <p:grpSpPr>
              <a:xfrm>
                <a:off x="1113840" y="5084280"/>
                <a:ext cx="366480" cy="366480"/>
                <a:chOff x="1113840" y="5084280"/>
                <a:chExt cx="366480" cy="366480"/>
              </a:xfrm>
            </p:grpSpPr>
            <p:sp>
              <p:nvSpPr>
                <p:cNvPr id="533" name="Oval 509"/>
                <p:cNvSpPr/>
                <p:nvPr/>
              </p:nvSpPr>
              <p:spPr>
                <a:xfrm rot="4020000">
                  <a:off x="1112400" y="5226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Oval 510"/>
                <p:cNvSpPr/>
                <p:nvPr/>
              </p:nvSpPr>
              <p:spPr>
                <a:xfrm rot="9420000">
                  <a:off x="1115280" y="52243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5" name="Oval 511"/>
            <p:cNvSpPr/>
            <p:nvPr/>
          </p:nvSpPr>
          <p:spPr>
            <a:xfrm>
              <a:off x="1238040" y="5212800"/>
              <a:ext cx="118800" cy="105840"/>
            </a:xfrm>
            <a:prstGeom prst="ellipse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Group 450"/>
          <p:cNvGrpSpPr/>
          <p:nvPr/>
        </p:nvGrpSpPr>
        <p:grpSpPr>
          <a:xfrm>
            <a:off x="1902960" y="5299560"/>
            <a:ext cx="367920" cy="368640"/>
            <a:chOff x="1902960" y="5299560"/>
            <a:chExt cx="367920" cy="368640"/>
          </a:xfrm>
        </p:grpSpPr>
        <p:grpSp>
          <p:nvGrpSpPr>
            <p:cNvPr id="537" name="Group 451"/>
            <p:cNvGrpSpPr/>
            <p:nvPr/>
          </p:nvGrpSpPr>
          <p:grpSpPr>
            <a:xfrm>
              <a:off x="1906560" y="5302080"/>
              <a:ext cx="363240" cy="363240"/>
              <a:chOff x="1906560" y="5302080"/>
              <a:chExt cx="363240" cy="363240"/>
            </a:xfrm>
          </p:grpSpPr>
          <p:grpSp>
            <p:nvGrpSpPr>
              <p:cNvPr id="538" name="Group 452"/>
              <p:cNvGrpSpPr/>
              <p:nvPr/>
            </p:nvGrpSpPr>
            <p:grpSpPr>
              <a:xfrm>
                <a:off x="1906560" y="5302080"/>
                <a:ext cx="363240" cy="363240"/>
                <a:chOff x="1906560" y="5302080"/>
                <a:chExt cx="363240" cy="363240"/>
              </a:xfrm>
            </p:grpSpPr>
            <p:sp>
              <p:nvSpPr>
                <p:cNvPr id="539" name="Oval 531"/>
                <p:cNvSpPr/>
                <p:nvPr/>
              </p:nvSpPr>
              <p:spPr>
                <a:xfrm>
                  <a:off x="1906560" y="54460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Oval 532"/>
                <p:cNvSpPr/>
                <p:nvPr/>
              </p:nvSpPr>
              <p:spPr>
                <a:xfrm rot="5400000">
                  <a:off x="190584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Group 455"/>
              <p:cNvGrpSpPr/>
              <p:nvPr/>
            </p:nvGrpSpPr>
            <p:grpSpPr>
              <a:xfrm>
                <a:off x="1927800" y="5325840"/>
                <a:ext cx="317160" cy="317880"/>
                <a:chOff x="1927800" y="5325840"/>
                <a:chExt cx="317160" cy="317880"/>
              </a:xfrm>
            </p:grpSpPr>
            <p:sp>
              <p:nvSpPr>
                <p:cNvPr id="542" name="Oval 534"/>
                <p:cNvSpPr/>
                <p:nvPr/>
              </p:nvSpPr>
              <p:spPr>
                <a:xfrm rot="2700000">
                  <a:off x="1903680" y="54450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Oval 535"/>
                <p:cNvSpPr/>
                <p:nvPr/>
              </p:nvSpPr>
              <p:spPr>
                <a:xfrm rot="8100000">
                  <a:off x="190548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4" name="Group 458"/>
            <p:cNvGrpSpPr/>
            <p:nvPr/>
          </p:nvGrpSpPr>
          <p:grpSpPr>
            <a:xfrm>
              <a:off x="1902960" y="5299560"/>
              <a:ext cx="367920" cy="368640"/>
              <a:chOff x="1902960" y="5299560"/>
              <a:chExt cx="367920" cy="368640"/>
            </a:xfrm>
          </p:grpSpPr>
          <p:grpSp>
            <p:nvGrpSpPr>
              <p:cNvPr id="545" name="Group 459"/>
              <p:cNvGrpSpPr/>
              <p:nvPr/>
            </p:nvGrpSpPr>
            <p:grpSpPr>
              <a:xfrm>
                <a:off x="1902960" y="5299560"/>
                <a:ext cx="367920" cy="367920"/>
                <a:chOff x="1902960" y="5299560"/>
                <a:chExt cx="367920" cy="367920"/>
              </a:xfrm>
            </p:grpSpPr>
            <p:sp>
              <p:nvSpPr>
                <p:cNvPr id="546" name="Oval 538"/>
                <p:cNvSpPr/>
                <p:nvPr/>
              </p:nvSpPr>
              <p:spPr>
                <a:xfrm rot="1320000">
                  <a:off x="1905120" y="54453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Oval 539"/>
                <p:cNvSpPr/>
                <p:nvPr/>
              </p:nvSpPr>
              <p:spPr>
                <a:xfrm rot="6720000">
                  <a:off x="190584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Group 462"/>
              <p:cNvGrpSpPr/>
              <p:nvPr/>
            </p:nvGrpSpPr>
            <p:grpSpPr>
              <a:xfrm>
                <a:off x="1904400" y="5301720"/>
                <a:ext cx="366480" cy="366480"/>
                <a:chOff x="1904400" y="5301720"/>
                <a:chExt cx="366480" cy="366480"/>
              </a:xfrm>
            </p:grpSpPr>
            <p:sp>
              <p:nvSpPr>
                <p:cNvPr id="549" name="Oval 541"/>
                <p:cNvSpPr/>
                <p:nvPr/>
              </p:nvSpPr>
              <p:spPr>
                <a:xfrm rot="4020000">
                  <a:off x="1902960" y="54435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Oval 542"/>
                <p:cNvSpPr/>
                <p:nvPr/>
              </p:nvSpPr>
              <p:spPr>
                <a:xfrm rot="9420000">
                  <a:off x="1905840" y="544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1" name="Oval 543"/>
            <p:cNvSpPr/>
            <p:nvPr/>
          </p:nvSpPr>
          <p:spPr>
            <a:xfrm>
              <a:off x="2028600" y="5430240"/>
              <a:ext cx="118800" cy="105840"/>
            </a:xfrm>
            <a:prstGeom prst="ellipse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466"/>
          <p:cNvGrpSpPr/>
          <p:nvPr/>
        </p:nvGrpSpPr>
        <p:grpSpPr>
          <a:xfrm>
            <a:off x="2625120" y="5805720"/>
            <a:ext cx="219240" cy="219240"/>
            <a:chOff x="2625120" y="5805720"/>
            <a:chExt cx="219240" cy="219240"/>
          </a:xfrm>
        </p:grpSpPr>
        <p:grpSp>
          <p:nvGrpSpPr>
            <p:cNvPr id="553" name="Group 467"/>
            <p:cNvGrpSpPr/>
            <p:nvPr/>
          </p:nvGrpSpPr>
          <p:grpSpPr>
            <a:xfrm>
              <a:off x="2627280" y="5807160"/>
              <a:ext cx="216000" cy="215640"/>
              <a:chOff x="2627280" y="5807160"/>
              <a:chExt cx="216000" cy="215640"/>
            </a:xfrm>
          </p:grpSpPr>
          <p:grpSp>
            <p:nvGrpSpPr>
              <p:cNvPr id="554" name="Group 468"/>
              <p:cNvGrpSpPr/>
              <p:nvPr/>
            </p:nvGrpSpPr>
            <p:grpSpPr>
              <a:xfrm>
                <a:off x="2627280" y="5807160"/>
                <a:ext cx="216000" cy="215640"/>
                <a:chOff x="2627280" y="5807160"/>
                <a:chExt cx="216000" cy="215640"/>
              </a:xfrm>
            </p:grpSpPr>
            <p:sp>
              <p:nvSpPr>
                <p:cNvPr id="555" name="Oval 547"/>
                <p:cNvSpPr/>
                <p:nvPr/>
              </p:nvSpPr>
              <p:spPr>
                <a:xfrm>
                  <a:off x="2627280" y="58928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Oval 548"/>
                <p:cNvSpPr/>
                <p:nvPr/>
              </p:nvSpPr>
              <p:spPr>
                <a:xfrm rot="5400000">
                  <a:off x="262692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7" name="Group 471"/>
              <p:cNvGrpSpPr/>
              <p:nvPr/>
            </p:nvGrpSpPr>
            <p:grpSpPr>
              <a:xfrm>
                <a:off x="2640240" y="5821200"/>
                <a:ext cx="188640" cy="189000"/>
                <a:chOff x="2640240" y="5821200"/>
                <a:chExt cx="188640" cy="189000"/>
              </a:xfrm>
            </p:grpSpPr>
            <p:sp>
              <p:nvSpPr>
                <p:cNvPr id="558" name="Oval 550"/>
                <p:cNvSpPr/>
                <p:nvPr/>
              </p:nvSpPr>
              <p:spPr>
                <a:xfrm rot="2700000">
                  <a:off x="2625840" y="58917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Oval 551"/>
                <p:cNvSpPr/>
                <p:nvPr/>
              </p:nvSpPr>
              <p:spPr>
                <a:xfrm rot="8100000">
                  <a:off x="262692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" name="Group 474"/>
            <p:cNvGrpSpPr/>
            <p:nvPr/>
          </p:nvGrpSpPr>
          <p:grpSpPr>
            <a:xfrm>
              <a:off x="2625120" y="5805720"/>
              <a:ext cx="219240" cy="219240"/>
              <a:chOff x="2625120" y="5805720"/>
              <a:chExt cx="219240" cy="219240"/>
            </a:xfrm>
          </p:grpSpPr>
          <p:grpSp>
            <p:nvGrpSpPr>
              <p:cNvPr id="561" name="Group 475"/>
              <p:cNvGrpSpPr/>
              <p:nvPr/>
            </p:nvGrpSpPr>
            <p:grpSpPr>
              <a:xfrm>
                <a:off x="2625120" y="5805720"/>
                <a:ext cx="218520" cy="218160"/>
                <a:chOff x="2625120" y="5805720"/>
                <a:chExt cx="218520" cy="218160"/>
              </a:xfrm>
            </p:grpSpPr>
            <p:sp>
              <p:nvSpPr>
                <p:cNvPr id="562" name="Oval 554"/>
                <p:cNvSpPr/>
                <p:nvPr/>
              </p:nvSpPr>
              <p:spPr>
                <a:xfrm rot="1320000">
                  <a:off x="2626200" y="58924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Oval 555"/>
                <p:cNvSpPr/>
                <p:nvPr/>
              </p:nvSpPr>
              <p:spPr>
                <a:xfrm rot="6720000">
                  <a:off x="262692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4" name="Group 478"/>
              <p:cNvGrpSpPr/>
              <p:nvPr/>
            </p:nvGrpSpPr>
            <p:grpSpPr>
              <a:xfrm>
                <a:off x="2626560" y="5807160"/>
                <a:ext cx="217800" cy="217800"/>
                <a:chOff x="2626560" y="5807160"/>
                <a:chExt cx="217800" cy="217800"/>
              </a:xfrm>
            </p:grpSpPr>
            <p:sp>
              <p:nvSpPr>
                <p:cNvPr id="565" name="Oval 557"/>
                <p:cNvSpPr/>
                <p:nvPr/>
              </p:nvSpPr>
              <p:spPr>
                <a:xfrm rot="4020000">
                  <a:off x="2625120" y="58914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Oval 558"/>
                <p:cNvSpPr/>
                <p:nvPr/>
              </p:nvSpPr>
              <p:spPr>
                <a:xfrm rot="9420000">
                  <a:off x="2627280" y="588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7" name="Oval 559"/>
            <p:cNvSpPr/>
            <p:nvPr/>
          </p:nvSpPr>
          <p:spPr>
            <a:xfrm>
              <a:off x="2699640" y="5883120"/>
              <a:ext cx="70560" cy="62640"/>
            </a:xfrm>
            <a:prstGeom prst="ellipse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482"/>
          <p:cNvGrpSpPr/>
          <p:nvPr/>
        </p:nvGrpSpPr>
        <p:grpSpPr>
          <a:xfrm>
            <a:off x="896400" y="5805720"/>
            <a:ext cx="219240" cy="219240"/>
            <a:chOff x="896400" y="5805720"/>
            <a:chExt cx="219240" cy="219240"/>
          </a:xfrm>
        </p:grpSpPr>
        <p:grpSp>
          <p:nvGrpSpPr>
            <p:cNvPr id="569" name="Group 483"/>
            <p:cNvGrpSpPr/>
            <p:nvPr/>
          </p:nvGrpSpPr>
          <p:grpSpPr>
            <a:xfrm>
              <a:off x="898560" y="5807160"/>
              <a:ext cx="216000" cy="215640"/>
              <a:chOff x="898560" y="5807160"/>
              <a:chExt cx="216000" cy="215640"/>
            </a:xfrm>
          </p:grpSpPr>
          <p:grpSp>
            <p:nvGrpSpPr>
              <p:cNvPr id="570" name="Group 484"/>
              <p:cNvGrpSpPr/>
              <p:nvPr/>
            </p:nvGrpSpPr>
            <p:grpSpPr>
              <a:xfrm>
                <a:off x="898560" y="5807160"/>
                <a:ext cx="216000" cy="215640"/>
                <a:chOff x="898560" y="5807160"/>
                <a:chExt cx="216000" cy="215640"/>
              </a:xfrm>
            </p:grpSpPr>
            <p:sp>
              <p:nvSpPr>
                <p:cNvPr id="571" name="Oval 563"/>
                <p:cNvSpPr/>
                <p:nvPr/>
              </p:nvSpPr>
              <p:spPr>
                <a:xfrm>
                  <a:off x="898560" y="58928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Oval 564"/>
                <p:cNvSpPr/>
                <p:nvPr/>
              </p:nvSpPr>
              <p:spPr>
                <a:xfrm rot="5400000">
                  <a:off x="89820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3" name="Group 487"/>
              <p:cNvGrpSpPr/>
              <p:nvPr/>
            </p:nvGrpSpPr>
            <p:grpSpPr>
              <a:xfrm>
                <a:off x="911520" y="5821200"/>
                <a:ext cx="188640" cy="189000"/>
                <a:chOff x="911520" y="5821200"/>
                <a:chExt cx="188640" cy="189000"/>
              </a:xfrm>
            </p:grpSpPr>
            <p:sp>
              <p:nvSpPr>
                <p:cNvPr id="574" name="Oval 566"/>
                <p:cNvSpPr/>
                <p:nvPr/>
              </p:nvSpPr>
              <p:spPr>
                <a:xfrm rot="2700000">
                  <a:off x="897120" y="58917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Oval 567"/>
                <p:cNvSpPr/>
                <p:nvPr/>
              </p:nvSpPr>
              <p:spPr>
                <a:xfrm rot="8100000">
                  <a:off x="89820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6" name="Group 490"/>
            <p:cNvGrpSpPr/>
            <p:nvPr/>
          </p:nvGrpSpPr>
          <p:grpSpPr>
            <a:xfrm>
              <a:off x="896400" y="5805720"/>
              <a:ext cx="219240" cy="219240"/>
              <a:chOff x="896400" y="5805720"/>
              <a:chExt cx="219240" cy="219240"/>
            </a:xfrm>
          </p:grpSpPr>
          <p:grpSp>
            <p:nvGrpSpPr>
              <p:cNvPr id="577" name="Group 491"/>
              <p:cNvGrpSpPr/>
              <p:nvPr/>
            </p:nvGrpSpPr>
            <p:grpSpPr>
              <a:xfrm>
                <a:off x="896400" y="5805720"/>
                <a:ext cx="218520" cy="218160"/>
                <a:chOff x="896400" y="5805720"/>
                <a:chExt cx="218520" cy="218160"/>
              </a:xfrm>
            </p:grpSpPr>
            <p:sp>
              <p:nvSpPr>
                <p:cNvPr id="578" name="Oval 570"/>
                <p:cNvSpPr/>
                <p:nvPr/>
              </p:nvSpPr>
              <p:spPr>
                <a:xfrm rot="1320000">
                  <a:off x="897480" y="58924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Oval 571"/>
                <p:cNvSpPr/>
                <p:nvPr/>
              </p:nvSpPr>
              <p:spPr>
                <a:xfrm rot="6720000">
                  <a:off x="89820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0" name="Group 494"/>
              <p:cNvGrpSpPr/>
              <p:nvPr/>
            </p:nvGrpSpPr>
            <p:grpSpPr>
              <a:xfrm>
                <a:off x="897840" y="5807160"/>
                <a:ext cx="217800" cy="217800"/>
                <a:chOff x="897840" y="5807160"/>
                <a:chExt cx="217800" cy="217800"/>
              </a:xfrm>
            </p:grpSpPr>
            <p:sp>
              <p:nvSpPr>
                <p:cNvPr id="581" name="Oval 573"/>
                <p:cNvSpPr/>
                <p:nvPr/>
              </p:nvSpPr>
              <p:spPr>
                <a:xfrm rot="4020000">
                  <a:off x="896400" y="58914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Oval 574"/>
                <p:cNvSpPr/>
                <p:nvPr/>
              </p:nvSpPr>
              <p:spPr>
                <a:xfrm rot="9420000">
                  <a:off x="898560" y="588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3" name="Oval 575"/>
            <p:cNvSpPr/>
            <p:nvPr/>
          </p:nvSpPr>
          <p:spPr>
            <a:xfrm>
              <a:off x="970920" y="5883120"/>
              <a:ext cx="70560" cy="62640"/>
            </a:xfrm>
            <a:prstGeom prst="ellipse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498"/>
          <p:cNvGrpSpPr/>
          <p:nvPr/>
        </p:nvGrpSpPr>
        <p:grpSpPr>
          <a:xfrm>
            <a:off x="3202200" y="6020280"/>
            <a:ext cx="146160" cy="146880"/>
            <a:chOff x="3202200" y="6020280"/>
            <a:chExt cx="146160" cy="146880"/>
          </a:xfrm>
        </p:grpSpPr>
        <p:grpSp>
          <p:nvGrpSpPr>
            <p:cNvPr id="585" name="Group 499"/>
            <p:cNvGrpSpPr/>
            <p:nvPr/>
          </p:nvGrpSpPr>
          <p:grpSpPr>
            <a:xfrm>
              <a:off x="3203640" y="6021360"/>
              <a:ext cx="144360" cy="144360"/>
              <a:chOff x="3203640" y="6021360"/>
              <a:chExt cx="144360" cy="144360"/>
            </a:xfrm>
          </p:grpSpPr>
          <p:grpSp>
            <p:nvGrpSpPr>
              <p:cNvPr id="586" name="Group 500"/>
              <p:cNvGrpSpPr/>
              <p:nvPr/>
            </p:nvGrpSpPr>
            <p:grpSpPr>
              <a:xfrm>
                <a:off x="3203640" y="6021360"/>
                <a:ext cx="144360" cy="144360"/>
                <a:chOff x="3203640" y="6021360"/>
                <a:chExt cx="144360" cy="144360"/>
              </a:xfrm>
            </p:grpSpPr>
            <p:sp>
              <p:nvSpPr>
                <p:cNvPr id="587" name="Oval 579"/>
                <p:cNvSpPr/>
                <p:nvPr/>
              </p:nvSpPr>
              <p:spPr>
                <a:xfrm>
                  <a:off x="3203640" y="6078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Oval 580"/>
                <p:cNvSpPr/>
                <p:nvPr/>
              </p:nvSpPr>
              <p:spPr>
                <a:xfrm rot="5400000">
                  <a:off x="320328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" name="Group 503"/>
              <p:cNvGrpSpPr/>
              <p:nvPr/>
            </p:nvGrpSpPr>
            <p:grpSpPr>
              <a:xfrm>
                <a:off x="3212280" y="6030720"/>
                <a:ext cx="125640" cy="126720"/>
                <a:chOff x="3212280" y="6030720"/>
                <a:chExt cx="125640" cy="126720"/>
              </a:xfrm>
            </p:grpSpPr>
            <p:sp>
              <p:nvSpPr>
                <p:cNvPr id="590" name="Oval 582"/>
                <p:cNvSpPr/>
                <p:nvPr/>
              </p:nvSpPr>
              <p:spPr>
                <a:xfrm rot="2700000">
                  <a:off x="3202560" y="607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Oval 583"/>
                <p:cNvSpPr/>
                <p:nvPr/>
              </p:nvSpPr>
              <p:spPr>
                <a:xfrm rot="8100000">
                  <a:off x="320292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2" name="Group 506"/>
            <p:cNvGrpSpPr/>
            <p:nvPr/>
          </p:nvGrpSpPr>
          <p:grpSpPr>
            <a:xfrm>
              <a:off x="3202200" y="6020280"/>
              <a:ext cx="146160" cy="146880"/>
              <a:chOff x="3202200" y="6020280"/>
              <a:chExt cx="146160" cy="146880"/>
            </a:xfrm>
          </p:grpSpPr>
          <p:grpSp>
            <p:nvGrpSpPr>
              <p:cNvPr id="593" name="Group 507"/>
              <p:cNvGrpSpPr/>
              <p:nvPr/>
            </p:nvGrpSpPr>
            <p:grpSpPr>
              <a:xfrm>
                <a:off x="3202200" y="6020280"/>
                <a:ext cx="146160" cy="146160"/>
                <a:chOff x="3202200" y="6020280"/>
                <a:chExt cx="146160" cy="146160"/>
              </a:xfrm>
            </p:grpSpPr>
            <p:sp>
              <p:nvSpPr>
                <p:cNvPr id="594" name="Oval 586"/>
                <p:cNvSpPr/>
                <p:nvPr/>
              </p:nvSpPr>
              <p:spPr>
                <a:xfrm rot="1320000">
                  <a:off x="3202920" y="607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Oval 587"/>
                <p:cNvSpPr/>
                <p:nvPr/>
              </p:nvSpPr>
              <p:spPr>
                <a:xfrm rot="6720000">
                  <a:off x="320328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" name="Group 510"/>
              <p:cNvGrpSpPr/>
              <p:nvPr/>
            </p:nvGrpSpPr>
            <p:grpSpPr>
              <a:xfrm>
                <a:off x="3202560" y="6021360"/>
                <a:ext cx="145800" cy="145800"/>
                <a:chOff x="3202560" y="6021360"/>
                <a:chExt cx="145800" cy="145800"/>
              </a:xfrm>
            </p:grpSpPr>
            <p:sp>
              <p:nvSpPr>
                <p:cNvPr id="597" name="Oval 589"/>
                <p:cNvSpPr/>
                <p:nvPr/>
              </p:nvSpPr>
              <p:spPr>
                <a:xfrm rot="4020000">
                  <a:off x="3201840" y="60775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Oval 590"/>
                <p:cNvSpPr/>
                <p:nvPr/>
              </p:nvSpPr>
              <p:spPr>
                <a:xfrm rot="9420000">
                  <a:off x="3203280" y="6076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9" name="Oval 591"/>
            <p:cNvSpPr/>
            <p:nvPr/>
          </p:nvSpPr>
          <p:spPr>
            <a:xfrm>
              <a:off x="3251880" y="6072120"/>
              <a:ext cx="47160" cy="42120"/>
            </a:xfrm>
            <a:prstGeom prst="ellipse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514"/>
          <p:cNvGrpSpPr/>
          <p:nvPr/>
        </p:nvGrpSpPr>
        <p:grpSpPr>
          <a:xfrm>
            <a:off x="2770200" y="6166440"/>
            <a:ext cx="146880" cy="146520"/>
            <a:chOff x="2770200" y="6166440"/>
            <a:chExt cx="146880" cy="146520"/>
          </a:xfrm>
        </p:grpSpPr>
        <p:grpSp>
          <p:nvGrpSpPr>
            <p:cNvPr id="601" name="Group 515"/>
            <p:cNvGrpSpPr/>
            <p:nvPr/>
          </p:nvGrpSpPr>
          <p:grpSpPr>
            <a:xfrm>
              <a:off x="2771640" y="6167520"/>
              <a:ext cx="144720" cy="144360"/>
              <a:chOff x="2771640" y="6167520"/>
              <a:chExt cx="144720" cy="144360"/>
            </a:xfrm>
          </p:grpSpPr>
          <p:grpSp>
            <p:nvGrpSpPr>
              <p:cNvPr id="602" name="Group 516"/>
              <p:cNvGrpSpPr/>
              <p:nvPr/>
            </p:nvGrpSpPr>
            <p:grpSpPr>
              <a:xfrm>
                <a:off x="2771640" y="6167520"/>
                <a:ext cx="144720" cy="144360"/>
                <a:chOff x="2771640" y="6167520"/>
                <a:chExt cx="144720" cy="144360"/>
              </a:xfrm>
            </p:grpSpPr>
            <p:sp>
              <p:nvSpPr>
                <p:cNvPr id="603" name="Oval 595"/>
                <p:cNvSpPr/>
                <p:nvPr/>
              </p:nvSpPr>
              <p:spPr>
                <a:xfrm>
                  <a:off x="2771640" y="62247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Oval 596"/>
                <p:cNvSpPr/>
                <p:nvPr/>
              </p:nvSpPr>
              <p:spPr>
                <a:xfrm rot="5400000">
                  <a:off x="277128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5" name="Group 519"/>
              <p:cNvGrpSpPr/>
              <p:nvPr/>
            </p:nvGrpSpPr>
            <p:grpSpPr>
              <a:xfrm>
                <a:off x="2780640" y="6176880"/>
                <a:ext cx="126000" cy="126360"/>
                <a:chOff x="2780640" y="6176880"/>
                <a:chExt cx="126000" cy="126360"/>
              </a:xfrm>
            </p:grpSpPr>
            <p:sp>
              <p:nvSpPr>
                <p:cNvPr id="606" name="Oval 598"/>
                <p:cNvSpPr/>
                <p:nvPr/>
              </p:nvSpPr>
              <p:spPr>
                <a:xfrm rot="2700000">
                  <a:off x="2770920" y="62240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Oval 599"/>
                <p:cNvSpPr/>
                <p:nvPr/>
              </p:nvSpPr>
              <p:spPr>
                <a:xfrm rot="8100000">
                  <a:off x="2771280" y="62229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8" name="Group 522"/>
            <p:cNvGrpSpPr/>
            <p:nvPr/>
          </p:nvGrpSpPr>
          <p:grpSpPr>
            <a:xfrm>
              <a:off x="2770200" y="6166440"/>
              <a:ext cx="146880" cy="146520"/>
              <a:chOff x="2770200" y="6166440"/>
              <a:chExt cx="146880" cy="146520"/>
            </a:xfrm>
          </p:grpSpPr>
          <p:grpSp>
            <p:nvGrpSpPr>
              <p:cNvPr id="609" name="Group 523"/>
              <p:cNvGrpSpPr/>
              <p:nvPr/>
            </p:nvGrpSpPr>
            <p:grpSpPr>
              <a:xfrm>
                <a:off x="2770200" y="6166440"/>
                <a:ext cx="146520" cy="146160"/>
                <a:chOff x="2770200" y="6166440"/>
                <a:chExt cx="146520" cy="146160"/>
              </a:xfrm>
            </p:grpSpPr>
            <p:sp>
              <p:nvSpPr>
                <p:cNvPr id="610" name="Oval 602"/>
                <p:cNvSpPr/>
                <p:nvPr/>
              </p:nvSpPr>
              <p:spPr>
                <a:xfrm rot="1320000">
                  <a:off x="2770920" y="62244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Oval 603"/>
                <p:cNvSpPr/>
                <p:nvPr/>
              </p:nvSpPr>
              <p:spPr>
                <a:xfrm rot="6720000">
                  <a:off x="277128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2" name="Group 526"/>
              <p:cNvGrpSpPr/>
              <p:nvPr/>
            </p:nvGrpSpPr>
            <p:grpSpPr>
              <a:xfrm>
                <a:off x="2770920" y="6167160"/>
                <a:ext cx="146160" cy="145800"/>
                <a:chOff x="2770920" y="6167160"/>
                <a:chExt cx="146160" cy="145800"/>
              </a:xfrm>
            </p:grpSpPr>
            <p:sp>
              <p:nvSpPr>
                <p:cNvPr id="613" name="Oval 605"/>
                <p:cNvSpPr/>
                <p:nvPr/>
              </p:nvSpPr>
              <p:spPr>
                <a:xfrm rot="4020000">
                  <a:off x="277020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Oval 606"/>
                <p:cNvSpPr/>
                <p:nvPr/>
              </p:nvSpPr>
              <p:spPr>
                <a:xfrm rot="9420000">
                  <a:off x="2771640" y="62229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5" name="Oval 607"/>
            <p:cNvSpPr/>
            <p:nvPr/>
          </p:nvSpPr>
          <p:spPr>
            <a:xfrm>
              <a:off x="2820240" y="6218280"/>
              <a:ext cx="47160" cy="42120"/>
            </a:xfrm>
            <a:prstGeom prst="ellipse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530"/>
          <p:cNvGrpSpPr/>
          <p:nvPr/>
        </p:nvGrpSpPr>
        <p:grpSpPr>
          <a:xfrm>
            <a:off x="5361840" y="5946840"/>
            <a:ext cx="219240" cy="219240"/>
            <a:chOff x="5361840" y="5946840"/>
            <a:chExt cx="219240" cy="219240"/>
          </a:xfrm>
        </p:grpSpPr>
        <p:grpSp>
          <p:nvGrpSpPr>
            <p:cNvPr id="617" name="Group 531"/>
            <p:cNvGrpSpPr/>
            <p:nvPr/>
          </p:nvGrpSpPr>
          <p:grpSpPr>
            <a:xfrm>
              <a:off x="5364000" y="5948280"/>
              <a:ext cx="216000" cy="216000"/>
              <a:chOff x="5364000" y="5948280"/>
              <a:chExt cx="216000" cy="216000"/>
            </a:xfrm>
          </p:grpSpPr>
          <p:grpSp>
            <p:nvGrpSpPr>
              <p:cNvPr id="618" name="Group 532"/>
              <p:cNvGrpSpPr/>
              <p:nvPr/>
            </p:nvGrpSpPr>
            <p:grpSpPr>
              <a:xfrm>
                <a:off x="5364000" y="5948280"/>
                <a:ext cx="216000" cy="216000"/>
                <a:chOff x="5364000" y="5948280"/>
                <a:chExt cx="216000" cy="216000"/>
              </a:xfrm>
            </p:grpSpPr>
            <p:sp>
              <p:nvSpPr>
                <p:cNvPr id="619" name="Oval 611"/>
                <p:cNvSpPr/>
                <p:nvPr/>
              </p:nvSpPr>
              <p:spPr>
                <a:xfrm>
                  <a:off x="5364000" y="603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Oval 612"/>
                <p:cNvSpPr/>
                <p:nvPr/>
              </p:nvSpPr>
              <p:spPr>
                <a:xfrm rot="5400000">
                  <a:off x="5363640" y="6031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Group 535"/>
              <p:cNvGrpSpPr/>
              <p:nvPr/>
            </p:nvGrpSpPr>
            <p:grpSpPr>
              <a:xfrm>
                <a:off x="5376960" y="5962320"/>
                <a:ext cx="188640" cy="189000"/>
                <a:chOff x="5376960" y="5962320"/>
                <a:chExt cx="188640" cy="189000"/>
              </a:xfrm>
            </p:grpSpPr>
            <p:sp>
              <p:nvSpPr>
                <p:cNvPr id="622" name="Oval 614"/>
                <p:cNvSpPr/>
                <p:nvPr/>
              </p:nvSpPr>
              <p:spPr>
                <a:xfrm rot="2700000">
                  <a:off x="5362560" y="6033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Oval 615"/>
                <p:cNvSpPr/>
                <p:nvPr/>
              </p:nvSpPr>
              <p:spPr>
                <a:xfrm rot="8100000">
                  <a:off x="536364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4" name="Group 538"/>
            <p:cNvGrpSpPr/>
            <p:nvPr/>
          </p:nvGrpSpPr>
          <p:grpSpPr>
            <a:xfrm>
              <a:off x="5361840" y="5946840"/>
              <a:ext cx="219240" cy="219240"/>
              <a:chOff x="5361840" y="5946840"/>
              <a:chExt cx="219240" cy="219240"/>
            </a:xfrm>
          </p:grpSpPr>
          <p:grpSp>
            <p:nvGrpSpPr>
              <p:cNvPr id="625" name="Group 539"/>
              <p:cNvGrpSpPr/>
              <p:nvPr/>
            </p:nvGrpSpPr>
            <p:grpSpPr>
              <a:xfrm>
                <a:off x="5361840" y="5946840"/>
                <a:ext cx="218520" cy="218520"/>
                <a:chOff x="5361840" y="5946840"/>
                <a:chExt cx="218520" cy="218520"/>
              </a:xfrm>
            </p:grpSpPr>
            <p:sp>
              <p:nvSpPr>
                <p:cNvPr id="626" name="Oval 618"/>
                <p:cNvSpPr/>
                <p:nvPr/>
              </p:nvSpPr>
              <p:spPr>
                <a:xfrm rot="1320000">
                  <a:off x="5362920" y="6033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Oval 619"/>
                <p:cNvSpPr/>
                <p:nvPr/>
              </p:nvSpPr>
              <p:spPr>
                <a:xfrm rot="6720000">
                  <a:off x="536364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8" name="Group 542"/>
              <p:cNvGrpSpPr/>
              <p:nvPr/>
            </p:nvGrpSpPr>
            <p:grpSpPr>
              <a:xfrm>
                <a:off x="5363280" y="5948280"/>
                <a:ext cx="217800" cy="217800"/>
                <a:chOff x="5363280" y="5948280"/>
                <a:chExt cx="217800" cy="217800"/>
              </a:xfrm>
            </p:grpSpPr>
            <p:sp>
              <p:nvSpPr>
                <p:cNvPr id="629" name="Oval 621"/>
                <p:cNvSpPr/>
                <p:nvPr/>
              </p:nvSpPr>
              <p:spPr>
                <a:xfrm rot="4020000">
                  <a:off x="5361840" y="6032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Oval 622"/>
                <p:cNvSpPr/>
                <p:nvPr/>
              </p:nvSpPr>
              <p:spPr>
                <a:xfrm rot="9420000">
                  <a:off x="5364000" y="60310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1" name="Oval 623"/>
            <p:cNvSpPr/>
            <p:nvPr/>
          </p:nvSpPr>
          <p:spPr>
            <a:xfrm>
              <a:off x="5436360" y="6024600"/>
              <a:ext cx="70560" cy="63000"/>
            </a:xfrm>
            <a:prstGeom prst="ellipse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546"/>
          <p:cNvGrpSpPr/>
          <p:nvPr/>
        </p:nvGrpSpPr>
        <p:grpSpPr>
          <a:xfrm>
            <a:off x="6370200" y="5586480"/>
            <a:ext cx="218520" cy="219240"/>
            <a:chOff x="6370200" y="5586480"/>
            <a:chExt cx="218520" cy="219240"/>
          </a:xfrm>
        </p:grpSpPr>
        <p:grpSp>
          <p:nvGrpSpPr>
            <p:cNvPr id="633" name="Group 547"/>
            <p:cNvGrpSpPr/>
            <p:nvPr/>
          </p:nvGrpSpPr>
          <p:grpSpPr>
            <a:xfrm>
              <a:off x="6372360" y="5587920"/>
              <a:ext cx="215640" cy="216000"/>
              <a:chOff x="6372360" y="5587920"/>
              <a:chExt cx="215640" cy="216000"/>
            </a:xfrm>
          </p:grpSpPr>
          <p:grpSp>
            <p:nvGrpSpPr>
              <p:cNvPr id="634" name="Group 548"/>
              <p:cNvGrpSpPr/>
              <p:nvPr/>
            </p:nvGrpSpPr>
            <p:grpSpPr>
              <a:xfrm>
                <a:off x="6372360" y="5587920"/>
                <a:ext cx="215640" cy="216000"/>
                <a:chOff x="6372360" y="5587920"/>
                <a:chExt cx="215640" cy="216000"/>
              </a:xfrm>
            </p:grpSpPr>
            <p:sp>
              <p:nvSpPr>
                <p:cNvPr id="635" name="Oval 627"/>
                <p:cNvSpPr/>
                <p:nvPr/>
              </p:nvSpPr>
              <p:spPr>
                <a:xfrm>
                  <a:off x="6372360" y="56736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Oval 628"/>
                <p:cNvSpPr/>
                <p:nvPr/>
              </p:nvSpPr>
              <p:spPr>
                <a:xfrm rot="5400000">
                  <a:off x="6372000" y="567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7" name="Group 551"/>
              <p:cNvGrpSpPr/>
              <p:nvPr/>
            </p:nvGrpSpPr>
            <p:grpSpPr>
              <a:xfrm>
                <a:off x="6384600" y="5602320"/>
                <a:ext cx="188640" cy="189000"/>
                <a:chOff x="6384600" y="5602320"/>
                <a:chExt cx="188640" cy="189000"/>
              </a:xfrm>
            </p:grpSpPr>
            <p:sp>
              <p:nvSpPr>
                <p:cNvPr id="638" name="Oval 630"/>
                <p:cNvSpPr/>
                <p:nvPr/>
              </p:nvSpPr>
              <p:spPr>
                <a:xfrm rot="2700000">
                  <a:off x="6370200" y="5673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Oval 631"/>
                <p:cNvSpPr/>
                <p:nvPr/>
              </p:nvSpPr>
              <p:spPr>
                <a:xfrm rot="8100000">
                  <a:off x="6371640" y="56710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0" name="Group 554"/>
            <p:cNvGrpSpPr/>
            <p:nvPr/>
          </p:nvGrpSpPr>
          <p:grpSpPr>
            <a:xfrm>
              <a:off x="6370200" y="5586480"/>
              <a:ext cx="218520" cy="219240"/>
              <a:chOff x="6370200" y="5586480"/>
              <a:chExt cx="218520" cy="219240"/>
            </a:xfrm>
          </p:grpSpPr>
          <p:grpSp>
            <p:nvGrpSpPr>
              <p:cNvPr id="641" name="Group 555"/>
              <p:cNvGrpSpPr/>
              <p:nvPr/>
            </p:nvGrpSpPr>
            <p:grpSpPr>
              <a:xfrm>
                <a:off x="6370200" y="5586480"/>
                <a:ext cx="218160" cy="218520"/>
                <a:chOff x="6370200" y="5586480"/>
                <a:chExt cx="218160" cy="218520"/>
              </a:xfrm>
            </p:grpSpPr>
            <p:sp>
              <p:nvSpPr>
                <p:cNvPr id="642" name="Oval 634"/>
                <p:cNvSpPr/>
                <p:nvPr/>
              </p:nvSpPr>
              <p:spPr>
                <a:xfrm rot="1320000">
                  <a:off x="6371280" y="56736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Oval 635"/>
                <p:cNvSpPr/>
                <p:nvPr/>
              </p:nvSpPr>
              <p:spPr>
                <a:xfrm rot="6720000">
                  <a:off x="6371640" y="56710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4" name="Group 558"/>
              <p:cNvGrpSpPr/>
              <p:nvPr/>
            </p:nvGrpSpPr>
            <p:grpSpPr>
              <a:xfrm>
                <a:off x="6370920" y="5587920"/>
                <a:ext cx="217800" cy="217800"/>
                <a:chOff x="6370920" y="5587920"/>
                <a:chExt cx="217800" cy="217800"/>
              </a:xfrm>
            </p:grpSpPr>
            <p:sp>
              <p:nvSpPr>
                <p:cNvPr id="645" name="Oval 637"/>
                <p:cNvSpPr/>
                <p:nvPr/>
              </p:nvSpPr>
              <p:spPr>
                <a:xfrm rot="4020000">
                  <a:off x="6369480" y="5672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Oval 638"/>
                <p:cNvSpPr/>
                <p:nvPr/>
              </p:nvSpPr>
              <p:spPr>
                <a:xfrm rot="9420000">
                  <a:off x="6372000" y="56710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7" name="Oval 639"/>
            <p:cNvSpPr/>
            <p:nvPr/>
          </p:nvSpPr>
          <p:spPr>
            <a:xfrm>
              <a:off x="6444720" y="5664240"/>
              <a:ext cx="70200" cy="63000"/>
            </a:xfrm>
            <a:prstGeom prst="ellipse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562"/>
          <p:cNvGrpSpPr/>
          <p:nvPr/>
        </p:nvGrpSpPr>
        <p:grpSpPr>
          <a:xfrm>
            <a:off x="6009840" y="5515200"/>
            <a:ext cx="218520" cy="219240"/>
            <a:chOff x="6009840" y="5515200"/>
            <a:chExt cx="218520" cy="219240"/>
          </a:xfrm>
        </p:grpSpPr>
        <p:grpSp>
          <p:nvGrpSpPr>
            <p:cNvPr id="649" name="Group 563"/>
            <p:cNvGrpSpPr/>
            <p:nvPr/>
          </p:nvGrpSpPr>
          <p:grpSpPr>
            <a:xfrm>
              <a:off x="6012000" y="5516640"/>
              <a:ext cx="215640" cy="216000"/>
              <a:chOff x="6012000" y="5516640"/>
              <a:chExt cx="215640" cy="216000"/>
            </a:xfrm>
          </p:grpSpPr>
          <p:grpSp>
            <p:nvGrpSpPr>
              <p:cNvPr id="650" name="Group 564"/>
              <p:cNvGrpSpPr/>
              <p:nvPr/>
            </p:nvGrpSpPr>
            <p:grpSpPr>
              <a:xfrm>
                <a:off x="6012000" y="5516640"/>
                <a:ext cx="215640" cy="216000"/>
                <a:chOff x="6012000" y="5516640"/>
                <a:chExt cx="215640" cy="216000"/>
              </a:xfrm>
            </p:grpSpPr>
            <p:sp>
              <p:nvSpPr>
                <p:cNvPr id="651" name="Oval 643"/>
                <p:cNvSpPr/>
                <p:nvPr/>
              </p:nvSpPr>
              <p:spPr>
                <a:xfrm>
                  <a:off x="6012000" y="5602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Oval 644"/>
                <p:cNvSpPr/>
                <p:nvPr/>
              </p:nvSpPr>
              <p:spPr>
                <a:xfrm rot="5400000">
                  <a:off x="6011640" y="5600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3" name="Group 567"/>
              <p:cNvGrpSpPr/>
              <p:nvPr/>
            </p:nvGrpSpPr>
            <p:grpSpPr>
              <a:xfrm>
                <a:off x="6024240" y="5531040"/>
                <a:ext cx="188640" cy="189000"/>
                <a:chOff x="6024240" y="5531040"/>
                <a:chExt cx="188640" cy="189000"/>
              </a:xfrm>
            </p:grpSpPr>
            <p:sp>
              <p:nvSpPr>
                <p:cNvPr id="654" name="Oval 646"/>
                <p:cNvSpPr/>
                <p:nvPr/>
              </p:nvSpPr>
              <p:spPr>
                <a:xfrm rot="2700000">
                  <a:off x="6009840" y="5601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Oval 647"/>
                <p:cNvSpPr/>
                <p:nvPr/>
              </p:nvSpPr>
              <p:spPr>
                <a:xfrm rot="8100000">
                  <a:off x="6011280" y="5599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6" name="Group 570"/>
            <p:cNvGrpSpPr/>
            <p:nvPr/>
          </p:nvGrpSpPr>
          <p:grpSpPr>
            <a:xfrm>
              <a:off x="6009840" y="5515200"/>
              <a:ext cx="218520" cy="219240"/>
              <a:chOff x="6009840" y="5515200"/>
              <a:chExt cx="218520" cy="219240"/>
            </a:xfrm>
          </p:grpSpPr>
          <p:grpSp>
            <p:nvGrpSpPr>
              <p:cNvPr id="657" name="Group 571"/>
              <p:cNvGrpSpPr/>
              <p:nvPr/>
            </p:nvGrpSpPr>
            <p:grpSpPr>
              <a:xfrm>
                <a:off x="6009840" y="5515200"/>
                <a:ext cx="218160" cy="218520"/>
                <a:chOff x="6009840" y="5515200"/>
                <a:chExt cx="218160" cy="218520"/>
              </a:xfrm>
            </p:grpSpPr>
            <p:sp>
              <p:nvSpPr>
                <p:cNvPr id="658" name="Oval 650"/>
                <p:cNvSpPr/>
                <p:nvPr/>
              </p:nvSpPr>
              <p:spPr>
                <a:xfrm rot="1320000">
                  <a:off x="6010920" y="5602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Oval 651"/>
                <p:cNvSpPr/>
                <p:nvPr/>
              </p:nvSpPr>
              <p:spPr>
                <a:xfrm rot="6720000">
                  <a:off x="6011280" y="5599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" name="Group 574"/>
              <p:cNvGrpSpPr/>
              <p:nvPr/>
            </p:nvGrpSpPr>
            <p:grpSpPr>
              <a:xfrm>
                <a:off x="6010560" y="5516640"/>
                <a:ext cx="217800" cy="217800"/>
                <a:chOff x="6010560" y="5516640"/>
                <a:chExt cx="217800" cy="217800"/>
              </a:xfrm>
            </p:grpSpPr>
            <p:sp>
              <p:nvSpPr>
                <p:cNvPr id="661" name="Oval 653"/>
                <p:cNvSpPr/>
                <p:nvPr/>
              </p:nvSpPr>
              <p:spPr>
                <a:xfrm rot="4020000">
                  <a:off x="6009120" y="5600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Oval 654"/>
                <p:cNvSpPr/>
                <p:nvPr/>
              </p:nvSpPr>
              <p:spPr>
                <a:xfrm rot="9420000">
                  <a:off x="6011640" y="5599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3" name="Oval 655"/>
            <p:cNvSpPr/>
            <p:nvPr/>
          </p:nvSpPr>
          <p:spPr>
            <a:xfrm>
              <a:off x="6084360" y="5592960"/>
              <a:ext cx="70200" cy="63000"/>
            </a:xfrm>
            <a:prstGeom prst="ellipse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Group 578"/>
          <p:cNvGrpSpPr/>
          <p:nvPr/>
        </p:nvGrpSpPr>
        <p:grpSpPr>
          <a:xfrm>
            <a:off x="5794560" y="5875920"/>
            <a:ext cx="146160" cy="146880"/>
            <a:chOff x="5794560" y="5875920"/>
            <a:chExt cx="146160" cy="146880"/>
          </a:xfrm>
        </p:grpSpPr>
        <p:grpSp>
          <p:nvGrpSpPr>
            <p:cNvPr id="665" name="Group 579"/>
            <p:cNvGrpSpPr/>
            <p:nvPr/>
          </p:nvGrpSpPr>
          <p:grpSpPr>
            <a:xfrm>
              <a:off x="5796000" y="5877000"/>
              <a:ext cx="144360" cy="144360"/>
              <a:chOff x="5796000" y="5877000"/>
              <a:chExt cx="144360" cy="144360"/>
            </a:xfrm>
          </p:grpSpPr>
          <p:grpSp>
            <p:nvGrpSpPr>
              <p:cNvPr id="666" name="Group 580"/>
              <p:cNvGrpSpPr/>
              <p:nvPr/>
            </p:nvGrpSpPr>
            <p:grpSpPr>
              <a:xfrm>
                <a:off x="5796000" y="5877000"/>
                <a:ext cx="144360" cy="144360"/>
                <a:chOff x="5796000" y="5877000"/>
                <a:chExt cx="144360" cy="144360"/>
              </a:xfrm>
            </p:grpSpPr>
            <p:sp>
              <p:nvSpPr>
                <p:cNvPr id="667" name="Oval 659"/>
                <p:cNvSpPr/>
                <p:nvPr/>
              </p:nvSpPr>
              <p:spPr>
                <a:xfrm>
                  <a:off x="5796000" y="5934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Oval 660"/>
                <p:cNvSpPr/>
                <p:nvPr/>
              </p:nvSpPr>
              <p:spPr>
                <a:xfrm rot="5400000">
                  <a:off x="579564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Group 583"/>
              <p:cNvGrpSpPr/>
              <p:nvPr/>
            </p:nvGrpSpPr>
            <p:grpSpPr>
              <a:xfrm>
                <a:off x="5804640" y="5886360"/>
                <a:ext cx="125640" cy="126720"/>
                <a:chOff x="5804640" y="5886360"/>
                <a:chExt cx="125640" cy="126720"/>
              </a:xfrm>
            </p:grpSpPr>
            <p:sp>
              <p:nvSpPr>
                <p:cNvPr id="670" name="Oval 662"/>
                <p:cNvSpPr/>
                <p:nvPr/>
              </p:nvSpPr>
              <p:spPr>
                <a:xfrm rot="2700000">
                  <a:off x="5794920" y="5933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Oval 663"/>
                <p:cNvSpPr/>
                <p:nvPr/>
              </p:nvSpPr>
              <p:spPr>
                <a:xfrm rot="8100000">
                  <a:off x="579528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2" name="Group 586"/>
            <p:cNvGrpSpPr/>
            <p:nvPr/>
          </p:nvGrpSpPr>
          <p:grpSpPr>
            <a:xfrm>
              <a:off x="5794560" y="5875920"/>
              <a:ext cx="146160" cy="146880"/>
              <a:chOff x="5794560" y="5875920"/>
              <a:chExt cx="146160" cy="146880"/>
            </a:xfrm>
          </p:grpSpPr>
          <p:grpSp>
            <p:nvGrpSpPr>
              <p:cNvPr id="673" name="Group 587"/>
              <p:cNvGrpSpPr/>
              <p:nvPr/>
            </p:nvGrpSpPr>
            <p:grpSpPr>
              <a:xfrm>
                <a:off x="5794560" y="5875920"/>
                <a:ext cx="146160" cy="146160"/>
                <a:chOff x="5794560" y="5875920"/>
                <a:chExt cx="146160" cy="146160"/>
              </a:xfrm>
            </p:grpSpPr>
            <p:sp>
              <p:nvSpPr>
                <p:cNvPr id="674" name="Oval 666"/>
                <p:cNvSpPr/>
                <p:nvPr/>
              </p:nvSpPr>
              <p:spPr>
                <a:xfrm rot="1320000">
                  <a:off x="5795280" y="5933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Oval 667"/>
                <p:cNvSpPr/>
                <p:nvPr/>
              </p:nvSpPr>
              <p:spPr>
                <a:xfrm rot="6720000">
                  <a:off x="579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6" name="Group 590"/>
              <p:cNvGrpSpPr/>
              <p:nvPr/>
            </p:nvGrpSpPr>
            <p:grpSpPr>
              <a:xfrm>
                <a:off x="5794920" y="5877000"/>
                <a:ext cx="145800" cy="145800"/>
                <a:chOff x="5794920" y="5877000"/>
                <a:chExt cx="145800" cy="145800"/>
              </a:xfrm>
            </p:grpSpPr>
            <p:sp>
              <p:nvSpPr>
                <p:cNvPr id="677" name="Oval 669"/>
                <p:cNvSpPr/>
                <p:nvPr/>
              </p:nvSpPr>
              <p:spPr>
                <a:xfrm rot="4020000">
                  <a:off x="5794200" y="5933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Oval 670"/>
                <p:cNvSpPr/>
                <p:nvPr/>
              </p:nvSpPr>
              <p:spPr>
                <a:xfrm rot="9420000">
                  <a:off x="5795640" y="5932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9" name="Oval 671"/>
            <p:cNvSpPr/>
            <p:nvPr/>
          </p:nvSpPr>
          <p:spPr>
            <a:xfrm>
              <a:off x="5844240" y="5927760"/>
              <a:ext cx="47160" cy="42120"/>
            </a:xfrm>
            <a:prstGeom prst="ellips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594"/>
          <p:cNvGrpSpPr/>
          <p:nvPr/>
        </p:nvGrpSpPr>
        <p:grpSpPr>
          <a:xfrm>
            <a:off x="6515280" y="5947200"/>
            <a:ext cx="146160" cy="147240"/>
            <a:chOff x="6515280" y="5947200"/>
            <a:chExt cx="146160" cy="147240"/>
          </a:xfrm>
        </p:grpSpPr>
        <p:grpSp>
          <p:nvGrpSpPr>
            <p:cNvPr id="681" name="Group 595"/>
            <p:cNvGrpSpPr/>
            <p:nvPr/>
          </p:nvGrpSpPr>
          <p:grpSpPr>
            <a:xfrm>
              <a:off x="6516720" y="5948280"/>
              <a:ext cx="144360" cy="144720"/>
              <a:chOff x="6516720" y="5948280"/>
              <a:chExt cx="144360" cy="144720"/>
            </a:xfrm>
          </p:grpSpPr>
          <p:grpSp>
            <p:nvGrpSpPr>
              <p:cNvPr id="682" name="Group 596"/>
              <p:cNvGrpSpPr/>
              <p:nvPr/>
            </p:nvGrpSpPr>
            <p:grpSpPr>
              <a:xfrm>
                <a:off x="6516720" y="5948280"/>
                <a:ext cx="144360" cy="144720"/>
                <a:chOff x="6516720" y="5948280"/>
                <a:chExt cx="144360" cy="144720"/>
              </a:xfrm>
            </p:grpSpPr>
            <p:sp>
              <p:nvSpPr>
                <p:cNvPr id="683" name="Oval 675"/>
                <p:cNvSpPr/>
                <p:nvPr/>
              </p:nvSpPr>
              <p:spPr>
                <a:xfrm>
                  <a:off x="6516720" y="60055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Oval 676"/>
                <p:cNvSpPr/>
                <p:nvPr/>
              </p:nvSpPr>
              <p:spPr>
                <a:xfrm rot="5400000">
                  <a:off x="6516000" y="60040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5" name="Group 599"/>
              <p:cNvGrpSpPr/>
              <p:nvPr/>
            </p:nvGrpSpPr>
            <p:grpSpPr>
              <a:xfrm>
                <a:off x="6525000" y="5958000"/>
                <a:ext cx="126000" cy="126720"/>
                <a:chOff x="6525000" y="5958000"/>
                <a:chExt cx="126000" cy="126720"/>
              </a:xfrm>
            </p:grpSpPr>
            <p:sp>
              <p:nvSpPr>
                <p:cNvPr id="686" name="Oval 678"/>
                <p:cNvSpPr/>
                <p:nvPr/>
              </p:nvSpPr>
              <p:spPr>
                <a:xfrm rot="2700000">
                  <a:off x="6514920" y="60051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Oval 679"/>
                <p:cNvSpPr/>
                <p:nvPr/>
              </p:nvSpPr>
              <p:spPr>
                <a:xfrm rot="8100000">
                  <a:off x="6516000" y="6004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8" name="Group 602"/>
            <p:cNvGrpSpPr/>
            <p:nvPr/>
          </p:nvGrpSpPr>
          <p:grpSpPr>
            <a:xfrm>
              <a:off x="6515280" y="5947200"/>
              <a:ext cx="146160" cy="147240"/>
              <a:chOff x="6515280" y="5947200"/>
              <a:chExt cx="146160" cy="147240"/>
            </a:xfrm>
          </p:grpSpPr>
          <p:grpSp>
            <p:nvGrpSpPr>
              <p:cNvPr id="689" name="Group 603"/>
              <p:cNvGrpSpPr/>
              <p:nvPr/>
            </p:nvGrpSpPr>
            <p:grpSpPr>
              <a:xfrm>
                <a:off x="6515280" y="5947200"/>
                <a:ext cx="146160" cy="146520"/>
                <a:chOff x="6515280" y="5947200"/>
                <a:chExt cx="146160" cy="146520"/>
              </a:xfrm>
            </p:grpSpPr>
            <p:sp>
              <p:nvSpPr>
                <p:cNvPr id="690" name="Oval 682"/>
                <p:cNvSpPr/>
                <p:nvPr/>
              </p:nvSpPr>
              <p:spPr>
                <a:xfrm rot="1320000">
                  <a:off x="6516000" y="6005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Oval 683"/>
                <p:cNvSpPr/>
                <p:nvPr/>
              </p:nvSpPr>
              <p:spPr>
                <a:xfrm rot="6720000">
                  <a:off x="6516000" y="600372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2" name="Group 606"/>
              <p:cNvGrpSpPr/>
              <p:nvPr/>
            </p:nvGrpSpPr>
            <p:grpSpPr>
              <a:xfrm>
                <a:off x="6515640" y="5948280"/>
                <a:ext cx="145800" cy="146160"/>
                <a:chOff x="6515640" y="5948280"/>
                <a:chExt cx="145800" cy="146160"/>
              </a:xfrm>
            </p:grpSpPr>
            <p:sp>
              <p:nvSpPr>
                <p:cNvPr id="693" name="Oval 685"/>
                <p:cNvSpPr/>
                <p:nvPr/>
              </p:nvSpPr>
              <p:spPr>
                <a:xfrm rot="4020000">
                  <a:off x="6514560" y="6004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Oval 686"/>
                <p:cNvSpPr/>
                <p:nvPr/>
              </p:nvSpPr>
              <p:spPr>
                <a:xfrm rot="9420000">
                  <a:off x="6516360" y="60037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Oval 687"/>
            <p:cNvSpPr/>
            <p:nvPr/>
          </p:nvSpPr>
          <p:spPr>
            <a:xfrm>
              <a:off x="6564960" y="5999400"/>
              <a:ext cx="47160" cy="42120"/>
            </a:xfrm>
            <a:prstGeom prst="ellips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Group 610"/>
          <p:cNvGrpSpPr/>
          <p:nvPr/>
        </p:nvGrpSpPr>
        <p:grpSpPr>
          <a:xfrm>
            <a:off x="6154920" y="5875920"/>
            <a:ext cx="146160" cy="146880"/>
            <a:chOff x="6154920" y="5875920"/>
            <a:chExt cx="146160" cy="146880"/>
          </a:xfrm>
        </p:grpSpPr>
        <p:grpSp>
          <p:nvGrpSpPr>
            <p:cNvPr id="697" name="Group 611"/>
            <p:cNvGrpSpPr/>
            <p:nvPr/>
          </p:nvGrpSpPr>
          <p:grpSpPr>
            <a:xfrm>
              <a:off x="6156360" y="5877000"/>
              <a:ext cx="144360" cy="144360"/>
              <a:chOff x="6156360" y="5877000"/>
              <a:chExt cx="144360" cy="144360"/>
            </a:xfrm>
          </p:grpSpPr>
          <p:grpSp>
            <p:nvGrpSpPr>
              <p:cNvPr id="698" name="Group 612"/>
              <p:cNvGrpSpPr/>
              <p:nvPr/>
            </p:nvGrpSpPr>
            <p:grpSpPr>
              <a:xfrm>
                <a:off x="6156360" y="5877000"/>
                <a:ext cx="144360" cy="144360"/>
                <a:chOff x="6156360" y="5877000"/>
                <a:chExt cx="144360" cy="144360"/>
              </a:xfrm>
            </p:grpSpPr>
            <p:sp>
              <p:nvSpPr>
                <p:cNvPr id="699" name="Oval 691"/>
                <p:cNvSpPr/>
                <p:nvPr/>
              </p:nvSpPr>
              <p:spPr>
                <a:xfrm>
                  <a:off x="6156360" y="5934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Oval 692"/>
                <p:cNvSpPr/>
                <p:nvPr/>
              </p:nvSpPr>
              <p:spPr>
                <a:xfrm rot="5400000">
                  <a:off x="615600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Group 615"/>
              <p:cNvGrpSpPr/>
              <p:nvPr/>
            </p:nvGrpSpPr>
            <p:grpSpPr>
              <a:xfrm>
                <a:off x="6165000" y="5886360"/>
                <a:ext cx="125640" cy="126720"/>
                <a:chOff x="6165000" y="5886360"/>
                <a:chExt cx="125640" cy="126720"/>
              </a:xfrm>
            </p:grpSpPr>
            <p:sp>
              <p:nvSpPr>
                <p:cNvPr id="702" name="Oval 694"/>
                <p:cNvSpPr/>
                <p:nvPr/>
              </p:nvSpPr>
              <p:spPr>
                <a:xfrm rot="2700000">
                  <a:off x="6155280" y="5933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Oval 695"/>
                <p:cNvSpPr/>
                <p:nvPr/>
              </p:nvSpPr>
              <p:spPr>
                <a:xfrm rot="8100000">
                  <a:off x="615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4" name="Group 618"/>
            <p:cNvGrpSpPr/>
            <p:nvPr/>
          </p:nvGrpSpPr>
          <p:grpSpPr>
            <a:xfrm>
              <a:off x="6154920" y="5875920"/>
              <a:ext cx="146160" cy="146880"/>
              <a:chOff x="6154920" y="5875920"/>
              <a:chExt cx="146160" cy="146880"/>
            </a:xfrm>
          </p:grpSpPr>
          <p:grpSp>
            <p:nvGrpSpPr>
              <p:cNvPr id="705" name="Group 619"/>
              <p:cNvGrpSpPr/>
              <p:nvPr/>
            </p:nvGrpSpPr>
            <p:grpSpPr>
              <a:xfrm>
                <a:off x="6154920" y="5875920"/>
                <a:ext cx="146160" cy="146160"/>
                <a:chOff x="6154920" y="5875920"/>
                <a:chExt cx="146160" cy="146160"/>
              </a:xfrm>
            </p:grpSpPr>
            <p:sp>
              <p:nvSpPr>
                <p:cNvPr id="706" name="Oval 698"/>
                <p:cNvSpPr/>
                <p:nvPr/>
              </p:nvSpPr>
              <p:spPr>
                <a:xfrm rot="1320000">
                  <a:off x="6155640" y="5933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Oval 699"/>
                <p:cNvSpPr/>
                <p:nvPr/>
              </p:nvSpPr>
              <p:spPr>
                <a:xfrm rot="6720000">
                  <a:off x="615600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8" name="Group 622"/>
              <p:cNvGrpSpPr/>
              <p:nvPr/>
            </p:nvGrpSpPr>
            <p:grpSpPr>
              <a:xfrm>
                <a:off x="6155280" y="5877000"/>
                <a:ext cx="145800" cy="145800"/>
                <a:chOff x="6155280" y="5877000"/>
                <a:chExt cx="145800" cy="145800"/>
              </a:xfrm>
            </p:grpSpPr>
            <p:sp>
              <p:nvSpPr>
                <p:cNvPr id="709" name="Oval 701"/>
                <p:cNvSpPr/>
                <p:nvPr/>
              </p:nvSpPr>
              <p:spPr>
                <a:xfrm rot="4020000">
                  <a:off x="6154560" y="5933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Oval 702"/>
                <p:cNvSpPr/>
                <p:nvPr/>
              </p:nvSpPr>
              <p:spPr>
                <a:xfrm rot="9420000">
                  <a:off x="6156000" y="5932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1" name="Oval 703"/>
            <p:cNvSpPr/>
            <p:nvPr/>
          </p:nvSpPr>
          <p:spPr>
            <a:xfrm>
              <a:off x="6204600" y="5927760"/>
              <a:ext cx="47160" cy="42120"/>
            </a:xfrm>
            <a:prstGeom prst="ellipse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626"/>
          <p:cNvGrpSpPr/>
          <p:nvPr/>
        </p:nvGrpSpPr>
        <p:grpSpPr>
          <a:xfrm>
            <a:off x="358200" y="5731200"/>
            <a:ext cx="219240" cy="219240"/>
            <a:chOff x="358200" y="5731200"/>
            <a:chExt cx="219240" cy="219240"/>
          </a:xfrm>
        </p:grpSpPr>
        <p:grpSp>
          <p:nvGrpSpPr>
            <p:cNvPr id="713" name="Group 627"/>
            <p:cNvGrpSpPr/>
            <p:nvPr/>
          </p:nvGrpSpPr>
          <p:grpSpPr>
            <a:xfrm>
              <a:off x="360360" y="5732640"/>
              <a:ext cx="216000" cy="215640"/>
              <a:chOff x="360360" y="5732640"/>
              <a:chExt cx="216000" cy="215640"/>
            </a:xfrm>
          </p:grpSpPr>
          <p:grpSp>
            <p:nvGrpSpPr>
              <p:cNvPr id="714" name="Group 628"/>
              <p:cNvGrpSpPr/>
              <p:nvPr/>
            </p:nvGrpSpPr>
            <p:grpSpPr>
              <a:xfrm>
                <a:off x="360360" y="5732640"/>
                <a:ext cx="216000" cy="215640"/>
                <a:chOff x="360360" y="5732640"/>
                <a:chExt cx="216000" cy="215640"/>
              </a:xfrm>
            </p:grpSpPr>
            <p:sp>
              <p:nvSpPr>
                <p:cNvPr id="715" name="Oval 707"/>
                <p:cNvSpPr/>
                <p:nvPr/>
              </p:nvSpPr>
              <p:spPr>
                <a:xfrm>
                  <a:off x="360360" y="5818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Oval 708"/>
                <p:cNvSpPr/>
                <p:nvPr/>
              </p:nvSpPr>
              <p:spPr>
                <a:xfrm rot="5400000">
                  <a:off x="360000" y="5815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7" name="Group 631"/>
              <p:cNvGrpSpPr/>
              <p:nvPr/>
            </p:nvGrpSpPr>
            <p:grpSpPr>
              <a:xfrm>
                <a:off x="373320" y="5746680"/>
                <a:ext cx="188640" cy="189000"/>
                <a:chOff x="373320" y="5746680"/>
                <a:chExt cx="188640" cy="189000"/>
              </a:xfrm>
            </p:grpSpPr>
            <p:sp>
              <p:nvSpPr>
                <p:cNvPr id="718" name="Oval 710"/>
                <p:cNvSpPr/>
                <p:nvPr/>
              </p:nvSpPr>
              <p:spPr>
                <a:xfrm rot="2700000">
                  <a:off x="358920" y="581724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Oval 711"/>
                <p:cNvSpPr/>
                <p:nvPr/>
              </p:nvSpPr>
              <p:spPr>
                <a:xfrm rot="8100000">
                  <a:off x="360000" y="5815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0" name="Group 634"/>
            <p:cNvGrpSpPr/>
            <p:nvPr/>
          </p:nvGrpSpPr>
          <p:grpSpPr>
            <a:xfrm>
              <a:off x="358200" y="5731200"/>
              <a:ext cx="219240" cy="219240"/>
              <a:chOff x="358200" y="5731200"/>
              <a:chExt cx="219240" cy="219240"/>
            </a:xfrm>
          </p:grpSpPr>
          <p:grpSp>
            <p:nvGrpSpPr>
              <p:cNvPr id="721" name="Group 635"/>
              <p:cNvGrpSpPr/>
              <p:nvPr/>
            </p:nvGrpSpPr>
            <p:grpSpPr>
              <a:xfrm>
                <a:off x="358200" y="5731200"/>
                <a:ext cx="218520" cy="218160"/>
                <a:chOff x="358200" y="5731200"/>
                <a:chExt cx="218520" cy="218160"/>
              </a:xfrm>
            </p:grpSpPr>
            <p:sp>
              <p:nvSpPr>
                <p:cNvPr id="722" name="Oval 714"/>
                <p:cNvSpPr/>
                <p:nvPr/>
              </p:nvSpPr>
              <p:spPr>
                <a:xfrm rot="1320000">
                  <a:off x="359280" y="5817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Oval 715"/>
                <p:cNvSpPr/>
                <p:nvPr/>
              </p:nvSpPr>
              <p:spPr>
                <a:xfrm rot="6720000">
                  <a:off x="360000" y="5815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Group 638"/>
              <p:cNvGrpSpPr/>
              <p:nvPr/>
            </p:nvGrpSpPr>
            <p:grpSpPr>
              <a:xfrm>
                <a:off x="359640" y="5732640"/>
                <a:ext cx="217800" cy="217800"/>
                <a:chOff x="359640" y="5732640"/>
                <a:chExt cx="217800" cy="217800"/>
              </a:xfrm>
            </p:grpSpPr>
            <p:sp>
              <p:nvSpPr>
                <p:cNvPr id="725" name="Oval 717"/>
                <p:cNvSpPr/>
                <p:nvPr/>
              </p:nvSpPr>
              <p:spPr>
                <a:xfrm rot="4020000">
                  <a:off x="358200" y="58168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Oval 718"/>
                <p:cNvSpPr/>
                <p:nvPr/>
              </p:nvSpPr>
              <p:spPr>
                <a:xfrm rot="9420000">
                  <a:off x="360360" y="5815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7" name="Oval 719"/>
            <p:cNvSpPr/>
            <p:nvPr/>
          </p:nvSpPr>
          <p:spPr>
            <a:xfrm>
              <a:off x="432720" y="5808600"/>
              <a:ext cx="70560" cy="62640"/>
            </a:xfrm>
            <a:prstGeom prst="ellipse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642"/>
          <p:cNvGrpSpPr/>
          <p:nvPr/>
        </p:nvGrpSpPr>
        <p:grpSpPr>
          <a:xfrm>
            <a:off x="-2160" y="5659560"/>
            <a:ext cx="219240" cy="219240"/>
            <a:chOff x="-2160" y="5659560"/>
            <a:chExt cx="219240" cy="219240"/>
          </a:xfrm>
        </p:grpSpPr>
        <p:grpSp>
          <p:nvGrpSpPr>
            <p:cNvPr id="729" name="Group 643"/>
            <p:cNvGrpSpPr/>
            <p:nvPr/>
          </p:nvGrpSpPr>
          <p:grpSpPr>
            <a:xfrm>
              <a:off x="0" y="5661000"/>
              <a:ext cx="216000" cy="216000"/>
              <a:chOff x="0" y="5661000"/>
              <a:chExt cx="216000" cy="216000"/>
            </a:xfrm>
          </p:grpSpPr>
          <p:grpSp>
            <p:nvGrpSpPr>
              <p:cNvPr id="730" name="Group 644"/>
              <p:cNvGrpSpPr/>
              <p:nvPr/>
            </p:nvGrpSpPr>
            <p:grpSpPr>
              <a:xfrm>
                <a:off x="0" y="5661000"/>
                <a:ext cx="216000" cy="216000"/>
                <a:chOff x="0" y="5661000"/>
                <a:chExt cx="216000" cy="216000"/>
              </a:xfrm>
            </p:grpSpPr>
            <p:sp>
              <p:nvSpPr>
                <p:cNvPr id="731" name="Oval 723"/>
                <p:cNvSpPr/>
                <p:nvPr/>
              </p:nvSpPr>
              <p:spPr>
                <a:xfrm>
                  <a:off x="0" y="57466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Oval 724"/>
                <p:cNvSpPr/>
                <p:nvPr/>
              </p:nvSpPr>
              <p:spPr>
                <a:xfrm rot="5400000">
                  <a:off x="-36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3" name="Group 647"/>
              <p:cNvGrpSpPr/>
              <p:nvPr/>
            </p:nvGrpSpPr>
            <p:grpSpPr>
              <a:xfrm>
                <a:off x="12960" y="5675040"/>
                <a:ext cx="188640" cy="189000"/>
                <a:chOff x="12960" y="5675040"/>
                <a:chExt cx="188640" cy="189000"/>
              </a:xfrm>
            </p:grpSpPr>
            <p:sp>
              <p:nvSpPr>
                <p:cNvPr id="734" name="Oval 726"/>
                <p:cNvSpPr/>
                <p:nvPr/>
              </p:nvSpPr>
              <p:spPr>
                <a:xfrm rot="2700000">
                  <a:off x="-1080" y="5745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Oval 727"/>
                <p:cNvSpPr/>
                <p:nvPr/>
              </p:nvSpPr>
              <p:spPr>
                <a:xfrm rot="8100000">
                  <a:off x="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6" name="Group 650"/>
            <p:cNvGrpSpPr/>
            <p:nvPr/>
          </p:nvGrpSpPr>
          <p:grpSpPr>
            <a:xfrm>
              <a:off x="-2160" y="5659560"/>
              <a:ext cx="219240" cy="219240"/>
              <a:chOff x="-2160" y="5659560"/>
              <a:chExt cx="219240" cy="219240"/>
            </a:xfrm>
          </p:grpSpPr>
          <p:grpSp>
            <p:nvGrpSpPr>
              <p:cNvPr id="737" name="Group 651"/>
              <p:cNvGrpSpPr/>
              <p:nvPr/>
            </p:nvGrpSpPr>
            <p:grpSpPr>
              <a:xfrm>
                <a:off x="-2160" y="5659560"/>
                <a:ext cx="218520" cy="218520"/>
                <a:chOff x="-2160" y="5659560"/>
                <a:chExt cx="218520" cy="218520"/>
              </a:xfrm>
            </p:grpSpPr>
            <p:sp>
              <p:nvSpPr>
                <p:cNvPr id="738" name="Oval 730"/>
                <p:cNvSpPr/>
                <p:nvPr/>
              </p:nvSpPr>
              <p:spPr>
                <a:xfrm rot="1320000">
                  <a:off x="-720" y="5746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Oval 731"/>
                <p:cNvSpPr/>
                <p:nvPr/>
              </p:nvSpPr>
              <p:spPr>
                <a:xfrm rot="6720000">
                  <a:off x="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0" name="Group 654"/>
              <p:cNvGrpSpPr/>
              <p:nvPr/>
            </p:nvGrpSpPr>
            <p:grpSpPr>
              <a:xfrm>
                <a:off x="-720" y="5661000"/>
                <a:ext cx="217800" cy="217800"/>
                <a:chOff x="-720" y="5661000"/>
                <a:chExt cx="217800" cy="217800"/>
              </a:xfrm>
            </p:grpSpPr>
            <p:sp>
              <p:nvSpPr>
                <p:cNvPr id="741" name="Oval 733"/>
                <p:cNvSpPr/>
                <p:nvPr/>
              </p:nvSpPr>
              <p:spPr>
                <a:xfrm rot="4020000">
                  <a:off x="-1800" y="574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Oval 734"/>
                <p:cNvSpPr/>
                <p:nvPr/>
              </p:nvSpPr>
              <p:spPr>
                <a:xfrm rot="9420000">
                  <a:off x="0" y="5743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3" name="Oval 735"/>
            <p:cNvSpPr/>
            <p:nvPr/>
          </p:nvSpPr>
          <p:spPr>
            <a:xfrm>
              <a:off x="72360" y="5737320"/>
              <a:ext cx="70560" cy="63000"/>
            </a:xfrm>
            <a:prstGeom prst="ellipse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Group 658"/>
          <p:cNvGrpSpPr/>
          <p:nvPr/>
        </p:nvGrpSpPr>
        <p:grpSpPr>
          <a:xfrm>
            <a:off x="503280" y="6091920"/>
            <a:ext cx="146880" cy="146520"/>
            <a:chOff x="503280" y="6091920"/>
            <a:chExt cx="146880" cy="146520"/>
          </a:xfrm>
        </p:grpSpPr>
        <p:grpSp>
          <p:nvGrpSpPr>
            <p:cNvPr id="745" name="Group 659"/>
            <p:cNvGrpSpPr/>
            <p:nvPr/>
          </p:nvGrpSpPr>
          <p:grpSpPr>
            <a:xfrm>
              <a:off x="504720" y="6093000"/>
              <a:ext cx="144720" cy="144360"/>
              <a:chOff x="504720" y="6093000"/>
              <a:chExt cx="144720" cy="144360"/>
            </a:xfrm>
          </p:grpSpPr>
          <p:grpSp>
            <p:nvGrpSpPr>
              <p:cNvPr id="746" name="Group 660"/>
              <p:cNvGrpSpPr/>
              <p:nvPr/>
            </p:nvGrpSpPr>
            <p:grpSpPr>
              <a:xfrm>
                <a:off x="504720" y="6093000"/>
                <a:ext cx="144720" cy="144360"/>
                <a:chOff x="504720" y="6093000"/>
                <a:chExt cx="144720" cy="144360"/>
              </a:xfrm>
            </p:grpSpPr>
            <p:sp>
              <p:nvSpPr>
                <p:cNvPr id="747" name="Oval 739"/>
                <p:cNvSpPr/>
                <p:nvPr/>
              </p:nvSpPr>
              <p:spPr>
                <a:xfrm>
                  <a:off x="504720" y="6150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Oval 740"/>
                <p:cNvSpPr/>
                <p:nvPr/>
              </p:nvSpPr>
              <p:spPr>
                <a:xfrm rot="5400000">
                  <a:off x="504360" y="6148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9" name="Group 663"/>
              <p:cNvGrpSpPr/>
              <p:nvPr/>
            </p:nvGrpSpPr>
            <p:grpSpPr>
              <a:xfrm>
                <a:off x="513720" y="6102360"/>
                <a:ext cx="126000" cy="126360"/>
                <a:chOff x="513720" y="6102360"/>
                <a:chExt cx="126000" cy="126360"/>
              </a:xfrm>
            </p:grpSpPr>
            <p:sp>
              <p:nvSpPr>
                <p:cNvPr id="750" name="Oval 742"/>
                <p:cNvSpPr/>
                <p:nvPr/>
              </p:nvSpPr>
              <p:spPr>
                <a:xfrm rot="2700000">
                  <a:off x="504000" y="61495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Oval 743"/>
                <p:cNvSpPr/>
                <p:nvPr/>
              </p:nvSpPr>
              <p:spPr>
                <a:xfrm rot="8100000">
                  <a:off x="504360" y="61484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2" name="Group 666"/>
            <p:cNvGrpSpPr/>
            <p:nvPr/>
          </p:nvGrpSpPr>
          <p:grpSpPr>
            <a:xfrm>
              <a:off x="503280" y="6091920"/>
              <a:ext cx="146880" cy="146520"/>
              <a:chOff x="503280" y="6091920"/>
              <a:chExt cx="146880" cy="146520"/>
            </a:xfrm>
          </p:grpSpPr>
          <p:grpSp>
            <p:nvGrpSpPr>
              <p:cNvPr id="753" name="Group 667"/>
              <p:cNvGrpSpPr/>
              <p:nvPr/>
            </p:nvGrpSpPr>
            <p:grpSpPr>
              <a:xfrm>
                <a:off x="503280" y="6091920"/>
                <a:ext cx="146520" cy="146160"/>
                <a:chOff x="503280" y="6091920"/>
                <a:chExt cx="146520" cy="146160"/>
              </a:xfrm>
            </p:grpSpPr>
            <p:sp>
              <p:nvSpPr>
                <p:cNvPr id="754" name="Oval 746"/>
                <p:cNvSpPr/>
                <p:nvPr/>
              </p:nvSpPr>
              <p:spPr>
                <a:xfrm rot="1320000">
                  <a:off x="504000" y="61498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Oval 747"/>
                <p:cNvSpPr/>
                <p:nvPr/>
              </p:nvSpPr>
              <p:spPr>
                <a:xfrm rot="6720000">
                  <a:off x="504360" y="6148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6" name="Group 670"/>
              <p:cNvGrpSpPr/>
              <p:nvPr/>
            </p:nvGrpSpPr>
            <p:grpSpPr>
              <a:xfrm>
                <a:off x="504000" y="6092640"/>
                <a:ext cx="146160" cy="145800"/>
                <a:chOff x="504000" y="6092640"/>
                <a:chExt cx="146160" cy="145800"/>
              </a:xfrm>
            </p:grpSpPr>
            <p:sp>
              <p:nvSpPr>
                <p:cNvPr id="757" name="Oval 749"/>
                <p:cNvSpPr/>
                <p:nvPr/>
              </p:nvSpPr>
              <p:spPr>
                <a:xfrm rot="4020000">
                  <a:off x="503280" y="6148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Oval 750"/>
                <p:cNvSpPr/>
                <p:nvPr/>
              </p:nvSpPr>
              <p:spPr>
                <a:xfrm rot="9420000">
                  <a:off x="504720" y="61484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9" name="Oval 751"/>
            <p:cNvSpPr/>
            <p:nvPr/>
          </p:nvSpPr>
          <p:spPr>
            <a:xfrm>
              <a:off x="553320" y="6143760"/>
              <a:ext cx="47160" cy="42120"/>
            </a:xfrm>
            <a:prstGeom prst="ellipse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Group 674"/>
          <p:cNvGrpSpPr/>
          <p:nvPr/>
        </p:nvGrpSpPr>
        <p:grpSpPr>
          <a:xfrm>
            <a:off x="142920" y="6020280"/>
            <a:ext cx="146880" cy="146520"/>
            <a:chOff x="142920" y="6020280"/>
            <a:chExt cx="146880" cy="146520"/>
          </a:xfrm>
        </p:grpSpPr>
        <p:grpSp>
          <p:nvGrpSpPr>
            <p:cNvPr id="761" name="Group 675"/>
            <p:cNvGrpSpPr/>
            <p:nvPr/>
          </p:nvGrpSpPr>
          <p:grpSpPr>
            <a:xfrm>
              <a:off x="144360" y="6021360"/>
              <a:ext cx="144720" cy="144360"/>
              <a:chOff x="144360" y="6021360"/>
              <a:chExt cx="144720" cy="144360"/>
            </a:xfrm>
          </p:grpSpPr>
          <p:grpSp>
            <p:nvGrpSpPr>
              <p:cNvPr id="762" name="Group 676"/>
              <p:cNvGrpSpPr/>
              <p:nvPr/>
            </p:nvGrpSpPr>
            <p:grpSpPr>
              <a:xfrm>
                <a:off x="144360" y="6021360"/>
                <a:ext cx="144720" cy="144360"/>
                <a:chOff x="144360" y="6021360"/>
                <a:chExt cx="144720" cy="144360"/>
              </a:xfrm>
            </p:grpSpPr>
            <p:sp>
              <p:nvSpPr>
                <p:cNvPr id="763" name="Oval 755"/>
                <p:cNvSpPr/>
                <p:nvPr/>
              </p:nvSpPr>
              <p:spPr>
                <a:xfrm>
                  <a:off x="144360" y="60786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Oval 756"/>
                <p:cNvSpPr/>
                <p:nvPr/>
              </p:nvSpPr>
              <p:spPr>
                <a:xfrm rot="5400000">
                  <a:off x="14364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5" name="Group 679"/>
              <p:cNvGrpSpPr/>
              <p:nvPr/>
            </p:nvGrpSpPr>
            <p:grpSpPr>
              <a:xfrm>
                <a:off x="153360" y="6030720"/>
                <a:ext cx="126000" cy="126360"/>
                <a:chOff x="153360" y="6030720"/>
                <a:chExt cx="126000" cy="126360"/>
              </a:xfrm>
            </p:grpSpPr>
            <p:sp>
              <p:nvSpPr>
                <p:cNvPr id="766" name="Oval 758"/>
                <p:cNvSpPr/>
                <p:nvPr/>
              </p:nvSpPr>
              <p:spPr>
                <a:xfrm rot="2700000">
                  <a:off x="143640" y="6077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Oval 759"/>
                <p:cNvSpPr/>
                <p:nvPr/>
              </p:nvSpPr>
              <p:spPr>
                <a:xfrm rot="8100000">
                  <a:off x="144000" y="6076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8" name="Group 682"/>
            <p:cNvGrpSpPr/>
            <p:nvPr/>
          </p:nvGrpSpPr>
          <p:grpSpPr>
            <a:xfrm>
              <a:off x="142920" y="6020280"/>
              <a:ext cx="146880" cy="146520"/>
              <a:chOff x="142920" y="6020280"/>
              <a:chExt cx="146880" cy="146520"/>
            </a:xfrm>
          </p:grpSpPr>
          <p:grpSp>
            <p:nvGrpSpPr>
              <p:cNvPr id="769" name="Group 683"/>
              <p:cNvGrpSpPr/>
              <p:nvPr/>
            </p:nvGrpSpPr>
            <p:grpSpPr>
              <a:xfrm>
                <a:off x="142920" y="6020280"/>
                <a:ext cx="146520" cy="146160"/>
                <a:chOff x="142920" y="6020280"/>
                <a:chExt cx="146520" cy="146160"/>
              </a:xfrm>
            </p:grpSpPr>
            <p:sp>
              <p:nvSpPr>
                <p:cNvPr id="770" name="Oval 762"/>
                <p:cNvSpPr/>
                <p:nvPr/>
              </p:nvSpPr>
              <p:spPr>
                <a:xfrm rot="1320000">
                  <a:off x="143640" y="607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Oval 763"/>
                <p:cNvSpPr/>
                <p:nvPr/>
              </p:nvSpPr>
              <p:spPr>
                <a:xfrm rot="6720000">
                  <a:off x="14400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686"/>
              <p:cNvGrpSpPr/>
              <p:nvPr/>
            </p:nvGrpSpPr>
            <p:grpSpPr>
              <a:xfrm>
                <a:off x="143640" y="6021000"/>
                <a:ext cx="146160" cy="145800"/>
                <a:chOff x="143640" y="6021000"/>
                <a:chExt cx="146160" cy="145800"/>
              </a:xfrm>
            </p:grpSpPr>
            <p:sp>
              <p:nvSpPr>
                <p:cNvPr id="773" name="Oval 765"/>
                <p:cNvSpPr/>
                <p:nvPr/>
              </p:nvSpPr>
              <p:spPr>
                <a:xfrm rot="4020000">
                  <a:off x="14292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Oval 766"/>
                <p:cNvSpPr/>
                <p:nvPr/>
              </p:nvSpPr>
              <p:spPr>
                <a:xfrm rot="9420000">
                  <a:off x="144360" y="6076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5" name="Oval 767"/>
            <p:cNvSpPr/>
            <p:nvPr/>
          </p:nvSpPr>
          <p:spPr>
            <a:xfrm>
              <a:off x="192960" y="6072120"/>
              <a:ext cx="47160" cy="42120"/>
            </a:xfrm>
            <a:prstGeom prst="ellipse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690"/>
          <p:cNvGrpSpPr/>
          <p:nvPr/>
        </p:nvGrpSpPr>
        <p:grpSpPr>
          <a:xfrm>
            <a:off x="7592760" y="5226840"/>
            <a:ext cx="367920" cy="368280"/>
            <a:chOff x="7592760" y="5226840"/>
            <a:chExt cx="367920" cy="368280"/>
          </a:xfrm>
        </p:grpSpPr>
        <p:grpSp>
          <p:nvGrpSpPr>
            <p:cNvPr id="777" name="Group 691"/>
            <p:cNvGrpSpPr/>
            <p:nvPr/>
          </p:nvGrpSpPr>
          <p:grpSpPr>
            <a:xfrm>
              <a:off x="7596360" y="5229360"/>
              <a:ext cx="362880" cy="362880"/>
              <a:chOff x="7596360" y="5229360"/>
              <a:chExt cx="362880" cy="362880"/>
            </a:xfrm>
          </p:grpSpPr>
          <p:grpSp>
            <p:nvGrpSpPr>
              <p:cNvPr id="778" name="Group 692"/>
              <p:cNvGrpSpPr/>
              <p:nvPr/>
            </p:nvGrpSpPr>
            <p:grpSpPr>
              <a:xfrm>
                <a:off x="7596360" y="5229360"/>
                <a:ext cx="362880" cy="362880"/>
                <a:chOff x="7596360" y="5229360"/>
                <a:chExt cx="362880" cy="362880"/>
              </a:xfrm>
            </p:grpSpPr>
            <p:sp>
              <p:nvSpPr>
                <p:cNvPr id="779" name="Oval 771"/>
                <p:cNvSpPr/>
                <p:nvPr/>
              </p:nvSpPr>
              <p:spPr>
                <a:xfrm>
                  <a:off x="7596360" y="53733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Oval 772"/>
                <p:cNvSpPr/>
                <p:nvPr/>
              </p:nvSpPr>
              <p:spPr>
                <a:xfrm rot="5400000">
                  <a:off x="759564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1" name="Group 695"/>
              <p:cNvGrpSpPr/>
              <p:nvPr/>
            </p:nvGrpSpPr>
            <p:grpSpPr>
              <a:xfrm>
                <a:off x="7617600" y="5253120"/>
                <a:ext cx="317160" cy="317880"/>
                <a:chOff x="7617600" y="5253120"/>
                <a:chExt cx="317160" cy="317880"/>
              </a:xfrm>
            </p:grpSpPr>
            <p:sp>
              <p:nvSpPr>
                <p:cNvPr id="782" name="Oval 774"/>
                <p:cNvSpPr/>
                <p:nvPr/>
              </p:nvSpPr>
              <p:spPr>
                <a:xfrm rot="2700000">
                  <a:off x="7593480" y="53719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Oval 775"/>
                <p:cNvSpPr/>
                <p:nvPr/>
              </p:nvSpPr>
              <p:spPr>
                <a:xfrm rot="8100000">
                  <a:off x="759564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4" name="Group 698"/>
            <p:cNvGrpSpPr/>
            <p:nvPr/>
          </p:nvGrpSpPr>
          <p:grpSpPr>
            <a:xfrm>
              <a:off x="7592760" y="5226840"/>
              <a:ext cx="367920" cy="368280"/>
              <a:chOff x="7592760" y="5226840"/>
              <a:chExt cx="367920" cy="368280"/>
            </a:xfrm>
          </p:grpSpPr>
          <p:grpSp>
            <p:nvGrpSpPr>
              <p:cNvPr id="785" name="Group 699"/>
              <p:cNvGrpSpPr/>
              <p:nvPr/>
            </p:nvGrpSpPr>
            <p:grpSpPr>
              <a:xfrm>
                <a:off x="7592760" y="5226840"/>
                <a:ext cx="367560" cy="367560"/>
                <a:chOff x="7592760" y="5226840"/>
                <a:chExt cx="367560" cy="367560"/>
              </a:xfrm>
            </p:grpSpPr>
            <p:sp>
              <p:nvSpPr>
                <p:cNvPr id="786" name="Oval 778"/>
                <p:cNvSpPr/>
                <p:nvPr/>
              </p:nvSpPr>
              <p:spPr>
                <a:xfrm rot="1320000">
                  <a:off x="7594920" y="53730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Oval 779"/>
                <p:cNvSpPr/>
                <p:nvPr/>
              </p:nvSpPr>
              <p:spPr>
                <a:xfrm rot="6720000">
                  <a:off x="759600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8" name="Group 702"/>
              <p:cNvGrpSpPr/>
              <p:nvPr/>
            </p:nvGrpSpPr>
            <p:grpSpPr>
              <a:xfrm>
                <a:off x="7594560" y="5229000"/>
                <a:ext cx="366120" cy="366120"/>
                <a:chOff x="7594560" y="5229000"/>
                <a:chExt cx="366120" cy="366120"/>
              </a:xfrm>
            </p:grpSpPr>
            <p:sp>
              <p:nvSpPr>
                <p:cNvPr id="789" name="Oval 781"/>
                <p:cNvSpPr/>
                <p:nvPr/>
              </p:nvSpPr>
              <p:spPr>
                <a:xfrm rot="4020000">
                  <a:off x="7592760" y="53708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Oval 782"/>
                <p:cNvSpPr/>
                <p:nvPr/>
              </p:nvSpPr>
              <p:spPr>
                <a:xfrm rot="9420000">
                  <a:off x="759600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Oval 783"/>
            <p:cNvSpPr/>
            <p:nvPr/>
          </p:nvSpPr>
          <p:spPr>
            <a:xfrm>
              <a:off x="7718040" y="5357520"/>
              <a:ext cx="118440" cy="105840"/>
            </a:xfrm>
            <a:prstGeom prst="ellipse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Group 706"/>
          <p:cNvGrpSpPr/>
          <p:nvPr/>
        </p:nvGrpSpPr>
        <p:grpSpPr>
          <a:xfrm>
            <a:off x="7809840" y="5659560"/>
            <a:ext cx="219240" cy="219240"/>
            <a:chOff x="7809840" y="5659560"/>
            <a:chExt cx="219240" cy="219240"/>
          </a:xfrm>
        </p:grpSpPr>
        <p:grpSp>
          <p:nvGrpSpPr>
            <p:cNvPr id="793" name="Group 707"/>
            <p:cNvGrpSpPr/>
            <p:nvPr/>
          </p:nvGrpSpPr>
          <p:grpSpPr>
            <a:xfrm>
              <a:off x="7812000" y="5661000"/>
              <a:ext cx="216000" cy="216000"/>
              <a:chOff x="7812000" y="5661000"/>
              <a:chExt cx="216000" cy="216000"/>
            </a:xfrm>
          </p:grpSpPr>
          <p:grpSp>
            <p:nvGrpSpPr>
              <p:cNvPr id="794" name="Group 708"/>
              <p:cNvGrpSpPr/>
              <p:nvPr/>
            </p:nvGrpSpPr>
            <p:grpSpPr>
              <a:xfrm>
                <a:off x="7812000" y="5661000"/>
                <a:ext cx="216000" cy="216000"/>
                <a:chOff x="7812000" y="5661000"/>
                <a:chExt cx="216000" cy="216000"/>
              </a:xfrm>
            </p:grpSpPr>
            <p:sp>
              <p:nvSpPr>
                <p:cNvPr id="795" name="Oval 787"/>
                <p:cNvSpPr/>
                <p:nvPr/>
              </p:nvSpPr>
              <p:spPr>
                <a:xfrm>
                  <a:off x="7812000" y="57466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Oval 788"/>
                <p:cNvSpPr/>
                <p:nvPr/>
              </p:nvSpPr>
              <p:spPr>
                <a:xfrm rot="5400000">
                  <a:off x="781164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Group 711"/>
              <p:cNvGrpSpPr/>
              <p:nvPr/>
            </p:nvGrpSpPr>
            <p:grpSpPr>
              <a:xfrm>
                <a:off x="7824960" y="5675040"/>
                <a:ext cx="188640" cy="189000"/>
                <a:chOff x="7824960" y="5675040"/>
                <a:chExt cx="188640" cy="189000"/>
              </a:xfrm>
            </p:grpSpPr>
            <p:sp>
              <p:nvSpPr>
                <p:cNvPr id="798" name="Oval 790"/>
                <p:cNvSpPr/>
                <p:nvPr/>
              </p:nvSpPr>
              <p:spPr>
                <a:xfrm rot="2700000">
                  <a:off x="7810560" y="5745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Oval 791"/>
                <p:cNvSpPr/>
                <p:nvPr/>
              </p:nvSpPr>
              <p:spPr>
                <a:xfrm rot="8100000">
                  <a:off x="781164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0" name="Group 714"/>
            <p:cNvGrpSpPr/>
            <p:nvPr/>
          </p:nvGrpSpPr>
          <p:grpSpPr>
            <a:xfrm>
              <a:off x="7809840" y="5659560"/>
              <a:ext cx="219240" cy="219240"/>
              <a:chOff x="7809840" y="5659560"/>
              <a:chExt cx="219240" cy="219240"/>
            </a:xfrm>
          </p:grpSpPr>
          <p:grpSp>
            <p:nvGrpSpPr>
              <p:cNvPr id="801" name="Group 715"/>
              <p:cNvGrpSpPr/>
              <p:nvPr/>
            </p:nvGrpSpPr>
            <p:grpSpPr>
              <a:xfrm>
                <a:off x="7809840" y="5659560"/>
                <a:ext cx="218520" cy="218520"/>
                <a:chOff x="7809840" y="5659560"/>
                <a:chExt cx="218520" cy="218520"/>
              </a:xfrm>
            </p:grpSpPr>
            <p:sp>
              <p:nvSpPr>
                <p:cNvPr id="802" name="Oval 794"/>
                <p:cNvSpPr/>
                <p:nvPr/>
              </p:nvSpPr>
              <p:spPr>
                <a:xfrm rot="1320000">
                  <a:off x="7810920" y="5746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Oval 795"/>
                <p:cNvSpPr/>
                <p:nvPr/>
              </p:nvSpPr>
              <p:spPr>
                <a:xfrm rot="6720000">
                  <a:off x="781164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4" name="Group 718"/>
              <p:cNvGrpSpPr/>
              <p:nvPr/>
            </p:nvGrpSpPr>
            <p:grpSpPr>
              <a:xfrm>
                <a:off x="7811280" y="5661000"/>
                <a:ext cx="217800" cy="217800"/>
                <a:chOff x="7811280" y="5661000"/>
                <a:chExt cx="217800" cy="217800"/>
              </a:xfrm>
            </p:grpSpPr>
            <p:sp>
              <p:nvSpPr>
                <p:cNvPr id="805" name="Oval 797"/>
                <p:cNvSpPr/>
                <p:nvPr/>
              </p:nvSpPr>
              <p:spPr>
                <a:xfrm rot="4020000">
                  <a:off x="7809840" y="574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Oval 798"/>
                <p:cNvSpPr/>
                <p:nvPr/>
              </p:nvSpPr>
              <p:spPr>
                <a:xfrm rot="9420000">
                  <a:off x="7812000" y="5743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7" name="Oval 799"/>
            <p:cNvSpPr/>
            <p:nvPr/>
          </p:nvSpPr>
          <p:spPr>
            <a:xfrm>
              <a:off x="7884360" y="5737320"/>
              <a:ext cx="70560" cy="63000"/>
            </a:xfrm>
            <a:prstGeom prst="ellipse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722"/>
          <p:cNvGrpSpPr/>
          <p:nvPr/>
        </p:nvGrpSpPr>
        <p:grpSpPr>
          <a:xfrm>
            <a:off x="8313480" y="5731560"/>
            <a:ext cx="367920" cy="368640"/>
            <a:chOff x="8313480" y="5731560"/>
            <a:chExt cx="367920" cy="368640"/>
          </a:xfrm>
        </p:grpSpPr>
        <p:grpSp>
          <p:nvGrpSpPr>
            <p:cNvPr id="809" name="Group 723"/>
            <p:cNvGrpSpPr/>
            <p:nvPr/>
          </p:nvGrpSpPr>
          <p:grpSpPr>
            <a:xfrm>
              <a:off x="8317080" y="5734080"/>
              <a:ext cx="362880" cy="363240"/>
              <a:chOff x="8317080" y="5734080"/>
              <a:chExt cx="362880" cy="363240"/>
            </a:xfrm>
          </p:grpSpPr>
          <p:grpSp>
            <p:nvGrpSpPr>
              <p:cNvPr id="810" name="Group 724"/>
              <p:cNvGrpSpPr/>
              <p:nvPr/>
            </p:nvGrpSpPr>
            <p:grpSpPr>
              <a:xfrm>
                <a:off x="8317080" y="5734080"/>
                <a:ext cx="362880" cy="363240"/>
                <a:chOff x="8317080" y="5734080"/>
                <a:chExt cx="362880" cy="363240"/>
              </a:xfrm>
            </p:grpSpPr>
            <p:sp>
              <p:nvSpPr>
                <p:cNvPr id="811" name="Oval 803"/>
                <p:cNvSpPr/>
                <p:nvPr/>
              </p:nvSpPr>
              <p:spPr>
                <a:xfrm>
                  <a:off x="8317080" y="587808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Oval 804"/>
                <p:cNvSpPr/>
                <p:nvPr/>
              </p:nvSpPr>
              <p:spPr>
                <a:xfrm rot="5400000">
                  <a:off x="8316360" y="5874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3" name="Group 727"/>
              <p:cNvGrpSpPr/>
              <p:nvPr/>
            </p:nvGrpSpPr>
            <p:grpSpPr>
              <a:xfrm>
                <a:off x="8338320" y="5757840"/>
                <a:ext cx="317160" cy="317880"/>
                <a:chOff x="8338320" y="5757840"/>
                <a:chExt cx="317160" cy="317880"/>
              </a:xfrm>
            </p:grpSpPr>
            <p:sp>
              <p:nvSpPr>
                <p:cNvPr id="814" name="Oval 806"/>
                <p:cNvSpPr/>
                <p:nvPr/>
              </p:nvSpPr>
              <p:spPr>
                <a:xfrm rot="2700000">
                  <a:off x="8314200" y="58770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Oval 807"/>
                <p:cNvSpPr/>
                <p:nvPr/>
              </p:nvSpPr>
              <p:spPr>
                <a:xfrm rot="8100000">
                  <a:off x="8316360" y="5873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6" name="Group 730"/>
            <p:cNvGrpSpPr/>
            <p:nvPr/>
          </p:nvGrpSpPr>
          <p:grpSpPr>
            <a:xfrm>
              <a:off x="8313480" y="5731560"/>
              <a:ext cx="367920" cy="368640"/>
              <a:chOff x="8313480" y="5731560"/>
              <a:chExt cx="367920" cy="368640"/>
            </a:xfrm>
          </p:grpSpPr>
          <p:grpSp>
            <p:nvGrpSpPr>
              <p:cNvPr id="817" name="Group 731"/>
              <p:cNvGrpSpPr/>
              <p:nvPr/>
            </p:nvGrpSpPr>
            <p:grpSpPr>
              <a:xfrm>
                <a:off x="8313480" y="5731560"/>
                <a:ext cx="367560" cy="367920"/>
                <a:chOff x="8313480" y="5731560"/>
                <a:chExt cx="367560" cy="367920"/>
              </a:xfrm>
            </p:grpSpPr>
            <p:sp>
              <p:nvSpPr>
                <p:cNvPr id="818" name="Oval 810"/>
                <p:cNvSpPr/>
                <p:nvPr/>
              </p:nvSpPr>
              <p:spPr>
                <a:xfrm rot="1320000">
                  <a:off x="8315640" y="58777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Oval 811"/>
                <p:cNvSpPr/>
                <p:nvPr/>
              </p:nvSpPr>
              <p:spPr>
                <a:xfrm rot="6720000">
                  <a:off x="8316360" y="587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0" name="Group 734"/>
              <p:cNvGrpSpPr/>
              <p:nvPr/>
            </p:nvGrpSpPr>
            <p:grpSpPr>
              <a:xfrm>
                <a:off x="8315280" y="5733720"/>
                <a:ext cx="366120" cy="366480"/>
                <a:chOff x="8315280" y="5733720"/>
                <a:chExt cx="366120" cy="366480"/>
              </a:xfrm>
            </p:grpSpPr>
            <p:sp>
              <p:nvSpPr>
                <p:cNvPr id="821" name="Oval 813"/>
                <p:cNvSpPr/>
                <p:nvPr/>
              </p:nvSpPr>
              <p:spPr>
                <a:xfrm rot="4020000">
                  <a:off x="8313480" y="58755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Oval 814"/>
                <p:cNvSpPr/>
                <p:nvPr/>
              </p:nvSpPr>
              <p:spPr>
                <a:xfrm rot="9420000">
                  <a:off x="8316720" y="5873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3" name="Oval 815"/>
            <p:cNvSpPr/>
            <p:nvPr/>
          </p:nvSpPr>
          <p:spPr>
            <a:xfrm>
              <a:off x="8438760" y="5862240"/>
              <a:ext cx="118440" cy="105840"/>
            </a:xfrm>
            <a:prstGeom prst="ellipse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Group 738"/>
          <p:cNvGrpSpPr/>
          <p:nvPr/>
        </p:nvGrpSpPr>
        <p:grpSpPr>
          <a:xfrm>
            <a:off x="8776800" y="5155200"/>
            <a:ext cx="367920" cy="368640"/>
            <a:chOff x="8776800" y="5155200"/>
            <a:chExt cx="367920" cy="368640"/>
          </a:xfrm>
        </p:grpSpPr>
        <p:grpSp>
          <p:nvGrpSpPr>
            <p:cNvPr id="825" name="Group 739"/>
            <p:cNvGrpSpPr/>
            <p:nvPr/>
          </p:nvGrpSpPr>
          <p:grpSpPr>
            <a:xfrm>
              <a:off x="8780400" y="5157720"/>
              <a:ext cx="363240" cy="363240"/>
              <a:chOff x="8780400" y="5157720"/>
              <a:chExt cx="363240" cy="363240"/>
            </a:xfrm>
          </p:grpSpPr>
          <p:grpSp>
            <p:nvGrpSpPr>
              <p:cNvPr id="826" name="Group 740"/>
              <p:cNvGrpSpPr/>
              <p:nvPr/>
            </p:nvGrpSpPr>
            <p:grpSpPr>
              <a:xfrm>
                <a:off x="8780400" y="5157720"/>
                <a:ext cx="363240" cy="363240"/>
                <a:chOff x="8780400" y="5157720"/>
                <a:chExt cx="363240" cy="363240"/>
              </a:xfrm>
            </p:grpSpPr>
            <p:sp>
              <p:nvSpPr>
                <p:cNvPr id="827" name="Oval 819"/>
                <p:cNvSpPr/>
                <p:nvPr/>
              </p:nvSpPr>
              <p:spPr>
                <a:xfrm>
                  <a:off x="8780400" y="53017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Oval 820"/>
                <p:cNvSpPr/>
                <p:nvPr/>
              </p:nvSpPr>
              <p:spPr>
                <a:xfrm rot="5400000">
                  <a:off x="877968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9" name="Group 743"/>
              <p:cNvGrpSpPr/>
              <p:nvPr/>
            </p:nvGrpSpPr>
            <p:grpSpPr>
              <a:xfrm>
                <a:off x="8801640" y="5181480"/>
                <a:ext cx="317160" cy="317880"/>
                <a:chOff x="8801640" y="5181480"/>
                <a:chExt cx="317160" cy="317880"/>
              </a:xfrm>
            </p:grpSpPr>
            <p:sp>
              <p:nvSpPr>
                <p:cNvPr id="830" name="Oval 822"/>
                <p:cNvSpPr/>
                <p:nvPr/>
              </p:nvSpPr>
              <p:spPr>
                <a:xfrm rot="2700000">
                  <a:off x="8777520" y="53006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Oval 823"/>
                <p:cNvSpPr/>
                <p:nvPr/>
              </p:nvSpPr>
              <p:spPr>
                <a:xfrm rot="8100000">
                  <a:off x="877932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2" name="Group 746"/>
            <p:cNvGrpSpPr/>
            <p:nvPr/>
          </p:nvGrpSpPr>
          <p:grpSpPr>
            <a:xfrm>
              <a:off x="8776800" y="5155200"/>
              <a:ext cx="367920" cy="368640"/>
              <a:chOff x="8776800" y="5155200"/>
              <a:chExt cx="367920" cy="368640"/>
            </a:xfrm>
          </p:grpSpPr>
          <p:grpSp>
            <p:nvGrpSpPr>
              <p:cNvPr id="833" name="Group 747"/>
              <p:cNvGrpSpPr/>
              <p:nvPr/>
            </p:nvGrpSpPr>
            <p:grpSpPr>
              <a:xfrm>
                <a:off x="8776800" y="5155200"/>
                <a:ext cx="367920" cy="367920"/>
                <a:chOff x="8776800" y="5155200"/>
                <a:chExt cx="367920" cy="367920"/>
              </a:xfrm>
            </p:grpSpPr>
            <p:sp>
              <p:nvSpPr>
                <p:cNvPr id="834" name="Oval 826"/>
                <p:cNvSpPr/>
                <p:nvPr/>
              </p:nvSpPr>
              <p:spPr>
                <a:xfrm rot="1320000">
                  <a:off x="8778960" y="53010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Oval 827"/>
                <p:cNvSpPr/>
                <p:nvPr/>
              </p:nvSpPr>
              <p:spPr>
                <a:xfrm rot="6720000">
                  <a:off x="877968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6" name="Group 750"/>
              <p:cNvGrpSpPr/>
              <p:nvPr/>
            </p:nvGrpSpPr>
            <p:grpSpPr>
              <a:xfrm>
                <a:off x="8778240" y="5157360"/>
                <a:ext cx="366480" cy="366480"/>
                <a:chOff x="8778240" y="5157360"/>
                <a:chExt cx="366480" cy="366480"/>
              </a:xfrm>
            </p:grpSpPr>
            <p:sp>
              <p:nvSpPr>
                <p:cNvPr id="837" name="Oval 829"/>
                <p:cNvSpPr/>
                <p:nvPr/>
              </p:nvSpPr>
              <p:spPr>
                <a:xfrm rot="4020000">
                  <a:off x="8776800" y="52992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Oval 830"/>
                <p:cNvSpPr/>
                <p:nvPr/>
              </p:nvSpPr>
              <p:spPr>
                <a:xfrm rot="9420000">
                  <a:off x="8779680" y="5297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Oval 831"/>
            <p:cNvSpPr/>
            <p:nvPr/>
          </p:nvSpPr>
          <p:spPr>
            <a:xfrm>
              <a:off x="8902440" y="5285880"/>
              <a:ext cx="118800" cy="105840"/>
            </a:xfrm>
            <a:prstGeom prst="ellipse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Group 754"/>
          <p:cNvGrpSpPr/>
          <p:nvPr/>
        </p:nvGrpSpPr>
        <p:grpSpPr>
          <a:xfrm>
            <a:off x="-558720" y="-437760"/>
            <a:ext cx="2774520" cy="1776240"/>
            <a:chOff x="-558720" y="-437760"/>
            <a:chExt cx="2774520" cy="1776240"/>
          </a:xfrm>
        </p:grpSpPr>
        <p:sp>
          <p:nvSpPr>
            <p:cNvPr id="841" name="Freeform 1000"/>
            <p:cNvSpPr/>
            <p:nvPr/>
          </p:nvSpPr>
          <p:spPr>
            <a:xfrm flipH="1" rot="7023600">
              <a:off x="738000" y="-583920"/>
              <a:ext cx="275040" cy="2160000"/>
            </a:xfrm>
            <a:custGeom>
              <a:avLst/>
              <a:gdLst>
                <a:gd name="textAreaLeft" fmla="*/ 360 w 275040"/>
                <a:gd name="textAreaRight" fmla="*/ 275760 w 275040"/>
                <a:gd name="textAreaTop" fmla="*/ 0 h 2160000"/>
                <a:gd name="textAreaBottom" fmla="*/ 2160360 h 2160000"/>
              </a:gdLst>
              <a:ahLst/>
              <a:rect l="textAreaLeft" t="textAreaTop" r="textAreaRight" b="textAreaBottom"/>
              <a:pathLst>
                <a:path w="2573" h="12419">
                  <a:moveTo>
                    <a:pt x="103" y="11997"/>
                  </a:moveTo>
                  <a:lnTo>
                    <a:pt x="103" y="11955"/>
                  </a:lnTo>
                  <a:lnTo>
                    <a:pt x="113" y="11851"/>
                  </a:lnTo>
                  <a:lnTo>
                    <a:pt x="124" y="11788"/>
                  </a:lnTo>
                  <a:lnTo>
                    <a:pt x="135" y="11737"/>
                  </a:lnTo>
                  <a:lnTo>
                    <a:pt x="150" y="11690"/>
                  </a:lnTo>
                  <a:lnTo>
                    <a:pt x="160" y="11669"/>
                  </a:lnTo>
                  <a:lnTo>
                    <a:pt x="170" y="11658"/>
                  </a:lnTo>
                  <a:lnTo>
                    <a:pt x="228" y="11596"/>
                  </a:lnTo>
                  <a:lnTo>
                    <a:pt x="264" y="11555"/>
                  </a:lnTo>
                  <a:lnTo>
                    <a:pt x="300" y="11503"/>
                  </a:lnTo>
                  <a:lnTo>
                    <a:pt x="332" y="11445"/>
                  </a:lnTo>
                  <a:lnTo>
                    <a:pt x="368" y="11378"/>
                  </a:lnTo>
                  <a:lnTo>
                    <a:pt x="394" y="11305"/>
                  </a:lnTo>
                  <a:lnTo>
                    <a:pt x="410" y="11221"/>
                  </a:lnTo>
                  <a:lnTo>
                    <a:pt x="447" y="11071"/>
                  </a:lnTo>
                  <a:lnTo>
                    <a:pt x="504" y="10821"/>
                  </a:lnTo>
                  <a:lnTo>
                    <a:pt x="670" y="10144"/>
                  </a:lnTo>
                  <a:lnTo>
                    <a:pt x="831" y="9488"/>
                  </a:lnTo>
                  <a:lnTo>
                    <a:pt x="883" y="9254"/>
                  </a:lnTo>
                  <a:lnTo>
                    <a:pt x="904" y="9140"/>
                  </a:lnTo>
                  <a:lnTo>
                    <a:pt x="909" y="9056"/>
                  </a:lnTo>
                  <a:lnTo>
                    <a:pt x="914" y="9004"/>
                  </a:lnTo>
                  <a:lnTo>
                    <a:pt x="919" y="8983"/>
                  </a:lnTo>
                  <a:lnTo>
                    <a:pt x="930" y="8973"/>
                  </a:lnTo>
                  <a:lnTo>
                    <a:pt x="946" y="8963"/>
                  </a:lnTo>
                  <a:lnTo>
                    <a:pt x="966" y="8958"/>
                  </a:lnTo>
                  <a:lnTo>
                    <a:pt x="981" y="8946"/>
                  </a:lnTo>
                  <a:lnTo>
                    <a:pt x="1003" y="8921"/>
                  </a:lnTo>
                  <a:lnTo>
                    <a:pt x="1023" y="8884"/>
                  </a:lnTo>
                  <a:lnTo>
                    <a:pt x="1050" y="8833"/>
                  </a:lnTo>
                  <a:lnTo>
                    <a:pt x="1106" y="8708"/>
                  </a:lnTo>
                  <a:lnTo>
                    <a:pt x="1169" y="8556"/>
                  </a:lnTo>
                  <a:lnTo>
                    <a:pt x="1231" y="8395"/>
                  </a:lnTo>
                  <a:lnTo>
                    <a:pt x="1288" y="8239"/>
                  </a:lnTo>
                  <a:lnTo>
                    <a:pt x="1335" y="8104"/>
                  </a:lnTo>
                  <a:lnTo>
                    <a:pt x="1367" y="7999"/>
                  </a:lnTo>
                  <a:lnTo>
                    <a:pt x="1445" y="7755"/>
                  </a:lnTo>
                  <a:lnTo>
                    <a:pt x="1554" y="7401"/>
                  </a:lnTo>
                  <a:lnTo>
                    <a:pt x="1606" y="7213"/>
                  </a:lnTo>
                  <a:lnTo>
                    <a:pt x="1647" y="7026"/>
                  </a:lnTo>
                  <a:lnTo>
                    <a:pt x="1669" y="6943"/>
                  </a:lnTo>
                  <a:lnTo>
                    <a:pt x="1679" y="6860"/>
                  </a:lnTo>
                  <a:lnTo>
                    <a:pt x="1689" y="6786"/>
                  </a:lnTo>
                  <a:lnTo>
                    <a:pt x="1689" y="6719"/>
                  </a:lnTo>
                  <a:lnTo>
                    <a:pt x="1694" y="6651"/>
                  </a:lnTo>
                  <a:lnTo>
                    <a:pt x="1699" y="6558"/>
                  </a:lnTo>
                  <a:lnTo>
                    <a:pt x="1731" y="6318"/>
                  </a:lnTo>
                  <a:lnTo>
                    <a:pt x="1772" y="6032"/>
                  </a:lnTo>
                  <a:lnTo>
                    <a:pt x="1814" y="5730"/>
                  </a:lnTo>
                  <a:lnTo>
                    <a:pt x="1902" y="5163"/>
                  </a:lnTo>
                  <a:lnTo>
                    <a:pt x="1934" y="4955"/>
                  </a:lnTo>
                  <a:lnTo>
                    <a:pt x="1939" y="4877"/>
                  </a:lnTo>
                  <a:lnTo>
                    <a:pt x="1944" y="4830"/>
                  </a:lnTo>
                  <a:lnTo>
                    <a:pt x="1949" y="4236"/>
                  </a:lnTo>
                  <a:lnTo>
                    <a:pt x="1964" y="3133"/>
                  </a:lnTo>
                  <a:lnTo>
                    <a:pt x="1970" y="2555"/>
                  </a:lnTo>
                  <a:lnTo>
                    <a:pt x="1970" y="2050"/>
                  </a:lnTo>
                  <a:lnTo>
                    <a:pt x="1964" y="1686"/>
                  </a:lnTo>
                  <a:lnTo>
                    <a:pt x="1959" y="1571"/>
                  </a:lnTo>
                  <a:lnTo>
                    <a:pt x="1954" y="1541"/>
                  </a:lnTo>
                  <a:lnTo>
                    <a:pt x="1954" y="1524"/>
                  </a:lnTo>
                  <a:lnTo>
                    <a:pt x="1918" y="1457"/>
                  </a:lnTo>
                  <a:lnTo>
                    <a:pt x="1892" y="1399"/>
                  </a:lnTo>
                  <a:lnTo>
                    <a:pt x="1887" y="1374"/>
                  </a:lnTo>
                  <a:lnTo>
                    <a:pt x="1882" y="1347"/>
                  </a:lnTo>
                  <a:lnTo>
                    <a:pt x="1882" y="1327"/>
                  </a:lnTo>
                  <a:lnTo>
                    <a:pt x="1892" y="1311"/>
                  </a:lnTo>
                  <a:lnTo>
                    <a:pt x="1897" y="1306"/>
                  </a:lnTo>
                  <a:lnTo>
                    <a:pt x="1907" y="1301"/>
                  </a:lnTo>
                  <a:lnTo>
                    <a:pt x="1923" y="1306"/>
                  </a:lnTo>
                  <a:lnTo>
                    <a:pt x="1944" y="1311"/>
                  </a:lnTo>
                  <a:lnTo>
                    <a:pt x="1964" y="1322"/>
                  </a:lnTo>
                  <a:lnTo>
                    <a:pt x="1986" y="1332"/>
                  </a:lnTo>
                  <a:lnTo>
                    <a:pt x="2006" y="1337"/>
                  </a:lnTo>
                  <a:lnTo>
                    <a:pt x="2022" y="1337"/>
                  </a:lnTo>
                  <a:lnTo>
                    <a:pt x="2027" y="1332"/>
                  </a:lnTo>
                  <a:lnTo>
                    <a:pt x="2032" y="1322"/>
                  </a:lnTo>
                  <a:lnTo>
                    <a:pt x="2214" y="775"/>
                  </a:lnTo>
                  <a:lnTo>
                    <a:pt x="2386" y="265"/>
                  </a:lnTo>
                  <a:lnTo>
                    <a:pt x="2376" y="228"/>
                  </a:lnTo>
                  <a:lnTo>
                    <a:pt x="2360" y="140"/>
                  </a:lnTo>
                  <a:lnTo>
                    <a:pt x="2360" y="93"/>
                  </a:lnTo>
                  <a:lnTo>
                    <a:pt x="2360" y="51"/>
                  </a:lnTo>
                  <a:lnTo>
                    <a:pt x="2365" y="20"/>
                  </a:lnTo>
                  <a:lnTo>
                    <a:pt x="2376" y="10"/>
                  </a:lnTo>
                  <a:lnTo>
                    <a:pt x="2386" y="5"/>
                  </a:lnTo>
                  <a:lnTo>
                    <a:pt x="2396" y="0"/>
                  </a:lnTo>
                  <a:lnTo>
                    <a:pt x="2401" y="5"/>
                  </a:lnTo>
                  <a:lnTo>
                    <a:pt x="2417" y="15"/>
                  </a:lnTo>
                  <a:lnTo>
                    <a:pt x="2423" y="36"/>
                  </a:lnTo>
                  <a:lnTo>
                    <a:pt x="2428" y="67"/>
                  </a:lnTo>
                  <a:lnTo>
                    <a:pt x="2438" y="130"/>
                  </a:lnTo>
                  <a:lnTo>
                    <a:pt x="2448" y="155"/>
                  </a:lnTo>
                  <a:lnTo>
                    <a:pt x="2464" y="177"/>
                  </a:lnTo>
                  <a:lnTo>
                    <a:pt x="2485" y="187"/>
                  </a:lnTo>
                  <a:lnTo>
                    <a:pt x="2505" y="197"/>
                  </a:lnTo>
                  <a:lnTo>
                    <a:pt x="2547" y="213"/>
                  </a:lnTo>
                  <a:lnTo>
                    <a:pt x="2563" y="218"/>
                  </a:lnTo>
                  <a:lnTo>
                    <a:pt x="2568" y="228"/>
                  </a:lnTo>
                  <a:lnTo>
                    <a:pt x="2573" y="233"/>
                  </a:lnTo>
                  <a:lnTo>
                    <a:pt x="2568" y="245"/>
                  </a:lnTo>
                  <a:lnTo>
                    <a:pt x="2531" y="275"/>
                  </a:lnTo>
                  <a:lnTo>
                    <a:pt x="2490" y="327"/>
                  </a:lnTo>
                  <a:lnTo>
                    <a:pt x="2443" y="390"/>
                  </a:lnTo>
                  <a:lnTo>
                    <a:pt x="2423" y="421"/>
                  </a:lnTo>
                  <a:lnTo>
                    <a:pt x="2406" y="457"/>
                  </a:lnTo>
                  <a:lnTo>
                    <a:pt x="2334" y="650"/>
                  </a:lnTo>
                  <a:lnTo>
                    <a:pt x="2219" y="999"/>
                  </a:lnTo>
                  <a:lnTo>
                    <a:pt x="2163" y="1186"/>
                  </a:lnTo>
                  <a:lnTo>
                    <a:pt x="2116" y="1363"/>
                  </a:lnTo>
                  <a:lnTo>
                    <a:pt x="2084" y="1504"/>
                  </a:lnTo>
                  <a:lnTo>
                    <a:pt x="2074" y="1556"/>
                  </a:lnTo>
                  <a:lnTo>
                    <a:pt x="2074" y="1592"/>
                  </a:lnTo>
                  <a:lnTo>
                    <a:pt x="2074" y="1706"/>
                  </a:lnTo>
                  <a:lnTo>
                    <a:pt x="2074" y="1915"/>
                  </a:lnTo>
                  <a:lnTo>
                    <a:pt x="2069" y="2456"/>
                  </a:lnTo>
                  <a:lnTo>
                    <a:pt x="2053" y="3195"/>
                  </a:lnTo>
                  <a:lnTo>
                    <a:pt x="2064" y="3185"/>
                  </a:lnTo>
                  <a:lnTo>
                    <a:pt x="2089" y="3164"/>
                  </a:lnTo>
                  <a:lnTo>
                    <a:pt x="2106" y="3154"/>
                  </a:lnTo>
                  <a:lnTo>
                    <a:pt x="2116" y="3154"/>
                  </a:lnTo>
                  <a:lnTo>
                    <a:pt x="2121" y="3159"/>
                  </a:lnTo>
                  <a:lnTo>
                    <a:pt x="2121" y="3174"/>
                  </a:lnTo>
                  <a:lnTo>
                    <a:pt x="2111" y="3227"/>
                  </a:lnTo>
                  <a:lnTo>
                    <a:pt x="2089" y="3284"/>
                  </a:lnTo>
                  <a:lnTo>
                    <a:pt x="2069" y="3352"/>
                  </a:lnTo>
                  <a:lnTo>
                    <a:pt x="2064" y="3394"/>
                  </a:lnTo>
                  <a:lnTo>
                    <a:pt x="2064" y="3435"/>
                  </a:lnTo>
                  <a:lnTo>
                    <a:pt x="2058" y="3747"/>
                  </a:lnTo>
                  <a:lnTo>
                    <a:pt x="2043" y="4356"/>
                  </a:lnTo>
                  <a:lnTo>
                    <a:pt x="2032" y="4705"/>
                  </a:lnTo>
                  <a:lnTo>
                    <a:pt x="2022" y="5048"/>
                  </a:lnTo>
                  <a:lnTo>
                    <a:pt x="2001" y="5360"/>
                  </a:lnTo>
                  <a:lnTo>
                    <a:pt x="1981" y="5610"/>
                  </a:lnTo>
                  <a:lnTo>
                    <a:pt x="1954" y="5834"/>
                  </a:lnTo>
                  <a:lnTo>
                    <a:pt x="1923" y="6058"/>
                  </a:lnTo>
                  <a:lnTo>
                    <a:pt x="1850" y="6490"/>
                  </a:lnTo>
                  <a:lnTo>
                    <a:pt x="1819" y="6673"/>
                  </a:lnTo>
                  <a:lnTo>
                    <a:pt x="1799" y="6818"/>
                  </a:lnTo>
                  <a:lnTo>
                    <a:pt x="1794" y="6922"/>
                  </a:lnTo>
                  <a:lnTo>
                    <a:pt x="1794" y="6953"/>
                  </a:lnTo>
                  <a:lnTo>
                    <a:pt x="1804" y="6974"/>
                  </a:lnTo>
                  <a:lnTo>
                    <a:pt x="1819" y="6985"/>
                  </a:lnTo>
                  <a:lnTo>
                    <a:pt x="1834" y="6990"/>
                  </a:lnTo>
                  <a:lnTo>
                    <a:pt x="1866" y="6990"/>
                  </a:lnTo>
                  <a:lnTo>
                    <a:pt x="1876" y="6990"/>
                  </a:lnTo>
                  <a:lnTo>
                    <a:pt x="1887" y="6995"/>
                  </a:lnTo>
                  <a:lnTo>
                    <a:pt x="1897" y="7010"/>
                  </a:lnTo>
                  <a:lnTo>
                    <a:pt x="1902" y="7031"/>
                  </a:lnTo>
                  <a:lnTo>
                    <a:pt x="1897" y="7063"/>
                  </a:lnTo>
                  <a:lnTo>
                    <a:pt x="1887" y="7100"/>
                  </a:lnTo>
                  <a:lnTo>
                    <a:pt x="1866" y="7130"/>
                  </a:lnTo>
                  <a:lnTo>
                    <a:pt x="1845" y="7162"/>
                  </a:lnTo>
                  <a:lnTo>
                    <a:pt x="1804" y="7208"/>
                  </a:lnTo>
                  <a:lnTo>
                    <a:pt x="1782" y="7224"/>
                  </a:lnTo>
                  <a:lnTo>
                    <a:pt x="1076" y="9108"/>
                  </a:lnTo>
                  <a:lnTo>
                    <a:pt x="571" y="11174"/>
                  </a:lnTo>
                  <a:lnTo>
                    <a:pt x="582" y="11201"/>
                  </a:lnTo>
                  <a:lnTo>
                    <a:pt x="587" y="11243"/>
                  </a:lnTo>
                  <a:lnTo>
                    <a:pt x="582" y="11294"/>
                  </a:lnTo>
                  <a:lnTo>
                    <a:pt x="571" y="11331"/>
                  </a:lnTo>
                  <a:lnTo>
                    <a:pt x="550" y="11378"/>
                  </a:lnTo>
                  <a:lnTo>
                    <a:pt x="487" y="11492"/>
                  </a:lnTo>
                  <a:lnTo>
                    <a:pt x="457" y="11550"/>
                  </a:lnTo>
                  <a:lnTo>
                    <a:pt x="431" y="11606"/>
                  </a:lnTo>
                  <a:lnTo>
                    <a:pt x="410" y="11658"/>
                  </a:lnTo>
                  <a:lnTo>
                    <a:pt x="405" y="11695"/>
                  </a:lnTo>
                  <a:lnTo>
                    <a:pt x="399" y="11737"/>
                  </a:lnTo>
                  <a:lnTo>
                    <a:pt x="389" y="11783"/>
                  </a:lnTo>
                  <a:lnTo>
                    <a:pt x="352" y="11898"/>
                  </a:lnTo>
                  <a:lnTo>
                    <a:pt x="312" y="12018"/>
                  </a:lnTo>
                  <a:lnTo>
                    <a:pt x="259" y="12122"/>
                  </a:lnTo>
                  <a:lnTo>
                    <a:pt x="197" y="12220"/>
                  </a:lnTo>
                  <a:lnTo>
                    <a:pt x="113" y="12330"/>
                  </a:lnTo>
                  <a:lnTo>
                    <a:pt x="77" y="12377"/>
                  </a:lnTo>
                  <a:lnTo>
                    <a:pt x="40" y="12408"/>
                  </a:lnTo>
                  <a:lnTo>
                    <a:pt x="25" y="12419"/>
                  </a:lnTo>
                  <a:lnTo>
                    <a:pt x="15" y="12419"/>
                  </a:lnTo>
                  <a:lnTo>
                    <a:pt x="5" y="12419"/>
                  </a:lnTo>
                  <a:lnTo>
                    <a:pt x="0" y="12413"/>
                  </a:lnTo>
                  <a:lnTo>
                    <a:pt x="0" y="12397"/>
                  </a:lnTo>
                  <a:lnTo>
                    <a:pt x="0" y="12377"/>
                  </a:lnTo>
                  <a:lnTo>
                    <a:pt x="10" y="12320"/>
                  </a:lnTo>
                  <a:lnTo>
                    <a:pt x="40" y="12185"/>
                  </a:lnTo>
                  <a:lnTo>
                    <a:pt x="82" y="12055"/>
                  </a:lnTo>
                  <a:lnTo>
                    <a:pt x="103" y="11997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001"/>
            <p:cNvSpPr/>
            <p:nvPr/>
          </p:nvSpPr>
          <p:spPr>
            <a:xfrm flipH="1" rot="7023600">
              <a:off x="-113760" y="92520"/>
              <a:ext cx="30600" cy="83160"/>
            </a:xfrm>
            <a:custGeom>
              <a:avLst/>
              <a:gdLst>
                <a:gd name="textAreaLeft" fmla="*/ 360 w 30600"/>
                <a:gd name="textAreaRight" fmla="*/ 31320 w 3060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297" h="479">
                  <a:moveTo>
                    <a:pt x="265" y="0"/>
                  </a:moveTo>
                  <a:lnTo>
                    <a:pt x="249" y="5"/>
                  </a:lnTo>
                  <a:lnTo>
                    <a:pt x="228" y="10"/>
                  </a:lnTo>
                  <a:lnTo>
                    <a:pt x="202" y="22"/>
                  </a:lnTo>
                  <a:lnTo>
                    <a:pt x="177" y="37"/>
                  </a:lnTo>
                  <a:lnTo>
                    <a:pt x="145" y="57"/>
                  </a:lnTo>
                  <a:lnTo>
                    <a:pt x="120" y="89"/>
                  </a:lnTo>
                  <a:lnTo>
                    <a:pt x="93" y="130"/>
                  </a:lnTo>
                  <a:lnTo>
                    <a:pt x="73" y="182"/>
                  </a:lnTo>
                  <a:lnTo>
                    <a:pt x="52" y="245"/>
                  </a:lnTo>
                  <a:lnTo>
                    <a:pt x="31" y="312"/>
                  </a:lnTo>
                  <a:lnTo>
                    <a:pt x="10" y="375"/>
                  </a:lnTo>
                  <a:lnTo>
                    <a:pt x="5" y="427"/>
                  </a:lnTo>
                  <a:lnTo>
                    <a:pt x="0" y="464"/>
                  </a:lnTo>
                  <a:lnTo>
                    <a:pt x="5" y="474"/>
                  </a:lnTo>
                  <a:lnTo>
                    <a:pt x="10" y="479"/>
                  </a:lnTo>
                  <a:lnTo>
                    <a:pt x="20" y="474"/>
                  </a:lnTo>
                  <a:lnTo>
                    <a:pt x="36" y="464"/>
                  </a:lnTo>
                  <a:lnTo>
                    <a:pt x="73" y="422"/>
                  </a:lnTo>
                  <a:lnTo>
                    <a:pt x="125" y="359"/>
                  </a:lnTo>
                  <a:lnTo>
                    <a:pt x="177" y="282"/>
                  </a:lnTo>
                  <a:lnTo>
                    <a:pt x="228" y="204"/>
                  </a:lnTo>
                  <a:lnTo>
                    <a:pt x="270" y="125"/>
                  </a:lnTo>
                  <a:lnTo>
                    <a:pt x="280" y="89"/>
                  </a:lnTo>
                  <a:lnTo>
                    <a:pt x="290" y="63"/>
                  </a:lnTo>
                  <a:lnTo>
                    <a:pt x="297" y="37"/>
                  </a:lnTo>
                  <a:lnTo>
                    <a:pt x="297" y="16"/>
                  </a:lnTo>
                  <a:lnTo>
                    <a:pt x="285" y="5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3" name="Group 757"/>
            <p:cNvGrpSpPr/>
            <p:nvPr/>
          </p:nvGrpSpPr>
          <p:grpSpPr>
            <a:xfrm>
              <a:off x="-558720" y="77760"/>
              <a:ext cx="858240" cy="717120"/>
              <a:chOff x="-558720" y="77760"/>
              <a:chExt cx="858240" cy="717120"/>
            </a:xfrm>
          </p:grpSpPr>
          <p:grpSp>
            <p:nvGrpSpPr>
              <p:cNvPr id="844" name="Group 758"/>
              <p:cNvGrpSpPr/>
              <p:nvPr/>
            </p:nvGrpSpPr>
            <p:grpSpPr>
              <a:xfrm>
                <a:off x="-558720" y="77760"/>
                <a:ext cx="825480" cy="717120"/>
                <a:chOff x="-558720" y="77760"/>
                <a:chExt cx="825480" cy="717120"/>
              </a:xfrm>
            </p:grpSpPr>
            <p:sp>
              <p:nvSpPr>
                <p:cNvPr id="845" name="Freeform 1004"/>
                <p:cNvSpPr/>
                <p:nvPr/>
              </p:nvSpPr>
              <p:spPr>
                <a:xfrm flipH="1" rot="6883200">
                  <a:off x="-358200" y="96120"/>
                  <a:ext cx="424440" cy="713520"/>
                </a:xfrm>
                <a:custGeom>
                  <a:avLst/>
                  <a:gdLst>
                    <a:gd name="textAreaLeft" fmla="*/ 360 w 424440"/>
                    <a:gd name="textAreaRight" fmla="*/ 425160 w 424440"/>
                    <a:gd name="textAreaTop" fmla="*/ 0 h 713520"/>
                    <a:gd name="textAreaBottom" fmla="*/ 713880 h 71352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1005"/>
                <p:cNvSpPr/>
                <p:nvPr/>
              </p:nvSpPr>
              <p:spPr>
                <a:xfrm flipH="1" rot="6883200">
                  <a:off x="-295560" y="278640"/>
                  <a:ext cx="359640" cy="338760"/>
                </a:xfrm>
                <a:custGeom>
                  <a:avLst/>
                  <a:gdLst>
                    <a:gd name="textAreaLeft" fmla="*/ 360 w 359640"/>
                    <a:gd name="textAreaRight" fmla="*/ 360360 w 359640"/>
                    <a:gd name="textAreaTop" fmla="*/ 0 h 338760"/>
                    <a:gd name="textAreaBottom" fmla="*/ 339120 h 33876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1006"/>
                <p:cNvSpPr/>
                <p:nvPr/>
              </p:nvSpPr>
              <p:spPr>
                <a:xfrm flipH="1" rot="6883200">
                  <a:off x="-322920" y="192960"/>
                  <a:ext cx="523800" cy="421200"/>
                </a:xfrm>
                <a:custGeom>
                  <a:avLst/>
                  <a:gdLst>
                    <a:gd name="textAreaLeft" fmla="*/ 360 w 523800"/>
                    <a:gd name="textAreaRight" fmla="*/ 524520 w 523800"/>
                    <a:gd name="textAreaTop" fmla="*/ 0 h 421200"/>
                    <a:gd name="textAreaBottom" fmla="*/ 421560 h 42120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1007"/>
                <p:cNvSpPr/>
                <p:nvPr/>
              </p:nvSpPr>
              <p:spPr>
                <a:xfrm flipH="1" rot="6883200">
                  <a:off x="-232920" y="473400"/>
                  <a:ext cx="170280" cy="41760"/>
                </a:xfrm>
                <a:custGeom>
                  <a:avLst/>
                  <a:gdLst>
                    <a:gd name="textAreaLeft" fmla="*/ 360 w 170280"/>
                    <a:gd name="textAreaRight" fmla="*/ 171000 w 17028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1008"/>
                <p:cNvSpPr/>
                <p:nvPr/>
              </p:nvSpPr>
              <p:spPr>
                <a:xfrm flipH="1" rot="6883200">
                  <a:off x="-122040" y="419400"/>
                  <a:ext cx="219960" cy="156240"/>
                </a:xfrm>
                <a:custGeom>
                  <a:avLst/>
                  <a:gdLst>
                    <a:gd name="textAreaLeft" fmla="*/ 360 w 219960"/>
                    <a:gd name="textAreaRight" fmla="*/ 220680 w 219960"/>
                    <a:gd name="textAreaTop" fmla="*/ 0 h 156240"/>
                    <a:gd name="textAreaBottom" fmla="*/ 156600 h 15624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Freeform 1009"/>
                <p:cNvSpPr/>
                <p:nvPr/>
              </p:nvSpPr>
              <p:spPr>
                <a:xfrm flipH="1" rot="6883200">
                  <a:off x="-49680" y="389880"/>
                  <a:ext cx="242640" cy="205920"/>
                </a:xfrm>
                <a:custGeom>
                  <a:avLst/>
                  <a:gdLst>
                    <a:gd name="textAreaLeft" fmla="*/ 360 w 242640"/>
                    <a:gd name="textAreaRight" fmla="*/ 243360 w 24264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Freeform 1010"/>
                <p:cNvSpPr/>
                <p:nvPr/>
              </p:nvSpPr>
              <p:spPr>
                <a:xfrm flipH="1" rot="6883200">
                  <a:off x="-274320" y="497160"/>
                  <a:ext cx="100800" cy="26280"/>
                </a:xfrm>
                <a:custGeom>
                  <a:avLst/>
                  <a:gdLst>
                    <a:gd name="textAreaLeft" fmla="*/ -360 w 100800"/>
                    <a:gd name="textAreaRight" fmla="*/ 100800 w 10080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1011"/>
                <p:cNvSpPr/>
                <p:nvPr/>
              </p:nvSpPr>
              <p:spPr>
                <a:xfrm flipH="1" rot="6883200">
                  <a:off x="-319680" y="524880"/>
                  <a:ext cx="52560" cy="10440"/>
                </a:xfrm>
                <a:custGeom>
                  <a:avLst/>
                  <a:gdLst>
                    <a:gd name="textAreaLeft" fmla="*/ -360 w 52560"/>
                    <a:gd name="textAreaRight" fmla="*/ 52560 w 5256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1012"/>
                <p:cNvSpPr/>
                <p:nvPr/>
              </p:nvSpPr>
              <p:spPr>
                <a:xfrm flipH="1" rot="6883200">
                  <a:off x="-333000" y="463320"/>
                  <a:ext cx="38520" cy="73440"/>
                </a:xfrm>
                <a:custGeom>
                  <a:avLst/>
                  <a:gdLst>
                    <a:gd name="textAreaLeft" fmla="*/ 360 w 38520"/>
                    <a:gd name="textAreaRight" fmla="*/ 39240 w 38520"/>
                    <a:gd name="textAreaTop" fmla="*/ 0 h 73440"/>
                    <a:gd name="textAreaBottom" fmla="*/ 73800 h 7344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1013"/>
                <p:cNvSpPr/>
                <p:nvPr/>
              </p:nvSpPr>
              <p:spPr>
                <a:xfrm flipH="1" rot="6883200">
                  <a:off x="-321120" y="395280"/>
                  <a:ext cx="67320" cy="134640"/>
                </a:xfrm>
                <a:custGeom>
                  <a:avLst/>
                  <a:gdLst>
                    <a:gd name="textAreaLeft" fmla="*/ 360 w 67320"/>
                    <a:gd name="textAreaRight" fmla="*/ 68040 w 67320"/>
                    <a:gd name="textAreaTop" fmla="*/ 0 h 134640"/>
                    <a:gd name="textAreaBottom" fmla="*/ 135000 h 13464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1014"/>
                <p:cNvSpPr/>
                <p:nvPr/>
              </p:nvSpPr>
              <p:spPr>
                <a:xfrm flipH="1" rot="6883200">
                  <a:off x="-303120" y="288000"/>
                  <a:ext cx="107640" cy="237240"/>
                </a:xfrm>
                <a:custGeom>
                  <a:avLst/>
                  <a:gdLst>
                    <a:gd name="textAreaLeft" fmla="*/ 360 w 107640"/>
                    <a:gd name="textAreaRight" fmla="*/ 108360 w 107640"/>
                    <a:gd name="textAreaTop" fmla="*/ 0 h 237240"/>
                    <a:gd name="textAreaBottom" fmla="*/ 237600 h 23724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1015"/>
                <p:cNvSpPr/>
                <p:nvPr/>
              </p:nvSpPr>
              <p:spPr>
                <a:xfrm flipH="1" rot="6883200">
                  <a:off x="-270360" y="171000"/>
                  <a:ext cx="115920" cy="346680"/>
                </a:xfrm>
                <a:custGeom>
                  <a:avLst/>
                  <a:gdLst>
                    <a:gd name="textAreaLeft" fmla="*/ -360 w 115920"/>
                    <a:gd name="textAreaRight" fmla="*/ 115920 w 115920"/>
                    <a:gd name="textAreaTop" fmla="*/ 0 h 346680"/>
                    <a:gd name="textAreaBottom" fmla="*/ 347040 h 34668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1016"/>
                <p:cNvSpPr/>
                <p:nvPr/>
              </p:nvSpPr>
              <p:spPr>
                <a:xfrm flipH="1" rot="6883200">
                  <a:off x="-322200" y="231120"/>
                  <a:ext cx="12600" cy="138240"/>
                </a:xfrm>
                <a:custGeom>
                  <a:avLst/>
                  <a:gdLst>
                    <a:gd name="textAreaLeft" fmla="*/ 360 w 12600"/>
                    <a:gd name="textAreaRight" fmla="*/ 13320 w 1260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1017"/>
                <p:cNvSpPr/>
                <p:nvPr/>
              </p:nvSpPr>
              <p:spPr>
                <a:xfrm flipH="1" rot="6883200">
                  <a:off x="-210240" y="69120"/>
                  <a:ext cx="79920" cy="426960"/>
                </a:xfrm>
                <a:custGeom>
                  <a:avLst/>
                  <a:gdLst>
                    <a:gd name="textAreaLeft" fmla="*/ -360 w 79920"/>
                    <a:gd name="textAreaRight" fmla="*/ 79920 w 79920"/>
                    <a:gd name="textAreaTop" fmla="*/ 0 h 426960"/>
                    <a:gd name="textAreaBottom" fmla="*/ 427320 h 42696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1018"/>
                <p:cNvSpPr/>
                <p:nvPr/>
              </p:nvSpPr>
              <p:spPr>
                <a:xfrm flipH="1" rot="6883200">
                  <a:off x="-238320" y="318960"/>
                  <a:ext cx="59400" cy="67680"/>
                </a:xfrm>
                <a:custGeom>
                  <a:avLst/>
                  <a:gdLst>
                    <a:gd name="textAreaLeft" fmla="*/ 0 w 59400"/>
                    <a:gd name="textAreaRight" fmla="*/ 59400 w 594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019"/>
                <p:cNvSpPr/>
                <p:nvPr/>
              </p:nvSpPr>
              <p:spPr>
                <a:xfrm flipH="1" rot="6883200">
                  <a:off x="-336600" y="333720"/>
                  <a:ext cx="28800" cy="108720"/>
                </a:xfrm>
                <a:custGeom>
                  <a:avLst/>
                  <a:gdLst>
                    <a:gd name="textAreaLeft" fmla="*/ -360 w 28800"/>
                    <a:gd name="textAreaRight" fmla="*/ 28800 w 28800"/>
                    <a:gd name="textAreaTop" fmla="*/ 0 h 108720"/>
                    <a:gd name="textAreaBottom" fmla="*/ 109080 h 10872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1020"/>
                <p:cNvSpPr/>
                <p:nvPr/>
              </p:nvSpPr>
              <p:spPr>
                <a:xfrm flipH="1" rot="6883200">
                  <a:off x="-189000" y="501840"/>
                  <a:ext cx="62640" cy="23400"/>
                </a:xfrm>
                <a:custGeom>
                  <a:avLst/>
                  <a:gdLst>
                    <a:gd name="textAreaLeft" fmla="*/ -360 w 62640"/>
                    <a:gd name="textAreaRight" fmla="*/ 62640 w 6264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1021"/>
                <p:cNvSpPr/>
                <p:nvPr/>
              </p:nvSpPr>
              <p:spPr>
                <a:xfrm flipH="1" rot="6883200">
                  <a:off x="-148680" y="526320"/>
                  <a:ext cx="38520" cy="42120"/>
                </a:xfrm>
                <a:custGeom>
                  <a:avLst/>
                  <a:gdLst>
                    <a:gd name="textAreaLeft" fmla="*/ 360 w 38520"/>
                    <a:gd name="textAreaRight" fmla="*/ 39240 w 38520"/>
                    <a:gd name="textAreaTop" fmla="*/ 0 h 42120"/>
                    <a:gd name="textAreaBottom" fmla="*/ 42480 h 4212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1022"/>
                <p:cNvSpPr/>
                <p:nvPr/>
              </p:nvSpPr>
              <p:spPr>
                <a:xfrm flipH="1" rot="6883200">
                  <a:off x="-282960" y="344160"/>
                  <a:ext cx="12600" cy="25920"/>
                </a:xfrm>
                <a:custGeom>
                  <a:avLst/>
                  <a:gdLst>
                    <a:gd name="textAreaLeft" fmla="*/ 360 w 12600"/>
                    <a:gd name="textAreaRight" fmla="*/ 13320 w 1260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1023"/>
                <p:cNvSpPr/>
                <p:nvPr/>
              </p:nvSpPr>
              <p:spPr>
                <a:xfrm flipH="1" rot="6883200">
                  <a:off x="-78120" y="528480"/>
                  <a:ext cx="11160" cy="15120"/>
                </a:xfrm>
                <a:custGeom>
                  <a:avLst/>
                  <a:gdLst>
                    <a:gd name="textAreaLeft" fmla="*/ 0 w 11160"/>
                    <a:gd name="textAreaRight" fmla="*/ 11160 w 1116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Freeform 1024"/>
                <p:cNvSpPr/>
                <p:nvPr/>
              </p:nvSpPr>
              <p:spPr>
                <a:xfrm flipH="1" rot="6883200">
                  <a:off x="19800" y="523800"/>
                  <a:ext cx="12600" cy="2052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025"/>
                <p:cNvSpPr/>
                <p:nvPr/>
              </p:nvSpPr>
              <p:spPr>
                <a:xfrm flipH="1" rot="6883200">
                  <a:off x="-212400" y="561960"/>
                  <a:ext cx="9720" cy="9360"/>
                </a:xfrm>
                <a:custGeom>
                  <a:avLst/>
                  <a:gdLst>
                    <a:gd name="textAreaLeft" fmla="*/ 360 w 9720"/>
                    <a:gd name="textAreaRight" fmla="*/ 10440 w 972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7" name="Group 781"/>
              <p:cNvGrpSpPr/>
              <p:nvPr/>
            </p:nvGrpSpPr>
            <p:grpSpPr>
              <a:xfrm>
                <a:off x="235080" y="236160"/>
                <a:ext cx="64440" cy="51840"/>
                <a:chOff x="235080" y="236160"/>
                <a:chExt cx="64440" cy="51840"/>
              </a:xfrm>
            </p:grpSpPr>
            <p:sp>
              <p:nvSpPr>
                <p:cNvPr id="868" name="Freeform 1027"/>
                <p:cNvSpPr/>
                <p:nvPr/>
              </p:nvSpPr>
              <p:spPr>
                <a:xfrm flipH="1" rot="11248200">
                  <a:off x="237240" y="239400"/>
                  <a:ext cx="59040" cy="44640"/>
                </a:xfrm>
                <a:custGeom>
                  <a:avLst/>
                  <a:gdLst>
                    <a:gd name="textAreaLeft" fmla="*/ 360 w 59040"/>
                    <a:gd name="textAreaRight" fmla="*/ 59760 w 5904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1028"/>
                <p:cNvSpPr/>
                <p:nvPr/>
              </p:nvSpPr>
              <p:spPr>
                <a:xfrm flipH="1" rot="14895000">
                  <a:off x="244440" y="241200"/>
                  <a:ext cx="22680" cy="36000"/>
                </a:xfrm>
                <a:custGeom>
                  <a:avLst/>
                  <a:gdLst>
                    <a:gd name="textAreaLeft" fmla="*/ -360 w 22680"/>
                    <a:gd name="textAreaRight" fmla="*/ 22680 w 22680"/>
                    <a:gd name="textAreaTop" fmla="*/ 0 h 36000"/>
                    <a:gd name="textAreaBottom" fmla="*/ 36360 h 3600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0" name="Group 784"/>
            <p:cNvGrpSpPr/>
            <p:nvPr/>
          </p:nvGrpSpPr>
          <p:grpSpPr>
            <a:xfrm>
              <a:off x="45360" y="200520"/>
              <a:ext cx="914760" cy="834480"/>
              <a:chOff x="45360" y="200520"/>
              <a:chExt cx="914760" cy="834480"/>
            </a:xfrm>
          </p:grpSpPr>
          <p:grpSp>
            <p:nvGrpSpPr>
              <p:cNvPr id="871" name="Group 785"/>
              <p:cNvGrpSpPr/>
              <p:nvPr/>
            </p:nvGrpSpPr>
            <p:grpSpPr>
              <a:xfrm>
                <a:off x="45360" y="200520"/>
                <a:ext cx="914760" cy="834480"/>
                <a:chOff x="45360" y="200520"/>
                <a:chExt cx="914760" cy="834480"/>
              </a:xfrm>
            </p:grpSpPr>
            <p:sp>
              <p:nvSpPr>
                <p:cNvPr id="872" name="Freeform 1031"/>
                <p:cNvSpPr/>
                <p:nvPr/>
              </p:nvSpPr>
              <p:spPr>
                <a:xfrm flipH="1" rot="2120400">
                  <a:off x="208080" y="435960"/>
                  <a:ext cx="687600" cy="440280"/>
                </a:xfrm>
                <a:custGeom>
                  <a:avLst/>
                  <a:gdLst>
                    <a:gd name="textAreaLeft" fmla="*/ 360 w 687600"/>
                    <a:gd name="textAreaRight" fmla="*/ 688320 w 687600"/>
                    <a:gd name="textAreaTop" fmla="*/ 0 h 440280"/>
                    <a:gd name="textAreaBottom" fmla="*/ 440640 h 44028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1032"/>
                <p:cNvSpPr/>
                <p:nvPr/>
              </p:nvSpPr>
              <p:spPr>
                <a:xfrm flipH="1" rot="2120400">
                  <a:off x="247320" y="522360"/>
                  <a:ext cx="582840" cy="208800"/>
                </a:xfrm>
                <a:custGeom>
                  <a:avLst/>
                  <a:gdLst>
                    <a:gd name="textAreaLeft" fmla="*/ -360 w 582840"/>
                    <a:gd name="textAreaRight" fmla="*/ 582840 w 582840"/>
                    <a:gd name="textAreaTop" fmla="*/ 0 h 208800"/>
                    <a:gd name="textAreaBottom" fmla="*/ 209160 h 20880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1033"/>
                <p:cNvSpPr/>
                <p:nvPr/>
              </p:nvSpPr>
              <p:spPr>
                <a:xfrm flipH="1" rot="2120400">
                  <a:off x="42120" y="421920"/>
                  <a:ext cx="848880" cy="260280"/>
                </a:xfrm>
                <a:custGeom>
                  <a:avLst/>
                  <a:gdLst>
                    <a:gd name="textAreaLeft" fmla="*/ 360 w 848880"/>
                    <a:gd name="textAreaRight" fmla="*/ 849600 w 84888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1034"/>
                <p:cNvSpPr/>
                <p:nvPr/>
              </p:nvSpPr>
              <p:spPr>
                <a:xfrm flipH="1" rot="2120400">
                  <a:off x="470880" y="671760"/>
                  <a:ext cx="275760" cy="25560"/>
                </a:xfrm>
                <a:custGeom>
                  <a:avLst/>
                  <a:gdLst>
                    <a:gd name="textAreaLeft" fmla="*/ 360 w 275760"/>
                    <a:gd name="textAreaRight" fmla="*/ 276480 w 27576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1035"/>
                <p:cNvSpPr/>
                <p:nvPr/>
              </p:nvSpPr>
              <p:spPr>
                <a:xfrm flipH="1" rot="2120400">
                  <a:off x="403920" y="523440"/>
                  <a:ext cx="356760" cy="96120"/>
                </a:xfrm>
                <a:custGeom>
                  <a:avLst/>
                  <a:gdLst>
                    <a:gd name="textAreaLeft" fmla="*/ -360 w 356760"/>
                    <a:gd name="textAreaRight" fmla="*/ 356760 w 356760"/>
                    <a:gd name="textAreaTop" fmla="*/ 0 h 96120"/>
                    <a:gd name="textAreaBottom" fmla="*/ 96480 h 9612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1036"/>
                <p:cNvSpPr/>
                <p:nvPr/>
              </p:nvSpPr>
              <p:spPr>
                <a:xfrm flipH="1" rot="2120400">
                  <a:off x="358560" y="432720"/>
                  <a:ext cx="393480" cy="127080"/>
                </a:xfrm>
                <a:custGeom>
                  <a:avLst/>
                  <a:gdLst>
                    <a:gd name="textAreaLeft" fmla="*/ -360 w 393480"/>
                    <a:gd name="textAreaRight" fmla="*/ 393480 w 393480"/>
                    <a:gd name="textAreaTop" fmla="*/ 0 h 127080"/>
                    <a:gd name="textAreaBottom" fmla="*/ 127440 h 12708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037"/>
                <p:cNvSpPr/>
                <p:nvPr/>
              </p:nvSpPr>
              <p:spPr>
                <a:xfrm flipH="1" rot="2120400">
                  <a:off x="566280" y="751320"/>
                  <a:ext cx="163440" cy="1620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1038"/>
                <p:cNvSpPr/>
                <p:nvPr/>
              </p:nvSpPr>
              <p:spPr>
                <a:xfrm flipH="1" rot="2120400">
                  <a:off x="646560" y="827280"/>
                  <a:ext cx="85320" cy="684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1039"/>
                <p:cNvSpPr/>
                <p:nvPr/>
              </p:nvSpPr>
              <p:spPr>
                <a:xfrm flipH="1" rot="2120400">
                  <a:off x="622440" y="806400"/>
                  <a:ext cx="62280" cy="45000"/>
                </a:xfrm>
                <a:custGeom>
                  <a:avLst/>
                  <a:gdLst>
                    <a:gd name="textAreaLeft" fmla="*/ -360 w 62280"/>
                    <a:gd name="textAreaRight" fmla="*/ 62280 w 6228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040"/>
                <p:cNvSpPr/>
                <p:nvPr/>
              </p:nvSpPr>
              <p:spPr>
                <a:xfrm flipH="1" rot="2120400">
                  <a:off x="542520" y="741240"/>
                  <a:ext cx="109080" cy="83520"/>
                </a:xfrm>
                <a:custGeom>
                  <a:avLst/>
                  <a:gdLst>
                    <a:gd name="textAreaLeft" fmla="*/ -360 w 109080"/>
                    <a:gd name="textAreaRight" fmla="*/ 109080 w 109080"/>
                    <a:gd name="textAreaTop" fmla="*/ 0 h 83520"/>
                    <a:gd name="textAreaBottom" fmla="*/ 83880 h 8352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1041"/>
                <p:cNvSpPr/>
                <p:nvPr/>
              </p:nvSpPr>
              <p:spPr>
                <a:xfrm flipH="1" rot="2120400">
                  <a:off x="425160" y="640440"/>
                  <a:ext cx="174960" cy="146520"/>
                </a:xfrm>
                <a:custGeom>
                  <a:avLst/>
                  <a:gdLst>
                    <a:gd name="textAreaLeft" fmla="*/ 360 w 174960"/>
                    <a:gd name="textAreaRight" fmla="*/ 175680 w 17496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1042"/>
                <p:cNvSpPr/>
                <p:nvPr/>
              </p:nvSpPr>
              <p:spPr>
                <a:xfrm flipH="1" rot="2120400">
                  <a:off x="327600" y="536040"/>
                  <a:ext cx="187560" cy="213840"/>
                </a:xfrm>
                <a:custGeom>
                  <a:avLst/>
                  <a:gdLst>
                    <a:gd name="textAreaLeft" fmla="*/ -360 w 187560"/>
                    <a:gd name="textAreaRight" fmla="*/ 187560 w 187560"/>
                    <a:gd name="textAreaTop" fmla="*/ 0 h 213840"/>
                    <a:gd name="textAreaBottom" fmla="*/ 214200 h 21384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1043"/>
                <p:cNvSpPr/>
                <p:nvPr/>
              </p:nvSpPr>
              <p:spPr>
                <a:xfrm flipH="1" rot="2120400">
                  <a:off x="375480" y="659880"/>
                  <a:ext cx="20520" cy="85320"/>
                </a:xfrm>
                <a:custGeom>
                  <a:avLst/>
                  <a:gdLst>
                    <a:gd name="textAreaLeft" fmla="*/ -360 w 20520"/>
                    <a:gd name="textAreaRight" fmla="*/ 20520 w 2052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1044"/>
                <p:cNvSpPr/>
                <p:nvPr/>
              </p:nvSpPr>
              <p:spPr>
                <a:xfrm flipH="1" rot="2120400">
                  <a:off x="262440" y="435240"/>
                  <a:ext cx="129960" cy="263520"/>
                </a:xfrm>
                <a:custGeom>
                  <a:avLst/>
                  <a:gdLst>
                    <a:gd name="textAreaLeft" fmla="*/ -360 w 129960"/>
                    <a:gd name="textAreaRight" fmla="*/ 129960 w 12996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1045"/>
                <p:cNvSpPr/>
                <p:nvPr/>
              </p:nvSpPr>
              <p:spPr>
                <a:xfrm flipH="1" rot="2120400">
                  <a:off x="383040" y="624600"/>
                  <a:ext cx="96120" cy="41400"/>
                </a:xfrm>
                <a:custGeom>
                  <a:avLst/>
                  <a:gdLst>
                    <a:gd name="textAreaLeft" fmla="*/ -360 w 96120"/>
                    <a:gd name="textAreaRight" fmla="*/ 96120 w 9612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1046"/>
                <p:cNvSpPr/>
                <p:nvPr/>
              </p:nvSpPr>
              <p:spPr>
                <a:xfrm flipH="1" rot="2120400">
                  <a:off x="481320" y="730440"/>
                  <a:ext cx="46440" cy="67320"/>
                </a:xfrm>
                <a:custGeom>
                  <a:avLst/>
                  <a:gdLst>
                    <a:gd name="textAreaLeft" fmla="*/ -360 w 46440"/>
                    <a:gd name="textAreaRight" fmla="*/ 46440 w 46440"/>
                    <a:gd name="textAreaTop" fmla="*/ 0 h 67320"/>
                    <a:gd name="textAreaBottom" fmla="*/ 67680 h 6732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1047"/>
                <p:cNvSpPr/>
                <p:nvPr/>
              </p:nvSpPr>
              <p:spPr>
                <a:xfrm flipH="1" rot="2120400">
                  <a:off x="586080" y="698040"/>
                  <a:ext cx="101520" cy="14400"/>
                </a:xfrm>
                <a:custGeom>
                  <a:avLst/>
                  <a:gdLst>
                    <a:gd name="textAreaLeft" fmla="*/ 360 w 101520"/>
                    <a:gd name="textAreaRight" fmla="*/ 102240 w 1015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Freeform 1048"/>
                <p:cNvSpPr/>
                <p:nvPr/>
              </p:nvSpPr>
              <p:spPr>
                <a:xfrm flipH="1" rot="2120400">
                  <a:off x="645120" y="690120"/>
                  <a:ext cx="62280" cy="25560"/>
                </a:xfrm>
                <a:custGeom>
                  <a:avLst/>
                  <a:gdLst>
                    <a:gd name="textAreaLeft" fmla="*/ -360 w 62280"/>
                    <a:gd name="textAreaRight" fmla="*/ 62280 w 622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1049"/>
                <p:cNvSpPr/>
                <p:nvPr/>
              </p:nvSpPr>
              <p:spPr>
                <a:xfrm flipH="1" rot="2120400">
                  <a:off x="442800" y="698040"/>
                  <a:ext cx="20520" cy="15840"/>
                </a:xfrm>
                <a:custGeom>
                  <a:avLst/>
                  <a:gdLst>
                    <a:gd name="textAreaLeft" fmla="*/ -360 w 20520"/>
                    <a:gd name="textAreaRight" fmla="*/ 20520 w 2052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1050"/>
                <p:cNvSpPr/>
                <p:nvPr/>
              </p:nvSpPr>
              <p:spPr>
                <a:xfrm flipH="1" rot="2120400">
                  <a:off x="637920" y="641880"/>
                  <a:ext cx="18000" cy="9360"/>
                </a:xfrm>
                <a:custGeom>
                  <a:avLst/>
                  <a:gdLst>
                    <a:gd name="textAreaLeft" fmla="*/ 360 w 18000"/>
                    <a:gd name="textAreaRight" fmla="*/ 18720 w 1800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1051"/>
                <p:cNvSpPr/>
                <p:nvPr/>
              </p:nvSpPr>
              <p:spPr>
                <a:xfrm flipH="1" rot="2120400">
                  <a:off x="612000" y="555840"/>
                  <a:ext cx="20520" cy="12960"/>
                </a:xfrm>
                <a:custGeom>
                  <a:avLst/>
                  <a:gdLst>
                    <a:gd name="textAreaLeft" fmla="*/ -360 w 20520"/>
                    <a:gd name="textAreaRight" fmla="*/ 20520 w 2052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1052"/>
                <p:cNvSpPr/>
                <p:nvPr/>
              </p:nvSpPr>
              <p:spPr>
                <a:xfrm flipH="1" rot="2120400">
                  <a:off x="711360" y="777960"/>
                  <a:ext cx="15840" cy="5760"/>
                </a:xfrm>
                <a:custGeom>
                  <a:avLst/>
                  <a:gdLst>
                    <a:gd name="textAreaLeft" fmla="*/ 360 w 15840"/>
                    <a:gd name="textAreaRight" fmla="*/ 16560 w 1584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4" name="Group 808"/>
              <p:cNvGrpSpPr/>
              <p:nvPr/>
            </p:nvGrpSpPr>
            <p:grpSpPr>
              <a:xfrm>
                <a:off x="217080" y="261720"/>
                <a:ext cx="80280" cy="56880"/>
                <a:chOff x="217080" y="261720"/>
                <a:chExt cx="80280" cy="56880"/>
              </a:xfrm>
            </p:grpSpPr>
            <p:sp>
              <p:nvSpPr>
                <p:cNvPr id="895" name="Freeform 1054"/>
                <p:cNvSpPr/>
                <p:nvPr/>
              </p:nvSpPr>
              <p:spPr>
                <a:xfrm flipH="1" rot="6484800">
                  <a:off x="238680" y="253440"/>
                  <a:ext cx="36360" cy="72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1055"/>
                <p:cNvSpPr/>
                <p:nvPr/>
              </p:nvSpPr>
              <p:spPr>
                <a:xfrm flipH="1" rot="10131600">
                  <a:off x="234720" y="284760"/>
                  <a:ext cx="36720" cy="22320"/>
                </a:xfrm>
                <a:custGeom>
                  <a:avLst/>
                  <a:gdLst>
                    <a:gd name="textAreaLeft" fmla="*/ 360 w 36720"/>
                    <a:gd name="textAreaRight" fmla="*/ 37440 w 36720"/>
                    <a:gd name="textAreaTop" fmla="*/ 0 h 22320"/>
                    <a:gd name="textAreaBottom" fmla="*/ 22320 h 2232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7" name="Group 811"/>
            <p:cNvGrpSpPr/>
            <p:nvPr/>
          </p:nvGrpSpPr>
          <p:grpSpPr>
            <a:xfrm>
              <a:off x="13680" y="-437760"/>
              <a:ext cx="1298880" cy="972720"/>
              <a:chOff x="13680" y="-437760"/>
              <a:chExt cx="1298880" cy="972720"/>
            </a:xfrm>
          </p:grpSpPr>
          <p:grpSp>
            <p:nvGrpSpPr>
              <p:cNvPr id="898" name="Group 812"/>
              <p:cNvGrpSpPr/>
              <p:nvPr/>
            </p:nvGrpSpPr>
            <p:grpSpPr>
              <a:xfrm>
                <a:off x="13680" y="-437760"/>
                <a:ext cx="774360" cy="784080"/>
                <a:chOff x="13680" y="-437760"/>
                <a:chExt cx="774360" cy="784080"/>
              </a:xfrm>
            </p:grpSpPr>
            <p:grpSp>
              <p:nvGrpSpPr>
                <p:cNvPr id="899" name="Group 813"/>
                <p:cNvGrpSpPr/>
                <p:nvPr/>
              </p:nvGrpSpPr>
              <p:grpSpPr>
                <a:xfrm>
                  <a:off x="13680" y="-437760"/>
                  <a:ext cx="774360" cy="732240"/>
                  <a:chOff x="13680" y="-437760"/>
                  <a:chExt cx="774360" cy="732240"/>
                </a:xfrm>
              </p:grpSpPr>
              <p:sp>
                <p:nvSpPr>
                  <p:cNvPr id="900" name="Freeform 1059"/>
                  <p:cNvSpPr/>
                  <p:nvPr/>
                </p:nvSpPr>
                <p:spPr>
                  <a:xfrm rot="7164000">
                    <a:off x="205560" y="-437760"/>
                    <a:ext cx="390240" cy="668880"/>
                  </a:xfrm>
                  <a:custGeom>
                    <a:avLst/>
                    <a:gdLst>
                      <a:gd name="textAreaLeft" fmla="*/ 0 w 390240"/>
                      <a:gd name="textAreaRight" fmla="*/ 390600 w 390240"/>
                      <a:gd name="textAreaTop" fmla="*/ 0 h 668880"/>
                      <a:gd name="textAreaBottom" fmla="*/ 669240 h 668880"/>
                    </a:gdLst>
                    <a:ahLst/>
                    <a:rect l="textAreaLeft" t="textAreaTop" r="textAreaRight" b="textAreaBottom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Freeform 1060"/>
                  <p:cNvSpPr/>
                  <p:nvPr/>
                </p:nvSpPr>
                <p:spPr>
                  <a:xfrm rot="7164000">
                    <a:off x="249120" y="-236160"/>
                    <a:ext cx="330840" cy="317880"/>
                  </a:xfrm>
                  <a:custGeom>
                    <a:avLst/>
                    <a:gdLst>
                      <a:gd name="textAreaLeft" fmla="*/ 0 w 330840"/>
                      <a:gd name="textAreaRight" fmla="*/ 331200 w 330840"/>
                      <a:gd name="textAreaTop" fmla="*/ 0 h 317880"/>
                      <a:gd name="textAreaBottom" fmla="*/ 318240 h 317880"/>
                    </a:gdLst>
                    <a:ahLst/>
                    <a:rect l="textAreaLeft" t="textAreaTop" r="textAreaRight" b="textAreaBottom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Freeform 1061"/>
                  <p:cNvSpPr/>
                  <p:nvPr/>
                </p:nvSpPr>
                <p:spPr>
                  <a:xfrm rot="7164000">
                    <a:off x="171000" y="-209520"/>
                    <a:ext cx="481680" cy="394920"/>
                  </a:xfrm>
                  <a:custGeom>
                    <a:avLst/>
                    <a:gdLst>
                      <a:gd name="textAreaLeft" fmla="*/ 0 w 481680"/>
                      <a:gd name="textAreaRight" fmla="*/ 482040 w 481680"/>
                      <a:gd name="textAreaTop" fmla="*/ 0 h 394920"/>
                      <a:gd name="textAreaBottom" fmla="*/ 395280 h 394920"/>
                    </a:gdLst>
                    <a:ahLst/>
                    <a:rect l="textAreaLeft" t="textAreaTop" r="textAreaRight" b="textAreaBottom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Freeform 1062"/>
                  <p:cNvSpPr/>
                  <p:nvPr/>
                </p:nvSpPr>
                <p:spPr>
                  <a:xfrm rot="7164000">
                    <a:off x="353160" y="-146160"/>
                    <a:ext cx="156600" cy="39240"/>
                  </a:xfrm>
                  <a:custGeom>
                    <a:avLst/>
                    <a:gdLst>
                      <a:gd name="textAreaLeft" fmla="*/ 0 w 156600"/>
                      <a:gd name="textAreaRight" fmla="*/ 156960 w 156600"/>
                      <a:gd name="textAreaTop" fmla="*/ 0 h 39240"/>
                      <a:gd name="textAreaBottom" fmla="*/ 39600 h 39240"/>
                    </a:gdLst>
                    <a:ahLst/>
                    <a:rect l="textAreaLeft" t="textAreaTop" r="textAreaRight" b="textAreaBottom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Freeform 1063"/>
                  <p:cNvSpPr/>
                  <p:nvPr/>
                </p:nvSpPr>
                <p:spPr>
                  <a:xfrm rot="7164000">
                    <a:off x="407880" y="-99720"/>
                    <a:ext cx="202320" cy="145800"/>
                  </a:xfrm>
                  <a:custGeom>
                    <a:avLst/>
                    <a:gdLst>
                      <a:gd name="textAreaLeft" fmla="*/ 0 w 202320"/>
                      <a:gd name="textAreaRight" fmla="*/ 202680 w 202320"/>
                      <a:gd name="textAreaTop" fmla="*/ 0 h 145800"/>
                      <a:gd name="textAreaBottom" fmla="*/ 146160 h 145800"/>
                    </a:gdLst>
                    <a:ahLst/>
                    <a:rect l="textAreaLeft" t="textAreaTop" r="textAreaRight" b="textAreaBottom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Freeform 1064"/>
                  <p:cNvSpPr/>
                  <p:nvPr/>
                </p:nvSpPr>
                <p:spPr>
                  <a:xfrm rot="7164000">
                    <a:off x="439920" y="-56880"/>
                    <a:ext cx="223200" cy="192960"/>
                  </a:xfrm>
                  <a:custGeom>
                    <a:avLst/>
                    <a:gdLst>
                      <a:gd name="textAreaLeft" fmla="*/ 0 w 223200"/>
                      <a:gd name="textAreaRight" fmla="*/ 223560 w 223200"/>
                      <a:gd name="textAreaTop" fmla="*/ 0 h 192960"/>
                      <a:gd name="textAreaBottom" fmla="*/ 193320 h 192960"/>
                    </a:gdLst>
                    <a:ahLst/>
                    <a:rect l="textAreaLeft" t="textAreaTop" r="textAreaRight" b="textAreaBottom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Freeform 1065"/>
                  <p:cNvSpPr/>
                  <p:nvPr/>
                </p:nvSpPr>
                <p:spPr>
                  <a:xfrm rot="7164000">
                    <a:off x="354240" y="-205200"/>
                    <a:ext cx="92880" cy="24840"/>
                  </a:xfrm>
                  <a:custGeom>
                    <a:avLst/>
                    <a:gdLst>
                      <a:gd name="textAreaLeft" fmla="*/ 0 w 92880"/>
                      <a:gd name="textAreaRight" fmla="*/ 93240 w 9288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Freeform 1066"/>
                  <p:cNvSpPr/>
                  <p:nvPr/>
                </p:nvSpPr>
                <p:spPr>
                  <a:xfrm rot="7164000">
                    <a:off x="353160" y="-259920"/>
                    <a:ext cx="48600" cy="9360"/>
                  </a:xfrm>
                  <a:custGeom>
                    <a:avLst/>
                    <a:gdLst>
                      <a:gd name="textAreaLeft" fmla="*/ 0 w 48600"/>
                      <a:gd name="textAreaRight" fmla="*/ 48960 w 4860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Freeform 1067"/>
                  <p:cNvSpPr/>
                  <p:nvPr/>
                </p:nvSpPr>
                <p:spPr>
                  <a:xfrm rot="7164000">
                    <a:off x="326160" y="-289080"/>
                    <a:ext cx="35280" cy="68400"/>
                  </a:xfrm>
                  <a:custGeom>
                    <a:avLst/>
                    <a:gdLst>
                      <a:gd name="textAreaLeft" fmla="*/ 0 w 35280"/>
                      <a:gd name="textAreaRight" fmla="*/ 35640 w 352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Freeform 1068"/>
                  <p:cNvSpPr/>
                  <p:nvPr/>
                </p:nvSpPr>
                <p:spPr>
                  <a:xfrm rot="7164000">
                    <a:off x="298800" y="-277920"/>
                    <a:ext cx="61920" cy="126720"/>
                  </a:xfrm>
                  <a:custGeom>
                    <a:avLst/>
                    <a:gdLst>
                      <a:gd name="textAreaLeft" fmla="*/ 0 w 61920"/>
                      <a:gd name="textAreaRight" fmla="*/ 62280 w 61920"/>
                      <a:gd name="textAreaTop" fmla="*/ 0 h 126720"/>
                      <a:gd name="textAreaBottom" fmla="*/ 127080 h 126720"/>
                    </a:gdLst>
                    <a:ahLst/>
                    <a:rect l="textAreaLeft" t="textAreaTop" r="textAreaRight" b="textAreaBottom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Freeform 1069"/>
                  <p:cNvSpPr/>
                  <p:nvPr/>
                </p:nvSpPr>
                <p:spPr>
                  <a:xfrm rot="7164000">
                    <a:off x="259560" y="-267120"/>
                    <a:ext cx="99000" cy="222480"/>
                  </a:xfrm>
                  <a:custGeom>
                    <a:avLst/>
                    <a:gdLst>
                      <a:gd name="textAreaLeft" fmla="*/ 0 w 99000"/>
                      <a:gd name="textAreaRight" fmla="*/ 99360 w 99000"/>
                      <a:gd name="textAreaTop" fmla="*/ 0 h 222480"/>
                      <a:gd name="textAreaBottom" fmla="*/ 222840 h 222480"/>
                    </a:gdLst>
                    <a:ahLst/>
                    <a:rect l="textAreaLeft" t="textAreaTop" r="textAreaRight" b="textAreaBottom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Freeform 1070"/>
                  <p:cNvSpPr/>
                  <p:nvPr/>
                </p:nvSpPr>
                <p:spPr>
                  <a:xfrm rot="7164000">
                    <a:off x="229680" y="-257040"/>
                    <a:ext cx="106560" cy="324720"/>
                  </a:xfrm>
                  <a:custGeom>
                    <a:avLst/>
                    <a:gdLst>
                      <a:gd name="textAreaLeft" fmla="*/ 0 w 106560"/>
                      <a:gd name="textAreaRight" fmla="*/ 106920 w 106560"/>
                      <a:gd name="textAreaTop" fmla="*/ 0 h 324720"/>
                      <a:gd name="textAreaBottom" fmla="*/ 325080 h 324720"/>
                    </a:gdLst>
                    <a:ahLst/>
                    <a:rect l="textAreaLeft" t="textAreaTop" r="textAreaRight" b="textAreaBottom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Freeform 1071"/>
                  <p:cNvSpPr/>
                  <p:nvPr/>
                </p:nvSpPr>
                <p:spPr>
                  <a:xfrm rot="7164000">
                    <a:off x="187560" y="-214200"/>
                    <a:ext cx="11520" cy="12924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129240"/>
                      <a:gd name="textAreaBottom" fmla="*/ 129600 h 129240"/>
                    </a:gdLst>
                    <a:ahLst/>
                    <a:rect l="textAreaLeft" t="textAreaTop" r="textAreaRight" b="textAreaBottom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Freeform 1072"/>
                  <p:cNvSpPr/>
                  <p:nvPr/>
                </p:nvSpPr>
                <p:spPr>
                  <a:xfrm rot="7164000">
                    <a:off x="222480" y="-230040"/>
                    <a:ext cx="73440" cy="399960"/>
                  </a:xfrm>
                  <a:custGeom>
                    <a:avLst/>
                    <a:gdLst>
                      <a:gd name="textAreaLeft" fmla="*/ 0 w 73440"/>
                      <a:gd name="textAreaRight" fmla="*/ 73800 w 73440"/>
                      <a:gd name="textAreaTop" fmla="*/ 0 h 399960"/>
                      <a:gd name="textAreaBottom" fmla="*/ 400320 h 399960"/>
                    </a:gdLst>
                    <a:ahLst/>
                    <a:rect l="textAreaLeft" t="textAreaTop" r="textAreaRight" b="textAreaBottom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Freeform 1073"/>
                  <p:cNvSpPr/>
                  <p:nvPr/>
                </p:nvSpPr>
                <p:spPr>
                  <a:xfrm rot="7164000">
                    <a:off x="263880" y="-128520"/>
                    <a:ext cx="54360" cy="63360"/>
                  </a:xfrm>
                  <a:custGeom>
                    <a:avLst/>
                    <a:gdLst>
                      <a:gd name="textAreaLeft" fmla="*/ 0 w 54360"/>
                      <a:gd name="textAreaRight" fmla="*/ 54720 w 54360"/>
                      <a:gd name="textAreaTop" fmla="*/ 0 h 63360"/>
                      <a:gd name="textAreaBottom" fmla="*/ 63720 h 63360"/>
                    </a:gdLst>
                    <a:ahLst/>
                    <a:rect l="textAreaLeft" t="textAreaTop" r="textAreaRight" b="textAreaBottom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Freeform 1074"/>
                  <p:cNvSpPr/>
                  <p:nvPr/>
                </p:nvSpPr>
                <p:spPr>
                  <a:xfrm rot="7164000">
                    <a:off x="241200" y="-252360"/>
                    <a:ext cx="26280" cy="102240"/>
                  </a:xfrm>
                  <a:custGeom>
                    <a:avLst/>
                    <a:gdLst>
                      <a:gd name="textAreaLeft" fmla="*/ 0 w 26280"/>
                      <a:gd name="textAreaRight" fmla="*/ 26640 w 26280"/>
                      <a:gd name="textAreaTop" fmla="*/ 0 h 102240"/>
                      <a:gd name="textAreaBottom" fmla="*/ 102600 h 102240"/>
                    </a:gdLst>
                    <a:ahLst/>
                    <a:rect l="textAreaLeft" t="textAreaTop" r="textAreaRight" b="textAreaBottom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Freeform 1075"/>
                  <p:cNvSpPr/>
                  <p:nvPr/>
                </p:nvSpPr>
                <p:spPr>
                  <a:xfrm rot="7164000">
                    <a:off x="410400" y="-156240"/>
                    <a:ext cx="57600" cy="21960"/>
                  </a:xfrm>
                  <a:custGeom>
                    <a:avLst/>
                    <a:gdLst>
                      <a:gd name="textAreaLeft" fmla="*/ 0 w 57600"/>
                      <a:gd name="textAreaRight" fmla="*/ 57960 w 5760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Freeform 1076"/>
                  <p:cNvSpPr/>
                  <p:nvPr/>
                </p:nvSpPr>
                <p:spPr>
                  <a:xfrm rot="7164000">
                    <a:off x="463320" y="-160920"/>
                    <a:ext cx="35280" cy="39240"/>
                  </a:xfrm>
                  <a:custGeom>
                    <a:avLst/>
                    <a:gdLst>
                      <a:gd name="textAreaLeft" fmla="*/ 0 w 35280"/>
                      <a:gd name="textAreaRight" fmla="*/ 35640 w 35280"/>
                      <a:gd name="textAreaTop" fmla="*/ 0 h 39240"/>
                      <a:gd name="textAreaBottom" fmla="*/ 39600 h 39240"/>
                    </a:gdLst>
                    <a:ahLst/>
                    <a:rect l="textAreaLeft" t="textAreaTop" r="textAreaRight" b="textAreaBottom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Freeform 1077"/>
                  <p:cNvSpPr/>
                  <p:nvPr/>
                </p:nvSpPr>
                <p:spPr>
                  <a:xfrm rot="7164000">
                    <a:off x="250920" y="-163080"/>
                    <a:ext cx="11520" cy="2448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Freeform 1078"/>
                  <p:cNvSpPr/>
                  <p:nvPr/>
                </p:nvSpPr>
                <p:spPr>
                  <a:xfrm rot="7164000">
                    <a:off x="499320" y="-99000"/>
                    <a:ext cx="10080" cy="1404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040"/>
                      <a:gd name="textAreaBottom" fmla="*/ 14400 h 14040"/>
                    </a:gdLst>
                    <a:ahLst/>
                    <a:rect l="textAreaLeft" t="textAreaTop" r="textAreaRight" b="textAreaBottom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Freeform 1079"/>
                  <p:cNvSpPr/>
                  <p:nvPr/>
                </p:nvSpPr>
                <p:spPr>
                  <a:xfrm rot="7164000">
                    <a:off x="551520" y="-26640"/>
                    <a:ext cx="11520" cy="1908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Freeform 1080"/>
                  <p:cNvSpPr/>
                  <p:nvPr/>
                </p:nvSpPr>
                <p:spPr>
                  <a:xfrm rot="7164000">
                    <a:off x="448200" y="-214560"/>
                    <a:ext cx="9000" cy="9360"/>
                  </a:xfrm>
                  <a:custGeom>
                    <a:avLst/>
                    <a:gdLst>
                      <a:gd name="textAreaLeft" fmla="*/ 0 w 9000"/>
                      <a:gd name="textAreaRight" fmla="*/ 9360 w 900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2" name="Group 836"/>
                <p:cNvGrpSpPr/>
                <p:nvPr/>
              </p:nvGrpSpPr>
              <p:grpSpPr>
                <a:xfrm>
                  <a:off x="451800" y="277920"/>
                  <a:ext cx="68040" cy="68400"/>
                  <a:chOff x="451800" y="277920"/>
                  <a:chExt cx="68040" cy="68400"/>
                </a:xfrm>
              </p:grpSpPr>
              <p:sp>
                <p:nvSpPr>
                  <p:cNvPr id="923" name="Freeform 1082"/>
                  <p:cNvSpPr/>
                  <p:nvPr/>
                </p:nvSpPr>
                <p:spPr>
                  <a:xfrm rot="2799000">
                    <a:off x="457920" y="291600"/>
                    <a:ext cx="55440" cy="41040"/>
                  </a:xfrm>
                  <a:custGeom>
                    <a:avLst/>
                    <a:gdLst>
                      <a:gd name="textAreaLeft" fmla="*/ 0 w 55440"/>
                      <a:gd name="textAreaRight" fmla="*/ 55800 w 5544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Freeform 1083"/>
                  <p:cNvSpPr/>
                  <p:nvPr/>
                </p:nvSpPr>
                <p:spPr>
                  <a:xfrm rot="20752800">
                    <a:off x="467280" y="288360"/>
                    <a:ext cx="20880" cy="3384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3840"/>
                      <a:gd name="textAreaBottom" fmla="*/ 34200 h 33840"/>
                    </a:gdLst>
                    <a:ahLst/>
                    <a:rect l="textAreaLeft" t="textAreaTop" r="textAreaRight" b="textAreaBottom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5" name="Group 839"/>
              <p:cNvGrpSpPr/>
              <p:nvPr/>
            </p:nvGrpSpPr>
            <p:grpSpPr>
              <a:xfrm>
                <a:off x="435960" y="23400"/>
                <a:ext cx="876600" cy="511560"/>
                <a:chOff x="435960" y="23400"/>
                <a:chExt cx="876600" cy="511560"/>
              </a:xfrm>
            </p:grpSpPr>
            <p:grpSp>
              <p:nvGrpSpPr>
                <p:cNvPr id="926" name="Group 840"/>
                <p:cNvGrpSpPr/>
                <p:nvPr/>
              </p:nvGrpSpPr>
              <p:grpSpPr>
                <a:xfrm>
                  <a:off x="435960" y="23400"/>
                  <a:ext cx="876600" cy="511560"/>
                  <a:chOff x="435960" y="23400"/>
                  <a:chExt cx="876600" cy="511560"/>
                </a:xfrm>
              </p:grpSpPr>
              <p:sp>
                <p:nvSpPr>
                  <p:cNvPr id="927" name="Freeform 1086"/>
                  <p:cNvSpPr/>
                  <p:nvPr/>
                </p:nvSpPr>
                <p:spPr>
                  <a:xfrm rot="11388000">
                    <a:off x="648360" y="74520"/>
                    <a:ext cx="633600" cy="40932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409320"/>
                      <a:gd name="textAreaBottom" fmla="*/ 409680 h 409320"/>
                    </a:gdLst>
                    <a:ahLst/>
                    <a:rect l="textAreaLeft" t="textAreaTop" r="textAreaRight" b="textAreaBottom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Freeform 1087"/>
                  <p:cNvSpPr/>
                  <p:nvPr/>
                </p:nvSpPr>
                <p:spPr>
                  <a:xfrm rot="11388000">
                    <a:off x="668160" y="192960"/>
                    <a:ext cx="537120" cy="194040"/>
                  </a:xfrm>
                  <a:custGeom>
                    <a:avLst/>
                    <a:gdLst>
                      <a:gd name="textAreaLeft" fmla="*/ 0 w 537120"/>
                      <a:gd name="textAreaRight" fmla="*/ 537480 w 537120"/>
                      <a:gd name="textAreaTop" fmla="*/ 0 h 194040"/>
                      <a:gd name="textAreaBottom" fmla="*/ 194400 h 194040"/>
                    </a:gdLst>
                    <a:ahLst/>
                    <a:rect l="textAreaLeft" t="textAreaTop" r="textAreaRight" b="textAreaBottom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Freeform 1088"/>
                  <p:cNvSpPr/>
                  <p:nvPr/>
                </p:nvSpPr>
                <p:spPr>
                  <a:xfrm rot="11388000">
                    <a:off x="450360" y="170640"/>
                    <a:ext cx="782280" cy="241560"/>
                  </a:xfrm>
                  <a:custGeom>
                    <a:avLst/>
                    <a:gdLst>
                      <a:gd name="textAreaLeft" fmla="*/ 0 w 782280"/>
                      <a:gd name="textAreaRight" fmla="*/ 782640 w 782280"/>
                      <a:gd name="textAreaTop" fmla="*/ 0 h 241560"/>
                      <a:gd name="textAreaBottom" fmla="*/ 241920 h 241560"/>
                    </a:gdLst>
                    <a:ahLst/>
                    <a:rect l="textAreaLeft" t="textAreaTop" r="textAreaRight" b="textAreaBottom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Freeform 1089"/>
                  <p:cNvSpPr/>
                  <p:nvPr/>
                </p:nvSpPr>
                <p:spPr>
                  <a:xfrm rot="11388000">
                    <a:off x="893520" y="286200"/>
                    <a:ext cx="254160" cy="23760"/>
                  </a:xfrm>
                  <a:custGeom>
                    <a:avLst/>
                    <a:gdLst>
                      <a:gd name="textAreaLeft" fmla="*/ 0 w 254160"/>
                      <a:gd name="textAreaRight" fmla="*/ 254520 w 25416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Freeform 1090"/>
                  <p:cNvSpPr/>
                  <p:nvPr/>
                </p:nvSpPr>
                <p:spPr>
                  <a:xfrm rot="11388000">
                    <a:off x="764640" y="310320"/>
                    <a:ext cx="328680" cy="89280"/>
                  </a:xfrm>
                  <a:custGeom>
                    <a:avLst/>
                    <a:gdLst>
                      <a:gd name="textAreaLeft" fmla="*/ 0 w 328680"/>
                      <a:gd name="textAreaRight" fmla="*/ 329040 w 328680"/>
                      <a:gd name="textAreaTop" fmla="*/ 0 h 89280"/>
                      <a:gd name="textAreaBottom" fmla="*/ 89640 h 89280"/>
                    </a:gdLst>
                    <a:ahLst/>
                    <a:rect l="textAreaLeft" t="textAreaTop" r="textAreaRight" b="textAreaBottom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Freeform 1091"/>
                  <p:cNvSpPr/>
                  <p:nvPr/>
                </p:nvSpPr>
                <p:spPr>
                  <a:xfrm rot="11388000">
                    <a:off x="681840" y="327600"/>
                    <a:ext cx="362520" cy="118080"/>
                  </a:xfrm>
                  <a:custGeom>
                    <a:avLst/>
                    <a:gdLst>
                      <a:gd name="textAreaLeft" fmla="*/ 0 w 362520"/>
                      <a:gd name="textAreaRight" fmla="*/ 362880 w 362520"/>
                      <a:gd name="textAreaTop" fmla="*/ 0 h 118080"/>
                      <a:gd name="textAreaBottom" fmla="*/ 118440 h 118080"/>
                    </a:gdLst>
                    <a:ahLst/>
                    <a:rect l="textAreaLeft" t="textAreaTop" r="textAreaRight" b="textAreaBottom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Freeform 1092"/>
                  <p:cNvSpPr/>
                  <p:nvPr/>
                </p:nvSpPr>
                <p:spPr>
                  <a:xfrm rot="11388000">
                    <a:off x="1019160" y="267120"/>
                    <a:ext cx="150480" cy="15120"/>
                  </a:xfrm>
                  <a:custGeom>
                    <a:avLst/>
                    <a:gdLst>
                      <a:gd name="textAreaLeft" fmla="*/ 0 w 150480"/>
                      <a:gd name="textAreaRight" fmla="*/ 150840 w 150480"/>
                      <a:gd name="textAreaTop" fmla="*/ 0 h 15120"/>
                      <a:gd name="textAreaBottom" fmla="*/ 15480 h 15120"/>
                    </a:gdLst>
                    <a:ahLst/>
                    <a:rect l="textAreaLeft" t="textAreaTop" r="textAreaRight" b="textAreaBottom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Freeform 1093"/>
                  <p:cNvSpPr/>
                  <p:nvPr/>
                </p:nvSpPr>
                <p:spPr>
                  <a:xfrm rot="11388000">
                    <a:off x="1128960" y="253080"/>
                    <a:ext cx="78840" cy="5400"/>
                  </a:xfrm>
                  <a:custGeom>
                    <a:avLst/>
                    <a:gdLst>
                      <a:gd name="textAreaLeft" fmla="*/ 0 w 78840"/>
                      <a:gd name="textAreaRight" fmla="*/ 79200 w 7884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Freeform 1094"/>
                  <p:cNvSpPr/>
                  <p:nvPr/>
                </p:nvSpPr>
                <p:spPr>
                  <a:xfrm rot="11388000">
                    <a:off x="1115640" y="212400"/>
                    <a:ext cx="57600" cy="41400"/>
                  </a:xfrm>
                  <a:custGeom>
                    <a:avLst/>
                    <a:gdLst>
                      <a:gd name="textAreaLeft" fmla="*/ 0 w 57600"/>
                      <a:gd name="textAreaRight" fmla="*/ 57960 w 57600"/>
                      <a:gd name="textAreaTop" fmla="*/ 0 h 41400"/>
                      <a:gd name="textAreaBottom" fmla="*/ 41760 h 41400"/>
                    </a:gdLst>
                    <a:ahLst/>
                    <a:rect l="textAreaLeft" t="textAreaTop" r="textAreaRight" b="textAreaBottom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Freeform 1095"/>
                  <p:cNvSpPr/>
                  <p:nvPr/>
                </p:nvSpPr>
                <p:spPr>
                  <a:xfrm rot="11388000">
                    <a:off x="1027440" y="187920"/>
                    <a:ext cx="100440" cy="77400"/>
                  </a:xfrm>
                  <a:custGeom>
                    <a:avLst/>
                    <a:gdLst>
                      <a:gd name="textAreaLeft" fmla="*/ 0 w 100440"/>
                      <a:gd name="textAreaRight" fmla="*/ 100800 w 100440"/>
                      <a:gd name="textAreaTop" fmla="*/ 0 h 77400"/>
                      <a:gd name="textAreaBottom" fmla="*/ 77760 h 77400"/>
                    </a:gdLst>
                    <a:ahLst/>
                    <a:rect l="textAreaLeft" t="textAreaTop" r="textAreaRight" b="textAreaBottom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Freeform 1096"/>
                  <p:cNvSpPr/>
                  <p:nvPr/>
                </p:nvSpPr>
                <p:spPr>
                  <a:xfrm rot="11388000">
                    <a:off x="896760" y="147600"/>
                    <a:ext cx="160920" cy="136080"/>
                  </a:xfrm>
                  <a:custGeom>
                    <a:avLst/>
                    <a:gdLst>
                      <a:gd name="textAreaLeft" fmla="*/ 0 w 160920"/>
                      <a:gd name="textAreaRight" fmla="*/ 161280 w 160920"/>
                      <a:gd name="textAreaTop" fmla="*/ 0 h 136080"/>
                      <a:gd name="textAreaBottom" fmla="*/ 136440 h 136080"/>
                    </a:gdLst>
                    <a:ahLst/>
                    <a:rect l="textAreaLeft" t="textAreaTop" r="textAreaRight" b="textAreaBottom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Freeform 1097"/>
                  <p:cNvSpPr/>
                  <p:nvPr/>
                </p:nvSpPr>
                <p:spPr>
                  <a:xfrm rot="11388000">
                    <a:off x="785520" y="103320"/>
                    <a:ext cx="172800" cy="198720"/>
                  </a:xfrm>
                  <a:custGeom>
                    <a:avLst/>
                    <a:gdLst>
                      <a:gd name="textAreaLeft" fmla="*/ 0 w 172800"/>
                      <a:gd name="textAreaRight" fmla="*/ 173160 w 172800"/>
                      <a:gd name="textAreaTop" fmla="*/ 0 h 198720"/>
                      <a:gd name="textAreaBottom" fmla="*/ 199080 h 198720"/>
                    </a:gdLst>
                    <a:ahLst/>
                    <a:rect l="textAreaLeft" t="textAreaTop" r="textAreaRight" b="textAreaBottom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Freeform 1098"/>
                  <p:cNvSpPr/>
                  <p:nvPr/>
                </p:nvSpPr>
                <p:spPr>
                  <a:xfrm rot="11388000">
                    <a:off x="877680" y="99720"/>
                    <a:ext cx="18720" cy="79200"/>
                  </a:xfrm>
                  <a:custGeom>
                    <a:avLst/>
                    <a:gdLst>
                      <a:gd name="textAreaLeft" fmla="*/ 0 w 18720"/>
                      <a:gd name="textAreaRight" fmla="*/ 19080 w 18720"/>
                      <a:gd name="textAreaTop" fmla="*/ 0 h 79200"/>
                      <a:gd name="textAreaBottom" fmla="*/ 79560 h 79200"/>
                    </a:gdLst>
                    <a:ahLst/>
                    <a:rect l="textAreaLeft" t="textAreaTop" r="textAreaRight" b="textAreaBottom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Freeform 1099"/>
                  <p:cNvSpPr/>
                  <p:nvPr/>
                </p:nvSpPr>
                <p:spPr>
                  <a:xfrm rot="11388000">
                    <a:off x="702000" y="67320"/>
                    <a:ext cx="119520" cy="245160"/>
                  </a:xfrm>
                  <a:custGeom>
                    <a:avLst/>
                    <a:gdLst>
                      <a:gd name="textAreaLeft" fmla="*/ 0 w 119520"/>
                      <a:gd name="textAreaRight" fmla="*/ 119880 w 119520"/>
                      <a:gd name="textAreaTop" fmla="*/ 0 h 245160"/>
                      <a:gd name="textAreaBottom" fmla="*/ 245160 h 245160"/>
                    </a:gdLst>
                    <a:ahLst/>
                    <a:rect l="textAreaLeft" t="textAreaTop" r="textAreaRight" b="textAreaBottom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Freeform 1100"/>
                  <p:cNvSpPr/>
                  <p:nvPr/>
                </p:nvSpPr>
                <p:spPr>
                  <a:xfrm rot="11388000">
                    <a:off x="835200" y="187560"/>
                    <a:ext cx="88560" cy="39240"/>
                  </a:xfrm>
                  <a:custGeom>
                    <a:avLst/>
                    <a:gdLst>
                      <a:gd name="textAreaLeft" fmla="*/ 0 w 88560"/>
                      <a:gd name="textAreaRight" fmla="*/ 88920 w 88560"/>
                      <a:gd name="textAreaTop" fmla="*/ 0 h 39240"/>
                      <a:gd name="textAreaBottom" fmla="*/ 39600 h 39240"/>
                    </a:gdLst>
                    <a:ahLst/>
                    <a:rect l="textAreaLeft" t="textAreaTop" r="textAreaRight" b="textAreaBottom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Freeform 1101"/>
                  <p:cNvSpPr/>
                  <p:nvPr/>
                </p:nvSpPr>
                <p:spPr>
                  <a:xfrm rot="11388000">
                    <a:off x="983520" y="146520"/>
                    <a:ext cx="42840" cy="6228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62280"/>
                      <a:gd name="textAreaBottom" fmla="*/ 62640 h 62280"/>
                    </a:gdLst>
                    <a:ahLst/>
                    <a:rect l="textAreaLeft" t="textAreaTop" r="textAreaRight" b="textAreaBottom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Freeform 1102"/>
                  <p:cNvSpPr/>
                  <p:nvPr/>
                </p:nvSpPr>
                <p:spPr>
                  <a:xfrm rot="11388000">
                    <a:off x="1005840" y="296280"/>
                    <a:ext cx="93600" cy="1332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Freeform 1103"/>
                  <p:cNvSpPr/>
                  <p:nvPr/>
                </p:nvSpPr>
                <p:spPr>
                  <a:xfrm rot="11388000">
                    <a:off x="1046880" y="318240"/>
                    <a:ext cx="57600" cy="23760"/>
                  </a:xfrm>
                  <a:custGeom>
                    <a:avLst/>
                    <a:gdLst>
                      <a:gd name="textAreaLeft" fmla="*/ 0 w 57600"/>
                      <a:gd name="textAreaRight" fmla="*/ 57960 w 5760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Freeform 1104"/>
                  <p:cNvSpPr/>
                  <p:nvPr/>
                </p:nvSpPr>
                <p:spPr>
                  <a:xfrm rot="11388000">
                    <a:off x="924480" y="173520"/>
                    <a:ext cx="18720" cy="15120"/>
                  </a:xfrm>
                  <a:custGeom>
                    <a:avLst/>
                    <a:gdLst>
                      <a:gd name="textAreaLeft" fmla="*/ 0 w 18720"/>
                      <a:gd name="textAreaRight" fmla="*/ 19080 w 18720"/>
                      <a:gd name="textAreaTop" fmla="*/ 0 h 15120"/>
                      <a:gd name="textAreaBottom" fmla="*/ 15480 h 15120"/>
                    </a:gdLst>
                    <a:ahLst/>
                    <a:rect l="textAreaLeft" t="textAreaTop" r="textAreaRight" b="textAreaBottom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Freeform 1105"/>
                  <p:cNvSpPr/>
                  <p:nvPr/>
                </p:nvSpPr>
                <p:spPr>
                  <a:xfrm rot="11388000">
                    <a:off x="1012320" y="344160"/>
                    <a:ext cx="16560" cy="8640"/>
                  </a:xfrm>
                  <a:custGeom>
                    <a:avLst/>
                    <a:gdLst>
                      <a:gd name="textAreaLeft" fmla="*/ 0 w 16560"/>
                      <a:gd name="textAreaRight" fmla="*/ 16920 w 16560"/>
                      <a:gd name="textAreaTop" fmla="*/ 0 h 8640"/>
                      <a:gd name="textAreaBottom" fmla="*/ 9000 h 8640"/>
                    </a:gdLst>
                    <a:ahLst/>
                    <a:rect l="textAreaLeft" t="textAreaTop" r="textAreaRight" b="textAreaBottom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Freeform 1106"/>
                  <p:cNvSpPr/>
                  <p:nvPr/>
                </p:nvSpPr>
                <p:spPr>
                  <a:xfrm rot="11388000">
                    <a:off x="940320" y="381240"/>
                    <a:ext cx="18720" cy="11520"/>
                  </a:xfrm>
                  <a:custGeom>
                    <a:avLst/>
                    <a:gdLst>
                      <a:gd name="textAreaLeft" fmla="*/ 0 w 18720"/>
                      <a:gd name="textAreaRight" fmla="*/ 19080 w 1872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Freeform 1107"/>
                  <p:cNvSpPr/>
                  <p:nvPr/>
                </p:nvSpPr>
                <p:spPr>
                  <a:xfrm rot="11388000">
                    <a:off x="1148400" y="305640"/>
                    <a:ext cx="14400" cy="54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9" name="Group 863"/>
                <p:cNvGrpSpPr/>
                <p:nvPr/>
              </p:nvGrpSpPr>
              <p:grpSpPr>
                <a:xfrm>
                  <a:off x="496080" y="297000"/>
                  <a:ext cx="74880" cy="60480"/>
                  <a:chOff x="496080" y="297000"/>
                  <a:chExt cx="74880" cy="60480"/>
                </a:xfrm>
              </p:grpSpPr>
              <p:sp>
                <p:nvSpPr>
                  <p:cNvPr id="950" name="Freeform 1109"/>
                  <p:cNvSpPr/>
                  <p:nvPr/>
                </p:nvSpPr>
                <p:spPr>
                  <a:xfrm rot="7023600">
                    <a:off x="516240" y="293760"/>
                    <a:ext cx="34200" cy="66600"/>
                  </a:xfrm>
                  <a:custGeom>
                    <a:avLst/>
                    <a:gdLst>
                      <a:gd name="textAreaLeft" fmla="*/ 0 w 34200"/>
                      <a:gd name="textAreaRight" fmla="*/ 34560 w 34200"/>
                      <a:gd name="textAreaTop" fmla="*/ 0 h 66600"/>
                      <a:gd name="textAreaBottom" fmla="*/ 66960 h 66600"/>
                    </a:gdLst>
                    <a:ahLst/>
                    <a:rect l="textAreaLeft" t="textAreaTop" r="textAreaRight" b="textAreaBottom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Freeform 1110"/>
                  <p:cNvSpPr/>
                  <p:nvPr/>
                </p:nvSpPr>
                <p:spPr>
                  <a:xfrm rot="3376800">
                    <a:off x="516960" y="309600"/>
                    <a:ext cx="33840" cy="20880"/>
                  </a:xfrm>
                  <a:custGeom>
                    <a:avLst/>
                    <a:gdLst>
                      <a:gd name="textAreaLeft" fmla="*/ 0 w 33840"/>
                      <a:gd name="textAreaRight" fmla="*/ 34200 w 33840"/>
                      <a:gd name="textAreaTop" fmla="*/ 0 h 20880"/>
                      <a:gd name="textAreaBottom" fmla="*/ 20880 h 20880"/>
                    </a:gdLst>
                    <a:ahLst/>
                    <a:rect l="textAreaLeft" t="textAreaTop" r="textAreaRight" b="textAreaBottom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52" name="Group 866"/>
            <p:cNvGrpSpPr/>
            <p:nvPr/>
          </p:nvGrpSpPr>
          <p:grpSpPr>
            <a:xfrm>
              <a:off x="1060920" y="532080"/>
              <a:ext cx="750240" cy="785160"/>
              <a:chOff x="1060920" y="532080"/>
              <a:chExt cx="750240" cy="785160"/>
            </a:xfrm>
          </p:grpSpPr>
          <p:grpSp>
            <p:nvGrpSpPr>
              <p:cNvPr id="953" name="Group 867"/>
              <p:cNvGrpSpPr/>
              <p:nvPr/>
            </p:nvGrpSpPr>
            <p:grpSpPr>
              <a:xfrm>
                <a:off x="1060920" y="532080"/>
                <a:ext cx="750240" cy="785160"/>
                <a:chOff x="1060920" y="532080"/>
                <a:chExt cx="750240" cy="785160"/>
              </a:xfrm>
            </p:grpSpPr>
            <p:sp>
              <p:nvSpPr>
                <p:cNvPr id="954" name="Freeform 1113"/>
                <p:cNvSpPr/>
                <p:nvPr/>
              </p:nvSpPr>
              <p:spPr>
                <a:xfrm flipH="1" rot="2658600">
                  <a:off x="1164240" y="780120"/>
                  <a:ext cx="597600" cy="382680"/>
                </a:xfrm>
                <a:custGeom>
                  <a:avLst/>
                  <a:gdLst>
                    <a:gd name="textAreaLeft" fmla="*/ 360 w 597600"/>
                    <a:gd name="textAreaRight" fmla="*/ 598320 w 597600"/>
                    <a:gd name="textAreaTop" fmla="*/ 0 h 382680"/>
                    <a:gd name="textAreaBottom" fmla="*/ 383040 h 38268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1114"/>
                <p:cNvSpPr/>
                <p:nvPr/>
              </p:nvSpPr>
              <p:spPr>
                <a:xfrm flipH="1" rot="2658600">
                  <a:off x="1201320" y="853200"/>
                  <a:ext cx="507240" cy="181800"/>
                </a:xfrm>
                <a:custGeom>
                  <a:avLst/>
                  <a:gdLst>
                    <a:gd name="textAreaLeft" fmla="*/ -360 w 507240"/>
                    <a:gd name="textAreaRight" fmla="*/ 507240 w 507240"/>
                    <a:gd name="textAreaTop" fmla="*/ 0 h 181800"/>
                    <a:gd name="textAreaBottom" fmla="*/ 182160 h 18180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1115"/>
                <p:cNvSpPr/>
                <p:nvPr/>
              </p:nvSpPr>
              <p:spPr>
                <a:xfrm flipH="1" rot="2658600">
                  <a:off x="1034640" y="757800"/>
                  <a:ext cx="738360" cy="226080"/>
                </a:xfrm>
                <a:custGeom>
                  <a:avLst/>
                  <a:gdLst>
                    <a:gd name="textAreaLeft" fmla="*/ -360 w 738360"/>
                    <a:gd name="textAreaRight" fmla="*/ 738360 w 738360"/>
                    <a:gd name="textAreaTop" fmla="*/ 0 h 226080"/>
                    <a:gd name="textAreaBottom" fmla="*/ 226440 h 22608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1116"/>
                <p:cNvSpPr/>
                <p:nvPr/>
              </p:nvSpPr>
              <p:spPr>
                <a:xfrm flipH="1" rot="2658600">
                  <a:off x="1388520" y="992160"/>
                  <a:ext cx="239400" cy="22320"/>
                </a:xfrm>
                <a:custGeom>
                  <a:avLst/>
                  <a:gdLst>
                    <a:gd name="textAreaLeft" fmla="*/ -360 w 239400"/>
                    <a:gd name="textAreaRight" fmla="*/ 239400 w 23940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1117"/>
                <p:cNvSpPr/>
                <p:nvPr/>
              </p:nvSpPr>
              <p:spPr>
                <a:xfrm flipH="1" rot="2658600">
                  <a:off x="1344960" y="860760"/>
                  <a:ext cx="310320" cy="83520"/>
                </a:xfrm>
                <a:custGeom>
                  <a:avLst/>
                  <a:gdLst>
                    <a:gd name="textAreaLeft" fmla="*/ 360 w 310320"/>
                    <a:gd name="textAreaRight" fmla="*/ 311040 w 310320"/>
                    <a:gd name="textAreaTop" fmla="*/ 0 h 83520"/>
                    <a:gd name="textAreaBottom" fmla="*/ 83520 h 8352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1118"/>
                <p:cNvSpPr/>
                <p:nvPr/>
              </p:nvSpPr>
              <p:spPr>
                <a:xfrm flipH="1" rot="2658600">
                  <a:off x="1316880" y="779400"/>
                  <a:ext cx="342000" cy="110520"/>
                </a:xfrm>
                <a:custGeom>
                  <a:avLst/>
                  <a:gdLst>
                    <a:gd name="textAreaLeft" fmla="*/ 360 w 342000"/>
                    <a:gd name="textAreaRight" fmla="*/ 342720 w 342000"/>
                    <a:gd name="textAreaTop" fmla="*/ 0 h 110520"/>
                    <a:gd name="textAreaBottom" fmla="*/ 110880 h 11052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1119"/>
                <p:cNvSpPr/>
                <p:nvPr/>
              </p:nvSpPr>
              <p:spPr>
                <a:xfrm flipH="1" rot="2658600">
                  <a:off x="1460160" y="1065240"/>
                  <a:ext cx="142200" cy="14040"/>
                </a:xfrm>
                <a:custGeom>
                  <a:avLst/>
                  <a:gdLst>
                    <a:gd name="textAreaLeft" fmla="*/ -360 w 142200"/>
                    <a:gd name="textAreaRight" fmla="*/ 142200 w 14220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1120"/>
                <p:cNvSpPr/>
                <p:nvPr/>
              </p:nvSpPr>
              <p:spPr>
                <a:xfrm flipH="1" rot="2658600">
                  <a:off x="1519920" y="1136520"/>
                  <a:ext cx="74520" cy="5760"/>
                </a:xfrm>
                <a:custGeom>
                  <a:avLst/>
                  <a:gdLst>
                    <a:gd name="textAreaLeft" fmla="*/ -360 w 74520"/>
                    <a:gd name="textAreaRight" fmla="*/ 74520 w 7452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1121"/>
                <p:cNvSpPr/>
                <p:nvPr/>
              </p:nvSpPr>
              <p:spPr>
                <a:xfrm flipH="1" rot="2658600">
                  <a:off x="1500120" y="1114200"/>
                  <a:ext cx="54360" cy="38880"/>
                </a:xfrm>
                <a:custGeom>
                  <a:avLst/>
                  <a:gdLst>
                    <a:gd name="textAreaLeft" fmla="*/ -360 w 54360"/>
                    <a:gd name="textAreaRight" fmla="*/ 54360 w 5436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Freeform 1122"/>
                <p:cNvSpPr/>
                <p:nvPr/>
              </p:nvSpPr>
              <p:spPr>
                <a:xfrm flipH="1" rot="2658600">
                  <a:off x="1437120" y="1049760"/>
                  <a:ext cx="95040" cy="72000"/>
                </a:xfrm>
                <a:custGeom>
                  <a:avLst/>
                  <a:gdLst>
                    <a:gd name="textAreaLeft" fmla="*/ 360 w 95040"/>
                    <a:gd name="textAreaRight" fmla="*/ 95760 w 9504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1123"/>
                <p:cNvSpPr/>
                <p:nvPr/>
              </p:nvSpPr>
              <p:spPr>
                <a:xfrm flipH="1" rot="2658600">
                  <a:off x="1345320" y="952200"/>
                  <a:ext cx="151920" cy="127440"/>
                </a:xfrm>
                <a:custGeom>
                  <a:avLst/>
                  <a:gdLst>
                    <a:gd name="textAreaLeft" fmla="*/ 360 w 151920"/>
                    <a:gd name="textAreaRight" fmla="*/ 152640 w 151920"/>
                    <a:gd name="textAreaTop" fmla="*/ 0 h 127440"/>
                    <a:gd name="textAreaBottom" fmla="*/ 127800 h 12744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1124"/>
                <p:cNvSpPr/>
                <p:nvPr/>
              </p:nvSpPr>
              <p:spPr>
                <a:xfrm flipH="1" rot="2658600">
                  <a:off x="1270440" y="849960"/>
                  <a:ext cx="163440" cy="18576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1125"/>
                <p:cNvSpPr/>
                <p:nvPr/>
              </p:nvSpPr>
              <p:spPr>
                <a:xfrm flipH="1" rot="2658600">
                  <a:off x="1305360" y="951480"/>
                  <a:ext cx="17640" cy="73440"/>
                </a:xfrm>
                <a:custGeom>
                  <a:avLst/>
                  <a:gdLst>
                    <a:gd name="textAreaLeft" fmla="*/ -360 w 17640"/>
                    <a:gd name="textAreaRight" fmla="*/ 17640 w 17640"/>
                    <a:gd name="textAreaTop" fmla="*/ 0 h 73440"/>
                    <a:gd name="textAreaBottom" fmla="*/ 73800 h 7344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1126"/>
                <p:cNvSpPr/>
                <p:nvPr/>
              </p:nvSpPr>
              <p:spPr>
                <a:xfrm flipH="1" rot="2658600">
                  <a:off x="1225440" y="750600"/>
                  <a:ext cx="113040" cy="228960"/>
                </a:xfrm>
                <a:custGeom>
                  <a:avLst/>
                  <a:gdLst>
                    <a:gd name="textAreaLeft" fmla="*/ 360 w 113040"/>
                    <a:gd name="textAreaRight" fmla="*/ 113760 w 11304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1127"/>
                <p:cNvSpPr/>
                <p:nvPr/>
              </p:nvSpPr>
              <p:spPr>
                <a:xfrm flipH="1" rot="2658600">
                  <a:off x="1318680" y="927000"/>
                  <a:ext cx="83520" cy="36360"/>
                </a:xfrm>
                <a:custGeom>
                  <a:avLst/>
                  <a:gdLst>
                    <a:gd name="textAreaLeft" fmla="*/ 360 w 83520"/>
                    <a:gd name="textAreaRight" fmla="*/ 84240 w 8352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1128"/>
                <p:cNvSpPr/>
                <p:nvPr/>
              </p:nvSpPr>
              <p:spPr>
                <a:xfrm flipH="1" rot="2658600">
                  <a:off x="1387440" y="1027800"/>
                  <a:ext cx="40320" cy="58320"/>
                </a:xfrm>
                <a:custGeom>
                  <a:avLst/>
                  <a:gdLst>
                    <a:gd name="textAreaLeft" fmla="*/ 360 w 40320"/>
                    <a:gd name="textAreaRight" fmla="*/ 41040 w 40320"/>
                    <a:gd name="textAreaTop" fmla="*/ 0 h 58320"/>
                    <a:gd name="textAreaBottom" fmla="*/ 58680 h 5832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1129"/>
                <p:cNvSpPr/>
                <p:nvPr/>
              </p:nvSpPr>
              <p:spPr>
                <a:xfrm flipH="1" rot="2658600">
                  <a:off x="1485360" y="1019160"/>
                  <a:ext cx="88200" cy="12600"/>
                </a:xfrm>
                <a:custGeom>
                  <a:avLst/>
                  <a:gdLst>
                    <a:gd name="textAreaLeft" fmla="*/ -360 w 88200"/>
                    <a:gd name="textAreaRight" fmla="*/ 88200 w 882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1130"/>
                <p:cNvSpPr/>
                <p:nvPr/>
              </p:nvSpPr>
              <p:spPr>
                <a:xfrm flipH="1" rot="2658600">
                  <a:off x="1536120" y="1017000"/>
                  <a:ext cx="54360" cy="22320"/>
                </a:xfrm>
                <a:custGeom>
                  <a:avLst/>
                  <a:gdLst>
                    <a:gd name="textAreaLeft" fmla="*/ -360 w 54360"/>
                    <a:gd name="textAreaRight" fmla="*/ 54360 w 5436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1131"/>
                <p:cNvSpPr/>
                <p:nvPr/>
              </p:nvSpPr>
              <p:spPr>
                <a:xfrm flipH="1" rot="2658600">
                  <a:off x="1362960" y="993600"/>
                  <a:ext cx="17640" cy="13680"/>
                </a:xfrm>
                <a:custGeom>
                  <a:avLst/>
                  <a:gdLst>
                    <a:gd name="textAreaLeft" fmla="*/ -360 w 17640"/>
                    <a:gd name="textAreaRight" fmla="*/ 17640 w 17640"/>
                    <a:gd name="textAreaTop" fmla="*/ 0 h 13680"/>
                    <a:gd name="textAreaBottom" fmla="*/ 14040 h 1368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1132"/>
                <p:cNvSpPr/>
                <p:nvPr/>
              </p:nvSpPr>
              <p:spPr>
                <a:xfrm flipH="1" rot="2658600">
                  <a:off x="1537920" y="972000"/>
                  <a:ext cx="15840" cy="8280"/>
                </a:xfrm>
                <a:custGeom>
                  <a:avLst/>
                  <a:gdLst>
                    <a:gd name="textAreaLeft" fmla="*/ 360 w 15840"/>
                    <a:gd name="textAreaRight" fmla="*/ 16560 w 1584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1133"/>
                <p:cNvSpPr/>
                <p:nvPr/>
              </p:nvSpPr>
              <p:spPr>
                <a:xfrm flipH="1" rot="2658600">
                  <a:off x="1527120" y="894960"/>
                  <a:ext cx="17640" cy="10800"/>
                </a:xfrm>
                <a:custGeom>
                  <a:avLst/>
                  <a:gdLst>
                    <a:gd name="textAreaLeft" fmla="*/ -360 w 17640"/>
                    <a:gd name="textAreaRight" fmla="*/ 17640 w 1764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1134"/>
                <p:cNvSpPr/>
                <p:nvPr/>
              </p:nvSpPr>
              <p:spPr>
                <a:xfrm flipH="1" rot="2658600">
                  <a:off x="1582920" y="1098360"/>
                  <a:ext cx="13680" cy="5040"/>
                </a:xfrm>
                <a:custGeom>
                  <a:avLst/>
                  <a:gdLst>
                    <a:gd name="textAreaLeft" fmla="*/ 360 w 13680"/>
                    <a:gd name="textAreaRight" fmla="*/ 14400 w 1368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6" name="Group 890"/>
              <p:cNvGrpSpPr/>
              <p:nvPr/>
            </p:nvGrpSpPr>
            <p:grpSpPr>
              <a:xfrm>
                <a:off x="1224720" y="588240"/>
                <a:ext cx="70920" cy="56880"/>
                <a:chOff x="1224720" y="588240"/>
                <a:chExt cx="70920" cy="56880"/>
              </a:xfrm>
            </p:grpSpPr>
            <p:sp>
              <p:nvSpPr>
                <p:cNvPr id="977" name="Freeform 1136"/>
                <p:cNvSpPr/>
                <p:nvPr/>
              </p:nvSpPr>
              <p:spPr>
                <a:xfrm flipH="1" rot="7023600">
                  <a:off x="1243800" y="584640"/>
                  <a:ext cx="31680" cy="63360"/>
                </a:xfrm>
                <a:custGeom>
                  <a:avLst/>
                  <a:gdLst>
                    <a:gd name="textAreaLeft" fmla="*/ 360 w 31680"/>
                    <a:gd name="textAreaRight" fmla="*/ 32400 w 3168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1137"/>
                <p:cNvSpPr/>
                <p:nvPr/>
              </p:nvSpPr>
              <p:spPr>
                <a:xfrm flipH="1" rot="10670400">
                  <a:off x="1239120" y="611280"/>
                  <a:ext cx="32040" cy="19440"/>
                </a:xfrm>
                <a:custGeom>
                  <a:avLst/>
                  <a:gdLst>
                    <a:gd name="textAreaLeft" fmla="*/ -360 w 32040"/>
                    <a:gd name="textAreaRight" fmla="*/ 32040 w 32040"/>
                    <a:gd name="textAreaTop" fmla="*/ 0 h 19440"/>
                    <a:gd name="textAreaBottom" fmla="*/ 19440 h 1944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9" name="Group 893"/>
            <p:cNvGrpSpPr/>
            <p:nvPr/>
          </p:nvGrpSpPr>
          <p:grpSpPr>
            <a:xfrm>
              <a:off x="1191600" y="312480"/>
              <a:ext cx="675720" cy="352440"/>
              <a:chOff x="1191600" y="312480"/>
              <a:chExt cx="675720" cy="352440"/>
            </a:xfrm>
          </p:grpSpPr>
          <p:grpSp>
            <p:nvGrpSpPr>
              <p:cNvPr id="980" name="Group 894"/>
              <p:cNvGrpSpPr/>
              <p:nvPr/>
            </p:nvGrpSpPr>
            <p:grpSpPr>
              <a:xfrm>
                <a:off x="1191600" y="312480"/>
                <a:ext cx="675720" cy="352440"/>
                <a:chOff x="1191600" y="312480"/>
                <a:chExt cx="675720" cy="352440"/>
              </a:xfrm>
            </p:grpSpPr>
            <p:sp>
              <p:nvSpPr>
                <p:cNvPr id="981" name="Freeform 1140"/>
                <p:cNvSpPr/>
                <p:nvPr/>
              </p:nvSpPr>
              <p:spPr>
                <a:xfrm rot="10594800">
                  <a:off x="1350000" y="326880"/>
                  <a:ext cx="507960" cy="322920"/>
                </a:xfrm>
                <a:custGeom>
                  <a:avLst/>
                  <a:gdLst>
                    <a:gd name="textAreaLeft" fmla="*/ 0 w 507960"/>
                    <a:gd name="textAreaRight" fmla="*/ 508320 w 507960"/>
                    <a:gd name="textAreaTop" fmla="*/ 0 h 322920"/>
                    <a:gd name="textAreaBottom" fmla="*/ 323280 h 32292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1141"/>
                <p:cNvSpPr/>
                <p:nvPr/>
              </p:nvSpPr>
              <p:spPr>
                <a:xfrm rot="10594800">
                  <a:off x="1368000" y="424800"/>
                  <a:ext cx="430920" cy="153000"/>
                </a:xfrm>
                <a:custGeom>
                  <a:avLst/>
                  <a:gdLst>
                    <a:gd name="textAreaLeft" fmla="*/ 0 w 430920"/>
                    <a:gd name="textAreaRight" fmla="*/ 431280 w 430920"/>
                    <a:gd name="textAreaTop" fmla="*/ 0 h 153000"/>
                    <a:gd name="textAreaBottom" fmla="*/ 153360 h 15300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1142"/>
                <p:cNvSpPr/>
                <p:nvPr/>
              </p:nvSpPr>
              <p:spPr>
                <a:xfrm rot="10594800">
                  <a:off x="1196280" y="424440"/>
                  <a:ext cx="627120" cy="190440"/>
                </a:xfrm>
                <a:custGeom>
                  <a:avLst/>
                  <a:gdLst>
                    <a:gd name="textAreaLeft" fmla="*/ 0 w 627120"/>
                    <a:gd name="textAreaRight" fmla="*/ 627480 w 627120"/>
                    <a:gd name="textAreaTop" fmla="*/ 0 h 190440"/>
                    <a:gd name="textAreaBottom" fmla="*/ 190800 h 19044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1143"/>
                <p:cNvSpPr/>
                <p:nvPr/>
              </p:nvSpPr>
              <p:spPr>
                <a:xfrm rot="10594800">
                  <a:off x="1548720" y="484200"/>
                  <a:ext cx="203760" cy="187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1144"/>
                <p:cNvSpPr/>
                <p:nvPr/>
              </p:nvSpPr>
              <p:spPr>
                <a:xfrm rot="10594800">
                  <a:off x="1458000" y="518040"/>
                  <a:ext cx="263520" cy="69840"/>
                </a:xfrm>
                <a:custGeom>
                  <a:avLst/>
                  <a:gdLst>
                    <a:gd name="textAreaLeft" fmla="*/ 0 w 263520"/>
                    <a:gd name="textAreaRight" fmla="*/ 263880 w 26352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1145"/>
                <p:cNvSpPr/>
                <p:nvPr/>
              </p:nvSpPr>
              <p:spPr>
                <a:xfrm rot="10594800">
                  <a:off x="1398960" y="543240"/>
                  <a:ext cx="290160" cy="9288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92880"/>
                    <a:gd name="textAreaBottom" fmla="*/ 93240 h 9288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1146"/>
                <p:cNvSpPr/>
                <p:nvPr/>
              </p:nvSpPr>
              <p:spPr>
                <a:xfrm rot="10594800">
                  <a:off x="1643760" y="456120"/>
                  <a:ext cx="120600" cy="11880"/>
                </a:xfrm>
                <a:custGeom>
                  <a:avLst/>
                  <a:gdLst>
                    <a:gd name="textAreaLeft" fmla="*/ 0 w 120600"/>
                    <a:gd name="textAreaRight" fmla="*/ 120960 w 12060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1147"/>
                <p:cNvSpPr/>
                <p:nvPr/>
              </p:nvSpPr>
              <p:spPr>
                <a:xfrm rot="10594800">
                  <a:off x="1726920" y="432000"/>
                  <a:ext cx="63000" cy="468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1148"/>
                <p:cNvSpPr/>
                <p:nvPr/>
              </p:nvSpPr>
              <p:spPr>
                <a:xfrm rot="10594800">
                  <a:off x="1713240" y="405000"/>
                  <a:ext cx="46080" cy="324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1149"/>
                <p:cNvSpPr/>
                <p:nvPr/>
              </p:nvSpPr>
              <p:spPr>
                <a:xfrm rot="10594800">
                  <a:off x="1642320" y="397440"/>
                  <a:ext cx="80640" cy="6084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1150"/>
                <p:cNvSpPr/>
                <p:nvPr/>
              </p:nvSpPr>
              <p:spPr>
                <a:xfrm rot="10594800">
                  <a:off x="1537560" y="384480"/>
                  <a:ext cx="129240" cy="106920"/>
                </a:xfrm>
                <a:custGeom>
                  <a:avLst/>
                  <a:gdLst>
                    <a:gd name="textAreaLeft" fmla="*/ 0 w 129240"/>
                    <a:gd name="textAreaRight" fmla="*/ 129600 w 129240"/>
                    <a:gd name="textAreaTop" fmla="*/ 0 h 106920"/>
                    <a:gd name="textAreaBottom" fmla="*/ 107280 h 10692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1151"/>
                <p:cNvSpPr/>
                <p:nvPr/>
              </p:nvSpPr>
              <p:spPr>
                <a:xfrm rot="10594800">
                  <a:off x="1447200" y="367920"/>
                  <a:ext cx="138600" cy="156600"/>
                </a:xfrm>
                <a:custGeom>
                  <a:avLst/>
                  <a:gdLst>
                    <a:gd name="textAreaLeft" fmla="*/ 0 w 138600"/>
                    <a:gd name="textAreaRight" fmla="*/ 138960 w 138600"/>
                    <a:gd name="textAreaTop" fmla="*/ 0 h 156600"/>
                    <a:gd name="textAreaBottom" fmla="*/ 156960 h 15660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Freeform 1152"/>
                <p:cNvSpPr/>
                <p:nvPr/>
              </p:nvSpPr>
              <p:spPr>
                <a:xfrm rot="10594800">
                  <a:off x="1509840" y="365040"/>
                  <a:ext cx="15120" cy="61920"/>
                </a:xfrm>
                <a:custGeom>
                  <a:avLst/>
                  <a:gdLst>
                    <a:gd name="textAreaLeft" fmla="*/ 0 w 15120"/>
                    <a:gd name="textAreaRight" fmla="*/ 15480 w 151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1153"/>
                <p:cNvSpPr/>
                <p:nvPr/>
              </p:nvSpPr>
              <p:spPr>
                <a:xfrm rot="10594800">
                  <a:off x="1381320" y="360720"/>
                  <a:ext cx="95760" cy="192600"/>
                </a:xfrm>
                <a:custGeom>
                  <a:avLst/>
                  <a:gdLst>
                    <a:gd name="textAreaLeft" fmla="*/ 0 w 95760"/>
                    <a:gd name="textAreaRight" fmla="*/ 96120 w 9576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1154"/>
                <p:cNvSpPr/>
                <p:nvPr/>
              </p:nvSpPr>
              <p:spPr>
                <a:xfrm rot="10594800">
                  <a:off x="1488600" y="433440"/>
                  <a:ext cx="70920" cy="30600"/>
                </a:xfrm>
                <a:custGeom>
                  <a:avLst/>
                  <a:gdLst>
                    <a:gd name="textAreaLeft" fmla="*/ 0 w 70920"/>
                    <a:gd name="textAreaRight" fmla="*/ 71280 w 7092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1155"/>
                <p:cNvSpPr/>
                <p:nvPr/>
              </p:nvSpPr>
              <p:spPr>
                <a:xfrm rot="10594800">
                  <a:off x="1599120" y="378720"/>
                  <a:ext cx="34200" cy="4896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1156"/>
                <p:cNvSpPr/>
                <p:nvPr/>
              </p:nvSpPr>
              <p:spPr>
                <a:xfrm rot="10594800">
                  <a:off x="1639080" y="486000"/>
                  <a:ext cx="74880" cy="1044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1157"/>
                <p:cNvSpPr/>
                <p:nvPr/>
              </p:nvSpPr>
              <p:spPr>
                <a:xfrm rot="10594800">
                  <a:off x="1677240" y="498960"/>
                  <a:ext cx="46080" cy="1872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Freeform 1158"/>
                <p:cNvSpPr/>
                <p:nvPr/>
              </p:nvSpPr>
              <p:spPr>
                <a:xfrm rot="10594800">
                  <a:off x="1553760" y="414720"/>
                  <a:ext cx="15120" cy="10800"/>
                </a:xfrm>
                <a:custGeom>
                  <a:avLst/>
                  <a:gdLst>
                    <a:gd name="textAreaLeft" fmla="*/ 0 w 15120"/>
                    <a:gd name="textAreaRight" fmla="*/ 15480 w 1512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Freeform 1159"/>
                <p:cNvSpPr/>
                <p:nvPr/>
              </p:nvSpPr>
              <p:spPr>
                <a:xfrm rot="10594800">
                  <a:off x="1653120" y="527760"/>
                  <a:ext cx="13320" cy="720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Freeform 1160"/>
                <p:cNvSpPr/>
                <p:nvPr/>
              </p:nvSpPr>
              <p:spPr>
                <a:xfrm rot="10594800">
                  <a:off x="1603800" y="569880"/>
                  <a:ext cx="15120" cy="8640"/>
                </a:xfrm>
                <a:custGeom>
                  <a:avLst/>
                  <a:gdLst>
                    <a:gd name="textAreaLeft" fmla="*/ 0 w 15120"/>
                    <a:gd name="textAreaRight" fmla="*/ 15480 w 1512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1161"/>
                <p:cNvSpPr/>
                <p:nvPr/>
              </p:nvSpPr>
              <p:spPr>
                <a:xfrm rot="10594800">
                  <a:off x="1752120" y="474120"/>
                  <a:ext cx="11520" cy="43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3" name="Group 917"/>
              <p:cNvGrpSpPr/>
              <p:nvPr/>
            </p:nvGrpSpPr>
            <p:grpSpPr>
              <a:xfrm>
                <a:off x="1247400" y="581760"/>
                <a:ext cx="58680" cy="39960"/>
                <a:chOff x="1247400" y="581760"/>
                <a:chExt cx="58680" cy="39960"/>
              </a:xfrm>
            </p:grpSpPr>
            <p:sp>
              <p:nvSpPr>
                <p:cNvPr id="1004" name="Freeform 1163"/>
                <p:cNvSpPr/>
                <p:nvPr/>
              </p:nvSpPr>
              <p:spPr>
                <a:xfrm rot="6231000">
                  <a:off x="1263240" y="575280"/>
                  <a:ext cx="26640" cy="5364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1164"/>
                <p:cNvSpPr/>
                <p:nvPr/>
              </p:nvSpPr>
              <p:spPr>
                <a:xfrm rot="2583600">
                  <a:off x="1262160" y="588600"/>
                  <a:ext cx="27000" cy="162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6" name="Group 920"/>
            <p:cNvGrpSpPr/>
            <p:nvPr/>
          </p:nvGrpSpPr>
          <p:grpSpPr>
            <a:xfrm>
              <a:off x="1645560" y="814320"/>
              <a:ext cx="570240" cy="524160"/>
              <a:chOff x="1645560" y="814320"/>
              <a:chExt cx="570240" cy="524160"/>
            </a:xfrm>
          </p:grpSpPr>
          <p:grpSp>
            <p:nvGrpSpPr>
              <p:cNvPr id="1007" name="Group 921"/>
              <p:cNvGrpSpPr/>
              <p:nvPr/>
            </p:nvGrpSpPr>
            <p:grpSpPr>
              <a:xfrm>
                <a:off x="1649520" y="814320"/>
                <a:ext cx="566280" cy="524160"/>
                <a:chOff x="1649520" y="814320"/>
                <a:chExt cx="566280" cy="524160"/>
              </a:xfrm>
            </p:grpSpPr>
            <p:sp>
              <p:nvSpPr>
                <p:cNvPr id="1008" name="Freeform 1167"/>
                <p:cNvSpPr/>
                <p:nvPr/>
              </p:nvSpPr>
              <p:spPr>
                <a:xfrm rot="15123000">
                  <a:off x="1764360" y="860040"/>
                  <a:ext cx="336240" cy="486360"/>
                </a:xfrm>
                <a:custGeom>
                  <a:avLst/>
                  <a:gdLst>
                    <a:gd name="textAreaLeft" fmla="*/ 0 w 336240"/>
                    <a:gd name="textAreaRight" fmla="*/ 336600 w 336240"/>
                    <a:gd name="textAreaTop" fmla="*/ 0 h 486360"/>
                    <a:gd name="textAreaBottom" fmla="*/ 486720 h 48636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1168"/>
                <p:cNvSpPr/>
                <p:nvPr/>
              </p:nvSpPr>
              <p:spPr>
                <a:xfrm rot="15123000">
                  <a:off x="1768680" y="980280"/>
                  <a:ext cx="284760" cy="231120"/>
                </a:xfrm>
                <a:custGeom>
                  <a:avLst/>
                  <a:gdLst>
                    <a:gd name="textAreaLeft" fmla="*/ 0 w 284760"/>
                    <a:gd name="textAreaRight" fmla="*/ 285120 w 284760"/>
                    <a:gd name="textAreaTop" fmla="*/ 0 h 231120"/>
                    <a:gd name="textAreaBottom" fmla="*/ 231480 h 23112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1169"/>
                <p:cNvSpPr/>
                <p:nvPr/>
              </p:nvSpPr>
              <p:spPr>
                <a:xfrm rot="15123000">
                  <a:off x="1669320" y="911520"/>
                  <a:ext cx="414360" cy="287640"/>
                </a:xfrm>
                <a:custGeom>
                  <a:avLst/>
                  <a:gdLst>
                    <a:gd name="textAreaLeft" fmla="*/ 0 w 414360"/>
                    <a:gd name="textAreaRight" fmla="*/ 414720 w 414360"/>
                    <a:gd name="textAreaTop" fmla="*/ 0 h 287640"/>
                    <a:gd name="textAreaBottom" fmla="*/ 288000 h 28764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Freeform 1170"/>
                <p:cNvSpPr/>
                <p:nvPr/>
              </p:nvSpPr>
              <p:spPr>
                <a:xfrm rot="15123000">
                  <a:off x="1864440" y="1122120"/>
                  <a:ext cx="134640" cy="28440"/>
                </a:xfrm>
                <a:custGeom>
                  <a:avLst/>
                  <a:gdLst>
                    <a:gd name="textAreaLeft" fmla="*/ 0 w 134640"/>
                    <a:gd name="textAreaRight" fmla="*/ 135000 w 13464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1171"/>
                <p:cNvSpPr/>
                <p:nvPr/>
              </p:nvSpPr>
              <p:spPr>
                <a:xfrm rot="15123000">
                  <a:off x="1750680" y="1068120"/>
                  <a:ext cx="174240" cy="106200"/>
                </a:xfrm>
                <a:custGeom>
                  <a:avLst/>
                  <a:gdLst>
                    <a:gd name="textAreaLeft" fmla="*/ 0 w 174240"/>
                    <a:gd name="textAreaRight" fmla="*/ 174600 w 17424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Freeform 1172"/>
                <p:cNvSpPr/>
                <p:nvPr/>
              </p:nvSpPr>
              <p:spPr>
                <a:xfrm rot="15123000">
                  <a:off x="1684080" y="1037160"/>
                  <a:ext cx="191880" cy="140400"/>
                </a:xfrm>
                <a:custGeom>
                  <a:avLst/>
                  <a:gdLst>
                    <a:gd name="textAreaLeft" fmla="*/ 0 w 191880"/>
                    <a:gd name="textAreaRight" fmla="*/ 192240 w 191880"/>
                    <a:gd name="textAreaTop" fmla="*/ 0 h 140400"/>
                    <a:gd name="textAreaBottom" fmla="*/ 140760 h 14040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Freeform 1173"/>
                <p:cNvSpPr/>
                <p:nvPr/>
              </p:nvSpPr>
              <p:spPr>
                <a:xfrm rot="15123000">
                  <a:off x="1944000" y="1148760"/>
                  <a:ext cx="79920" cy="1764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Freeform 1174"/>
                <p:cNvSpPr/>
                <p:nvPr/>
              </p:nvSpPr>
              <p:spPr>
                <a:xfrm rot="15123000">
                  <a:off x="2010240" y="1177200"/>
                  <a:ext cx="41760" cy="720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Freeform 1175"/>
                <p:cNvSpPr/>
                <p:nvPr/>
              </p:nvSpPr>
              <p:spPr>
                <a:xfrm rot="15123000">
                  <a:off x="2031840" y="1135800"/>
                  <a:ext cx="29880" cy="4968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Freeform 1176"/>
                <p:cNvSpPr/>
                <p:nvPr/>
              </p:nvSpPr>
              <p:spPr>
                <a:xfrm rot="15123000">
                  <a:off x="2003760" y="1081800"/>
                  <a:ext cx="53280" cy="92160"/>
                </a:xfrm>
                <a:custGeom>
                  <a:avLst/>
                  <a:gdLst>
                    <a:gd name="textAreaLeft" fmla="*/ 0 w 53280"/>
                    <a:gd name="textAreaRight" fmla="*/ 53640 w 5328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Freeform 1177"/>
                <p:cNvSpPr/>
                <p:nvPr/>
              </p:nvSpPr>
              <p:spPr>
                <a:xfrm rot="15123000">
                  <a:off x="1963800" y="999720"/>
                  <a:ext cx="85320" cy="16200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62000"/>
                    <a:gd name="textAreaBottom" fmla="*/ 162360 h 16200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1178"/>
                <p:cNvSpPr/>
                <p:nvPr/>
              </p:nvSpPr>
              <p:spPr>
                <a:xfrm rot="15123000">
                  <a:off x="1937880" y="910440"/>
                  <a:ext cx="92160" cy="2361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236160"/>
                    <a:gd name="textAreaBottom" fmla="*/ 236520 h 23616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1179"/>
                <p:cNvSpPr/>
                <p:nvPr/>
              </p:nvSpPr>
              <p:spPr>
                <a:xfrm rot="15123000">
                  <a:off x="2052360" y="959400"/>
                  <a:ext cx="10080" cy="939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93960"/>
                    <a:gd name="textAreaBottom" fmla="*/ 94320 h 9396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1180"/>
                <p:cNvSpPr/>
                <p:nvPr/>
              </p:nvSpPr>
              <p:spPr>
                <a:xfrm rot="15123000">
                  <a:off x="1926720" y="829440"/>
                  <a:ext cx="63000" cy="29124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291240"/>
                    <a:gd name="textAreaBottom" fmla="*/ 291600 h 29124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Freeform 1181"/>
                <p:cNvSpPr/>
                <p:nvPr/>
              </p:nvSpPr>
              <p:spPr>
                <a:xfrm rot="15123000">
                  <a:off x="1957680" y="1010880"/>
                  <a:ext cx="46800" cy="46080"/>
                </a:xfrm>
                <a:custGeom>
                  <a:avLst/>
                  <a:gdLst>
                    <a:gd name="textAreaLeft" fmla="*/ 0 w 46800"/>
                    <a:gd name="textAreaRight" fmla="*/ 47160 w 4680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1182"/>
                <p:cNvSpPr/>
                <p:nvPr/>
              </p:nvSpPr>
              <p:spPr>
                <a:xfrm rot="15123000">
                  <a:off x="2046600" y="1037520"/>
                  <a:ext cx="23040" cy="74520"/>
                </a:xfrm>
                <a:custGeom>
                  <a:avLst/>
                  <a:gdLst>
                    <a:gd name="textAreaLeft" fmla="*/ 0 w 23040"/>
                    <a:gd name="textAreaRight" fmla="*/ 23400 w 23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Freeform 1183"/>
                <p:cNvSpPr/>
                <p:nvPr/>
              </p:nvSpPr>
              <p:spPr>
                <a:xfrm rot="15123000">
                  <a:off x="1913400" y="1144440"/>
                  <a:ext cx="49320" cy="1584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Freeform 1184"/>
                <p:cNvSpPr/>
                <p:nvPr/>
              </p:nvSpPr>
              <p:spPr>
                <a:xfrm rot="15123000">
                  <a:off x="1901520" y="1160640"/>
                  <a:ext cx="29880" cy="2808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1185"/>
                <p:cNvSpPr/>
                <p:nvPr/>
              </p:nvSpPr>
              <p:spPr>
                <a:xfrm rot="15123000">
                  <a:off x="2022840" y="1037520"/>
                  <a:ext cx="10080" cy="172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1186"/>
                <p:cNvSpPr/>
                <p:nvPr/>
              </p:nvSpPr>
              <p:spPr>
                <a:xfrm rot="15123000">
                  <a:off x="1873080" y="1153440"/>
                  <a:ext cx="8640" cy="10440"/>
                </a:xfrm>
                <a:custGeom>
                  <a:avLst/>
                  <a:gdLst>
                    <a:gd name="textAreaLeft" fmla="*/ 0 w 8640"/>
                    <a:gd name="textAreaRight" fmla="*/ 9000 w 86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1187"/>
                <p:cNvSpPr/>
                <p:nvPr/>
              </p:nvSpPr>
              <p:spPr>
                <a:xfrm rot="15123000">
                  <a:off x="1805040" y="1137960"/>
                  <a:ext cx="10080" cy="1404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1188"/>
                <p:cNvSpPr/>
                <p:nvPr/>
              </p:nvSpPr>
              <p:spPr>
                <a:xfrm rot="15123000">
                  <a:off x="1965960" y="1195560"/>
                  <a:ext cx="7560" cy="720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Group 944"/>
              <p:cNvGrpSpPr/>
              <p:nvPr/>
            </p:nvGrpSpPr>
            <p:grpSpPr>
              <a:xfrm>
                <a:off x="1645560" y="897120"/>
                <a:ext cx="43920" cy="35640"/>
                <a:chOff x="1645560" y="897120"/>
                <a:chExt cx="43920" cy="35640"/>
              </a:xfrm>
            </p:grpSpPr>
            <p:sp>
              <p:nvSpPr>
                <p:cNvPr id="1031" name="Freeform 1190"/>
                <p:cNvSpPr/>
                <p:nvPr/>
              </p:nvSpPr>
              <p:spPr>
                <a:xfrm rot="10758000">
                  <a:off x="1645560" y="897120"/>
                  <a:ext cx="40320" cy="35280"/>
                </a:xfrm>
                <a:custGeom>
                  <a:avLst/>
                  <a:gdLst>
                    <a:gd name="textAreaLeft" fmla="*/ 0 w 40320"/>
                    <a:gd name="textAreaRight" fmla="*/ 40680 w 40320"/>
                    <a:gd name="textAreaTop" fmla="*/ 0 h 35280"/>
                    <a:gd name="textAreaBottom" fmla="*/ 35640 h 3528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1191"/>
                <p:cNvSpPr/>
                <p:nvPr/>
              </p:nvSpPr>
              <p:spPr>
                <a:xfrm rot="7111800">
                  <a:off x="1665000" y="899640"/>
                  <a:ext cx="18000" cy="2484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3" name="Group 947"/>
          <p:cNvGrpSpPr/>
          <p:nvPr/>
        </p:nvGrpSpPr>
        <p:grpSpPr>
          <a:xfrm>
            <a:off x="-149040" y="34200"/>
            <a:ext cx="2062440" cy="1561320"/>
            <a:chOff x="-149040" y="34200"/>
            <a:chExt cx="2062440" cy="1561320"/>
          </a:xfrm>
        </p:grpSpPr>
        <p:sp>
          <p:nvSpPr>
            <p:cNvPr id="1034" name="Freeform 1193"/>
            <p:cNvSpPr/>
            <p:nvPr/>
          </p:nvSpPr>
          <p:spPr>
            <a:xfrm flipH="1" rot="4059600">
              <a:off x="671400" y="-155880"/>
              <a:ext cx="216720" cy="1759680"/>
            </a:xfrm>
            <a:custGeom>
              <a:avLst/>
              <a:gdLst>
                <a:gd name="textAreaLeft" fmla="*/ 360 w 216720"/>
                <a:gd name="textAreaRight" fmla="*/ 217440 w 216720"/>
                <a:gd name="textAreaTop" fmla="*/ 0 h 1759680"/>
                <a:gd name="textAreaBottom" fmla="*/ 1760040 h 1759680"/>
              </a:gdLst>
              <a:ahLst/>
              <a:rect l="textAreaLeft" t="textAreaTop" r="textAreaRight" b="textAreaBottom"/>
              <a:pathLst>
                <a:path w="2573" h="12419">
                  <a:moveTo>
                    <a:pt x="103" y="11997"/>
                  </a:moveTo>
                  <a:lnTo>
                    <a:pt x="103" y="11955"/>
                  </a:lnTo>
                  <a:lnTo>
                    <a:pt x="113" y="11851"/>
                  </a:lnTo>
                  <a:lnTo>
                    <a:pt x="124" y="11788"/>
                  </a:lnTo>
                  <a:lnTo>
                    <a:pt x="135" y="11737"/>
                  </a:lnTo>
                  <a:lnTo>
                    <a:pt x="150" y="11690"/>
                  </a:lnTo>
                  <a:lnTo>
                    <a:pt x="160" y="11669"/>
                  </a:lnTo>
                  <a:lnTo>
                    <a:pt x="170" y="11658"/>
                  </a:lnTo>
                  <a:lnTo>
                    <a:pt x="228" y="11596"/>
                  </a:lnTo>
                  <a:lnTo>
                    <a:pt x="264" y="11555"/>
                  </a:lnTo>
                  <a:lnTo>
                    <a:pt x="300" y="11503"/>
                  </a:lnTo>
                  <a:lnTo>
                    <a:pt x="332" y="11445"/>
                  </a:lnTo>
                  <a:lnTo>
                    <a:pt x="368" y="11378"/>
                  </a:lnTo>
                  <a:lnTo>
                    <a:pt x="394" y="11305"/>
                  </a:lnTo>
                  <a:lnTo>
                    <a:pt x="410" y="11221"/>
                  </a:lnTo>
                  <a:lnTo>
                    <a:pt x="447" y="11071"/>
                  </a:lnTo>
                  <a:lnTo>
                    <a:pt x="504" y="10821"/>
                  </a:lnTo>
                  <a:lnTo>
                    <a:pt x="670" y="10144"/>
                  </a:lnTo>
                  <a:lnTo>
                    <a:pt x="831" y="9488"/>
                  </a:lnTo>
                  <a:lnTo>
                    <a:pt x="883" y="9254"/>
                  </a:lnTo>
                  <a:lnTo>
                    <a:pt x="904" y="9140"/>
                  </a:lnTo>
                  <a:lnTo>
                    <a:pt x="909" y="9056"/>
                  </a:lnTo>
                  <a:lnTo>
                    <a:pt x="914" y="9004"/>
                  </a:lnTo>
                  <a:lnTo>
                    <a:pt x="919" y="8983"/>
                  </a:lnTo>
                  <a:lnTo>
                    <a:pt x="930" y="8973"/>
                  </a:lnTo>
                  <a:lnTo>
                    <a:pt x="946" y="8963"/>
                  </a:lnTo>
                  <a:lnTo>
                    <a:pt x="966" y="8958"/>
                  </a:lnTo>
                  <a:lnTo>
                    <a:pt x="981" y="8946"/>
                  </a:lnTo>
                  <a:lnTo>
                    <a:pt x="1003" y="8921"/>
                  </a:lnTo>
                  <a:lnTo>
                    <a:pt x="1023" y="8884"/>
                  </a:lnTo>
                  <a:lnTo>
                    <a:pt x="1050" y="8833"/>
                  </a:lnTo>
                  <a:lnTo>
                    <a:pt x="1106" y="8708"/>
                  </a:lnTo>
                  <a:lnTo>
                    <a:pt x="1169" y="8556"/>
                  </a:lnTo>
                  <a:lnTo>
                    <a:pt x="1231" y="8395"/>
                  </a:lnTo>
                  <a:lnTo>
                    <a:pt x="1288" y="8239"/>
                  </a:lnTo>
                  <a:lnTo>
                    <a:pt x="1335" y="8104"/>
                  </a:lnTo>
                  <a:lnTo>
                    <a:pt x="1367" y="7999"/>
                  </a:lnTo>
                  <a:lnTo>
                    <a:pt x="1445" y="7755"/>
                  </a:lnTo>
                  <a:lnTo>
                    <a:pt x="1554" y="7401"/>
                  </a:lnTo>
                  <a:lnTo>
                    <a:pt x="1606" y="7213"/>
                  </a:lnTo>
                  <a:lnTo>
                    <a:pt x="1647" y="7026"/>
                  </a:lnTo>
                  <a:lnTo>
                    <a:pt x="1669" y="6943"/>
                  </a:lnTo>
                  <a:lnTo>
                    <a:pt x="1679" y="6860"/>
                  </a:lnTo>
                  <a:lnTo>
                    <a:pt x="1689" y="6786"/>
                  </a:lnTo>
                  <a:lnTo>
                    <a:pt x="1689" y="6719"/>
                  </a:lnTo>
                  <a:lnTo>
                    <a:pt x="1694" y="6651"/>
                  </a:lnTo>
                  <a:lnTo>
                    <a:pt x="1699" y="6558"/>
                  </a:lnTo>
                  <a:lnTo>
                    <a:pt x="1731" y="6318"/>
                  </a:lnTo>
                  <a:lnTo>
                    <a:pt x="1772" y="6032"/>
                  </a:lnTo>
                  <a:lnTo>
                    <a:pt x="1814" y="5730"/>
                  </a:lnTo>
                  <a:lnTo>
                    <a:pt x="1902" y="5163"/>
                  </a:lnTo>
                  <a:lnTo>
                    <a:pt x="1934" y="4955"/>
                  </a:lnTo>
                  <a:lnTo>
                    <a:pt x="1939" y="4877"/>
                  </a:lnTo>
                  <a:lnTo>
                    <a:pt x="1944" y="4830"/>
                  </a:lnTo>
                  <a:lnTo>
                    <a:pt x="1949" y="4236"/>
                  </a:lnTo>
                  <a:lnTo>
                    <a:pt x="1964" y="3133"/>
                  </a:lnTo>
                  <a:lnTo>
                    <a:pt x="1970" y="2555"/>
                  </a:lnTo>
                  <a:lnTo>
                    <a:pt x="1970" y="2050"/>
                  </a:lnTo>
                  <a:lnTo>
                    <a:pt x="1964" y="1686"/>
                  </a:lnTo>
                  <a:lnTo>
                    <a:pt x="1959" y="1571"/>
                  </a:lnTo>
                  <a:lnTo>
                    <a:pt x="1954" y="1541"/>
                  </a:lnTo>
                  <a:lnTo>
                    <a:pt x="1954" y="1524"/>
                  </a:lnTo>
                  <a:lnTo>
                    <a:pt x="1918" y="1457"/>
                  </a:lnTo>
                  <a:lnTo>
                    <a:pt x="1892" y="1399"/>
                  </a:lnTo>
                  <a:lnTo>
                    <a:pt x="1887" y="1374"/>
                  </a:lnTo>
                  <a:lnTo>
                    <a:pt x="1882" y="1347"/>
                  </a:lnTo>
                  <a:lnTo>
                    <a:pt x="1882" y="1327"/>
                  </a:lnTo>
                  <a:lnTo>
                    <a:pt x="1892" y="1311"/>
                  </a:lnTo>
                  <a:lnTo>
                    <a:pt x="1897" y="1306"/>
                  </a:lnTo>
                  <a:lnTo>
                    <a:pt x="1907" y="1301"/>
                  </a:lnTo>
                  <a:lnTo>
                    <a:pt x="1923" y="1306"/>
                  </a:lnTo>
                  <a:lnTo>
                    <a:pt x="1944" y="1311"/>
                  </a:lnTo>
                  <a:lnTo>
                    <a:pt x="1964" y="1322"/>
                  </a:lnTo>
                  <a:lnTo>
                    <a:pt x="1986" y="1332"/>
                  </a:lnTo>
                  <a:lnTo>
                    <a:pt x="2006" y="1337"/>
                  </a:lnTo>
                  <a:lnTo>
                    <a:pt x="2022" y="1337"/>
                  </a:lnTo>
                  <a:lnTo>
                    <a:pt x="2027" y="1332"/>
                  </a:lnTo>
                  <a:lnTo>
                    <a:pt x="2032" y="1322"/>
                  </a:lnTo>
                  <a:lnTo>
                    <a:pt x="2214" y="775"/>
                  </a:lnTo>
                  <a:lnTo>
                    <a:pt x="2386" y="265"/>
                  </a:lnTo>
                  <a:lnTo>
                    <a:pt x="2376" y="228"/>
                  </a:lnTo>
                  <a:lnTo>
                    <a:pt x="2360" y="140"/>
                  </a:lnTo>
                  <a:lnTo>
                    <a:pt x="2360" y="93"/>
                  </a:lnTo>
                  <a:lnTo>
                    <a:pt x="2360" y="51"/>
                  </a:lnTo>
                  <a:lnTo>
                    <a:pt x="2365" y="20"/>
                  </a:lnTo>
                  <a:lnTo>
                    <a:pt x="2376" y="10"/>
                  </a:lnTo>
                  <a:lnTo>
                    <a:pt x="2386" y="5"/>
                  </a:lnTo>
                  <a:lnTo>
                    <a:pt x="2396" y="0"/>
                  </a:lnTo>
                  <a:lnTo>
                    <a:pt x="2401" y="5"/>
                  </a:lnTo>
                  <a:lnTo>
                    <a:pt x="2417" y="15"/>
                  </a:lnTo>
                  <a:lnTo>
                    <a:pt x="2423" y="36"/>
                  </a:lnTo>
                  <a:lnTo>
                    <a:pt x="2428" y="67"/>
                  </a:lnTo>
                  <a:lnTo>
                    <a:pt x="2438" y="130"/>
                  </a:lnTo>
                  <a:lnTo>
                    <a:pt x="2448" y="155"/>
                  </a:lnTo>
                  <a:lnTo>
                    <a:pt x="2464" y="177"/>
                  </a:lnTo>
                  <a:lnTo>
                    <a:pt x="2485" y="187"/>
                  </a:lnTo>
                  <a:lnTo>
                    <a:pt x="2505" y="197"/>
                  </a:lnTo>
                  <a:lnTo>
                    <a:pt x="2547" y="213"/>
                  </a:lnTo>
                  <a:lnTo>
                    <a:pt x="2563" y="218"/>
                  </a:lnTo>
                  <a:lnTo>
                    <a:pt x="2568" y="228"/>
                  </a:lnTo>
                  <a:lnTo>
                    <a:pt x="2573" y="233"/>
                  </a:lnTo>
                  <a:lnTo>
                    <a:pt x="2568" y="245"/>
                  </a:lnTo>
                  <a:lnTo>
                    <a:pt x="2531" y="275"/>
                  </a:lnTo>
                  <a:lnTo>
                    <a:pt x="2490" y="327"/>
                  </a:lnTo>
                  <a:lnTo>
                    <a:pt x="2443" y="390"/>
                  </a:lnTo>
                  <a:lnTo>
                    <a:pt x="2423" y="421"/>
                  </a:lnTo>
                  <a:lnTo>
                    <a:pt x="2406" y="457"/>
                  </a:lnTo>
                  <a:lnTo>
                    <a:pt x="2334" y="650"/>
                  </a:lnTo>
                  <a:lnTo>
                    <a:pt x="2219" y="999"/>
                  </a:lnTo>
                  <a:lnTo>
                    <a:pt x="2163" y="1186"/>
                  </a:lnTo>
                  <a:lnTo>
                    <a:pt x="2116" y="1363"/>
                  </a:lnTo>
                  <a:lnTo>
                    <a:pt x="2084" y="1504"/>
                  </a:lnTo>
                  <a:lnTo>
                    <a:pt x="2074" y="1556"/>
                  </a:lnTo>
                  <a:lnTo>
                    <a:pt x="2074" y="1592"/>
                  </a:lnTo>
                  <a:lnTo>
                    <a:pt x="2074" y="1706"/>
                  </a:lnTo>
                  <a:lnTo>
                    <a:pt x="2074" y="1915"/>
                  </a:lnTo>
                  <a:lnTo>
                    <a:pt x="2069" y="2456"/>
                  </a:lnTo>
                  <a:lnTo>
                    <a:pt x="2053" y="3195"/>
                  </a:lnTo>
                  <a:lnTo>
                    <a:pt x="2064" y="3185"/>
                  </a:lnTo>
                  <a:lnTo>
                    <a:pt x="2089" y="3164"/>
                  </a:lnTo>
                  <a:lnTo>
                    <a:pt x="2106" y="3154"/>
                  </a:lnTo>
                  <a:lnTo>
                    <a:pt x="2116" y="3154"/>
                  </a:lnTo>
                  <a:lnTo>
                    <a:pt x="2121" y="3159"/>
                  </a:lnTo>
                  <a:lnTo>
                    <a:pt x="2121" y="3174"/>
                  </a:lnTo>
                  <a:lnTo>
                    <a:pt x="2111" y="3227"/>
                  </a:lnTo>
                  <a:lnTo>
                    <a:pt x="2089" y="3284"/>
                  </a:lnTo>
                  <a:lnTo>
                    <a:pt x="2069" y="3352"/>
                  </a:lnTo>
                  <a:lnTo>
                    <a:pt x="2064" y="3394"/>
                  </a:lnTo>
                  <a:lnTo>
                    <a:pt x="2064" y="3435"/>
                  </a:lnTo>
                  <a:lnTo>
                    <a:pt x="2058" y="3747"/>
                  </a:lnTo>
                  <a:lnTo>
                    <a:pt x="2043" y="4356"/>
                  </a:lnTo>
                  <a:lnTo>
                    <a:pt x="2032" y="4705"/>
                  </a:lnTo>
                  <a:lnTo>
                    <a:pt x="2022" y="5048"/>
                  </a:lnTo>
                  <a:lnTo>
                    <a:pt x="2001" y="5360"/>
                  </a:lnTo>
                  <a:lnTo>
                    <a:pt x="1981" y="5610"/>
                  </a:lnTo>
                  <a:lnTo>
                    <a:pt x="1954" y="5834"/>
                  </a:lnTo>
                  <a:lnTo>
                    <a:pt x="1923" y="6058"/>
                  </a:lnTo>
                  <a:lnTo>
                    <a:pt x="1850" y="6490"/>
                  </a:lnTo>
                  <a:lnTo>
                    <a:pt x="1819" y="6673"/>
                  </a:lnTo>
                  <a:lnTo>
                    <a:pt x="1799" y="6818"/>
                  </a:lnTo>
                  <a:lnTo>
                    <a:pt x="1794" y="6922"/>
                  </a:lnTo>
                  <a:lnTo>
                    <a:pt x="1794" y="6953"/>
                  </a:lnTo>
                  <a:lnTo>
                    <a:pt x="1804" y="6974"/>
                  </a:lnTo>
                  <a:lnTo>
                    <a:pt x="1819" y="6985"/>
                  </a:lnTo>
                  <a:lnTo>
                    <a:pt x="1834" y="6990"/>
                  </a:lnTo>
                  <a:lnTo>
                    <a:pt x="1866" y="6990"/>
                  </a:lnTo>
                  <a:lnTo>
                    <a:pt x="1876" y="6990"/>
                  </a:lnTo>
                  <a:lnTo>
                    <a:pt x="1887" y="6995"/>
                  </a:lnTo>
                  <a:lnTo>
                    <a:pt x="1897" y="7010"/>
                  </a:lnTo>
                  <a:lnTo>
                    <a:pt x="1902" y="7031"/>
                  </a:lnTo>
                  <a:lnTo>
                    <a:pt x="1897" y="7063"/>
                  </a:lnTo>
                  <a:lnTo>
                    <a:pt x="1887" y="7100"/>
                  </a:lnTo>
                  <a:lnTo>
                    <a:pt x="1866" y="7130"/>
                  </a:lnTo>
                  <a:lnTo>
                    <a:pt x="1845" y="7162"/>
                  </a:lnTo>
                  <a:lnTo>
                    <a:pt x="1804" y="7208"/>
                  </a:lnTo>
                  <a:lnTo>
                    <a:pt x="1782" y="7224"/>
                  </a:lnTo>
                  <a:lnTo>
                    <a:pt x="1076" y="9108"/>
                  </a:lnTo>
                  <a:lnTo>
                    <a:pt x="571" y="11174"/>
                  </a:lnTo>
                  <a:lnTo>
                    <a:pt x="582" y="11201"/>
                  </a:lnTo>
                  <a:lnTo>
                    <a:pt x="587" y="11243"/>
                  </a:lnTo>
                  <a:lnTo>
                    <a:pt x="582" y="11294"/>
                  </a:lnTo>
                  <a:lnTo>
                    <a:pt x="571" y="11331"/>
                  </a:lnTo>
                  <a:lnTo>
                    <a:pt x="550" y="11378"/>
                  </a:lnTo>
                  <a:lnTo>
                    <a:pt x="487" y="11492"/>
                  </a:lnTo>
                  <a:lnTo>
                    <a:pt x="457" y="11550"/>
                  </a:lnTo>
                  <a:lnTo>
                    <a:pt x="431" y="11606"/>
                  </a:lnTo>
                  <a:lnTo>
                    <a:pt x="410" y="11658"/>
                  </a:lnTo>
                  <a:lnTo>
                    <a:pt x="405" y="11695"/>
                  </a:lnTo>
                  <a:lnTo>
                    <a:pt x="399" y="11737"/>
                  </a:lnTo>
                  <a:lnTo>
                    <a:pt x="389" y="11783"/>
                  </a:lnTo>
                  <a:lnTo>
                    <a:pt x="352" y="11898"/>
                  </a:lnTo>
                  <a:lnTo>
                    <a:pt x="312" y="12018"/>
                  </a:lnTo>
                  <a:lnTo>
                    <a:pt x="259" y="12122"/>
                  </a:lnTo>
                  <a:lnTo>
                    <a:pt x="197" y="12220"/>
                  </a:lnTo>
                  <a:lnTo>
                    <a:pt x="113" y="12330"/>
                  </a:lnTo>
                  <a:lnTo>
                    <a:pt x="77" y="12377"/>
                  </a:lnTo>
                  <a:lnTo>
                    <a:pt x="40" y="12408"/>
                  </a:lnTo>
                  <a:lnTo>
                    <a:pt x="25" y="12419"/>
                  </a:lnTo>
                  <a:lnTo>
                    <a:pt x="15" y="12419"/>
                  </a:lnTo>
                  <a:lnTo>
                    <a:pt x="5" y="12419"/>
                  </a:lnTo>
                  <a:lnTo>
                    <a:pt x="0" y="12413"/>
                  </a:lnTo>
                  <a:lnTo>
                    <a:pt x="0" y="12397"/>
                  </a:lnTo>
                  <a:lnTo>
                    <a:pt x="0" y="12377"/>
                  </a:lnTo>
                  <a:lnTo>
                    <a:pt x="10" y="12320"/>
                  </a:lnTo>
                  <a:lnTo>
                    <a:pt x="40" y="12185"/>
                  </a:lnTo>
                  <a:lnTo>
                    <a:pt x="82" y="12055"/>
                  </a:lnTo>
                  <a:lnTo>
                    <a:pt x="103" y="11997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194"/>
            <p:cNvSpPr/>
            <p:nvPr/>
          </p:nvSpPr>
          <p:spPr>
            <a:xfrm flipH="1" rot="4059600">
              <a:off x="25920" y="1097640"/>
              <a:ext cx="24120" cy="67680"/>
            </a:xfrm>
            <a:custGeom>
              <a:avLst/>
              <a:gdLst>
                <a:gd name="textAreaLeft" fmla="*/ -360 w 24120"/>
                <a:gd name="textAreaRight" fmla="*/ 24120 w 241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297" h="479">
                  <a:moveTo>
                    <a:pt x="265" y="0"/>
                  </a:moveTo>
                  <a:lnTo>
                    <a:pt x="249" y="5"/>
                  </a:lnTo>
                  <a:lnTo>
                    <a:pt x="228" y="10"/>
                  </a:lnTo>
                  <a:lnTo>
                    <a:pt x="202" y="22"/>
                  </a:lnTo>
                  <a:lnTo>
                    <a:pt x="177" y="37"/>
                  </a:lnTo>
                  <a:lnTo>
                    <a:pt x="145" y="57"/>
                  </a:lnTo>
                  <a:lnTo>
                    <a:pt x="120" y="89"/>
                  </a:lnTo>
                  <a:lnTo>
                    <a:pt x="93" y="130"/>
                  </a:lnTo>
                  <a:lnTo>
                    <a:pt x="73" y="182"/>
                  </a:lnTo>
                  <a:lnTo>
                    <a:pt x="52" y="245"/>
                  </a:lnTo>
                  <a:lnTo>
                    <a:pt x="31" y="312"/>
                  </a:lnTo>
                  <a:lnTo>
                    <a:pt x="10" y="375"/>
                  </a:lnTo>
                  <a:lnTo>
                    <a:pt x="5" y="427"/>
                  </a:lnTo>
                  <a:lnTo>
                    <a:pt x="0" y="464"/>
                  </a:lnTo>
                  <a:lnTo>
                    <a:pt x="5" y="474"/>
                  </a:lnTo>
                  <a:lnTo>
                    <a:pt x="10" y="479"/>
                  </a:lnTo>
                  <a:lnTo>
                    <a:pt x="20" y="474"/>
                  </a:lnTo>
                  <a:lnTo>
                    <a:pt x="36" y="464"/>
                  </a:lnTo>
                  <a:lnTo>
                    <a:pt x="73" y="422"/>
                  </a:lnTo>
                  <a:lnTo>
                    <a:pt x="125" y="359"/>
                  </a:lnTo>
                  <a:lnTo>
                    <a:pt x="177" y="282"/>
                  </a:lnTo>
                  <a:lnTo>
                    <a:pt x="228" y="204"/>
                  </a:lnTo>
                  <a:lnTo>
                    <a:pt x="270" y="125"/>
                  </a:lnTo>
                  <a:lnTo>
                    <a:pt x="280" y="89"/>
                  </a:lnTo>
                  <a:lnTo>
                    <a:pt x="290" y="63"/>
                  </a:lnTo>
                  <a:lnTo>
                    <a:pt x="297" y="37"/>
                  </a:lnTo>
                  <a:lnTo>
                    <a:pt x="297" y="16"/>
                  </a:lnTo>
                  <a:lnTo>
                    <a:pt x="285" y="5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6" name="Group 950"/>
            <p:cNvGrpSpPr/>
            <p:nvPr/>
          </p:nvGrpSpPr>
          <p:grpSpPr>
            <a:xfrm>
              <a:off x="-126720" y="941040"/>
              <a:ext cx="668160" cy="654480"/>
              <a:chOff x="-126720" y="941040"/>
              <a:chExt cx="668160" cy="654480"/>
            </a:xfrm>
          </p:grpSpPr>
          <p:grpSp>
            <p:nvGrpSpPr>
              <p:cNvPr id="1037" name="Group 951"/>
              <p:cNvGrpSpPr/>
              <p:nvPr/>
            </p:nvGrpSpPr>
            <p:grpSpPr>
              <a:xfrm>
                <a:off x="-126720" y="985320"/>
                <a:ext cx="668160" cy="610200"/>
                <a:chOff x="-126720" y="985320"/>
                <a:chExt cx="668160" cy="610200"/>
              </a:xfrm>
            </p:grpSpPr>
            <p:sp>
              <p:nvSpPr>
                <p:cNvPr id="1038" name="Freeform 1197"/>
                <p:cNvSpPr/>
                <p:nvPr/>
              </p:nvSpPr>
              <p:spPr>
                <a:xfrm flipH="1" rot="3919200">
                  <a:off x="39600" y="1031040"/>
                  <a:ext cx="334800" cy="581400"/>
                </a:xfrm>
                <a:custGeom>
                  <a:avLst/>
                  <a:gdLst>
                    <a:gd name="textAreaLeft" fmla="*/ 360 w 334800"/>
                    <a:gd name="textAreaRight" fmla="*/ 335520 w 334800"/>
                    <a:gd name="textAreaTop" fmla="*/ 0 h 581400"/>
                    <a:gd name="textAreaBottom" fmla="*/ 581760 h 58140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Freeform 1198"/>
                <p:cNvSpPr/>
                <p:nvPr/>
              </p:nvSpPr>
              <p:spPr>
                <a:xfrm flipH="1" rot="3919200">
                  <a:off x="78840" y="1162080"/>
                  <a:ext cx="284040" cy="276120"/>
                </a:xfrm>
                <a:custGeom>
                  <a:avLst/>
                  <a:gdLst>
                    <a:gd name="textAreaLeft" fmla="*/ -360 w 284040"/>
                    <a:gd name="textAreaRight" fmla="*/ 284040 w 284040"/>
                    <a:gd name="textAreaTop" fmla="*/ 0 h 276120"/>
                    <a:gd name="textAreaBottom" fmla="*/ 276480 h 27612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Freeform 1199"/>
                <p:cNvSpPr/>
                <p:nvPr/>
              </p:nvSpPr>
              <p:spPr>
                <a:xfrm flipH="1" rot="3919200">
                  <a:off x="16200" y="1073160"/>
                  <a:ext cx="413640" cy="343440"/>
                </a:xfrm>
                <a:custGeom>
                  <a:avLst/>
                  <a:gdLst>
                    <a:gd name="textAreaLeft" fmla="*/ -360 w 413640"/>
                    <a:gd name="textAreaRight" fmla="*/ 413640 w 413640"/>
                    <a:gd name="textAreaTop" fmla="*/ 0 h 343440"/>
                    <a:gd name="textAreaBottom" fmla="*/ 343800 h 34344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Freeform 1200"/>
                <p:cNvSpPr/>
                <p:nvPr/>
              </p:nvSpPr>
              <p:spPr>
                <a:xfrm flipH="1" rot="3919200">
                  <a:off x="164520" y="1327320"/>
                  <a:ext cx="134280" cy="33840"/>
                </a:xfrm>
                <a:custGeom>
                  <a:avLst/>
                  <a:gdLst>
                    <a:gd name="textAreaLeft" fmla="*/ -360 w 134280"/>
                    <a:gd name="textAreaRight" fmla="*/ 134280 w 1342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1201"/>
                <p:cNvSpPr/>
                <p:nvPr/>
              </p:nvSpPr>
              <p:spPr>
                <a:xfrm flipH="1" rot="3919200">
                  <a:off x="219960" y="1199520"/>
                  <a:ext cx="173520" cy="127080"/>
                </a:xfrm>
                <a:custGeom>
                  <a:avLst/>
                  <a:gdLst>
                    <a:gd name="textAreaLeft" fmla="*/ 360 w 173520"/>
                    <a:gd name="textAreaRight" fmla="*/ 174240 w 173520"/>
                    <a:gd name="textAreaTop" fmla="*/ 0 h 127080"/>
                    <a:gd name="textAreaBottom" fmla="*/ 127440 h 12708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1202"/>
                <p:cNvSpPr/>
                <p:nvPr/>
              </p:nvSpPr>
              <p:spPr>
                <a:xfrm flipH="1" rot="3919200">
                  <a:off x="252360" y="1125720"/>
                  <a:ext cx="191520" cy="167760"/>
                </a:xfrm>
                <a:custGeom>
                  <a:avLst/>
                  <a:gdLst>
                    <a:gd name="textAreaLeft" fmla="*/ 360 w 191520"/>
                    <a:gd name="textAreaRight" fmla="*/ 192240 w 191520"/>
                    <a:gd name="textAreaTop" fmla="*/ 0 h 167760"/>
                    <a:gd name="textAreaBottom" fmla="*/ 168120 h 16776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1203"/>
                <p:cNvSpPr/>
                <p:nvPr/>
              </p:nvSpPr>
              <p:spPr>
                <a:xfrm flipH="1" rot="3919200">
                  <a:off x="159840" y="1388160"/>
                  <a:ext cx="79560" cy="21600"/>
                </a:xfrm>
                <a:custGeom>
                  <a:avLst/>
                  <a:gdLst>
                    <a:gd name="textAreaLeft" fmla="*/ -360 w 79560"/>
                    <a:gd name="textAreaRight" fmla="*/ 79560 w 7956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1204"/>
                <p:cNvSpPr/>
                <p:nvPr/>
              </p:nvSpPr>
              <p:spPr>
                <a:xfrm flipH="1" rot="3919200">
                  <a:off x="155160" y="1446480"/>
                  <a:ext cx="41400" cy="8640"/>
                </a:xfrm>
                <a:custGeom>
                  <a:avLst/>
                  <a:gdLst>
                    <a:gd name="textAreaLeft" fmla="*/ -360 w 41400"/>
                    <a:gd name="textAreaRight" fmla="*/ 41400 w 4140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1205"/>
                <p:cNvSpPr/>
                <p:nvPr/>
              </p:nvSpPr>
              <p:spPr>
                <a:xfrm flipH="1" rot="3919200">
                  <a:off x="130680" y="1418400"/>
                  <a:ext cx="30240" cy="59400"/>
                </a:xfrm>
                <a:custGeom>
                  <a:avLst/>
                  <a:gdLst>
                    <a:gd name="textAreaLeft" fmla="*/ 360 w 30240"/>
                    <a:gd name="textAreaRight" fmla="*/ 30960 w 30240"/>
                    <a:gd name="textAreaTop" fmla="*/ 0 h 59400"/>
                    <a:gd name="textAreaBottom" fmla="*/ 59760 h 5940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1206"/>
                <p:cNvSpPr/>
                <p:nvPr/>
              </p:nvSpPr>
              <p:spPr>
                <a:xfrm flipH="1" rot="3919200">
                  <a:off x="110880" y="1357560"/>
                  <a:ext cx="52920" cy="110160"/>
                </a:xfrm>
                <a:custGeom>
                  <a:avLst/>
                  <a:gdLst>
                    <a:gd name="textAreaLeft" fmla="*/ -360 w 52920"/>
                    <a:gd name="textAreaRight" fmla="*/ 52920 w 52920"/>
                    <a:gd name="textAreaTop" fmla="*/ 0 h 110160"/>
                    <a:gd name="textAreaBottom" fmla="*/ 110520 h 11016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1207"/>
                <p:cNvSpPr/>
                <p:nvPr/>
              </p:nvSpPr>
              <p:spPr>
                <a:xfrm flipH="1" rot="3919200">
                  <a:off x="81360" y="1265040"/>
                  <a:ext cx="84960" cy="192960"/>
                </a:xfrm>
                <a:custGeom>
                  <a:avLst/>
                  <a:gdLst>
                    <a:gd name="textAreaLeft" fmla="*/ 360 w 84960"/>
                    <a:gd name="textAreaRight" fmla="*/ 85680 w 84960"/>
                    <a:gd name="textAreaTop" fmla="*/ 0 h 192960"/>
                    <a:gd name="textAreaBottom" fmla="*/ 193320 h 19296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Freeform 1208"/>
                <p:cNvSpPr/>
                <p:nvPr/>
              </p:nvSpPr>
              <p:spPr>
                <a:xfrm flipH="1" rot="3919200">
                  <a:off x="59760" y="1166040"/>
                  <a:ext cx="91440" cy="282600"/>
                </a:xfrm>
                <a:custGeom>
                  <a:avLst/>
                  <a:gdLst>
                    <a:gd name="textAreaLeft" fmla="*/ 360 w 91440"/>
                    <a:gd name="textAreaRight" fmla="*/ 92160 w 9144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Freeform 1209"/>
                <p:cNvSpPr/>
                <p:nvPr/>
              </p:nvSpPr>
              <p:spPr>
                <a:xfrm flipH="1" rot="3919200">
                  <a:off x="18720" y="1290600"/>
                  <a:ext cx="9720" cy="11268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Freeform 1210"/>
                <p:cNvSpPr/>
                <p:nvPr/>
              </p:nvSpPr>
              <p:spPr>
                <a:xfrm flipH="1" rot="3919200">
                  <a:off x="58680" y="1076400"/>
                  <a:ext cx="63000" cy="347760"/>
                </a:xfrm>
                <a:custGeom>
                  <a:avLst/>
                  <a:gdLst>
                    <a:gd name="textAreaLeft" fmla="*/ -360 w 63000"/>
                    <a:gd name="textAreaRight" fmla="*/ 63000 w 63000"/>
                    <a:gd name="textAreaTop" fmla="*/ 0 h 347760"/>
                    <a:gd name="textAreaBottom" fmla="*/ 348120 h 34776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Freeform 1211"/>
                <p:cNvSpPr/>
                <p:nvPr/>
              </p:nvSpPr>
              <p:spPr>
                <a:xfrm flipH="1" rot="3919200">
                  <a:off x="89280" y="1281600"/>
                  <a:ext cx="46800" cy="55080"/>
                </a:xfrm>
                <a:custGeom>
                  <a:avLst/>
                  <a:gdLst>
                    <a:gd name="textAreaLeft" fmla="*/ 360 w 46800"/>
                    <a:gd name="textAreaRight" fmla="*/ 47520 w 46800"/>
                    <a:gd name="textAreaTop" fmla="*/ 0 h 55080"/>
                    <a:gd name="textAreaBottom" fmla="*/ 55440 h 5508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Freeform 1212"/>
                <p:cNvSpPr/>
                <p:nvPr/>
              </p:nvSpPr>
              <p:spPr>
                <a:xfrm flipH="1" rot="3919200">
                  <a:off x="61560" y="1351800"/>
                  <a:ext cx="22680" cy="88920"/>
                </a:xfrm>
                <a:custGeom>
                  <a:avLst/>
                  <a:gdLst>
                    <a:gd name="textAreaLeft" fmla="*/ -360 w 22680"/>
                    <a:gd name="textAreaRight" fmla="*/ 22680 w 2268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Freeform 1213"/>
                <p:cNvSpPr/>
                <p:nvPr/>
              </p:nvSpPr>
              <p:spPr>
                <a:xfrm flipH="1" rot="3919200">
                  <a:off x="213120" y="1351080"/>
                  <a:ext cx="48960" cy="19080"/>
                </a:xfrm>
                <a:custGeom>
                  <a:avLst/>
                  <a:gdLst>
                    <a:gd name="textAreaLeft" fmla="*/ 360 w 48960"/>
                    <a:gd name="textAreaRight" fmla="*/ 49680 w 4896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Freeform 1214"/>
                <p:cNvSpPr/>
                <p:nvPr/>
              </p:nvSpPr>
              <p:spPr>
                <a:xfrm flipH="1" rot="3919200">
                  <a:off x="259200" y="1343160"/>
                  <a:ext cx="30240" cy="33840"/>
                </a:xfrm>
                <a:custGeom>
                  <a:avLst/>
                  <a:gdLst>
                    <a:gd name="textAreaLeft" fmla="*/ 360 w 30240"/>
                    <a:gd name="textAreaRight" fmla="*/ 30960 w 3024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Freeform 1215"/>
                <p:cNvSpPr/>
                <p:nvPr/>
              </p:nvSpPr>
              <p:spPr>
                <a:xfrm flipH="1" rot="3919200">
                  <a:off x="73440" y="1342440"/>
                  <a:ext cx="9720" cy="2124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1216"/>
                <p:cNvSpPr/>
                <p:nvPr/>
              </p:nvSpPr>
              <p:spPr>
                <a:xfrm flipH="1" rot="3919200">
                  <a:off x="292680" y="1313280"/>
                  <a:ext cx="8640" cy="12240"/>
                </a:xfrm>
                <a:custGeom>
                  <a:avLst/>
                  <a:gdLst>
                    <a:gd name="textAreaLeft" fmla="*/ 360 w 8640"/>
                    <a:gd name="textAreaRight" fmla="*/ 9360 w 86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Freeform 1217"/>
                <p:cNvSpPr/>
                <p:nvPr/>
              </p:nvSpPr>
              <p:spPr>
                <a:xfrm flipH="1" rot="3919200">
                  <a:off x="343440" y="1250280"/>
                  <a:ext cx="9720" cy="1656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16560"/>
                    <a:gd name="textAreaBottom" fmla="*/ 16920 h 1656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Freeform 1218"/>
                <p:cNvSpPr/>
                <p:nvPr/>
              </p:nvSpPr>
              <p:spPr>
                <a:xfrm flipH="1" rot="3919200">
                  <a:off x="240120" y="1413360"/>
                  <a:ext cx="7560" cy="7920"/>
                </a:xfrm>
                <a:custGeom>
                  <a:avLst/>
                  <a:gdLst>
                    <a:gd name="textAreaLeft" fmla="*/ -360 w 7560"/>
                    <a:gd name="textAreaRight" fmla="*/ 7560 w 756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0" name="Group 974"/>
              <p:cNvGrpSpPr/>
              <p:nvPr/>
            </p:nvGrpSpPr>
            <p:grpSpPr>
              <a:xfrm>
                <a:off x="282600" y="941040"/>
                <a:ext cx="59760" cy="58680"/>
                <a:chOff x="282600" y="941040"/>
                <a:chExt cx="59760" cy="58680"/>
              </a:xfrm>
            </p:grpSpPr>
            <p:sp>
              <p:nvSpPr>
                <p:cNvPr id="1061" name="Freeform 1220"/>
                <p:cNvSpPr/>
                <p:nvPr/>
              </p:nvSpPr>
              <p:spPr>
                <a:xfrm flipH="1" rot="8284200">
                  <a:off x="288000" y="952560"/>
                  <a:ext cx="48600" cy="35280"/>
                </a:xfrm>
                <a:custGeom>
                  <a:avLst/>
                  <a:gdLst>
                    <a:gd name="textAreaLeft" fmla="*/ -360 w 48600"/>
                    <a:gd name="textAreaRight" fmla="*/ 48600 w 48600"/>
                    <a:gd name="textAreaTop" fmla="*/ 0 h 35280"/>
                    <a:gd name="textAreaBottom" fmla="*/ 35640 h 3528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1221"/>
                <p:cNvSpPr/>
                <p:nvPr/>
              </p:nvSpPr>
              <p:spPr>
                <a:xfrm flipH="1" rot="11931000">
                  <a:off x="294480" y="960480"/>
                  <a:ext cx="18000" cy="29520"/>
                </a:xfrm>
                <a:custGeom>
                  <a:avLst/>
                  <a:gdLst>
                    <a:gd name="textAreaLeft" fmla="*/ 360 w 18000"/>
                    <a:gd name="textAreaRight" fmla="*/ 18720 w 1800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3" name="Group 977"/>
            <p:cNvGrpSpPr/>
            <p:nvPr/>
          </p:nvGrpSpPr>
          <p:grpSpPr>
            <a:xfrm>
              <a:off x="235440" y="765720"/>
              <a:ext cx="784080" cy="473040"/>
              <a:chOff x="235440" y="765720"/>
              <a:chExt cx="784080" cy="473040"/>
            </a:xfrm>
          </p:grpSpPr>
          <p:grpSp>
            <p:nvGrpSpPr>
              <p:cNvPr id="1064" name="Group 978"/>
              <p:cNvGrpSpPr/>
              <p:nvPr/>
            </p:nvGrpSpPr>
            <p:grpSpPr>
              <a:xfrm>
                <a:off x="235440" y="765720"/>
                <a:ext cx="784080" cy="473040"/>
                <a:chOff x="235440" y="765720"/>
                <a:chExt cx="784080" cy="473040"/>
              </a:xfrm>
            </p:grpSpPr>
            <p:sp>
              <p:nvSpPr>
                <p:cNvPr id="1065" name="Freeform 1224"/>
                <p:cNvSpPr/>
                <p:nvPr/>
              </p:nvSpPr>
              <p:spPr>
                <a:xfrm flipH="1" rot="20756400">
                  <a:off x="425520" y="828360"/>
                  <a:ext cx="560160" cy="347400"/>
                </a:xfrm>
                <a:custGeom>
                  <a:avLst/>
                  <a:gdLst>
                    <a:gd name="textAreaLeft" fmla="*/ 360 w 560160"/>
                    <a:gd name="textAreaRight" fmla="*/ 560880 w 560160"/>
                    <a:gd name="textAreaTop" fmla="*/ 0 h 347400"/>
                    <a:gd name="textAreaBottom" fmla="*/ 347760 h 34740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1225"/>
                <p:cNvSpPr/>
                <p:nvPr/>
              </p:nvSpPr>
              <p:spPr>
                <a:xfrm flipH="1" rot="20756400">
                  <a:off x="442440" y="912960"/>
                  <a:ext cx="474480" cy="165240"/>
                </a:xfrm>
                <a:custGeom>
                  <a:avLst/>
                  <a:gdLst>
                    <a:gd name="textAreaLeft" fmla="*/ 360 w 474480"/>
                    <a:gd name="textAreaRight" fmla="*/ 475200 w 474480"/>
                    <a:gd name="textAreaTop" fmla="*/ 0 h 165240"/>
                    <a:gd name="textAreaBottom" fmla="*/ 165600 h 16524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Freeform 1226"/>
                <p:cNvSpPr/>
                <p:nvPr/>
              </p:nvSpPr>
              <p:spPr>
                <a:xfrm flipH="1" rot="20756400">
                  <a:off x="249840" y="897840"/>
                  <a:ext cx="691560" cy="205200"/>
                </a:xfrm>
                <a:custGeom>
                  <a:avLst/>
                  <a:gdLst>
                    <a:gd name="textAreaLeft" fmla="*/ -360 w 691560"/>
                    <a:gd name="textAreaRight" fmla="*/ 691560 w 691560"/>
                    <a:gd name="textAreaTop" fmla="*/ 0 h 205200"/>
                    <a:gd name="textAreaBottom" fmla="*/ 205560 h 20520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Freeform 1227"/>
                <p:cNvSpPr/>
                <p:nvPr/>
              </p:nvSpPr>
              <p:spPr>
                <a:xfrm flipH="1" rot="20756400">
                  <a:off x="640440" y="972360"/>
                  <a:ext cx="224640" cy="20160"/>
                </a:xfrm>
                <a:custGeom>
                  <a:avLst/>
                  <a:gdLst>
                    <a:gd name="textAreaLeft" fmla="*/ 360 w 224640"/>
                    <a:gd name="textAreaRight" fmla="*/ 225360 w 224640"/>
                    <a:gd name="textAreaTop" fmla="*/ 0 h 20160"/>
                    <a:gd name="textAreaBottom" fmla="*/ 20520 h 2016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Freeform 1228"/>
                <p:cNvSpPr/>
                <p:nvPr/>
              </p:nvSpPr>
              <p:spPr>
                <a:xfrm flipH="1" rot="20756400">
                  <a:off x="523440" y="902160"/>
                  <a:ext cx="290520" cy="75600"/>
                </a:xfrm>
                <a:custGeom>
                  <a:avLst/>
                  <a:gdLst>
                    <a:gd name="textAreaLeft" fmla="*/ -360 w 290520"/>
                    <a:gd name="textAreaRight" fmla="*/ 290520 w 290520"/>
                    <a:gd name="textAreaTop" fmla="*/ 0 h 75600"/>
                    <a:gd name="textAreaBottom" fmla="*/ 75960 h 7560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1229"/>
                <p:cNvSpPr/>
                <p:nvPr/>
              </p:nvSpPr>
              <p:spPr>
                <a:xfrm flipH="1" rot="20756400">
                  <a:off x="448200" y="867960"/>
                  <a:ext cx="320400" cy="100080"/>
                </a:xfrm>
                <a:custGeom>
                  <a:avLst/>
                  <a:gdLst>
                    <a:gd name="textAreaLeft" fmla="*/ 360 w 320400"/>
                    <a:gd name="textAreaRight" fmla="*/ 321120 w 3204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Freeform 1230"/>
                <p:cNvSpPr/>
                <p:nvPr/>
              </p:nvSpPr>
              <p:spPr>
                <a:xfrm flipH="1" rot="20756400">
                  <a:off x="752040" y="990720"/>
                  <a:ext cx="133200" cy="12600"/>
                </a:xfrm>
                <a:custGeom>
                  <a:avLst/>
                  <a:gdLst>
                    <a:gd name="textAreaLeft" fmla="*/ 360 w 133200"/>
                    <a:gd name="textAreaRight" fmla="*/ 133920 w 1332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Freeform 1231"/>
                <p:cNvSpPr/>
                <p:nvPr/>
              </p:nvSpPr>
              <p:spPr>
                <a:xfrm flipH="1" rot="20756400">
                  <a:off x="850680" y="1005480"/>
                  <a:ext cx="69480" cy="4680"/>
                </a:xfrm>
                <a:custGeom>
                  <a:avLst/>
                  <a:gdLst>
                    <a:gd name="textAreaLeft" fmla="*/ -360 w 69480"/>
                    <a:gd name="textAreaRight" fmla="*/ 69480 w 6948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Freeform 1232"/>
                <p:cNvSpPr/>
                <p:nvPr/>
              </p:nvSpPr>
              <p:spPr>
                <a:xfrm flipH="1" rot="20756400">
                  <a:off x="839520" y="1010880"/>
                  <a:ext cx="50760" cy="35640"/>
                </a:xfrm>
                <a:custGeom>
                  <a:avLst/>
                  <a:gdLst>
                    <a:gd name="textAreaLeft" fmla="*/ -360 w 50760"/>
                    <a:gd name="textAreaRight" fmla="*/ 50760 w 5076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Freeform 1233"/>
                <p:cNvSpPr/>
                <p:nvPr/>
              </p:nvSpPr>
              <p:spPr>
                <a:xfrm flipH="1" rot="20756400">
                  <a:off x="762120" y="1006920"/>
                  <a:ext cx="88920" cy="65880"/>
                </a:xfrm>
                <a:custGeom>
                  <a:avLst/>
                  <a:gdLst>
                    <a:gd name="textAreaLeft" fmla="*/ -360 w 88920"/>
                    <a:gd name="textAreaRight" fmla="*/ 88920 w 88920"/>
                    <a:gd name="textAreaTop" fmla="*/ 0 h 65880"/>
                    <a:gd name="textAreaBottom" fmla="*/ 66240 h 6588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Freeform 1234"/>
                <p:cNvSpPr/>
                <p:nvPr/>
              </p:nvSpPr>
              <p:spPr>
                <a:xfrm flipH="1" rot="20756400">
                  <a:off x="648360" y="997560"/>
                  <a:ext cx="142200" cy="115560"/>
                </a:xfrm>
                <a:custGeom>
                  <a:avLst/>
                  <a:gdLst>
                    <a:gd name="textAreaLeft" fmla="*/ -360 w 142200"/>
                    <a:gd name="textAreaRight" fmla="*/ 142200 w 142200"/>
                    <a:gd name="textAreaTop" fmla="*/ 0 h 115560"/>
                    <a:gd name="textAreaBottom" fmla="*/ 115920 h 11556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Freeform 1235"/>
                <p:cNvSpPr/>
                <p:nvPr/>
              </p:nvSpPr>
              <p:spPr>
                <a:xfrm flipH="1" rot="20756400">
                  <a:off x="551160" y="989640"/>
                  <a:ext cx="153000" cy="168840"/>
                </a:xfrm>
                <a:custGeom>
                  <a:avLst/>
                  <a:gdLst>
                    <a:gd name="textAreaLeft" fmla="*/ -360 w 153000"/>
                    <a:gd name="textAreaRight" fmla="*/ 153000 w 153000"/>
                    <a:gd name="textAreaTop" fmla="*/ 0 h 168840"/>
                    <a:gd name="textAreaBottom" fmla="*/ 169200 h 16884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Freeform 1236"/>
                <p:cNvSpPr/>
                <p:nvPr/>
              </p:nvSpPr>
              <p:spPr>
                <a:xfrm flipH="1" rot="20756400">
                  <a:off x="635400" y="1092600"/>
                  <a:ext cx="16560" cy="67320"/>
                </a:xfrm>
                <a:custGeom>
                  <a:avLst/>
                  <a:gdLst>
                    <a:gd name="textAreaLeft" fmla="*/ 360 w 16560"/>
                    <a:gd name="textAreaRight" fmla="*/ 17280 w 16560"/>
                    <a:gd name="textAreaTop" fmla="*/ 0 h 67320"/>
                    <a:gd name="textAreaBottom" fmla="*/ 67680 h 6732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Freeform 1237"/>
                <p:cNvSpPr/>
                <p:nvPr/>
              </p:nvSpPr>
              <p:spPr>
                <a:xfrm flipH="1" rot="20756400">
                  <a:off x="478080" y="988560"/>
                  <a:ext cx="105840" cy="207720"/>
                </a:xfrm>
                <a:custGeom>
                  <a:avLst/>
                  <a:gdLst>
                    <a:gd name="textAreaLeft" fmla="*/ 360 w 105840"/>
                    <a:gd name="textAreaRight" fmla="*/ 106560 w 105840"/>
                    <a:gd name="textAreaTop" fmla="*/ 0 h 207720"/>
                    <a:gd name="textAreaBottom" fmla="*/ 208080 h 20772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Freeform 1238"/>
                <p:cNvSpPr/>
                <p:nvPr/>
              </p:nvSpPr>
              <p:spPr>
                <a:xfrm flipH="1" rot="20756400">
                  <a:off x="594720" y="1053360"/>
                  <a:ext cx="78120" cy="32760"/>
                </a:xfrm>
                <a:custGeom>
                  <a:avLst/>
                  <a:gdLst>
                    <a:gd name="textAreaLeft" fmla="*/ -360 w 78120"/>
                    <a:gd name="textAreaRight" fmla="*/ 78120 w 7812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Freeform 1239"/>
                <p:cNvSpPr/>
                <p:nvPr/>
              </p:nvSpPr>
              <p:spPr>
                <a:xfrm flipH="1" rot="20756400">
                  <a:off x="727200" y="1059120"/>
                  <a:ext cx="37800" cy="52560"/>
                </a:xfrm>
                <a:custGeom>
                  <a:avLst/>
                  <a:gdLst>
                    <a:gd name="textAreaLeft" fmla="*/ -360 w 37800"/>
                    <a:gd name="textAreaRight" fmla="*/ 37800 w 378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1240"/>
                <p:cNvSpPr/>
                <p:nvPr/>
              </p:nvSpPr>
              <p:spPr>
                <a:xfrm flipH="1" rot="20756400">
                  <a:off x="739440" y="970560"/>
                  <a:ext cx="82440" cy="11160"/>
                </a:xfrm>
                <a:custGeom>
                  <a:avLst/>
                  <a:gdLst>
                    <a:gd name="textAreaLeft" fmla="*/ -360 w 82440"/>
                    <a:gd name="textAreaRight" fmla="*/ 82440 w 824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1241"/>
                <p:cNvSpPr/>
                <p:nvPr/>
              </p:nvSpPr>
              <p:spPr>
                <a:xfrm flipH="1" rot="20756400">
                  <a:off x="774000" y="941040"/>
                  <a:ext cx="50760" cy="20520"/>
                </a:xfrm>
                <a:custGeom>
                  <a:avLst/>
                  <a:gdLst>
                    <a:gd name="textAreaLeft" fmla="*/ -360 w 50760"/>
                    <a:gd name="textAreaRight" fmla="*/ 50760 w 507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1242"/>
                <p:cNvSpPr/>
                <p:nvPr/>
              </p:nvSpPr>
              <p:spPr>
                <a:xfrm flipH="1" rot="20756400">
                  <a:off x="673920" y="1081080"/>
                  <a:ext cx="16560" cy="12600"/>
                </a:xfrm>
                <a:custGeom>
                  <a:avLst/>
                  <a:gdLst>
                    <a:gd name="textAreaLeft" fmla="*/ 360 w 16560"/>
                    <a:gd name="textAreaRight" fmla="*/ 17280 w 165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1243"/>
                <p:cNvSpPr/>
                <p:nvPr/>
              </p:nvSpPr>
              <p:spPr>
                <a:xfrm flipH="1" rot="20756400">
                  <a:off x="742320" y="936000"/>
                  <a:ext cx="14760" cy="7200"/>
                </a:xfrm>
                <a:custGeom>
                  <a:avLst/>
                  <a:gdLst>
                    <a:gd name="textAreaLeft" fmla="*/ -360 w 14760"/>
                    <a:gd name="textAreaRight" fmla="*/ 14760 w 147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1244"/>
                <p:cNvSpPr/>
                <p:nvPr/>
              </p:nvSpPr>
              <p:spPr>
                <a:xfrm flipH="1" rot="20756400">
                  <a:off x="676080" y="906840"/>
                  <a:ext cx="16560" cy="9720"/>
                </a:xfrm>
                <a:custGeom>
                  <a:avLst/>
                  <a:gdLst>
                    <a:gd name="textAreaLeft" fmla="*/ 360 w 16560"/>
                    <a:gd name="textAreaRight" fmla="*/ 17280 w 1656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1245"/>
                <p:cNvSpPr/>
                <p:nvPr/>
              </p:nvSpPr>
              <p:spPr>
                <a:xfrm flipH="1" rot="20756400">
                  <a:off x="864360" y="962280"/>
                  <a:ext cx="12960" cy="432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7" name="Group 1001"/>
              <p:cNvGrpSpPr/>
              <p:nvPr/>
            </p:nvGrpSpPr>
            <p:grpSpPr>
              <a:xfrm>
                <a:off x="292320" y="967320"/>
                <a:ext cx="65520" cy="55440"/>
                <a:chOff x="292320" y="967320"/>
                <a:chExt cx="65520" cy="55440"/>
              </a:xfrm>
            </p:grpSpPr>
            <p:sp>
              <p:nvSpPr>
                <p:cNvPr id="1088" name="Freeform 1247"/>
                <p:cNvSpPr/>
                <p:nvPr/>
              </p:nvSpPr>
              <p:spPr>
                <a:xfrm flipH="1" rot="3520800">
                  <a:off x="310320" y="965520"/>
                  <a:ext cx="28800" cy="59040"/>
                </a:xfrm>
                <a:custGeom>
                  <a:avLst/>
                  <a:gdLst>
                    <a:gd name="textAreaLeft" fmla="*/ 360 w 28800"/>
                    <a:gd name="textAreaRight" fmla="*/ 29520 w 288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Freeform 1248"/>
                <p:cNvSpPr/>
                <p:nvPr/>
              </p:nvSpPr>
              <p:spPr>
                <a:xfrm flipH="1" rot="7167600">
                  <a:off x="311400" y="991800"/>
                  <a:ext cx="29880" cy="1764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0" name="Group 1004"/>
            <p:cNvGrpSpPr/>
            <p:nvPr/>
          </p:nvGrpSpPr>
          <p:grpSpPr>
            <a:xfrm>
              <a:off x="-149040" y="268200"/>
              <a:ext cx="1146240" cy="711000"/>
              <a:chOff x="-149040" y="268200"/>
              <a:chExt cx="1146240" cy="711000"/>
            </a:xfrm>
          </p:grpSpPr>
          <p:grpSp>
            <p:nvGrpSpPr>
              <p:cNvPr id="1091" name="Group 1005"/>
              <p:cNvGrpSpPr/>
              <p:nvPr/>
            </p:nvGrpSpPr>
            <p:grpSpPr>
              <a:xfrm>
                <a:off x="-149040" y="468720"/>
                <a:ext cx="633600" cy="510480"/>
                <a:chOff x="-149040" y="468720"/>
                <a:chExt cx="633600" cy="510480"/>
              </a:xfrm>
            </p:grpSpPr>
            <p:grpSp>
              <p:nvGrpSpPr>
                <p:cNvPr id="1092" name="Group 1006"/>
                <p:cNvGrpSpPr/>
                <p:nvPr/>
              </p:nvGrpSpPr>
              <p:grpSpPr>
                <a:xfrm>
                  <a:off x="-149040" y="468720"/>
                  <a:ext cx="617040" cy="510480"/>
                  <a:chOff x="-149040" y="468720"/>
                  <a:chExt cx="617040" cy="510480"/>
                </a:xfrm>
              </p:grpSpPr>
              <p:sp>
                <p:nvSpPr>
                  <p:cNvPr id="1093" name="Freeform 1252"/>
                  <p:cNvSpPr/>
                  <p:nvPr/>
                </p:nvSpPr>
                <p:spPr>
                  <a:xfrm rot="4199400">
                    <a:off x="5400" y="433800"/>
                    <a:ext cx="307440" cy="544680"/>
                  </a:xfrm>
                  <a:custGeom>
                    <a:avLst/>
                    <a:gdLst>
                      <a:gd name="textAreaLeft" fmla="*/ 0 w 307440"/>
                      <a:gd name="textAreaRight" fmla="*/ 307800 w 307440"/>
                      <a:gd name="textAreaTop" fmla="*/ 0 h 544680"/>
                      <a:gd name="textAreaBottom" fmla="*/ 545040 h 544680"/>
                    </a:gdLst>
                    <a:ahLst/>
                    <a:rect l="textAreaLeft" t="textAreaTop" r="textAreaRight" b="textAreaBottom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Freeform 1253"/>
                  <p:cNvSpPr/>
                  <p:nvPr/>
                </p:nvSpPr>
                <p:spPr>
                  <a:xfrm rot="4199400">
                    <a:off x="51840" y="581760"/>
                    <a:ext cx="261000" cy="259200"/>
                  </a:xfrm>
                  <a:custGeom>
                    <a:avLst/>
                    <a:gdLst>
                      <a:gd name="textAreaLeft" fmla="*/ 0 w 261000"/>
                      <a:gd name="textAreaRight" fmla="*/ 261360 w 261000"/>
                      <a:gd name="textAreaTop" fmla="*/ 0 h 259200"/>
                      <a:gd name="textAreaBottom" fmla="*/ 259560 h 259200"/>
                    </a:gdLst>
                    <a:ahLst/>
                    <a:rect l="textAreaLeft" t="textAreaTop" r="textAreaRight" b="textAreaBottom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Freeform 1254"/>
                  <p:cNvSpPr/>
                  <p:nvPr/>
                </p:nvSpPr>
                <p:spPr>
                  <a:xfrm rot="4199400">
                    <a:off x="30960" y="584640"/>
                    <a:ext cx="379800" cy="321840"/>
                  </a:xfrm>
                  <a:custGeom>
                    <a:avLst/>
                    <a:gdLst>
                      <a:gd name="textAreaLeft" fmla="*/ 0 w 379800"/>
                      <a:gd name="textAreaRight" fmla="*/ 380160 w 379800"/>
                      <a:gd name="textAreaTop" fmla="*/ 0 h 321840"/>
                      <a:gd name="textAreaBottom" fmla="*/ 322200 h 321840"/>
                    </a:gdLst>
                    <a:ahLst/>
                    <a:rect l="textAreaLeft" t="textAreaTop" r="textAreaRight" b="textAreaBottom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Freeform 1255"/>
                  <p:cNvSpPr/>
                  <p:nvPr/>
                </p:nvSpPr>
                <p:spPr>
                  <a:xfrm rot="4199400">
                    <a:off x="99720" y="660600"/>
                    <a:ext cx="123480" cy="31680"/>
                  </a:xfrm>
                  <a:custGeom>
                    <a:avLst/>
                    <a:gdLst>
                      <a:gd name="textAreaLeft" fmla="*/ 0 w 123480"/>
                      <a:gd name="textAreaRight" fmla="*/ 123840 w 12348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Freeform 1256"/>
                  <p:cNvSpPr/>
                  <p:nvPr/>
                </p:nvSpPr>
                <p:spPr>
                  <a:xfrm rot="4199400">
                    <a:off x="184320" y="620640"/>
                    <a:ext cx="159480" cy="118800"/>
                  </a:xfrm>
                  <a:custGeom>
                    <a:avLst/>
                    <a:gdLst>
                      <a:gd name="textAreaLeft" fmla="*/ 0 w 159480"/>
                      <a:gd name="textAreaRight" fmla="*/ 159840 w 159480"/>
                      <a:gd name="textAreaTop" fmla="*/ 0 h 118800"/>
                      <a:gd name="textAreaBottom" fmla="*/ 119160 h 118800"/>
                    </a:gdLst>
                    <a:ahLst/>
                    <a:rect l="textAreaLeft" t="textAreaTop" r="textAreaRight" b="textAreaBottom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Freeform 1257"/>
                  <p:cNvSpPr/>
                  <p:nvPr/>
                </p:nvSpPr>
                <p:spPr>
                  <a:xfrm rot="4199400">
                    <a:off x="239400" y="609120"/>
                    <a:ext cx="176040" cy="157680"/>
                  </a:xfrm>
                  <a:custGeom>
                    <a:avLst/>
                    <a:gdLst>
                      <a:gd name="textAreaLeft" fmla="*/ 0 w 176040"/>
                      <a:gd name="textAreaRight" fmla="*/ 176400 w 176040"/>
                      <a:gd name="textAreaTop" fmla="*/ 0 h 157680"/>
                      <a:gd name="textAreaBottom" fmla="*/ 158040 h 157680"/>
                    </a:gdLst>
                    <a:ahLst/>
                    <a:rect l="textAreaLeft" t="textAreaTop" r="textAreaRight" b="textAreaBottom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Freeform 1258"/>
                  <p:cNvSpPr/>
                  <p:nvPr/>
                </p:nvSpPr>
                <p:spPr>
                  <a:xfrm rot="4199400">
                    <a:off x="68400" y="650160"/>
                    <a:ext cx="73080" cy="20160"/>
                  </a:xfrm>
                  <a:custGeom>
                    <a:avLst/>
                    <a:gdLst>
                      <a:gd name="textAreaLeft" fmla="*/ 0 w 73080"/>
                      <a:gd name="textAreaRight" fmla="*/ 73440 w 73080"/>
                      <a:gd name="textAreaTop" fmla="*/ 0 h 20160"/>
                      <a:gd name="textAreaBottom" fmla="*/ 20520 h 20160"/>
                    </a:gdLst>
                    <a:ahLst/>
                    <a:rect l="textAreaLeft" t="textAreaTop" r="textAreaRight" b="textAreaBottom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Freeform 1259"/>
                  <p:cNvSpPr/>
                  <p:nvPr/>
                </p:nvSpPr>
                <p:spPr>
                  <a:xfrm rot="4199400">
                    <a:off x="34920" y="639360"/>
                    <a:ext cx="38160" cy="792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7920"/>
                      <a:gd name="textAreaBottom" fmla="*/ 8280 h 7920"/>
                    </a:gdLst>
                    <a:ahLst/>
                    <a:rect l="textAreaLeft" t="textAreaTop" r="textAreaRight" b="textAreaBottom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Freeform 1260"/>
                  <p:cNvSpPr/>
                  <p:nvPr/>
                </p:nvSpPr>
                <p:spPr>
                  <a:xfrm rot="4199400">
                    <a:off x="22320" y="636120"/>
                    <a:ext cx="27720" cy="55800"/>
                  </a:xfrm>
                  <a:custGeom>
                    <a:avLst/>
                    <a:gdLst>
                      <a:gd name="textAreaLeft" fmla="*/ 0 w 27720"/>
                      <a:gd name="textAreaRight" fmla="*/ 28080 w 27720"/>
                      <a:gd name="textAreaTop" fmla="*/ 0 h 55800"/>
                      <a:gd name="textAreaBottom" fmla="*/ 56160 h 55800"/>
                    </a:gdLst>
                    <a:ahLst/>
                    <a:rect l="textAreaLeft" t="textAreaTop" r="textAreaRight" b="textAreaBottom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Freeform 1261"/>
                  <p:cNvSpPr/>
                  <p:nvPr/>
                </p:nvSpPr>
                <p:spPr>
                  <a:xfrm rot="4199400">
                    <a:off x="29160" y="641160"/>
                    <a:ext cx="48600" cy="102960"/>
                  </a:xfrm>
                  <a:custGeom>
                    <a:avLst/>
                    <a:gdLst>
                      <a:gd name="textAreaLeft" fmla="*/ 0 w 48600"/>
                      <a:gd name="textAreaRight" fmla="*/ 48960 w 48600"/>
                      <a:gd name="textAreaTop" fmla="*/ 0 h 102960"/>
                      <a:gd name="textAreaBottom" fmla="*/ 103320 h 102960"/>
                    </a:gdLst>
                    <a:ahLst/>
                    <a:rect l="textAreaLeft" t="textAreaTop" r="textAreaRight" b="textAreaBottom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Freeform 1262"/>
                  <p:cNvSpPr/>
                  <p:nvPr/>
                </p:nvSpPr>
                <p:spPr>
                  <a:xfrm rot="4199400">
                    <a:off x="39240" y="644760"/>
                    <a:ext cx="78120" cy="180720"/>
                  </a:xfrm>
                  <a:custGeom>
                    <a:avLst/>
                    <a:gdLst>
                      <a:gd name="textAreaLeft" fmla="*/ 0 w 78120"/>
                      <a:gd name="textAreaRight" fmla="*/ 78480 w 78120"/>
                      <a:gd name="textAreaTop" fmla="*/ 0 h 180720"/>
                      <a:gd name="textAreaBottom" fmla="*/ 181080 h 180720"/>
                    </a:gdLst>
                    <a:ahLst/>
                    <a:rect l="textAreaLeft" t="textAreaTop" r="textAreaRight" b="textAreaBottom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Freeform 1263"/>
                  <p:cNvSpPr/>
                  <p:nvPr/>
                </p:nvSpPr>
                <p:spPr>
                  <a:xfrm rot="4199400">
                    <a:off x="59400" y="649440"/>
                    <a:ext cx="83880" cy="264960"/>
                  </a:xfrm>
                  <a:custGeom>
                    <a:avLst/>
                    <a:gdLst>
                      <a:gd name="textAreaLeft" fmla="*/ 0 w 83880"/>
                      <a:gd name="textAreaRight" fmla="*/ 84240 w 83880"/>
                      <a:gd name="textAreaTop" fmla="*/ 0 h 264960"/>
                      <a:gd name="textAreaBottom" fmla="*/ 265320 h 264960"/>
                    </a:gdLst>
                    <a:ahLst/>
                    <a:rect l="textAreaLeft" t="textAreaTop" r="textAreaRight" b="textAreaBottom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Freeform 1264"/>
                  <p:cNvSpPr/>
                  <p:nvPr/>
                </p:nvSpPr>
                <p:spPr>
                  <a:xfrm rot="4199400">
                    <a:off x="16200" y="757800"/>
                    <a:ext cx="9000" cy="105480"/>
                  </a:xfrm>
                  <a:custGeom>
                    <a:avLst/>
                    <a:gdLst>
                      <a:gd name="textAreaLeft" fmla="*/ 0 w 9000"/>
                      <a:gd name="textAreaRight" fmla="*/ 9360 w 9000"/>
                      <a:gd name="textAreaTop" fmla="*/ 0 h 105480"/>
                      <a:gd name="textAreaBottom" fmla="*/ 105840 h 105480"/>
                    </a:gdLst>
                    <a:ahLst/>
                    <a:rect l="textAreaLeft" t="textAreaTop" r="textAreaRight" b="textAreaBottom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Freeform 1265"/>
                  <p:cNvSpPr/>
                  <p:nvPr/>
                </p:nvSpPr>
                <p:spPr>
                  <a:xfrm rot="4199400">
                    <a:off x="99720" y="666720"/>
                    <a:ext cx="57960" cy="325440"/>
                  </a:xfrm>
                  <a:custGeom>
                    <a:avLst/>
                    <a:gdLst>
                      <a:gd name="textAreaLeft" fmla="*/ 0 w 57960"/>
                      <a:gd name="textAreaRight" fmla="*/ 58320 w 57960"/>
                      <a:gd name="textAreaTop" fmla="*/ 0 h 325440"/>
                      <a:gd name="textAreaBottom" fmla="*/ 325800 h 325440"/>
                    </a:gdLst>
                    <a:ahLst/>
                    <a:rect l="textAreaLeft" t="textAreaTop" r="textAreaRight" b="textAreaBottom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Freeform 1266"/>
                  <p:cNvSpPr/>
                  <p:nvPr/>
                </p:nvSpPr>
                <p:spPr>
                  <a:xfrm rot="4199400">
                    <a:off x="83160" y="750240"/>
                    <a:ext cx="42840" cy="518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1840"/>
                      <a:gd name="textAreaBottom" fmla="*/ 52200 h 51840"/>
                    </a:gdLst>
                    <a:ahLst/>
                    <a:rect l="textAreaLeft" t="textAreaTop" r="textAreaRight" b="textAreaBottom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Freeform 1267"/>
                  <p:cNvSpPr/>
                  <p:nvPr/>
                </p:nvSpPr>
                <p:spPr>
                  <a:xfrm rot="4199400">
                    <a:off x="11520" y="703800"/>
                    <a:ext cx="21240" cy="83160"/>
                  </a:xfrm>
                  <a:custGeom>
                    <a:avLst/>
                    <a:gdLst>
                      <a:gd name="textAreaLeft" fmla="*/ 0 w 21240"/>
                      <a:gd name="textAreaRight" fmla="*/ 21600 w 21240"/>
                      <a:gd name="textAreaTop" fmla="*/ 0 h 83160"/>
                      <a:gd name="textAreaBottom" fmla="*/ 83520 h 83160"/>
                    </a:gdLst>
                    <a:ahLst/>
                    <a:rect l="textAreaLeft" t="textAreaTop" r="textAreaRight" b="textAreaBottom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Freeform 1268"/>
                  <p:cNvSpPr/>
                  <p:nvPr/>
                </p:nvSpPr>
                <p:spPr>
                  <a:xfrm rot="4199400">
                    <a:off x="132480" y="652680"/>
                    <a:ext cx="45360" cy="1800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18000"/>
                      <a:gd name="textAreaBottom" fmla="*/ 18360 h 18000"/>
                    </a:gdLst>
                    <a:ahLst/>
                    <a:rect l="textAreaLeft" t="textAreaTop" r="textAreaRight" b="textAreaBottom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Freeform 1269"/>
                  <p:cNvSpPr/>
                  <p:nvPr/>
                </p:nvSpPr>
                <p:spPr>
                  <a:xfrm rot="4199400">
                    <a:off x="165960" y="622440"/>
                    <a:ext cx="27720" cy="31680"/>
                  </a:xfrm>
                  <a:custGeom>
                    <a:avLst/>
                    <a:gdLst>
                      <a:gd name="textAreaLeft" fmla="*/ 0 w 27720"/>
                      <a:gd name="textAreaRight" fmla="*/ 28080 w 2772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Freeform 1270"/>
                  <p:cNvSpPr/>
                  <p:nvPr/>
                </p:nvSpPr>
                <p:spPr>
                  <a:xfrm rot="4199400">
                    <a:off x="48960" y="759960"/>
                    <a:ext cx="9000" cy="19440"/>
                  </a:xfrm>
                  <a:custGeom>
                    <a:avLst/>
                    <a:gdLst>
                      <a:gd name="textAreaLeft" fmla="*/ 0 w 9000"/>
                      <a:gd name="textAreaRight" fmla="*/ 9360 w 9000"/>
                      <a:gd name="textAreaTop" fmla="*/ 0 h 19440"/>
                      <a:gd name="textAreaBottom" fmla="*/ 19800 h 19440"/>
                    </a:gdLst>
                    <a:ahLst/>
                    <a:rect l="textAreaLeft" t="textAreaTop" r="textAreaRight" b="textAreaBottom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Freeform 1271"/>
                  <p:cNvSpPr/>
                  <p:nvPr/>
                </p:nvSpPr>
                <p:spPr>
                  <a:xfrm rot="4199400">
                    <a:off x="217440" y="643320"/>
                    <a:ext cx="7920" cy="1152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Freeform 1272"/>
                  <p:cNvSpPr/>
                  <p:nvPr/>
                </p:nvSpPr>
                <p:spPr>
                  <a:xfrm rot="4199400">
                    <a:off x="291240" y="648360"/>
                    <a:ext cx="9000" cy="15120"/>
                  </a:xfrm>
                  <a:custGeom>
                    <a:avLst/>
                    <a:gdLst>
                      <a:gd name="textAreaLeft" fmla="*/ 0 w 9000"/>
                      <a:gd name="textAreaRight" fmla="*/ 9360 w 9000"/>
                      <a:gd name="textAreaTop" fmla="*/ 0 h 15120"/>
                      <a:gd name="textAreaBottom" fmla="*/ 15480 h 15120"/>
                    </a:gdLst>
                    <a:ahLst/>
                    <a:rect l="textAreaLeft" t="textAreaTop" r="textAreaRight" b="textAreaBottom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Freeform 1273"/>
                  <p:cNvSpPr/>
                  <p:nvPr/>
                </p:nvSpPr>
                <p:spPr>
                  <a:xfrm rot="4199400">
                    <a:off x="118440" y="616320"/>
                    <a:ext cx="6840" cy="7560"/>
                  </a:xfrm>
                  <a:custGeom>
                    <a:avLst/>
                    <a:gdLst>
                      <a:gd name="textAreaLeft" fmla="*/ 0 w 6840"/>
                      <a:gd name="textAreaRight" fmla="*/ 7200 w 684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5" name="Group 1029"/>
                <p:cNvGrpSpPr/>
                <p:nvPr/>
              </p:nvGrpSpPr>
              <p:grpSpPr>
                <a:xfrm>
                  <a:off x="436680" y="851040"/>
                  <a:ext cx="47880" cy="34920"/>
                  <a:chOff x="436680" y="851040"/>
                  <a:chExt cx="47880" cy="34920"/>
                </a:xfrm>
              </p:grpSpPr>
              <p:sp>
                <p:nvSpPr>
                  <p:cNvPr id="1116" name="Freeform 1275"/>
                  <p:cNvSpPr/>
                  <p:nvPr/>
                </p:nvSpPr>
                <p:spPr>
                  <a:xfrm rot="21435000">
                    <a:off x="438840" y="851760"/>
                    <a:ext cx="45000" cy="32760"/>
                  </a:xfrm>
                  <a:custGeom>
                    <a:avLst/>
                    <a:gdLst>
                      <a:gd name="textAreaLeft" fmla="*/ 0 w 45000"/>
                      <a:gd name="textAreaRight" fmla="*/ 45360 w 4500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Freeform 1276"/>
                  <p:cNvSpPr/>
                  <p:nvPr/>
                </p:nvSpPr>
                <p:spPr>
                  <a:xfrm rot="17788200">
                    <a:off x="444240" y="856080"/>
                    <a:ext cx="16560" cy="27720"/>
                  </a:xfrm>
                  <a:custGeom>
                    <a:avLst/>
                    <a:gdLst>
                      <a:gd name="textAreaLeft" fmla="*/ 0 w 16560"/>
                      <a:gd name="textAreaRight" fmla="*/ 16920 w 16560"/>
                      <a:gd name="textAreaTop" fmla="*/ 0 h 27720"/>
                      <a:gd name="textAreaBottom" fmla="*/ 28080 h 27720"/>
                    </a:gdLst>
                    <a:ahLst/>
                    <a:rect l="textAreaLeft" t="textAreaTop" r="textAreaRight" b="textAreaBottom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18" name="Group 1032"/>
              <p:cNvGrpSpPr/>
              <p:nvPr/>
            </p:nvGrpSpPr>
            <p:grpSpPr>
              <a:xfrm>
                <a:off x="330120" y="268200"/>
                <a:ext cx="667080" cy="648000"/>
                <a:chOff x="330120" y="268200"/>
                <a:chExt cx="667080" cy="648000"/>
              </a:xfrm>
            </p:grpSpPr>
            <p:grpSp>
              <p:nvGrpSpPr>
                <p:cNvPr id="1119" name="Group 1033"/>
                <p:cNvGrpSpPr/>
                <p:nvPr/>
              </p:nvGrpSpPr>
              <p:grpSpPr>
                <a:xfrm>
                  <a:off x="330120" y="268200"/>
                  <a:ext cx="667080" cy="648000"/>
                  <a:chOff x="330120" y="268200"/>
                  <a:chExt cx="667080" cy="648000"/>
                </a:xfrm>
              </p:grpSpPr>
              <p:sp>
                <p:nvSpPr>
                  <p:cNvPr id="1120" name="Freeform 1279"/>
                  <p:cNvSpPr/>
                  <p:nvPr/>
                </p:nvSpPr>
                <p:spPr>
                  <a:xfrm rot="8424000">
                    <a:off x="437400" y="395280"/>
                    <a:ext cx="515880" cy="323280"/>
                  </a:xfrm>
                  <a:custGeom>
                    <a:avLst/>
                    <a:gdLst>
                      <a:gd name="textAreaLeft" fmla="*/ 0 w 515880"/>
                      <a:gd name="textAreaRight" fmla="*/ 516240 w 515880"/>
                      <a:gd name="textAreaTop" fmla="*/ 0 h 323280"/>
                      <a:gd name="textAreaBottom" fmla="*/ 323640 h 323280"/>
                    </a:gdLst>
                    <a:ahLst/>
                    <a:rect l="textAreaLeft" t="textAreaTop" r="textAreaRight" b="textAreaBottom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Freeform 1280"/>
                  <p:cNvSpPr/>
                  <p:nvPr/>
                </p:nvSpPr>
                <p:spPr>
                  <a:xfrm rot="8424000">
                    <a:off x="467640" y="503280"/>
                    <a:ext cx="437760" cy="153360"/>
                  </a:xfrm>
                  <a:custGeom>
                    <a:avLst/>
                    <a:gdLst>
                      <a:gd name="textAreaLeft" fmla="*/ 0 w 437760"/>
                      <a:gd name="textAreaRight" fmla="*/ 438120 w 437760"/>
                      <a:gd name="textAreaTop" fmla="*/ 0 h 153360"/>
                      <a:gd name="textAreaBottom" fmla="*/ 153720 h 153360"/>
                    </a:gdLst>
                    <a:ahLst/>
                    <a:rect l="textAreaLeft" t="textAreaTop" r="textAreaRight" b="textAreaBottom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Freeform 1281"/>
                  <p:cNvSpPr/>
                  <p:nvPr/>
                </p:nvSpPr>
                <p:spPr>
                  <a:xfrm rot="8424000">
                    <a:off x="317880" y="543960"/>
                    <a:ext cx="637560" cy="190800"/>
                  </a:xfrm>
                  <a:custGeom>
                    <a:avLst/>
                    <a:gdLst>
                      <a:gd name="textAreaLeft" fmla="*/ 0 w 637560"/>
                      <a:gd name="textAreaRight" fmla="*/ 637920 w 637560"/>
                      <a:gd name="textAreaTop" fmla="*/ 0 h 190800"/>
                      <a:gd name="textAreaBottom" fmla="*/ 191160 h 190800"/>
                    </a:gdLst>
                    <a:ahLst/>
                    <a:rect l="textAreaLeft" t="textAreaTop" r="textAreaRight" b="textAreaBottom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Freeform 1282"/>
                  <p:cNvSpPr/>
                  <p:nvPr/>
                </p:nvSpPr>
                <p:spPr>
                  <a:xfrm rot="8424000">
                    <a:off x="632880" y="523440"/>
                    <a:ext cx="207000" cy="18720"/>
                  </a:xfrm>
                  <a:custGeom>
                    <a:avLst/>
                    <a:gdLst>
                      <a:gd name="textAreaLeft" fmla="*/ 0 w 207000"/>
                      <a:gd name="textAreaRight" fmla="*/ 207360 w 20700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Freeform 1283"/>
                  <p:cNvSpPr/>
                  <p:nvPr/>
                </p:nvSpPr>
                <p:spPr>
                  <a:xfrm rot="8424000">
                    <a:off x="587880" y="582840"/>
                    <a:ext cx="267840" cy="70560"/>
                  </a:xfrm>
                  <a:custGeom>
                    <a:avLst/>
                    <a:gdLst>
                      <a:gd name="textAreaLeft" fmla="*/ 0 w 267840"/>
                      <a:gd name="textAreaRight" fmla="*/ 268200 w 267840"/>
                      <a:gd name="textAreaTop" fmla="*/ 0 h 70560"/>
                      <a:gd name="textAreaBottom" fmla="*/ 70920 h 70560"/>
                    </a:gdLst>
                    <a:ahLst/>
                    <a:rect l="textAreaLeft" t="textAreaTop" r="textAreaRight" b="textAreaBottom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Freeform 1284"/>
                  <p:cNvSpPr/>
                  <p:nvPr/>
                </p:nvSpPr>
                <p:spPr>
                  <a:xfrm rot="8424000">
                    <a:off x="557640" y="628200"/>
                    <a:ext cx="295200" cy="93240"/>
                  </a:xfrm>
                  <a:custGeom>
                    <a:avLst/>
                    <a:gdLst>
                      <a:gd name="textAreaLeft" fmla="*/ 0 w 295200"/>
                      <a:gd name="textAreaRight" fmla="*/ 295560 w 295200"/>
                      <a:gd name="textAreaTop" fmla="*/ 0 h 93240"/>
                      <a:gd name="textAreaBottom" fmla="*/ 93600 h 93240"/>
                    </a:gdLst>
                    <a:ahLst/>
                    <a:rect l="textAreaLeft" t="textAreaTop" r="textAreaRight" b="textAreaBottom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Freeform 1285"/>
                  <p:cNvSpPr/>
                  <p:nvPr/>
                </p:nvSpPr>
                <p:spPr>
                  <a:xfrm rot="8424000">
                    <a:off x="699480" y="469440"/>
                    <a:ext cx="122760" cy="11880"/>
                  </a:xfrm>
                  <a:custGeom>
                    <a:avLst/>
                    <a:gdLst>
                      <a:gd name="textAreaLeft" fmla="*/ 0 w 122760"/>
                      <a:gd name="textAreaRight" fmla="*/ 123120 w 12276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Freeform 1286"/>
                  <p:cNvSpPr/>
                  <p:nvPr/>
                </p:nvSpPr>
                <p:spPr>
                  <a:xfrm rot="8424000">
                    <a:off x="756720" y="417600"/>
                    <a:ext cx="64080" cy="504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5040"/>
                      <a:gd name="textAreaBottom" fmla="*/ 5400 h 5040"/>
                    </a:gdLst>
                    <a:ahLst/>
                    <a:rect l="textAreaLeft" t="textAreaTop" r="textAreaRight" b="textAreaBottom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Freeform 1287"/>
                  <p:cNvSpPr/>
                  <p:nvPr/>
                </p:nvSpPr>
                <p:spPr>
                  <a:xfrm rot="8424000">
                    <a:off x="739080" y="407160"/>
                    <a:ext cx="46800" cy="33120"/>
                  </a:xfrm>
                  <a:custGeom>
                    <a:avLst/>
                    <a:gdLst>
                      <a:gd name="textAreaLeft" fmla="*/ 0 w 46800"/>
                      <a:gd name="textAreaRight" fmla="*/ 47160 w 46800"/>
                      <a:gd name="textAreaTop" fmla="*/ 0 h 33120"/>
                      <a:gd name="textAreaBottom" fmla="*/ 33480 h 33120"/>
                    </a:gdLst>
                    <a:ahLst/>
                    <a:rect l="textAreaLeft" t="textAreaTop" r="textAreaRight" b="textAreaBottom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Freeform 1288"/>
                  <p:cNvSpPr/>
                  <p:nvPr/>
                </p:nvSpPr>
                <p:spPr>
                  <a:xfrm rot="8424000">
                    <a:off x="681480" y="430560"/>
                    <a:ext cx="82080" cy="61200"/>
                  </a:xfrm>
                  <a:custGeom>
                    <a:avLst/>
                    <a:gdLst>
                      <a:gd name="textAreaLeft" fmla="*/ 0 w 82080"/>
                      <a:gd name="textAreaRight" fmla="*/ 82440 w 82080"/>
                      <a:gd name="textAreaTop" fmla="*/ 0 h 61200"/>
                      <a:gd name="textAreaBottom" fmla="*/ 61560 h 61200"/>
                    </a:gdLst>
                    <a:ahLst/>
                    <a:rect l="textAreaLeft" t="textAreaTop" r="textAreaRight" b="textAreaBottom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Freeform 1289"/>
                  <p:cNvSpPr/>
                  <p:nvPr/>
                </p:nvSpPr>
                <p:spPr>
                  <a:xfrm rot="8424000">
                    <a:off x="597600" y="463680"/>
                    <a:ext cx="131040" cy="107280"/>
                  </a:xfrm>
                  <a:custGeom>
                    <a:avLst/>
                    <a:gdLst>
                      <a:gd name="textAreaLeft" fmla="*/ 0 w 131040"/>
                      <a:gd name="textAreaRight" fmla="*/ 131400 w 131040"/>
                      <a:gd name="textAreaTop" fmla="*/ 0 h 107280"/>
                      <a:gd name="textAreaBottom" fmla="*/ 107640 h 107280"/>
                    </a:gdLst>
                    <a:ahLst/>
                    <a:rect l="textAreaLeft" t="textAreaTop" r="textAreaRight" b="textAreaBottom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Freeform 1290"/>
                  <p:cNvSpPr/>
                  <p:nvPr/>
                </p:nvSpPr>
                <p:spPr>
                  <a:xfrm rot="8424000">
                    <a:off x="528120" y="496800"/>
                    <a:ext cx="140760" cy="156960"/>
                  </a:xfrm>
                  <a:custGeom>
                    <a:avLst/>
                    <a:gdLst>
                      <a:gd name="textAreaLeft" fmla="*/ 0 w 140760"/>
                      <a:gd name="textAreaRight" fmla="*/ 141120 w 140760"/>
                      <a:gd name="textAreaTop" fmla="*/ 0 h 156960"/>
                      <a:gd name="textAreaBottom" fmla="*/ 157320 h 156960"/>
                    </a:gdLst>
                    <a:ahLst/>
                    <a:rect l="textAreaLeft" t="textAreaTop" r="textAreaRight" b="textAreaBottom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Freeform 1291"/>
                  <p:cNvSpPr/>
                  <p:nvPr/>
                </p:nvSpPr>
                <p:spPr>
                  <a:xfrm rot="8424000">
                    <a:off x="561600" y="502920"/>
                    <a:ext cx="15480" cy="62280"/>
                  </a:xfrm>
                  <a:custGeom>
                    <a:avLst/>
                    <a:gdLst>
                      <a:gd name="textAreaLeft" fmla="*/ 0 w 15480"/>
                      <a:gd name="textAreaRight" fmla="*/ 15840 w 15480"/>
                      <a:gd name="textAreaTop" fmla="*/ 0 h 62280"/>
                      <a:gd name="textAreaBottom" fmla="*/ 62640 h 62280"/>
                    </a:gdLst>
                    <a:ahLst/>
                    <a:rect l="textAreaLeft" t="textAreaTop" r="textAreaRight" b="textAreaBottom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Freeform 1292"/>
                  <p:cNvSpPr/>
                  <p:nvPr/>
                </p:nvSpPr>
                <p:spPr>
                  <a:xfrm rot="8424000">
                    <a:off x="483840" y="540360"/>
                    <a:ext cx="97560" cy="192960"/>
                  </a:xfrm>
                  <a:custGeom>
                    <a:avLst/>
                    <a:gdLst>
                      <a:gd name="textAreaLeft" fmla="*/ 0 w 97560"/>
                      <a:gd name="textAreaRight" fmla="*/ 97920 w 97560"/>
                      <a:gd name="textAreaTop" fmla="*/ 0 h 192960"/>
                      <a:gd name="textAreaBottom" fmla="*/ 193320 h 192960"/>
                    </a:gdLst>
                    <a:ahLst/>
                    <a:rect l="textAreaLeft" t="textAreaTop" r="textAreaRight" b="textAreaBottom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Freeform 1293"/>
                  <p:cNvSpPr/>
                  <p:nvPr/>
                </p:nvSpPr>
                <p:spPr>
                  <a:xfrm rot="8424000">
                    <a:off x="569880" y="557640"/>
                    <a:ext cx="72000" cy="30600"/>
                  </a:xfrm>
                  <a:custGeom>
                    <a:avLst/>
                    <a:gdLst>
                      <a:gd name="textAreaLeft" fmla="*/ 0 w 72000"/>
                      <a:gd name="textAreaRight" fmla="*/ 72360 w 7200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Freeform 1294"/>
                  <p:cNvSpPr/>
                  <p:nvPr/>
                </p:nvSpPr>
                <p:spPr>
                  <a:xfrm rot="8424000">
                    <a:off x="637560" y="455760"/>
                    <a:ext cx="34920" cy="4932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49320"/>
                      <a:gd name="textAreaBottom" fmla="*/ 49680 h 49320"/>
                    </a:gdLst>
                    <a:ahLst/>
                    <a:rect l="textAreaLeft" t="textAreaTop" r="textAreaRight" b="textAreaBottom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Freeform 1295"/>
                  <p:cNvSpPr/>
                  <p:nvPr/>
                </p:nvSpPr>
                <p:spPr>
                  <a:xfrm rot="8424000">
                    <a:off x="718200" y="510480"/>
                    <a:ext cx="76320" cy="10080"/>
                  </a:xfrm>
                  <a:custGeom>
                    <a:avLst/>
                    <a:gdLst>
                      <a:gd name="textAreaLeft" fmla="*/ 0 w 76320"/>
                      <a:gd name="textAreaRight" fmla="*/ 76680 w 7632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Freeform 1296"/>
                  <p:cNvSpPr/>
                  <p:nvPr/>
                </p:nvSpPr>
                <p:spPr>
                  <a:xfrm rot="8424000">
                    <a:off x="761760" y="505800"/>
                    <a:ext cx="46800" cy="18720"/>
                  </a:xfrm>
                  <a:custGeom>
                    <a:avLst/>
                    <a:gdLst>
                      <a:gd name="textAreaLeft" fmla="*/ 0 w 46800"/>
                      <a:gd name="textAreaRight" fmla="*/ 47160 w 4680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Freeform 1297"/>
                  <p:cNvSpPr/>
                  <p:nvPr/>
                </p:nvSpPr>
                <p:spPr>
                  <a:xfrm rot="8424000">
                    <a:off x="611280" y="520920"/>
                    <a:ext cx="15480" cy="11880"/>
                  </a:xfrm>
                  <a:custGeom>
                    <a:avLst/>
                    <a:gdLst>
                      <a:gd name="textAreaLeft" fmla="*/ 0 w 15480"/>
                      <a:gd name="textAreaRight" fmla="*/ 15840 w 1548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Freeform 1298"/>
                  <p:cNvSpPr/>
                  <p:nvPr/>
                </p:nvSpPr>
                <p:spPr>
                  <a:xfrm rot="8424000">
                    <a:off x="759240" y="554760"/>
                    <a:ext cx="13680" cy="6840"/>
                  </a:xfrm>
                  <a:custGeom>
                    <a:avLst/>
                    <a:gdLst>
                      <a:gd name="textAreaLeft" fmla="*/ 0 w 13680"/>
                      <a:gd name="textAreaRight" fmla="*/ 14040 w 1368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Freeform 1299"/>
                  <p:cNvSpPr/>
                  <p:nvPr/>
                </p:nvSpPr>
                <p:spPr>
                  <a:xfrm rot="8424000">
                    <a:off x="744120" y="617400"/>
                    <a:ext cx="15480" cy="9360"/>
                  </a:xfrm>
                  <a:custGeom>
                    <a:avLst/>
                    <a:gdLst>
                      <a:gd name="textAreaLeft" fmla="*/ 0 w 15480"/>
                      <a:gd name="textAreaRight" fmla="*/ 15840 w 1548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Freeform 1300"/>
                  <p:cNvSpPr/>
                  <p:nvPr/>
                </p:nvSpPr>
                <p:spPr>
                  <a:xfrm rot="8424000">
                    <a:off x="807480" y="452880"/>
                    <a:ext cx="12240" cy="3960"/>
                  </a:xfrm>
                  <a:custGeom>
                    <a:avLst/>
                    <a:gdLst>
                      <a:gd name="textAreaLeft" fmla="*/ 0 w 12240"/>
                      <a:gd name="textAreaRight" fmla="*/ 12600 w 12240"/>
                      <a:gd name="textAreaTop" fmla="*/ 0 h 3960"/>
                      <a:gd name="textAreaBottom" fmla="*/ 4320 h 3960"/>
                    </a:gdLst>
                    <a:ahLst/>
                    <a:rect l="textAreaLeft" t="textAreaTop" r="textAreaRight" b="textAreaBottom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2" name="Group 1056"/>
                <p:cNvGrpSpPr/>
                <p:nvPr/>
              </p:nvGrpSpPr>
              <p:grpSpPr>
                <a:xfrm>
                  <a:off x="464040" y="822240"/>
                  <a:ext cx="60120" cy="45720"/>
                  <a:chOff x="464040" y="822240"/>
                  <a:chExt cx="60120" cy="45720"/>
                </a:xfrm>
              </p:grpSpPr>
              <p:sp>
                <p:nvSpPr>
                  <p:cNvPr id="1143" name="Freeform 1302"/>
                  <p:cNvSpPr/>
                  <p:nvPr/>
                </p:nvSpPr>
                <p:spPr>
                  <a:xfrm rot="4059600">
                    <a:off x="480240" y="817920"/>
                    <a:ext cx="27000" cy="5400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Freeform 1303"/>
                  <p:cNvSpPr/>
                  <p:nvPr/>
                </p:nvSpPr>
                <p:spPr>
                  <a:xfrm rot="412800">
                    <a:off x="475920" y="832320"/>
                    <a:ext cx="27360" cy="16560"/>
                  </a:xfrm>
                  <a:custGeom>
                    <a:avLst/>
                    <a:gdLst>
                      <a:gd name="textAreaLeft" fmla="*/ 0 w 27360"/>
                      <a:gd name="textAreaRight" fmla="*/ 27720 w 273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45" name="Group 1059"/>
            <p:cNvGrpSpPr/>
            <p:nvPr/>
          </p:nvGrpSpPr>
          <p:grpSpPr>
            <a:xfrm>
              <a:off x="983520" y="436680"/>
              <a:ext cx="657360" cy="344160"/>
              <a:chOff x="983520" y="436680"/>
              <a:chExt cx="657360" cy="344160"/>
            </a:xfrm>
          </p:grpSpPr>
          <p:grpSp>
            <p:nvGrpSpPr>
              <p:cNvPr id="1146" name="Group 1060"/>
              <p:cNvGrpSpPr/>
              <p:nvPr/>
            </p:nvGrpSpPr>
            <p:grpSpPr>
              <a:xfrm>
                <a:off x="983520" y="436680"/>
                <a:ext cx="657360" cy="344160"/>
                <a:chOff x="983520" y="436680"/>
                <a:chExt cx="657360" cy="344160"/>
              </a:xfrm>
            </p:grpSpPr>
            <p:sp>
              <p:nvSpPr>
                <p:cNvPr id="1147" name="Freeform 1306"/>
                <p:cNvSpPr/>
                <p:nvPr/>
              </p:nvSpPr>
              <p:spPr>
                <a:xfrm flipH="1" rot="21294600">
                  <a:off x="1141200" y="457560"/>
                  <a:ext cx="487080" cy="302040"/>
                </a:xfrm>
                <a:custGeom>
                  <a:avLst/>
                  <a:gdLst>
                    <a:gd name="textAreaLeft" fmla="*/ -360 w 487080"/>
                    <a:gd name="textAreaRight" fmla="*/ 487080 w 487080"/>
                    <a:gd name="textAreaTop" fmla="*/ 0 h 302040"/>
                    <a:gd name="textAreaBottom" fmla="*/ 302400 h 30204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Freeform 1307"/>
                <p:cNvSpPr/>
                <p:nvPr/>
              </p:nvSpPr>
              <p:spPr>
                <a:xfrm flipH="1" rot="21294600">
                  <a:off x="1157760" y="527400"/>
                  <a:ext cx="412920" cy="143280"/>
                </a:xfrm>
                <a:custGeom>
                  <a:avLst/>
                  <a:gdLst>
                    <a:gd name="textAreaLeft" fmla="*/ -360 w 412920"/>
                    <a:gd name="textAreaRight" fmla="*/ 412920 w 412920"/>
                    <a:gd name="textAreaTop" fmla="*/ 0 h 143280"/>
                    <a:gd name="textAreaBottom" fmla="*/ 143640 h 14328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1308"/>
                <p:cNvSpPr/>
                <p:nvPr/>
              </p:nvSpPr>
              <p:spPr>
                <a:xfrm flipH="1" rot="21294600">
                  <a:off x="990000" y="503640"/>
                  <a:ext cx="601560" cy="178560"/>
                </a:xfrm>
                <a:custGeom>
                  <a:avLst/>
                  <a:gdLst>
                    <a:gd name="textAreaLeft" fmla="*/ -360 w 601560"/>
                    <a:gd name="textAreaRight" fmla="*/ 601560 w 601560"/>
                    <a:gd name="textAreaTop" fmla="*/ 0 h 178560"/>
                    <a:gd name="textAreaBottom" fmla="*/ 178920 h 17856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Freeform 1309"/>
                <p:cNvSpPr/>
                <p:nvPr/>
              </p:nvSpPr>
              <p:spPr>
                <a:xfrm flipH="1" rot="21294600">
                  <a:off x="1330200" y="588960"/>
                  <a:ext cx="195480" cy="17640"/>
                </a:xfrm>
                <a:custGeom>
                  <a:avLst/>
                  <a:gdLst>
                    <a:gd name="textAreaLeft" fmla="*/ -360 w 195480"/>
                    <a:gd name="textAreaRight" fmla="*/ 195480 w 1954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Freeform 1310"/>
                <p:cNvSpPr/>
                <p:nvPr/>
              </p:nvSpPr>
              <p:spPr>
                <a:xfrm flipH="1" rot="21294600">
                  <a:off x="1235160" y="517680"/>
                  <a:ext cx="252720" cy="65880"/>
                </a:xfrm>
                <a:custGeom>
                  <a:avLst/>
                  <a:gdLst>
                    <a:gd name="textAreaLeft" fmla="*/ 360 w 252720"/>
                    <a:gd name="textAreaRight" fmla="*/ 253440 w 252720"/>
                    <a:gd name="textAreaTop" fmla="*/ 0 h 65880"/>
                    <a:gd name="textAreaBottom" fmla="*/ 66240 h 6588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Freeform 1311"/>
                <p:cNvSpPr/>
                <p:nvPr/>
              </p:nvSpPr>
              <p:spPr>
                <a:xfrm flipH="1" rot="21294600">
                  <a:off x="1173600" y="479880"/>
                  <a:ext cx="278640" cy="87120"/>
                </a:xfrm>
                <a:custGeom>
                  <a:avLst/>
                  <a:gdLst>
                    <a:gd name="textAreaLeft" fmla="*/ 360 w 278640"/>
                    <a:gd name="textAreaRight" fmla="*/ 279360 w 27864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1312"/>
                <p:cNvSpPr/>
                <p:nvPr/>
              </p:nvSpPr>
              <p:spPr>
                <a:xfrm flipH="1" rot="21294600">
                  <a:off x="1424160" y="614160"/>
                  <a:ext cx="115920" cy="10800"/>
                </a:xfrm>
                <a:custGeom>
                  <a:avLst/>
                  <a:gdLst>
                    <a:gd name="textAreaLeft" fmla="*/ 360 w 115920"/>
                    <a:gd name="textAreaRight" fmla="*/ 116640 w 11592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Freeform 1313"/>
                <p:cNvSpPr/>
                <p:nvPr/>
              </p:nvSpPr>
              <p:spPr>
                <a:xfrm flipH="1" rot="21294600">
                  <a:off x="1508400" y="635760"/>
                  <a:ext cx="60480" cy="4320"/>
                </a:xfrm>
                <a:custGeom>
                  <a:avLst/>
                  <a:gdLst>
                    <a:gd name="textAreaLeft" fmla="*/ 360 w 60480"/>
                    <a:gd name="textAreaRight" fmla="*/ 61200 w 6048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Freeform 1314"/>
                <p:cNvSpPr/>
                <p:nvPr/>
              </p:nvSpPr>
              <p:spPr>
                <a:xfrm flipH="1" rot="21294600">
                  <a:off x="1496160" y="637920"/>
                  <a:ext cx="44280" cy="30960"/>
                </a:xfrm>
                <a:custGeom>
                  <a:avLst/>
                  <a:gdLst>
                    <a:gd name="textAreaLeft" fmla="*/ -360 w 44280"/>
                    <a:gd name="textAreaRight" fmla="*/ 44280 w 442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1315"/>
                <p:cNvSpPr/>
                <p:nvPr/>
              </p:nvSpPr>
              <p:spPr>
                <a:xfrm flipH="1" rot="21294600">
                  <a:off x="1428120" y="625680"/>
                  <a:ext cx="77400" cy="57240"/>
                </a:xfrm>
                <a:custGeom>
                  <a:avLst/>
                  <a:gdLst>
                    <a:gd name="textAreaLeft" fmla="*/ -360 w 77400"/>
                    <a:gd name="textAreaRight" fmla="*/ 77400 w 7740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1316"/>
                <p:cNvSpPr/>
                <p:nvPr/>
              </p:nvSpPr>
              <p:spPr>
                <a:xfrm flipH="1" rot="21294600">
                  <a:off x="1327680" y="606240"/>
                  <a:ext cx="123840" cy="100440"/>
                </a:xfrm>
                <a:custGeom>
                  <a:avLst/>
                  <a:gdLst>
                    <a:gd name="textAreaLeft" fmla="*/ 360 w 123840"/>
                    <a:gd name="textAreaRight" fmla="*/ 124560 w 123840"/>
                    <a:gd name="textAreaTop" fmla="*/ 0 h 100440"/>
                    <a:gd name="textAreaBottom" fmla="*/ 100800 h 10044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1317"/>
                <p:cNvSpPr/>
                <p:nvPr/>
              </p:nvSpPr>
              <p:spPr>
                <a:xfrm flipH="1" rot="21294600">
                  <a:off x="1241280" y="586800"/>
                  <a:ext cx="132840" cy="146520"/>
                </a:xfrm>
                <a:custGeom>
                  <a:avLst/>
                  <a:gdLst>
                    <a:gd name="textAreaLeft" fmla="*/ -360 w 132840"/>
                    <a:gd name="textAreaRight" fmla="*/ 132840 w 13284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Freeform 1318"/>
                <p:cNvSpPr/>
                <p:nvPr/>
              </p:nvSpPr>
              <p:spPr>
                <a:xfrm flipH="1" rot="21294600">
                  <a:off x="1308600" y="678240"/>
                  <a:ext cx="14400" cy="58320"/>
                </a:xfrm>
                <a:custGeom>
                  <a:avLst/>
                  <a:gdLst>
                    <a:gd name="textAreaLeft" fmla="*/ 360 w 14400"/>
                    <a:gd name="textAreaRight" fmla="*/ 15120 w 14400"/>
                    <a:gd name="textAreaTop" fmla="*/ 0 h 58320"/>
                    <a:gd name="textAreaBottom" fmla="*/ 58680 h 5832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Freeform 1319"/>
                <p:cNvSpPr/>
                <p:nvPr/>
              </p:nvSpPr>
              <p:spPr>
                <a:xfrm flipH="1" rot="21294600">
                  <a:off x="1176840" y="572400"/>
                  <a:ext cx="91800" cy="180720"/>
                </a:xfrm>
                <a:custGeom>
                  <a:avLst/>
                  <a:gdLst>
                    <a:gd name="textAreaLeft" fmla="*/ -360 w 91800"/>
                    <a:gd name="textAreaRight" fmla="*/ 91800 w 91800"/>
                    <a:gd name="textAreaTop" fmla="*/ 0 h 180720"/>
                    <a:gd name="textAreaBottom" fmla="*/ 181080 h 18072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Freeform 1320"/>
                <p:cNvSpPr/>
                <p:nvPr/>
              </p:nvSpPr>
              <p:spPr>
                <a:xfrm flipH="1" rot="21294600">
                  <a:off x="1280160" y="642960"/>
                  <a:ext cx="68040" cy="28080"/>
                </a:xfrm>
                <a:custGeom>
                  <a:avLst/>
                  <a:gdLst>
                    <a:gd name="textAreaLeft" fmla="*/ -360 w 68040"/>
                    <a:gd name="textAreaRight" fmla="*/ 68040 w 6804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1321"/>
                <p:cNvSpPr/>
                <p:nvPr/>
              </p:nvSpPr>
              <p:spPr>
                <a:xfrm flipH="1" rot="21294600">
                  <a:off x="1392120" y="662760"/>
                  <a:ext cx="32760" cy="46440"/>
                </a:xfrm>
                <a:custGeom>
                  <a:avLst/>
                  <a:gdLst>
                    <a:gd name="textAreaLeft" fmla="*/ -360 w 32760"/>
                    <a:gd name="textAreaRight" fmla="*/ 32760 w 327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Freeform 1322"/>
                <p:cNvSpPr/>
                <p:nvPr/>
              </p:nvSpPr>
              <p:spPr>
                <a:xfrm flipH="1" rot="21294600">
                  <a:off x="1417320" y="591480"/>
                  <a:ext cx="72000" cy="9720"/>
                </a:xfrm>
                <a:custGeom>
                  <a:avLst/>
                  <a:gdLst>
                    <a:gd name="textAreaLeft" fmla="*/ 360 w 72000"/>
                    <a:gd name="textAreaRight" fmla="*/ 72720 w 7200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Freeform 1323"/>
                <p:cNvSpPr/>
                <p:nvPr/>
              </p:nvSpPr>
              <p:spPr>
                <a:xfrm flipH="1" rot="21294600">
                  <a:off x="1449720" y="568440"/>
                  <a:ext cx="44280" cy="17640"/>
                </a:xfrm>
                <a:custGeom>
                  <a:avLst/>
                  <a:gdLst>
                    <a:gd name="textAreaLeft" fmla="*/ -360 w 44280"/>
                    <a:gd name="textAreaRight" fmla="*/ 44280 w 442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1324"/>
                <p:cNvSpPr/>
                <p:nvPr/>
              </p:nvSpPr>
              <p:spPr>
                <a:xfrm flipH="1" rot="21294600">
                  <a:off x="1346040" y="673200"/>
                  <a:ext cx="14400" cy="10440"/>
                </a:xfrm>
                <a:custGeom>
                  <a:avLst/>
                  <a:gdLst>
                    <a:gd name="textAreaLeft" fmla="*/ 360 w 14400"/>
                    <a:gd name="textAreaRight" fmla="*/ 15120 w 1440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Freeform 1325"/>
                <p:cNvSpPr/>
                <p:nvPr/>
              </p:nvSpPr>
              <p:spPr>
                <a:xfrm flipH="1" rot="21294600">
                  <a:off x="1424520" y="558360"/>
                  <a:ext cx="12960" cy="648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Freeform 1326"/>
                <p:cNvSpPr/>
                <p:nvPr/>
              </p:nvSpPr>
              <p:spPr>
                <a:xfrm flipH="1" rot="21294600">
                  <a:off x="1371960" y="524160"/>
                  <a:ext cx="14400" cy="8280"/>
                </a:xfrm>
                <a:custGeom>
                  <a:avLst/>
                  <a:gdLst>
                    <a:gd name="textAreaLeft" fmla="*/ 360 w 14400"/>
                    <a:gd name="textAreaRight" fmla="*/ 15120 w 1440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Freeform 1327"/>
                <p:cNvSpPr/>
                <p:nvPr/>
              </p:nvSpPr>
              <p:spPr>
                <a:xfrm flipH="1" rot="21294600">
                  <a:off x="1526400" y="597240"/>
                  <a:ext cx="11160" cy="3960"/>
                </a:xfrm>
                <a:custGeom>
                  <a:avLst/>
                  <a:gdLst>
                    <a:gd name="textAreaLeft" fmla="*/ -360 w 11160"/>
                    <a:gd name="textAreaRight" fmla="*/ 11160 w 1116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9" name="Group 1083"/>
              <p:cNvGrpSpPr/>
              <p:nvPr/>
            </p:nvGrpSpPr>
            <p:grpSpPr>
              <a:xfrm>
                <a:off x="1030680" y="529200"/>
                <a:ext cx="57240" cy="43200"/>
                <a:chOff x="1030680" y="529200"/>
                <a:chExt cx="57240" cy="43200"/>
              </a:xfrm>
            </p:grpSpPr>
            <p:sp>
              <p:nvSpPr>
                <p:cNvPr id="1170" name="Freeform 1329"/>
                <p:cNvSpPr/>
                <p:nvPr/>
              </p:nvSpPr>
              <p:spPr>
                <a:xfrm flipH="1" rot="4059600">
                  <a:off x="1046160" y="524880"/>
                  <a:ext cx="25200" cy="51480"/>
                </a:xfrm>
                <a:custGeom>
                  <a:avLst/>
                  <a:gdLst>
                    <a:gd name="textAreaLeft" fmla="*/ 360 w 25200"/>
                    <a:gd name="textAreaRight" fmla="*/ 25920 w 2520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Freeform 1330"/>
                <p:cNvSpPr/>
                <p:nvPr/>
              </p:nvSpPr>
              <p:spPr>
                <a:xfrm flipH="1" rot="7706400">
                  <a:off x="1046160" y="547920"/>
                  <a:ext cx="25920" cy="15480"/>
                </a:xfrm>
                <a:custGeom>
                  <a:avLst/>
                  <a:gdLst>
                    <a:gd name="textAreaLeft" fmla="*/ 360 w 25920"/>
                    <a:gd name="textAreaRight" fmla="*/ 26640 w 25920"/>
                    <a:gd name="textAreaTop" fmla="*/ 0 h 15480"/>
                    <a:gd name="textAreaBottom" fmla="*/ 15840 h 1548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2" name="Group 1086"/>
            <p:cNvGrpSpPr/>
            <p:nvPr/>
          </p:nvGrpSpPr>
          <p:grpSpPr>
            <a:xfrm>
              <a:off x="919800" y="34200"/>
              <a:ext cx="471240" cy="565560"/>
              <a:chOff x="919800" y="34200"/>
              <a:chExt cx="471240" cy="565560"/>
            </a:xfrm>
          </p:grpSpPr>
          <p:grpSp>
            <p:nvGrpSpPr>
              <p:cNvPr id="1173" name="Group 1087"/>
              <p:cNvGrpSpPr/>
              <p:nvPr/>
            </p:nvGrpSpPr>
            <p:grpSpPr>
              <a:xfrm>
                <a:off x="919800" y="34200"/>
                <a:ext cx="471240" cy="565560"/>
                <a:chOff x="919800" y="34200"/>
                <a:chExt cx="471240" cy="565560"/>
              </a:xfrm>
            </p:grpSpPr>
            <p:sp>
              <p:nvSpPr>
                <p:cNvPr id="1174" name="Freeform 1333"/>
                <p:cNvSpPr/>
                <p:nvPr/>
              </p:nvSpPr>
              <p:spPr>
                <a:xfrm rot="7630800">
                  <a:off x="957600" y="148680"/>
                  <a:ext cx="414000" cy="253800"/>
                </a:xfrm>
                <a:custGeom>
                  <a:avLst/>
                  <a:gdLst>
                    <a:gd name="textAreaLeft" fmla="*/ 0 w 414000"/>
                    <a:gd name="textAreaRight" fmla="*/ 414360 w 414000"/>
                    <a:gd name="textAreaTop" fmla="*/ 0 h 253800"/>
                    <a:gd name="textAreaBottom" fmla="*/ 254160 h 25380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Freeform 1334"/>
                <p:cNvSpPr/>
                <p:nvPr/>
              </p:nvSpPr>
              <p:spPr>
                <a:xfrm rot="7630800">
                  <a:off x="986400" y="234720"/>
                  <a:ext cx="351000" cy="120600"/>
                </a:xfrm>
                <a:custGeom>
                  <a:avLst/>
                  <a:gdLst>
                    <a:gd name="textAreaLeft" fmla="*/ 0 w 351000"/>
                    <a:gd name="textAreaRight" fmla="*/ 351360 w 35100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Freeform 1335"/>
                <p:cNvSpPr/>
                <p:nvPr/>
              </p:nvSpPr>
              <p:spPr>
                <a:xfrm rot="7630800">
                  <a:off x="878400" y="275760"/>
                  <a:ext cx="511200" cy="149760"/>
                </a:xfrm>
                <a:custGeom>
                  <a:avLst/>
                  <a:gdLst>
                    <a:gd name="textAreaLeft" fmla="*/ 0 w 511200"/>
                    <a:gd name="textAreaRight" fmla="*/ 511200 w 511200"/>
                    <a:gd name="textAreaTop" fmla="*/ 0 h 149760"/>
                    <a:gd name="textAreaBottom" fmla="*/ 150120 h 14976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Freeform 1336"/>
                <p:cNvSpPr/>
                <p:nvPr/>
              </p:nvSpPr>
              <p:spPr>
                <a:xfrm rot="7630800">
                  <a:off x="1109160" y="241560"/>
                  <a:ext cx="165960" cy="14760"/>
                </a:xfrm>
                <a:custGeom>
                  <a:avLst/>
                  <a:gdLst>
                    <a:gd name="textAreaLeft" fmla="*/ 0 w 165960"/>
                    <a:gd name="textAreaRight" fmla="*/ 166320 w 1659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Freeform 1337"/>
                <p:cNvSpPr/>
                <p:nvPr/>
              </p:nvSpPr>
              <p:spPr>
                <a:xfrm rot="7630800">
                  <a:off x="1089000" y="289800"/>
                  <a:ext cx="214920" cy="55800"/>
                </a:xfrm>
                <a:custGeom>
                  <a:avLst/>
                  <a:gdLst>
                    <a:gd name="textAreaLeft" fmla="*/ 0 w 214920"/>
                    <a:gd name="textAreaRight" fmla="*/ 215280 w 2149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Freeform 1338"/>
                <p:cNvSpPr/>
                <p:nvPr/>
              </p:nvSpPr>
              <p:spPr>
                <a:xfrm rot="7630800">
                  <a:off x="1074960" y="328680"/>
                  <a:ext cx="236880" cy="73080"/>
                </a:xfrm>
                <a:custGeom>
                  <a:avLst/>
                  <a:gdLst>
                    <a:gd name="textAreaLeft" fmla="*/ 0 w 236880"/>
                    <a:gd name="textAreaRight" fmla="*/ 237240 w 23688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Freeform 1339"/>
                <p:cNvSpPr/>
                <p:nvPr/>
              </p:nvSpPr>
              <p:spPr>
                <a:xfrm rot="7630800">
                  <a:off x="1152720" y="194400"/>
                  <a:ext cx="98280" cy="9360"/>
                </a:xfrm>
                <a:custGeom>
                  <a:avLst/>
                  <a:gdLst>
                    <a:gd name="textAreaLeft" fmla="*/ 0 w 98280"/>
                    <a:gd name="textAreaRight" fmla="*/ 98640 w 9828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Freeform 1340"/>
                <p:cNvSpPr/>
                <p:nvPr/>
              </p:nvSpPr>
              <p:spPr>
                <a:xfrm rot="7630800">
                  <a:off x="1188000" y="150480"/>
                  <a:ext cx="51480" cy="3600"/>
                </a:xfrm>
                <a:custGeom>
                  <a:avLst/>
                  <a:gdLst>
                    <a:gd name="textAreaLeft" fmla="*/ 0 w 51480"/>
                    <a:gd name="textAreaRight" fmla="*/ 51840 w 51480"/>
                    <a:gd name="textAreaTop" fmla="*/ 0 h 3600"/>
                    <a:gd name="textAreaBottom" fmla="*/ 3960 h 360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Freeform 1341"/>
                <p:cNvSpPr/>
                <p:nvPr/>
              </p:nvSpPr>
              <p:spPr>
                <a:xfrm rot="7630800">
                  <a:off x="1175400" y="146880"/>
                  <a:ext cx="37440" cy="259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Freeform 1342"/>
                <p:cNvSpPr/>
                <p:nvPr/>
              </p:nvSpPr>
              <p:spPr>
                <a:xfrm rot="7630800">
                  <a:off x="1136880" y="172440"/>
                  <a:ext cx="65520" cy="47520"/>
                </a:xfrm>
                <a:custGeom>
                  <a:avLst/>
                  <a:gdLst>
                    <a:gd name="textAreaLeft" fmla="*/ 0 w 65520"/>
                    <a:gd name="textAreaRight" fmla="*/ 65880 w 65520"/>
                    <a:gd name="textAreaTop" fmla="*/ 0 h 47520"/>
                    <a:gd name="textAreaBottom" fmla="*/ 47880 h 4752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Freeform 1343"/>
                <p:cNvSpPr/>
                <p:nvPr/>
              </p:nvSpPr>
              <p:spPr>
                <a:xfrm rot="7630800">
                  <a:off x="1080720" y="208800"/>
                  <a:ext cx="105120" cy="83880"/>
                </a:xfrm>
                <a:custGeom>
                  <a:avLst/>
                  <a:gdLst>
                    <a:gd name="textAreaLeft" fmla="*/ 0 w 105120"/>
                    <a:gd name="textAreaRight" fmla="*/ 105480 w 10512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Freeform 1344"/>
                <p:cNvSpPr/>
                <p:nvPr/>
              </p:nvSpPr>
              <p:spPr>
                <a:xfrm rot="7630800">
                  <a:off x="1036800" y="246960"/>
                  <a:ext cx="113040" cy="1227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122760"/>
                    <a:gd name="textAreaBottom" fmla="*/ 123120 h 12276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Freeform 1345"/>
                <p:cNvSpPr/>
                <p:nvPr/>
              </p:nvSpPr>
              <p:spPr>
                <a:xfrm rot="7630800">
                  <a:off x="1057320" y="256680"/>
                  <a:ext cx="12240" cy="4896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Freeform 1346"/>
                <p:cNvSpPr/>
                <p:nvPr/>
              </p:nvSpPr>
              <p:spPr>
                <a:xfrm rot="7630800">
                  <a:off x="1013760" y="292320"/>
                  <a:ext cx="78120" cy="15192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151920"/>
                    <a:gd name="textAreaBottom" fmla="*/ 152280 h 15192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1347"/>
                <p:cNvSpPr/>
                <p:nvPr/>
              </p:nvSpPr>
              <p:spPr>
                <a:xfrm rot="7630800">
                  <a:off x="1069560" y="293760"/>
                  <a:ext cx="57960" cy="24120"/>
                </a:xfrm>
                <a:custGeom>
                  <a:avLst/>
                  <a:gdLst>
                    <a:gd name="textAreaLeft" fmla="*/ 0 w 57960"/>
                    <a:gd name="textAreaRight" fmla="*/ 58320 w 5796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Freeform 1348"/>
                <p:cNvSpPr/>
                <p:nvPr/>
              </p:nvSpPr>
              <p:spPr>
                <a:xfrm rot="7630800">
                  <a:off x="1105920" y="204480"/>
                  <a:ext cx="28080" cy="3924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Freeform 1349"/>
                <p:cNvSpPr/>
                <p:nvPr/>
              </p:nvSpPr>
              <p:spPr>
                <a:xfrm rot="7630800">
                  <a:off x="1173240" y="227880"/>
                  <a:ext cx="61200" cy="8640"/>
                </a:xfrm>
                <a:custGeom>
                  <a:avLst/>
                  <a:gdLst>
                    <a:gd name="textAreaLeft" fmla="*/ 0 w 61200"/>
                    <a:gd name="textAreaRight" fmla="*/ 61560 w 6120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Freeform 1350"/>
                <p:cNvSpPr/>
                <p:nvPr/>
              </p:nvSpPr>
              <p:spPr>
                <a:xfrm rot="7630800">
                  <a:off x="1208520" y="218880"/>
                  <a:ext cx="37440" cy="1476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Freeform 1351"/>
                <p:cNvSpPr/>
                <p:nvPr/>
              </p:nvSpPr>
              <p:spPr>
                <a:xfrm rot="7630800">
                  <a:off x="1095120" y="262440"/>
                  <a:ext cx="12240" cy="900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9000"/>
                    <a:gd name="textAreaBottom" fmla="*/ 9360 h 900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Freeform 1352"/>
                <p:cNvSpPr/>
                <p:nvPr/>
              </p:nvSpPr>
              <p:spPr>
                <a:xfrm rot="7630800">
                  <a:off x="1214280" y="260640"/>
                  <a:ext cx="10800" cy="54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1353"/>
                <p:cNvSpPr/>
                <p:nvPr/>
              </p:nvSpPr>
              <p:spPr>
                <a:xfrm rot="7630800">
                  <a:off x="1214280" y="311400"/>
                  <a:ext cx="12240" cy="720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1354"/>
                <p:cNvSpPr/>
                <p:nvPr/>
              </p:nvSpPr>
              <p:spPr>
                <a:xfrm rot="7630800">
                  <a:off x="1234440" y="172080"/>
                  <a:ext cx="9360" cy="324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6" name="Group 1110"/>
              <p:cNvGrpSpPr/>
              <p:nvPr/>
            </p:nvGrpSpPr>
            <p:grpSpPr>
              <a:xfrm>
                <a:off x="1035720" y="514440"/>
                <a:ext cx="47160" cy="42120"/>
                <a:chOff x="1035720" y="514440"/>
                <a:chExt cx="47160" cy="42120"/>
              </a:xfrm>
            </p:grpSpPr>
            <p:sp>
              <p:nvSpPr>
                <p:cNvPr id="1197" name="Freeform 1356"/>
                <p:cNvSpPr/>
                <p:nvPr/>
              </p:nvSpPr>
              <p:spPr>
                <a:xfrm rot="3266400">
                  <a:off x="1048680" y="513720"/>
                  <a:ext cx="20880" cy="43200"/>
                </a:xfrm>
                <a:custGeom>
                  <a:avLst/>
                  <a:gdLst>
                    <a:gd name="textAreaLeft" fmla="*/ 0 w 20880"/>
                    <a:gd name="textAreaRight" fmla="*/ 21240 w 20880"/>
                    <a:gd name="textAreaTop" fmla="*/ 0 h 43200"/>
                    <a:gd name="textAreaBottom" fmla="*/ 43200 h 4320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Freeform 1357"/>
                <p:cNvSpPr/>
                <p:nvPr/>
              </p:nvSpPr>
              <p:spPr>
                <a:xfrm rot="21219600">
                  <a:off x="1044720" y="526320"/>
                  <a:ext cx="21960" cy="12600"/>
                </a:xfrm>
                <a:custGeom>
                  <a:avLst/>
                  <a:gdLst>
                    <a:gd name="textAreaLeft" fmla="*/ 0 w 21960"/>
                    <a:gd name="textAreaRight" fmla="*/ 21960 w 219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9" name="Group 1113"/>
            <p:cNvGrpSpPr/>
            <p:nvPr/>
          </p:nvGrpSpPr>
          <p:grpSpPr>
            <a:xfrm>
              <a:off x="1438560" y="156240"/>
              <a:ext cx="474840" cy="468000"/>
              <a:chOff x="1438560" y="156240"/>
              <a:chExt cx="474840" cy="468000"/>
            </a:xfrm>
          </p:grpSpPr>
          <p:grpSp>
            <p:nvGrpSpPr>
              <p:cNvPr id="1200" name="Group 1114"/>
              <p:cNvGrpSpPr/>
              <p:nvPr/>
            </p:nvGrpSpPr>
            <p:grpSpPr>
              <a:xfrm>
                <a:off x="1460520" y="156240"/>
                <a:ext cx="452880" cy="468000"/>
                <a:chOff x="1460520" y="156240"/>
                <a:chExt cx="452880" cy="468000"/>
              </a:xfrm>
            </p:grpSpPr>
            <p:sp>
              <p:nvSpPr>
                <p:cNvPr id="1201" name="Freeform 1360"/>
                <p:cNvSpPr/>
                <p:nvPr/>
              </p:nvSpPr>
              <p:spPr>
                <a:xfrm rot="12159000">
                  <a:off x="1582200" y="191520"/>
                  <a:ext cx="264600" cy="396720"/>
                </a:xfrm>
                <a:custGeom>
                  <a:avLst/>
                  <a:gdLst>
                    <a:gd name="textAreaLeft" fmla="*/ 0 w 264600"/>
                    <a:gd name="textAreaRight" fmla="*/ 264960 w 264600"/>
                    <a:gd name="textAreaTop" fmla="*/ 0 h 396720"/>
                    <a:gd name="textAreaBottom" fmla="*/ 397080 h 39672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1361"/>
                <p:cNvSpPr/>
                <p:nvPr/>
              </p:nvSpPr>
              <p:spPr>
                <a:xfrm rot="12159000">
                  <a:off x="1587240" y="305640"/>
                  <a:ext cx="224280" cy="188280"/>
                </a:xfrm>
                <a:custGeom>
                  <a:avLst/>
                  <a:gdLst>
                    <a:gd name="textAreaLeft" fmla="*/ 0 w 224280"/>
                    <a:gd name="textAreaRight" fmla="*/ 224640 w 224280"/>
                    <a:gd name="textAreaTop" fmla="*/ 0 h 188280"/>
                    <a:gd name="textAreaBottom" fmla="*/ 188640 h 18828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1362"/>
                <p:cNvSpPr/>
                <p:nvPr/>
              </p:nvSpPr>
              <p:spPr>
                <a:xfrm rot="12159000">
                  <a:off x="1492920" y="283680"/>
                  <a:ext cx="326880" cy="234360"/>
                </a:xfrm>
                <a:custGeom>
                  <a:avLst/>
                  <a:gdLst>
                    <a:gd name="textAreaLeft" fmla="*/ 0 w 326880"/>
                    <a:gd name="textAreaRight" fmla="*/ 327240 w 326880"/>
                    <a:gd name="textAreaTop" fmla="*/ 0 h 234360"/>
                    <a:gd name="textAreaBottom" fmla="*/ 234720 h 23436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1363"/>
                <p:cNvSpPr/>
                <p:nvPr/>
              </p:nvSpPr>
              <p:spPr>
                <a:xfrm rot="12159000">
                  <a:off x="1680480" y="396000"/>
                  <a:ext cx="106560" cy="2304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1364"/>
                <p:cNvSpPr/>
                <p:nvPr/>
              </p:nvSpPr>
              <p:spPr>
                <a:xfrm rot="12159000">
                  <a:off x="1607400" y="416160"/>
                  <a:ext cx="137160" cy="86400"/>
                </a:xfrm>
                <a:custGeom>
                  <a:avLst/>
                  <a:gdLst>
                    <a:gd name="textAreaLeft" fmla="*/ 0 w 137160"/>
                    <a:gd name="textAreaRight" fmla="*/ 137520 w 137160"/>
                    <a:gd name="textAreaTop" fmla="*/ 0 h 86400"/>
                    <a:gd name="textAreaBottom" fmla="*/ 86760 h 8640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1365"/>
                <p:cNvSpPr/>
                <p:nvPr/>
              </p:nvSpPr>
              <p:spPr>
                <a:xfrm rot="12159000">
                  <a:off x="1561680" y="429840"/>
                  <a:ext cx="151200" cy="114480"/>
                </a:xfrm>
                <a:custGeom>
                  <a:avLst/>
                  <a:gdLst>
                    <a:gd name="textAreaLeft" fmla="*/ 0 w 151200"/>
                    <a:gd name="textAreaRight" fmla="*/ 151560 w 151200"/>
                    <a:gd name="textAreaTop" fmla="*/ 0 h 114480"/>
                    <a:gd name="textAreaBottom" fmla="*/ 114840 h 11448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1366"/>
                <p:cNvSpPr/>
                <p:nvPr/>
              </p:nvSpPr>
              <p:spPr>
                <a:xfrm rot="12159000">
                  <a:off x="1742400" y="379440"/>
                  <a:ext cx="63000" cy="144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Freeform 1367"/>
                <p:cNvSpPr/>
                <p:nvPr/>
              </p:nvSpPr>
              <p:spPr>
                <a:xfrm rot="12159000">
                  <a:off x="1796040" y="366840"/>
                  <a:ext cx="32760" cy="5760"/>
                </a:xfrm>
                <a:custGeom>
                  <a:avLst/>
                  <a:gdLst>
                    <a:gd name="textAreaLeft" fmla="*/ 0 w 32760"/>
                    <a:gd name="textAreaRight" fmla="*/ 33120 w 32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Freeform 1368"/>
                <p:cNvSpPr/>
                <p:nvPr/>
              </p:nvSpPr>
              <p:spPr>
                <a:xfrm rot="12159000">
                  <a:off x="1795680" y="328320"/>
                  <a:ext cx="23760" cy="4068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Freeform 1369"/>
                <p:cNvSpPr/>
                <p:nvPr/>
              </p:nvSpPr>
              <p:spPr>
                <a:xfrm rot="12159000">
                  <a:off x="1759680" y="305280"/>
                  <a:ext cx="41760" cy="7488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Freeform 1370"/>
                <p:cNvSpPr/>
                <p:nvPr/>
              </p:nvSpPr>
              <p:spPr>
                <a:xfrm rot="12159000">
                  <a:off x="1706040" y="266760"/>
                  <a:ext cx="67320" cy="131760"/>
                </a:xfrm>
                <a:custGeom>
                  <a:avLst/>
                  <a:gdLst>
                    <a:gd name="textAreaLeft" fmla="*/ 0 w 67320"/>
                    <a:gd name="textAreaRight" fmla="*/ 67680 w 6732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Freeform 1371"/>
                <p:cNvSpPr/>
                <p:nvPr/>
              </p:nvSpPr>
              <p:spPr>
                <a:xfrm rot="12159000">
                  <a:off x="1661400" y="223200"/>
                  <a:ext cx="71640" cy="19260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1372"/>
                <p:cNvSpPr/>
                <p:nvPr/>
              </p:nvSpPr>
              <p:spPr>
                <a:xfrm rot="12159000">
                  <a:off x="1717920" y="224280"/>
                  <a:ext cx="8280" cy="7668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76680"/>
                    <a:gd name="textAreaBottom" fmla="*/ 77040 h 7668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Freeform 1373"/>
                <p:cNvSpPr/>
                <p:nvPr/>
              </p:nvSpPr>
              <p:spPr>
                <a:xfrm rot="12159000">
                  <a:off x="1627200" y="189000"/>
                  <a:ext cx="50040" cy="23724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0 h 237240"/>
                    <a:gd name="textAreaBottom" fmla="*/ 237600 h 23724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Freeform 1374"/>
                <p:cNvSpPr/>
                <p:nvPr/>
              </p:nvSpPr>
              <p:spPr>
                <a:xfrm rot="12159000">
                  <a:off x="1680120" y="305280"/>
                  <a:ext cx="37080" cy="37440"/>
                </a:xfrm>
                <a:custGeom>
                  <a:avLst/>
                  <a:gdLst>
                    <a:gd name="textAreaLeft" fmla="*/ 0 w 37080"/>
                    <a:gd name="textAreaRight" fmla="*/ 37440 w 3708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1375"/>
                <p:cNvSpPr/>
                <p:nvPr/>
              </p:nvSpPr>
              <p:spPr>
                <a:xfrm rot="12159000">
                  <a:off x="1754640" y="267480"/>
                  <a:ext cx="17640" cy="6048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1376"/>
                <p:cNvSpPr/>
                <p:nvPr/>
              </p:nvSpPr>
              <p:spPr>
                <a:xfrm rot="12159000">
                  <a:off x="1726920" y="405720"/>
                  <a:ext cx="38520" cy="129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1377"/>
                <p:cNvSpPr/>
                <p:nvPr/>
              </p:nvSpPr>
              <p:spPr>
                <a:xfrm rot="12159000">
                  <a:off x="1736640" y="425520"/>
                  <a:ext cx="23760" cy="2304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1378"/>
                <p:cNvSpPr/>
                <p:nvPr/>
              </p:nvSpPr>
              <p:spPr>
                <a:xfrm rot="12159000">
                  <a:off x="1726200" y="293760"/>
                  <a:ext cx="8280" cy="1440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1379"/>
                <p:cNvSpPr/>
                <p:nvPr/>
              </p:nvSpPr>
              <p:spPr>
                <a:xfrm rot="12159000">
                  <a:off x="1715400" y="449280"/>
                  <a:ext cx="6480" cy="7920"/>
                </a:xfrm>
                <a:custGeom>
                  <a:avLst/>
                  <a:gdLst>
                    <a:gd name="textAreaLeft" fmla="*/ 0 w 6480"/>
                    <a:gd name="textAreaRight" fmla="*/ 6840 w 648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1380"/>
                <p:cNvSpPr/>
                <p:nvPr/>
              </p:nvSpPr>
              <p:spPr>
                <a:xfrm rot="12159000">
                  <a:off x="1671120" y="482760"/>
                  <a:ext cx="8280" cy="1080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1381"/>
                <p:cNvSpPr/>
                <p:nvPr/>
              </p:nvSpPr>
              <p:spPr>
                <a:xfrm rot="12159000">
                  <a:off x="1787760" y="414000"/>
                  <a:ext cx="6120" cy="576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3" name="Group 1137"/>
              <p:cNvGrpSpPr/>
              <p:nvPr/>
            </p:nvGrpSpPr>
            <p:grpSpPr>
              <a:xfrm>
                <a:off x="1438560" y="436320"/>
                <a:ext cx="42840" cy="43560"/>
                <a:chOff x="1438560" y="436320"/>
                <a:chExt cx="42840" cy="43560"/>
              </a:xfrm>
            </p:grpSpPr>
            <p:sp>
              <p:nvSpPr>
                <p:cNvPr id="1224" name="Freeform 1383"/>
                <p:cNvSpPr/>
                <p:nvPr/>
              </p:nvSpPr>
              <p:spPr>
                <a:xfrm rot="7794000">
                  <a:off x="1443240" y="443880"/>
                  <a:ext cx="33120" cy="28080"/>
                </a:xfrm>
                <a:custGeom>
                  <a:avLst/>
                  <a:gdLst>
                    <a:gd name="textAreaLeft" fmla="*/ 0 w 33120"/>
                    <a:gd name="textAreaRight" fmla="*/ 33120 w 3312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Freeform 1384"/>
                <p:cNvSpPr/>
                <p:nvPr/>
              </p:nvSpPr>
              <p:spPr>
                <a:xfrm rot="4147200">
                  <a:off x="1456560" y="442440"/>
                  <a:ext cx="14040" cy="2016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20160"/>
                    <a:gd name="textAreaBottom" fmla="*/ 20160 h 2016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26" name="Group 1140"/>
          <p:cNvGrpSpPr/>
          <p:nvPr/>
        </p:nvGrpSpPr>
        <p:grpSpPr>
          <a:xfrm>
            <a:off x="-187920" y="759600"/>
            <a:ext cx="1493280" cy="1297440"/>
            <a:chOff x="-187920" y="759600"/>
            <a:chExt cx="1493280" cy="1297440"/>
          </a:xfrm>
        </p:grpSpPr>
        <p:sp>
          <p:nvSpPr>
            <p:cNvPr id="1227" name="Freeform 1386"/>
            <p:cNvSpPr/>
            <p:nvPr/>
          </p:nvSpPr>
          <p:spPr>
            <a:xfrm flipH="1" rot="4059600">
              <a:off x="377280" y="726480"/>
              <a:ext cx="216720" cy="1187280"/>
            </a:xfrm>
            <a:custGeom>
              <a:avLst/>
              <a:gdLst>
                <a:gd name="textAreaLeft" fmla="*/ 360 w 216720"/>
                <a:gd name="textAreaRight" fmla="*/ 217440 w 216720"/>
                <a:gd name="textAreaTop" fmla="*/ 0 h 1187280"/>
                <a:gd name="textAreaBottom" fmla="*/ 1187640 h 1187280"/>
              </a:gdLst>
              <a:ahLst/>
              <a:rect l="textAreaLeft" t="textAreaTop" r="textAreaRight" b="textAreaBottom"/>
              <a:pathLst>
                <a:path w="2573" h="12419">
                  <a:moveTo>
                    <a:pt x="103" y="11997"/>
                  </a:moveTo>
                  <a:lnTo>
                    <a:pt x="103" y="11955"/>
                  </a:lnTo>
                  <a:lnTo>
                    <a:pt x="113" y="11851"/>
                  </a:lnTo>
                  <a:lnTo>
                    <a:pt x="124" y="11788"/>
                  </a:lnTo>
                  <a:lnTo>
                    <a:pt x="135" y="11737"/>
                  </a:lnTo>
                  <a:lnTo>
                    <a:pt x="150" y="11690"/>
                  </a:lnTo>
                  <a:lnTo>
                    <a:pt x="160" y="11669"/>
                  </a:lnTo>
                  <a:lnTo>
                    <a:pt x="170" y="11658"/>
                  </a:lnTo>
                  <a:lnTo>
                    <a:pt x="228" y="11596"/>
                  </a:lnTo>
                  <a:lnTo>
                    <a:pt x="264" y="11555"/>
                  </a:lnTo>
                  <a:lnTo>
                    <a:pt x="300" y="11503"/>
                  </a:lnTo>
                  <a:lnTo>
                    <a:pt x="332" y="11445"/>
                  </a:lnTo>
                  <a:lnTo>
                    <a:pt x="368" y="11378"/>
                  </a:lnTo>
                  <a:lnTo>
                    <a:pt x="394" y="11305"/>
                  </a:lnTo>
                  <a:lnTo>
                    <a:pt x="410" y="11221"/>
                  </a:lnTo>
                  <a:lnTo>
                    <a:pt x="447" y="11071"/>
                  </a:lnTo>
                  <a:lnTo>
                    <a:pt x="504" y="10821"/>
                  </a:lnTo>
                  <a:lnTo>
                    <a:pt x="670" y="10144"/>
                  </a:lnTo>
                  <a:lnTo>
                    <a:pt x="831" y="9488"/>
                  </a:lnTo>
                  <a:lnTo>
                    <a:pt x="883" y="9254"/>
                  </a:lnTo>
                  <a:lnTo>
                    <a:pt x="904" y="9140"/>
                  </a:lnTo>
                  <a:lnTo>
                    <a:pt x="909" y="9056"/>
                  </a:lnTo>
                  <a:lnTo>
                    <a:pt x="914" y="9004"/>
                  </a:lnTo>
                  <a:lnTo>
                    <a:pt x="919" y="8983"/>
                  </a:lnTo>
                  <a:lnTo>
                    <a:pt x="930" y="8973"/>
                  </a:lnTo>
                  <a:lnTo>
                    <a:pt x="946" y="8963"/>
                  </a:lnTo>
                  <a:lnTo>
                    <a:pt x="966" y="8958"/>
                  </a:lnTo>
                  <a:lnTo>
                    <a:pt x="981" y="8946"/>
                  </a:lnTo>
                  <a:lnTo>
                    <a:pt x="1003" y="8921"/>
                  </a:lnTo>
                  <a:lnTo>
                    <a:pt x="1023" y="8884"/>
                  </a:lnTo>
                  <a:lnTo>
                    <a:pt x="1050" y="8833"/>
                  </a:lnTo>
                  <a:lnTo>
                    <a:pt x="1106" y="8708"/>
                  </a:lnTo>
                  <a:lnTo>
                    <a:pt x="1169" y="8556"/>
                  </a:lnTo>
                  <a:lnTo>
                    <a:pt x="1231" y="8395"/>
                  </a:lnTo>
                  <a:lnTo>
                    <a:pt x="1288" y="8239"/>
                  </a:lnTo>
                  <a:lnTo>
                    <a:pt x="1335" y="8104"/>
                  </a:lnTo>
                  <a:lnTo>
                    <a:pt x="1367" y="7999"/>
                  </a:lnTo>
                  <a:lnTo>
                    <a:pt x="1445" y="7755"/>
                  </a:lnTo>
                  <a:lnTo>
                    <a:pt x="1554" y="7401"/>
                  </a:lnTo>
                  <a:lnTo>
                    <a:pt x="1606" y="7213"/>
                  </a:lnTo>
                  <a:lnTo>
                    <a:pt x="1647" y="7026"/>
                  </a:lnTo>
                  <a:lnTo>
                    <a:pt x="1669" y="6943"/>
                  </a:lnTo>
                  <a:lnTo>
                    <a:pt x="1679" y="6860"/>
                  </a:lnTo>
                  <a:lnTo>
                    <a:pt x="1689" y="6786"/>
                  </a:lnTo>
                  <a:lnTo>
                    <a:pt x="1689" y="6719"/>
                  </a:lnTo>
                  <a:lnTo>
                    <a:pt x="1694" y="6651"/>
                  </a:lnTo>
                  <a:lnTo>
                    <a:pt x="1699" y="6558"/>
                  </a:lnTo>
                  <a:lnTo>
                    <a:pt x="1731" y="6318"/>
                  </a:lnTo>
                  <a:lnTo>
                    <a:pt x="1772" y="6032"/>
                  </a:lnTo>
                  <a:lnTo>
                    <a:pt x="1814" y="5730"/>
                  </a:lnTo>
                  <a:lnTo>
                    <a:pt x="1902" y="5163"/>
                  </a:lnTo>
                  <a:lnTo>
                    <a:pt x="1934" y="4955"/>
                  </a:lnTo>
                  <a:lnTo>
                    <a:pt x="1939" y="4877"/>
                  </a:lnTo>
                  <a:lnTo>
                    <a:pt x="1944" y="4830"/>
                  </a:lnTo>
                  <a:lnTo>
                    <a:pt x="1949" y="4236"/>
                  </a:lnTo>
                  <a:lnTo>
                    <a:pt x="1964" y="3133"/>
                  </a:lnTo>
                  <a:lnTo>
                    <a:pt x="1970" y="2555"/>
                  </a:lnTo>
                  <a:lnTo>
                    <a:pt x="1970" y="2050"/>
                  </a:lnTo>
                  <a:lnTo>
                    <a:pt x="1964" y="1686"/>
                  </a:lnTo>
                  <a:lnTo>
                    <a:pt x="1959" y="1571"/>
                  </a:lnTo>
                  <a:lnTo>
                    <a:pt x="1954" y="1541"/>
                  </a:lnTo>
                  <a:lnTo>
                    <a:pt x="1954" y="1524"/>
                  </a:lnTo>
                  <a:lnTo>
                    <a:pt x="1918" y="1457"/>
                  </a:lnTo>
                  <a:lnTo>
                    <a:pt x="1892" y="1399"/>
                  </a:lnTo>
                  <a:lnTo>
                    <a:pt x="1887" y="1374"/>
                  </a:lnTo>
                  <a:lnTo>
                    <a:pt x="1882" y="1347"/>
                  </a:lnTo>
                  <a:lnTo>
                    <a:pt x="1882" y="1327"/>
                  </a:lnTo>
                  <a:lnTo>
                    <a:pt x="1892" y="1311"/>
                  </a:lnTo>
                  <a:lnTo>
                    <a:pt x="1897" y="1306"/>
                  </a:lnTo>
                  <a:lnTo>
                    <a:pt x="1907" y="1301"/>
                  </a:lnTo>
                  <a:lnTo>
                    <a:pt x="1923" y="1306"/>
                  </a:lnTo>
                  <a:lnTo>
                    <a:pt x="1944" y="1311"/>
                  </a:lnTo>
                  <a:lnTo>
                    <a:pt x="1964" y="1322"/>
                  </a:lnTo>
                  <a:lnTo>
                    <a:pt x="1986" y="1332"/>
                  </a:lnTo>
                  <a:lnTo>
                    <a:pt x="2006" y="1337"/>
                  </a:lnTo>
                  <a:lnTo>
                    <a:pt x="2022" y="1337"/>
                  </a:lnTo>
                  <a:lnTo>
                    <a:pt x="2027" y="1332"/>
                  </a:lnTo>
                  <a:lnTo>
                    <a:pt x="2032" y="1322"/>
                  </a:lnTo>
                  <a:lnTo>
                    <a:pt x="2214" y="775"/>
                  </a:lnTo>
                  <a:lnTo>
                    <a:pt x="2386" y="265"/>
                  </a:lnTo>
                  <a:lnTo>
                    <a:pt x="2376" y="228"/>
                  </a:lnTo>
                  <a:lnTo>
                    <a:pt x="2360" y="140"/>
                  </a:lnTo>
                  <a:lnTo>
                    <a:pt x="2360" y="93"/>
                  </a:lnTo>
                  <a:lnTo>
                    <a:pt x="2360" y="51"/>
                  </a:lnTo>
                  <a:lnTo>
                    <a:pt x="2365" y="20"/>
                  </a:lnTo>
                  <a:lnTo>
                    <a:pt x="2376" y="10"/>
                  </a:lnTo>
                  <a:lnTo>
                    <a:pt x="2386" y="5"/>
                  </a:lnTo>
                  <a:lnTo>
                    <a:pt x="2396" y="0"/>
                  </a:lnTo>
                  <a:lnTo>
                    <a:pt x="2401" y="5"/>
                  </a:lnTo>
                  <a:lnTo>
                    <a:pt x="2417" y="15"/>
                  </a:lnTo>
                  <a:lnTo>
                    <a:pt x="2423" y="36"/>
                  </a:lnTo>
                  <a:lnTo>
                    <a:pt x="2428" y="67"/>
                  </a:lnTo>
                  <a:lnTo>
                    <a:pt x="2438" y="130"/>
                  </a:lnTo>
                  <a:lnTo>
                    <a:pt x="2448" y="155"/>
                  </a:lnTo>
                  <a:lnTo>
                    <a:pt x="2464" y="177"/>
                  </a:lnTo>
                  <a:lnTo>
                    <a:pt x="2485" y="187"/>
                  </a:lnTo>
                  <a:lnTo>
                    <a:pt x="2505" y="197"/>
                  </a:lnTo>
                  <a:lnTo>
                    <a:pt x="2547" y="213"/>
                  </a:lnTo>
                  <a:lnTo>
                    <a:pt x="2563" y="218"/>
                  </a:lnTo>
                  <a:lnTo>
                    <a:pt x="2568" y="228"/>
                  </a:lnTo>
                  <a:lnTo>
                    <a:pt x="2573" y="233"/>
                  </a:lnTo>
                  <a:lnTo>
                    <a:pt x="2568" y="245"/>
                  </a:lnTo>
                  <a:lnTo>
                    <a:pt x="2531" y="275"/>
                  </a:lnTo>
                  <a:lnTo>
                    <a:pt x="2490" y="327"/>
                  </a:lnTo>
                  <a:lnTo>
                    <a:pt x="2443" y="390"/>
                  </a:lnTo>
                  <a:lnTo>
                    <a:pt x="2423" y="421"/>
                  </a:lnTo>
                  <a:lnTo>
                    <a:pt x="2406" y="457"/>
                  </a:lnTo>
                  <a:lnTo>
                    <a:pt x="2334" y="650"/>
                  </a:lnTo>
                  <a:lnTo>
                    <a:pt x="2219" y="999"/>
                  </a:lnTo>
                  <a:lnTo>
                    <a:pt x="2163" y="1186"/>
                  </a:lnTo>
                  <a:lnTo>
                    <a:pt x="2116" y="1363"/>
                  </a:lnTo>
                  <a:lnTo>
                    <a:pt x="2084" y="1504"/>
                  </a:lnTo>
                  <a:lnTo>
                    <a:pt x="2074" y="1556"/>
                  </a:lnTo>
                  <a:lnTo>
                    <a:pt x="2074" y="1592"/>
                  </a:lnTo>
                  <a:lnTo>
                    <a:pt x="2074" y="1706"/>
                  </a:lnTo>
                  <a:lnTo>
                    <a:pt x="2074" y="1915"/>
                  </a:lnTo>
                  <a:lnTo>
                    <a:pt x="2069" y="2456"/>
                  </a:lnTo>
                  <a:lnTo>
                    <a:pt x="2053" y="3195"/>
                  </a:lnTo>
                  <a:lnTo>
                    <a:pt x="2064" y="3185"/>
                  </a:lnTo>
                  <a:lnTo>
                    <a:pt x="2089" y="3164"/>
                  </a:lnTo>
                  <a:lnTo>
                    <a:pt x="2106" y="3154"/>
                  </a:lnTo>
                  <a:lnTo>
                    <a:pt x="2116" y="3154"/>
                  </a:lnTo>
                  <a:lnTo>
                    <a:pt x="2121" y="3159"/>
                  </a:lnTo>
                  <a:lnTo>
                    <a:pt x="2121" y="3174"/>
                  </a:lnTo>
                  <a:lnTo>
                    <a:pt x="2111" y="3227"/>
                  </a:lnTo>
                  <a:lnTo>
                    <a:pt x="2089" y="3284"/>
                  </a:lnTo>
                  <a:lnTo>
                    <a:pt x="2069" y="3352"/>
                  </a:lnTo>
                  <a:lnTo>
                    <a:pt x="2064" y="3394"/>
                  </a:lnTo>
                  <a:lnTo>
                    <a:pt x="2064" y="3435"/>
                  </a:lnTo>
                  <a:lnTo>
                    <a:pt x="2058" y="3747"/>
                  </a:lnTo>
                  <a:lnTo>
                    <a:pt x="2043" y="4356"/>
                  </a:lnTo>
                  <a:lnTo>
                    <a:pt x="2032" y="4705"/>
                  </a:lnTo>
                  <a:lnTo>
                    <a:pt x="2022" y="5048"/>
                  </a:lnTo>
                  <a:lnTo>
                    <a:pt x="2001" y="5360"/>
                  </a:lnTo>
                  <a:lnTo>
                    <a:pt x="1981" y="5610"/>
                  </a:lnTo>
                  <a:lnTo>
                    <a:pt x="1954" y="5834"/>
                  </a:lnTo>
                  <a:lnTo>
                    <a:pt x="1923" y="6058"/>
                  </a:lnTo>
                  <a:lnTo>
                    <a:pt x="1850" y="6490"/>
                  </a:lnTo>
                  <a:lnTo>
                    <a:pt x="1819" y="6673"/>
                  </a:lnTo>
                  <a:lnTo>
                    <a:pt x="1799" y="6818"/>
                  </a:lnTo>
                  <a:lnTo>
                    <a:pt x="1794" y="6922"/>
                  </a:lnTo>
                  <a:lnTo>
                    <a:pt x="1794" y="6953"/>
                  </a:lnTo>
                  <a:lnTo>
                    <a:pt x="1804" y="6974"/>
                  </a:lnTo>
                  <a:lnTo>
                    <a:pt x="1819" y="6985"/>
                  </a:lnTo>
                  <a:lnTo>
                    <a:pt x="1834" y="6990"/>
                  </a:lnTo>
                  <a:lnTo>
                    <a:pt x="1866" y="6990"/>
                  </a:lnTo>
                  <a:lnTo>
                    <a:pt x="1876" y="6990"/>
                  </a:lnTo>
                  <a:lnTo>
                    <a:pt x="1887" y="6995"/>
                  </a:lnTo>
                  <a:lnTo>
                    <a:pt x="1897" y="7010"/>
                  </a:lnTo>
                  <a:lnTo>
                    <a:pt x="1902" y="7031"/>
                  </a:lnTo>
                  <a:lnTo>
                    <a:pt x="1897" y="7063"/>
                  </a:lnTo>
                  <a:lnTo>
                    <a:pt x="1887" y="7100"/>
                  </a:lnTo>
                  <a:lnTo>
                    <a:pt x="1866" y="7130"/>
                  </a:lnTo>
                  <a:lnTo>
                    <a:pt x="1845" y="7162"/>
                  </a:lnTo>
                  <a:lnTo>
                    <a:pt x="1804" y="7208"/>
                  </a:lnTo>
                  <a:lnTo>
                    <a:pt x="1782" y="7224"/>
                  </a:lnTo>
                  <a:lnTo>
                    <a:pt x="1076" y="9108"/>
                  </a:lnTo>
                  <a:lnTo>
                    <a:pt x="571" y="11174"/>
                  </a:lnTo>
                  <a:lnTo>
                    <a:pt x="582" y="11201"/>
                  </a:lnTo>
                  <a:lnTo>
                    <a:pt x="587" y="11243"/>
                  </a:lnTo>
                  <a:lnTo>
                    <a:pt x="582" y="11294"/>
                  </a:lnTo>
                  <a:lnTo>
                    <a:pt x="571" y="11331"/>
                  </a:lnTo>
                  <a:lnTo>
                    <a:pt x="550" y="11378"/>
                  </a:lnTo>
                  <a:lnTo>
                    <a:pt x="487" y="11492"/>
                  </a:lnTo>
                  <a:lnTo>
                    <a:pt x="457" y="11550"/>
                  </a:lnTo>
                  <a:lnTo>
                    <a:pt x="431" y="11606"/>
                  </a:lnTo>
                  <a:lnTo>
                    <a:pt x="410" y="11658"/>
                  </a:lnTo>
                  <a:lnTo>
                    <a:pt x="405" y="11695"/>
                  </a:lnTo>
                  <a:lnTo>
                    <a:pt x="399" y="11737"/>
                  </a:lnTo>
                  <a:lnTo>
                    <a:pt x="389" y="11783"/>
                  </a:lnTo>
                  <a:lnTo>
                    <a:pt x="352" y="11898"/>
                  </a:lnTo>
                  <a:lnTo>
                    <a:pt x="312" y="12018"/>
                  </a:lnTo>
                  <a:lnTo>
                    <a:pt x="259" y="12122"/>
                  </a:lnTo>
                  <a:lnTo>
                    <a:pt x="197" y="12220"/>
                  </a:lnTo>
                  <a:lnTo>
                    <a:pt x="113" y="12330"/>
                  </a:lnTo>
                  <a:lnTo>
                    <a:pt x="77" y="12377"/>
                  </a:lnTo>
                  <a:lnTo>
                    <a:pt x="40" y="12408"/>
                  </a:lnTo>
                  <a:lnTo>
                    <a:pt x="25" y="12419"/>
                  </a:lnTo>
                  <a:lnTo>
                    <a:pt x="15" y="12419"/>
                  </a:lnTo>
                  <a:lnTo>
                    <a:pt x="5" y="12419"/>
                  </a:lnTo>
                  <a:lnTo>
                    <a:pt x="0" y="12413"/>
                  </a:lnTo>
                  <a:lnTo>
                    <a:pt x="0" y="12397"/>
                  </a:lnTo>
                  <a:lnTo>
                    <a:pt x="0" y="12377"/>
                  </a:lnTo>
                  <a:lnTo>
                    <a:pt x="10" y="12320"/>
                  </a:lnTo>
                  <a:lnTo>
                    <a:pt x="40" y="12185"/>
                  </a:lnTo>
                  <a:lnTo>
                    <a:pt x="82" y="12055"/>
                  </a:lnTo>
                  <a:lnTo>
                    <a:pt x="103" y="11997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1387"/>
            <p:cNvSpPr/>
            <p:nvPr/>
          </p:nvSpPr>
          <p:spPr>
            <a:xfrm flipH="1" rot="4059600">
              <a:off x="-15480" y="1600920"/>
              <a:ext cx="24120" cy="45720"/>
            </a:xfrm>
            <a:custGeom>
              <a:avLst/>
              <a:gdLst>
                <a:gd name="textAreaLeft" fmla="*/ 360 w 24120"/>
                <a:gd name="textAreaRight" fmla="*/ 24840 w 24120"/>
                <a:gd name="textAreaTop" fmla="*/ 0 h 45720"/>
                <a:gd name="textAreaBottom" fmla="*/ 45720 h 45720"/>
              </a:gdLst>
              <a:ahLst/>
              <a:rect l="textAreaLeft" t="textAreaTop" r="textAreaRight" b="textAreaBottom"/>
              <a:pathLst>
                <a:path w="297" h="479">
                  <a:moveTo>
                    <a:pt x="265" y="0"/>
                  </a:moveTo>
                  <a:lnTo>
                    <a:pt x="249" y="5"/>
                  </a:lnTo>
                  <a:lnTo>
                    <a:pt x="228" y="10"/>
                  </a:lnTo>
                  <a:lnTo>
                    <a:pt x="202" y="22"/>
                  </a:lnTo>
                  <a:lnTo>
                    <a:pt x="177" y="37"/>
                  </a:lnTo>
                  <a:lnTo>
                    <a:pt x="145" y="57"/>
                  </a:lnTo>
                  <a:lnTo>
                    <a:pt x="120" y="89"/>
                  </a:lnTo>
                  <a:lnTo>
                    <a:pt x="93" y="130"/>
                  </a:lnTo>
                  <a:lnTo>
                    <a:pt x="73" y="182"/>
                  </a:lnTo>
                  <a:lnTo>
                    <a:pt x="52" y="245"/>
                  </a:lnTo>
                  <a:lnTo>
                    <a:pt x="31" y="312"/>
                  </a:lnTo>
                  <a:lnTo>
                    <a:pt x="10" y="375"/>
                  </a:lnTo>
                  <a:lnTo>
                    <a:pt x="5" y="427"/>
                  </a:lnTo>
                  <a:lnTo>
                    <a:pt x="0" y="464"/>
                  </a:lnTo>
                  <a:lnTo>
                    <a:pt x="5" y="474"/>
                  </a:lnTo>
                  <a:lnTo>
                    <a:pt x="10" y="479"/>
                  </a:lnTo>
                  <a:lnTo>
                    <a:pt x="20" y="474"/>
                  </a:lnTo>
                  <a:lnTo>
                    <a:pt x="36" y="464"/>
                  </a:lnTo>
                  <a:lnTo>
                    <a:pt x="73" y="422"/>
                  </a:lnTo>
                  <a:lnTo>
                    <a:pt x="125" y="359"/>
                  </a:lnTo>
                  <a:lnTo>
                    <a:pt x="177" y="282"/>
                  </a:lnTo>
                  <a:lnTo>
                    <a:pt x="228" y="204"/>
                  </a:lnTo>
                  <a:lnTo>
                    <a:pt x="270" y="125"/>
                  </a:lnTo>
                  <a:lnTo>
                    <a:pt x="280" y="89"/>
                  </a:lnTo>
                  <a:lnTo>
                    <a:pt x="290" y="63"/>
                  </a:lnTo>
                  <a:lnTo>
                    <a:pt x="297" y="37"/>
                  </a:lnTo>
                  <a:lnTo>
                    <a:pt x="297" y="16"/>
                  </a:lnTo>
                  <a:lnTo>
                    <a:pt x="285" y="5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9" name="Group 1143"/>
            <p:cNvGrpSpPr/>
            <p:nvPr/>
          </p:nvGrpSpPr>
          <p:grpSpPr>
            <a:xfrm>
              <a:off x="-107640" y="1512000"/>
              <a:ext cx="496440" cy="545040"/>
              <a:chOff x="-107640" y="1512000"/>
              <a:chExt cx="496440" cy="545040"/>
            </a:xfrm>
          </p:grpSpPr>
          <p:grpSp>
            <p:nvGrpSpPr>
              <p:cNvPr id="1230" name="Group 1144"/>
              <p:cNvGrpSpPr/>
              <p:nvPr/>
            </p:nvGrpSpPr>
            <p:grpSpPr>
              <a:xfrm>
                <a:off x="-107640" y="1515960"/>
                <a:ext cx="496440" cy="541080"/>
                <a:chOff x="-107640" y="1515960"/>
                <a:chExt cx="496440" cy="541080"/>
              </a:xfrm>
            </p:grpSpPr>
            <p:sp>
              <p:nvSpPr>
                <p:cNvPr id="1231" name="Freeform 1390"/>
                <p:cNvSpPr/>
                <p:nvPr/>
              </p:nvSpPr>
              <p:spPr>
                <a:xfrm flipH="1" rot="3919200">
                  <a:off x="-27000" y="1626480"/>
                  <a:ext cx="334800" cy="392400"/>
                </a:xfrm>
                <a:custGeom>
                  <a:avLst/>
                  <a:gdLst>
                    <a:gd name="textAreaLeft" fmla="*/ 360 w 334800"/>
                    <a:gd name="textAreaRight" fmla="*/ 335520 w 334800"/>
                    <a:gd name="textAreaTop" fmla="*/ 0 h 392400"/>
                    <a:gd name="textAreaBottom" fmla="*/ 392760 h 39240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Freeform 1391"/>
                <p:cNvSpPr/>
                <p:nvPr/>
              </p:nvSpPr>
              <p:spPr>
                <a:xfrm flipH="1" rot="3919200">
                  <a:off x="5400" y="1711080"/>
                  <a:ext cx="284040" cy="186120"/>
                </a:xfrm>
                <a:custGeom>
                  <a:avLst/>
                  <a:gdLst>
                    <a:gd name="textAreaLeft" fmla="*/ -360 w 284040"/>
                    <a:gd name="textAreaRight" fmla="*/ 284040 w 284040"/>
                    <a:gd name="textAreaTop" fmla="*/ 0 h 186120"/>
                    <a:gd name="textAreaBottom" fmla="*/ 186480 h 18612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Freeform 1392"/>
                <p:cNvSpPr/>
                <p:nvPr/>
              </p:nvSpPr>
              <p:spPr>
                <a:xfrm flipH="1" rot="3919200">
                  <a:off x="-63720" y="1636200"/>
                  <a:ext cx="413640" cy="231840"/>
                </a:xfrm>
                <a:custGeom>
                  <a:avLst/>
                  <a:gdLst>
                    <a:gd name="textAreaLeft" fmla="*/ -360 w 413640"/>
                    <a:gd name="textAreaRight" fmla="*/ 413640 w 413640"/>
                    <a:gd name="textAreaTop" fmla="*/ 0 h 231840"/>
                    <a:gd name="textAreaBottom" fmla="*/ 232200 h 23184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Freeform 1393"/>
                <p:cNvSpPr/>
                <p:nvPr/>
              </p:nvSpPr>
              <p:spPr>
                <a:xfrm flipH="1" rot="3919200">
                  <a:off x="93960" y="1835280"/>
                  <a:ext cx="134280" cy="23040"/>
                </a:xfrm>
                <a:custGeom>
                  <a:avLst/>
                  <a:gdLst>
                    <a:gd name="textAreaLeft" fmla="*/ -360 w 134280"/>
                    <a:gd name="textAreaRight" fmla="*/ 134280 w 1342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Freeform 1394"/>
                <p:cNvSpPr/>
                <p:nvPr/>
              </p:nvSpPr>
              <p:spPr>
                <a:xfrm flipH="1" rot="3919200">
                  <a:off x="119520" y="1737000"/>
                  <a:ext cx="173520" cy="86040"/>
                </a:xfrm>
                <a:custGeom>
                  <a:avLst/>
                  <a:gdLst>
                    <a:gd name="textAreaLeft" fmla="*/ 360 w 173520"/>
                    <a:gd name="textAreaRight" fmla="*/ 174240 w 17352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Freeform 1395"/>
                <p:cNvSpPr/>
                <p:nvPr/>
              </p:nvSpPr>
              <p:spPr>
                <a:xfrm flipH="1" rot="3919200">
                  <a:off x="133920" y="1677600"/>
                  <a:ext cx="191520" cy="113040"/>
                </a:xfrm>
                <a:custGeom>
                  <a:avLst/>
                  <a:gdLst>
                    <a:gd name="textAreaLeft" fmla="*/ 360 w 191520"/>
                    <a:gd name="textAreaRight" fmla="*/ 192240 w 191520"/>
                    <a:gd name="textAreaTop" fmla="*/ 0 h 113040"/>
                    <a:gd name="textAreaBottom" fmla="*/ 113400 h 11304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Freeform 1396"/>
                <p:cNvSpPr/>
                <p:nvPr/>
              </p:nvSpPr>
              <p:spPr>
                <a:xfrm flipH="1" rot="3919200">
                  <a:off x="105480" y="1887120"/>
                  <a:ext cx="79560" cy="14760"/>
                </a:xfrm>
                <a:custGeom>
                  <a:avLst/>
                  <a:gdLst>
                    <a:gd name="textAreaLeft" fmla="*/ -360 w 79560"/>
                    <a:gd name="textAreaRight" fmla="*/ 79560 w 795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Freeform 1397"/>
                <p:cNvSpPr/>
                <p:nvPr/>
              </p:nvSpPr>
              <p:spPr>
                <a:xfrm flipH="1" rot="3919200">
                  <a:off x="111960" y="1937880"/>
                  <a:ext cx="41400" cy="5760"/>
                </a:xfrm>
                <a:custGeom>
                  <a:avLst/>
                  <a:gdLst>
                    <a:gd name="textAreaLeft" fmla="*/ -360 w 41400"/>
                    <a:gd name="textAreaRight" fmla="*/ 41400 w 4140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Freeform 1398"/>
                <p:cNvSpPr/>
                <p:nvPr/>
              </p:nvSpPr>
              <p:spPr>
                <a:xfrm flipH="1" rot="3919200">
                  <a:off x="96120" y="1914840"/>
                  <a:ext cx="30240" cy="39960"/>
                </a:xfrm>
                <a:custGeom>
                  <a:avLst/>
                  <a:gdLst>
                    <a:gd name="textAreaLeft" fmla="*/ 360 w 30240"/>
                    <a:gd name="textAreaRight" fmla="*/ 30960 w 3024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Freeform 1399"/>
                <p:cNvSpPr/>
                <p:nvPr/>
              </p:nvSpPr>
              <p:spPr>
                <a:xfrm flipH="1" rot="3919200">
                  <a:off x="74160" y="1862640"/>
                  <a:ext cx="52920" cy="74520"/>
                </a:xfrm>
                <a:custGeom>
                  <a:avLst/>
                  <a:gdLst>
                    <a:gd name="textAreaLeft" fmla="*/ -360 w 52920"/>
                    <a:gd name="textAreaRight" fmla="*/ 52920 w 5292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Freeform 1400"/>
                <p:cNvSpPr/>
                <p:nvPr/>
              </p:nvSpPr>
              <p:spPr>
                <a:xfrm flipH="1" rot="3919200">
                  <a:off x="42120" y="1784520"/>
                  <a:ext cx="84960" cy="129960"/>
                </a:xfrm>
                <a:custGeom>
                  <a:avLst/>
                  <a:gdLst>
                    <a:gd name="textAreaLeft" fmla="*/ 360 w 84960"/>
                    <a:gd name="textAreaRight" fmla="*/ 85680 w 8496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Freeform 1401"/>
                <p:cNvSpPr/>
                <p:nvPr/>
              </p:nvSpPr>
              <p:spPr>
                <a:xfrm flipH="1" rot="3919200">
                  <a:off x="18720" y="1701360"/>
                  <a:ext cx="91440" cy="190440"/>
                </a:xfrm>
                <a:custGeom>
                  <a:avLst/>
                  <a:gdLst>
                    <a:gd name="textAreaLeft" fmla="*/ 360 w 91440"/>
                    <a:gd name="textAreaRight" fmla="*/ 92160 w 91440"/>
                    <a:gd name="textAreaTop" fmla="*/ 0 h 190440"/>
                    <a:gd name="textAreaBottom" fmla="*/ 190800 h 19044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Freeform 1402"/>
                <p:cNvSpPr/>
                <p:nvPr/>
              </p:nvSpPr>
              <p:spPr>
                <a:xfrm flipH="1" rot="3919200">
                  <a:off x="4680" y="1786320"/>
                  <a:ext cx="9720" cy="7632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Freeform 1403"/>
                <p:cNvSpPr/>
                <p:nvPr/>
              </p:nvSpPr>
              <p:spPr>
                <a:xfrm flipH="1" rot="3919200">
                  <a:off x="14760" y="1623240"/>
                  <a:ext cx="63000" cy="234720"/>
                </a:xfrm>
                <a:custGeom>
                  <a:avLst/>
                  <a:gdLst>
                    <a:gd name="textAreaLeft" fmla="*/ -360 w 63000"/>
                    <a:gd name="textAreaRight" fmla="*/ 63000 w 63000"/>
                    <a:gd name="textAreaTop" fmla="*/ 0 h 234720"/>
                    <a:gd name="textAreaBottom" fmla="*/ 235080 h 23472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Freeform 1404"/>
                <p:cNvSpPr/>
                <p:nvPr/>
              </p:nvSpPr>
              <p:spPr>
                <a:xfrm flipH="1" rot="3919200">
                  <a:off x="46440" y="1780560"/>
                  <a:ext cx="46800" cy="37080"/>
                </a:xfrm>
                <a:custGeom>
                  <a:avLst/>
                  <a:gdLst>
                    <a:gd name="textAreaLeft" fmla="*/ 360 w 46800"/>
                    <a:gd name="textAreaRight" fmla="*/ 47520 w 4680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Freeform 1405"/>
                <p:cNvSpPr/>
                <p:nvPr/>
              </p:nvSpPr>
              <p:spPr>
                <a:xfrm flipH="1" rot="3919200">
                  <a:off x="40320" y="1846440"/>
                  <a:ext cx="22680" cy="59760"/>
                </a:xfrm>
                <a:custGeom>
                  <a:avLst/>
                  <a:gdLst>
                    <a:gd name="textAreaLeft" fmla="*/ -360 w 22680"/>
                    <a:gd name="textAreaRight" fmla="*/ 22680 w 2268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Freeform 1406"/>
                <p:cNvSpPr/>
                <p:nvPr/>
              </p:nvSpPr>
              <p:spPr>
                <a:xfrm flipH="1" rot="3919200">
                  <a:off x="142920" y="1856880"/>
                  <a:ext cx="48960" cy="12960"/>
                </a:xfrm>
                <a:custGeom>
                  <a:avLst/>
                  <a:gdLst>
                    <a:gd name="textAreaLeft" fmla="*/ 360 w 48960"/>
                    <a:gd name="textAreaRight" fmla="*/ 49680 w 489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Freeform 1407"/>
                <p:cNvSpPr/>
                <p:nvPr/>
              </p:nvSpPr>
              <p:spPr>
                <a:xfrm flipH="1" rot="3919200">
                  <a:off x="178920" y="1855440"/>
                  <a:ext cx="30240" cy="23040"/>
                </a:xfrm>
                <a:custGeom>
                  <a:avLst/>
                  <a:gdLst>
                    <a:gd name="textAreaLeft" fmla="*/ 360 w 30240"/>
                    <a:gd name="textAreaRight" fmla="*/ 30960 w 3024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Freeform 1408"/>
                <p:cNvSpPr/>
                <p:nvPr/>
              </p:nvSpPr>
              <p:spPr>
                <a:xfrm flipH="1" rot="3919200">
                  <a:off x="45720" y="1829160"/>
                  <a:ext cx="9720" cy="1440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Freeform 1409"/>
                <p:cNvSpPr/>
                <p:nvPr/>
              </p:nvSpPr>
              <p:spPr>
                <a:xfrm flipH="1" rot="3919200">
                  <a:off x="201240" y="1827720"/>
                  <a:ext cx="8640" cy="8280"/>
                </a:xfrm>
                <a:custGeom>
                  <a:avLst/>
                  <a:gdLst>
                    <a:gd name="textAreaLeft" fmla="*/ 360 w 8640"/>
                    <a:gd name="textAreaRight" fmla="*/ 9360 w 864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Freeform 1410"/>
                <p:cNvSpPr/>
                <p:nvPr/>
              </p:nvSpPr>
              <p:spPr>
                <a:xfrm flipH="1" rot="3919200">
                  <a:off x="231480" y="1775520"/>
                  <a:ext cx="9720" cy="1116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Freeform 1411"/>
                <p:cNvSpPr/>
                <p:nvPr/>
              </p:nvSpPr>
              <p:spPr>
                <a:xfrm flipH="1" rot="3919200">
                  <a:off x="175680" y="1914840"/>
                  <a:ext cx="7560" cy="5040"/>
                </a:xfrm>
                <a:custGeom>
                  <a:avLst/>
                  <a:gdLst>
                    <a:gd name="textAreaLeft" fmla="*/ -360 w 7560"/>
                    <a:gd name="textAreaRight" fmla="*/ 7560 w 756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3" name="Group 1167"/>
              <p:cNvGrpSpPr/>
              <p:nvPr/>
            </p:nvGrpSpPr>
            <p:grpSpPr>
              <a:xfrm>
                <a:off x="149760" y="1512000"/>
                <a:ext cx="47880" cy="48240"/>
                <a:chOff x="149760" y="1512000"/>
                <a:chExt cx="47880" cy="48240"/>
              </a:xfrm>
            </p:grpSpPr>
            <p:sp>
              <p:nvSpPr>
                <p:cNvPr id="1254" name="Freeform 1413"/>
                <p:cNvSpPr/>
                <p:nvPr/>
              </p:nvSpPr>
              <p:spPr>
                <a:xfrm flipH="1" rot="8284200">
                  <a:off x="156960" y="1518480"/>
                  <a:ext cx="32760" cy="35280"/>
                </a:xfrm>
                <a:custGeom>
                  <a:avLst/>
                  <a:gdLst>
                    <a:gd name="textAreaLeft" fmla="*/ -360 w 32760"/>
                    <a:gd name="textAreaRight" fmla="*/ 32760 w 32760"/>
                    <a:gd name="textAreaTop" fmla="*/ 0 h 35280"/>
                    <a:gd name="textAreaBottom" fmla="*/ 35640 h 3528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1414"/>
                <p:cNvSpPr/>
                <p:nvPr/>
              </p:nvSpPr>
              <p:spPr>
                <a:xfrm flipH="1" rot="11931000">
                  <a:off x="158040" y="1529280"/>
                  <a:ext cx="18000" cy="19800"/>
                </a:xfrm>
                <a:custGeom>
                  <a:avLst/>
                  <a:gdLst>
                    <a:gd name="textAreaLeft" fmla="*/ 360 w 18000"/>
                    <a:gd name="textAreaRight" fmla="*/ 18720 w 18000"/>
                    <a:gd name="textAreaTop" fmla="*/ 0 h 19800"/>
                    <a:gd name="textAreaBottom" fmla="*/ 19800 h 1980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6" name="Group 1170"/>
            <p:cNvGrpSpPr/>
            <p:nvPr/>
          </p:nvGrpSpPr>
          <p:grpSpPr>
            <a:xfrm>
              <a:off x="135000" y="1358640"/>
              <a:ext cx="552960" cy="428760"/>
              <a:chOff x="135000" y="1358640"/>
              <a:chExt cx="552960" cy="428760"/>
            </a:xfrm>
          </p:grpSpPr>
          <p:grpSp>
            <p:nvGrpSpPr>
              <p:cNvPr id="1257" name="Group 1171"/>
              <p:cNvGrpSpPr/>
              <p:nvPr/>
            </p:nvGrpSpPr>
            <p:grpSpPr>
              <a:xfrm>
                <a:off x="135000" y="1358640"/>
                <a:ext cx="552960" cy="428760"/>
                <a:chOff x="135000" y="1358640"/>
                <a:chExt cx="552960" cy="428760"/>
              </a:xfrm>
            </p:grpSpPr>
            <p:sp>
              <p:nvSpPr>
                <p:cNvPr id="1258" name="Freeform 1417"/>
                <p:cNvSpPr/>
                <p:nvPr/>
              </p:nvSpPr>
              <p:spPr>
                <a:xfrm flipH="1" rot="20756400">
                  <a:off x="272880" y="1399320"/>
                  <a:ext cx="378000" cy="347400"/>
                </a:xfrm>
                <a:custGeom>
                  <a:avLst/>
                  <a:gdLst>
                    <a:gd name="textAreaLeft" fmla="*/ 360 w 378000"/>
                    <a:gd name="textAreaRight" fmla="*/ 378720 w 378000"/>
                    <a:gd name="textAreaTop" fmla="*/ 0 h 347400"/>
                    <a:gd name="textAreaBottom" fmla="*/ 347760 h 34740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Freeform 1418"/>
                <p:cNvSpPr/>
                <p:nvPr/>
              </p:nvSpPr>
              <p:spPr>
                <a:xfrm flipH="1" rot="20756400">
                  <a:off x="284400" y="1482480"/>
                  <a:ext cx="320760" cy="165240"/>
                </a:xfrm>
                <a:custGeom>
                  <a:avLst/>
                  <a:gdLst>
                    <a:gd name="textAreaLeft" fmla="*/ -360 w 320760"/>
                    <a:gd name="textAreaRight" fmla="*/ 320760 w 320760"/>
                    <a:gd name="textAreaTop" fmla="*/ 0 h 165240"/>
                    <a:gd name="textAreaBottom" fmla="*/ 165600 h 16524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Freeform 1419"/>
                <p:cNvSpPr/>
                <p:nvPr/>
              </p:nvSpPr>
              <p:spPr>
                <a:xfrm flipH="1" rot="20756400">
                  <a:off x="152640" y="1460880"/>
                  <a:ext cx="466920" cy="205200"/>
                </a:xfrm>
                <a:custGeom>
                  <a:avLst/>
                  <a:gdLst>
                    <a:gd name="textAreaLeft" fmla="*/ 0 w 466920"/>
                    <a:gd name="textAreaRight" fmla="*/ 466920 w 466920"/>
                    <a:gd name="textAreaTop" fmla="*/ 0 h 205200"/>
                    <a:gd name="textAreaBottom" fmla="*/ 205560 h 20520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Freeform 1420"/>
                <p:cNvSpPr/>
                <p:nvPr/>
              </p:nvSpPr>
              <p:spPr>
                <a:xfrm flipH="1" rot="20756400">
                  <a:off x="418680" y="1547280"/>
                  <a:ext cx="151560" cy="20520"/>
                </a:xfrm>
                <a:custGeom>
                  <a:avLst/>
                  <a:gdLst>
                    <a:gd name="textAreaLeft" fmla="*/ -360 w 151560"/>
                    <a:gd name="textAreaRight" fmla="*/ 151560 w 1515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Freeform 1421"/>
                <p:cNvSpPr/>
                <p:nvPr/>
              </p:nvSpPr>
              <p:spPr>
                <a:xfrm flipH="1" rot="20756400">
                  <a:off x="334440" y="1471680"/>
                  <a:ext cx="196200" cy="75600"/>
                </a:xfrm>
                <a:custGeom>
                  <a:avLst/>
                  <a:gdLst>
                    <a:gd name="textAreaLeft" fmla="*/ -360 w 196200"/>
                    <a:gd name="textAreaRight" fmla="*/ 196200 w 196200"/>
                    <a:gd name="textAreaTop" fmla="*/ 0 h 75600"/>
                    <a:gd name="textAreaBottom" fmla="*/ 75960 h 7560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Freeform 1422"/>
                <p:cNvSpPr/>
                <p:nvPr/>
              </p:nvSpPr>
              <p:spPr>
                <a:xfrm flipH="1" rot="20756400">
                  <a:off x="280800" y="1432800"/>
                  <a:ext cx="216360" cy="100080"/>
                </a:xfrm>
                <a:custGeom>
                  <a:avLst/>
                  <a:gdLst>
                    <a:gd name="textAreaLeft" fmla="*/ -360 w 216360"/>
                    <a:gd name="textAreaRight" fmla="*/ 216360 w 2163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Freeform 1423"/>
                <p:cNvSpPr/>
                <p:nvPr/>
              </p:nvSpPr>
              <p:spPr>
                <a:xfrm flipH="1" rot="20756400">
                  <a:off x="495720" y="1571040"/>
                  <a:ext cx="90360" cy="12600"/>
                </a:xfrm>
                <a:custGeom>
                  <a:avLst/>
                  <a:gdLst>
                    <a:gd name="textAreaLeft" fmla="*/ -360 w 90360"/>
                    <a:gd name="textAreaRight" fmla="*/ 90360 w 90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Freeform 1424"/>
                <p:cNvSpPr/>
                <p:nvPr/>
              </p:nvSpPr>
              <p:spPr>
                <a:xfrm flipH="1" rot="20756400">
                  <a:off x="564120" y="1589760"/>
                  <a:ext cx="46800" cy="4680"/>
                </a:xfrm>
                <a:custGeom>
                  <a:avLst/>
                  <a:gdLst>
                    <a:gd name="textAreaLeft" fmla="*/ 360 w 46800"/>
                    <a:gd name="textAreaRight" fmla="*/ 47520 w 4680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Freeform 1425"/>
                <p:cNvSpPr/>
                <p:nvPr/>
              </p:nvSpPr>
              <p:spPr>
                <a:xfrm flipH="1" rot="20756400">
                  <a:off x="558720" y="1593720"/>
                  <a:ext cx="34200" cy="35640"/>
                </a:xfrm>
                <a:custGeom>
                  <a:avLst/>
                  <a:gdLst>
                    <a:gd name="textAreaLeft" fmla="*/ -360 w 34200"/>
                    <a:gd name="textAreaRight" fmla="*/ 34200 w 3420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Freeform 1426"/>
                <p:cNvSpPr/>
                <p:nvPr/>
              </p:nvSpPr>
              <p:spPr>
                <a:xfrm flipH="1" rot="20756400">
                  <a:off x="505440" y="1584720"/>
                  <a:ext cx="60120" cy="65160"/>
                </a:xfrm>
                <a:custGeom>
                  <a:avLst/>
                  <a:gdLst>
                    <a:gd name="textAreaLeft" fmla="*/ -360 w 60120"/>
                    <a:gd name="textAreaRight" fmla="*/ 60120 w 60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Freeform 1427"/>
                <p:cNvSpPr/>
                <p:nvPr/>
              </p:nvSpPr>
              <p:spPr>
                <a:xfrm flipH="1" rot="20756400">
                  <a:off x="428040" y="1568160"/>
                  <a:ext cx="96120" cy="115560"/>
                </a:xfrm>
                <a:custGeom>
                  <a:avLst/>
                  <a:gdLst>
                    <a:gd name="textAreaLeft" fmla="*/ -360 w 96120"/>
                    <a:gd name="textAreaRight" fmla="*/ 96120 w 96120"/>
                    <a:gd name="textAreaTop" fmla="*/ 0 h 115560"/>
                    <a:gd name="textAreaBottom" fmla="*/ 115920 h 11556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Freeform 1428"/>
                <p:cNvSpPr/>
                <p:nvPr/>
              </p:nvSpPr>
              <p:spPr>
                <a:xfrm flipH="1" rot="20756400">
                  <a:off x="361800" y="1553400"/>
                  <a:ext cx="103320" cy="168840"/>
                </a:xfrm>
                <a:custGeom>
                  <a:avLst/>
                  <a:gdLst>
                    <a:gd name="textAreaLeft" fmla="*/ -360 w 103320"/>
                    <a:gd name="textAreaRight" fmla="*/ 103320 w 103320"/>
                    <a:gd name="textAreaTop" fmla="*/ 0 h 168840"/>
                    <a:gd name="textAreaBottom" fmla="*/ 169200 h 16884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Freeform 1429"/>
                <p:cNvSpPr/>
                <p:nvPr/>
              </p:nvSpPr>
              <p:spPr>
                <a:xfrm flipH="1" rot="20756400">
                  <a:off x="424440" y="1656720"/>
                  <a:ext cx="11160" cy="66960"/>
                </a:xfrm>
                <a:custGeom>
                  <a:avLst/>
                  <a:gdLst>
                    <a:gd name="textAreaLeft" fmla="*/ -360 w 11160"/>
                    <a:gd name="textAreaRight" fmla="*/ 11160 w 111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Freeform 1430"/>
                <p:cNvSpPr/>
                <p:nvPr/>
              </p:nvSpPr>
              <p:spPr>
                <a:xfrm flipH="1" rot="20756400">
                  <a:off x="312840" y="1544400"/>
                  <a:ext cx="71280" cy="207720"/>
                </a:xfrm>
                <a:custGeom>
                  <a:avLst/>
                  <a:gdLst>
                    <a:gd name="textAreaLeft" fmla="*/ 360 w 71280"/>
                    <a:gd name="textAreaRight" fmla="*/ 72000 w 71280"/>
                    <a:gd name="textAreaTop" fmla="*/ 0 h 207720"/>
                    <a:gd name="textAreaBottom" fmla="*/ 208080 h 20772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Freeform 1431"/>
                <p:cNvSpPr/>
                <p:nvPr/>
              </p:nvSpPr>
              <p:spPr>
                <a:xfrm flipH="1" rot="20756400">
                  <a:off x="390960" y="1617120"/>
                  <a:ext cx="52920" cy="32760"/>
                </a:xfrm>
                <a:custGeom>
                  <a:avLst/>
                  <a:gdLst>
                    <a:gd name="textAreaLeft" fmla="*/ -360 w 52920"/>
                    <a:gd name="textAreaRight" fmla="*/ 52920 w 5292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Freeform 1432"/>
                <p:cNvSpPr/>
                <p:nvPr/>
              </p:nvSpPr>
              <p:spPr>
                <a:xfrm flipH="1" rot="20756400">
                  <a:off x="484200" y="1632240"/>
                  <a:ext cx="25560" cy="52920"/>
                </a:xfrm>
                <a:custGeom>
                  <a:avLst/>
                  <a:gdLst>
                    <a:gd name="textAreaLeft" fmla="*/ -360 w 25560"/>
                    <a:gd name="textAreaRight" fmla="*/ 25560 w 255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Freeform 1433"/>
                <p:cNvSpPr/>
                <p:nvPr/>
              </p:nvSpPr>
              <p:spPr>
                <a:xfrm flipH="1" rot="20756400">
                  <a:off x="485280" y="1547640"/>
                  <a:ext cx="55800" cy="11160"/>
                </a:xfrm>
                <a:custGeom>
                  <a:avLst/>
                  <a:gdLst>
                    <a:gd name="textAreaLeft" fmla="*/ -360 w 55800"/>
                    <a:gd name="textAreaRight" fmla="*/ 55800 w 5580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Freeform 1434"/>
                <p:cNvSpPr/>
                <p:nvPr/>
              </p:nvSpPr>
              <p:spPr>
                <a:xfrm flipH="1" rot="20756400">
                  <a:off x="507240" y="1519920"/>
                  <a:ext cx="34200" cy="20160"/>
                </a:xfrm>
                <a:custGeom>
                  <a:avLst/>
                  <a:gdLst>
                    <a:gd name="textAreaLeft" fmla="*/ -360 w 34200"/>
                    <a:gd name="textAreaRight" fmla="*/ 34200 w 34200"/>
                    <a:gd name="textAreaTop" fmla="*/ 0 h 20160"/>
                    <a:gd name="textAreaBottom" fmla="*/ 20520 h 2016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Freeform 1435"/>
                <p:cNvSpPr/>
                <p:nvPr/>
              </p:nvSpPr>
              <p:spPr>
                <a:xfrm flipH="1" rot="20756400">
                  <a:off x="447840" y="1648800"/>
                  <a:ext cx="11160" cy="12240"/>
                </a:xfrm>
                <a:custGeom>
                  <a:avLst/>
                  <a:gdLst>
                    <a:gd name="textAreaLeft" fmla="*/ -360 w 11160"/>
                    <a:gd name="textAreaRight" fmla="*/ 11160 w 1116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Freeform 1436"/>
                <p:cNvSpPr/>
                <p:nvPr/>
              </p:nvSpPr>
              <p:spPr>
                <a:xfrm flipH="1" rot="20756400">
                  <a:off x="483480" y="1511640"/>
                  <a:ext cx="9720" cy="720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Freeform 1437"/>
                <p:cNvSpPr/>
                <p:nvPr/>
              </p:nvSpPr>
              <p:spPr>
                <a:xfrm flipH="1" rot="20756400">
                  <a:off x="435240" y="1478160"/>
                  <a:ext cx="11160" cy="9720"/>
                </a:xfrm>
                <a:custGeom>
                  <a:avLst/>
                  <a:gdLst>
                    <a:gd name="textAreaLeft" fmla="*/ -360 w 11160"/>
                    <a:gd name="textAreaRight" fmla="*/ 11160 w 1116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Freeform 1438"/>
                <p:cNvSpPr/>
                <p:nvPr/>
              </p:nvSpPr>
              <p:spPr>
                <a:xfrm flipH="1" rot="20756400">
                  <a:off x="570960" y="1546200"/>
                  <a:ext cx="8640" cy="4320"/>
                </a:xfrm>
                <a:custGeom>
                  <a:avLst/>
                  <a:gdLst>
                    <a:gd name="textAreaLeft" fmla="*/ 360 w 8640"/>
                    <a:gd name="textAreaRight" fmla="*/ 9360 w 864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0" name="Group 1194"/>
              <p:cNvGrpSpPr/>
              <p:nvPr/>
            </p:nvGrpSpPr>
            <p:grpSpPr>
              <a:xfrm>
                <a:off x="151560" y="1495800"/>
                <a:ext cx="48960" cy="45360"/>
                <a:chOff x="151560" y="1495800"/>
                <a:chExt cx="48960" cy="45360"/>
              </a:xfrm>
            </p:grpSpPr>
            <p:sp>
              <p:nvSpPr>
                <p:cNvPr id="1281" name="Freeform 1440"/>
                <p:cNvSpPr/>
                <p:nvPr/>
              </p:nvSpPr>
              <p:spPr>
                <a:xfrm flipH="1" rot="3520800">
                  <a:off x="161280" y="1498320"/>
                  <a:ext cx="28800" cy="39600"/>
                </a:xfrm>
                <a:custGeom>
                  <a:avLst/>
                  <a:gdLst>
                    <a:gd name="textAreaLeft" fmla="*/ 360 w 28800"/>
                    <a:gd name="textAreaRight" fmla="*/ 29520 w 2880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Freeform 1441"/>
                <p:cNvSpPr/>
                <p:nvPr/>
              </p:nvSpPr>
              <p:spPr>
                <a:xfrm flipH="1" rot="7167600">
                  <a:off x="168120" y="1515240"/>
                  <a:ext cx="20160" cy="17640"/>
                </a:xfrm>
                <a:custGeom>
                  <a:avLst/>
                  <a:gdLst>
                    <a:gd name="textAreaLeft" fmla="*/ 0 w 20160"/>
                    <a:gd name="textAreaRight" fmla="*/ 20160 w 201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3" name="Group 1197"/>
            <p:cNvGrpSpPr/>
            <p:nvPr/>
          </p:nvGrpSpPr>
          <p:grpSpPr>
            <a:xfrm>
              <a:off x="-187920" y="923400"/>
              <a:ext cx="833760" cy="570240"/>
              <a:chOff x="-187920" y="923400"/>
              <a:chExt cx="833760" cy="570240"/>
            </a:xfrm>
          </p:grpSpPr>
          <p:grpSp>
            <p:nvGrpSpPr>
              <p:cNvPr id="1284" name="Group 1198"/>
              <p:cNvGrpSpPr/>
              <p:nvPr/>
            </p:nvGrpSpPr>
            <p:grpSpPr>
              <a:xfrm>
                <a:off x="-187920" y="1026720"/>
                <a:ext cx="452160" cy="466920"/>
                <a:chOff x="-187920" y="1026720"/>
                <a:chExt cx="452160" cy="466920"/>
              </a:xfrm>
            </p:grpSpPr>
            <p:grpSp>
              <p:nvGrpSpPr>
                <p:cNvPr id="1285" name="Group 1199"/>
                <p:cNvGrpSpPr/>
                <p:nvPr/>
              </p:nvGrpSpPr>
              <p:grpSpPr>
                <a:xfrm>
                  <a:off x="-187920" y="1026720"/>
                  <a:ext cx="450720" cy="466920"/>
                  <a:chOff x="-187920" y="1026720"/>
                  <a:chExt cx="450720" cy="466920"/>
                </a:xfrm>
              </p:grpSpPr>
              <p:sp>
                <p:nvSpPr>
                  <p:cNvPr id="1286" name="Freeform 1445"/>
                  <p:cNvSpPr/>
                  <p:nvPr/>
                </p:nvSpPr>
                <p:spPr>
                  <a:xfrm rot="4199400">
                    <a:off x="-116280" y="1049760"/>
                    <a:ext cx="307440" cy="367920"/>
                  </a:xfrm>
                  <a:custGeom>
                    <a:avLst/>
                    <a:gdLst>
                      <a:gd name="textAreaLeft" fmla="*/ 0 w 307440"/>
                      <a:gd name="textAreaRight" fmla="*/ 307800 w 307440"/>
                      <a:gd name="textAreaTop" fmla="*/ 0 h 367920"/>
                      <a:gd name="textAreaBottom" fmla="*/ 368280 h 367920"/>
                    </a:gdLst>
                    <a:ahLst/>
                    <a:rect l="textAreaLeft" t="textAreaTop" r="textAreaRight" b="textAreaBottom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Freeform 1446"/>
                  <p:cNvSpPr/>
                  <p:nvPr/>
                </p:nvSpPr>
                <p:spPr>
                  <a:xfrm rot="4199400">
                    <a:off x="-75600" y="1154160"/>
                    <a:ext cx="261000" cy="174600"/>
                  </a:xfrm>
                  <a:custGeom>
                    <a:avLst/>
                    <a:gdLst>
                      <a:gd name="textAreaLeft" fmla="*/ 0 w 261000"/>
                      <a:gd name="textAreaRight" fmla="*/ 261360 w 261000"/>
                      <a:gd name="textAreaTop" fmla="*/ 0 h 174600"/>
                      <a:gd name="textAreaBottom" fmla="*/ 174960 h 174600"/>
                    </a:gdLst>
                    <a:ahLst/>
                    <a:rect l="textAreaLeft" t="textAreaTop" r="textAreaRight" b="textAreaBottom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Freeform 1447"/>
                  <p:cNvSpPr/>
                  <p:nvPr/>
                </p:nvSpPr>
                <p:spPr>
                  <a:xfrm rot="4199400">
                    <a:off x="-104040" y="1169640"/>
                    <a:ext cx="379800" cy="216720"/>
                  </a:xfrm>
                  <a:custGeom>
                    <a:avLst/>
                    <a:gdLst>
                      <a:gd name="textAreaLeft" fmla="*/ 0 w 379800"/>
                      <a:gd name="textAreaRight" fmla="*/ 380160 w 379800"/>
                      <a:gd name="textAreaTop" fmla="*/ 0 h 216720"/>
                      <a:gd name="textAreaBottom" fmla="*/ 217080 h 216720"/>
                    </a:gdLst>
                    <a:ahLst/>
                    <a:rect l="textAreaLeft" t="textAreaTop" r="textAreaRight" b="textAreaBottom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Freeform 1448"/>
                  <p:cNvSpPr/>
                  <p:nvPr/>
                </p:nvSpPr>
                <p:spPr>
                  <a:xfrm rot="4199400">
                    <a:off x="-25560" y="1194120"/>
                    <a:ext cx="123480" cy="21600"/>
                  </a:xfrm>
                  <a:custGeom>
                    <a:avLst/>
                    <a:gdLst>
                      <a:gd name="textAreaLeft" fmla="*/ 0 w 123480"/>
                      <a:gd name="textAreaRight" fmla="*/ 123840 w 12348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Freeform 1449"/>
                  <p:cNvSpPr/>
                  <p:nvPr/>
                </p:nvSpPr>
                <p:spPr>
                  <a:xfrm rot="4199400">
                    <a:off x="29880" y="1179720"/>
                    <a:ext cx="159480" cy="79920"/>
                  </a:xfrm>
                  <a:custGeom>
                    <a:avLst/>
                    <a:gdLst>
                      <a:gd name="textAreaLeft" fmla="*/ 0 w 159480"/>
                      <a:gd name="textAreaRight" fmla="*/ 159840 w 159480"/>
                      <a:gd name="textAreaTop" fmla="*/ 0 h 79920"/>
                      <a:gd name="textAreaBottom" fmla="*/ 80280 h 79920"/>
                    </a:gdLst>
                    <a:ahLst/>
                    <a:rect l="textAreaLeft" t="textAreaTop" r="textAreaRight" b="textAreaBottom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Freeform 1450"/>
                  <p:cNvSpPr/>
                  <p:nvPr/>
                </p:nvSpPr>
                <p:spPr>
                  <a:xfrm rot="4199400">
                    <a:off x="67680" y="1180440"/>
                    <a:ext cx="176040" cy="106200"/>
                  </a:xfrm>
                  <a:custGeom>
                    <a:avLst/>
                    <a:gdLst>
                      <a:gd name="textAreaLeft" fmla="*/ 0 w 176040"/>
                      <a:gd name="textAreaRight" fmla="*/ 176400 w 17604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Freeform 1451"/>
                  <p:cNvSpPr/>
                  <p:nvPr/>
                </p:nvSpPr>
                <p:spPr>
                  <a:xfrm rot="4199400">
                    <a:off x="-41760" y="1177200"/>
                    <a:ext cx="73080" cy="13680"/>
                  </a:xfrm>
                  <a:custGeom>
                    <a:avLst/>
                    <a:gdLst>
                      <a:gd name="textAreaLeft" fmla="*/ 0 w 73080"/>
                      <a:gd name="textAreaRight" fmla="*/ 73440 w 73080"/>
                      <a:gd name="textAreaTop" fmla="*/ 0 h 13680"/>
                      <a:gd name="textAreaBottom" fmla="*/ 13680 h 13680"/>
                    </a:gdLst>
                    <a:ahLst/>
                    <a:rect l="textAreaLeft" t="textAreaTop" r="textAreaRight" b="textAreaBottom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Freeform 1452"/>
                  <p:cNvSpPr/>
                  <p:nvPr/>
                </p:nvSpPr>
                <p:spPr>
                  <a:xfrm rot="4199400">
                    <a:off x="-63000" y="1159200"/>
                    <a:ext cx="38160" cy="540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Freeform 1453"/>
                  <p:cNvSpPr/>
                  <p:nvPr/>
                </p:nvSpPr>
                <p:spPr>
                  <a:xfrm rot="4199400">
                    <a:off x="-68400" y="1161360"/>
                    <a:ext cx="27720" cy="37440"/>
                  </a:xfrm>
                  <a:custGeom>
                    <a:avLst/>
                    <a:gdLst>
                      <a:gd name="textAreaLeft" fmla="*/ 0 w 27720"/>
                      <a:gd name="textAreaRight" fmla="*/ 28080 w 27720"/>
                      <a:gd name="textAreaTop" fmla="*/ 0 h 37440"/>
                      <a:gd name="textAreaBottom" fmla="*/ 37800 h 37440"/>
                    </a:gdLst>
                    <a:ahLst/>
                    <a:rect l="textAreaLeft" t="textAreaTop" r="textAreaRight" b="textAreaBottom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Freeform 1454"/>
                  <p:cNvSpPr/>
                  <p:nvPr/>
                </p:nvSpPr>
                <p:spPr>
                  <a:xfrm rot="4199400">
                    <a:off x="-63720" y="1174320"/>
                    <a:ext cx="48600" cy="69840"/>
                  </a:xfrm>
                  <a:custGeom>
                    <a:avLst/>
                    <a:gdLst>
                      <a:gd name="textAreaLeft" fmla="*/ 0 w 48600"/>
                      <a:gd name="textAreaRight" fmla="*/ 48960 w 48600"/>
                      <a:gd name="textAreaTop" fmla="*/ 0 h 69840"/>
                      <a:gd name="textAreaBottom" fmla="*/ 70200 h 69840"/>
                    </a:gdLst>
                    <a:ahLst/>
                    <a:rect l="textAreaLeft" t="textAreaTop" r="textAreaRight" b="textAreaBottom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Freeform 1455"/>
                  <p:cNvSpPr/>
                  <p:nvPr/>
                </p:nvSpPr>
                <p:spPr>
                  <a:xfrm rot="4199400">
                    <a:off x="-56520" y="1191960"/>
                    <a:ext cx="78120" cy="122400"/>
                  </a:xfrm>
                  <a:custGeom>
                    <a:avLst/>
                    <a:gdLst>
                      <a:gd name="textAreaLeft" fmla="*/ 0 w 78120"/>
                      <a:gd name="textAreaRight" fmla="*/ 78480 w 78120"/>
                      <a:gd name="textAreaTop" fmla="*/ 0 h 122400"/>
                      <a:gd name="textAreaBottom" fmla="*/ 122760 h 122400"/>
                    </a:gdLst>
                    <a:ahLst/>
                    <a:rect l="textAreaLeft" t="textAreaTop" r="textAreaRight" b="textAreaBottom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Freeform 1456"/>
                  <p:cNvSpPr/>
                  <p:nvPr/>
                </p:nvSpPr>
                <p:spPr>
                  <a:xfrm rot="4199400">
                    <a:off x="-37440" y="1211400"/>
                    <a:ext cx="83880" cy="178560"/>
                  </a:xfrm>
                  <a:custGeom>
                    <a:avLst/>
                    <a:gdLst>
                      <a:gd name="textAreaLeft" fmla="*/ 0 w 83880"/>
                      <a:gd name="textAreaRight" fmla="*/ 84240 w 838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Freeform 1457"/>
                  <p:cNvSpPr/>
                  <p:nvPr/>
                </p:nvSpPr>
                <p:spPr>
                  <a:xfrm rot="4199400">
                    <a:off x="-55080" y="1283040"/>
                    <a:ext cx="9000" cy="71280"/>
                  </a:xfrm>
                  <a:custGeom>
                    <a:avLst/>
                    <a:gdLst>
                      <a:gd name="textAreaLeft" fmla="*/ 0 w 9000"/>
                      <a:gd name="textAreaRight" fmla="*/ 9360 w 9000"/>
                      <a:gd name="textAreaTop" fmla="*/ 0 h 71280"/>
                      <a:gd name="textAreaBottom" fmla="*/ 71640 h 71280"/>
                    </a:gdLst>
                    <a:ahLst/>
                    <a:rect l="textAreaLeft" t="textAreaTop" r="textAreaRight" b="textAreaBottom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Freeform 1458"/>
                  <p:cNvSpPr/>
                  <p:nvPr/>
                </p:nvSpPr>
                <p:spPr>
                  <a:xfrm rot="4199400">
                    <a:off x="-720" y="1238760"/>
                    <a:ext cx="57960" cy="219960"/>
                  </a:xfrm>
                  <a:custGeom>
                    <a:avLst/>
                    <a:gdLst>
                      <a:gd name="textAreaLeft" fmla="*/ 0 w 57960"/>
                      <a:gd name="textAreaRight" fmla="*/ 58320 w 57960"/>
                      <a:gd name="textAreaTop" fmla="*/ 0 h 219960"/>
                      <a:gd name="textAreaBottom" fmla="*/ 220320 h 219960"/>
                    </a:gdLst>
                    <a:ahLst/>
                    <a:rect l="textAreaLeft" t="textAreaTop" r="textAreaRight" b="textAreaBottom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Freeform 1459"/>
                  <p:cNvSpPr/>
                  <p:nvPr/>
                </p:nvSpPr>
                <p:spPr>
                  <a:xfrm rot="4199400">
                    <a:off x="-15480" y="1277640"/>
                    <a:ext cx="42840" cy="3492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Freeform 1460"/>
                  <p:cNvSpPr/>
                  <p:nvPr/>
                </p:nvSpPr>
                <p:spPr>
                  <a:xfrm rot="4199400">
                    <a:off x="-66960" y="1229040"/>
                    <a:ext cx="21240" cy="56160"/>
                  </a:xfrm>
                  <a:custGeom>
                    <a:avLst/>
                    <a:gdLst>
                      <a:gd name="textAreaLeft" fmla="*/ 0 w 21240"/>
                      <a:gd name="textAreaRight" fmla="*/ 21600 w 21240"/>
                      <a:gd name="textAreaTop" fmla="*/ 0 h 56160"/>
                      <a:gd name="textAreaBottom" fmla="*/ 56520 h 56160"/>
                    </a:gdLst>
                    <a:ahLst/>
                    <a:rect l="textAreaLeft" t="textAreaTop" r="textAreaRight" b="textAreaBottom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Freeform 1461"/>
                  <p:cNvSpPr/>
                  <p:nvPr/>
                </p:nvSpPr>
                <p:spPr>
                  <a:xfrm rot="4199400">
                    <a:off x="7920" y="1184400"/>
                    <a:ext cx="45360" cy="1188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Freeform 1462"/>
                  <p:cNvSpPr/>
                  <p:nvPr/>
                </p:nvSpPr>
                <p:spPr>
                  <a:xfrm rot="4199400">
                    <a:off x="30960" y="1159200"/>
                    <a:ext cx="27720" cy="21600"/>
                  </a:xfrm>
                  <a:custGeom>
                    <a:avLst/>
                    <a:gdLst>
                      <a:gd name="textAreaLeft" fmla="*/ 0 w 27720"/>
                      <a:gd name="textAreaRight" fmla="*/ 28080 w 2772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Freeform 1463"/>
                  <p:cNvSpPr/>
                  <p:nvPr/>
                </p:nvSpPr>
                <p:spPr>
                  <a:xfrm rot="4199400">
                    <a:off x="-35280" y="1277640"/>
                    <a:ext cx="9000" cy="12960"/>
                  </a:xfrm>
                  <a:custGeom>
                    <a:avLst/>
                    <a:gdLst>
                      <a:gd name="textAreaLeft" fmla="*/ 0 w 9000"/>
                      <a:gd name="textAreaRight" fmla="*/ 9360 w 900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Freeform 1464"/>
                  <p:cNvSpPr/>
                  <p:nvPr/>
                </p:nvSpPr>
                <p:spPr>
                  <a:xfrm rot="4199400">
                    <a:off x="71640" y="1181160"/>
                    <a:ext cx="7920" cy="792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7920"/>
                      <a:gd name="textAreaBottom" fmla="*/ 8280 h 7920"/>
                    </a:gdLst>
                    <a:ahLst/>
                    <a:rect l="textAreaLeft" t="textAreaTop" r="textAreaRight" b="textAreaBottom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Freeform 1465"/>
                  <p:cNvSpPr/>
                  <p:nvPr/>
                </p:nvSpPr>
                <p:spPr>
                  <a:xfrm rot="4199400">
                    <a:off x="124920" y="1194120"/>
                    <a:ext cx="9000" cy="10080"/>
                  </a:xfrm>
                  <a:custGeom>
                    <a:avLst/>
                    <a:gdLst>
                      <a:gd name="textAreaLeft" fmla="*/ 0 w 9000"/>
                      <a:gd name="textAreaRight" fmla="*/ 9360 w 900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Freeform 1466"/>
                  <p:cNvSpPr/>
                  <p:nvPr/>
                </p:nvSpPr>
                <p:spPr>
                  <a:xfrm rot="4199400">
                    <a:off x="-1800" y="1144440"/>
                    <a:ext cx="6840" cy="5400"/>
                  </a:xfrm>
                  <a:custGeom>
                    <a:avLst/>
                    <a:gdLst>
                      <a:gd name="textAreaLeft" fmla="*/ 0 w 6840"/>
                      <a:gd name="textAreaRight" fmla="*/ 7200 w 684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8" name="Group 1222"/>
                <p:cNvGrpSpPr/>
                <p:nvPr/>
              </p:nvGrpSpPr>
              <p:grpSpPr>
                <a:xfrm>
                  <a:off x="230400" y="1382760"/>
                  <a:ext cx="33840" cy="34200"/>
                  <a:chOff x="230400" y="1382760"/>
                  <a:chExt cx="33840" cy="34200"/>
                </a:xfrm>
              </p:grpSpPr>
              <p:sp>
                <p:nvSpPr>
                  <p:cNvPr id="1309" name="Freeform 1468"/>
                  <p:cNvSpPr/>
                  <p:nvPr/>
                </p:nvSpPr>
                <p:spPr>
                  <a:xfrm rot="21435000">
                    <a:off x="232920" y="1383120"/>
                    <a:ext cx="30600" cy="3276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Freeform 1469"/>
                  <p:cNvSpPr/>
                  <p:nvPr/>
                </p:nvSpPr>
                <p:spPr>
                  <a:xfrm rot="17788200">
                    <a:off x="234000" y="1392120"/>
                    <a:ext cx="16560" cy="18720"/>
                  </a:xfrm>
                  <a:custGeom>
                    <a:avLst/>
                    <a:gdLst>
                      <a:gd name="textAreaLeft" fmla="*/ 0 w 16560"/>
                      <a:gd name="textAreaRight" fmla="*/ 16920 w 165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1" name="Group 1225"/>
              <p:cNvGrpSpPr/>
              <p:nvPr/>
            </p:nvGrpSpPr>
            <p:grpSpPr>
              <a:xfrm>
                <a:off x="148320" y="923400"/>
                <a:ext cx="497520" cy="508320"/>
                <a:chOff x="148320" y="923400"/>
                <a:chExt cx="497520" cy="508320"/>
              </a:xfrm>
            </p:grpSpPr>
            <p:grpSp>
              <p:nvGrpSpPr>
                <p:cNvPr id="1312" name="Group 1226"/>
                <p:cNvGrpSpPr/>
                <p:nvPr/>
              </p:nvGrpSpPr>
              <p:grpSpPr>
                <a:xfrm>
                  <a:off x="148320" y="923400"/>
                  <a:ext cx="497520" cy="508320"/>
                  <a:chOff x="148320" y="923400"/>
                  <a:chExt cx="497520" cy="508320"/>
                </a:xfrm>
              </p:grpSpPr>
              <p:sp>
                <p:nvSpPr>
                  <p:cNvPr id="1313" name="Freeform 1472"/>
                  <p:cNvSpPr/>
                  <p:nvPr/>
                </p:nvSpPr>
                <p:spPr>
                  <a:xfrm rot="8424000">
                    <a:off x="234360" y="997200"/>
                    <a:ext cx="348480" cy="322920"/>
                  </a:xfrm>
                  <a:custGeom>
                    <a:avLst/>
                    <a:gdLst>
                      <a:gd name="textAreaLeft" fmla="*/ 0 w 348480"/>
                      <a:gd name="textAreaRight" fmla="*/ 348840 w 348480"/>
                      <a:gd name="textAreaTop" fmla="*/ 0 h 322920"/>
                      <a:gd name="textAreaBottom" fmla="*/ 323280 h 322920"/>
                    </a:gdLst>
                    <a:ahLst/>
                    <a:rect l="textAreaLeft" t="textAreaTop" r="textAreaRight" b="textAreaBottom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Freeform 1473"/>
                  <p:cNvSpPr/>
                  <p:nvPr/>
                </p:nvSpPr>
                <p:spPr>
                  <a:xfrm rot="8424000">
                    <a:off x="258120" y="1100160"/>
                    <a:ext cx="295200" cy="153360"/>
                  </a:xfrm>
                  <a:custGeom>
                    <a:avLst/>
                    <a:gdLst>
                      <a:gd name="textAreaLeft" fmla="*/ 0 w 295200"/>
                      <a:gd name="textAreaRight" fmla="*/ 295560 w 295200"/>
                      <a:gd name="textAreaTop" fmla="*/ 0 h 153360"/>
                      <a:gd name="textAreaBottom" fmla="*/ 153720 h 153360"/>
                    </a:gdLst>
                    <a:ahLst/>
                    <a:rect l="textAreaLeft" t="textAreaTop" r="textAreaRight" b="textAreaBottom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Freeform 1474"/>
                  <p:cNvSpPr/>
                  <p:nvPr/>
                </p:nvSpPr>
                <p:spPr>
                  <a:xfrm rot="8424000">
                    <a:off x="159480" y="1125000"/>
                    <a:ext cx="430200" cy="191160"/>
                  </a:xfrm>
                  <a:custGeom>
                    <a:avLst/>
                    <a:gdLst>
                      <a:gd name="textAreaLeft" fmla="*/ 0 w 430200"/>
                      <a:gd name="textAreaRight" fmla="*/ 430560 w 430200"/>
                      <a:gd name="textAreaTop" fmla="*/ 0 h 191160"/>
                      <a:gd name="textAreaBottom" fmla="*/ 191520 h 191160"/>
                    </a:gdLst>
                    <a:ahLst/>
                    <a:rect l="textAreaLeft" t="textAreaTop" r="textAreaRight" b="textAreaBottom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Freeform 1475"/>
                  <p:cNvSpPr/>
                  <p:nvPr/>
                </p:nvSpPr>
                <p:spPr>
                  <a:xfrm rot="8424000">
                    <a:off x="367200" y="1134720"/>
                    <a:ext cx="139680" cy="18720"/>
                  </a:xfrm>
                  <a:custGeom>
                    <a:avLst/>
                    <a:gdLst>
                      <a:gd name="textAreaLeft" fmla="*/ 0 w 139680"/>
                      <a:gd name="textAreaRight" fmla="*/ 140040 w 13968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Freeform 1476"/>
                  <p:cNvSpPr/>
                  <p:nvPr/>
                </p:nvSpPr>
                <p:spPr>
                  <a:xfrm rot="8424000">
                    <a:off x="349560" y="1180440"/>
                    <a:ext cx="180720" cy="70560"/>
                  </a:xfrm>
                  <a:custGeom>
                    <a:avLst/>
                    <a:gdLst>
                      <a:gd name="textAreaLeft" fmla="*/ 0 w 180720"/>
                      <a:gd name="textAreaRight" fmla="*/ 181080 w 180720"/>
                      <a:gd name="textAreaTop" fmla="*/ 0 h 70560"/>
                      <a:gd name="textAreaBottom" fmla="*/ 70920 h 70560"/>
                    </a:gdLst>
                    <a:ahLst/>
                    <a:rect l="textAreaLeft" t="textAreaTop" r="textAreaRight" b="textAreaBottom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Freeform 1477"/>
                  <p:cNvSpPr/>
                  <p:nvPr/>
                </p:nvSpPr>
                <p:spPr>
                  <a:xfrm rot="8424000">
                    <a:off x="335880" y="1215720"/>
                    <a:ext cx="199080" cy="93240"/>
                  </a:xfrm>
                  <a:custGeom>
                    <a:avLst/>
                    <a:gdLst>
                      <a:gd name="textAreaLeft" fmla="*/ 0 w 199080"/>
                      <a:gd name="textAreaRight" fmla="*/ 199440 w 199080"/>
                      <a:gd name="textAreaTop" fmla="*/ 0 h 93240"/>
                      <a:gd name="textAreaBottom" fmla="*/ 93600 h 93240"/>
                    </a:gdLst>
                    <a:ahLst/>
                    <a:rect l="textAreaLeft" t="textAreaTop" r="textAreaRight" b="textAreaBottom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Freeform 1478"/>
                  <p:cNvSpPr/>
                  <p:nvPr/>
                </p:nvSpPr>
                <p:spPr>
                  <a:xfrm rot="8424000">
                    <a:off x="407160" y="1093320"/>
                    <a:ext cx="82800" cy="11160"/>
                  </a:xfrm>
                  <a:custGeom>
                    <a:avLst/>
                    <a:gdLst>
                      <a:gd name="textAreaLeft" fmla="*/ 0 w 82800"/>
                      <a:gd name="textAreaRight" fmla="*/ 83160 w 82800"/>
                      <a:gd name="textAreaTop" fmla="*/ 0 h 11160"/>
                      <a:gd name="textAreaBottom" fmla="*/ 11520 h 11160"/>
                    </a:gdLst>
                    <a:ahLst/>
                    <a:rect l="textAreaLeft" t="textAreaTop" r="textAreaRight" b="textAreaBottom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Freeform 1479"/>
                  <p:cNvSpPr/>
                  <p:nvPr/>
                </p:nvSpPr>
                <p:spPr>
                  <a:xfrm rot="8424000">
                    <a:off x="440640" y="1052640"/>
                    <a:ext cx="43560" cy="4680"/>
                  </a:xfrm>
                  <a:custGeom>
                    <a:avLst/>
                    <a:gdLst>
                      <a:gd name="textAreaLeft" fmla="*/ 0 w 43560"/>
                      <a:gd name="textAreaRight" fmla="*/ 43920 w 4356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Freeform 1480"/>
                  <p:cNvSpPr/>
                  <p:nvPr/>
                </p:nvSpPr>
                <p:spPr>
                  <a:xfrm rot="8424000">
                    <a:off x="425880" y="1036800"/>
                    <a:ext cx="31680" cy="3312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33120"/>
                      <a:gd name="textAreaBottom" fmla="*/ 33480 h 33120"/>
                    </a:gdLst>
                    <a:ahLst/>
                    <a:rect l="textAreaLeft" t="textAreaTop" r="textAreaRight" b="textAreaBottom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Freeform 1481"/>
                  <p:cNvSpPr/>
                  <p:nvPr/>
                </p:nvSpPr>
                <p:spPr>
                  <a:xfrm rot="8424000">
                    <a:off x="388440" y="1048680"/>
                    <a:ext cx="55080" cy="61200"/>
                  </a:xfrm>
                  <a:custGeom>
                    <a:avLst/>
                    <a:gdLst>
                      <a:gd name="textAreaLeft" fmla="*/ 0 w 55080"/>
                      <a:gd name="textAreaRight" fmla="*/ 55440 w 55080"/>
                      <a:gd name="textAreaTop" fmla="*/ 0 h 61200"/>
                      <a:gd name="textAreaBottom" fmla="*/ 61560 h 61200"/>
                    </a:gdLst>
                    <a:ahLst/>
                    <a:rect l="textAreaLeft" t="textAreaTop" r="textAreaRight" b="textAreaBottom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Freeform 1482"/>
                  <p:cNvSpPr/>
                  <p:nvPr/>
                </p:nvSpPr>
                <p:spPr>
                  <a:xfrm rot="8424000">
                    <a:off x="332640" y="1065240"/>
                    <a:ext cx="88560" cy="107280"/>
                  </a:xfrm>
                  <a:custGeom>
                    <a:avLst/>
                    <a:gdLst>
                      <a:gd name="textAreaLeft" fmla="*/ 0 w 88560"/>
                      <a:gd name="textAreaRight" fmla="*/ 88920 w 88560"/>
                      <a:gd name="textAreaTop" fmla="*/ 0 h 107280"/>
                      <a:gd name="textAreaBottom" fmla="*/ 107640 h 107280"/>
                    </a:gdLst>
                    <a:ahLst/>
                    <a:rect l="textAreaLeft" t="textAreaTop" r="textAreaRight" b="textAreaBottom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Freeform 1483"/>
                  <p:cNvSpPr/>
                  <p:nvPr/>
                </p:nvSpPr>
                <p:spPr>
                  <a:xfrm rot="8424000">
                    <a:off x="285840" y="1080360"/>
                    <a:ext cx="95040" cy="156960"/>
                  </a:xfrm>
                  <a:custGeom>
                    <a:avLst/>
                    <a:gdLst>
                      <a:gd name="textAreaLeft" fmla="*/ 0 w 95040"/>
                      <a:gd name="textAreaRight" fmla="*/ 95400 w 95040"/>
                      <a:gd name="textAreaTop" fmla="*/ 0 h 156960"/>
                      <a:gd name="textAreaBottom" fmla="*/ 157320 h 156960"/>
                    </a:gdLst>
                    <a:ahLst/>
                    <a:rect l="textAreaLeft" t="textAreaTop" r="textAreaRight" b="textAreaBottom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Freeform 1484"/>
                  <p:cNvSpPr/>
                  <p:nvPr/>
                </p:nvSpPr>
                <p:spPr>
                  <a:xfrm rot="8424000">
                    <a:off x="298080" y="1086480"/>
                    <a:ext cx="10080" cy="630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63000"/>
                      <a:gd name="textAreaBottom" fmla="*/ 63360 h 63000"/>
                    </a:gdLst>
                    <a:ahLst/>
                    <a:rect l="textAreaLeft" t="textAreaTop" r="textAreaRight" b="textAreaBottom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Freeform 1485"/>
                  <p:cNvSpPr/>
                  <p:nvPr/>
                </p:nvSpPr>
                <p:spPr>
                  <a:xfrm rot="8424000">
                    <a:off x="257400" y="1105200"/>
                    <a:ext cx="65520" cy="193320"/>
                  </a:xfrm>
                  <a:custGeom>
                    <a:avLst/>
                    <a:gdLst>
                      <a:gd name="textAreaLeft" fmla="*/ 0 w 65520"/>
                      <a:gd name="textAreaRight" fmla="*/ 65880 w 65520"/>
                      <a:gd name="textAreaTop" fmla="*/ 0 h 193320"/>
                      <a:gd name="textAreaBottom" fmla="*/ 193680 h 193320"/>
                    </a:gdLst>
                    <a:ahLst/>
                    <a:rect l="textAreaLeft" t="textAreaTop" r="textAreaRight" b="textAreaBottom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Freeform 1486"/>
                  <p:cNvSpPr/>
                  <p:nvPr/>
                </p:nvSpPr>
                <p:spPr>
                  <a:xfrm rot="8424000">
                    <a:off x="315000" y="1143000"/>
                    <a:ext cx="48600" cy="30600"/>
                  </a:xfrm>
                  <a:custGeom>
                    <a:avLst/>
                    <a:gdLst>
                      <a:gd name="textAreaLeft" fmla="*/ 0 w 48600"/>
                      <a:gd name="textAreaRight" fmla="*/ 48960 w 4860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Freeform 1487"/>
                  <p:cNvSpPr/>
                  <p:nvPr/>
                </p:nvSpPr>
                <p:spPr>
                  <a:xfrm rot="8424000">
                    <a:off x="352080" y="1061280"/>
                    <a:ext cx="23400" cy="4932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49320"/>
                      <a:gd name="textAreaBottom" fmla="*/ 49680 h 49320"/>
                    </a:gdLst>
                    <a:ahLst/>
                    <a:rect l="textAreaLeft" t="textAreaTop" r="textAreaRight" b="textAreaBottom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Freeform 1488"/>
                  <p:cNvSpPr/>
                  <p:nvPr/>
                </p:nvSpPr>
                <p:spPr>
                  <a:xfrm rot="8424000">
                    <a:off x="425160" y="1127520"/>
                    <a:ext cx="51480" cy="10080"/>
                  </a:xfrm>
                  <a:custGeom>
                    <a:avLst/>
                    <a:gdLst>
                      <a:gd name="textAreaLeft" fmla="*/ 0 w 51480"/>
                      <a:gd name="textAreaRight" fmla="*/ 51840 w 5148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Freeform 1489"/>
                  <p:cNvSpPr/>
                  <p:nvPr/>
                </p:nvSpPr>
                <p:spPr>
                  <a:xfrm rot="8424000">
                    <a:off x="458280" y="1127160"/>
                    <a:ext cx="31680" cy="1872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Freeform 1490"/>
                  <p:cNvSpPr/>
                  <p:nvPr/>
                </p:nvSpPr>
                <p:spPr>
                  <a:xfrm rot="8424000">
                    <a:off x="337320" y="1114920"/>
                    <a:ext cx="10080" cy="115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Freeform 1491"/>
                  <p:cNvSpPr/>
                  <p:nvPr/>
                </p:nvSpPr>
                <p:spPr>
                  <a:xfrm rot="8424000">
                    <a:off x="461160" y="1167480"/>
                    <a:ext cx="9000" cy="6840"/>
                  </a:xfrm>
                  <a:custGeom>
                    <a:avLst/>
                    <a:gdLst>
                      <a:gd name="textAreaLeft" fmla="*/ 0 w 9000"/>
                      <a:gd name="textAreaRight" fmla="*/ 9360 w 900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Freeform 1492"/>
                  <p:cNvSpPr/>
                  <p:nvPr/>
                </p:nvSpPr>
                <p:spPr>
                  <a:xfrm rot="8424000">
                    <a:off x="459360" y="1219680"/>
                    <a:ext cx="10080" cy="936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Freeform 1493"/>
                  <p:cNvSpPr/>
                  <p:nvPr/>
                </p:nvSpPr>
                <p:spPr>
                  <a:xfrm rot="8424000">
                    <a:off x="483840" y="1086480"/>
                    <a:ext cx="7920" cy="468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5" name="Group 1249"/>
                <p:cNvGrpSpPr/>
                <p:nvPr/>
              </p:nvGrpSpPr>
              <p:grpSpPr>
                <a:xfrm>
                  <a:off x="270720" y="1383480"/>
                  <a:ext cx="44640" cy="39240"/>
                  <a:chOff x="270720" y="1383480"/>
                  <a:chExt cx="44640" cy="39240"/>
                </a:xfrm>
              </p:grpSpPr>
              <p:sp>
                <p:nvSpPr>
                  <p:cNvPr id="1336" name="Freeform 1495"/>
                  <p:cNvSpPr/>
                  <p:nvPr/>
                </p:nvSpPr>
                <p:spPr>
                  <a:xfrm rot="4059600">
                    <a:off x="279360" y="1384560"/>
                    <a:ext cx="27000" cy="3708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Freeform 1496"/>
                  <p:cNvSpPr/>
                  <p:nvPr/>
                </p:nvSpPr>
                <p:spPr>
                  <a:xfrm rot="412800">
                    <a:off x="280800" y="1389960"/>
                    <a:ext cx="18360" cy="16920"/>
                  </a:xfrm>
                  <a:custGeom>
                    <a:avLst/>
                    <a:gdLst>
                      <a:gd name="textAreaLeft" fmla="*/ 0 w 18360"/>
                      <a:gd name="textAreaRight" fmla="*/ 18720 w 18360"/>
                      <a:gd name="textAreaTop" fmla="*/ 0 h 16920"/>
                      <a:gd name="textAreaBottom" fmla="*/ 17280 h 16920"/>
                    </a:gdLst>
                    <a:ahLst/>
                    <a:rect l="textAreaLeft" t="textAreaTop" r="textAreaRight" b="textAreaBottom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38" name="Group 1252"/>
            <p:cNvGrpSpPr/>
            <p:nvPr/>
          </p:nvGrpSpPr>
          <p:grpSpPr>
            <a:xfrm>
              <a:off x="632520" y="1108440"/>
              <a:ext cx="451440" cy="330120"/>
              <a:chOff x="632520" y="1108440"/>
              <a:chExt cx="451440" cy="330120"/>
            </a:xfrm>
          </p:grpSpPr>
          <p:grpSp>
            <p:nvGrpSpPr>
              <p:cNvPr id="1339" name="Group 1253"/>
              <p:cNvGrpSpPr/>
              <p:nvPr/>
            </p:nvGrpSpPr>
            <p:grpSpPr>
              <a:xfrm>
                <a:off x="632520" y="1108440"/>
                <a:ext cx="451440" cy="330120"/>
                <a:chOff x="632520" y="1108440"/>
                <a:chExt cx="451440" cy="330120"/>
              </a:xfrm>
            </p:grpSpPr>
            <p:sp>
              <p:nvSpPr>
                <p:cNvPr id="1340" name="Freeform 1499"/>
                <p:cNvSpPr/>
                <p:nvPr/>
              </p:nvSpPr>
              <p:spPr>
                <a:xfrm flipH="1" rot="21294600">
                  <a:off x="742320" y="1122120"/>
                  <a:ext cx="328680" cy="302040"/>
                </a:xfrm>
                <a:custGeom>
                  <a:avLst/>
                  <a:gdLst>
                    <a:gd name="textAreaLeft" fmla="*/ -360 w 328680"/>
                    <a:gd name="textAreaRight" fmla="*/ 328680 w 328680"/>
                    <a:gd name="textAreaTop" fmla="*/ 0 h 302040"/>
                    <a:gd name="textAreaBottom" fmla="*/ 302400 h 30204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Freeform 1500"/>
                <p:cNvSpPr/>
                <p:nvPr/>
              </p:nvSpPr>
              <p:spPr>
                <a:xfrm flipH="1" rot="21294600">
                  <a:off x="752400" y="1191240"/>
                  <a:ext cx="278640" cy="143280"/>
                </a:xfrm>
                <a:custGeom>
                  <a:avLst/>
                  <a:gdLst>
                    <a:gd name="textAreaLeft" fmla="*/ 360 w 278640"/>
                    <a:gd name="textAreaRight" fmla="*/ 279360 w 278640"/>
                    <a:gd name="textAreaTop" fmla="*/ 0 h 143280"/>
                    <a:gd name="textAreaBottom" fmla="*/ 143640 h 14328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Freeform 1501"/>
                <p:cNvSpPr/>
                <p:nvPr/>
              </p:nvSpPr>
              <p:spPr>
                <a:xfrm flipH="1" rot="21294600">
                  <a:off x="638640" y="1164960"/>
                  <a:ext cx="406080" cy="178560"/>
                </a:xfrm>
                <a:custGeom>
                  <a:avLst/>
                  <a:gdLst>
                    <a:gd name="textAreaLeft" fmla="*/ 360 w 406080"/>
                    <a:gd name="textAreaRight" fmla="*/ 406800 w 406080"/>
                    <a:gd name="textAreaTop" fmla="*/ 0 h 178560"/>
                    <a:gd name="textAreaBottom" fmla="*/ 178920 h 17856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Freeform 1502"/>
                <p:cNvSpPr/>
                <p:nvPr/>
              </p:nvSpPr>
              <p:spPr>
                <a:xfrm flipH="1" rot="21294600">
                  <a:off x="869400" y="1254600"/>
                  <a:ext cx="131760" cy="17640"/>
                </a:xfrm>
                <a:custGeom>
                  <a:avLst/>
                  <a:gdLst>
                    <a:gd name="textAreaLeft" fmla="*/ 360 w 131760"/>
                    <a:gd name="textAreaRight" fmla="*/ 132480 w 1317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Freeform 1503"/>
                <p:cNvSpPr/>
                <p:nvPr/>
              </p:nvSpPr>
              <p:spPr>
                <a:xfrm flipH="1" rot="21294600">
                  <a:off x="804240" y="1181520"/>
                  <a:ext cx="170640" cy="65880"/>
                </a:xfrm>
                <a:custGeom>
                  <a:avLst/>
                  <a:gdLst>
                    <a:gd name="textAreaLeft" fmla="*/ 360 w 170640"/>
                    <a:gd name="textAreaRight" fmla="*/ 171360 w 170640"/>
                    <a:gd name="textAreaTop" fmla="*/ 0 h 65880"/>
                    <a:gd name="textAreaBottom" fmla="*/ 66240 h 6588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Freeform 1504"/>
                <p:cNvSpPr/>
                <p:nvPr/>
              </p:nvSpPr>
              <p:spPr>
                <a:xfrm flipH="1" rot="21294600">
                  <a:off x="761400" y="1142280"/>
                  <a:ext cx="187920" cy="87120"/>
                </a:xfrm>
                <a:custGeom>
                  <a:avLst/>
                  <a:gdLst>
                    <a:gd name="textAreaLeft" fmla="*/ 360 w 187920"/>
                    <a:gd name="textAreaRight" fmla="*/ 188640 w 18792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Freeform 1505"/>
                <p:cNvSpPr/>
                <p:nvPr/>
              </p:nvSpPr>
              <p:spPr>
                <a:xfrm flipH="1" rot="21294600">
                  <a:off x="934560" y="1281240"/>
                  <a:ext cx="78120" cy="11160"/>
                </a:xfrm>
                <a:custGeom>
                  <a:avLst/>
                  <a:gdLst>
                    <a:gd name="textAreaLeft" fmla="*/ -360 w 78120"/>
                    <a:gd name="textAreaRight" fmla="*/ 78120 w 7812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1506"/>
                <p:cNvSpPr/>
                <p:nvPr/>
              </p:nvSpPr>
              <p:spPr>
                <a:xfrm flipH="1" rot="21294600">
                  <a:off x="991440" y="1303920"/>
                  <a:ext cx="40680" cy="4320"/>
                </a:xfrm>
                <a:custGeom>
                  <a:avLst/>
                  <a:gdLst>
                    <a:gd name="textAreaLeft" fmla="*/ -360 w 40680"/>
                    <a:gd name="textAreaRight" fmla="*/ 40680 w 4068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Freeform 1507"/>
                <p:cNvSpPr/>
                <p:nvPr/>
              </p:nvSpPr>
              <p:spPr>
                <a:xfrm flipH="1" rot="21294600">
                  <a:off x="983160" y="1305720"/>
                  <a:ext cx="29880" cy="3096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Freeform 1508"/>
                <p:cNvSpPr/>
                <p:nvPr/>
              </p:nvSpPr>
              <p:spPr>
                <a:xfrm flipH="1" rot="21294600">
                  <a:off x="937440" y="1292400"/>
                  <a:ext cx="52200" cy="57240"/>
                </a:xfrm>
                <a:custGeom>
                  <a:avLst/>
                  <a:gdLst>
                    <a:gd name="textAreaLeft" fmla="*/ -360 w 52200"/>
                    <a:gd name="textAreaRight" fmla="*/ 52200 w 5220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Freeform 1509"/>
                <p:cNvSpPr/>
                <p:nvPr/>
              </p:nvSpPr>
              <p:spPr>
                <a:xfrm flipH="1" rot="21294600">
                  <a:off x="869400" y="1270440"/>
                  <a:ext cx="83520" cy="100080"/>
                </a:xfrm>
                <a:custGeom>
                  <a:avLst/>
                  <a:gdLst>
                    <a:gd name="textAreaLeft" fmla="*/ 360 w 83520"/>
                    <a:gd name="textAreaRight" fmla="*/ 84240 w 8352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Freeform 1510"/>
                <p:cNvSpPr/>
                <p:nvPr/>
              </p:nvSpPr>
              <p:spPr>
                <a:xfrm flipH="1" rot="21294600">
                  <a:off x="811080" y="1248840"/>
                  <a:ext cx="89640" cy="146520"/>
                </a:xfrm>
                <a:custGeom>
                  <a:avLst/>
                  <a:gdLst>
                    <a:gd name="textAreaLeft" fmla="*/ -360 w 89640"/>
                    <a:gd name="textAreaRight" fmla="*/ 89640 w 8964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Freeform 1511"/>
                <p:cNvSpPr/>
                <p:nvPr/>
              </p:nvSpPr>
              <p:spPr>
                <a:xfrm flipH="1" rot="21294600">
                  <a:off x="856800" y="1339920"/>
                  <a:ext cx="9720" cy="5868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Freeform 1512"/>
                <p:cNvSpPr/>
                <p:nvPr/>
              </p:nvSpPr>
              <p:spPr>
                <a:xfrm flipH="1" rot="21294600">
                  <a:off x="767160" y="1231560"/>
                  <a:ext cx="61920" cy="180720"/>
                </a:xfrm>
                <a:custGeom>
                  <a:avLst/>
                  <a:gdLst>
                    <a:gd name="textAreaLeft" fmla="*/ 360 w 61920"/>
                    <a:gd name="textAreaRight" fmla="*/ 62640 w 61920"/>
                    <a:gd name="textAreaTop" fmla="*/ 0 h 180720"/>
                    <a:gd name="textAreaBottom" fmla="*/ 181080 h 18072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Freeform 1513"/>
                <p:cNvSpPr/>
                <p:nvPr/>
              </p:nvSpPr>
              <p:spPr>
                <a:xfrm flipH="1" rot="21294600">
                  <a:off x="836280" y="1305000"/>
                  <a:ext cx="45720" cy="284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Freeform 1514"/>
                <p:cNvSpPr/>
                <p:nvPr/>
              </p:nvSpPr>
              <p:spPr>
                <a:xfrm flipH="1" rot="21294600">
                  <a:off x="913320" y="1327680"/>
                  <a:ext cx="22320" cy="46440"/>
                </a:xfrm>
                <a:custGeom>
                  <a:avLst/>
                  <a:gdLst>
                    <a:gd name="textAreaLeft" fmla="*/ 360 w 22320"/>
                    <a:gd name="textAreaRight" fmla="*/ 23040 w 223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Freeform 1515"/>
                <p:cNvSpPr/>
                <p:nvPr/>
              </p:nvSpPr>
              <p:spPr>
                <a:xfrm flipH="1" rot="21294600">
                  <a:off x="928440" y="1257840"/>
                  <a:ext cx="48600" cy="9720"/>
                </a:xfrm>
                <a:custGeom>
                  <a:avLst/>
                  <a:gdLst>
                    <a:gd name="textAreaLeft" fmla="*/ -360 w 48600"/>
                    <a:gd name="textAreaRight" fmla="*/ 48600 w 4860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Freeform 1516"/>
                <p:cNvSpPr/>
                <p:nvPr/>
              </p:nvSpPr>
              <p:spPr>
                <a:xfrm flipH="1" rot="21294600">
                  <a:off x="949680" y="1235160"/>
                  <a:ext cx="29880" cy="1764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1517"/>
                <p:cNvSpPr/>
                <p:nvPr/>
              </p:nvSpPr>
              <p:spPr>
                <a:xfrm flipH="1" rot="21294600">
                  <a:off x="882000" y="1336320"/>
                  <a:ext cx="9720" cy="1080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Freeform 1518"/>
                <p:cNvSpPr/>
                <p:nvPr/>
              </p:nvSpPr>
              <p:spPr>
                <a:xfrm flipH="1" rot="21294600">
                  <a:off x="932040" y="1223640"/>
                  <a:ext cx="8640" cy="6480"/>
                </a:xfrm>
                <a:custGeom>
                  <a:avLst/>
                  <a:gdLst>
                    <a:gd name="textAreaLeft" fmla="*/ 360 w 8640"/>
                    <a:gd name="textAreaRight" fmla="*/ 9360 w 864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Freeform 1519"/>
                <p:cNvSpPr/>
                <p:nvPr/>
              </p:nvSpPr>
              <p:spPr>
                <a:xfrm flipH="1" rot="21294600">
                  <a:off x="895680" y="1188000"/>
                  <a:ext cx="9720" cy="864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Freeform 1520"/>
                <p:cNvSpPr/>
                <p:nvPr/>
              </p:nvSpPr>
              <p:spPr>
                <a:xfrm flipH="1" rot="21294600">
                  <a:off x="1002600" y="1265400"/>
                  <a:ext cx="7560" cy="3960"/>
                </a:xfrm>
                <a:custGeom>
                  <a:avLst/>
                  <a:gdLst>
                    <a:gd name="textAreaLeft" fmla="*/ -360 w 7560"/>
                    <a:gd name="textAreaRight" fmla="*/ 7560 w 756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2" name="Group 1276"/>
              <p:cNvGrpSpPr/>
              <p:nvPr/>
            </p:nvGrpSpPr>
            <p:grpSpPr>
              <a:xfrm>
                <a:off x="646920" y="1168920"/>
                <a:ext cx="41760" cy="36360"/>
                <a:chOff x="646920" y="1168920"/>
                <a:chExt cx="41760" cy="36360"/>
              </a:xfrm>
            </p:grpSpPr>
            <p:sp>
              <p:nvSpPr>
                <p:cNvPr id="1363" name="Freeform 1522"/>
                <p:cNvSpPr/>
                <p:nvPr/>
              </p:nvSpPr>
              <p:spPr>
                <a:xfrm flipH="1" rot="4059600">
                  <a:off x="654840" y="1170000"/>
                  <a:ext cx="25200" cy="34560"/>
                </a:xfrm>
                <a:custGeom>
                  <a:avLst/>
                  <a:gdLst>
                    <a:gd name="textAreaLeft" fmla="*/ 360 w 25200"/>
                    <a:gd name="textAreaRight" fmla="*/ 25920 w 2520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Freeform 1523"/>
                <p:cNvSpPr/>
                <p:nvPr/>
              </p:nvSpPr>
              <p:spPr>
                <a:xfrm flipH="1" rot="7706400">
                  <a:off x="659880" y="1184400"/>
                  <a:ext cx="17280" cy="15480"/>
                </a:xfrm>
                <a:custGeom>
                  <a:avLst/>
                  <a:gdLst>
                    <a:gd name="textAreaLeft" fmla="*/ 360 w 17280"/>
                    <a:gd name="textAreaRight" fmla="*/ 18000 w 17280"/>
                    <a:gd name="textAreaTop" fmla="*/ 0 h 15480"/>
                    <a:gd name="textAreaBottom" fmla="*/ 15840 h 1548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Group 1279"/>
            <p:cNvGrpSpPr/>
            <p:nvPr/>
          </p:nvGrpSpPr>
          <p:grpSpPr>
            <a:xfrm>
              <a:off x="530640" y="759600"/>
              <a:ext cx="371160" cy="425160"/>
              <a:chOff x="530640" y="759600"/>
              <a:chExt cx="371160" cy="425160"/>
            </a:xfrm>
          </p:grpSpPr>
          <p:grpSp>
            <p:nvGrpSpPr>
              <p:cNvPr id="1366" name="Group 1280"/>
              <p:cNvGrpSpPr/>
              <p:nvPr/>
            </p:nvGrpSpPr>
            <p:grpSpPr>
              <a:xfrm>
                <a:off x="530640" y="759600"/>
                <a:ext cx="371160" cy="425160"/>
                <a:chOff x="530640" y="759600"/>
                <a:chExt cx="371160" cy="425160"/>
              </a:xfrm>
            </p:grpSpPr>
            <p:sp>
              <p:nvSpPr>
                <p:cNvPr id="1367" name="Freeform 1526"/>
                <p:cNvSpPr/>
                <p:nvPr/>
              </p:nvSpPr>
              <p:spPr>
                <a:xfrm rot="7630800">
                  <a:off x="576360" y="820800"/>
                  <a:ext cx="279720" cy="253440"/>
                </a:xfrm>
                <a:custGeom>
                  <a:avLst/>
                  <a:gdLst>
                    <a:gd name="textAreaLeft" fmla="*/ 0 w 279720"/>
                    <a:gd name="textAreaRight" fmla="*/ 280080 w 27972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Freeform 1527"/>
                <p:cNvSpPr/>
                <p:nvPr/>
              </p:nvSpPr>
              <p:spPr>
                <a:xfrm rot="7630800">
                  <a:off x="598320" y="901800"/>
                  <a:ext cx="236880" cy="120600"/>
                </a:xfrm>
                <a:custGeom>
                  <a:avLst/>
                  <a:gdLst>
                    <a:gd name="textAreaLeft" fmla="*/ 0 w 236880"/>
                    <a:gd name="textAreaRight" fmla="*/ 237240 w 23688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Freeform 1528"/>
                <p:cNvSpPr/>
                <p:nvPr/>
              </p:nvSpPr>
              <p:spPr>
                <a:xfrm rot="7630800">
                  <a:off x="527760" y="927000"/>
                  <a:ext cx="344880" cy="150120"/>
                </a:xfrm>
                <a:custGeom>
                  <a:avLst/>
                  <a:gdLst>
                    <a:gd name="textAreaLeft" fmla="*/ 0 w 344880"/>
                    <a:gd name="textAreaRight" fmla="*/ 345240 w 344880"/>
                    <a:gd name="textAreaTop" fmla="*/ 0 h 150120"/>
                    <a:gd name="textAreaBottom" fmla="*/ 150480 h 15012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Freeform 1529"/>
                <p:cNvSpPr/>
                <p:nvPr/>
              </p:nvSpPr>
              <p:spPr>
                <a:xfrm rot="7630800">
                  <a:off x="679680" y="923040"/>
                  <a:ext cx="111960" cy="151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1530"/>
                <p:cNvSpPr/>
                <p:nvPr/>
              </p:nvSpPr>
              <p:spPr>
                <a:xfrm rot="7630800">
                  <a:off x="677880" y="957600"/>
                  <a:ext cx="145080" cy="55080"/>
                </a:xfrm>
                <a:custGeom>
                  <a:avLst/>
                  <a:gdLst>
                    <a:gd name="textAreaLeft" fmla="*/ 0 w 145080"/>
                    <a:gd name="textAreaRight" fmla="*/ 145440 w 145080"/>
                    <a:gd name="textAreaTop" fmla="*/ 0 h 55080"/>
                    <a:gd name="textAreaBottom" fmla="*/ 55440 h 5508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Freeform 1531"/>
                <p:cNvSpPr/>
                <p:nvPr/>
              </p:nvSpPr>
              <p:spPr>
                <a:xfrm rot="7630800">
                  <a:off x="675000" y="986760"/>
                  <a:ext cx="159840" cy="72720"/>
                </a:xfrm>
                <a:custGeom>
                  <a:avLst/>
                  <a:gdLst>
                    <a:gd name="textAreaLeft" fmla="*/ 0 w 159840"/>
                    <a:gd name="textAreaRight" fmla="*/ 160200 w 1598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Freeform 1532"/>
                <p:cNvSpPr/>
                <p:nvPr/>
              </p:nvSpPr>
              <p:spPr>
                <a:xfrm rot="7630800">
                  <a:off x="703440" y="887760"/>
                  <a:ext cx="66240" cy="93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Freeform 1533"/>
                <p:cNvSpPr/>
                <p:nvPr/>
              </p:nvSpPr>
              <p:spPr>
                <a:xfrm rot="7630800">
                  <a:off x="722160" y="855000"/>
                  <a:ext cx="34560" cy="39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Freeform 1534"/>
                <p:cNvSpPr/>
                <p:nvPr/>
              </p:nvSpPr>
              <p:spPr>
                <a:xfrm rot="7630800">
                  <a:off x="711000" y="846000"/>
                  <a:ext cx="25200" cy="2628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Freeform 1535"/>
                <p:cNvSpPr/>
                <p:nvPr/>
              </p:nvSpPr>
              <p:spPr>
                <a:xfrm rot="7630800">
                  <a:off x="685440" y="861120"/>
                  <a:ext cx="44280" cy="4752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47520"/>
                    <a:gd name="textAreaBottom" fmla="*/ 47880 h 4752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Freeform 1536"/>
                <p:cNvSpPr/>
                <p:nvPr/>
              </p:nvSpPr>
              <p:spPr>
                <a:xfrm rot="7630800">
                  <a:off x="649080" y="880560"/>
                  <a:ext cx="70920" cy="83880"/>
                </a:xfrm>
                <a:custGeom>
                  <a:avLst/>
                  <a:gdLst>
                    <a:gd name="textAreaLeft" fmla="*/ 0 w 70920"/>
                    <a:gd name="textAreaRight" fmla="*/ 71280 w 7092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Freeform 1537"/>
                <p:cNvSpPr/>
                <p:nvPr/>
              </p:nvSpPr>
              <p:spPr>
                <a:xfrm rot="7630800">
                  <a:off x="619920" y="900000"/>
                  <a:ext cx="76320" cy="123120"/>
                </a:xfrm>
                <a:custGeom>
                  <a:avLst/>
                  <a:gdLst>
                    <a:gd name="textAreaLeft" fmla="*/ 0 w 76320"/>
                    <a:gd name="textAreaRight" fmla="*/ 76680 w 76320"/>
                    <a:gd name="textAreaTop" fmla="*/ 0 h 123120"/>
                    <a:gd name="textAreaBottom" fmla="*/ 123480 h 12312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Freeform 1538"/>
                <p:cNvSpPr/>
                <p:nvPr/>
              </p:nvSpPr>
              <p:spPr>
                <a:xfrm rot="7630800">
                  <a:off x="623520" y="911160"/>
                  <a:ext cx="8280" cy="4932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Freeform 1539"/>
                <p:cNvSpPr/>
                <p:nvPr/>
              </p:nvSpPr>
              <p:spPr>
                <a:xfrm rot="7630800">
                  <a:off x="605160" y="927000"/>
                  <a:ext cx="52560" cy="15192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151920"/>
                    <a:gd name="textAreaBottom" fmla="*/ 152280 h 15192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Freeform 1540"/>
                <p:cNvSpPr/>
                <p:nvPr/>
              </p:nvSpPr>
              <p:spPr>
                <a:xfrm rot="7630800">
                  <a:off x="642960" y="948240"/>
                  <a:ext cx="38880" cy="241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Freeform 1541"/>
                <p:cNvSpPr/>
                <p:nvPr/>
              </p:nvSpPr>
              <p:spPr>
                <a:xfrm rot="7630800">
                  <a:off x="659520" y="879480"/>
                  <a:ext cx="18360" cy="38880"/>
                </a:xfrm>
                <a:custGeom>
                  <a:avLst/>
                  <a:gdLst>
                    <a:gd name="textAreaLeft" fmla="*/ 0 w 18360"/>
                    <a:gd name="textAreaRight" fmla="*/ 18720 w 1836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Freeform 1542"/>
                <p:cNvSpPr/>
                <p:nvPr/>
              </p:nvSpPr>
              <p:spPr>
                <a:xfrm rot="7630800">
                  <a:off x="723600" y="914040"/>
                  <a:ext cx="41040" cy="828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Freeform 1543"/>
                <p:cNvSpPr/>
                <p:nvPr/>
              </p:nvSpPr>
              <p:spPr>
                <a:xfrm rot="7630800">
                  <a:off x="750960" y="910440"/>
                  <a:ext cx="25200" cy="1476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Freeform 1544"/>
                <p:cNvSpPr/>
                <p:nvPr/>
              </p:nvSpPr>
              <p:spPr>
                <a:xfrm rot="7630800">
                  <a:off x="654120" y="925560"/>
                  <a:ext cx="8280" cy="936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1545"/>
                <p:cNvSpPr/>
                <p:nvPr/>
              </p:nvSpPr>
              <p:spPr>
                <a:xfrm rot="7630800">
                  <a:off x="759240" y="942840"/>
                  <a:ext cx="7200" cy="54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Freeform 1546"/>
                <p:cNvSpPr/>
                <p:nvPr/>
              </p:nvSpPr>
              <p:spPr>
                <a:xfrm rot="7630800">
                  <a:off x="766800" y="983520"/>
                  <a:ext cx="8280" cy="756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7560"/>
                    <a:gd name="textAreaBottom" fmla="*/ 7920 h 756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Freeform 1547"/>
                <p:cNvSpPr/>
                <p:nvPr/>
              </p:nvSpPr>
              <p:spPr>
                <a:xfrm rot="7630800">
                  <a:off x="761400" y="876240"/>
                  <a:ext cx="6480" cy="3240"/>
                </a:xfrm>
                <a:custGeom>
                  <a:avLst/>
                  <a:gdLst>
                    <a:gd name="textAreaLeft" fmla="*/ 0 w 6480"/>
                    <a:gd name="textAreaRight" fmla="*/ 6840 w 648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9" name="Group 1303"/>
              <p:cNvGrpSpPr/>
              <p:nvPr/>
            </p:nvGrpSpPr>
            <p:grpSpPr>
              <a:xfrm>
                <a:off x="651240" y="1140120"/>
                <a:ext cx="36000" cy="33840"/>
                <a:chOff x="651240" y="1140120"/>
                <a:chExt cx="36000" cy="33840"/>
              </a:xfrm>
            </p:grpSpPr>
            <p:sp>
              <p:nvSpPr>
                <p:cNvPr id="1390" name="Freeform 1549"/>
                <p:cNvSpPr/>
                <p:nvPr/>
              </p:nvSpPr>
              <p:spPr>
                <a:xfrm rot="3266400">
                  <a:off x="658800" y="1142280"/>
                  <a:ext cx="20880" cy="29160"/>
                </a:xfrm>
                <a:custGeom>
                  <a:avLst/>
                  <a:gdLst>
                    <a:gd name="textAreaLeft" fmla="*/ 0 w 20880"/>
                    <a:gd name="textAreaRight" fmla="*/ 21240 w 2088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Freeform 1550"/>
                <p:cNvSpPr/>
                <p:nvPr/>
              </p:nvSpPr>
              <p:spPr>
                <a:xfrm rot="21219600">
                  <a:off x="658440" y="1147680"/>
                  <a:ext cx="14760" cy="1260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2" name="Group 1306"/>
            <p:cNvGrpSpPr/>
            <p:nvPr/>
          </p:nvGrpSpPr>
          <p:grpSpPr>
            <a:xfrm>
              <a:off x="896040" y="932400"/>
              <a:ext cx="409320" cy="348480"/>
              <a:chOff x="896040" y="932400"/>
              <a:chExt cx="409320" cy="348480"/>
            </a:xfrm>
          </p:grpSpPr>
          <p:grpSp>
            <p:nvGrpSpPr>
              <p:cNvPr id="1393" name="Group 1307"/>
              <p:cNvGrpSpPr/>
              <p:nvPr/>
            </p:nvGrpSpPr>
            <p:grpSpPr>
              <a:xfrm>
                <a:off x="896040" y="932400"/>
                <a:ext cx="409320" cy="348480"/>
                <a:chOff x="896040" y="932400"/>
                <a:chExt cx="409320" cy="348480"/>
              </a:xfrm>
            </p:grpSpPr>
            <p:sp>
              <p:nvSpPr>
                <p:cNvPr id="1394" name="Freeform 1553"/>
                <p:cNvSpPr/>
                <p:nvPr/>
              </p:nvSpPr>
              <p:spPr>
                <a:xfrm rot="12159000">
                  <a:off x="999360" y="973080"/>
                  <a:ext cx="264600" cy="267120"/>
                </a:xfrm>
                <a:custGeom>
                  <a:avLst/>
                  <a:gdLst>
                    <a:gd name="textAreaLeft" fmla="*/ 0 w 264600"/>
                    <a:gd name="textAreaRight" fmla="*/ 264960 w 264600"/>
                    <a:gd name="textAreaTop" fmla="*/ 0 h 267120"/>
                    <a:gd name="textAreaBottom" fmla="*/ 267480 h 26712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1554"/>
                <p:cNvSpPr/>
                <p:nvPr/>
              </p:nvSpPr>
              <p:spPr>
                <a:xfrm rot="12159000">
                  <a:off x="1006200" y="1047600"/>
                  <a:ext cx="224280" cy="127440"/>
                </a:xfrm>
                <a:custGeom>
                  <a:avLst/>
                  <a:gdLst>
                    <a:gd name="textAreaLeft" fmla="*/ 0 w 224280"/>
                    <a:gd name="textAreaRight" fmla="*/ 224640 w 224280"/>
                    <a:gd name="textAreaTop" fmla="*/ 0 h 127440"/>
                    <a:gd name="textAreaBottom" fmla="*/ 127800 h 12744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1555"/>
                <p:cNvSpPr/>
                <p:nvPr/>
              </p:nvSpPr>
              <p:spPr>
                <a:xfrm rot="12159000">
                  <a:off x="913680" y="1028160"/>
                  <a:ext cx="326880" cy="158040"/>
                </a:xfrm>
                <a:custGeom>
                  <a:avLst/>
                  <a:gdLst>
                    <a:gd name="textAreaLeft" fmla="*/ 0 w 326880"/>
                    <a:gd name="textAreaRight" fmla="*/ 327240 w 326880"/>
                    <a:gd name="textAreaTop" fmla="*/ 0 h 158040"/>
                    <a:gd name="textAreaBottom" fmla="*/ 158400 h 15804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Freeform 1556"/>
                <p:cNvSpPr/>
                <p:nvPr/>
              </p:nvSpPr>
              <p:spPr>
                <a:xfrm rot="12159000">
                  <a:off x="1098360" y="1113840"/>
                  <a:ext cx="106560" cy="1548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15480"/>
                    <a:gd name="textAreaBottom" fmla="*/ 15840 h 1548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1557"/>
                <p:cNvSpPr/>
                <p:nvPr/>
              </p:nvSpPr>
              <p:spPr>
                <a:xfrm rot="12159000">
                  <a:off x="1034640" y="1122480"/>
                  <a:ext cx="137160" cy="58680"/>
                </a:xfrm>
                <a:custGeom>
                  <a:avLst/>
                  <a:gdLst>
                    <a:gd name="textAreaLeft" fmla="*/ 0 w 137160"/>
                    <a:gd name="textAreaRight" fmla="*/ 137520 w 13716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Freeform 1558"/>
                <p:cNvSpPr/>
                <p:nvPr/>
              </p:nvSpPr>
              <p:spPr>
                <a:xfrm rot="12159000">
                  <a:off x="993600" y="1129680"/>
                  <a:ext cx="151200" cy="77040"/>
                </a:xfrm>
                <a:custGeom>
                  <a:avLst/>
                  <a:gdLst>
                    <a:gd name="textAreaLeft" fmla="*/ 0 w 151200"/>
                    <a:gd name="textAreaRight" fmla="*/ 151560 w 151200"/>
                    <a:gd name="textAreaTop" fmla="*/ 0 h 77040"/>
                    <a:gd name="textAreaBottom" fmla="*/ 77400 h 7704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Freeform 1559"/>
                <p:cNvSpPr/>
                <p:nvPr/>
              </p:nvSpPr>
              <p:spPr>
                <a:xfrm rot="12159000">
                  <a:off x="1155240" y="1106280"/>
                  <a:ext cx="63000" cy="972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Freeform 1560"/>
                <p:cNvSpPr/>
                <p:nvPr/>
              </p:nvSpPr>
              <p:spPr>
                <a:xfrm rot="12159000">
                  <a:off x="1206000" y="1100880"/>
                  <a:ext cx="32760" cy="3960"/>
                </a:xfrm>
                <a:custGeom>
                  <a:avLst/>
                  <a:gdLst>
                    <a:gd name="textAreaLeft" fmla="*/ 0 w 32760"/>
                    <a:gd name="textAreaRight" fmla="*/ 33120 w 3276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2" name="Freeform 1561"/>
                <p:cNvSpPr/>
                <p:nvPr/>
              </p:nvSpPr>
              <p:spPr>
                <a:xfrm rot="12159000">
                  <a:off x="1203840" y="1073880"/>
                  <a:ext cx="23760" cy="273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Freeform 1562"/>
                <p:cNvSpPr/>
                <p:nvPr/>
              </p:nvSpPr>
              <p:spPr>
                <a:xfrm rot="12159000">
                  <a:off x="1167840" y="1054440"/>
                  <a:ext cx="41760" cy="5076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4" name="Freeform 1563"/>
                <p:cNvSpPr/>
                <p:nvPr/>
              </p:nvSpPr>
              <p:spPr>
                <a:xfrm rot="12159000">
                  <a:off x="1114920" y="1023120"/>
                  <a:ext cx="67320" cy="88920"/>
                </a:xfrm>
                <a:custGeom>
                  <a:avLst/>
                  <a:gdLst>
                    <a:gd name="textAreaLeft" fmla="*/ 0 w 67320"/>
                    <a:gd name="textAreaRight" fmla="*/ 67680 w 673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Freeform 1564"/>
                <p:cNvSpPr/>
                <p:nvPr/>
              </p:nvSpPr>
              <p:spPr>
                <a:xfrm rot="12159000">
                  <a:off x="1071000" y="988200"/>
                  <a:ext cx="71640" cy="13032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130320"/>
                    <a:gd name="textAreaBottom" fmla="*/ 130680 h 13032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Freeform 1565"/>
                <p:cNvSpPr/>
                <p:nvPr/>
              </p:nvSpPr>
              <p:spPr>
                <a:xfrm rot="12159000">
                  <a:off x="1120320" y="989280"/>
                  <a:ext cx="8280" cy="5184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7" name="Freeform 1566"/>
                <p:cNvSpPr/>
                <p:nvPr/>
              </p:nvSpPr>
              <p:spPr>
                <a:xfrm rot="12159000">
                  <a:off x="1036800" y="960120"/>
                  <a:ext cx="50040" cy="15984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0 h 159840"/>
                    <a:gd name="textAreaBottom" fmla="*/ 159840 h 15984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8" name="Freeform 1567"/>
                <p:cNvSpPr/>
                <p:nvPr/>
              </p:nvSpPr>
              <p:spPr>
                <a:xfrm rot="12159000">
                  <a:off x="1090080" y="1044360"/>
                  <a:ext cx="37080" cy="25200"/>
                </a:xfrm>
                <a:custGeom>
                  <a:avLst/>
                  <a:gdLst>
                    <a:gd name="textAreaLeft" fmla="*/ 0 w 37080"/>
                    <a:gd name="textAreaRight" fmla="*/ 37440 w 3708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Freeform 1568"/>
                <p:cNvSpPr/>
                <p:nvPr/>
              </p:nvSpPr>
              <p:spPr>
                <a:xfrm rot="12159000">
                  <a:off x="1158120" y="1024920"/>
                  <a:ext cx="17640" cy="4068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Freeform 1569"/>
                <p:cNvSpPr/>
                <p:nvPr/>
              </p:nvSpPr>
              <p:spPr>
                <a:xfrm rot="12159000">
                  <a:off x="1145520" y="1121760"/>
                  <a:ext cx="38520" cy="86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1" name="Freeform 1570"/>
                <p:cNvSpPr/>
                <p:nvPr/>
              </p:nvSpPr>
              <p:spPr>
                <a:xfrm rot="12159000">
                  <a:off x="1157400" y="1137600"/>
                  <a:ext cx="23760" cy="1512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2" name="Freeform 1571"/>
                <p:cNvSpPr/>
                <p:nvPr/>
              </p:nvSpPr>
              <p:spPr>
                <a:xfrm rot="12159000">
                  <a:off x="1132200" y="1038960"/>
                  <a:ext cx="8280" cy="1008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3" name="Freeform 1572"/>
                <p:cNvSpPr/>
                <p:nvPr/>
              </p:nvSpPr>
              <p:spPr>
                <a:xfrm rot="12159000">
                  <a:off x="1139400" y="1150200"/>
                  <a:ext cx="6480" cy="5760"/>
                </a:xfrm>
                <a:custGeom>
                  <a:avLst/>
                  <a:gdLst>
                    <a:gd name="textAreaLeft" fmla="*/ 0 w 6480"/>
                    <a:gd name="textAreaRight" fmla="*/ 6840 w 648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4" name="Freeform 1573"/>
                <p:cNvSpPr/>
                <p:nvPr/>
              </p:nvSpPr>
              <p:spPr>
                <a:xfrm rot="12159000">
                  <a:off x="1101240" y="1168920"/>
                  <a:ext cx="8280" cy="792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Freeform 1574"/>
                <p:cNvSpPr/>
                <p:nvPr/>
              </p:nvSpPr>
              <p:spPr>
                <a:xfrm rot="12159000">
                  <a:off x="1203840" y="1133280"/>
                  <a:ext cx="6120" cy="396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6" name="Group 1330"/>
              <p:cNvGrpSpPr/>
              <p:nvPr/>
            </p:nvGrpSpPr>
            <p:grpSpPr>
              <a:xfrm>
                <a:off x="901440" y="1106640"/>
                <a:ext cx="36000" cy="35280"/>
                <a:chOff x="901440" y="1106640"/>
                <a:chExt cx="36000" cy="35280"/>
              </a:xfrm>
            </p:grpSpPr>
            <p:sp>
              <p:nvSpPr>
                <p:cNvPr id="1417" name="Freeform 1576"/>
                <p:cNvSpPr/>
                <p:nvPr/>
              </p:nvSpPr>
              <p:spPr>
                <a:xfrm rot="7794000">
                  <a:off x="908280" y="1109880"/>
                  <a:ext cx="22320" cy="2808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8" name="Freeform 1577"/>
                <p:cNvSpPr/>
                <p:nvPr/>
              </p:nvSpPr>
              <p:spPr>
                <a:xfrm rot="4147200">
                  <a:off x="915120" y="1114200"/>
                  <a:ext cx="14040" cy="1332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13320"/>
                    <a:gd name="textAreaBottom" fmla="*/ 13680 h 1332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19" name="Group 1333"/>
          <p:cNvGrpSpPr/>
          <p:nvPr/>
        </p:nvGrpSpPr>
        <p:grpSpPr>
          <a:xfrm>
            <a:off x="-412920" y="355320"/>
            <a:ext cx="2031840" cy="1442880"/>
            <a:chOff x="-412920" y="355320"/>
            <a:chExt cx="2031840" cy="1442880"/>
          </a:xfrm>
        </p:grpSpPr>
        <p:sp>
          <p:nvSpPr>
            <p:cNvPr id="1420" name="Freeform 1772"/>
            <p:cNvSpPr/>
            <p:nvPr/>
          </p:nvSpPr>
          <p:spPr>
            <a:xfrm flipH="1" rot="7023600">
              <a:off x="531720" y="388800"/>
              <a:ext cx="275040" cy="1503000"/>
            </a:xfrm>
            <a:custGeom>
              <a:avLst/>
              <a:gdLst>
                <a:gd name="textAreaLeft" fmla="*/ 360 w 275040"/>
                <a:gd name="textAreaRight" fmla="*/ 275760 w 275040"/>
                <a:gd name="textAreaTop" fmla="*/ 0 h 1503000"/>
                <a:gd name="textAreaBottom" fmla="*/ 1503360 h 1503000"/>
              </a:gdLst>
              <a:ahLst/>
              <a:rect l="textAreaLeft" t="textAreaTop" r="textAreaRight" b="textAreaBottom"/>
              <a:pathLst>
                <a:path w="2573" h="12419">
                  <a:moveTo>
                    <a:pt x="103" y="11997"/>
                  </a:moveTo>
                  <a:lnTo>
                    <a:pt x="103" y="11955"/>
                  </a:lnTo>
                  <a:lnTo>
                    <a:pt x="113" y="11851"/>
                  </a:lnTo>
                  <a:lnTo>
                    <a:pt x="124" y="11788"/>
                  </a:lnTo>
                  <a:lnTo>
                    <a:pt x="135" y="11737"/>
                  </a:lnTo>
                  <a:lnTo>
                    <a:pt x="150" y="11690"/>
                  </a:lnTo>
                  <a:lnTo>
                    <a:pt x="160" y="11669"/>
                  </a:lnTo>
                  <a:lnTo>
                    <a:pt x="170" y="11658"/>
                  </a:lnTo>
                  <a:lnTo>
                    <a:pt x="228" y="11596"/>
                  </a:lnTo>
                  <a:lnTo>
                    <a:pt x="264" y="11555"/>
                  </a:lnTo>
                  <a:lnTo>
                    <a:pt x="300" y="11503"/>
                  </a:lnTo>
                  <a:lnTo>
                    <a:pt x="332" y="11445"/>
                  </a:lnTo>
                  <a:lnTo>
                    <a:pt x="368" y="11378"/>
                  </a:lnTo>
                  <a:lnTo>
                    <a:pt x="394" y="11305"/>
                  </a:lnTo>
                  <a:lnTo>
                    <a:pt x="410" y="11221"/>
                  </a:lnTo>
                  <a:lnTo>
                    <a:pt x="447" y="11071"/>
                  </a:lnTo>
                  <a:lnTo>
                    <a:pt x="504" y="10821"/>
                  </a:lnTo>
                  <a:lnTo>
                    <a:pt x="670" y="10144"/>
                  </a:lnTo>
                  <a:lnTo>
                    <a:pt x="831" y="9488"/>
                  </a:lnTo>
                  <a:lnTo>
                    <a:pt x="883" y="9254"/>
                  </a:lnTo>
                  <a:lnTo>
                    <a:pt x="904" y="9140"/>
                  </a:lnTo>
                  <a:lnTo>
                    <a:pt x="909" y="9056"/>
                  </a:lnTo>
                  <a:lnTo>
                    <a:pt x="914" y="9004"/>
                  </a:lnTo>
                  <a:lnTo>
                    <a:pt x="919" y="8983"/>
                  </a:lnTo>
                  <a:lnTo>
                    <a:pt x="930" y="8973"/>
                  </a:lnTo>
                  <a:lnTo>
                    <a:pt x="946" y="8963"/>
                  </a:lnTo>
                  <a:lnTo>
                    <a:pt x="966" y="8958"/>
                  </a:lnTo>
                  <a:lnTo>
                    <a:pt x="981" y="8946"/>
                  </a:lnTo>
                  <a:lnTo>
                    <a:pt x="1003" y="8921"/>
                  </a:lnTo>
                  <a:lnTo>
                    <a:pt x="1023" y="8884"/>
                  </a:lnTo>
                  <a:lnTo>
                    <a:pt x="1050" y="8833"/>
                  </a:lnTo>
                  <a:lnTo>
                    <a:pt x="1106" y="8708"/>
                  </a:lnTo>
                  <a:lnTo>
                    <a:pt x="1169" y="8556"/>
                  </a:lnTo>
                  <a:lnTo>
                    <a:pt x="1231" y="8395"/>
                  </a:lnTo>
                  <a:lnTo>
                    <a:pt x="1288" y="8239"/>
                  </a:lnTo>
                  <a:lnTo>
                    <a:pt x="1335" y="8104"/>
                  </a:lnTo>
                  <a:lnTo>
                    <a:pt x="1367" y="7999"/>
                  </a:lnTo>
                  <a:lnTo>
                    <a:pt x="1445" y="7755"/>
                  </a:lnTo>
                  <a:lnTo>
                    <a:pt x="1554" y="7401"/>
                  </a:lnTo>
                  <a:lnTo>
                    <a:pt x="1606" y="7213"/>
                  </a:lnTo>
                  <a:lnTo>
                    <a:pt x="1647" y="7026"/>
                  </a:lnTo>
                  <a:lnTo>
                    <a:pt x="1669" y="6943"/>
                  </a:lnTo>
                  <a:lnTo>
                    <a:pt x="1679" y="6860"/>
                  </a:lnTo>
                  <a:lnTo>
                    <a:pt x="1689" y="6786"/>
                  </a:lnTo>
                  <a:lnTo>
                    <a:pt x="1689" y="6719"/>
                  </a:lnTo>
                  <a:lnTo>
                    <a:pt x="1694" y="6651"/>
                  </a:lnTo>
                  <a:lnTo>
                    <a:pt x="1699" y="6558"/>
                  </a:lnTo>
                  <a:lnTo>
                    <a:pt x="1731" y="6318"/>
                  </a:lnTo>
                  <a:lnTo>
                    <a:pt x="1772" y="6032"/>
                  </a:lnTo>
                  <a:lnTo>
                    <a:pt x="1814" y="5730"/>
                  </a:lnTo>
                  <a:lnTo>
                    <a:pt x="1902" y="5163"/>
                  </a:lnTo>
                  <a:lnTo>
                    <a:pt x="1934" y="4955"/>
                  </a:lnTo>
                  <a:lnTo>
                    <a:pt x="1939" y="4877"/>
                  </a:lnTo>
                  <a:lnTo>
                    <a:pt x="1944" y="4830"/>
                  </a:lnTo>
                  <a:lnTo>
                    <a:pt x="1949" y="4236"/>
                  </a:lnTo>
                  <a:lnTo>
                    <a:pt x="1964" y="3133"/>
                  </a:lnTo>
                  <a:lnTo>
                    <a:pt x="1970" y="2555"/>
                  </a:lnTo>
                  <a:lnTo>
                    <a:pt x="1970" y="2050"/>
                  </a:lnTo>
                  <a:lnTo>
                    <a:pt x="1964" y="1686"/>
                  </a:lnTo>
                  <a:lnTo>
                    <a:pt x="1959" y="1571"/>
                  </a:lnTo>
                  <a:lnTo>
                    <a:pt x="1954" y="1541"/>
                  </a:lnTo>
                  <a:lnTo>
                    <a:pt x="1954" y="1524"/>
                  </a:lnTo>
                  <a:lnTo>
                    <a:pt x="1918" y="1457"/>
                  </a:lnTo>
                  <a:lnTo>
                    <a:pt x="1892" y="1399"/>
                  </a:lnTo>
                  <a:lnTo>
                    <a:pt x="1887" y="1374"/>
                  </a:lnTo>
                  <a:lnTo>
                    <a:pt x="1882" y="1347"/>
                  </a:lnTo>
                  <a:lnTo>
                    <a:pt x="1882" y="1327"/>
                  </a:lnTo>
                  <a:lnTo>
                    <a:pt x="1892" y="1311"/>
                  </a:lnTo>
                  <a:lnTo>
                    <a:pt x="1897" y="1306"/>
                  </a:lnTo>
                  <a:lnTo>
                    <a:pt x="1907" y="1301"/>
                  </a:lnTo>
                  <a:lnTo>
                    <a:pt x="1923" y="1306"/>
                  </a:lnTo>
                  <a:lnTo>
                    <a:pt x="1944" y="1311"/>
                  </a:lnTo>
                  <a:lnTo>
                    <a:pt x="1964" y="1322"/>
                  </a:lnTo>
                  <a:lnTo>
                    <a:pt x="1986" y="1332"/>
                  </a:lnTo>
                  <a:lnTo>
                    <a:pt x="2006" y="1337"/>
                  </a:lnTo>
                  <a:lnTo>
                    <a:pt x="2022" y="1337"/>
                  </a:lnTo>
                  <a:lnTo>
                    <a:pt x="2027" y="1332"/>
                  </a:lnTo>
                  <a:lnTo>
                    <a:pt x="2032" y="1322"/>
                  </a:lnTo>
                  <a:lnTo>
                    <a:pt x="2214" y="775"/>
                  </a:lnTo>
                  <a:lnTo>
                    <a:pt x="2386" y="265"/>
                  </a:lnTo>
                  <a:lnTo>
                    <a:pt x="2376" y="228"/>
                  </a:lnTo>
                  <a:lnTo>
                    <a:pt x="2360" y="140"/>
                  </a:lnTo>
                  <a:lnTo>
                    <a:pt x="2360" y="93"/>
                  </a:lnTo>
                  <a:lnTo>
                    <a:pt x="2360" y="51"/>
                  </a:lnTo>
                  <a:lnTo>
                    <a:pt x="2365" y="20"/>
                  </a:lnTo>
                  <a:lnTo>
                    <a:pt x="2376" y="10"/>
                  </a:lnTo>
                  <a:lnTo>
                    <a:pt x="2386" y="5"/>
                  </a:lnTo>
                  <a:lnTo>
                    <a:pt x="2396" y="0"/>
                  </a:lnTo>
                  <a:lnTo>
                    <a:pt x="2401" y="5"/>
                  </a:lnTo>
                  <a:lnTo>
                    <a:pt x="2417" y="15"/>
                  </a:lnTo>
                  <a:lnTo>
                    <a:pt x="2423" y="36"/>
                  </a:lnTo>
                  <a:lnTo>
                    <a:pt x="2428" y="67"/>
                  </a:lnTo>
                  <a:lnTo>
                    <a:pt x="2438" y="130"/>
                  </a:lnTo>
                  <a:lnTo>
                    <a:pt x="2448" y="155"/>
                  </a:lnTo>
                  <a:lnTo>
                    <a:pt x="2464" y="177"/>
                  </a:lnTo>
                  <a:lnTo>
                    <a:pt x="2485" y="187"/>
                  </a:lnTo>
                  <a:lnTo>
                    <a:pt x="2505" y="197"/>
                  </a:lnTo>
                  <a:lnTo>
                    <a:pt x="2547" y="213"/>
                  </a:lnTo>
                  <a:lnTo>
                    <a:pt x="2563" y="218"/>
                  </a:lnTo>
                  <a:lnTo>
                    <a:pt x="2568" y="228"/>
                  </a:lnTo>
                  <a:lnTo>
                    <a:pt x="2573" y="233"/>
                  </a:lnTo>
                  <a:lnTo>
                    <a:pt x="2568" y="245"/>
                  </a:lnTo>
                  <a:lnTo>
                    <a:pt x="2531" y="275"/>
                  </a:lnTo>
                  <a:lnTo>
                    <a:pt x="2490" y="327"/>
                  </a:lnTo>
                  <a:lnTo>
                    <a:pt x="2443" y="390"/>
                  </a:lnTo>
                  <a:lnTo>
                    <a:pt x="2423" y="421"/>
                  </a:lnTo>
                  <a:lnTo>
                    <a:pt x="2406" y="457"/>
                  </a:lnTo>
                  <a:lnTo>
                    <a:pt x="2334" y="650"/>
                  </a:lnTo>
                  <a:lnTo>
                    <a:pt x="2219" y="999"/>
                  </a:lnTo>
                  <a:lnTo>
                    <a:pt x="2163" y="1186"/>
                  </a:lnTo>
                  <a:lnTo>
                    <a:pt x="2116" y="1363"/>
                  </a:lnTo>
                  <a:lnTo>
                    <a:pt x="2084" y="1504"/>
                  </a:lnTo>
                  <a:lnTo>
                    <a:pt x="2074" y="1556"/>
                  </a:lnTo>
                  <a:lnTo>
                    <a:pt x="2074" y="1592"/>
                  </a:lnTo>
                  <a:lnTo>
                    <a:pt x="2074" y="1706"/>
                  </a:lnTo>
                  <a:lnTo>
                    <a:pt x="2074" y="1915"/>
                  </a:lnTo>
                  <a:lnTo>
                    <a:pt x="2069" y="2456"/>
                  </a:lnTo>
                  <a:lnTo>
                    <a:pt x="2053" y="3195"/>
                  </a:lnTo>
                  <a:lnTo>
                    <a:pt x="2064" y="3185"/>
                  </a:lnTo>
                  <a:lnTo>
                    <a:pt x="2089" y="3164"/>
                  </a:lnTo>
                  <a:lnTo>
                    <a:pt x="2106" y="3154"/>
                  </a:lnTo>
                  <a:lnTo>
                    <a:pt x="2116" y="3154"/>
                  </a:lnTo>
                  <a:lnTo>
                    <a:pt x="2121" y="3159"/>
                  </a:lnTo>
                  <a:lnTo>
                    <a:pt x="2121" y="3174"/>
                  </a:lnTo>
                  <a:lnTo>
                    <a:pt x="2111" y="3227"/>
                  </a:lnTo>
                  <a:lnTo>
                    <a:pt x="2089" y="3284"/>
                  </a:lnTo>
                  <a:lnTo>
                    <a:pt x="2069" y="3352"/>
                  </a:lnTo>
                  <a:lnTo>
                    <a:pt x="2064" y="3394"/>
                  </a:lnTo>
                  <a:lnTo>
                    <a:pt x="2064" y="3435"/>
                  </a:lnTo>
                  <a:lnTo>
                    <a:pt x="2058" y="3747"/>
                  </a:lnTo>
                  <a:lnTo>
                    <a:pt x="2043" y="4356"/>
                  </a:lnTo>
                  <a:lnTo>
                    <a:pt x="2032" y="4705"/>
                  </a:lnTo>
                  <a:lnTo>
                    <a:pt x="2022" y="5048"/>
                  </a:lnTo>
                  <a:lnTo>
                    <a:pt x="2001" y="5360"/>
                  </a:lnTo>
                  <a:lnTo>
                    <a:pt x="1981" y="5610"/>
                  </a:lnTo>
                  <a:lnTo>
                    <a:pt x="1954" y="5834"/>
                  </a:lnTo>
                  <a:lnTo>
                    <a:pt x="1923" y="6058"/>
                  </a:lnTo>
                  <a:lnTo>
                    <a:pt x="1850" y="6490"/>
                  </a:lnTo>
                  <a:lnTo>
                    <a:pt x="1819" y="6673"/>
                  </a:lnTo>
                  <a:lnTo>
                    <a:pt x="1799" y="6818"/>
                  </a:lnTo>
                  <a:lnTo>
                    <a:pt x="1794" y="6922"/>
                  </a:lnTo>
                  <a:lnTo>
                    <a:pt x="1794" y="6953"/>
                  </a:lnTo>
                  <a:lnTo>
                    <a:pt x="1804" y="6974"/>
                  </a:lnTo>
                  <a:lnTo>
                    <a:pt x="1819" y="6985"/>
                  </a:lnTo>
                  <a:lnTo>
                    <a:pt x="1834" y="6990"/>
                  </a:lnTo>
                  <a:lnTo>
                    <a:pt x="1866" y="6990"/>
                  </a:lnTo>
                  <a:lnTo>
                    <a:pt x="1876" y="6990"/>
                  </a:lnTo>
                  <a:lnTo>
                    <a:pt x="1887" y="6995"/>
                  </a:lnTo>
                  <a:lnTo>
                    <a:pt x="1897" y="7010"/>
                  </a:lnTo>
                  <a:lnTo>
                    <a:pt x="1902" y="7031"/>
                  </a:lnTo>
                  <a:lnTo>
                    <a:pt x="1897" y="7063"/>
                  </a:lnTo>
                  <a:lnTo>
                    <a:pt x="1887" y="7100"/>
                  </a:lnTo>
                  <a:lnTo>
                    <a:pt x="1866" y="7130"/>
                  </a:lnTo>
                  <a:lnTo>
                    <a:pt x="1845" y="7162"/>
                  </a:lnTo>
                  <a:lnTo>
                    <a:pt x="1804" y="7208"/>
                  </a:lnTo>
                  <a:lnTo>
                    <a:pt x="1782" y="7224"/>
                  </a:lnTo>
                  <a:lnTo>
                    <a:pt x="1076" y="9108"/>
                  </a:lnTo>
                  <a:lnTo>
                    <a:pt x="571" y="11174"/>
                  </a:lnTo>
                  <a:lnTo>
                    <a:pt x="582" y="11201"/>
                  </a:lnTo>
                  <a:lnTo>
                    <a:pt x="587" y="11243"/>
                  </a:lnTo>
                  <a:lnTo>
                    <a:pt x="582" y="11294"/>
                  </a:lnTo>
                  <a:lnTo>
                    <a:pt x="571" y="11331"/>
                  </a:lnTo>
                  <a:lnTo>
                    <a:pt x="550" y="11378"/>
                  </a:lnTo>
                  <a:lnTo>
                    <a:pt x="487" y="11492"/>
                  </a:lnTo>
                  <a:lnTo>
                    <a:pt x="457" y="11550"/>
                  </a:lnTo>
                  <a:lnTo>
                    <a:pt x="431" y="11606"/>
                  </a:lnTo>
                  <a:lnTo>
                    <a:pt x="410" y="11658"/>
                  </a:lnTo>
                  <a:lnTo>
                    <a:pt x="405" y="11695"/>
                  </a:lnTo>
                  <a:lnTo>
                    <a:pt x="399" y="11737"/>
                  </a:lnTo>
                  <a:lnTo>
                    <a:pt x="389" y="11783"/>
                  </a:lnTo>
                  <a:lnTo>
                    <a:pt x="352" y="11898"/>
                  </a:lnTo>
                  <a:lnTo>
                    <a:pt x="312" y="12018"/>
                  </a:lnTo>
                  <a:lnTo>
                    <a:pt x="259" y="12122"/>
                  </a:lnTo>
                  <a:lnTo>
                    <a:pt x="197" y="12220"/>
                  </a:lnTo>
                  <a:lnTo>
                    <a:pt x="113" y="12330"/>
                  </a:lnTo>
                  <a:lnTo>
                    <a:pt x="77" y="12377"/>
                  </a:lnTo>
                  <a:lnTo>
                    <a:pt x="40" y="12408"/>
                  </a:lnTo>
                  <a:lnTo>
                    <a:pt x="25" y="12419"/>
                  </a:lnTo>
                  <a:lnTo>
                    <a:pt x="15" y="12419"/>
                  </a:lnTo>
                  <a:lnTo>
                    <a:pt x="5" y="12419"/>
                  </a:lnTo>
                  <a:lnTo>
                    <a:pt x="0" y="12413"/>
                  </a:lnTo>
                  <a:lnTo>
                    <a:pt x="0" y="12397"/>
                  </a:lnTo>
                  <a:lnTo>
                    <a:pt x="0" y="12377"/>
                  </a:lnTo>
                  <a:lnTo>
                    <a:pt x="10" y="12320"/>
                  </a:lnTo>
                  <a:lnTo>
                    <a:pt x="40" y="12185"/>
                  </a:lnTo>
                  <a:lnTo>
                    <a:pt x="82" y="12055"/>
                  </a:lnTo>
                  <a:lnTo>
                    <a:pt x="103" y="11997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773"/>
            <p:cNvSpPr/>
            <p:nvPr/>
          </p:nvSpPr>
          <p:spPr>
            <a:xfrm flipH="1" rot="7023600">
              <a:off x="-40320" y="892440"/>
              <a:ext cx="30600" cy="57960"/>
            </a:xfrm>
            <a:custGeom>
              <a:avLst/>
              <a:gdLst>
                <a:gd name="textAreaLeft" fmla="*/ 360 w 30600"/>
                <a:gd name="textAreaRight" fmla="*/ 31320 w 3060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97" h="479">
                  <a:moveTo>
                    <a:pt x="265" y="0"/>
                  </a:moveTo>
                  <a:lnTo>
                    <a:pt x="249" y="5"/>
                  </a:lnTo>
                  <a:lnTo>
                    <a:pt x="228" y="10"/>
                  </a:lnTo>
                  <a:lnTo>
                    <a:pt x="202" y="22"/>
                  </a:lnTo>
                  <a:lnTo>
                    <a:pt x="177" y="37"/>
                  </a:lnTo>
                  <a:lnTo>
                    <a:pt x="145" y="57"/>
                  </a:lnTo>
                  <a:lnTo>
                    <a:pt x="120" y="89"/>
                  </a:lnTo>
                  <a:lnTo>
                    <a:pt x="93" y="130"/>
                  </a:lnTo>
                  <a:lnTo>
                    <a:pt x="73" y="182"/>
                  </a:lnTo>
                  <a:lnTo>
                    <a:pt x="52" y="245"/>
                  </a:lnTo>
                  <a:lnTo>
                    <a:pt x="31" y="312"/>
                  </a:lnTo>
                  <a:lnTo>
                    <a:pt x="10" y="375"/>
                  </a:lnTo>
                  <a:lnTo>
                    <a:pt x="5" y="427"/>
                  </a:lnTo>
                  <a:lnTo>
                    <a:pt x="0" y="464"/>
                  </a:lnTo>
                  <a:lnTo>
                    <a:pt x="5" y="474"/>
                  </a:lnTo>
                  <a:lnTo>
                    <a:pt x="10" y="479"/>
                  </a:lnTo>
                  <a:lnTo>
                    <a:pt x="20" y="474"/>
                  </a:lnTo>
                  <a:lnTo>
                    <a:pt x="36" y="464"/>
                  </a:lnTo>
                  <a:lnTo>
                    <a:pt x="73" y="422"/>
                  </a:lnTo>
                  <a:lnTo>
                    <a:pt x="125" y="359"/>
                  </a:lnTo>
                  <a:lnTo>
                    <a:pt x="177" y="282"/>
                  </a:lnTo>
                  <a:lnTo>
                    <a:pt x="228" y="204"/>
                  </a:lnTo>
                  <a:lnTo>
                    <a:pt x="270" y="125"/>
                  </a:lnTo>
                  <a:lnTo>
                    <a:pt x="280" y="89"/>
                  </a:lnTo>
                  <a:lnTo>
                    <a:pt x="290" y="63"/>
                  </a:lnTo>
                  <a:lnTo>
                    <a:pt x="297" y="37"/>
                  </a:lnTo>
                  <a:lnTo>
                    <a:pt x="297" y="16"/>
                  </a:lnTo>
                  <a:lnTo>
                    <a:pt x="285" y="5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2" name="Group 1336"/>
            <p:cNvGrpSpPr/>
            <p:nvPr/>
          </p:nvGrpSpPr>
          <p:grpSpPr>
            <a:xfrm>
              <a:off x="-412920" y="869400"/>
              <a:ext cx="640440" cy="651960"/>
              <a:chOff x="-412920" y="869400"/>
              <a:chExt cx="640440" cy="651960"/>
            </a:xfrm>
          </p:grpSpPr>
          <p:grpSp>
            <p:nvGrpSpPr>
              <p:cNvPr id="1423" name="Group 1337"/>
              <p:cNvGrpSpPr/>
              <p:nvPr/>
            </p:nvGrpSpPr>
            <p:grpSpPr>
              <a:xfrm>
                <a:off x="-412920" y="869400"/>
                <a:ext cx="628560" cy="651960"/>
                <a:chOff x="-412920" y="869400"/>
                <a:chExt cx="628560" cy="651960"/>
              </a:xfrm>
            </p:grpSpPr>
            <p:sp>
              <p:nvSpPr>
                <p:cNvPr id="1424" name="Freeform 1776"/>
                <p:cNvSpPr/>
                <p:nvPr/>
              </p:nvSpPr>
              <p:spPr>
                <a:xfrm flipH="1" rot="6883200">
                  <a:off x="-310680" y="976320"/>
                  <a:ext cx="424440" cy="496440"/>
                </a:xfrm>
                <a:custGeom>
                  <a:avLst/>
                  <a:gdLst>
                    <a:gd name="textAreaLeft" fmla="*/ 360 w 424440"/>
                    <a:gd name="textAreaRight" fmla="*/ 425160 w 424440"/>
                    <a:gd name="textAreaTop" fmla="*/ 0 h 496440"/>
                    <a:gd name="textAreaBottom" fmla="*/ 496800 h 49644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5" name="Freeform 1777"/>
                <p:cNvSpPr/>
                <p:nvPr/>
              </p:nvSpPr>
              <p:spPr>
                <a:xfrm flipH="1" rot="6883200">
                  <a:off x="-254880" y="1098720"/>
                  <a:ext cx="359640" cy="235800"/>
                </a:xfrm>
                <a:custGeom>
                  <a:avLst/>
                  <a:gdLst>
                    <a:gd name="textAreaLeft" fmla="*/ 360 w 359640"/>
                    <a:gd name="textAreaRight" fmla="*/ 360360 w 359640"/>
                    <a:gd name="textAreaTop" fmla="*/ 0 h 235800"/>
                    <a:gd name="textAreaBottom" fmla="*/ 236160 h 23580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6" name="Freeform 1778"/>
                <p:cNvSpPr/>
                <p:nvPr/>
              </p:nvSpPr>
              <p:spPr>
                <a:xfrm flipH="1" rot="6883200">
                  <a:off x="-290520" y="1021680"/>
                  <a:ext cx="523800" cy="293040"/>
                </a:xfrm>
                <a:custGeom>
                  <a:avLst/>
                  <a:gdLst>
                    <a:gd name="textAreaLeft" fmla="*/ 360 w 523800"/>
                    <a:gd name="textAreaRight" fmla="*/ 524520 w 523800"/>
                    <a:gd name="textAreaTop" fmla="*/ 0 h 293040"/>
                    <a:gd name="textAreaBottom" fmla="*/ 293400 h 29304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7" name="Freeform 1779"/>
                <p:cNvSpPr/>
                <p:nvPr/>
              </p:nvSpPr>
              <p:spPr>
                <a:xfrm flipH="1" rot="6883200">
                  <a:off x="-190080" y="1249200"/>
                  <a:ext cx="170280" cy="29160"/>
                </a:xfrm>
                <a:custGeom>
                  <a:avLst/>
                  <a:gdLst>
                    <a:gd name="textAreaLeft" fmla="*/ 360 w 170280"/>
                    <a:gd name="textAreaRight" fmla="*/ 171000 w 17028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8" name="Freeform 1780"/>
                <p:cNvSpPr/>
                <p:nvPr/>
              </p:nvSpPr>
              <p:spPr>
                <a:xfrm flipH="1" rot="6883200">
                  <a:off x="-113400" y="1197720"/>
                  <a:ext cx="219960" cy="108720"/>
                </a:xfrm>
                <a:custGeom>
                  <a:avLst/>
                  <a:gdLst>
                    <a:gd name="textAreaLeft" fmla="*/ 360 w 219960"/>
                    <a:gd name="textAreaRight" fmla="*/ 220680 w 219960"/>
                    <a:gd name="textAreaTop" fmla="*/ 0 h 108720"/>
                    <a:gd name="textAreaBottom" fmla="*/ 109080 h 10872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9" name="Freeform 1781"/>
                <p:cNvSpPr/>
                <p:nvPr/>
              </p:nvSpPr>
              <p:spPr>
                <a:xfrm flipH="1" rot="6883200">
                  <a:off x="-60480" y="1164960"/>
                  <a:ext cx="242640" cy="143640"/>
                </a:xfrm>
                <a:custGeom>
                  <a:avLst/>
                  <a:gdLst>
                    <a:gd name="textAreaLeft" fmla="*/ 360 w 242640"/>
                    <a:gd name="textAreaRight" fmla="*/ 243360 w 242640"/>
                    <a:gd name="textAreaTop" fmla="*/ 0 h 143640"/>
                    <a:gd name="textAreaBottom" fmla="*/ 144000 h 14364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0" name="Freeform 1782"/>
                <p:cNvSpPr/>
                <p:nvPr/>
              </p:nvSpPr>
              <p:spPr>
                <a:xfrm flipH="1" rot="6883200">
                  <a:off x="-214200" y="1278720"/>
                  <a:ext cx="100800" cy="18360"/>
                </a:xfrm>
                <a:custGeom>
                  <a:avLst/>
                  <a:gdLst>
                    <a:gd name="textAreaLeft" fmla="*/ -360 w 100800"/>
                    <a:gd name="textAreaRight" fmla="*/ 100800 w 10080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1" name="Freeform 1783"/>
                <p:cNvSpPr/>
                <p:nvPr/>
              </p:nvSpPr>
              <p:spPr>
                <a:xfrm flipH="1" rot="6883200">
                  <a:off x="-244080" y="1311120"/>
                  <a:ext cx="52560" cy="7200"/>
                </a:xfrm>
                <a:custGeom>
                  <a:avLst/>
                  <a:gdLst>
                    <a:gd name="textAreaLeft" fmla="*/ -360 w 52560"/>
                    <a:gd name="textAreaRight" fmla="*/ 52560 w 525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2" name="Freeform 1784"/>
                <p:cNvSpPr/>
                <p:nvPr/>
              </p:nvSpPr>
              <p:spPr>
                <a:xfrm flipH="1" rot="6883200">
                  <a:off x="-249480" y="1263240"/>
                  <a:ext cx="38520" cy="50760"/>
                </a:xfrm>
                <a:custGeom>
                  <a:avLst/>
                  <a:gdLst>
                    <a:gd name="textAreaLeft" fmla="*/ 360 w 38520"/>
                    <a:gd name="textAreaRight" fmla="*/ 39240 w 3852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3" name="Freeform 1785"/>
                <p:cNvSpPr/>
                <p:nvPr/>
              </p:nvSpPr>
              <p:spPr>
                <a:xfrm flipH="1" rot="6883200">
                  <a:off x="-239400" y="1203480"/>
                  <a:ext cx="67320" cy="93960"/>
                </a:xfrm>
                <a:custGeom>
                  <a:avLst/>
                  <a:gdLst>
                    <a:gd name="textAreaLeft" fmla="*/ 360 w 67320"/>
                    <a:gd name="textAreaRight" fmla="*/ 68040 w 67320"/>
                    <a:gd name="textAreaTop" fmla="*/ 0 h 93960"/>
                    <a:gd name="textAreaBottom" fmla="*/ 94320 h 9396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4" name="Freeform 1786"/>
                <p:cNvSpPr/>
                <p:nvPr/>
              </p:nvSpPr>
              <p:spPr>
                <a:xfrm flipH="1" rot="6883200">
                  <a:off x="-224280" y="1109880"/>
                  <a:ext cx="107640" cy="165240"/>
                </a:xfrm>
                <a:custGeom>
                  <a:avLst/>
                  <a:gdLst>
                    <a:gd name="textAreaLeft" fmla="*/ 360 w 107640"/>
                    <a:gd name="textAreaRight" fmla="*/ 108360 w 107640"/>
                    <a:gd name="textAreaTop" fmla="*/ 0 h 165240"/>
                    <a:gd name="textAreaBottom" fmla="*/ 165600 h 16524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5" name="Freeform 1787"/>
                <p:cNvSpPr/>
                <p:nvPr/>
              </p:nvSpPr>
              <p:spPr>
                <a:xfrm flipH="1" rot="6883200">
                  <a:off x="-193680" y="1009080"/>
                  <a:ext cx="115920" cy="241560"/>
                </a:xfrm>
                <a:custGeom>
                  <a:avLst/>
                  <a:gdLst>
                    <a:gd name="textAreaLeft" fmla="*/ -360 w 115920"/>
                    <a:gd name="textAreaRight" fmla="*/ 115920 w 115920"/>
                    <a:gd name="textAreaTop" fmla="*/ 0 h 241560"/>
                    <a:gd name="textAreaBottom" fmla="*/ 241920 h 24156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6" name="Freeform 1788"/>
                <p:cNvSpPr/>
                <p:nvPr/>
              </p:nvSpPr>
              <p:spPr>
                <a:xfrm flipH="1" rot="6883200">
                  <a:off x="-214200" y="1052280"/>
                  <a:ext cx="12600" cy="96120"/>
                </a:xfrm>
                <a:custGeom>
                  <a:avLst/>
                  <a:gdLst>
                    <a:gd name="textAreaLeft" fmla="*/ 360 w 12600"/>
                    <a:gd name="textAreaRight" fmla="*/ 13320 w 12600"/>
                    <a:gd name="textAreaTop" fmla="*/ 0 h 96120"/>
                    <a:gd name="textAreaBottom" fmla="*/ 96480 h 9612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7" name="Freeform 1789"/>
                <p:cNvSpPr/>
                <p:nvPr/>
              </p:nvSpPr>
              <p:spPr>
                <a:xfrm flipH="1" rot="6883200">
                  <a:off x="-137520" y="917640"/>
                  <a:ext cx="79920" cy="297360"/>
                </a:xfrm>
                <a:custGeom>
                  <a:avLst/>
                  <a:gdLst>
                    <a:gd name="textAreaLeft" fmla="*/ -360 w 79920"/>
                    <a:gd name="textAreaRight" fmla="*/ 79920 w 79920"/>
                    <a:gd name="textAreaTop" fmla="*/ 0 h 297360"/>
                    <a:gd name="textAreaBottom" fmla="*/ 297720 h 29736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8" name="Freeform 1790"/>
                <p:cNvSpPr/>
                <p:nvPr/>
              </p:nvSpPr>
              <p:spPr>
                <a:xfrm flipH="1" rot="6883200">
                  <a:off x="-163440" y="1113840"/>
                  <a:ext cx="59400" cy="47160"/>
                </a:xfrm>
                <a:custGeom>
                  <a:avLst/>
                  <a:gdLst>
                    <a:gd name="textAreaLeft" fmla="*/ 0 w 59400"/>
                    <a:gd name="textAreaRight" fmla="*/ 59400 w 59400"/>
                    <a:gd name="textAreaTop" fmla="*/ 0 h 47160"/>
                    <a:gd name="textAreaBottom" fmla="*/ 47520 h 4716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9" name="Freeform 1791"/>
                <p:cNvSpPr/>
                <p:nvPr/>
              </p:nvSpPr>
              <p:spPr>
                <a:xfrm flipH="1" rot="6883200">
                  <a:off x="-237240" y="1145880"/>
                  <a:ext cx="28800" cy="75600"/>
                </a:xfrm>
                <a:custGeom>
                  <a:avLst/>
                  <a:gdLst>
                    <a:gd name="textAreaLeft" fmla="*/ -360 w 28800"/>
                    <a:gd name="textAreaRight" fmla="*/ 28800 w 28800"/>
                    <a:gd name="textAreaTop" fmla="*/ 0 h 75600"/>
                    <a:gd name="textAreaBottom" fmla="*/ 75960 h 7560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0" name="Freeform 1792"/>
                <p:cNvSpPr/>
                <p:nvPr/>
              </p:nvSpPr>
              <p:spPr>
                <a:xfrm flipH="1" rot="6883200">
                  <a:off x="-145800" y="1276200"/>
                  <a:ext cx="62640" cy="16200"/>
                </a:xfrm>
                <a:custGeom>
                  <a:avLst/>
                  <a:gdLst>
                    <a:gd name="textAreaLeft" fmla="*/ -360 w 62640"/>
                    <a:gd name="textAreaRight" fmla="*/ 62640 w 6264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Freeform 1793"/>
                <p:cNvSpPr/>
                <p:nvPr/>
              </p:nvSpPr>
              <p:spPr>
                <a:xfrm flipH="1" rot="6883200">
                  <a:off x="-116280" y="1297440"/>
                  <a:ext cx="38520" cy="29160"/>
                </a:xfrm>
                <a:custGeom>
                  <a:avLst/>
                  <a:gdLst>
                    <a:gd name="textAreaLeft" fmla="*/ 360 w 38520"/>
                    <a:gd name="textAreaRight" fmla="*/ 39240 w 385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2" name="Freeform 1794"/>
                <p:cNvSpPr/>
                <p:nvPr/>
              </p:nvSpPr>
              <p:spPr>
                <a:xfrm flipH="1" rot="6883200">
                  <a:off x="-191880" y="1139760"/>
                  <a:ext cx="12600" cy="18360"/>
                </a:xfrm>
                <a:custGeom>
                  <a:avLst/>
                  <a:gdLst>
                    <a:gd name="textAreaLeft" fmla="*/ 360 w 12600"/>
                    <a:gd name="textAreaRight" fmla="*/ 13320 w 1260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3" name="Freeform 1795"/>
                <p:cNvSpPr/>
                <p:nvPr/>
              </p:nvSpPr>
              <p:spPr>
                <a:xfrm flipH="1" rot="6883200">
                  <a:off x="-57960" y="1289520"/>
                  <a:ext cx="11160" cy="10440"/>
                </a:xfrm>
                <a:custGeom>
                  <a:avLst/>
                  <a:gdLst>
                    <a:gd name="textAreaLeft" fmla="*/ 0 w 11160"/>
                    <a:gd name="textAreaRight" fmla="*/ 11160 w 1116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4" name="Freeform 1796"/>
                <p:cNvSpPr/>
                <p:nvPr/>
              </p:nvSpPr>
              <p:spPr>
                <a:xfrm flipH="1" rot="6883200">
                  <a:off x="14400" y="1274760"/>
                  <a:ext cx="12600" cy="1404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5" name="Freeform 1797"/>
                <p:cNvSpPr/>
                <p:nvPr/>
              </p:nvSpPr>
              <p:spPr>
                <a:xfrm flipH="1" rot="6883200">
                  <a:off x="-162000" y="1336680"/>
                  <a:ext cx="9720" cy="6480"/>
                </a:xfrm>
                <a:custGeom>
                  <a:avLst/>
                  <a:gdLst>
                    <a:gd name="textAreaLeft" fmla="*/ 360 w 9720"/>
                    <a:gd name="textAreaRight" fmla="*/ 10440 w 972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6" name="Group 1360"/>
              <p:cNvGrpSpPr/>
              <p:nvPr/>
            </p:nvGrpSpPr>
            <p:grpSpPr>
              <a:xfrm>
                <a:off x="180720" y="994320"/>
                <a:ext cx="46800" cy="49680"/>
                <a:chOff x="180720" y="994320"/>
                <a:chExt cx="46800" cy="49680"/>
              </a:xfrm>
            </p:grpSpPr>
            <p:sp>
              <p:nvSpPr>
                <p:cNvPr id="1447" name="Freeform 1799"/>
                <p:cNvSpPr/>
                <p:nvPr/>
              </p:nvSpPr>
              <p:spPr>
                <a:xfrm flipH="1" rot="11248200">
                  <a:off x="183240" y="996840"/>
                  <a:ext cx="41040" cy="44640"/>
                </a:xfrm>
                <a:custGeom>
                  <a:avLst/>
                  <a:gdLst>
                    <a:gd name="textAreaLeft" fmla="*/ 360 w 41040"/>
                    <a:gd name="textAreaRight" fmla="*/ 41760 w 4104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8" name="Freeform 1800"/>
                <p:cNvSpPr/>
                <p:nvPr/>
              </p:nvSpPr>
              <p:spPr>
                <a:xfrm flipH="1" rot="14895000">
                  <a:off x="185040" y="1004040"/>
                  <a:ext cx="22680" cy="25200"/>
                </a:xfrm>
                <a:custGeom>
                  <a:avLst/>
                  <a:gdLst>
                    <a:gd name="textAreaLeft" fmla="*/ -360 w 22680"/>
                    <a:gd name="textAreaRight" fmla="*/ 22680 w 2268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9" name="Group 1363"/>
            <p:cNvGrpSpPr/>
            <p:nvPr/>
          </p:nvGrpSpPr>
          <p:grpSpPr>
            <a:xfrm>
              <a:off x="38520" y="968760"/>
              <a:ext cx="691200" cy="676080"/>
              <a:chOff x="38520" y="968760"/>
              <a:chExt cx="691200" cy="676080"/>
            </a:xfrm>
          </p:grpSpPr>
          <p:grpSp>
            <p:nvGrpSpPr>
              <p:cNvPr id="1450" name="Group 1364"/>
              <p:cNvGrpSpPr/>
              <p:nvPr/>
            </p:nvGrpSpPr>
            <p:grpSpPr>
              <a:xfrm>
                <a:off x="38520" y="968760"/>
                <a:ext cx="691200" cy="676080"/>
                <a:chOff x="38520" y="968760"/>
                <a:chExt cx="691200" cy="676080"/>
              </a:xfrm>
            </p:grpSpPr>
            <p:sp>
              <p:nvSpPr>
                <p:cNvPr id="1451" name="Freeform 1803"/>
                <p:cNvSpPr/>
                <p:nvPr/>
              </p:nvSpPr>
              <p:spPr>
                <a:xfrm flipH="1" rot="2120400">
                  <a:off x="167760" y="1106280"/>
                  <a:ext cx="478440" cy="440640"/>
                </a:xfrm>
                <a:custGeom>
                  <a:avLst/>
                  <a:gdLst>
                    <a:gd name="textAreaLeft" fmla="*/ -360 w 478440"/>
                    <a:gd name="textAreaRight" fmla="*/ 478440 w 47844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2" name="Freeform 1804"/>
                <p:cNvSpPr/>
                <p:nvPr/>
              </p:nvSpPr>
              <p:spPr>
                <a:xfrm flipH="1" rot="2120400">
                  <a:off x="197280" y="1197360"/>
                  <a:ext cx="405720" cy="209160"/>
                </a:xfrm>
                <a:custGeom>
                  <a:avLst/>
                  <a:gdLst>
                    <a:gd name="textAreaLeft" fmla="*/ -360 w 405720"/>
                    <a:gd name="textAreaRight" fmla="*/ 405720 w 405720"/>
                    <a:gd name="textAreaTop" fmla="*/ 0 h 209160"/>
                    <a:gd name="textAreaBottom" fmla="*/ 209520 h 20916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3" name="Freeform 1805"/>
                <p:cNvSpPr/>
                <p:nvPr/>
              </p:nvSpPr>
              <p:spPr>
                <a:xfrm flipH="1" rot="2120400">
                  <a:off x="59040" y="1115280"/>
                  <a:ext cx="590400" cy="260280"/>
                </a:xfrm>
                <a:custGeom>
                  <a:avLst/>
                  <a:gdLst>
                    <a:gd name="textAreaLeft" fmla="*/ 360 w 590400"/>
                    <a:gd name="textAreaRight" fmla="*/ 591120 w 59040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4" name="Freeform 1806"/>
                <p:cNvSpPr/>
                <p:nvPr/>
              </p:nvSpPr>
              <p:spPr>
                <a:xfrm flipH="1" rot="2120400">
                  <a:off x="352440" y="1331280"/>
                  <a:ext cx="191880" cy="25560"/>
                </a:xfrm>
                <a:custGeom>
                  <a:avLst/>
                  <a:gdLst>
                    <a:gd name="textAreaLeft" fmla="*/ -360 w 191880"/>
                    <a:gd name="textAreaRight" fmla="*/ 191880 w 1918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5" name="Freeform 1807"/>
                <p:cNvSpPr/>
                <p:nvPr/>
              </p:nvSpPr>
              <p:spPr>
                <a:xfrm flipH="1" rot="2120400">
                  <a:off x="318960" y="1198080"/>
                  <a:ext cx="248040" cy="96120"/>
                </a:xfrm>
                <a:custGeom>
                  <a:avLst/>
                  <a:gdLst>
                    <a:gd name="textAreaLeft" fmla="*/ -360 w 248040"/>
                    <a:gd name="textAreaRight" fmla="*/ 248040 w 248040"/>
                    <a:gd name="textAreaTop" fmla="*/ 0 h 96120"/>
                    <a:gd name="textAreaBottom" fmla="*/ 96480 h 9612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6" name="Freeform 1808"/>
                <p:cNvSpPr/>
                <p:nvPr/>
              </p:nvSpPr>
              <p:spPr>
                <a:xfrm flipH="1" rot="2120400">
                  <a:off x="296640" y="1118880"/>
                  <a:ext cx="273600" cy="127080"/>
                </a:xfrm>
                <a:custGeom>
                  <a:avLst/>
                  <a:gdLst>
                    <a:gd name="textAreaLeft" fmla="*/ 360 w 273600"/>
                    <a:gd name="textAreaRight" fmla="*/ 274320 w 273600"/>
                    <a:gd name="textAreaTop" fmla="*/ 0 h 127080"/>
                    <a:gd name="textAreaBottom" fmla="*/ 127440 h 12708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7" name="Freeform 1809"/>
                <p:cNvSpPr/>
                <p:nvPr/>
              </p:nvSpPr>
              <p:spPr>
                <a:xfrm flipH="1" rot="2120400">
                  <a:off x="410760" y="1397160"/>
                  <a:ext cx="113760" cy="16200"/>
                </a:xfrm>
                <a:custGeom>
                  <a:avLst/>
                  <a:gdLst>
                    <a:gd name="textAreaLeft" fmla="*/ 360 w 113760"/>
                    <a:gd name="textAreaRight" fmla="*/ 114480 w 11376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8" name="Freeform 1810"/>
                <p:cNvSpPr/>
                <p:nvPr/>
              </p:nvSpPr>
              <p:spPr>
                <a:xfrm flipH="1" rot="2120400">
                  <a:off x="461160" y="1460160"/>
                  <a:ext cx="59400" cy="6120"/>
                </a:xfrm>
                <a:custGeom>
                  <a:avLst/>
                  <a:gdLst>
                    <a:gd name="textAreaLeft" fmla="*/ -360 w 59400"/>
                    <a:gd name="textAreaRight" fmla="*/ 59400 w 5940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9" name="Freeform 1811"/>
                <p:cNvSpPr/>
                <p:nvPr/>
              </p:nvSpPr>
              <p:spPr>
                <a:xfrm flipH="1" rot="2120400">
                  <a:off x="441000" y="1444680"/>
                  <a:ext cx="43560" cy="45000"/>
                </a:xfrm>
                <a:custGeom>
                  <a:avLst/>
                  <a:gdLst>
                    <a:gd name="textAreaLeft" fmla="*/ 0 w 43560"/>
                    <a:gd name="textAreaRight" fmla="*/ 43560 w 4356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0" name="Freeform 1812"/>
                <p:cNvSpPr/>
                <p:nvPr/>
              </p:nvSpPr>
              <p:spPr>
                <a:xfrm flipH="1" rot="2120400">
                  <a:off x="386640" y="1391760"/>
                  <a:ext cx="75960" cy="8352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83520"/>
                    <a:gd name="textAreaBottom" fmla="*/ 83880 h 8352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Freeform 1813"/>
                <p:cNvSpPr/>
                <p:nvPr/>
              </p:nvSpPr>
              <p:spPr>
                <a:xfrm flipH="1" rot="2120400">
                  <a:off x="306360" y="1311120"/>
                  <a:ext cx="122040" cy="146520"/>
                </a:xfrm>
                <a:custGeom>
                  <a:avLst/>
                  <a:gdLst>
                    <a:gd name="textAreaLeft" fmla="*/ -360 w 122040"/>
                    <a:gd name="textAreaRight" fmla="*/ 122040 w 12204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2" name="Freeform 1814"/>
                <p:cNvSpPr/>
                <p:nvPr/>
              </p:nvSpPr>
              <p:spPr>
                <a:xfrm flipH="1" rot="2120400">
                  <a:off x="239400" y="1226880"/>
                  <a:ext cx="130680" cy="214200"/>
                </a:xfrm>
                <a:custGeom>
                  <a:avLst/>
                  <a:gdLst>
                    <a:gd name="textAreaLeft" fmla="*/ -360 w 130680"/>
                    <a:gd name="textAreaRight" fmla="*/ 130680 w 13068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3" name="Freeform 1815"/>
                <p:cNvSpPr/>
                <p:nvPr/>
              </p:nvSpPr>
              <p:spPr>
                <a:xfrm flipH="1" rot="2120400">
                  <a:off x="260280" y="1349280"/>
                  <a:ext cx="14040" cy="85320"/>
                </a:xfrm>
                <a:custGeom>
                  <a:avLst/>
                  <a:gdLst>
                    <a:gd name="textAreaLeft" fmla="*/ -360 w 14040"/>
                    <a:gd name="textAreaRight" fmla="*/ 14040 w 1404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4" name="Freeform 1816"/>
                <p:cNvSpPr/>
                <p:nvPr/>
              </p:nvSpPr>
              <p:spPr>
                <a:xfrm flipH="1" rot="2120400">
                  <a:off x="195480" y="1147680"/>
                  <a:ext cx="90360" cy="263520"/>
                </a:xfrm>
                <a:custGeom>
                  <a:avLst/>
                  <a:gdLst>
                    <a:gd name="textAreaLeft" fmla="*/ -360 w 90360"/>
                    <a:gd name="textAreaRight" fmla="*/ 90360 w 9036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5" name="Freeform 1817"/>
                <p:cNvSpPr/>
                <p:nvPr/>
              </p:nvSpPr>
              <p:spPr>
                <a:xfrm flipH="1" rot="2120400">
                  <a:off x="278280" y="1313280"/>
                  <a:ext cx="66960" cy="41760"/>
                </a:xfrm>
                <a:custGeom>
                  <a:avLst/>
                  <a:gdLst>
                    <a:gd name="textAreaLeft" fmla="*/ 360 w 66960"/>
                    <a:gd name="textAreaRight" fmla="*/ 67680 w 6696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Freeform 1818"/>
                <p:cNvSpPr/>
                <p:nvPr/>
              </p:nvSpPr>
              <p:spPr>
                <a:xfrm flipH="1" rot="2120400">
                  <a:off x="336960" y="1396800"/>
                  <a:ext cx="32400" cy="67320"/>
                </a:xfrm>
                <a:custGeom>
                  <a:avLst/>
                  <a:gdLst>
                    <a:gd name="textAreaLeft" fmla="*/ 360 w 32400"/>
                    <a:gd name="textAreaRight" fmla="*/ 33120 w 32400"/>
                    <a:gd name="textAreaTop" fmla="*/ 0 h 67320"/>
                    <a:gd name="textAreaBottom" fmla="*/ 67680 h 6732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7" name="Freeform 1819"/>
                <p:cNvSpPr/>
                <p:nvPr/>
              </p:nvSpPr>
              <p:spPr>
                <a:xfrm flipH="1" rot="2120400">
                  <a:off x="432720" y="1351800"/>
                  <a:ext cx="70560" cy="14040"/>
                </a:xfrm>
                <a:custGeom>
                  <a:avLst/>
                  <a:gdLst>
                    <a:gd name="textAreaLeft" fmla="*/ 360 w 70560"/>
                    <a:gd name="textAreaRight" fmla="*/ 71280 w 7056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8" name="Freeform 1820"/>
                <p:cNvSpPr/>
                <p:nvPr/>
              </p:nvSpPr>
              <p:spPr>
                <a:xfrm flipH="1" rot="2120400">
                  <a:off x="477720" y="1337760"/>
                  <a:ext cx="43560" cy="25560"/>
                </a:xfrm>
                <a:custGeom>
                  <a:avLst/>
                  <a:gdLst>
                    <a:gd name="textAreaLeft" fmla="*/ 0 w 43560"/>
                    <a:gd name="textAreaRight" fmla="*/ 43560 w 4356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Freeform 1821"/>
                <p:cNvSpPr/>
                <p:nvPr/>
              </p:nvSpPr>
              <p:spPr>
                <a:xfrm flipH="1" rot="2120400">
                  <a:off x="313560" y="1377720"/>
                  <a:ext cx="14040" cy="15840"/>
                </a:xfrm>
                <a:custGeom>
                  <a:avLst/>
                  <a:gdLst>
                    <a:gd name="textAreaLeft" fmla="*/ -360 w 14040"/>
                    <a:gd name="textAreaRight" fmla="*/ 14040 w 1404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0" name="Freeform 1822"/>
                <p:cNvSpPr/>
                <p:nvPr/>
              </p:nvSpPr>
              <p:spPr>
                <a:xfrm flipH="1" rot="2120400">
                  <a:off x="478080" y="1299600"/>
                  <a:ext cx="12600" cy="936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1" name="Freeform 1823"/>
                <p:cNvSpPr/>
                <p:nvPr/>
              </p:nvSpPr>
              <p:spPr>
                <a:xfrm flipH="1" rot="2120400">
                  <a:off x="470160" y="1226160"/>
                  <a:ext cx="14040" cy="12600"/>
                </a:xfrm>
                <a:custGeom>
                  <a:avLst/>
                  <a:gdLst>
                    <a:gd name="textAreaLeft" fmla="*/ -360 w 14040"/>
                    <a:gd name="textAreaRight" fmla="*/ 14040 w 1404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2" name="Freeform 1824"/>
                <p:cNvSpPr/>
                <p:nvPr/>
              </p:nvSpPr>
              <p:spPr>
                <a:xfrm flipH="1" rot="2120400">
                  <a:off x="517680" y="1411920"/>
                  <a:ext cx="10440" cy="6120"/>
                </a:xfrm>
                <a:custGeom>
                  <a:avLst/>
                  <a:gdLst>
                    <a:gd name="textAreaLeft" fmla="*/ -360 w 10440"/>
                    <a:gd name="textAreaRight" fmla="*/ 10440 w 1044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3" name="Group 1387"/>
              <p:cNvGrpSpPr/>
              <p:nvPr/>
            </p:nvGrpSpPr>
            <p:grpSpPr>
              <a:xfrm>
                <a:off x="193680" y="981720"/>
                <a:ext cx="59040" cy="50040"/>
                <a:chOff x="193680" y="981720"/>
                <a:chExt cx="59040" cy="50040"/>
              </a:xfrm>
            </p:grpSpPr>
            <p:sp>
              <p:nvSpPr>
                <p:cNvPr id="1474" name="Freeform 1826"/>
                <p:cNvSpPr/>
                <p:nvPr/>
              </p:nvSpPr>
              <p:spPr>
                <a:xfrm flipH="1" rot="6484800">
                  <a:off x="204840" y="981360"/>
                  <a:ext cx="36360" cy="5040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5" name="Freeform 1827"/>
                <p:cNvSpPr/>
                <p:nvPr/>
              </p:nvSpPr>
              <p:spPr>
                <a:xfrm flipH="1" rot="10131600">
                  <a:off x="207000" y="1001520"/>
                  <a:ext cx="25560" cy="22320"/>
                </a:xfrm>
                <a:custGeom>
                  <a:avLst/>
                  <a:gdLst>
                    <a:gd name="textAreaLeft" fmla="*/ -360 w 25560"/>
                    <a:gd name="textAreaRight" fmla="*/ 25560 w 25560"/>
                    <a:gd name="textAreaTop" fmla="*/ 0 h 22320"/>
                    <a:gd name="textAreaBottom" fmla="*/ 22320 h 2232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6" name="Group 1390"/>
            <p:cNvGrpSpPr/>
            <p:nvPr/>
          </p:nvGrpSpPr>
          <p:grpSpPr>
            <a:xfrm>
              <a:off x="84600" y="355320"/>
              <a:ext cx="928080" cy="818280"/>
              <a:chOff x="84600" y="355320"/>
              <a:chExt cx="928080" cy="818280"/>
            </a:xfrm>
          </p:grpSpPr>
          <p:grpSp>
            <p:nvGrpSpPr>
              <p:cNvPr id="1477" name="Group 1391"/>
              <p:cNvGrpSpPr/>
              <p:nvPr/>
            </p:nvGrpSpPr>
            <p:grpSpPr>
              <a:xfrm>
                <a:off x="84600" y="355320"/>
                <a:ext cx="597240" cy="652320"/>
                <a:chOff x="84600" y="355320"/>
                <a:chExt cx="597240" cy="652320"/>
              </a:xfrm>
            </p:grpSpPr>
            <p:grpSp>
              <p:nvGrpSpPr>
                <p:cNvPr id="1478" name="Group 1392"/>
                <p:cNvGrpSpPr/>
                <p:nvPr/>
              </p:nvGrpSpPr>
              <p:grpSpPr>
                <a:xfrm>
                  <a:off x="84600" y="355320"/>
                  <a:ext cx="597240" cy="644400"/>
                  <a:chOff x="84600" y="355320"/>
                  <a:chExt cx="597240" cy="644400"/>
                </a:xfrm>
              </p:grpSpPr>
              <p:sp>
                <p:nvSpPr>
                  <p:cNvPr id="1479" name="Freeform 1831"/>
                  <p:cNvSpPr/>
                  <p:nvPr/>
                </p:nvSpPr>
                <p:spPr>
                  <a:xfrm rot="7164000">
                    <a:off x="187920" y="406800"/>
                    <a:ext cx="390240" cy="465480"/>
                  </a:xfrm>
                  <a:custGeom>
                    <a:avLst/>
                    <a:gdLst>
                      <a:gd name="textAreaLeft" fmla="*/ 0 w 390240"/>
                      <a:gd name="textAreaRight" fmla="*/ 390600 w 390240"/>
                      <a:gd name="textAreaTop" fmla="*/ 0 h 465480"/>
                      <a:gd name="textAreaBottom" fmla="*/ 465840 h 465480"/>
                    </a:gdLst>
                    <a:ahLst/>
                    <a:rect l="textAreaLeft" t="textAreaTop" r="textAreaRight" b="textAreaBottom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Freeform 1832"/>
                  <p:cNvSpPr/>
                  <p:nvPr/>
                </p:nvSpPr>
                <p:spPr>
                  <a:xfrm rot="7164000">
                    <a:off x="225000" y="551160"/>
                    <a:ext cx="330840" cy="221400"/>
                  </a:xfrm>
                  <a:custGeom>
                    <a:avLst/>
                    <a:gdLst>
                      <a:gd name="textAreaLeft" fmla="*/ 0 w 330840"/>
                      <a:gd name="textAreaRight" fmla="*/ 331200 w 330840"/>
                      <a:gd name="textAreaTop" fmla="*/ 0 h 221400"/>
                      <a:gd name="textAreaBottom" fmla="*/ 221760 h 221400"/>
                    </a:gdLst>
                    <a:ahLst/>
                    <a:rect l="textAreaLeft" t="textAreaTop" r="textAreaRight" b="textAreaBottom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1" name="Freeform 1833"/>
                  <p:cNvSpPr/>
                  <p:nvPr/>
                </p:nvSpPr>
                <p:spPr>
                  <a:xfrm rot="7164000">
                    <a:off x="138600" y="584280"/>
                    <a:ext cx="481680" cy="275400"/>
                  </a:xfrm>
                  <a:custGeom>
                    <a:avLst/>
                    <a:gdLst>
                      <a:gd name="textAreaLeft" fmla="*/ 0 w 481680"/>
                      <a:gd name="textAreaRight" fmla="*/ 482040 w 481680"/>
                      <a:gd name="textAreaTop" fmla="*/ 0 h 275400"/>
                      <a:gd name="textAreaBottom" fmla="*/ 275760 h 275400"/>
                    </a:gdLst>
                    <a:ahLst/>
                    <a:rect l="textAreaLeft" t="textAreaTop" r="textAreaRight" b="textAreaBottom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2" name="Freeform 1834"/>
                  <p:cNvSpPr/>
                  <p:nvPr/>
                </p:nvSpPr>
                <p:spPr>
                  <a:xfrm rot="7164000">
                    <a:off x="331200" y="599760"/>
                    <a:ext cx="156600" cy="27720"/>
                  </a:xfrm>
                  <a:custGeom>
                    <a:avLst/>
                    <a:gdLst>
                      <a:gd name="textAreaLeft" fmla="*/ 0 w 156600"/>
                      <a:gd name="textAreaRight" fmla="*/ 156960 w 156600"/>
                      <a:gd name="textAreaTop" fmla="*/ 0 h 27720"/>
                      <a:gd name="textAreaBottom" fmla="*/ 28080 h 27720"/>
                    </a:gdLst>
                    <a:ahLst/>
                    <a:rect l="textAreaLeft" t="textAreaTop" r="textAreaRight" b="textAreaBottom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Freeform 1835"/>
                  <p:cNvSpPr/>
                  <p:nvPr/>
                </p:nvSpPr>
                <p:spPr>
                  <a:xfrm rot="7164000">
                    <a:off x="355320" y="645480"/>
                    <a:ext cx="202320" cy="101520"/>
                  </a:xfrm>
                  <a:custGeom>
                    <a:avLst/>
                    <a:gdLst>
                      <a:gd name="textAreaLeft" fmla="*/ 0 w 202320"/>
                      <a:gd name="textAreaRight" fmla="*/ 202680 w 202320"/>
                      <a:gd name="textAreaTop" fmla="*/ 0 h 101520"/>
                      <a:gd name="textAreaBottom" fmla="*/ 101880 h 101520"/>
                    </a:gdLst>
                    <a:ahLst/>
                    <a:rect l="textAreaLeft" t="textAreaTop" r="textAreaRight" b="textAreaBottom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Freeform 1836"/>
                  <p:cNvSpPr/>
                  <p:nvPr/>
                </p:nvSpPr>
                <p:spPr>
                  <a:xfrm rot="7164000">
                    <a:off x="369000" y="685440"/>
                    <a:ext cx="223200" cy="134280"/>
                  </a:xfrm>
                  <a:custGeom>
                    <a:avLst/>
                    <a:gdLst>
                      <a:gd name="textAreaLeft" fmla="*/ 0 w 223200"/>
                      <a:gd name="textAreaRight" fmla="*/ 223560 w 223200"/>
                      <a:gd name="textAreaTop" fmla="*/ 0 h 134280"/>
                      <a:gd name="textAreaBottom" fmla="*/ 134640 h 134280"/>
                    </a:gdLst>
                    <a:ahLst/>
                    <a:rect l="textAreaLeft" t="textAreaTop" r="textAreaRight" b="textAreaBottom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Freeform 1837"/>
                  <p:cNvSpPr/>
                  <p:nvPr/>
                </p:nvSpPr>
                <p:spPr>
                  <a:xfrm rot="7164000">
                    <a:off x="348120" y="547920"/>
                    <a:ext cx="92880" cy="17280"/>
                  </a:xfrm>
                  <a:custGeom>
                    <a:avLst/>
                    <a:gdLst>
                      <a:gd name="textAreaLeft" fmla="*/ 0 w 92880"/>
                      <a:gd name="textAreaRight" fmla="*/ 93240 w 92880"/>
                      <a:gd name="textAreaTop" fmla="*/ 0 h 17280"/>
                      <a:gd name="textAreaBottom" fmla="*/ 17280 h 17280"/>
                    </a:gdLst>
                    <a:ahLst/>
                    <a:rect l="textAreaLeft" t="textAreaTop" r="textAreaRight" b="textAreaBottom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Freeform 1838"/>
                  <p:cNvSpPr/>
                  <p:nvPr/>
                </p:nvSpPr>
                <p:spPr>
                  <a:xfrm rot="7164000">
                    <a:off x="360360" y="498240"/>
                    <a:ext cx="48600" cy="6480"/>
                  </a:xfrm>
                  <a:custGeom>
                    <a:avLst/>
                    <a:gdLst>
                      <a:gd name="textAreaLeft" fmla="*/ 0 w 48600"/>
                      <a:gd name="textAreaRight" fmla="*/ 48960 w 48600"/>
                      <a:gd name="textAreaTop" fmla="*/ 0 h 6480"/>
                      <a:gd name="textAreaBottom" fmla="*/ 6840 h 6480"/>
                    </a:gdLst>
                    <a:ahLst/>
                    <a:rect l="textAreaLeft" t="textAreaTop" r="textAreaRight" b="textAreaBottom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Freeform 1839"/>
                  <p:cNvSpPr/>
                  <p:nvPr/>
                </p:nvSpPr>
                <p:spPr>
                  <a:xfrm rot="7164000">
                    <a:off x="340920" y="482400"/>
                    <a:ext cx="35280" cy="47520"/>
                  </a:xfrm>
                  <a:custGeom>
                    <a:avLst/>
                    <a:gdLst>
                      <a:gd name="textAreaLeft" fmla="*/ 0 w 35280"/>
                      <a:gd name="textAreaRight" fmla="*/ 35640 w 35280"/>
                      <a:gd name="textAreaTop" fmla="*/ 0 h 47520"/>
                      <a:gd name="textAreaBottom" fmla="*/ 47880 h 47520"/>
                    </a:gdLst>
                    <a:ahLst/>
                    <a:rect l="textAreaLeft" t="textAreaTop" r="textAreaRight" b="textAreaBottom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Freeform 1840"/>
                  <p:cNvSpPr/>
                  <p:nvPr/>
                </p:nvSpPr>
                <p:spPr>
                  <a:xfrm rot="7164000">
                    <a:off x="311760" y="501840"/>
                    <a:ext cx="61920" cy="87840"/>
                  </a:xfrm>
                  <a:custGeom>
                    <a:avLst/>
                    <a:gdLst>
                      <a:gd name="textAreaLeft" fmla="*/ 0 w 61920"/>
                      <a:gd name="textAreaRight" fmla="*/ 62280 w 61920"/>
                      <a:gd name="textAreaTop" fmla="*/ 0 h 87840"/>
                      <a:gd name="textAreaBottom" fmla="*/ 88200 h 87840"/>
                    </a:gdLst>
                    <a:ahLst/>
                    <a:rect l="textAreaLeft" t="textAreaTop" r="textAreaRight" b="textAreaBottom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Freeform 1841"/>
                  <p:cNvSpPr/>
                  <p:nvPr/>
                </p:nvSpPr>
                <p:spPr>
                  <a:xfrm rot="7164000">
                    <a:off x="269640" y="524880"/>
                    <a:ext cx="99000" cy="154800"/>
                  </a:xfrm>
                  <a:custGeom>
                    <a:avLst/>
                    <a:gdLst>
                      <a:gd name="textAreaLeft" fmla="*/ 0 w 99000"/>
                      <a:gd name="textAreaRight" fmla="*/ 99360 w 99000"/>
                      <a:gd name="textAreaTop" fmla="*/ 0 h 154800"/>
                      <a:gd name="textAreaBottom" fmla="*/ 155160 h 154800"/>
                    </a:gdLst>
                    <a:ahLst/>
                    <a:rect l="textAreaLeft" t="textAreaTop" r="textAreaRight" b="textAreaBottom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Freeform 1842"/>
                  <p:cNvSpPr/>
                  <p:nvPr/>
                </p:nvSpPr>
                <p:spPr>
                  <a:xfrm rot="7164000">
                    <a:off x="238320" y="549000"/>
                    <a:ext cx="106560" cy="226440"/>
                  </a:xfrm>
                  <a:custGeom>
                    <a:avLst/>
                    <a:gdLst>
                      <a:gd name="textAreaLeft" fmla="*/ 0 w 106560"/>
                      <a:gd name="textAreaRight" fmla="*/ 106920 w 10656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Freeform 1843"/>
                  <p:cNvSpPr/>
                  <p:nvPr/>
                </p:nvSpPr>
                <p:spPr>
                  <a:xfrm rot="7164000">
                    <a:off x="223920" y="578160"/>
                    <a:ext cx="11520" cy="9000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90000"/>
                      <a:gd name="textAreaBottom" fmla="*/ 90000 h 90000"/>
                    </a:gdLst>
                    <a:ahLst/>
                    <a:rect l="textAreaLeft" t="textAreaTop" r="textAreaRight" b="textAreaBottom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Freeform 1844"/>
                  <p:cNvSpPr/>
                  <p:nvPr/>
                </p:nvSpPr>
                <p:spPr>
                  <a:xfrm rot="7164000">
                    <a:off x="227880" y="585720"/>
                    <a:ext cx="73440" cy="279000"/>
                  </a:xfrm>
                  <a:custGeom>
                    <a:avLst/>
                    <a:gdLst>
                      <a:gd name="textAreaLeft" fmla="*/ 0 w 73440"/>
                      <a:gd name="textAreaRight" fmla="*/ 73800 w 73440"/>
                      <a:gd name="textAreaTop" fmla="*/ 0 h 279000"/>
                      <a:gd name="textAreaBottom" fmla="*/ 279360 h 279000"/>
                    </a:gdLst>
                    <a:ahLst/>
                    <a:rect l="textAreaLeft" t="textAreaTop" r="textAreaRight" b="textAreaBottom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Freeform 1845"/>
                  <p:cNvSpPr/>
                  <p:nvPr/>
                </p:nvSpPr>
                <p:spPr>
                  <a:xfrm rot="7164000">
                    <a:off x="270360" y="637920"/>
                    <a:ext cx="54360" cy="44280"/>
                  </a:xfrm>
                  <a:custGeom>
                    <a:avLst/>
                    <a:gdLst>
                      <a:gd name="textAreaLeft" fmla="*/ 0 w 54360"/>
                      <a:gd name="textAreaRight" fmla="*/ 54720 w 543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Freeform 1846"/>
                  <p:cNvSpPr/>
                  <p:nvPr/>
                </p:nvSpPr>
                <p:spPr>
                  <a:xfrm rot="7164000">
                    <a:off x="270000" y="532080"/>
                    <a:ext cx="26280" cy="71280"/>
                  </a:xfrm>
                  <a:custGeom>
                    <a:avLst/>
                    <a:gdLst>
                      <a:gd name="textAreaLeft" fmla="*/ 0 w 26280"/>
                      <a:gd name="textAreaRight" fmla="*/ 26640 w 26280"/>
                      <a:gd name="textAreaTop" fmla="*/ 0 h 71280"/>
                      <a:gd name="textAreaBottom" fmla="*/ 71640 h 71280"/>
                    </a:gdLst>
                    <a:ahLst/>
                    <a:rect l="textAreaLeft" t="textAreaTop" r="textAreaRight" b="textAreaBottom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5" name="Freeform 1847"/>
                  <p:cNvSpPr/>
                  <p:nvPr/>
                </p:nvSpPr>
                <p:spPr>
                  <a:xfrm rot="7164000">
                    <a:off x="389520" y="588240"/>
                    <a:ext cx="57600" cy="15120"/>
                  </a:xfrm>
                  <a:custGeom>
                    <a:avLst/>
                    <a:gdLst>
                      <a:gd name="textAreaLeft" fmla="*/ 0 w 57600"/>
                      <a:gd name="textAreaRight" fmla="*/ 57960 w 57600"/>
                      <a:gd name="textAreaTop" fmla="*/ 0 h 15120"/>
                      <a:gd name="textAreaBottom" fmla="*/ 15480 h 15120"/>
                    </a:gdLst>
                    <a:ahLst/>
                    <a:rect l="textAreaLeft" t="textAreaTop" r="textAreaRight" b="textAreaBottom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Freeform 1848"/>
                  <p:cNvSpPr/>
                  <p:nvPr/>
                </p:nvSpPr>
                <p:spPr>
                  <a:xfrm rot="7164000">
                    <a:off x="432000" y="579960"/>
                    <a:ext cx="35280" cy="27360"/>
                  </a:xfrm>
                  <a:custGeom>
                    <a:avLst/>
                    <a:gdLst>
                      <a:gd name="textAreaLeft" fmla="*/ 0 w 35280"/>
                      <a:gd name="textAreaRight" fmla="*/ 35640 w 352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7" name="Freeform 1849"/>
                  <p:cNvSpPr/>
                  <p:nvPr/>
                </p:nvSpPr>
                <p:spPr>
                  <a:xfrm rot="7164000">
                    <a:off x="272520" y="605520"/>
                    <a:ext cx="11520" cy="1692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16920"/>
                      <a:gd name="textAreaBottom" fmla="*/ 17280 h 16920"/>
                    </a:gdLst>
                    <a:ahLst/>
                    <a:rect l="textAreaLeft" t="textAreaTop" r="textAreaRight" b="textAreaBottom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8" name="Freeform 1850"/>
                  <p:cNvSpPr/>
                  <p:nvPr/>
                </p:nvSpPr>
                <p:spPr>
                  <a:xfrm rot="7164000">
                    <a:off x="456120" y="631080"/>
                    <a:ext cx="10080" cy="100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Freeform 1851"/>
                  <p:cNvSpPr/>
                  <p:nvPr/>
                </p:nvSpPr>
                <p:spPr>
                  <a:xfrm rot="7164000">
                    <a:off x="486360" y="691560"/>
                    <a:ext cx="11520" cy="1368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13680"/>
                      <a:gd name="textAreaBottom" fmla="*/ 14040 h 13680"/>
                    </a:gdLst>
                    <a:ahLst/>
                    <a:rect l="textAreaLeft" t="textAreaTop" r="textAreaRight" b="textAreaBottom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Freeform 1852"/>
                  <p:cNvSpPr/>
                  <p:nvPr/>
                </p:nvSpPr>
                <p:spPr>
                  <a:xfrm rot="7164000">
                    <a:off x="432360" y="530640"/>
                    <a:ext cx="9000" cy="6120"/>
                  </a:xfrm>
                  <a:custGeom>
                    <a:avLst/>
                    <a:gdLst>
                      <a:gd name="textAreaLeft" fmla="*/ 0 w 9000"/>
                      <a:gd name="textAreaRight" fmla="*/ 9360 w 900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1" name="Group 1415"/>
                <p:cNvGrpSpPr/>
                <p:nvPr/>
              </p:nvGrpSpPr>
              <p:grpSpPr>
                <a:xfrm>
                  <a:off x="368280" y="951120"/>
                  <a:ext cx="56520" cy="56520"/>
                  <a:chOff x="368280" y="951120"/>
                  <a:chExt cx="56520" cy="56520"/>
                </a:xfrm>
              </p:grpSpPr>
              <p:sp>
                <p:nvSpPr>
                  <p:cNvPr id="1502" name="Freeform 1854"/>
                  <p:cNvSpPr/>
                  <p:nvPr/>
                </p:nvSpPr>
                <p:spPr>
                  <a:xfrm rot="2799000">
                    <a:off x="377280" y="958320"/>
                    <a:ext cx="38520" cy="4140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41400"/>
                      <a:gd name="textAreaBottom" fmla="*/ 41760 h 41400"/>
                    </a:gdLst>
                    <a:ahLst/>
                    <a:rect l="textAreaLeft" t="textAreaTop" r="textAreaRight" b="textAreaBottom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Freeform 1855"/>
                  <p:cNvSpPr/>
                  <p:nvPr/>
                </p:nvSpPr>
                <p:spPr>
                  <a:xfrm rot="20752800">
                    <a:off x="380160" y="962640"/>
                    <a:ext cx="20880" cy="2340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4" name="Group 1418"/>
              <p:cNvGrpSpPr/>
              <p:nvPr/>
            </p:nvGrpSpPr>
            <p:grpSpPr>
              <a:xfrm>
                <a:off x="383760" y="695520"/>
                <a:ext cx="628920" cy="478080"/>
                <a:chOff x="383760" y="695520"/>
                <a:chExt cx="628920" cy="478080"/>
              </a:xfrm>
            </p:grpSpPr>
            <p:grpSp>
              <p:nvGrpSpPr>
                <p:cNvPr id="1505" name="Group 1419"/>
                <p:cNvGrpSpPr/>
                <p:nvPr/>
              </p:nvGrpSpPr>
              <p:grpSpPr>
                <a:xfrm>
                  <a:off x="383760" y="695520"/>
                  <a:ext cx="628920" cy="478080"/>
                  <a:chOff x="383760" y="695520"/>
                  <a:chExt cx="628920" cy="478080"/>
                </a:xfrm>
              </p:grpSpPr>
              <p:sp>
                <p:nvSpPr>
                  <p:cNvPr id="1506" name="Freeform 1858"/>
                  <p:cNvSpPr/>
                  <p:nvPr/>
                </p:nvSpPr>
                <p:spPr>
                  <a:xfrm rot="11388000">
                    <a:off x="539640" y="729720"/>
                    <a:ext cx="441000" cy="4089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408960"/>
                      <a:gd name="textAreaBottom" fmla="*/ 409320 h 408960"/>
                    </a:gdLst>
                    <a:ahLst/>
                    <a:rect l="textAreaLeft" t="textAreaTop" r="textAreaRight" b="textAreaBottom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Freeform 1859"/>
                  <p:cNvSpPr/>
                  <p:nvPr/>
                </p:nvSpPr>
                <p:spPr>
                  <a:xfrm rot="11388000">
                    <a:off x="552960" y="849240"/>
                    <a:ext cx="373680" cy="194040"/>
                  </a:xfrm>
                  <a:custGeom>
                    <a:avLst/>
                    <a:gdLst>
                      <a:gd name="textAreaLeft" fmla="*/ 0 w 373680"/>
                      <a:gd name="textAreaRight" fmla="*/ 374040 w 373680"/>
                      <a:gd name="textAreaTop" fmla="*/ 0 h 194040"/>
                      <a:gd name="textAreaBottom" fmla="*/ 194400 h 194040"/>
                    </a:gdLst>
                    <a:ahLst/>
                    <a:rect l="textAreaLeft" t="textAreaTop" r="textAreaRight" b="textAreaBottom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Freeform 1860"/>
                  <p:cNvSpPr/>
                  <p:nvPr/>
                </p:nvSpPr>
                <p:spPr>
                  <a:xfrm rot="11388000">
                    <a:off x="400320" y="831960"/>
                    <a:ext cx="544320" cy="241560"/>
                  </a:xfrm>
                  <a:custGeom>
                    <a:avLst/>
                    <a:gdLst>
                      <a:gd name="textAreaLeft" fmla="*/ 0 w 544320"/>
                      <a:gd name="textAreaRight" fmla="*/ 544680 w 544320"/>
                      <a:gd name="textAreaTop" fmla="*/ 0 h 241560"/>
                      <a:gd name="textAreaBottom" fmla="*/ 241920 h 241560"/>
                    </a:gdLst>
                    <a:ahLst/>
                    <a:rect l="textAreaLeft" t="textAreaTop" r="textAreaRight" b="textAreaBottom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Freeform 1861"/>
                  <p:cNvSpPr/>
                  <p:nvPr/>
                </p:nvSpPr>
                <p:spPr>
                  <a:xfrm rot="11388000">
                    <a:off x="709920" y="938880"/>
                    <a:ext cx="176760" cy="23760"/>
                  </a:xfrm>
                  <a:custGeom>
                    <a:avLst/>
                    <a:gdLst>
                      <a:gd name="textAreaLeft" fmla="*/ 0 w 176760"/>
                      <a:gd name="textAreaRight" fmla="*/ 176760 w 17676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0" name="Freeform 1862"/>
                  <p:cNvSpPr/>
                  <p:nvPr/>
                </p:nvSpPr>
                <p:spPr>
                  <a:xfrm rot="11388000">
                    <a:off x="617040" y="966600"/>
                    <a:ext cx="228240" cy="88920"/>
                  </a:xfrm>
                  <a:custGeom>
                    <a:avLst/>
                    <a:gdLst>
                      <a:gd name="textAreaLeft" fmla="*/ 0 w 228240"/>
                      <a:gd name="textAreaRight" fmla="*/ 228600 w 228240"/>
                      <a:gd name="textAreaTop" fmla="*/ 0 h 88920"/>
                      <a:gd name="textAreaBottom" fmla="*/ 89280 h 88920"/>
                    </a:gdLst>
                    <a:ahLst/>
                    <a:rect l="textAreaLeft" t="textAreaTop" r="textAreaRight" b="textAreaBottom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Freeform 1863"/>
                  <p:cNvSpPr/>
                  <p:nvPr/>
                </p:nvSpPr>
                <p:spPr>
                  <a:xfrm rot="11388000">
                    <a:off x="556200" y="986760"/>
                    <a:ext cx="252360" cy="118080"/>
                  </a:xfrm>
                  <a:custGeom>
                    <a:avLst/>
                    <a:gdLst>
                      <a:gd name="textAreaLeft" fmla="*/ 0 w 252360"/>
                      <a:gd name="textAreaRight" fmla="*/ 252720 w 252360"/>
                      <a:gd name="textAreaTop" fmla="*/ 0 h 118080"/>
                      <a:gd name="textAreaBottom" fmla="*/ 118440 h 118080"/>
                    </a:gdLst>
                    <a:ahLst/>
                    <a:rect l="textAreaLeft" t="textAreaTop" r="textAreaRight" b="textAreaBottom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Freeform 1864"/>
                  <p:cNvSpPr/>
                  <p:nvPr/>
                </p:nvSpPr>
                <p:spPr>
                  <a:xfrm rot="11388000">
                    <a:off x="798840" y="915120"/>
                    <a:ext cx="104760" cy="154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Freeform 1865"/>
                  <p:cNvSpPr/>
                  <p:nvPr/>
                </p:nvSpPr>
                <p:spPr>
                  <a:xfrm rot="11388000">
                    <a:off x="877680" y="897840"/>
                    <a:ext cx="54720" cy="5760"/>
                  </a:xfrm>
                  <a:custGeom>
                    <a:avLst/>
                    <a:gdLst>
                      <a:gd name="textAreaLeft" fmla="*/ 0 w 54720"/>
                      <a:gd name="textAreaRight" fmla="*/ 55080 w 54720"/>
                      <a:gd name="textAreaTop" fmla="*/ 0 h 5760"/>
                      <a:gd name="textAreaBottom" fmla="*/ 6120 h 5760"/>
                    </a:gdLst>
                    <a:ahLst/>
                    <a:rect l="textAreaLeft" t="textAreaTop" r="textAreaRight" b="textAreaBottom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Freeform 1866"/>
                  <p:cNvSpPr/>
                  <p:nvPr/>
                </p:nvSpPr>
                <p:spPr>
                  <a:xfrm rot="11388000">
                    <a:off x="868680" y="858600"/>
                    <a:ext cx="39960" cy="41760"/>
                  </a:xfrm>
                  <a:custGeom>
                    <a:avLst/>
                    <a:gdLst>
                      <a:gd name="textAreaLeft" fmla="*/ 0 w 39960"/>
                      <a:gd name="textAreaRight" fmla="*/ 40320 w 3996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Freeform 1867"/>
                  <p:cNvSpPr/>
                  <p:nvPr/>
                </p:nvSpPr>
                <p:spPr>
                  <a:xfrm rot="11388000">
                    <a:off x="807120" y="837000"/>
                    <a:ext cx="69840" cy="77760"/>
                  </a:xfrm>
                  <a:custGeom>
                    <a:avLst/>
                    <a:gdLst>
                      <a:gd name="textAreaLeft" fmla="*/ 0 w 69840"/>
                      <a:gd name="textAreaRight" fmla="*/ 70200 w 69840"/>
                      <a:gd name="textAreaTop" fmla="*/ 0 h 77760"/>
                      <a:gd name="textAreaBottom" fmla="*/ 78120 h 77760"/>
                    </a:gdLst>
                    <a:ahLst/>
                    <a:rect l="textAreaLeft" t="textAreaTop" r="textAreaRight" b="textAreaBottom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6" name="Freeform 1868"/>
                  <p:cNvSpPr/>
                  <p:nvPr/>
                </p:nvSpPr>
                <p:spPr>
                  <a:xfrm rot="11388000">
                    <a:off x="716040" y="802080"/>
                    <a:ext cx="111960" cy="136440"/>
                  </a:xfrm>
                  <a:custGeom>
                    <a:avLst/>
                    <a:gdLst>
                      <a:gd name="textAreaLeft" fmla="*/ 0 w 111960"/>
                      <a:gd name="textAreaRight" fmla="*/ 112320 w 111960"/>
                      <a:gd name="textAreaTop" fmla="*/ 0 h 136440"/>
                      <a:gd name="textAreaBottom" fmla="*/ 136800 h 136440"/>
                    </a:gdLst>
                    <a:ahLst/>
                    <a:rect l="textAreaLeft" t="textAreaTop" r="textAreaRight" b="textAreaBottom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7" name="Freeform 1869"/>
                  <p:cNvSpPr/>
                  <p:nvPr/>
                </p:nvSpPr>
                <p:spPr>
                  <a:xfrm rot="11388000">
                    <a:off x="638280" y="763200"/>
                    <a:ext cx="120240" cy="198720"/>
                  </a:xfrm>
                  <a:custGeom>
                    <a:avLst/>
                    <a:gdLst>
                      <a:gd name="textAreaLeft" fmla="*/ 0 w 120240"/>
                      <a:gd name="textAreaRight" fmla="*/ 120600 w 120240"/>
                      <a:gd name="textAreaTop" fmla="*/ 0 h 198720"/>
                      <a:gd name="textAreaBottom" fmla="*/ 199080 h 198720"/>
                    </a:gdLst>
                    <a:ahLst/>
                    <a:rect l="textAreaLeft" t="textAreaTop" r="textAreaRight" b="textAreaBottom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Freeform 1870"/>
                  <p:cNvSpPr/>
                  <p:nvPr/>
                </p:nvSpPr>
                <p:spPr>
                  <a:xfrm rot="11388000">
                    <a:off x="705600" y="759960"/>
                    <a:ext cx="12960" cy="792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79200"/>
                      <a:gd name="textAreaBottom" fmla="*/ 79560 h 79200"/>
                    </a:gdLst>
                    <a:ahLst/>
                    <a:rect l="textAreaLeft" t="textAreaTop" r="textAreaRight" b="textAreaBottom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Freeform 1871"/>
                  <p:cNvSpPr/>
                  <p:nvPr/>
                </p:nvSpPr>
                <p:spPr>
                  <a:xfrm rot="11388000">
                    <a:off x="579600" y="733680"/>
                    <a:ext cx="83520" cy="244440"/>
                  </a:xfrm>
                  <a:custGeom>
                    <a:avLst/>
                    <a:gdLst>
                      <a:gd name="textAreaLeft" fmla="*/ 0 w 83520"/>
                      <a:gd name="textAreaRight" fmla="*/ 83880 w 8352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Freeform 1872"/>
                  <p:cNvSpPr/>
                  <p:nvPr/>
                </p:nvSpPr>
                <p:spPr>
                  <a:xfrm rot="11388000">
                    <a:off x="673200" y="847800"/>
                    <a:ext cx="61560" cy="38880"/>
                  </a:xfrm>
                  <a:custGeom>
                    <a:avLst/>
                    <a:gdLst>
                      <a:gd name="textAreaLeft" fmla="*/ 0 w 61560"/>
                      <a:gd name="textAreaRight" fmla="*/ 61920 w 61560"/>
                      <a:gd name="textAreaTop" fmla="*/ 0 h 38880"/>
                      <a:gd name="textAreaBottom" fmla="*/ 39240 h 38880"/>
                    </a:gdLst>
                    <a:ahLst/>
                    <a:rect l="textAreaLeft" t="textAreaTop" r="textAreaRight" b="textAreaBottom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Freeform 1873"/>
                  <p:cNvSpPr/>
                  <p:nvPr/>
                </p:nvSpPr>
                <p:spPr>
                  <a:xfrm rot="11388000">
                    <a:off x="778680" y="800280"/>
                    <a:ext cx="29880" cy="622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62280"/>
                      <a:gd name="textAreaBottom" fmla="*/ 62640 h 62280"/>
                    </a:gdLst>
                    <a:ahLst/>
                    <a:rect l="textAreaLeft" t="textAreaTop" r="textAreaRight" b="textAreaBottom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Freeform 1874"/>
                  <p:cNvSpPr/>
                  <p:nvPr/>
                </p:nvSpPr>
                <p:spPr>
                  <a:xfrm rot="11388000">
                    <a:off x="787680" y="945720"/>
                    <a:ext cx="65160" cy="14040"/>
                  </a:xfrm>
                  <a:custGeom>
                    <a:avLst/>
                    <a:gdLst>
                      <a:gd name="textAreaLeft" fmla="*/ 0 w 65160"/>
                      <a:gd name="textAreaRight" fmla="*/ 65520 w 65160"/>
                      <a:gd name="textAreaTop" fmla="*/ 0 h 14040"/>
                      <a:gd name="textAreaBottom" fmla="*/ 14400 h 14040"/>
                    </a:gdLst>
                    <a:ahLst/>
                    <a:rect l="textAreaLeft" t="textAreaTop" r="textAreaRight" b="textAreaBottom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Freeform 1875"/>
                  <p:cNvSpPr/>
                  <p:nvPr/>
                </p:nvSpPr>
                <p:spPr>
                  <a:xfrm rot="11388000">
                    <a:off x="815760" y="967680"/>
                    <a:ext cx="39960" cy="23760"/>
                  </a:xfrm>
                  <a:custGeom>
                    <a:avLst/>
                    <a:gdLst>
                      <a:gd name="textAreaLeft" fmla="*/ 0 w 39960"/>
                      <a:gd name="textAreaRight" fmla="*/ 40320 w 3996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Freeform 1876"/>
                  <p:cNvSpPr/>
                  <p:nvPr/>
                </p:nvSpPr>
                <p:spPr>
                  <a:xfrm rot="11388000">
                    <a:off x="736200" y="831960"/>
                    <a:ext cx="12960" cy="1476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4760"/>
                      <a:gd name="textAreaBottom" fmla="*/ 15120 h 14760"/>
                    </a:gdLst>
                    <a:ahLst/>
                    <a:rect l="textAreaLeft" t="textAreaTop" r="textAreaRight" b="textAreaBottom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Freeform 1877"/>
                  <p:cNvSpPr/>
                  <p:nvPr/>
                </p:nvSpPr>
                <p:spPr>
                  <a:xfrm rot="11388000">
                    <a:off x="789840" y="995760"/>
                    <a:ext cx="11520" cy="792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7920"/>
                      <a:gd name="textAreaBottom" fmla="*/ 8280 h 7920"/>
                    </a:gdLst>
                    <a:ahLst/>
                    <a:rect l="textAreaLeft" t="textAreaTop" r="textAreaRight" b="textAreaBottom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Freeform 1878"/>
                  <p:cNvSpPr/>
                  <p:nvPr/>
                </p:nvSpPr>
                <p:spPr>
                  <a:xfrm rot="11388000">
                    <a:off x="737280" y="1036080"/>
                    <a:ext cx="12960" cy="1188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Freeform 1879"/>
                  <p:cNvSpPr/>
                  <p:nvPr/>
                </p:nvSpPr>
                <p:spPr>
                  <a:xfrm rot="11388000">
                    <a:off x="887760" y="950040"/>
                    <a:ext cx="10080" cy="54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8" name="Group 1442"/>
                <p:cNvGrpSpPr/>
                <p:nvPr/>
              </p:nvGrpSpPr>
              <p:grpSpPr>
                <a:xfrm>
                  <a:off x="402480" y="998640"/>
                  <a:ext cx="56880" cy="51480"/>
                  <a:chOff x="402480" y="998640"/>
                  <a:chExt cx="56880" cy="51480"/>
                </a:xfrm>
              </p:grpSpPr>
              <p:sp>
                <p:nvSpPr>
                  <p:cNvPr id="1529" name="Freeform 1881"/>
                  <p:cNvSpPr/>
                  <p:nvPr/>
                </p:nvSpPr>
                <p:spPr>
                  <a:xfrm rot="7023600">
                    <a:off x="413640" y="1000800"/>
                    <a:ext cx="34200" cy="46440"/>
                  </a:xfrm>
                  <a:custGeom>
                    <a:avLst/>
                    <a:gdLst>
                      <a:gd name="textAreaLeft" fmla="*/ 0 w 34200"/>
                      <a:gd name="textAreaRight" fmla="*/ 34560 w 34200"/>
                      <a:gd name="textAreaTop" fmla="*/ 0 h 46440"/>
                      <a:gd name="textAreaBottom" fmla="*/ 46800 h 46440"/>
                    </a:gdLst>
                    <a:ahLst/>
                    <a:rect l="textAreaLeft" t="textAreaTop" r="textAreaRight" b="textAreaBottom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Freeform 1882"/>
                  <p:cNvSpPr/>
                  <p:nvPr/>
                </p:nvSpPr>
                <p:spPr>
                  <a:xfrm rot="3376800">
                    <a:off x="420840" y="1007640"/>
                    <a:ext cx="23400" cy="2088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20880"/>
                      <a:gd name="textAreaBottom" fmla="*/ 20880 h 20880"/>
                    </a:gdLst>
                    <a:ahLst/>
                    <a:rect l="textAreaLeft" t="textAreaTop" r="textAreaRight" b="textAreaBottom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31" name="Group 1445"/>
            <p:cNvGrpSpPr/>
            <p:nvPr/>
          </p:nvGrpSpPr>
          <p:grpSpPr>
            <a:xfrm>
              <a:off x="762840" y="1169280"/>
              <a:ext cx="581040" cy="619560"/>
              <a:chOff x="762840" y="1169280"/>
              <a:chExt cx="581040" cy="619560"/>
            </a:xfrm>
          </p:grpSpPr>
          <p:grpSp>
            <p:nvGrpSpPr>
              <p:cNvPr id="1532" name="Group 1446"/>
              <p:cNvGrpSpPr/>
              <p:nvPr/>
            </p:nvGrpSpPr>
            <p:grpSpPr>
              <a:xfrm>
                <a:off x="762840" y="1169280"/>
                <a:ext cx="581040" cy="619560"/>
                <a:chOff x="762840" y="1169280"/>
                <a:chExt cx="581040" cy="619560"/>
              </a:xfrm>
            </p:grpSpPr>
            <p:sp>
              <p:nvSpPr>
                <p:cNvPr id="1533" name="Freeform 1885"/>
                <p:cNvSpPr/>
                <p:nvPr/>
              </p:nvSpPr>
              <p:spPr>
                <a:xfrm flipH="1" rot="2658600">
                  <a:off x="852840" y="1315080"/>
                  <a:ext cx="416520" cy="382320"/>
                </a:xfrm>
                <a:custGeom>
                  <a:avLst/>
                  <a:gdLst>
                    <a:gd name="textAreaLeft" fmla="*/ -360 w 416520"/>
                    <a:gd name="textAreaRight" fmla="*/ 416520 w 416520"/>
                    <a:gd name="textAreaTop" fmla="*/ 0 h 382320"/>
                    <a:gd name="textAreaBottom" fmla="*/ 382680 h 38232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Freeform 1886"/>
                <p:cNvSpPr/>
                <p:nvPr/>
              </p:nvSpPr>
              <p:spPr>
                <a:xfrm flipH="1" rot="2658600">
                  <a:off x="880920" y="1393560"/>
                  <a:ext cx="353160" cy="181800"/>
                </a:xfrm>
                <a:custGeom>
                  <a:avLst/>
                  <a:gdLst>
                    <a:gd name="textAreaLeft" fmla="*/ -360 w 353160"/>
                    <a:gd name="textAreaRight" fmla="*/ 353160 w 353160"/>
                    <a:gd name="textAreaTop" fmla="*/ 0 h 181800"/>
                    <a:gd name="textAreaBottom" fmla="*/ 182160 h 18180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Freeform 1887"/>
                <p:cNvSpPr/>
                <p:nvPr/>
              </p:nvSpPr>
              <p:spPr>
                <a:xfrm flipH="1" rot="2658600">
                  <a:off x="768240" y="1316520"/>
                  <a:ext cx="514080" cy="226080"/>
                </a:xfrm>
                <a:custGeom>
                  <a:avLst/>
                  <a:gdLst>
                    <a:gd name="textAreaLeft" fmla="*/ 360 w 514080"/>
                    <a:gd name="textAreaRight" fmla="*/ 514800 w 514080"/>
                    <a:gd name="textAreaTop" fmla="*/ 0 h 226080"/>
                    <a:gd name="textAreaBottom" fmla="*/ 226440 h 22608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Freeform 1888"/>
                <p:cNvSpPr/>
                <p:nvPr/>
              </p:nvSpPr>
              <p:spPr>
                <a:xfrm flipH="1" rot="2658600">
                  <a:off x="1010160" y="1515600"/>
                  <a:ext cx="167040" cy="22320"/>
                </a:xfrm>
                <a:custGeom>
                  <a:avLst/>
                  <a:gdLst>
                    <a:gd name="textAreaLeft" fmla="*/ 0 w 167040"/>
                    <a:gd name="textAreaRight" fmla="*/ 167040 w 16704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Freeform 1889"/>
                <p:cNvSpPr/>
                <p:nvPr/>
              </p:nvSpPr>
              <p:spPr>
                <a:xfrm flipH="1" rot="2658600">
                  <a:off x="994680" y="1400040"/>
                  <a:ext cx="216000" cy="83520"/>
                </a:xfrm>
                <a:custGeom>
                  <a:avLst/>
                  <a:gdLst>
                    <a:gd name="textAreaLeft" fmla="*/ 360 w 216000"/>
                    <a:gd name="textAreaRight" fmla="*/ 216720 w 216000"/>
                    <a:gd name="textAreaTop" fmla="*/ 0 h 83520"/>
                    <a:gd name="textAreaBottom" fmla="*/ 83520 h 8352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Freeform 1890"/>
                <p:cNvSpPr/>
                <p:nvPr/>
              </p:nvSpPr>
              <p:spPr>
                <a:xfrm flipH="1" rot="2658600">
                  <a:off x="982080" y="1330920"/>
                  <a:ext cx="238680" cy="110520"/>
                </a:xfrm>
                <a:custGeom>
                  <a:avLst/>
                  <a:gdLst>
                    <a:gd name="textAreaLeft" fmla="*/ -360 w 238680"/>
                    <a:gd name="textAreaRight" fmla="*/ 238680 w 238680"/>
                    <a:gd name="textAreaTop" fmla="*/ 0 h 110520"/>
                    <a:gd name="textAreaBottom" fmla="*/ 110880 h 11052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Freeform 1891"/>
                <p:cNvSpPr/>
                <p:nvPr/>
              </p:nvSpPr>
              <p:spPr>
                <a:xfrm flipH="1" rot="2658600">
                  <a:off x="1053360" y="1575360"/>
                  <a:ext cx="99000" cy="14040"/>
                </a:xfrm>
                <a:custGeom>
                  <a:avLst/>
                  <a:gdLst>
                    <a:gd name="textAreaLeft" fmla="*/ -360 w 99000"/>
                    <a:gd name="textAreaRight" fmla="*/ 99000 w 9900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Freeform 1892"/>
                <p:cNvSpPr/>
                <p:nvPr/>
              </p:nvSpPr>
              <p:spPr>
                <a:xfrm flipH="1" rot="2658600">
                  <a:off x="1089000" y="1632600"/>
                  <a:ext cx="51840" cy="5760"/>
                </a:xfrm>
                <a:custGeom>
                  <a:avLst/>
                  <a:gdLst>
                    <a:gd name="textAreaLeft" fmla="*/ 360 w 51840"/>
                    <a:gd name="textAreaRight" fmla="*/ 52560 w 5184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Freeform 1893"/>
                <p:cNvSpPr/>
                <p:nvPr/>
              </p:nvSpPr>
              <p:spPr>
                <a:xfrm flipH="1" rot="2658600">
                  <a:off x="1071000" y="1615320"/>
                  <a:ext cx="37800" cy="39240"/>
                </a:xfrm>
                <a:custGeom>
                  <a:avLst/>
                  <a:gdLst>
                    <a:gd name="textAreaLeft" fmla="*/ -360 w 37800"/>
                    <a:gd name="textAreaRight" fmla="*/ 37800 w 3780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Freeform 1894"/>
                <p:cNvSpPr/>
                <p:nvPr/>
              </p:nvSpPr>
              <p:spPr>
                <a:xfrm flipH="1" rot="2658600">
                  <a:off x="1028520" y="1564560"/>
                  <a:ext cx="65880" cy="72360"/>
                </a:xfrm>
                <a:custGeom>
                  <a:avLst/>
                  <a:gdLst>
                    <a:gd name="textAreaLeft" fmla="*/ -360 w 65880"/>
                    <a:gd name="textAreaRight" fmla="*/ 65880 w 6588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Freeform 1895"/>
                <p:cNvSpPr/>
                <p:nvPr/>
              </p:nvSpPr>
              <p:spPr>
                <a:xfrm flipH="1" rot="2658600">
                  <a:off x="965880" y="1486800"/>
                  <a:ext cx="105480" cy="127080"/>
                </a:xfrm>
                <a:custGeom>
                  <a:avLst/>
                  <a:gdLst>
                    <a:gd name="textAreaLeft" fmla="*/ -360 w 105480"/>
                    <a:gd name="textAreaRight" fmla="*/ 105480 w 105480"/>
                    <a:gd name="textAreaTop" fmla="*/ 0 h 127080"/>
                    <a:gd name="textAreaBottom" fmla="*/ 127440 h 12708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Freeform 1896"/>
                <p:cNvSpPr/>
                <p:nvPr/>
              </p:nvSpPr>
              <p:spPr>
                <a:xfrm flipH="1" rot="2658600">
                  <a:off x="914400" y="1405440"/>
                  <a:ext cx="113760" cy="185760"/>
                </a:xfrm>
                <a:custGeom>
                  <a:avLst/>
                  <a:gdLst>
                    <a:gd name="textAreaLeft" fmla="*/ 360 w 113760"/>
                    <a:gd name="textAreaRight" fmla="*/ 114480 w 11376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Freeform 1897"/>
                <p:cNvSpPr/>
                <p:nvPr/>
              </p:nvSpPr>
              <p:spPr>
                <a:xfrm flipH="1" rot="2658600">
                  <a:off x="925560" y="1505880"/>
                  <a:ext cx="12240" cy="74160"/>
                </a:xfrm>
                <a:custGeom>
                  <a:avLst/>
                  <a:gdLst>
                    <a:gd name="textAreaLeft" fmla="*/ 360 w 12240"/>
                    <a:gd name="textAreaRight" fmla="*/ 12960 w 12240"/>
                    <a:gd name="textAreaTop" fmla="*/ 0 h 74160"/>
                    <a:gd name="textAreaBottom" fmla="*/ 74160 h 7416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Freeform 1898"/>
                <p:cNvSpPr/>
                <p:nvPr/>
              </p:nvSpPr>
              <p:spPr>
                <a:xfrm flipH="1" rot="2658600">
                  <a:off x="885600" y="1328760"/>
                  <a:ext cx="78480" cy="228960"/>
                </a:xfrm>
                <a:custGeom>
                  <a:avLst/>
                  <a:gdLst>
                    <a:gd name="textAreaLeft" fmla="*/ 360 w 78480"/>
                    <a:gd name="textAreaRight" fmla="*/ 79200 w 7848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Freeform 1899"/>
                <p:cNvSpPr/>
                <p:nvPr/>
              </p:nvSpPr>
              <p:spPr>
                <a:xfrm flipH="1" rot="2658600">
                  <a:off x="948960" y="1482120"/>
                  <a:ext cx="58320" cy="36000"/>
                </a:xfrm>
                <a:custGeom>
                  <a:avLst/>
                  <a:gdLst>
                    <a:gd name="textAreaLeft" fmla="*/ 360 w 58320"/>
                    <a:gd name="textAreaRight" fmla="*/ 59040 w 58320"/>
                    <a:gd name="textAreaTop" fmla="*/ 0 h 36000"/>
                    <a:gd name="textAreaBottom" fmla="*/ 36360 h 3600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Freeform 1900"/>
                <p:cNvSpPr/>
                <p:nvPr/>
              </p:nvSpPr>
              <p:spPr>
                <a:xfrm flipH="1" rot="2658600">
                  <a:off x="986760" y="1559160"/>
                  <a:ext cx="28080" cy="57960"/>
                </a:xfrm>
                <a:custGeom>
                  <a:avLst/>
                  <a:gdLst>
                    <a:gd name="textAreaLeft" fmla="*/ 360 w 28080"/>
                    <a:gd name="textAreaRight" fmla="*/ 28800 w 28080"/>
                    <a:gd name="textAreaTop" fmla="*/ 0 h 57960"/>
                    <a:gd name="textAreaBottom" fmla="*/ 58320 h 5796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Freeform 1901"/>
                <p:cNvSpPr/>
                <p:nvPr/>
              </p:nvSpPr>
              <p:spPr>
                <a:xfrm flipH="1" rot="2658600">
                  <a:off x="1078200" y="1535760"/>
                  <a:ext cx="61200" cy="12600"/>
                </a:xfrm>
                <a:custGeom>
                  <a:avLst/>
                  <a:gdLst>
                    <a:gd name="textAreaLeft" fmla="*/ 360 w 61200"/>
                    <a:gd name="textAreaRight" fmla="*/ 61920 w 612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Freeform 1902"/>
                <p:cNvSpPr/>
                <p:nvPr/>
              </p:nvSpPr>
              <p:spPr>
                <a:xfrm flipH="1" rot="2658600">
                  <a:off x="1117800" y="1528200"/>
                  <a:ext cx="37800" cy="22320"/>
                </a:xfrm>
                <a:custGeom>
                  <a:avLst/>
                  <a:gdLst>
                    <a:gd name="textAreaLeft" fmla="*/ -360 w 37800"/>
                    <a:gd name="textAreaRight" fmla="*/ 37800 w 3780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Freeform 1903"/>
                <p:cNvSpPr/>
                <p:nvPr/>
              </p:nvSpPr>
              <p:spPr>
                <a:xfrm flipH="1" rot="2658600">
                  <a:off x="972360" y="1538280"/>
                  <a:ext cx="12240" cy="13680"/>
                </a:xfrm>
                <a:custGeom>
                  <a:avLst/>
                  <a:gdLst>
                    <a:gd name="textAreaLeft" fmla="*/ 360 w 12240"/>
                    <a:gd name="textAreaRight" fmla="*/ 12960 w 12240"/>
                    <a:gd name="textAreaTop" fmla="*/ 0 h 13680"/>
                    <a:gd name="textAreaBottom" fmla="*/ 14040 h 1368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Freeform 1904"/>
                <p:cNvSpPr/>
                <p:nvPr/>
              </p:nvSpPr>
              <p:spPr>
                <a:xfrm flipH="1" rot="2658600">
                  <a:off x="1124280" y="1494000"/>
                  <a:ext cx="10800" cy="8280"/>
                </a:xfrm>
                <a:custGeom>
                  <a:avLst/>
                  <a:gdLst>
                    <a:gd name="textAreaLeft" fmla="*/ 360 w 10800"/>
                    <a:gd name="textAreaRight" fmla="*/ 11520 w 1080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Freeform 1905"/>
                <p:cNvSpPr/>
                <p:nvPr/>
              </p:nvSpPr>
              <p:spPr>
                <a:xfrm flipH="1" rot="2658600">
                  <a:off x="1126800" y="1429200"/>
                  <a:ext cx="12240" cy="10800"/>
                </a:xfrm>
                <a:custGeom>
                  <a:avLst/>
                  <a:gdLst>
                    <a:gd name="textAreaLeft" fmla="*/ 360 w 12240"/>
                    <a:gd name="textAreaRight" fmla="*/ 12960 w 1224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Freeform 1906"/>
                <p:cNvSpPr/>
                <p:nvPr/>
              </p:nvSpPr>
              <p:spPr>
                <a:xfrm flipH="1" rot="2658600">
                  <a:off x="1143720" y="1595160"/>
                  <a:ext cx="9360" cy="4680"/>
                </a:xfrm>
                <a:custGeom>
                  <a:avLst/>
                  <a:gdLst>
                    <a:gd name="textAreaLeft" fmla="*/ 360 w 9360"/>
                    <a:gd name="textAreaRight" fmla="*/ 10080 w 936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5" name="Group 1469"/>
              <p:cNvGrpSpPr/>
              <p:nvPr/>
            </p:nvGrpSpPr>
            <p:grpSpPr>
              <a:xfrm>
                <a:off x="919800" y="1182240"/>
                <a:ext cx="54000" cy="48240"/>
                <a:chOff x="919800" y="1182240"/>
                <a:chExt cx="54000" cy="48240"/>
              </a:xfrm>
            </p:grpSpPr>
            <p:sp>
              <p:nvSpPr>
                <p:cNvPr id="1556" name="Freeform 1908"/>
                <p:cNvSpPr/>
                <p:nvPr/>
              </p:nvSpPr>
              <p:spPr>
                <a:xfrm flipH="1" rot="7023600">
                  <a:off x="930600" y="1184040"/>
                  <a:ext cx="31680" cy="44280"/>
                </a:xfrm>
                <a:custGeom>
                  <a:avLst/>
                  <a:gdLst>
                    <a:gd name="textAreaLeft" fmla="*/ 360 w 31680"/>
                    <a:gd name="textAreaRight" fmla="*/ 32400 w 3168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Freeform 1909"/>
                <p:cNvSpPr/>
                <p:nvPr/>
              </p:nvSpPr>
              <p:spPr>
                <a:xfrm flipH="1" rot="10670400">
                  <a:off x="930960" y="1201320"/>
                  <a:ext cx="22320" cy="19440"/>
                </a:xfrm>
                <a:custGeom>
                  <a:avLst/>
                  <a:gdLst>
                    <a:gd name="textAreaLeft" fmla="*/ 360 w 22320"/>
                    <a:gd name="textAreaRight" fmla="*/ 23040 w 22320"/>
                    <a:gd name="textAreaTop" fmla="*/ 0 h 19440"/>
                    <a:gd name="textAreaBottom" fmla="*/ 19440 h 1944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8" name="Group 1472"/>
            <p:cNvGrpSpPr/>
            <p:nvPr/>
          </p:nvGrpSpPr>
          <p:grpSpPr>
            <a:xfrm>
              <a:off x="929160" y="883080"/>
              <a:ext cx="474120" cy="342720"/>
              <a:chOff x="929160" y="883080"/>
              <a:chExt cx="474120" cy="342720"/>
            </a:xfrm>
          </p:grpSpPr>
          <p:grpSp>
            <p:nvGrpSpPr>
              <p:cNvPr id="1559" name="Group 1473"/>
              <p:cNvGrpSpPr/>
              <p:nvPr/>
            </p:nvGrpSpPr>
            <p:grpSpPr>
              <a:xfrm>
                <a:off x="929160" y="883080"/>
                <a:ext cx="474120" cy="342720"/>
                <a:chOff x="929160" y="883080"/>
                <a:chExt cx="474120" cy="342720"/>
              </a:xfrm>
            </p:grpSpPr>
            <p:sp>
              <p:nvSpPr>
                <p:cNvPr id="1560" name="Freeform 1912"/>
                <p:cNvSpPr/>
                <p:nvPr/>
              </p:nvSpPr>
              <p:spPr>
                <a:xfrm rot="10594800">
                  <a:off x="1040040" y="893160"/>
                  <a:ext cx="353520" cy="322200"/>
                </a:xfrm>
                <a:custGeom>
                  <a:avLst/>
                  <a:gdLst>
                    <a:gd name="textAreaLeft" fmla="*/ 0 w 353520"/>
                    <a:gd name="textAreaRight" fmla="*/ 353880 w 353520"/>
                    <a:gd name="textAreaTop" fmla="*/ 0 h 322200"/>
                    <a:gd name="textAreaBottom" fmla="*/ 322560 h 32220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Freeform 1913"/>
                <p:cNvSpPr/>
                <p:nvPr/>
              </p:nvSpPr>
              <p:spPr>
                <a:xfrm rot="10594800">
                  <a:off x="1053360" y="990720"/>
                  <a:ext cx="300240" cy="153000"/>
                </a:xfrm>
                <a:custGeom>
                  <a:avLst/>
                  <a:gdLst>
                    <a:gd name="textAreaLeft" fmla="*/ 0 w 300240"/>
                    <a:gd name="textAreaRight" fmla="*/ 300600 w 300240"/>
                    <a:gd name="textAreaTop" fmla="*/ 0 h 153000"/>
                    <a:gd name="textAreaBottom" fmla="*/ 153360 h 15300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Freeform 1914"/>
                <p:cNvSpPr/>
                <p:nvPr/>
              </p:nvSpPr>
              <p:spPr>
                <a:xfrm rot="10594800">
                  <a:off x="934200" y="988920"/>
                  <a:ext cx="436680" cy="190440"/>
                </a:xfrm>
                <a:custGeom>
                  <a:avLst/>
                  <a:gdLst>
                    <a:gd name="textAreaLeft" fmla="*/ 0 w 436680"/>
                    <a:gd name="textAreaRight" fmla="*/ 437040 w 436680"/>
                    <a:gd name="textAreaTop" fmla="*/ 0 h 190440"/>
                    <a:gd name="textAreaBottom" fmla="*/ 190800 h 19044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Freeform 1915"/>
                <p:cNvSpPr/>
                <p:nvPr/>
              </p:nvSpPr>
              <p:spPr>
                <a:xfrm rot="10594800">
                  <a:off x="1178280" y="1050480"/>
                  <a:ext cx="141840" cy="18360"/>
                </a:xfrm>
                <a:custGeom>
                  <a:avLst/>
                  <a:gdLst>
                    <a:gd name="textAreaLeft" fmla="*/ 0 w 141840"/>
                    <a:gd name="textAreaRight" fmla="*/ 142200 w 14184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Freeform 1916"/>
                <p:cNvSpPr/>
                <p:nvPr/>
              </p:nvSpPr>
              <p:spPr>
                <a:xfrm rot="10594800">
                  <a:off x="1116720" y="1083600"/>
                  <a:ext cx="183240" cy="70200"/>
                </a:xfrm>
                <a:custGeom>
                  <a:avLst/>
                  <a:gdLst>
                    <a:gd name="textAreaLeft" fmla="*/ 0 w 183240"/>
                    <a:gd name="textAreaRight" fmla="*/ 183600 w 1832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Freeform 1917"/>
                <p:cNvSpPr/>
                <p:nvPr/>
              </p:nvSpPr>
              <p:spPr>
                <a:xfrm rot="10594800">
                  <a:off x="1076040" y="1108080"/>
                  <a:ext cx="202320" cy="92520"/>
                </a:xfrm>
                <a:custGeom>
                  <a:avLst/>
                  <a:gdLst>
                    <a:gd name="textAreaLeft" fmla="*/ 0 w 202320"/>
                    <a:gd name="textAreaRight" fmla="*/ 202680 w 202320"/>
                    <a:gd name="textAreaTop" fmla="*/ 0 h 92520"/>
                    <a:gd name="textAreaBottom" fmla="*/ 92880 h 9252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Freeform 1918"/>
                <p:cNvSpPr/>
                <p:nvPr/>
              </p:nvSpPr>
              <p:spPr>
                <a:xfrm rot="10594800">
                  <a:off x="1244880" y="1023480"/>
                  <a:ext cx="83880" cy="11880"/>
                </a:xfrm>
                <a:custGeom>
                  <a:avLst/>
                  <a:gdLst>
                    <a:gd name="textAreaLeft" fmla="*/ 0 w 83880"/>
                    <a:gd name="textAreaRight" fmla="*/ 84240 w 8388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Freeform 1919"/>
                <p:cNvSpPr/>
                <p:nvPr/>
              </p:nvSpPr>
              <p:spPr>
                <a:xfrm rot="10594800">
                  <a:off x="1302120" y="999720"/>
                  <a:ext cx="43920" cy="4680"/>
                </a:xfrm>
                <a:custGeom>
                  <a:avLst/>
                  <a:gdLst>
                    <a:gd name="textAreaLeft" fmla="*/ 0 w 43920"/>
                    <a:gd name="textAreaRight" fmla="*/ 44280 w 4392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Freeform 1920"/>
                <p:cNvSpPr/>
                <p:nvPr/>
              </p:nvSpPr>
              <p:spPr>
                <a:xfrm rot="10594800">
                  <a:off x="1291680" y="972720"/>
                  <a:ext cx="32040" cy="32760"/>
                </a:xfrm>
                <a:custGeom>
                  <a:avLst/>
                  <a:gdLst>
                    <a:gd name="textAreaLeft" fmla="*/ 0 w 32040"/>
                    <a:gd name="textAreaRight" fmla="*/ 32400 w 3204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Freeform 1921"/>
                <p:cNvSpPr/>
                <p:nvPr/>
              </p:nvSpPr>
              <p:spPr>
                <a:xfrm rot="10594800">
                  <a:off x="1242360" y="964440"/>
                  <a:ext cx="56160" cy="60840"/>
                </a:xfrm>
                <a:custGeom>
                  <a:avLst/>
                  <a:gdLst>
                    <a:gd name="textAreaLeft" fmla="*/ 0 w 56160"/>
                    <a:gd name="textAreaRight" fmla="*/ 56520 w 561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Freeform 1922"/>
                <p:cNvSpPr/>
                <p:nvPr/>
              </p:nvSpPr>
              <p:spPr>
                <a:xfrm rot="10594800">
                  <a:off x="1170720" y="949680"/>
                  <a:ext cx="89640" cy="106920"/>
                </a:xfrm>
                <a:custGeom>
                  <a:avLst/>
                  <a:gdLst>
                    <a:gd name="textAreaLeft" fmla="*/ 0 w 89640"/>
                    <a:gd name="textAreaRight" fmla="*/ 90000 w 89640"/>
                    <a:gd name="textAreaTop" fmla="*/ 0 h 106920"/>
                    <a:gd name="textAreaBottom" fmla="*/ 107280 h 10692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Freeform 1923"/>
                <p:cNvSpPr/>
                <p:nvPr/>
              </p:nvSpPr>
              <p:spPr>
                <a:xfrm rot="10594800">
                  <a:off x="1108080" y="932040"/>
                  <a:ext cx="96480" cy="156600"/>
                </a:xfrm>
                <a:custGeom>
                  <a:avLst/>
                  <a:gdLst>
                    <a:gd name="textAreaLeft" fmla="*/ 0 w 96480"/>
                    <a:gd name="textAreaRight" fmla="*/ 96840 w 96480"/>
                    <a:gd name="textAreaTop" fmla="*/ 0 h 156600"/>
                    <a:gd name="textAreaBottom" fmla="*/ 156960 h 15660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Freeform 1924"/>
                <p:cNvSpPr/>
                <p:nvPr/>
              </p:nvSpPr>
              <p:spPr>
                <a:xfrm rot="10594800">
                  <a:off x="1149480" y="929160"/>
                  <a:ext cx="10440" cy="6192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Freeform 1925"/>
                <p:cNvSpPr/>
                <p:nvPr/>
              </p:nvSpPr>
              <p:spPr>
                <a:xfrm rot="10594800">
                  <a:off x="1061640" y="923040"/>
                  <a:ext cx="66600" cy="1926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4" name="Freeform 1926"/>
                <p:cNvSpPr/>
                <p:nvPr/>
              </p:nvSpPr>
              <p:spPr>
                <a:xfrm rot="10594800">
                  <a:off x="1136160" y="997920"/>
                  <a:ext cx="49320" cy="306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Freeform 1927"/>
                <p:cNvSpPr/>
                <p:nvPr/>
              </p:nvSpPr>
              <p:spPr>
                <a:xfrm rot="10594800">
                  <a:off x="1212480" y="944280"/>
                  <a:ext cx="23760" cy="4932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Freeform 1928"/>
                <p:cNvSpPr/>
                <p:nvPr/>
              </p:nvSpPr>
              <p:spPr>
                <a:xfrm rot="10594800">
                  <a:off x="1241640" y="1052640"/>
                  <a:ext cx="52200" cy="10440"/>
                </a:xfrm>
                <a:custGeom>
                  <a:avLst/>
                  <a:gdLst>
                    <a:gd name="textAreaLeft" fmla="*/ 0 w 52200"/>
                    <a:gd name="textAreaRight" fmla="*/ 52560 w 5220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7" name="Freeform 1929"/>
                <p:cNvSpPr/>
                <p:nvPr/>
              </p:nvSpPr>
              <p:spPr>
                <a:xfrm rot="10594800">
                  <a:off x="1268280" y="1065960"/>
                  <a:ext cx="32040" cy="18720"/>
                </a:xfrm>
                <a:custGeom>
                  <a:avLst/>
                  <a:gdLst>
                    <a:gd name="textAreaLeft" fmla="*/ 0 w 32040"/>
                    <a:gd name="textAreaRight" fmla="*/ 32400 w 3204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Freeform 1930"/>
                <p:cNvSpPr/>
                <p:nvPr/>
              </p:nvSpPr>
              <p:spPr>
                <a:xfrm rot="10594800">
                  <a:off x="1180800" y="978840"/>
                  <a:ext cx="10440" cy="1152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Freeform 1931"/>
                <p:cNvSpPr/>
                <p:nvPr/>
              </p:nvSpPr>
              <p:spPr>
                <a:xfrm rot="10594800">
                  <a:off x="1252440" y="1095120"/>
                  <a:ext cx="9360" cy="6840"/>
                </a:xfrm>
                <a:custGeom>
                  <a:avLst/>
                  <a:gdLst>
                    <a:gd name="textAreaLeft" fmla="*/ 0 w 9360"/>
                    <a:gd name="textAreaRight" fmla="*/ 9360 w 936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Freeform 1932"/>
                <p:cNvSpPr/>
                <p:nvPr/>
              </p:nvSpPr>
              <p:spPr>
                <a:xfrm rot="10594800">
                  <a:off x="1218960" y="1135080"/>
                  <a:ext cx="10440" cy="936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1" name="Freeform 1933"/>
                <p:cNvSpPr/>
                <p:nvPr/>
              </p:nvSpPr>
              <p:spPr>
                <a:xfrm rot="10594800">
                  <a:off x="1320120" y="1042200"/>
                  <a:ext cx="7920" cy="4320"/>
                </a:xfrm>
                <a:custGeom>
                  <a:avLst/>
                  <a:gdLst>
                    <a:gd name="textAreaLeft" fmla="*/ 0 w 7920"/>
                    <a:gd name="textAreaRight" fmla="*/ 8280 w 792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2" name="Group 1496"/>
              <p:cNvGrpSpPr/>
              <p:nvPr/>
            </p:nvGrpSpPr>
            <p:grpSpPr>
              <a:xfrm>
                <a:off x="956160" y="1164240"/>
                <a:ext cx="42840" cy="35280"/>
                <a:chOff x="956160" y="1164240"/>
                <a:chExt cx="42840" cy="35280"/>
              </a:xfrm>
            </p:grpSpPr>
            <p:sp>
              <p:nvSpPr>
                <p:cNvPr id="1583" name="Freeform 1935"/>
                <p:cNvSpPr/>
                <p:nvPr/>
              </p:nvSpPr>
              <p:spPr>
                <a:xfrm rot="6231000">
                  <a:off x="964080" y="1163160"/>
                  <a:ext cx="26640" cy="3744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Freeform 1936"/>
                <p:cNvSpPr/>
                <p:nvPr/>
              </p:nvSpPr>
              <p:spPr>
                <a:xfrm rot="2583600">
                  <a:off x="968040" y="1168200"/>
                  <a:ext cx="18720" cy="1656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16560"/>
                    <a:gd name="textAreaBottom" fmla="*/ 16920 h 1656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85" name="Group 1499"/>
            <p:cNvGrpSpPr/>
            <p:nvPr/>
          </p:nvGrpSpPr>
          <p:grpSpPr>
            <a:xfrm>
              <a:off x="1193400" y="1306800"/>
              <a:ext cx="425520" cy="491400"/>
              <a:chOff x="1193400" y="1306800"/>
              <a:chExt cx="425520" cy="491400"/>
            </a:xfrm>
          </p:grpSpPr>
          <p:grpSp>
            <p:nvGrpSpPr>
              <p:cNvPr id="1586" name="Group 1500"/>
              <p:cNvGrpSpPr/>
              <p:nvPr/>
            </p:nvGrpSpPr>
            <p:grpSpPr>
              <a:xfrm>
                <a:off x="1193400" y="1306800"/>
                <a:ext cx="425520" cy="491400"/>
                <a:chOff x="1193400" y="1306800"/>
                <a:chExt cx="425520" cy="491400"/>
              </a:xfrm>
            </p:grpSpPr>
            <p:sp>
              <p:nvSpPr>
                <p:cNvPr id="1587" name="Freeform 1939"/>
                <p:cNvSpPr/>
                <p:nvPr/>
              </p:nvSpPr>
              <p:spPr>
                <a:xfrm rot="15123000">
                  <a:off x="1237680" y="1416600"/>
                  <a:ext cx="336240" cy="338400"/>
                </a:xfrm>
                <a:custGeom>
                  <a:avLst/>
                  <a:gdLst>
                    <a:gd name="textAreaLeft" fmla="*/ 0 w 336240"/>
                    <a:gd name="textAreaRight" fmla="*/ 336600 w 336240"/>
                    <a:gd name="textAreaTop" fmla="*/ 0 h 338400"/>
                    <a:gd name="textAreaBottom" fmla="*/ 338760 h 33840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Freeform 1940"/>
                <p:cNvSpPr/>
                <p:nvPr/>
              </p:nvSpPr>
              <p:spPr>
                <a:xfrm rot="15123000">
                  <a:off x="1247400" y="1496160"/>
                  <a:ext cx="284760" cy="160920"/>
                </a:xfrm>
                <a:custGeom>
                  <a:avLst/>
                  <a:gdLst>
                    <a:gd name="textAreaLeft" fmla="*/ 0 w 284760"/>
                    <a:gd name="textAreaRight" fmla="*/ 285120 w 284760"/>
                    <a:gd name="textAreaTop" fmla="*/ 0 h 160920"/>
                    <a:gd name="textAreaBottom" fmla="*/ 161280 h 16092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Freeform 1941"/>
                <p:cNvSpPr/>
                <p:nvPr/>
              </p:nvSpPr>
              <p:spPr>
                <a:xfrm rot="15123000">
                  <a:off x="1153440" y="1434240"/>
                  <a:ext cx="414360" cy="200160"/>
                </a:xfrm>
                <a:custGeom>
                  <a:avLst/>
                  <a:gdLst>
                    <a:gd name="textAreaLeft" fmla="*/ 0 w 414360"/>
                    <a:gd name="textAreaRight" fmla="*/ 414720 w 414360"/>
                    <a:gd name="textAreaTop" fmla="*/ 0 h 200160"/>
                    <a:gd name="textAreaBottom" fmla="*/ 200520 h 20016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Freeform 1942"/>
                <p:cNvSpPr/>
                <p:nvPr/>
              </p:nvSpPr>
              <p:spPr>
                <a:xfrm rot="15123000">
                  <a:off x="1341000" y="1607760"/>
                  <a:ext cx="134640" cy="20160"/>
                </a:xfrm>
                <a:custGeom>
                  <a:avLst/>
                  <a:gdLst>
                    <a:gd name="textAreaLeft" fmla="*/ 0 w 134640"/>
                    <a:gd name="textAreaRight" fmla="*/ 135000 w 134640"/>
                    <a:gd name="textAreaTop" fmla="*/ 0 h 20160"/>
                    <a:gd name="textAreaBottom" fmla="*/ 20520 h 2016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Freeform 1943"/>
                <p:cNvSpPr/>
                <p:nvPr/>
              </p:nvSpPr>
              <p:spPr>
                <a:xfrm rot="15123000">
                  <a:off x="1251360" y="1558080"/>
                  <a:ext cx="174240" cy="73800"/>
                </a:xfrm>
                <a:custGeom>
                  <a:avLst/>
                  <a:gdLst>
                    <a:gd name="textAreaLeft" fmla="*/ 0 w 174240"/>
                    <a:gd name="textAreaRight" fmla="*/ 174600 w 1742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Freeform 1944"/>
                <p:cNvSpPr/>
                <p:nvPr/>
              </p:nvSpPr>
              <p:spPr>
                <a:xfrm rot="15123000">
                  <a:off x="1199160" y="1527120"/>
                  <a:ext cx="191880" cy="97560"/>
                </a:xfrm>
                <a:custGeom>
                  <a:avLst/>
                  <a:gdLst>
                    <a:gd name="textAreaLeft" fmla="*/ 0 w 191880"/>
                    <a:gd name="textAreaRight" fmla="*/ 192240 w 19188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Freeform 1945"/>
                <p:cNvSpPr/>
                <p:nvPr/>
              </p:nvSpPr>
              <p:spPr>
                <a:xfrm rot="15123000">
                  <a:off x="1408680" y="1636200"/>
                  <a:ext cx="79920" cy="129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Freeform 1946"/>
                <p:cNvSpPr/>
                <p:nvPr/>
              </p:nvSpPr>
              <p:spPr>
                <a:xfrm rot="15123000">
                  <a:off x="1462680" y="1667160"/>
                  <a:ext cx="41760" cy="504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5" name="Freeform 1947"/>
                <p:cNvSpPr/>
                <p:nvPr/>
              </p:nvSpPr>
              <p:spPr>
                <a:xfrm rot="15123000">
                  <a:off x="1478160" y="1634760"/>
                  <a:ext cx="29880" cy="342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34200"/>
                    <a:gd name="textAreaBottom" fmla="*/ 34560 h 3420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Freeform 1948"/>
                <p:cNvSpPr/>
                <p:nvPr/>
              </p:nvSpPr>
              <p:spPr>
                <a:xfrm rot="15123000">
                  <a:off x="1452240" y="1586880"/>
                  <a:ext cx="53280" cy="64080"/>
                </a:xfrm>
                <a:custGeom>
                  <a:avLst/>
                  <a:gdLst>
                    <a:gd name="textAreaLeft" fmla="*/ 0 w 53280"/>
                    <a:gd name="textAreaRight" fmla="*/ 53640 w 53280"/>
                    <a:gd name="textAreaTop" fmla="*/ 0 h 64080"/>
                    <a:gd name="textAreaBottom" fmla="*/ 64440 h 6408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7" name="Freeform 1949"/>
                <p:cNvSpPr/>
                <p:nvPr/>
              </p:nvSpPr>
              <p:spPr>
                <a:xfrm rot="15123000">
                  <a:off x="1414800" y="1513800"/>
                  <a:ext cx="85320" cy="11268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8" name="Freeform 1950"/>
                <p:cNvSpPr/>
                <p:nvPr/>
              </p:nvSpPr>
              <p:spPr>
                <a:xfrm rot="15123000">
                  <a:off x="1390320" y="1435320"/>
                  <a:ext cx="92160" cy="1641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64160"/>
                    <a:gd name="textAreaBottom" fmla="*/ 164520 h 16416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Freeform 1951"/>
                <p:cNvSpPr/>
                <p:nvPr/>
              </p:nvSpPr>
              <p:spPr>
                <a:xfrm rot="15123000">
                  <a:off x="1482480" y="1469880"/>
                  <a:ext cx="10080" cy="6552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65520"/>
                    <a:gd name="textAreaBottom" fmla="*/ 65880 h 6552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Freeform 1952"/>
                <p:cNvSpPr/>
                <p:nvPr/>
              </p:nvSpPr>
              <p:spPr>
                <a:xfrm rot="15123000">
                  <a:off x="1381680" y="1362240"/>
                  <a:ext cx="63000" cy="20268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202680"/>
                    <a:gd name="textAreaBottom" fmla="*/ 203040 h 20268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Freeform 1953"/>
                <p:cNvSpPr/>
                <p:nvPr/>
              </p:nvSpPr>
              <p:spPr>
                <a:xfrm rot="15123000">
                  <a:off x="1411200" y="1506960"/>
                  <a:ext cx="46800" cy="32040"/>
                </a:xfrm>
                <a:custGeom>
                  <a:avLst/>
                  <a:gdLst>
                    <a:gd name="textAreaLeft" fmla="*/ 0 w 46800"/>
                    <a:gd name="textAreaRight" fmla="*/ 47160 w 4680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Freeform 1954"/>
                <p:cNvSpPr/>
                <p:nvPr/>
              </p:nvSpPr>
              <p:spPr>
                <a:xfrm rot="15123000">
                  <a:off x="1482480" y="1543680"/>
                  <a:ext cx="23040" cy="51840"/>
                </a:xfrm>
                <a:custGeom>
                  <a:avLst/>
                  <a:gdLst>
                    <a:gd name="textAreaLeft" fmla="*/ 0 w 23040"/>
                    <a:gd name="textAreaRight" fmla="*/ 23400 w 2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Freeform 1955"/>
                <p:cNvSpPr/>
                <p:nvPr/>
              </p:nvSpPr>
              <p:spPr>
                <a:xfrm rot="15123000">
                  <a:off x="1389960" y="1627920"/>
                  <a:ext cx="49320" cy="1116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Freeform 1956"/>
                <p:cNvSpPr/>
                <p:nvPr/>
              </p:nvSpPr>
              <p:spPr>
                <a:xfrm rot="15123000">
                  <a:off x="1385280" y="1644480"/>
                  <a:ext cx="29880" cy="1944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5" name="Freeform 1957"/>
                <p:cNvSpPr/>
                <p:nvPr/>
              </p:nvSpPr>
              <p:spPr>
                <a:xfrm rot="15123000">
                  <a:off x="1464840" y="1532520"/>
                  <a:ext cx="10080" cy="1224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Freeform 1958"/>
                <p:cNvSpPr/>
                <p:nvPr/>
              </p:nvSpPr>
              <p:spPr>
                <a:xfrm rot="15123000">
                  <a:off x="1366920" y="1630800"/>
                  <a:ext cx="8640" cy="7200"/>
                </a:xfrm>
                <a:custGeom>
                  <a:avLst/>
                  <a:gdLst>
                    <a:gd name="textAreaLeft" fmla="*/ 0 w 8640"/>
                    <a:gd name="textAreaRight" fmla="*/ 9000 w 864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7" name="Freeform 1959"/>
                <p:cNvSpPr/>
                <p:nvPr/>
              </p:nvSpPr>
              <p:spPr>
                <a:xfrm rot="15123000">
                  <a:off x="1315800" y="1610280"/>
                  <a:ext cx="10080" cy="972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8" name="Freeform 1960"/>
                <p:cNvSpPr/>
                <p:nvPr/>
              </p:nvSpPr>
              <p:spPr>
                <a:xfrm rot="15123000">
                  <a:off x="1437120" y="1679040"/>
                  <a:ext cx="7560" cy="504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9" name="Group 1523"/>
              <p:cNvGrpSpPr/>
              <p:nvPr/>
            </p:nvGrpSpPr>
            <p:grpSpPr>
              <a:xfrm>
                <a:off x="1200600" y="1378800"/>
                <a:ext cx="31320" cy="35640"/>
                <a:chOff x="1200600" y="1378800"/>
                <a:chExt cx="31320" cy="35640"/>
              </a:xfrm>
            </p:grpSpPr>
            <p:sp>
              <p:nvSpPr>
                <p:cNvPr id="1610" name="Freeform 1962"/>
                <p:cNvSpPr/>
                <p:nvPr/>
              </p:nvSpPr>
              <p:spPr>
                <a:xfrm rot="10758000">
                  <a:off x="1200600" y="1378800"/>
                  <a:ext cx="28080" cy="3528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35280"/>
                    <a:gd name="textAreaBottom" fmla="*/ 35640 h 3528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1" name="Freeform 1963"/>
                <p:cNvSpPr/>
                <p:nvPr/>
              </p:nvSpPr>
              <p:spPr>
                <a:xfrm rot="7111800">
                  <a:off x="1210680" y="1386360"/>
                  <a:ext cx="18000" cy="1728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12" name="AutoShape 1982"/>
          <p:cNvSpPr/>
          <p:nvPr/>
        </p:nvSpPr>
        <p:spPr>
          <a:xfrm>
            <a:off x="3924360" y="-4960800"/>
            <a:ext cx="9955080" cy="9937440"/>
          </a:xfrm>
          <a:prstGeom prst="sun">
            <a:avLst>
              <a:gd name="adj" fmla="val 39074"/>
            </a:avLst>
          </a:prstGeom>
          <a:blipFill rotWithShape="0">
            <a:blip r:embed="rId40">
              <a:alphaModFix amt="6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3" name="Picture 1981" descr="MCj04460980000[1]"/>
          <p:cNvPicPr/>
          <p:nvPr/>
        </p:nvPicPr>
        <p:blipFill>
          <a:blip r:embed="rId41"/>
          <a:stretch/>
        </p:blipFill>
        <p:spPr>
          <a:xfrm rot="5073600">
            <a:off x="7481880" y="-461880"/>
            <a:ext cx="1403280" cy="2327040"/>
          </a:xfrm>
          <a:prstGeom prst="rect">
            <a:avLst/>
          </a:prstGeom>
          <a:ln w="0">
            <a:noFill/>
          </a:ln>
        </p:spPr>
      </p:pic>
      <p:grpSp>
        <p:nvGrpSpPr>
          <p:cNvPr id="1614" name="Group 1528"/>
          <p:cNvGrpSpPr/>
          <p:nvPr/>
        </p:nvGrpSpPr>
        <p:grpSpPr>
          <a:xfrm>
            <a:off x="4722480" y="5213520"/>
            <a:ext cx="491400" cy="1253520"/>
            <a:chOff x="4722480" y="5213520"/>
            <a:chExt cx="491400" cy="1253520"/>
          </a:xfrm>
        </p:grpSpPr>
        <p:pic>
          <p:nvPicPr>
            <p:cNvPr id="1615" name="Picture 1967" descr="MCj04456520000[1]"/>
            <p:cNvPicPr/>
            <p:nvPr/>
          </p:nvPicPr>
          <p:blipFill>
            <a:blip r:embed="rId42"/>
            <a:stretch/>
          </p:blipFill>
          <p:spPr>
            <a:xfrm rot="21224400">
              <a:off x="4754160" y="5231160"/>
              <a:ext cx="358920" cy="60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6" name="Rectangle 1984"/>
            <p:cNvSpPr/>
            <p:nvPr/>
          </p:nvSpPr>
          <p:spPr>
            <a:xfrm rot="21224400">
              <a:off x="4821480" y="5846400"/>
              <a:ext cx="36036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7" name="Group 1531"/>
          <p:cNvGrpSpPr/>
          <p:nvPr/>
        </p:nvGrpSpPr>
        <p:grpSpPr>
          <a:xfrm>
            <a:off x="7034760" y="4851360"/>
            <a:ext cx="499320" cy="1325160"/>
            <a:chOff x="7034760" y="4851360"/>
            <a:chExt cx="499320" cy="1325160"/>
          </a:xfrm>
        </p:grpSpPr>
        <p:pic>
          <p:nvPicPr>
            <p:cNvPr id="1618" name="Picture 1987" descr="MCj04456520000[1]"/>
            <p:cNvPicPr/>
            <p:nvPr/>
          </p:nvPicPr>
          <p:blipFill>
            <a:blip r:embed="rId43"/>
            <a:stretch/>
          </p:blipFill>
          <p:spPr>
            <a:xfrm rot="21224400">
              <a:off x="7068240" y="4869000"/>
              <a:ext cx="35892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9" name="Rectangle 1988"/>
            <p:cNvSpPr/>
            <p:nvPr/>
          </p:nvSpPr>
          <p:spPr>
            <a:xfrm rot="21224400">
              <a:off x="7139880" y="5520600"/>
              <a:ext cx="3603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Group 1534"/>
          <p:cNvGrpSpPr/>
          <p:nvPr/>
        </p:nvGrpSpPr>
        <p:grpSpPr>
          <a:xfrm>
            <a:off x="472680" y="4924800"/>
            <a:ext cx="507240" cy="1395720"/>
            <a:chOff x="472680" y="4924800"/>
            <a:chExt cx="507240" cy="1395720"/>
          </a:xfrm>
        </p:grpSpPr>
        <p:pic>
          <p:nvPicPr>
            <p:cNvPr id="1621" name="Picture 1990" descr="MCj04456520000[1]"/>
            <p:cNvPicPr/>
            <p:nvPr/>
          </p:nvPicPr>
          <p:blipFill>
            <a:blip r:embed="rId44"/>
            <a:stretch/>
          </p:blipFill>
          <p:spPr>
            <a:xfrm rot="21224400">
              <a:off x="507960" y="4942440"/>
              <a:ext cx="35892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2" name="Rectangle 1991"/>
            <p:cNvSpPr/>
            <p:nvPr/>
          </p:nvSpPr>
          <p:spPr>
            <a:xfrm rot="21224400">
              <a:off x="583560" y="5629320"/>
              <a:ext cx="3603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3" name="Group 1537"/>
          <p:cNvGrpSpPr/>
          <p:nvPr/>
        </p:nvGrpSpPr>
        <p:grpSpPr>
          <a:xfrm>
            <a:off x="7087680" y="5299560"/>
            <a:ext cx="367920" cy="368640"/>
            <a:chOff x="7087680" y="5299560"/>
            <a:chExt cx="367920" cy="368640"/>
          </a:xfrm>
        </p:grpSpPr>
        <p:grpSp>
          <p:nvGrpSpPr>
            <p:cNvPr id="1624" name="Group 1538"/>
            <p:cNvGrpSpPr/>
            <p:nvPr/>
          </p:nvGrpSpPr>
          <p:grpSpPr>
            <a:xfrm>
              <a:off x="7091280" y="5302080"/>
              <a:ext cx="363240" cy="363240"/>
              <a:chOff x="7091280" y="5302080"/>
              <a:chExt cx="363240" cy="363240"/>
            </a:xfrm>
          </p:grpSpPr>
          <p:grpSp>
            <p:nvGrpSpPr>
              <p:cNvPr id="1625" name="Group 1539"/>
              <p:cNvGrpSpPr/>
              <p:nvPr/>
            </p:nvGrpSpPr>
            <p:grpSpPr>
              <a:xfrm>
                <a:off x="7091280" y="5302080"/>
                <a:ext cx="363240" cy="363240"/>
                <a:chOff x="7091280" y="5302080"/>
                <a:chExt cx="363240" cy="363240"/>
              </a:xfrm>
            </p:grpSpPr>
            <p:sp>
              <p:nvSpPr>
                <p:cNvPr id="1626" name="Oval 211"/>
                <p:cNvSpPr/>
                <p:nvPr/>
              </p:nvSpPr>
              <p:spPr>
                <a:xfrm>
                  <a:off x="7091280" y="54460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Oval 212"/>
                <p:cNvSpPr/>
                <p:nvPr/>
              </p:nvSpPr>
              <p:spPr>
                <a:xfrm rot="5400000">
                  <a:off x="709056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8" name="Group 1542"/>
              <p:cNvGrpSpPr/>
              <p:nvPr/>
            </p:nvGrpSpPr>
            <p:grpSpPr>
              <a:xfrm>
                <a:off x="7112520" y="5325840"/>
                <a:ext cx="317160" cy="317880"/>
                <a:chOff x="7112520" y="5325840"/>
                <a:chExt cx="317160" cy="317880"/>
              </a:xfrm>
            </p:grpSpPr>
            <p:sp>
              <p:nvSpPr>
                <p:cNvPr id="1629" name="Oval 214"/>
                <p:cNvSpPr/>
                <p:nvPr/>
              </p:nvSpPr>
              <p:spPr>
                <a:xfrm rot="2700000">
                  <a:off x="7088400" y="54450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Oval 215"/>
                <p:cNvSpPr/>
                <p:nvPr/>
              </p:nvSpPr>
              <p:spPr>
                <a:xfrm rot="8100000">
                  <a:off x="709020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31" name="Group 1545"/>
            <p:cNvGrpSpPr/>
            <p:nvPr/>
          </p:nvGrpSpPr>
          <p:grpSpPr>
            <a:xfrm>
              <a:off x="7087680" y="5299560"/>
              <a:ext cx="367920" cy="368640"/>
              <a:chOff x="7087680" y="5299560"/>
              <a:chExt cx="367920" cy="368640"/>
            </a:xfrm>
          </p:grpSpPr>
          <p:grpSp>
            <p:nvGrpSpPr>
              <p:cNvPr id="1632" name="Group 1546"/>
              <p:cNvGrpSpPr/>
              <p:nvPr/>
            </p:nvGrpSpPr>
            <p:grpSpPr>
              <a:xfrm>
                <a:off x="7087680" y="5299560"/>
                <a:ext cx="367920" cy="367920"/>
                <a:chOff x="7087680" y="5299560"/>
                <a:chExt cx="367920" cy="367920"/>
              </a:xfrm>
            </p:grpSpPr>
            <p:sp>
              <p:nvSpPr>
                <p:cNvPr id="1633" name="Oval 218"/>
                <p:cNvSpPr/>
                <p:nvPr/>
              </p:nvSpPr>
              <p:spPr>
                <a:xfrm rot="1320000">
                  <a:off x="7089840" y="54453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4" name="Oval 219"/>
                <p:cNvSpPr/>
                <p:nvPr/>
              </p:nvSpPr>
              <p:spPr>
                <a:xfrm rot="6720000">
                  <a:off x="709056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5" name="Group 1549"/>
              <p:cNvGrpSpPr/>
              <p:nvPr/>
            </p:nvGrpSpPr>
            <p:grpSpPr>
              <a:xfrm>
                <a:off x="7089120" y="5301720"/>
                <a:ext cx="366480" cy="366480"/>
                <a:chOff x="7089120" y="5301720"/>
                <a:chExt cx="366480" cy="366480"/>
              </a:xfrm>
            </p:grpSpPr>
            <p:sp>
              <p:nvSpPr>
                <p:cNvPr id="1636" name="Oval 221"/>
                <p:cNvSpPr/>
                <p:nvPr/>
              </p:nvSpPr>
              <p:spPr>
                <a:xfrm rot="4020000">
                  <a:off x="7087680" y="54435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Oval 222"/>
                <p:cNvSpPr/>
                <p:nvPr/>
              </p:nvSpPr>
              <p:spPr>
                <a:xfrm rot="9420000">
                  <a:off x="7090560" y="544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38" name="Oval 223"/>
            <p:cNvSpPr/>
            <p:nvPr/>
          </p:nvSpPr>
          <p:spPr>
            <a:xfrm>
              <a:off x="7213320" y="5430240"/>
              <a:ext cx="118800" cy="105840"/>
            </a:xfrm>
            <a:prstGeom prst="ellipse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9" name="Group 1553"/>
          <p:cNvGrpSpPr/>
          <p:nvPr/>
        </p:nvGrpSpPr>
        <p:grpSpPr>
          <a:xfrm>
            <a:off x="536040" y="5298120"/>
            <a:ext cx="367920" cy="368640"/>
            <a:chOff x="536040" y="5298120"/>
            <a:chExt cx="367920" cy="368640"/>
          </a:xfrm>
        </p:grpSpPr>
        <p:grpSp>
          <p:nvGrpSpPr>
            <p:cNvPr id="1640" name="Group 1554"/>
            <p:cNvGrpSpPr/>
            <p:nvPr/>
          </p:nvGrpSpPr>
          <p:grpSpPr>
            <a:xfrm>
              <a:off x="539640" y="5300640"/>
              <a:ext cx="363240" cy="363240"/>
              <a:chOff x="539640" y="5300640"/>
              <a:chExt cx="363240" cy="363240"/>
            </a:xfrm>
          </p:grpSpPr>
          <p:grpSp>
            <p:nvGrpSpPr>
              <p:cNvPr id="1641" name="Group 1555"/>
              <p:cNvGrpSpPr/>
              <p:nvPr/>
            </p:nvGrpSpPr>
            <p:grpSpPr>
              <a:xfrm>
                <a:off x="539640" y="5300640"/>
                <a:ext cx="363240" cy="363240"/>
                <a:chOff x="539640" y="5300640"/>
                <a:chExt cx="363240" cy="363240"/>
              </a:xfrm>
            </p:grpSpPr>
            <p:sp>
              <p:nvSpPr>
                <p:cNvPr id="1642" name="Oval 515"/>
                <p:cNvSpPr/>
                <p:nvPr/>
              </p:nvSpPr>
              <p:spPr>
                <a:xfrm>
                  <a:off x="539640" y="54446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Oval 516"/>
                <p:cNvSpPr/>
                <p:nvPr/>
              </p:nvSpPr>
              <p:spPr>
                <a:xfrm rot="5400000">
                  <a:off x="538920" y="544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4" name="Group 1558"/>
              <p:cNvGrpSpPr/>
              <p:nvPr/>
            </p:nvGrpSpPr>
            <p:grpSpPr>
              <a:xfrm>
                <a:off x="560880" y="5324400"/>
                <a:ext cx="317160" cy="317880"/>
                <a:chOff x="560880" y="5324400"/>
                <a:chExt cx="317160" cy="317880"/>
              </a:xfrm>
            </p:grpSpPr>
            <p:sp>
              <p:nvSpPr>
                <p:cNvPr id="1645" name="Oval 518"/>
                <p:cNvSpPr/>
                <p:nvPr/>
              </p:nvSpPr>
              <p:spPr>
                <a:xfrm rot="2700000">
                  <a:off x="536760" y="54435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6" name="Oval 519"/>
                <p:cNvSpPr/>
                <p:nvPr/>
              </p:nvSpPr>
              <p:spPr>
                <a:xfrm rot="8100000">
                  <a:off x="538560" y="544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7" name="Group 1561"/>
            <p:cNvGrpSpPr/>
            <p:nvPr/>
          </p:nvGrpSpPr>
          <p:grpSpPr>
            <a:xfrm>
              <a:off x="536040" y="5298120"/>
              <a:ext cx="367920" cy="368640"/>
              <a:chOff x="536040" y="5298120"/>
              <a:chExt cx="367920" cy="368640"/>
            </a:xfrm>
          </p:grpSpPr>
          <p:grpSp>
            <p:nvGrpSpPr>
              <p:cNvPr id="1648" name="Group 1562"/>
              <p:cNvGrpSpPr/>
              <p:nvPr/>
            </p:nvGrpSpPr>
            <p:grpSpPr>
              <a:xfrm>
                <a:off x="536040" y="5298120"/>
                <a:ext cx="367920" cy="367920"/>
                <a:chOff x="536040" y="5298120"/>
                <a:chExt cx="367920" cy="367920"/>
              </a:xfrm>
            </p:grpSpPr>
            <p:sp>
              <p:nvSpPr>
                <p:cNvPr id="1649" name="Oval 522"/>
                <p:cNvSpPr/>
                <p:nvPr/>
              </p:nvSpPr>
              <p:spPr>
                <a:xfrm rot="1320000">
                  <a:off x="538200" y="54439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0" name="Oval 523"/>
                <p:cNvSpPr/>
                <p:nvPr/>
              </p:nvSpPr>
              <p:spPr>
                <a:xfrm rot="6720000">
                  <a:off x="538920" y="544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1" name="Group 1565"/>
              <p:cNvGrpSpPr/>
              <p:nvPr/>
            </p:nvGrpSpPr>
            <p:grpSpPr>
              <a:xfrm>
                <a:off x="537480" y="5300280"/>
                <a:ext cx="366480" cy="366480"/>
                <a:chOff x="537480" y="5300280"/>
                <a:chExt cx="366480" cy="366480"/>
              </a:xfrm>
            </p:grpSpPr>
            <p:sp>
              <p:nvSpPr>
                <p:cNvPr id="1652" name="Oval 525"/>
                <p:cNvSpPr/>
                <p:nvPr/>
              </p:nvSpPr>
              <p:spPr>
                <a:xfrm rot="4020000">
                  <a:off x="53604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3" name="Oval 526"/>
                <p:cNvSpPr/>
                <p:nvPr/>
              </p:nvSpPr>
              <p:spPr>
                <a:xfrm rot="9420000">
                  <a:off x="538920" y="54403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4" name="Oval 527"/>
            <p:cNvSpPr/>
            <p:nvPr/>
          </p:nvSpPr>
          <p:spPr>
            <a:xfrm>
              <a:off x="661680" y="5428800"/>
              <a:ext cx="118800" cy="105840"/>
            </a:xfrm>
            <a:prstGeom prst="ellipse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5" name="Group 1569"/>
          <p:cNvGrpSpPr/>
          <p:nvPr/>
        </p:nvGrpSpPr>
        <p:grpSpPr>
          <a:xfrm>
            <a:off x="6012000" y="765000"/>
            <a:ext cx="844560" cy="844560"/>
            <a:chOff x="6012000" y="765000"/>
            <a:chExt cx="844560" cy="844560"/>
          </a:xfrm>
        </p:grpSpPr>
        <p:sp>
          <p:nvSpPr>
            <p:cNvPr id="1656" name="AutoShape 1993"/>
            <p:cNvSpPr/>
            <p:nvPr/>
          </p:nvSpPr>
          <p:spPr>
            <a:xfrm>
              <a:off x="6012000" y="765000"/>
              <a:ext cx="844560" cy="844560"/>
            </a:xfrm>
            <a:custGeom>
              <a:avLst/>
              <a:gdLst>
                <a:gd name="textAreaLeft" fmla="*/ 348120 w 844560"/>
                <a:gd name="textAreaRight" fmla="*/ 496440 w 844560"/>
                <a:gd name="textAreaTop" fmla="*/ 348120 h 844560"/>
                <a:gd name="textAreaBottom" fmla="*/ 496440 h 8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AutoShape 1994"/>
            <p:cNvSpPr/>
            <p:nvPr/>
          </p:nvSpPr>
          <p:spPr>
            <a:xfrm rot="2700000">
              <a:off x="6180480" y="933480"/>
              <a:ext cx="507960" cy="506520"/>
            </a:xfrm>
            <a:custGeom>
              <a:avLst/>
              <a:gdLst>
                <a:gd name="textAreaLeft" fmla="*/ 209160 w 507960"/>
                <a:gd name="textAreaRight" fmla="*/ 298800 w 507960"/>
                <a:gd name="textAreaTop" fmla="*/ 208800 h 506520"/>
                <a:gd name="textAreaBottom" fmla="*/ 2977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Oval 1995"/>
            <p:cNvSpPr/>
            <p:nvPr/>
          </p:nvSpPr>
          <p:spPr>
            <a:xfrm>
              <a:off x="6308640" y="1061640"/>
              <a:ext cx="250920" cy="250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Group 1573"/>
          <p:cNvGrpSpPr/>
          <p:nvPr/>
        </p:nvGrpSpPr>
        <p:grpSpPr>
          <a:xfrm>
            <a:off x="4572000" y="1628640"/>
            <a:ext cx="844560" cy="844560"/>
            <a:chOff x="4572000" y="1628640"/>
            <a:chExt cx="844560" cy="844560"/>
          </a:xfrm>
        </p:grpSpPr>
        <p:sp>
          <p:nvSpPr>
            <p:cNvPr id="1660" name="AutoShape 1997"/>
            <p:cNvSpPr/>
            <p:nvPr/>
          </p:nvSpPr>
          <p:spPr>
            <a:xfrm>
              <a:off x="4572000" y="1628640"/>
              <a:ext cx="844560" cy="844560"/>
            </a:xfrm>
            <a:custGeom>
              <a:avLst/>
              <a:gdLst>
                <a:gd name="textAreaLeft" fmla="*/ 348120 w 844560"/>
                <a:gd name="textAreaRight" fmla="*/ 496440 w 844560"/>
                <a:gd name="textAreaTop" fmla="*/ 348120 h 844560"/>
                <a:gd name="textAreaBottom" fmla="*/ 496440 h 8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AutoShape 1998"/>
            <p:cNvSpPr/>
            <p:nvPr/>
          </p:nvSpPr>
          <p:spPr>
            <a:xfrm rot="2700000">
              <a:off x="4740480" y="1797120"/>
              <a:ext cx="507960" cy="506520"/>
            </a:xfrm>
            <a:custGeom>
              <a:avLst/>
              <a:gdLst>
                <a:gd name="textAreaLeft" fmla="*/ 209160 w 507960"/>
                <a:gd name="textAreaRight" fmla="*/ 298800 w 507960"/>
                <a:gd name="textAreaTop" fmla="*/ 208800 h 506520"/>
                <a:gd name="textAreaBottom" fmla="*/ 2977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Oval 1999"/>
            <p:cNvSpPr/>
            <p:nvPr/>
          </p:nvSpPr>
          <p:spPr>
            <a:xfrm>
              <a:off x="4868640" y="1925280"/>
              <a:ext cx="250920" cy="250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3" name="Group 1577"/>
          <p:cNvGrpSpPr/>
          <p:nvPr/>
        </p:nvGrpSpPr>
        <p:grpSpPr>
          <a:xfrm>
            <a:off x="2916360" y="620640"/>
            <a:ext cx="844560" cy="844560"/>
            <a:chOff x="2916360" y="620640"/>
            <a:chExt cx="844560" cy="844560"/>
          </a:xfrm>
        </p:grpSpPr>
        <p:sp>
          <p:nvSpPr>
            <p:cNvPr id="1664" name="AutoShape 2001"/>
            <p:cNvSpPr/>
            <p:nvPr/>
          </p:nvSpPr>
          <p:spPr>
            <a:xfrm>
              <a:off x="2916360" y="620640"/>
              <a:ext cx="844560" cy="844560"/>
            </a:xfrm>
            <a:custGeom>
              <a:avLst/>
              <a:gdLst>
                <a:gd name="textAreaLeft" fmla="*/ 348120 w 844560"/>
                <a:gd name="textAreaRight" fmla="*/ 496440 w 844560"/>
                <a:gd name="textAreaTop" fmla="*/ 348120 h 844560"/>
                <a:gd name="textAreaBottom" fmla="*/ 496440 h 8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AutoShape 2002"/>
            <p:cNvSpPr/>
            <p:nvPr/>
          </p:nvSpPr>
          <p:spPr>
            <a:xfrm rot="2700000">
              <a:off x="3084840" y="789120"/>
              <a:ext cx="507960" cy="506520"/>
            </a:xfrm>
            <a:custGeom>
              <a:avLst/>
              <a:gdLst>
                <a:gd name="textAreaLeft" fmla="*/ 209160 w 507960"/>
                <a:gd name="textAreaRight" fmla="*/ 298800 w 507960"/>
                <a:gd name="textAreaTop" fmla="*/ 208800 h 506520"/>
                <a:gd name="textAreaBottom" fmla="*/ 2977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Oval 2003"/>
            <p:cNvSpPr/>
            <p:nvPr/>
          </p:nvSpPr>
          <p:spPr>
            <a:xfrm>
              <a:off x="3213000" y="917280"/>
              <a:ext cx="250920" cy="250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7" name="Group 1581"/>
          <p:cNvGrpSpPr/>
          <p:nvPr/>
        </p:nvGrpSpPr>
        <p:grpSpPr>
          <a:xfrm>
            <a:off x="1979640" y="1197000"/>
            <a:ext cx="576360" cy="576360"/>
            <a:chOff x="1979640" y="1197000"/>
            <a:chExt cx="576360" cy="576360"/>
          </a:xfrm>
        </p:grpSpPr>
        <p:sp>
          <p:nvSpPr>
            <p:cNvPr id="1668" name="AutoShape 2005"/>
            <p:cNvSpPr/>
            <p:nvPr/>
          </p:nvSpPr>
          <p:spPr>
            <a:xfrm>
              <a:off x="1979640" y="119700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AutoShape 2006"/>
            <p:cNvSpPr/>
            <p:nvPr/>
          </p:nvSpPr>
          <p:spPr>
            <a:xfrm rot="2700000">
              <a:off x="2089800" y="130752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Oval 2007"/>
            <p:cNvSpPr/>
            <p:nvPr/>
          </p:nvSpPr>
          <p:spPr>
            <a:xfrm>
              <a:off x="2183040" y="1400400"/>
              <a:ext cx="169920" cy="16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1" name="Group 1585"/>
          <p:cNvGrpSpPr/>
          <p:nvPr/>
        </p:nvGrpSpPr>
        <p:grpSpPr>
          <a:xfrm>
            <a:off x="4149720" y="549360"/>
            <a:ext cx="709560" cy="709560"/>
            <a:chOff x="4149720" y="549360"/>
            <a:chExt cx="709560" cy="709560"/>
          </a:xfrm>
        </p:grpSpPr>
        <p:sp>
          <p:nvSpPr>
            <p:cNvPr id="1672" name="AutoShape 2009"/>
            <p:cNvSpPr/>
            <p:nvPr/>
          </p:nvSpPr>
          <p:spPr>
            <a:xfrm>
              <a:off x="4149720" y="549360"/>
              <a:ext cx="709560" cy="709560"/>
            </a:xfrm>
            <a:custGeom>
              <a:avLst/>
              <a:gdLst>
                <a:gd name="textAreaLeft" fmla="*/ 292320 w 709560"/>
                <a:gd name="textAreaRight" fmla="*/ 417240 w 709560"/>
                <a:gd name="textAreaTop" fmla="*/ 292320 h 709560"/>
                <a:gd name="textAreaBottom" fmla="*/ 417240 h 7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AutoShape 2010"/>
            <p:cNvSpPr/>
            <p:nvPr/>
          </p:nvSpPr>
          <p:spPr>
            <a:xfrm rot="2700000">
              <a:off x="4285080" y="684360"/>
              <a:ext cx="427320" cy="425160"/>
            </a:xfrm>
            <a:custGeom>
              <a:avLst/>
              <a:gdLst>
                <a:gd name="textAreaLeft" fmla="*/ 176040 w 427320"/>
                <a:gd name="textAreaRight" fmla="*/ 251280 w 427320"/>
                <a:gd name="textAreaTop" fmla="*/ 175320 h 425160"/>
                <a:gd name="textAreaBottom" fmla="*/ 249840 h 42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Oval 2011"/>
            <p:cNvSpPr/>
            <p:nvPr/>
          </p:nvSpPr>
          <p:spPr>
            <a:xfrm>
              <a:off x="4398840" y="798480"/>
              <a:ext cx="210960" cy="21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5" name="Group 1589"/>
          <p:cNvGrpSpPr/>
          <p:nvPr/>
        </p:nvGrpSpPr>
        <p:grpSpPr>
          <a:xfrm>
            <a:off x="1403280" y="2421000"/>
            <a:ext cx="576360" cy="576360"/>
            <a:chOff x="1403280" y="2421000"/>
            <a:chExt cx="576360" cy="576360"/>
          </a:xfrm>
        </p:grpSpPr>
        <p:sp>
          <p:nvSpPr>
            <p:cNvPr id="1676" name="AutoShape 2013"/>
            <p:cNvSpPr/>
            <p:nvPr/>
          </p:nvSpPr>
          <p:spPr>
            <a:xfrm>
              <a:off x="1403280" y="242100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AutoShape 2014"/>
            <p:cNvSpPr/>
            <p:nvPr/>
          </p:nvSpPr>
          <p:spPr>
            <a:xfrm rot="2700000">
              <a:off x="1513440" y="253152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Oval 2015"/>
            <p:cNvSpPr/>
            <p:nvPr/>
          </p:nvSpPr>
          <p:spPr>
            <a:xfrm>
              <a:off x="1606680" y="2624400"/>
              <a:ext cx="169920" cy="16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9" name="Group 1593"/>
          <p:cNvGrpSpPr/>
          <p:nvPr/>
        </p:nvGrpSpPr>
        <p:grpSpPr>
          <a:xfrm>
            <a:off x="1763640" y="3933720"/>
            <a:ext cx="576360" cy="576360"/>
            <a:chOff x="1763640" y="3933720"/>
            <a:chExt cx="576360" cy="576360"/>
          </a:xfrm>
        </p:grpSpPr>
        <p:sp>
          <p:nvSpPr>
            <p:cNvPr id="1680" name="AutoShape 2017"/>
            <p:cNvSpPr/>
            <p:nvPr/>
          </p:nvSpPr>
          <p:spPr>
            <a:xfrm>
              <a:off x="1763640" y="393372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AutoShape 2018"/>
            <p:cNvSpPr/>
            <p:nvPr/>
          </p:nvSpPr>
          <p:spPr>
            <a:xfrm rot="2700000">
              <a:off x="1873800" y="404424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Oval 2019"/>
            <p:cNvSpPr/>
            <p:nvPr/>
          </p:nvSpPr>
          <p:spPr>
            <a:xfrm>
              <a:off x="1967040" y="4137120"/>
              <a:ext cx="169920" cy="16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Group 1597"/>
          <p:cNvGrpSpPr/>
          <p:nvPr/>
        </p:nvGrpSpPr>
        <p:grpSpPr>
          <a:xfrm>
            <a:off x="5796000" y="3429000"/>
            <a:ext cx="576360" cy="576360"/>
            <a:chOff x="5796000" y="3429000"/>
            <a:chExt cx="576360" cy="576360"/>
          </a:xfrm>
        </p:grpSpPr>
        <p:sp>
          <p:nvSpPr>
            <p:cNvPr id="1684" name="AutoShape 2021"/>
            <p:cNvSpPr/>
            <p:nvPr/>
          </p:nvSpPr>
          <p:spPr>
            <a:xfrm>
              <a:off x="5796000" y="342900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AutoShape 2022"/>
            <p:cNvSpPr/>
            <p:nvPr/>
          </p:nvSpPr>
          <p:spPr>
            <a:xfrm rot="2700000">
              <a:off x="5906160" y="353952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Oval 2023"/>
            <p:cNvSpPr/>
            <p:nvPr/>
          </p:nvSpPr>
          <p:spPr>
            <a:xfrm>
              <a:off x="5999400" y="3632400"/>
              <a:ext cx="169920" cy="16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7" name="Group 1601"/>
          <p:cNvGrpSpPr/>
          <p:nvPr/>
        </p:nvGrpSpPr>
        <p:grpSpPr>
          <a:xfrm>
            <a:off x="6877080" y="3139920"/>
            <a:ext cx="576360" cy="576360"/>
            <a:chOff x="6877080" y="3139920"/>
            <a:chExt cx="576360" cy="576360"/>
          </a:xfrm>
        </p:grpSpPr>
        <p:sp>
          <p:nvSpPr>
            <p:cNvPr id="1688" name="AutoShape 2025"/>
            <p:cNvSpPr/>
            <p:nvPr/>
          </p:nvSpPr>
          <p:spPr>
            <a:xfrm>
              <a:off x="6877080" y="313992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AutoShape 2026"/>
            <p:cNvSpPr/>
            <p:nvPr/>
          </p:nvSpPr>
          <p:spPr>
            <a:xfrm rot="2700000">
              <a:off x="6987240" y="325044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Oval 2027"/>
            <p:cNvSpPr/>
            <p:nvPr/>
          </p:nvSpPr>
          <p:spPr>
            <a:xfrm>
              <a:off x="7080480" y="3343320"/>
              <a:ext cx="169920" cy="16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1" name="Group 1605"/>
          <p:cNvGrpSpPr/>
          <p:nvPr/>
        </p:nvGrpSpPr>
        <p:grpSpPr>
          <a:xfrm>
            <a:off x="4817520" y="5658480"/>
            <a:ext cx="367920" cy="368640"/>
            <a:chOff x="4817520" y="5658480"/>
            <a:chExt cx="367920" cy="368640"/>
          </a:xfrm>
        </p:grpSpPr>
        <p:grpSp>
          <p:nvGrpSpPr>
            <p:cNvPr id="1692" name="Group 1606"/>
            <p:cNvGrpSpPr/>
            <p:nvPr/>
          </p:nvGrpSpPr>
          <p:grpSpPr>
            <a:xfrm>
              <a:off x="4821120" y="5661000"/>
              <a:ext cx="363240" cy="363240"/>
              <a:chOff x="4821120" y="5661000"/>
              <a:chExt cx="363240" cy="363240"/>
            </a:xfrm>
          </p:grpSpPr>
          <p:grpSp>
            <p:nvGrpSpPr>
              <p:cNvPr id="1693" name="Group 1607"/>
              <p:cNvGrpSpPr/>
              <p:nvPr/>
            </p:nvGrpSpPr>
            <p:grpSpPr>
              <a:xfrm>
                <a:off x="4821120" y="5661000"/>
                <a:ext cx="363240" cy="363240"/>
                <a:chOff x="4821120" y="5661000"/>
                <a:chExt cx="363240" cy="363240"/>
              </a:xfrm>
            </p:grpSpPr>
            <p:sp>
              <p:nvSpPr>
                <p:cNvPr id="1694" name="Oval 275"/>
                <p:cNvSpPr/>
                <p:nvPr/>
              </p:nvSpPr>
              <p:spPr>
                <a:xfrm>
                  <a:off x="4821120" y="58050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5" name="Oval 276"/>
                <p:cNvSpPr/>
                <p:nvPr/>
              </p:nvSpPr>
              <p:spPr>
                <a:xfrm rot="5400000">
                  <a:off x="482040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6" name="Group 1610"/>
              <p:cNvGrpSpPr/>
              <p:nvPr/>
            </p:nvGrpSpPr>
            <p:grpSpPr>
              <a:xfrm>
                <a:off x="4842360" y="5684760"/>
                <a:ext cx="317160" cy="317880"/>
                <a:chOff x="4842360" y="5684760"/>
                <a:chExt cx="317160" cy="317880"/>
              </a:xfrm>
            </p:grpSpPr>
            <p:sp>
              <p:nvSpPr>
                <p:cNvPr id="1697" name="Oval 278"/>
                <p:cNvSpPr/>
                <p:nvPr/>
              </p:nvSpPr>
              <p:spPr>
                <a:xfrm rot="2700000">
                  <a:off x="4818240" y="58039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8" name="Oval 279"/>
                <p:cNvSpPr/>
                <p:nvPr/>
              </p:nvSpPr>
              <p:spPr>
                <a:xfrm rot="8100000">
                  <a:off x="482004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99" name="Group 1613"/>
            <p:cNvGrpSpPr/>
            <p:nvPr/>
          </p:nvGrpSpPr>
          <p:grpSpPr>
            <a:xfrm>
              <a:off x="4817520" y="5658480"/>
              <a:ext cx="367920" cy="368640"/>
              <a:chOff x="4817520" y="5658480"/>
              <a:chExt cx="367920" cy="368640"/>
            </a:xfrm>
          </p:grpSpPr>
          <p:grpSp>
            <p:nvGrpSpPr>
              <p:cNvPr id="1700" name="Group 1614"/>
              <p:cNvGrpSpPr/>
              <p:nvPr/>
            </p:nvGrpSpPr>
            <p:grpSpPr>
              <a:xfrm>
                <a:off x="4817520" y="5658480"/>
                <a:ext cx="367920" cy="367920"/>
                <a:chOff x="4817520" y="5658480"/>
                <a:chExt cx="367920" cy="367920"/>
              </a:xfrm>
            </p:grpSpPr>
            <p:sp>
              <p:nvSpPr>
                <p:cNvPr id="1701" name="Oval 282"/>
                <p:cNvSpPr/>
                <p:nvPr/>
              </p:nvSpPr>
              <p:spPr>
                <a:xfrm rot="1320000">
                  <a:off x="4819680" y="58042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2" name="Oval 283"/>
                <p:cNvSpPr/>
                <p:nvPr/>
              </p:nvSpPr>
              <p:spPr>
                <a:xfrm rot="6720000">
                  <a:off x="482040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3" name="Group 1617"/>
              <p:cNvGrpSpPr/>
              <p:nvPr/>
            </p:nvGrpSpPr>
            <p:grpSpPr>
              <a:xfrm>
                <a:off x="4818960" y="5660640"/>
                <a:ext cx="366480" cy="366480"/>
                <a:chOff x="4818960" y="5660640"/>
                <a:chExt cx="366480" cy="366480"/>
              </a:xfrm>
            </p:grpSpPr>
            <p:sp>
              <p:nvSpPr>
                <p:cNvPr id="1704" name="Oval 285"/>
                <p:cNvSpPr/>
                <p:nvPr/>
              </p:nvSpPr>
              <p:spPr>
                <a:xfrm rot="4020000">
                  <a:off x="4817520" y="580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5" name="Oval 286"/>
                <p:cNvSpPr/>
                <p:nvPr/>
              </p:nvSpPr>
              <p:spPr>
                <a:xfrm rot="9420000">
                  <a:off x="4820400" y="580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06" name="Oval 287"/>
            <p:cNvSpPr/>
            <p:nvPr/>
          </p:nvSpPr>
          <p:spPr>
            <a:xfrm>
              <a:off x="4943160" y="5789160"/>
              <a:ext cx="118800" cy="105840"/>
            </a:xfrm>
            <a:prstGeom prst="ellipse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7" name="Text Box 2028"/>
          <p:cNvSpPr/>
          <p:nvPr/>
        </p:nvSpPr>
        <p:spPr>
          <a:xfrm>
            <a:off x="828720" y="2133720"/>
            <a:ext cx="648000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叶根友行书繁"/>
              </a:rPr>
              <a:t>我会学习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叶根友行书繁"/>
              </a:rPr>
              <a:t>我爱学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0" fill="hold"/>
                                        <p:tgtEl>
                                          <p:spTgt spid="16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50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0" autoRev="1" fill="hold"/>
                                        <p:tgtEl>
                                          <p:spTgt spid="16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3" dur="3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autoRev="1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1200000">
                                      <p:cBhvr>
                                        <p:cTn id="15" dur="20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autoRev="1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1200000">
                                      <p:cBhvr>
                                        <p:cTn id="17" dur="30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19" dur="20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21" dur="20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23" dur="20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25" dur="20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0" autoRev="1" fill="hold"/>
                                        <p:tgtEl>
                                          <p:spTgt spid="16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5000" fill="hold"/>
                                        <p:tgtEl>
                                          <p:spTgt spid="16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50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2500" autoRev="1" fill="hold"/>
                                        <p:tgtEl>
                                          <p:spTgt spid="16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5000" fill="hold"/>
                                        <p:tgtEl>
                                          <p:spTgt spid="16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50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0" autoRev="1" fill="hold"/>
                                        <p:tgtEl>
                                          <p:spTgt spid="16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5000" fill="hold"/>
                                        <p:tgtEl>
                                          <p:spTgt spid="16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0" autoRev="1" fill="hold"/>
                                        <p:tgtEl>
                                          <p:spTgt spid="16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5000" fill="hold"/>
                                        <p:tgtEl>
                                          <p:spTgt spid="16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50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2500" autoRev="1" fill="hold"/>
                                        <p:tgtEl>
                                          <p:spTgt spid="16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5000" fill="hold"/>
                                        <p:tgtEl>
                                          <p:spTgt spid="16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5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2500" autoRev="1" fill="hold"/>
                                        <p:tgtEl>
                                          <p:spTgt spid="16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5000" fill="hold"/>
                                        <p:tgtEl>
                                          <p:spTgt spid="16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5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2500" autoRev="1" fill="hold"/>
                                        <p:tgtEl>
                                          <p:spTgt spid="16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5000" fill="hold"/>
                                        <p:tgtEl>
                                          <p:spTgt spid="16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5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0" autoRev="1" fill="hold"/>
                                        <p:tgtEl>
                                          <p:spTgt spid="16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5000" fill="hold"/>
                                        <p:tgtEl>
                                          <p:spTgt spid="16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50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2500" autoRev="1" fill="hold"/>
                                        <p:tgtEl>
                                          <p:spTgt spid="16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5000" fill="hold"/>
                                        <p:tgtEl>
                                          <p:spTgt spid="16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50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3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155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1155" fill="hold"/>
                                        <p:tgtEl>
                                          <p:spTgt spid="17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1155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1155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3" name="Picture 2" descr="getCARYL846"/>
          <p:cNvPicPr/>
          <p:nvPr/>
        </p:nvPicPr>
        <p:blipFill>
          <a:blip r:embed="rId1"/>
          <a:stretch/>
        </p:blipFill>
        <p:spPr>
          <a:xfrm>
            <a:off x="1332000" y="117360"/>
            <a:ext cx="7272360" cy="6242040"/>
          </a:xfrm>
          <a:prstGeom prst="rect">
            <a:avLst/>
          </a:prstGeom>
          <a:ln w="0">
            <a:noFill/>
          </a:ln>
        </p:spPr>
      </p:pic>
      <p:pic>
        <p:nvPicPr>
          <p:cNvPr id="1744" name="Picture 3" descr="getCAS0UU87"/>
          <p:cNvPicPr/>
          <p:nvPr/>
        </p:nvPicPr>
        <p:blipFill>
          <a:blip r:embed="rId2"/>
          <a:stretch/>
        </p:blipFill>
        <p:spPr>
          <a:xfrm>
            <a:off x="971640" y="981000"/>
            <a:ext cx="6842160" cy="4654800"/>
          </a:xfrm>
          <a:prstGeom prst="rect">
            <a:avLst/>
          </a:prstGeom>
          <a:ln w="0">
            <a:noFill/>
          </a:ln>
        </p:spPr>
      </p:pic>
      <p:pic>
        <p:nvPicPr>
          <p:cNvPr id="1745" name="Picture 4" descr="getCATGWDBO"/>
          <p:cNvPicPr/>
          <p:nvPr/>
        </p:nvPicPr>
        <p:blipFill>
          <a:blip r:embed="rId3"/>
          <a:stretch/>
        </p:blipFill>
        <p:spPr>
          <a:xfrm>
            <a:off x="324000" y="1341360"/>
            <a:ext cx="4968720" cy="4970520"/>
          </a:xfrm>
          <a:prstGeom prst="rect">
            <a:avLst/>
          </a:prstGeom>
          <a:ln w="0">
            <a:noFill/>
          </a:ln>
        </p:spPr>
      </p:pic>
      <p:pic>
        <p:nvPicPr>
          <p:cNvPr id="1746" name="Picture 5" descr="getCAYT7W2D"/>
          <p:cNvPicPr/>
          <p:nvPr/>
        </p:nvPicPr>
        <p:blipFill>
          <a:blip r:embed="rId4"/>
          <a:stretch/>
        </p:blipFill>
        <p:spPr>
          <a:xfrm>
            <a:off x="324000" y="1773360"/>
            <a:ext cx="6161040" cy="4286160"/>
          </a:xfrm>
          <a:prstGeom prst="rect">
            <a:avLst/>
          </a:prstGeom>
          <a:ln w="0">
            <a:noFill/>
          </a:ln>
        </p:spPr>
      </p:pic>
      <p:pic>
        <p:nvPicPr>
          <p:cNvPr id="1747" name="Picture 6" descr="10510971_1[1]"/>
          <p:cNvPicPr/>
          <p:nvPr/>
        </p:nvPicPr>
        <p:blipFill>
          <a:blip r:embed="rId5"/>
          <a:stretch/>
        </p:blipFill>
        <p:spPr>
          <a:xfrm>
            <a:off x="2268360" y="1413000"/>
            <a:ext cx="4967640" cy="3727440"/>
          </a:xfrm>
          <a:prstGeom prst="rect">
            <a:avLst/>
          </a:prstGeom>
          <a:ln w="0">
            <a:noFill/>
          </a:ln>
        </p:spPr>
      </p:pic>
      <p:pic>
        <p:nvPicPr>
          <p:cNvPr id="1748" name="Picture 7" descr="62226e740c33874486165fc9510fd9f9d62aa04a[1]"/>
          <p:cNvPicPr/>
          <p:nvPr/>
        </p:nvPicPr>
        <p:blipFill>
          <a:blip r:embed="rId6"/>
          <a:stretch/>
        </p:blipFill>
        <p:spPr>
          <a:xfrm>
            <a:off x="108000" y="909720"/>
            <a:ext cx="8794800" cy="494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1000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1000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1000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1000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6" dur="1000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9" name="Picture 2" descr="300x300x75x1[1]"/>
          <p:cNvPicPr/>
          <p:nvPr/>
        </p:nvPicPr>
        <p:blipFill>
          <a:blip r:embed="rId1"/>
          <a:stretch/>
        </p:blipFill>
        <p:spPr>
          <a:xfrm>
            <a:off x="5076720" y="3357720"/>
            <a:ext cx="3959280" cy="4032000"/>
          </a:xfrm>
          <a:prstGeom prst="rect">
            <a:avLst/>
          </a:prstGeom>
          <a:ln w="0">
            <a:noFill/>
          </a:ln>
        </p:spPr>
      </p:pic>
      <p:pic>
        <p:nvPicPr>
          <p:cNvPr id="1750" name="Picture 3" descr="116540727[1]"/>
          <p:cNvPicPr/>
          <p:nvPr/>
        </p:nvPicPr>
        <p:blipFill>
          <a:blip r:embed="rId2"/>
          <a:stretch/>
        </p:blipFill>
        <p:spPr>
          <a:xfrm>
            <a:off x="5003640" y="-455760"/>
            <a:ext cx="4034160" cy="4170600"/>
          </a:xfrm>
          <a:prstGeom prst="rect">
            <a:avLst/>
          </a:prstGeom>
          <a:ln w="0">
            <a:noFill/>
          </a:ln>
        </p:spPr>
      </p:pic>
      <p:sp>
        <p:nvSpPr>
          <p:cNvPr id="1751" name="Text Box 4"/>
          <p:cNvSpPr/>
          <p:nvPr/>
        </p:nvSpPr>
        <p:spPr>
          <a:xfrm>
            <a:off x="755640" y="1413000"/>
            <a:ext cx="360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4b817"/>
                </a:solidFill>
                <a:latin typeface="Times New Roman"/>
                <a:ea typeface="楷体"/>
              </a:rPr>
              <a:t>身直头正肩膀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4b817"/>
                </a:solidFill>
                <a:latin typeface="Times New Roman"/>
                <a:ea typeface="楷体"/>
              </a:rPr>
              <a:t>两臂弯曲左右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4b817"/>
                </a:solidFill>
                <a:latin typeface="Times New Roman"/>
                <a:ea typeface="楷体"/>
              </a:rPr>
              <a:t>左手按纸右手笔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4b817"/>
                </a:solidFill>
                <a:latin typeface="Times New Roman"/>
                <a:ea typeface="楷体"/>
              </a:rPr>
              <a:t>头部稍微向前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4b817"/>
                </a:solidFill>
                <a:latin typeface="Times New Roman"/>
                <a:ea typeface="楷体"/>
              </a:rPr>
              <a:t>明视距离把握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4b817"/>
                </a:solidFill>
                <a:latin typeface="Times New Roman"/>
                <a:ea typeface="楷体"/>
              </a:rPr>
              <a:t>上身离桌一拳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4b817"/>
                </a:solidFill>
                <a:latin typeface="Times New Roman"/>
                <a:ea typeface="楷体"/>
              </a:rPr>
              <a:t>两脚放平自然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4b817"/>
                </a:solidFill>
                <a:latin typeface="Times New Roman"/>
                <a:ea typeface="楷体"/>
              </a:rPr>
              <a:t>字好人夸小聪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4" dur="20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20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77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770" fill="hold"/>
                                        <p:tgtEl>
                                          <p:spTgt spid="17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Text Box 2">
            <a:hlinkClick r:id="rId1"/>
          </p:cNvPr>
          <p:cNvSpPr/>
          <p:nvPr/>
        </p:nvSpPr>
        <p:spPr>
          <a:xfrm>
            <a:off x="36360" y="6093000"/>
            <a:ext cx="4032360" cy="5814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热爱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Text Box 3">
            <a:hlinkClick r:id="rId2"/>
          </p:cNvPr>
          <p:cNvSpPr/>
          <p:nvPr/>
        </p:nvSpPr>
        <p:spPr>
          <a:xfrm>
            <a:off x="325440" y="5373720"/>
            <a:ext cx="4030560" cy="5814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专心听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Text Box 4"/>
          <p:cNvSpPr/>
          <p:nvPr/>
        </p:nvSpPr>
        <p:spPr>
          <a:xfrm>
            <a:off x="684360" y="4653000"/>
            <a:ext cx="3958920" cy="5814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按计划做事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Text Box 5"/>
          <p:cNvSpPr/>
          <p:nvPr/>
        </p:nvSpPr>
        <p:spPr>
          <a:xfrm>
            <a:off x="1116000" y="3933720"/>
            <a:ext cx="3887640" cy="5814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认真思考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Text Box 6"/>
          <p:cNvSpPr/>
          <p:nvPr/>
        </p:nvSpPr>
        <p:spPr>
          <a:xfrm>
            <a:off x="1403280" y="3286080"/>
            <a:ext cx="4032360" cy="5814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5.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知道会的和不会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Text Box 7"/>
          <p:cNvSpPr/>
          <p:nvPr/>
        </p:nvSpPr>
        <p:spPr>
          <a:xfrm>
            <a:off x="1619280" y="2637000"/>
            <a:ext cx="4176720" cy="5814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6.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充分发挥想象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8" name="Picture 8" descr="getCAWJQDD0"/>
          <p:cNvPicPr/>
          <p:nvPr/>
        </p:nvPicPr>
        <p:blipFill>
          <a:blip r:embed="rId3"/>
          <a:stretch/>
        </p:blipFill>
        <p:spPr>
          <a:xfrm>
            <a:off x="6300720" y="0"/>
            <a:ext cx="2521080" cy="3035160"/>
          </a:xfrm>
          <a:prstGeom prst="rect">
            <a:avLst/>
          </a:prstGeom>
          <a:ln w="0">
            <a:noFill/>
          </a:ln>
        </p:spPr>
      </p:pic>
      <p:sp>
        <p:nvSpPr>
          <p:cNvPr id="1759" name="Text Box 9"/>
          <p:cNvSpPr/>
          <p:nvPr/>
        </p:nvSpPr>
        <p:spPr>
          <a:xfrm>
            <a:off x="2052720" y="1989000"/>
            <a:ext cx="4103640" cy="5814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7.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WordArt 10"/>
          <p:cNvSpPr txBox="1"/>
          <p:nvPr/>
        </p:nvSpPr>
        <p:spPr>
          <a:xfrm>
            <a:off x="5797440" y="4437000"/>
            <a:ext cx="28069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38160" dir="0" blurRad="0" rotWithShape="0">
                    <a:srgbClr val="b2b2b2">
                      <a:alpha val="77000"/>
                    </a:srgbClr>
                  </a:outerShdw>
                </a:effectLst>
                <a:latin typeface="宋体"/>
              </a:rPr>
              <a:t>争夺小奖杯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38160" dir="0" blurRad="0" rotWithShape="0">
                  <a:srgbClr val="b2b2b2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strips dir="ru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77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770" fill="hold"/>
                                        <p:tgtEl>
                                          <p:spTgt spid="17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5" dur="77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7" dur="77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8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20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33"/>
                                      </p:to>
                                    </p:animClr>
                                    <p:set>
                                      <p:cBhvr>
                                        <p:cTn id="420" dur="20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8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1" dur="20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da07"/>
                                      </p:to>
                                    </p:animClr>
                                    <p:set>
                                      <p:cBhvr>
                                        <p:cTn id="432" dur="20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8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3" dur="20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da07"/>
                                      </p:to>
                                    </p:animClr>
                                    <p:set>
                                      <p:cBhvr>
                                        <p:cTn id="444" dur="20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8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20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da07"/>
                                      </p:to>
                                    </p:animClr>
                                    <p:set>
                                      <p:cBhvr>
                                        <p:cTn id="456" dur="20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8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20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da07"/>
                                      </p:to>
                                    </p:animClr>
                                    <p:set>
                                      <p:cBhvr>
                                        <p:cTn id="468" dur="20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8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9" dur="20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da07"/>
                                      </p:to>
                                    </p:animClr>
                                    <p:set>
                                      <p:cBhvr>
                                        <p:cTn id="480" dur="20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8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/>
          </p:nvPr>
        </p:nvSpPr>
        <p:spPr>
          <a:xfrm>
            <a:off x="828720" y="909360"/>
            <a:ext cx="75708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"/>
              </a:rPr>
              <a:t>养成良好的学习习惯并不难，只需要我们多花点心思，需要我们增强要养成好习惯的意识，世上无难事，只怕有心人，只要功夫深，铁杵都能磨成针，所以只要我们认真去做，就一定可以养成好的学习习惯的，也可以让我们的学习变得更有条理、更有乐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2" name="Picture 3" descr="get[4]"/>
          <p:cNvPicPr/>
          <p:nvPr/>
        </p:nvPicPr>
        <p:blipFill>
          <a:blip r:embed="rId2"/>
          <a:stretch/>
        </p:blipFill>
        <p:spPr>
          <a:xfrm>
            <a:off x="6661080" y="4437000"/>
            <a:ext cx="2087640" cy="2089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/>
          </p:nvPr>
        </p:nvSpPr>
        <p:spPr>
          <a:xfrm>
            <a:off x="2987280" y="1557000"/>
            <a:ext cx="6048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你拍一我拍一，学校建成不容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你拍二我拍二，团结友爱好伙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你拍三我拍三，保持安静记心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你拍四我拍四，墙壁不能乱写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你拍五我拍五，值日不能太马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你拍六我拍六，上下楼梯要靠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你拍七我拍七，垃圾分类不乱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你拍八我拍八，爱护桌椅要常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你拍九我拍九，节约用水齐动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你拍十我拍十，环境大家来保持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WordArt 3"/>
          <p:cNvSpPr txBox="1"/>
          <p:nvPr/>
        </p:nvSpPr>
        <p:spPr>
          <a:xfrm>
            <a:off x="324000" y="476280"/>
            <a:ext cx="2232000" cy="93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楷体"/>
              </a:rPr>
              <a:t>拍手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楷体"/>
              <a:ea typeface="楷体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/>
          </p:nvPr>
        </p:nvSpPr>
        <p:spPr>
          <a:xfrm>
            <a:off x="1186920" y="213336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想一想自己有哪些好的学习习惯、有些些不好的学习习惯，把他们写下来，并写一下你该如何改掉自己不好的学习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6" name=""/>
          <p:cNvGraphicFramePr/>
          <p:nvPr/>
        </p:nvGraphicFramePr>
        <p:xfrm>
          <a:off x="1143000" y="693720"/>
          <a:ext cx="6927840" cy="5748480"/>
        </p:xfrm>
        <a:graphic>
          <a:graphicData uri="http://schemas.openxmlformats.org/drawingml/2006/table">
            <a:tbl>
              <a:tblPr/>
              <a:tblGrid>
                <a:gridCol w="841320"/>
                <a:gridCol w="800280"/>
                <a:gridCol w="814320"/>
                <a:gridCol w="855720"/>
                <a:gridCol w="1020600"/>
                <a:gridCol w="828720"/>
                <a:gridCol w="841320"/>
                <a:gridCol w="925560"/>
              </a:tblGrid>
              <a:tr h="13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检测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按时到学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上课没有走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没搞小动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积极举手回答老师问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认真写作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及时改正错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按时上交作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第一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第二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第三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第四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第五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评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家长评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老师评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自我总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7" name="Group 2"/>
          <p:cNvGrpSpPr/>
          <p:nvPr/>
        </p:nvGrpSpPr>
        <p:grpSpPr>
          <a:xfrm>
            <a:off x="4319640" y="3141720"/>
            <a:ext cx="1799640" cy="1457280"/>
            <a:chOff x="4319640" y="3141720"/>
            <a:chExt cx="1799640" cy="1457280"/>
          </a:xfrm>
        </p:grpSpPr>
        <p:sp>
          <p:nvSpPr>
            <p:cNvPr id="1768" name="Cloud"/>
            <p:cNvSpPr/>
            <p:nvPr/>
          </p:nvSpPr>
          <p:spPr>
            <a:xfrm>
              <a:off x="4803480" y="3633840"/>
              <a:ext cx="1315800" cy="735120"/>
            </a:xfrm>
            <a:custGeom>
              <a:avLst/>
              <a:gdLst>
                <a:gd name="textAreaLeft" fmla="*/ 180720 w 1315800"/>
                <a:gd name="textAreaRight" fmla="*/ 1041120 w 1315800"/>
                <a:gd name="textAreaTop" fmla="*/ 110880 h 735120"/>
                <a:gd name="textAreaBottom" fmla="*/ 5907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Cloud"/>
            <p:cNvSpPr/>
            <p:nvPr/>
          </p:nvSpPr>
          <p:spPr>
            <a:xfrm>
              <a:off x="4319640" y="3719520"/>
              <a:ext cx="1315800" cy="736560"/>
            </a:xfrm>
            <a:custGeom>
              <a:avLst/>
              <a:gdLst>
                <a:gd name="textAreaLeft" fmla="*/ 180720 w 1315800"/>
                <a:gd name="textAreaRight" fmla="*/ 1041120 w 1315800"/>
                <a:gd name="textAreaTop" fmla="*/ 110880 h 736560"/>
                <a:gd name="textAreaBottom" fmla="*/ 590760 h 7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Cloud"/>
            <p:cNvSpPr/>
            <p:nvPr/>
          </p:nvSpPr>
          <p:spPr>
            <a:xfrm>
              <a:off x="4803480" y="3862440"/>
              <a:ext cx="1315800" cy="736560"/>
            </a:xfrm>
            <a:custGeom>
              <a:avLst/>
              <a:gdLst>
                <a:gd name="textAreaLeft" fmla="*/ 180720 w 1315800"/>
                <a:gd name="textAreaRight" fmla="*/ 1041120 w 1315800"/>
                <a:gd name="textAreaTop" fmla="*/ 110880 h 736560"/>
                <a:gd name="textAreaBottom" fmla="*/ 590760 h 7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Cloud"/>
            <p:cNvSpPr/>
            <p:nvPr/>
          </p:nvSpPr>
          <p:spPr>
            <a:xfrm>
              <a:off x="4679640" y="3375000"/>
              <a:ext cx="1028520" cy="735120"/>
            </a:xfrm>
            <a:custGeom>
              <a:avLst/>
              <a:gdLst>
                <a:gd name="textAreaLeft" fmla="*/ 141120 w 1028520"/>
                <a:gd name="textAreaRight" fmla="*/ 814320 w 1028520"/>
                <a:gd name="textAreaTop" fmla="*/ 110880 h 735120"/>
                <a:gd name="textAreaBottom" fmla="*/ 5907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Cloud"/>
            <p:cNvSpPr/>
            <p:nvPr/>
          </p:nvSpPr>
          <p:spPr>
            <a:xfrm>
              <a:off x="4966920" y="3141720"/>
              <a:ext cx="576000" cy="880920"/>
            </a:xfrm>
            <a:custGeom>
              <a:avLst/>
              <a:gdLst>
                <a:gd name="textAreaLeft" fmla="*/ 79200 w 576000"/>
                <a:gd name="textAreaRight" fmla="*/ 455400 w 576000"/>
                <a:gd name="textAreaTop" fmla="*/ 133200 h 880920"/>
                <a:gd name="textAreaBottom" fmla="*/ 706320 h 88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3" name="Freeform 4"/>
          <p:cNvSpPr/>
          <p:nvPr/>
        </p:nvSpPr>
        <p:spPr>
          <a:xfrm>
            <a:off x="-19080" y="2852640"/>
            <a:ext cx="9207360" cy="2473560"/>
          </a:xfrm>
          <a:custGeom>
            <a:avLst/>
            <a:gdLst>
              <a:gd name="textAreaLeft" fmla="*/ 0 w 9207360"/>
              <a:gd name="textAreaRight" fmla="*/ 9207720 w 9207360"/>
              <a:gd name="textAreaTop" fmla="*/ 0 h 2473560"/>
              <a:gd name="textAreaBottom" fmla="*/ 2473920 h 2473560"/>
            </a:gdLst>
            <a:ahLst/>
            <a:rect l="textAreaLeft" t="textAreaTop" r="textAreaRight" b="textAreaBottom"/>
            <a:pathLst>
              <a:path w="5811" h="1558">
                <a:moveTo>
                  <a:pt x="23" y="583"/>
                </a:moveTo>
                <a:cubicBezTo>
                  <a:pt x="342" y="689"/>
                  <a:pt x="488" y="937"/>
                  <a:pt x="635" y="953"/>
                </a:cubicBezTo>
                <a:cubicBezTo>
                  <a:pt x="782" y="969"/>
                  <a:pt x="819" y="706"/>
                  <a:pt x="907" y="681"/>
                </a:cubicBezTo>
                <a:cubicBezTo>
                  <a:pt x="995" y="656"/>
                  <a:pt x="1052" y="861"/>
                  <a:pt x="1166" y="800"/>
                </a:cubicBezTo>
                <a:cubicBezTo>
                  <a:pt x="1280" y="739"/>
                  <a:pt x="1451" y="321"/>
                  <a:pt x="1588" y="318"/>
                </a:cubicBezTo>
                <a:cubicBezTo>
                  <a:pt x="1751" y="431"/>
                  <a:pt x="1987" y="781"/>
                  <a:pt x="1987" y="781"/>
                </a:cubicBezTo>
                <a:cubicBezTo>
                  <a:pt x="2100" y="819"/>
                  <a:pt x="2115" y="538"/>
                  <a:pt x="2268" y="544"/>
                </a:cubicBezTo>
                <a:cubicBezTo>
                  <a:pt x="2516" y="809"/>
                  <a:pt x="2903" y="817"/>
                  <a:pt x="2903" y="817"/>
                </a:cubicBezTo>
                <a:cubicBezTo>
                  <a:pt x="3144" y="728"/>
                  <a:pt x="3630" y="30"/>
                  <a:pt x="3715" y="7"/>
                </a:cubicBezTo>
                <a:cubicBezTo>
                  <a:pt x="3809" y="16"/>
                  <a:pt x="3931" y="137"/>
                  <a:pt x="3992" y="136"/>
                </a:cubicBezTo>
                <a:cubicBezTo>
                  <a:pt x="4053" y="135"/>
                  <a:pt x="4008" y="35"/>
                  <a:pt x="4082" y="0"/>
                </a:cubicBezTo>
                <a:cubicBezTo>
                  <a:pt x="4112" y="25"/>
                  <a:pt x="4355" y="227"/>
                  <a:pt x="4355" y="227"/>
                </a:cubicBezTo>
                <a:cubicBezTo>
                  <a:pt x="4437" y="241"/>
                  <a:pt x="4489" y="35"/>
                  <a:pt x="4574" y="82"/>
                </a:cubicBezTo>
                <a:cubicBezTo>
                  <a:pt x="4659" y="129"/>
                  <a:pt x="4967" y="681"/>
                  <a:pt x="5171" y="726"/>
                </a:cubicBezTo>
                <a:cubicBezTo>
                  <a:pt x="5632" y="715"/>
                  <a:pt x="5699" y="44"/>
                  <a:pt x="5802" y="346"/>
                </a:cubicBezTo>
                <a:cubicBezTo>
                  <a:pt x="5811" y="658"/>
                  <a:pt x="5798" y="462"/>
                  <a:pt x="5798" y="1416"/>
                </a:cubicBezTo>
                <a:cubicBezTo>
                  <a:pt x="4656" y="1435"/>
                  <a:pt x="1477" y="1381"/>
                  <a:pt x="23" y="1371"/>
                </a:cubicBezTo>
                <a:cubicBezTo>
                  <a:pt x="41" y="1060"/>
                  <a:pt x="0" y="1558"/>
                  <a:pt x="23" y="583"/>
                </a:cubicBezTo>
                <a:close/>
              </a:path>
            </a:pathLst>
          </a:custGeom>
          <a:gradFill rotWithShape="0">
            <a:gsLst>
              <a:gs pos="0">
                <a:srgbClr val="9bda07"/>
              </a:gs>
              <a:gs pos="100000">
                <a:srgbClr val="44b8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4" name="Group 9"/>
          <p:cNvGrpSpPr/>
          <p:nvPr/>
        </p:nvGrpSpPr>
        <p:grpSpPr>
          <a:xfrm>
            <a:off x="3464640" y="4159080"/>
            <a:ext cx="1395000" cy="898200"/>
            <a:chOff x="3464640" y="4159080"/>
            <a:chExt cx="1395000" cy="898200"/>
          </a:xfrm>
        </p:grpSpPr>
        <p:sp>
          <p:nvSpPr>
            <p:cNvPr id="1775" name="Freeform 1971"/>
            <p:cNvSpPr/>
            <p:nvPr/>
          </p:nvSpPr>
          <p:spPr>
            <a:xfrm rot="735600">
              <a:off x="4380840" y="4395960"/>
              <a:ext cx="416880" cy="6242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1972"/>
            <p:cNvSpPr/>
            <p:nvPr/>
          </p:nvSpPr>
          <p:spPr>
            <a:xfrm rot="735600">
              <a:off x="4133520" y="4328280"/>
              <a:ext cx="416880" cy="6242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1973"/>
            <p:cNvSpPr/>
            <p:nvPr/>
          </p:nvSpPr>
          <p:spPr>
            <a:xfrm rot="735600">
              <a:off x="3809160" y="4271760"/>
              <a:ext cx="416880" cy="6242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1974"/>
            <p:cNvSpPr/>
            <p:nvPr/>
          </p:nvSpPr>
          <p:spPr>
            <a:xfrm rot="735600">
              <a:off x="3525840" y="4196160"/>
              <a:ext cx="416880" cy="6242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9" name="Group 14"/>
          <p:cNvGrpSpPr/>
          <p:nvPr/>
        </p:nvGrpSpPr>
        <p:grpSpPr>
          <a:xfrm>
            <a:off x="6815880" y="4283640"/>
            <a:ext cx="1492200" cy="1062000"/>
            <a:chOff x="6815880" y="4283640"/>
            <a:chExt cx="1492200" cy="1062000"/>
          </a:xfrm>
        </p:grpSpPr>
        <p:sp>
          <p:nvSpPr>
            <p:cNvPr id="1780" name="Freeform 156"/>
            <p:cNvSpPr/>
            <p:nvPr/>
          </p:nvSpPr>
          <p:spPr>
            <a:xfrm rot="1183800">
              <a:off x="7775640" y="4665240"/>
              <a:ext cx="439920" cy="62424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157"/>
            <p:cNvSpPr/>
            <p:nvPr/>
          </p:nvSpPr>
          <p:spPr>
            <a:xfrm rot="1183800">
              <a:off x="7525800" y="4561200"/>
              <a:ext cx="439920" cy="62424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158"/>
            <p:cNvSpPr/>
            <p:nvPr/>
          </p:nvSpPr>
          <p:spPr>
            <a:xfrm rot="1183800">
              <a:off x="7193880" y="4456800"/>
              <a:ext cx="439920" cy="62424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159"/>
            <p:cNvSpPr/>
            <p:nvPr/>
          </p:nvSpPr>
          <p:spPr>
            <a:xfrm rot="1183800">
              <a:off x="6908040" y="4339440"/>
              <a:ext cx="439920" cy="62424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4" name="Group 19"/>
          <p:cNvGrpSpPr/>
          <p:nvPr/>
        </p:nvGrpSpPr>
        <p:grpSpPr>
          <a:xfrm>
            <a:off x="2190600" y="4190040"/>
            <a:ext cx="1450800" cy="1080720"/>
            <a:chOff x="2190600" y="4190040"/>
            <a:chExt cx="1450800" cy="1080720"/>
          </a:xfrm>
        </p:grpSpPr>
        <p:sp>
          <p:nvSpPr>
            <p:cNvPr id="1785" name="Freeform 146"/>
            <p:cNvSpPr/>
            <p:nvPr/>
          </p:nvSpPr>
          <p:spPr>
            <a:xfrm rot="20841000">
              <a:off x="3137760" y="4225680"/>
              <a:ext cx="416880" cy="8348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147"/>
            <p:cNvSpPr/>
            <p:nvPr/>
          </p:nvSpPr>
          <p:spPr>
            <a:xfrm rot="20841000">
              <a:off x="2883600" y="4263840"/>
              <a:ext cx="416880" cy="8348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148"/>
            <p:cNvSpPr/>
            <p:nvPr/>
          </p:nvSpPr>
          <p:spPr>
            <a:xfrm rot="20841000">
              <a:off x="2566080" y="4353840"/>
              <a:ext cx="416880" cy="8348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149"/>
            <p:cNvSpPr/>
            <p:nvPr/>
          </p:nvSpPr>
          <p:spPr>
            <a:xfrm rot="20841000">
              <a:off x="2276640" y="4400280"/>
              <a:ext cx="416880" cy="8348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Group 24"/>
          <p:cNvGrpSpPr/>
          <p:nvPr/>
        </p:nvGrpSpPr>
        <p:grpSpPr>
          <a:xfrm>
            <a:off x="4932360" y="4230720"/>
            <a:ext cx="2160360" cy="637920"/>
            <a:chOff x="4932360" y="4230720"/>
            <a:chExt cx="2160360" cy="637920"/>
          </a:xfrm>
        </p:grpSpPr>
        <p:sp>
          <p:nvSpPr>
            <p:cNvPr id="1790" name="Freeform 151"/>
            <p:cNvSpPr/>
            <p:nvPr/>
          </p:nvSpPr>
          <p:spPr>
            <a:xfrm>
              <a:off x="6397200" y="4244400"/>
              <a:ext cx="695520" cy="624240"/>
            </a:xfrm>
            <a:custGeom>
              <a:avLst/>
              <a:gdLst>
                <a:gd name="textAreaLeft" fmla="*/ 0 w 695520"/>
                <a:gd name="textAreaRight" fmla="*/ 695880 w 69552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152"/>
            <p:cNvSpPr/>
            <p:nvPr/>
          </p:nvSpPr>
          <p:spPr>
            <a:xfrm>
              <a:off x="5969520" y="4230720"/>
              <a:ext cx="695520" cy="624240"/>
            </a:xfrm>
            <a:custGeom>
              <a:avLst/>
              <a:gdLst>
                <a:gd name="textAreaLeft" fmla="*/ 0 w 695520"/>
                <a:gd name="textAreaRight" fmla="*/ 695880 w 69552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153"/>
            <p:cNvSpPr/>
            <p:nvPr/>
          </p:nvSpPr>
          <p:spPr>
            <a:xfrm>
              <a:off x="5420520" y="4244400"/>
              <a:ext cx="695520" cy="624240"/>
            </a:xfrm>
            <a:custGeom>
              <a:avLst/>
              <a:gdLst>
                <a:gd name="textAreaLeft" fmla="*/ 0 w 695520"/>
                <a:gd name="textAreaRight" fmla="*/ 695880 w 69552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154"/>
            <p:cNvSpPr/>
            <p:nvPr/>
          </p:nvSpPr>
          <p:spPr>
            <a:xfrm>
              <a:off x="4932360" y="4230720"/>
              <a:ext cx="695520" cy="624240"/>
            </a:xfrm>
            <a:custGeom>
              <a:avLst/>
              <a:gdLst>
                <a:gd name="textAreaLeft" fmla="*/ 0 w 695520"/>
                <a:gd name="textAreaRight" fmla="*/ 695880 w 69552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4" name="Group 29"/>
          <p:cNvGrpSpPr/>
          <p:nvPr/>
        </p:nvGrpSpPr>
        <p:grpSpPr>
          <a:xfrm>
            <a:off x="-23400" y="4489560"/>
            <a:ext cx="2385360" cy="856440"/>
            <a:chOff x="-23400" y="4489560"/>
            <a:chExt cx="2385360" cy="856440"/>
          </a:xfrm>
        </p:grpSpPr>
        <p:sp>
          <p:nvSpPr>
            <p:cNvPr id="1795" name="Freeform 141"/>
            <p:cNvSpPr/>
            <p:nvPr/>
          </p:nvSpPr>
          <p:spPr>
            <a:xfrm rot="326400">
              <a:off x="1581120" y="4687560"/>
              <a:ext cx="752760" cy="624240"/>
            </a:xfrm>
            <a:custGeom>
              <a:avLst/>
              <a:gdLst>
                <a:gd name="textAreaLeft" fmla="*/ 0 w 752760"/>
                <a:gd name="textAreaRight" fmla="*/ 753120 w 75276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142"/>
            <p:cNvSpPr/>
            <p:nvPr/>
          </p:nvSpPr>
          <p:spPr>
            <a:xfrm rot="326400">
              <a:off x="1121760" y="4630320"/>
              <a:ext cx="752760" cy="624240"/>
            </a:xfrm>
            <a:custGeom>
              <a:avLst/>
              <a:gdLst>
                <a:gd name="textAreaLeft" fmla="*/ 0 w 752760"/>
                <a:gd name="textAreaRight" fmla="*/ 753120 w 75276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143"/>
            <p:cNvSpPr/>
            <p:nvPr/>
          </p:nvSpPr>
          <p:spPr>
            <a:xfrm rot="326400">
              <a:off x="528840" y="4587480"/>
              <a:ext cx="752760" cy="624240"/>
            </a:xfrm>
            <a:custGeom>
              <a:avLst/>
              <a:gdLst>
                <a:gd name="textAreaLeft" fmla="*/ 0 w 752760"/>
                <a:gd name="textAreaRight" fmla="*/ 753120 w 75276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44"/>
            <p:cNvSpPr/>
            <p:nvPr/>
          </p:nvSpPr>
          <p:spPr>
            <a:xfrm rot="326400">
              <a:off x="4320" y="4523760"/>
              <a:ext cx="752760" cy="624240"/>
            </a:xfrm>
            <a:custGeom>
              <a:avLst/>
              <a:gdLst>
                <a:gd name="textAreaLeft" fmla="*/ 0 w 752760"/>
                <a:gd name="textAreaRight" fmla="*/ 753120 w 75276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9" name="Group 34"/>
          <p:cNvGrpSpPr/>
          <p:nvPr/>
        </p:nvGrpSpPr>
        <p:grpSpPr>
          <a:xfrm>
            <a:off x="9144000" y="2637000"/>
            <a:ext cx="1366920" cy="792000"/>
            <a:chOff x="9144000" y="2637000"/>
            <a:chExt cx="1366920" cy="792000"/>
          </a:xfrm>
        </p:grpSpPr>
        <p:sp>
          <p:nvSpPr>
            <p:cNvPr id="1800" name="Cloud"/>
            <p:cNvSpPr/>
            <p:nvPr/>
          </p:nvSpPr>
          <p:spPr>
            <a:xfrm>
              <a:off x="9343440" y="2637000"/>
              <a:ext cx="1046160" cy="576360"/>
            </a:xfrm>
            <a:custGeom>
              <a:avLst/>
              <a:gdLst>
                <a:gd name="textAreaLeft" fmla="*/ 144000 w 1046160"/>
                <a:gd name="textAreaRight" fmla="*/ 828000 w 1046160"/>
                <a:gd name="textAreaTop" fmla="*/ 87120 h 576360"/>
                <a:gd name="textAreaBottom" fmla="*/ 46224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Cloud"/>
            <p:cNvSpPr/>
            <p:nvPr/>
          </p:nvSpPr>
          <p:spPr>
            <a:xfrm>
              <a:off x="9144000" y="2853000"/>
              <a:ext cx="1046160" cy="576000"/>
            </a:xfrm>
            <a:custGeom>
              <a:avLst/>
              <a:gdLst>
                <a:gd name="textAreaLeft" fmla="*/ 144000 w 1046160"/>
                <a:gd name="textAreaRight" fmla="*/ 828000 w 1046160"/>
                <a:gd name="textAreaTop" fmla="*/ 87120 h 576000"/>
                <a:gd name="textAreaBottom" fmla="*/ 46188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Cloud"/>
            <p:cNvSpPr/>
            <p:nvPr/>
          </p:nvSpPr>
          <p:spPr>
            <a:xfrm>
              <a:off x="9464760" y="2853000"/>
              <a:ext cx="1046160" cy="576000"/>
            </a:xfrm>
            <a:custGeom>
              <a:avLst/>
              <a:gdLst>
                <a:gd name="textAreaLeft" fmla="*/ 144000 w 1046160"/>
                <a:gd name="textAreaRight" fmla="*/ 828000 w 1046160"/>
                <a:gd name="textAreaTop" fmla="*/ 87120 h 576000"/>
                <a:gd name="textAreaBottom" fmla="*/ 46188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Cloud"/>
            <p:cNvSpPr/>
            <p:nvPr/>
          </p:nvSpPr>
          <p:spPr>
            <a:xfrm>
              <a:off x="9343440" y="2779920"/>
              <a:ext cx="1046160" cy="576360"/>
            </a:xfrm>
            <a:custGeom>
              <a:avLst/>
              <a:gdLst>
                <a:gd name="textAreaLeft" fmla="*/ 144000 w 1046160"/>
                <a:gd name="textAreaRight" fmla="*/ 828000 w 1046160"/>
                <a:gd name="textAreaTop" fmla="*/ 87120 h 576360"/>
                <a:gd name="textAreaBottom" fmla="*/ 46224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4" name="Freeform 5"/>
          <p:cNvSpPr/>
          <p:nvPr/>
        </p:nvSpPr>
        <p:spPr>
          <a:xfrm>
            <a:off x="-520560" y="4365720"/>
            <a:ext cx="10545480" cy="1655640"/>
          </a:xfrm>
          <a:custGeom>
            <a:avLst/>
            <a:gdLst>
              <a:gd name="textAreaLeft" fmla="*/ 0 w 10545480"/>
              <a:gd name="textAreaRight" fmla="*/ 10545480 w 1054548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6654" h="466">
                <a:moveTo>
                  <a:pt x="323" y="466"/>
                </a:moveTo>
                <a:cubicBezTo>
                  <a:pt x="0" y="396"/>
                  <a:pt x="3133" y="20"/>
                  <a:pt x="4082" y="15"/>
                </a:cubicBezTo>
                <a:cubicBezTo>
                  <a:pt x="5035" y="0"/>
                  <a:pt x="6654" y="358"/>
                  <a:pt x="6019" y="434"/>
                </a:cubicBezTo>
                <a:lnTo>
                  <a:pt x="323" y="466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Freeform 6"/>
          <p:cNvSpPr/>
          <p:nvPr/>
        </p:nvSpPr>
        <p:spPr>
          <a:xfrm>
            <a:off x="-450720" y="4365720"/>
            <a:ext cx="7076880" cy="1628640"/>
          </a:xfrm>
          <a:custGeom>
            <a:avLst/>
            <a:gdLst>
              <a:gd name="textAreaLeft" fmla="*/ 0 w 7076880"/>
              <a:gd name="textAreaRight" fmla="*/ 7077240 w 7076880"/>
              <a:gd name="textAreaTop" fmla="*/ 0 h 1628640"/>
              <a:gd name="textAreaBottom" fmla="*/ 1629000 h 1628640"/>
            </a:gdLst>
            <a:ahLst/>
            <a:rect l="textAreaLeft" t="textAreaTop" r="textAreaRight" b="textAreaBottom"/>
            <a:pathLst>
              <a:path w="4469" h="1026">
                <a:moveTo>
                  <a:pt x="242" y="1026"/>
                </a:moveTo>
                <a:cubicBezTo>
                  <a:pt x="0" y="890"/>
                  <a:pt x="1917" y="73"/>
                  <a:pt x="2543" y="46"/>
                </a:cubicBezTo>
                <a:cubicBezTo>
                  <a:pt x="3256" y="0"/>
                  <a:pt x="4469" y="706"/>
                  <a:pt x="3997" y="863"/>
                </a:cubicBezTo>
                <a:lnTo>
                  <a:pt x="242" y="1026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99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6" name="Group 41"/>
          <p:cNvGrpSpPr/>
          <p:nvPr/>
        </p:nvGrpSpPr>
        <p:grpSpPr>
          <a:xfrm>
            <a:off x="2519280" y="2060640"/>
            <a:ext cx="1584000" cy="927000"/>
            <a:chOff x="2519280" y="2060640"/>
            <a:chExt cx="1584000" cy="927000"/>
          </a:xfrm>
        </p:grpSpPr>
        <p:sp>
          <p:nvSpPr>
            <p:cNvPr id="1807" name="Cloud"/>
            <p:cNvSpPr/>
            <p:nvPr/>
          </p:nvSpPr>
          <p:spPr>
            <a:xfrm>
              <a:off x="2652120" y="2383920"/>
              <a:ext cx="897120" cy="426960"/>
            </a:xfrm>
            <a:custGeom>
              <a:avLst/>
              <a:gdLst>
                <a:gd name="textAreaLeft" fmla="*/ 123120 w 897120"/>
                <a:gd name="textAreaRight" fmla="*/ 709920 w 897120"/>
                <a:gd name="textAreaTop" fmla="*/ 64440 h 426960"/>
                <a:gd name="textAreaBottom" fmla="*/ 34308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Cloud"/>
            <p:cNvSpPr/>
            <p:nvPr/>
          </p:nvSpPr>
          <p:spPr>
            <a:xfrm>
              <a:off x="2519280" y="2433960"/>
              <a:ext cx="897120" cy="428760"/>
            </a:xfrm>
            <a:custGeom>
              <a:avLst/>
              <a:gdLst>
                <a:gd name="textAreaLeft" fmla="*/ 123120 w 897120"/>
                <a:gd name="textAreaRight" fmla="*/ 709920 w 897120"/>
                <a:gd name="textAreaTop" fmla="*/ 64440 h 428760"/>
                <a:gd name="textAreaBottom" fmla="*/ 34380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Cloud"/>
            <p:cNvSpPr/>
            <p:nvPr/>
          </p:nvSpPr>
          <p:spPr>
            <a:xfrm>
              <a:off x="3206160" y="2474640"/>
              <a:ext cx="897120" cy="428760"/>
            </a:xfrm>
            <a:custGeom>
              <a:avLst/>
              <a:gdLst>
                <a:gd name="textAreaLeft" fmla="*/ 123120 w 897120"/>
                <a:gd name="textAreaRight" fmla="*/ 709920 w 897120"/>
                <a:gd name="textAreaTop" fmla="*/ 64440 h 428760"/>
                <a:gd name="textAreaBottom" fmla="*/ 34380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Cloud"/>
            <p:cNvSpPr/>
            <p:nvPr/>
          </p:nvSpPr>
          <p:spPr>
            <a:xfrm>
              <a:off x="2567520" y="2233440"/>
              <a:ext cx="700200" cy="426960"/>
            </a:xfrm>
            <a:custGeom>
              <a:avLst/>
              <a:gdLst>
                <a:gd name="textAreaLeft" fmla="*/ 96120 w 700200"/>
                <a:gd name="textAreaRight" fmla="*/ 554040 w 700200"/>
                <a:gd name="textAreaTop" fmla="*/ 64440 h 426960"/>
                <a:gd name="textAreaBottom" fmla="*/ 34308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Cloud"/>
            <p:cNvSpPr/>
            <p:nvPr/>
          </p:nvSpPr>
          <p:spPr>
            <a:xfrm>
              <a:off x="2567520" y="2060640"/>
              <a:ext cx="540000" cy="637560"/>
            </a:xfrm>
            <a:custGeom>
              <a:avLst/>
              <a:gdLst>
                <a:gd name="textAreaLeft" fmla="*/ 74520 w 540000"/>
                <a:gd name="textAreaRight" fmla="*/ 427680 w 540000"/>
                <a:gd name="textAreaTop" fmla="*/ 96120 h 637560"/>
                <a:gd name="textAreaBottom" fmla="*/ 511920 h 63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Cloud"/>
            <p:cNvSpPr/>
            <p:nvPr/>
          </p:nvSpPr>
          <p:spPr>
            <a:xfrm>
              <a:off x="2666520" y="2558880"/>
              <a:ext cx="896760" cy="428760"/>
            </a:xfrm>
            <a:custGeom>
              <a:avLst/>
              <a:gdLst>
                <a:gd name="textAreaLeft" fmla="*/ 123120 w 896760"/>
                <a:gd name="textAreaRight" fmla="*/ 709560 w 896760"/>
                <a:gd name="textAreaTop" fmla="*/ 64440 h 428760"/>
                <a:gd name="textAreaBottom" fmla="*/ 34380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Group 48"/>
          <p:cNvGrpSpPr/>
          <p:nvPr/>
        </p:nvGrpSpPr>
        <p:grpSpPr>
          <a:xfrm>
            <a:off x="8064360" y="1701720"/>
            <a:ext cx="936360" cy="576000"/>
            <a:chOff x="8064360" y="1701720"/>
            <a:chExt cx="936360" cy="576000"/>
          </a:xfrm>
        </p:grpSpPr>
        <p:sp>
          <p:nvSpPr>
            <p:cNvPr id="1814" name="Cloud"/>
            <p:cNvSpPr/>
            <p:nvPr/>
          </p:nvSpPr>
          <p:spPr>
            <a:xfrm>
              <a:off x="8143560" y="1903320"/>
              <a:ext cx="530280" cy="264960"/>
            </a:xfrm>
            <a:custGeom>
              <a:avLst/>
              <a:gdLst>
                <a:gd name="textAreaLeft" fmla="*/ 72720 w 530280"/>
                <a:gd name="textAreaRight" fmla="*/ 419760 w 530280"/>
                <a:gd name="textAreaTop" fmla="*/ 39960 h 264960"/>
                <a:gd name="textAreaBottom" fmla="*/ 212760 h 2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Cloud"/>
            <p:cNvSpPr/>
            <p:nvPr/>
          </p:nvSpPr>
          <p:spPr>
            <a:xfrm>
              <a:off x="8064360" y="1933200"/>
              <a:ext cx="530280" cy="266400"/>
            </a:xfrm>
            <a:custGeom>
              <a:avLst/>
              <a:gdLst>
                <a:gd name="textAreaLeft" fmla="*/ 72720 w 530280"/>
                <a:gd name="textAreaRight" fmla="*/ 419760 w 530280"/>
                <a:gd name="textAreaTop" fmla="*/ 39960 h 266400"/>
                <a:gd name="textAreaBottom" fmla="*/ 213840 h 26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Cloud"/>
            <p:cNvSpPr/>
            <p:nvPr/>
          </p:nvSpPr>
          <p:spPr>
            <a:xfrm>
              <a:off x="8470440" y="1959120"/>
              <a:ext cx="530280" cy="266400"/>
            </a:xfrm>
            <a:custGeom>
              <a:avLst/>
              <a:gdLst>
                <a:gd name="textAreaLeft" fmla="*/ 72720 w 530280"/>
                <a:gd name="textAreaRight" fmla="*/ 419760 w 530280"/>
                <a:gd name="textAreaTop" fmla="*/ 39960 h 266400"/>
                <a:gd name="textAreaBottom" fmla="*/ 213840 h 26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Cloud"/>
            <p:cNvSpPr/>
            <p:nvPr/>
          </p:nvSpPr>
          <p:spPr>
            <a:xfrm>
              <a:off x="8092800" y="1809720"/>
              <a:ext cx="414720" cy="264960"/>
            </a:xfrm>
            <a:custGeom>
              <a:avLst/>
              <a:gdLst>
                <a:gd name="textAreaLeft" fmla="*/ 56880 w 414720"/>
                <a:gd name="textAreaRight" fmla="*/ 328320 w 414720"/>
                <a:gd name="textAreaTop" fmla="*/ 39960 h 264960"/>
                <a:gd name="textAreaBottom" fmla="*/ 212760 h 2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Cloud"/>
            <p:cNvSpPr/>
            <p:nvPr/>
          </p:nvSpPr>
          <p:spPr>
            <a:xfrm>
              <a:off x="8092800" y="1701720"/>
              <a:ext cx="319320" cy="397080"/>
            </a:xfrm>
            <a:custGeom>
              <a:avLst/>
              <a:gdLst>
                <a:gd name="textAreaLeft" fmla="*/ 43920 w 319320"/>
                <a:gd name="textAreaRight" fmla="*/ 252720 w 319320"/>
                <a:gd name="textAreaTop" fmla="*/ 59760 h 397080"/>
                <a:gd name="textAreaBottom" fmla="*/ 318960 h 3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Cloud"/>
            <p:cNvSpPr/>
            <p:nvPr/>
          </p:nvSpPr>
          <p:spPr>
            <a:xfrm>
              <a:off x="8151120" y="2011320"/>
              <a:ext cx="530280" cy="266400"/>
            </a:xfrm>
            <a:custGeom>
              <a:avLst/>
              <a:gdLst>
                <a:gd name="textAreaLeft" fmla="*/ 72720 w 530280"/>
                <a:gd name="textAreaRight" fmla="*/ 419760 w 530280"/>
                <a:gd name="textAreaTop" fmla="*/ 39960 h 266400"/>
                <a:gd name="textAreaBottom" fmla="*/ 213840 h 26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0" name="AutoShape 41"/>
          <p:cNvSpPr/>
          <p:nvPr/>
        </p:nvSpPr>
        <p:spPr>
          <a:xfrm>
            <a:off x="3851280" y="476280"/>
            <a:ext cx="182880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1" name="Group 56"/>
          <p:cNvGrpSpPr/>
          <p:nvPr/>
        </p:nvGrpSpPr>
        <p:grpSpPr>
          <a:xfrm>
            <a:off x="1726920" y="4491720"/>
            <a:ext cx="2580840" cy="1374120"/>
            <a:chOff x="1726920" y="4491720"/>
            <a:chExt cx="2580840" cy="1374120"/>
          </a:xfrm>
        </p:grpSpPr>
        <p:sp>
          <p:nvSpPr>
            <p:cNvPr id="1822" name="Freeform 135"/>
            <p:cNvSpPr/>
            <p:nvPr/>
          </p:nvSpPr>
          <p:spPr>
            <a:xfrm rot="930000">
              <a:off x="3426480" y="5050440"/>
              <a:ext cx="799200" cy="721800"/>
            </a:xfrm>
            <a:custGeom>
              <a:avLst/>
              <a:gdLst>
                <a:gd name="textAreaLeft" fmla="*/ 0 w 799200"/>
                <a:gd name="textAreaRight" fmla="*/ 799560 w 799200"/>
                <a:gd name="textAreaTop" fmla="*/ 0 h 721800"/>
                <a:gd name="textAreaBottom" fmla="*/ 722160 h 72180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136"/>
            <p:cNvSpPr/>
            <p:nvPr/>
          </p:nvSpPr>
          <p:spPr>
            <a:xfrm rot="930000">
              <a:off x="2957400" y="4903920"/>
              <a:ext cx="799200" cy="721800"/>
            </a:xfrm>
            <a:custGeom>
              <a:avLst/>
              <a:gdLst>
                <a:gd name="textAreaLeft" fmla="*/ 0 w 799200"/>
                <a:gd name="textAreaRight" fmla="*/ 799560 w 799200"/>
                <a:gd name="textAreaTop" fmla="*/ 0 h 721800"/>
                <a:gd name="textAreaBottom" fmla="*/ 722160 h 72180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137"/>
            <p:cNvSpPr/>
            <p:nvPr/>
          </p:nvSpPr>
          <p:spPr>
            <a:xfrm rot="930000">
              <a:off x="2345400" y="4750560"/>
              <a:ext cx="799200" cy="721800"/>
            </a:xfrm>
            <a:custGeom>
              <a:avLst/>
              <a:gdLst>
                <a:gd name="textAreaLeft" fmla="*/ 0 w 799200"/>
                <a:gd name="textAreaRight" fmla="*/ 799560 w 799200"/>
                <a:gd name="textAreaTop" fmla="*/ 0 h 721800"/>
                <a:gd name="textAreaBottom" fmla="*/ 722160 h 72180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138"/>
            <p:cNvSpPr/>
            <p:nvPr/>
          </p:nvSpPr>
          <p:spPr>
            <a:xfrm rot="930000">
              <a:off x="1808640" y="4585320"/>
              <a:ext cx="799200" cy="721800"/>
            </a:xfrm>
            <a:custGeom>
              <a:avLst/>
              <a:gdLst>
                <a:gd name="textAreaLeft" fmla="*/ 0 w 799200"/>
                <a:gd name="textAreaRight" fmla="*/ 799560 w 799200"/>
                <a:gd name="textAreaTop" fmla="*/ 0 h 721800"/>
                <a:gd name="textAreaBottom" fmla="*/ 722160 h 72180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6" name="Freeform 7"/>
          <p:cNvSpPr/>
          <p:nvPr/>
        </p:nvSpPr>
        <p:spPr>
          <a:xfrm>
            <a:off x="0" y="4784760"/>
            <a:ext cx="7631280" cy="2073240"/>
          </a:xfrm>
          <a:custGeom>
            <a:avLst/>
            <a:gdLst>
              <a:gd name="textAreaLeft" fmla="*/ 0 w 7631280"/>
              <a:gd name="textAreaRight" fmla="*/ 7631640 w 7631280"/>
              <a:gd name="textAreaTop" fmla="*/ 0 h 2073240"/>
              <a:gd name="textAreaBottom" fmla="*/ 2073600 h 2073240"/>
            </a:gdLst>
            <a:ahLst/>
            <a:rect l="textAreaLeft" t="textAreaTop" r="textAreaRight" b="textAreaBottom"/>
            <a:pathLst>
              <a:path w="4807" h="1306">
                <a:moveTo>
                  <a:pt x="0" y="106"/>
                </a:moveTo>
                <a:lnTo>
                  <a:pt x="16" y="1306"/>
                </a:lnTo>
                <a:lnTo>
                  <a:pt x="4289" y="1291"/>
                </a:lnTo>
                <a:cubicBezTo>
                  <a:pt x="4807" y="1172"/>
                  <a:pt x="3572" y="776"/>
                  <a:pt x="3124" y="590"/>
                </a:cubicBezTo>
                <a:cubicBezTo>
                  <a:pt x="2676" y="404"/>
                  <a:pt x="2125" y="255"/>
                  <a:pt x="1604" y="174"/>
                </a:cubicBezTo>
                <a:cubicBezTo>
                  <a:pt x="893" y="0"/>
                  <a:pt x="0" y="106"/>
                  <a:pt x="0" y="106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ccff3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7" name="Group 62"/>
          <p:cNvGrpSpPr/>
          <p:nvPr/>
        </p:nvGrpSpPr>
        <p:grpSpPr>
          <a:xfrm>
            <a:off x="-19080" y="6237360"/>
            <a:ext cx="2531880" cy="647280"/>
            <a:chOff x="-19080" y="6237360"/>
            <a:chExt cx="2531880" cy="647280"/>
          </a:xfrm>
        </p:grpSpPr>
        <p:sp>
          <p:nvSpPr>
            <p:cNvPr id="1828" name="Freeform 71"/>
            <p:cNvSpPr/>
            <p:nvPr/>
          </p:nvSpPr>
          <p:spPr>
            <a:xfrm>
              <a:off x="1697760" y="6251400"/>
              <a:ext cx="815040" cy="633240"/>
            </a:xfrm>
            <a:custGeom>
              <a:avLst/>
              <a:gdLst>
                <a:gd name="textAreaLeft" fmla="*/ 0 w 815040"/>
                <a:gd name="textAreaRight" fmla="*/ 815400 w 81504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72"/>
            <p:cNvSpPr/>
            <p:nvPr/>
          </p:nvSpPr>
          <p:spPr>
            <a:xfrm>
              <a:off x="1196280" y="6237360"/>
              <a:ext cx="815040" cy="633240"/>
            </a:xfrm>
            <a:custGeom>
              <a:avLst/>
              <a:gdLst>
                <a:gd name="textAreaLeft" fmla="*/ 0 w 815040"/>
                <a:gd name="textAreaRight" fmla="*/ 815400 w 81504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73"/>
            <p:cNvSpPr/>
            <p:nvPr/>
          </p:nvSpPr>
          <p:spPr>
            <a:xfrm>
              <a:off x="553320" y="6251400"/>
              <a:ext cx="815040" cy="633240"/>
            </a:xfrm>
            <a:custGeom>
              <a:avLst/>
              <a:gdLst>
                <a:gd name="textAreaLeft" fmla="*/ 0 w 815040"/>
                <a:gd name="textAreaRight" fmla="*/ 815400 w 81504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74"/>
            <p:cNvSpPr/>
            <p:nvPr/>
          </p:nvSpPr>
          <p:spPr>
            <a:xfrm>
              <a:off x="-19080" y="6237360"/>
              <a:ext cx="815040" cy="633240"/>
            </a:xfrm>
            <a:custGeom>
              <a:avLst/>
              <a:gdLst>
                <a:gd name="textAreaLeft" fmla="*/ 0 w 815040"/>
                <a:gd name="textAreaRight" fmla="*/ 815400 w 81504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Group 67"/>
          <p:cNvGrpSpPr/>
          <p:nvPr/>
        </p:nvGrpSpPr>
        <p:grpSpPr>
          <a:xfrm>
            <a:off x="2015640" y="4724280"/>
            <a:ext cx="7186680" cy="1958760"/>
            <a:chOff x="2015640" y="4724280"/>
            <a:chExt cx="7186680" cy="1958760"/>
          </a:xfrm>
        </p:grpSpPr>
        <p:grpSp>
          <p:nvGrpSpPr>
            <p:cNvPr id="1833" name="Group 68"/>
            <p:cNvGrpSpPr/>
            <p:nvPr/>
          </p:nvGrpSpPr>
          <p:grpSpPr>
            <a:xfrm>
              <a:off x="6610320" y="4724280"/>
              <a:ext cx="2549520" cy="647280"/>
              <a:chOff x="6610320" y="4724280"/>
              <a:chExt cx="2549520" cy="647280"/>
            </a:xfrm>
          </p:grpSpPr>
          <p:sp>
            <p:nvSpPr>
              <p:cNvPr id="1834" name="Freeform 100"/>
              <p:cNvSpPr/>
              <p:nvPr/>
            </p:nvSpPr>
            <p:spPr>
              <a:xfrm>
                <a:off x="8339040" y="473832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01"/>
              <p:cNvSpPr/>
              <p:nvPr/>
            </p:nvSpPr>
            <p:spPr>
              <a:xfrm>
                <a:off x="7834320" y="472428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02"/>
              <p:cNvSpPr/>
              <p:nvPr/>
            </p:nvSpPr>
            <p:spPr>
              <a:xfrm>
                <a:off x="7186680" y="473832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03"/>
              <p:cNvSpPr/>
              <p:nvPr/>
            </p:nvSpPr>
            <p:spPr>
              <a:xfrm>
                <a:off x="6610320" y="472428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8" name="Group 73"/>
            <p:cNvGrpSpPr/>
            <p:nvPr/>
          </p:nvGrpSpPr>
          <p:grpSpPr>
            <a:xfrm>
              <a:off x="2015640" y="4862160"/>
              <a:ext cx="3627720" cy="1820880"/>
              <a:chOff x="2015640" y="4862160"/>
              <a:chExt cx="3627720" cy="1820880"/>
            </a:xfrm>
          </p:grpSpPr>
          <p:sp>
            <p:nvSpPr>
              <p:cNvPr id="1839" name="Freeform 105"/>
              <p:cNvSpPr/>
              <p:nvPr/>
            </p:nvSpPr>
            <p:spPr>
              <a:xfrm rot="20519400">
                <a:off x="4406040" y="5020200"/>
                <a:ext cx="1145160" cy="774720"/>
              </a:xfrm>
              <a:custGeom>
                <a:avLst/>
                <a:gdLst>
                  <a:gd name="textAreaLeft" fmla="*/ 0 w 1145160"/>
                  <a:gd name="textAreaRight" fmla="*/ 1145520 w 1145160"/>
                  <a:gd name="textAreaTop" fmla="*/ 0 h 774720"/>
                  <a:gd name="textAreaBottom" fmla="*/ 775080 h 77472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106"/>
              <p:cNvSpPr/>
              <p:nvPr/>
            </p:nvSpPr>
            <p:spPr>
              <a:xfrm rot="20519400">
                <a:off x="3731400" y="5221800"/>
                <a:ext cx="1145160" cy="774720"/>
              </a:xfrm>
              <a:custGeom>
                <a:avLst/>
                <a:gdLst>
                  <a:gd name="textAreaLeft" fmla="*/ 0 w 1145160"/>
                  <a:gd name="textAreaRight" fmla="*/ 1145520 w 1145160"/>
                  <a:gd name="textAreaTop" fmla="*/ 0 h 774720"/>
                  <a:gd name="textAreaBottom" fmla="*/ 775080 h 77472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07"/>
              <p:cNvSpPr/>
              <p:nvPr/>
            </p:nvSpPr>
            <p:spPr>
              <a:xfrm rot="20519400">
                <a:off x="2876760" y="5517360"/>
                <a:ext cx="1145160" cy="774720"/>
              </a:xfrm>
              <a:custGeom>
                <a:avLst/>
                <a:gdLst>
                  <a:gd name="textAreaLeft" fmla="*/ 0 w 1145160"/>
                  <a:gd name="textAreaRight" fmla="*/ 1145520 w 1145160"/>
                  <a:gd name="textAreaTop" fmla="*/ 0 h 774720"/>
                  <a:gd name="textAreaBottom" fmla="*/ 775080 h 77472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08"/>
              <p:cNvSpPr/>
              <p:nvPr/>
            </p:nvSpPr>
            <p:spPr>
              <a:xfrm rot="20519400">
                <a:off x="2107080" y="5749920"/>
                <a:ext cx="1145160" cy="774720"/>
              </a:xfrm>
              <a:custGeom>
                <a:avLst/>
                <a:gdLst>
                  <a:gd name="textAreaLeft" fmla="*/ 0 w 1145160"/>
                  <a:gd name="textAreaRight" fmla="*/ 1145520 w 1145160"/>
                  <a:gd name="textAreaTop" fmla="*/ 0 h 774720"/>
                  <a:gd name="textAreaBottom" fmla="*/ 775080 h 77472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Group 78"/>
            <p:cNvGrpSpPr/>
            <p:nvPr/>
          </p:nvGrpSpPr>
          <p:grpSpPr>
            <a:xfrm>
              <a:off x="4494960" y="4776120"/>
              <a:ext cx="2073960" cy="832680"/>
              <a:chOff x="4494960" y="4776120"/>
              <a:chExt cx="2073960" cy="832680"/>
            </a:xfrm>
          </p:grpSpPr>
          <p:sp>
            <p:nvSpPr>
              <p:cNvPr id="1844" name="Freeform 120"/>
              <p:cNvSpPr/>
              <p:nvPr/>
            </p:nvSpPr>
            <p:spPr>
              <a:xfrm rot="21228600">
                <a:off x="5887440" y="480888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121"/>
              <p:cNvSpPr/>
              <p:nvPr/>
            </p:nvSpPr>
            <p:spPr>
              <a:xfrm rot="21228600">
                <a:off x="5489640" y="483768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22"/>
              <p:cNvSpPr/>
              <p:nvPr/>
            </p:nvSpPr>
            <p:spPr>
              <a:xfrm rot="21228600">
                <a:off x="4981680" y="490680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23"/>
              <p:cNvSpPr/>
              <p:nvPr/>
            </p:nvSpPr>
            <p:spPr>
              <a:xfrm rot="21228600">
                <a:off x="4527000" y="494208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8" name="Group 83"/>
            <p:cNvGrpSpPr/>
            <p:nvPr/>
          </p:nvGrpSpPr>
          <p:grpSpPr>
            <a:xfrm>
              <a:off x="6035400" y="4725720"/>
              <a:ext cx="2016000" cy="647640"/>
              <a:chOff x="6035400" y="4725720"/>
              <a:chExt cx="2016000" cy="647640"/>
            </a:xfrm>
          </p:grpSpPr>
          <p:sp>
            <p:nvSpPr>
              <p:cNvPr id="1849" name="Freeform 125"/>
              <p:cNvSpPr/>
              <p:nvPr/>
            </p:nvSpPr>
            <p:spPr>
              <a:xfrm>
                <a:off x="7402320" y="4739760"/>
                <a:ext cx="649080" cy="63360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600"/>
                  <a:gd name="textAreaBottom" fmla="*/ 633960 h 63360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Freeform 126"/>
              <p:cNvSpPr/>
              <p:nvPr/>
            </p:nvSpPr>
            <p:spPr>
              <a:xfrm>
                <a:off x="7003440" y="4725720"/>
                <a:ext cx="649080" cy="63360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600"/>
                  <a:gd name="textAreaBottom" fmla="*/ 633960 h 63360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Freeform 127"/>
              <p:cNvSpPr/>
              <p:nvPr/>
            </p:nvSpPr>
            <p:spPr>
              <a:xfrm>
                <a:off x="6491160" y="4739760"/>
                <a:ext cx="649080" cy="63360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600"/>
                  <a:gd name="textAreaBottom" fmla="*/ 633960 h 63360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28"/>
              <p:cNvSpPr/>
              <p:nvPr/>
            </p:nvSpPr>
            <p:spPr>
              <a:xfrm>
                <a:off x="6035400" y="4725720"/>
                <a:ext cx="649080" cy="63360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600"/>
                  <a:gd name="textAreaBottom" fmla="*/ 633960 h 63360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3" name="Group 88"/>
            <p:cNvGrpSpPr/>
            <p:nvPr/>
          </p:nvGrpSpPr>
          <p:grpSpPr>
            <a:xfrm>
              <a:off x="7186320" y="4724280"/>
              <a:ext cx="2016000" cy="647280"/>
              <a:chOff x="7186320" y="4724280"/>
              <a:chExt cx="2016000" cy="647280"/>
            </a:xfrm>
          </p:grpSpPr>
          <p:sp>
            <p:nvSpPr>
              <p:cNvPr id="1854" name="Freeform 130"/>
              <p:cNvSpPr/>
              <p:nvPr/>
            </p:nvSpPr>
            <p:spPr>
              <a:xfrm>
                <a:off x="8553240" y="473832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Freeform 131"/>
              <p:cNvSpPr/>
              <p:nvPr/>
            </p:nvSpPr>
            <p:spPr>
              <a:xfrm>
                <a:off x="8154360" y="472428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32"/>
              <p:cNvSpPr/>
              <p:nvPr/>
            </p:nvSpPr>
            <p:spPr>
              <a:xfrm>
                <a:off x="7642080" y="473832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33"/>
              <p:cNvSpPr/>
              <p:nvPr/>
            </p:nvSpPr>
            <p:spPr>
              <a:xfrm>
                <a:off x="7186320" y="472428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8" name="Freeform 9"/>
          <p:cNvSpPr/>
          <p:nvPr/>
        </p:nvSpPr>
        <p:spPr>
          <a:xfrm>
            <a:off x="1541520" y="5029200"/>
            <a:ext cx="7653240" cy="1854360"/>
          </a:xfrm>
          <a:custGeom>
            <a:avLst/>
            <a:gdLst>
              <a:gd name="textAreaLeft" fmla="*/ 0 w 7653240"/>
              <a:gd name="textAreaRight" fmla="*/ 7653600 w 7653240"/>
              <a:gd name="textAreaTop" fmla="*/ 0 h 1854360"/>
              <a:gd name="textAreaBottom" fmla="*/ 1854720 h 1854360"/>
            </a:gdLst>
            <a:ahLst/>
            <a:rect l="textAreaLeft" t="textAreaTop" r="textAreaRight" b="textAreaBottom"/>
            <a:pathLst>
              <a:path w="4821" h="1168">
                <a:moveTo>
                  <a:pt x="4821" y="0"/>
                </a:moveTo>
                <a:lnTo>
                  <a:pt x="4821" y="1168"/>
                </a:lnTo>
                <a:lnTo>
                  <a:pt x="469" y="1136"/>
                </a:lnTo>
                <a:cubicBezTo>
                  <a:pt x="0" y="973"/>
                  <a:pt x="1269" y="352"/>
                  <a:pt x="2005" y="192"/>
                </a:cubicBezTo>
                <a:cubicBezTo>
                  <a:pt x="2741" y="32"/>
                  <a:pt x="4821" y="0"/>
                  <a:pt x="4821" y="0"/>
                </a:cubicBez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00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9" name="Group 94"/>
          <p:cNvGrpSpPr/>
          <p:nvPr/>
        </p:nvGrpSpPr>
        <p:grpSpPr>
          <a:xfrm>
            <a:off x="2050920" y="6237360"/>
            <a:ext cx="7129440" cy="647280"/>
            <a:chOff x="2050920" y="6237360"/>
            <a:chExt cx="7129440" cy="647280"/>
          </a:xfrm>
        </p:grpSpPr>
        <p:grpSp>
          <p:nvGrpSpPr>
            <p:cNvPr id="1860" name="Group 95"/>
            <p:cNvGrpSpPr/>
            <p:nvPr/>
          </p:nvGrpSpPr>
          <p:grpSpPr>
            <a:xfrm>
              <a:off x="6630840" y="6237360"/>
              <a:ext cx="2549520" cy="647280"/>
              <a:chOff x="6630840" y="6237360"/>
              <a:chExt cx="2549520" cy="647280"/>
            </a:xfrm>
          </p:grpSpPr>
          <p:sp>
            <p:nvSpPr>
              <p:cNvPr id="1861" name="Freeform 44"/>
              <p:cNvSpPr/>
              <p:nvPr/>
            </p:nvSpPr>
            <p:spPr>
              <a:xfrm>
                <a:off x="8359560" y="625140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56"/>
              <p:cNvSpPr/>
              <p:nvPr/>
            </p:nvSpPr>
            <p:spPr>
              <a:xfrm>
                <a:off x="7854840" y="623736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57"/>
              <p:cNvSpPr/>
              <p:nvPr/>
            </p:nvSpPr>
            <p:spPr>
              <a:xfrm>
                <a:off x="7207200" y="625140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58"/>
              <p:cNvSpPr/>
              <p:nvPr/>
            </p:nvSpPr>
            <p:spPr>
              <a:xfrm>
                <a:off x="6630840" y="623736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5" name="Group 100"/>
            <p:cNvGrpSpPr/>
            <p:nvPr/>
          </p:nvGrpSpPr>
          <p:grpSpPr>
            <a:xfrm>
              <a:off x="4066920" y="6237360"/>
              <a:ext cx="2549520" cy="647280"/>
              <a:chOff x="4066920" y="6237360"/>
              <a:chExt cx="2549520" cy="647280"/>
            </a:xfrm>
          </p:grpSpPr>
          <p:sp>
            <p:nvSpPr>
              <p:cNvPr id="1866" name="Freeform 61"/>
              <p:cNvSpPr/>
              <p:nvPr/>
            </p:nvSpPr>
            <p:spPr>
              <a:xfrm>
                <a:off x="5795640" y="625140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Freeform 62"/>
              <p:cNvSpPr/>
              <p:nvPr/>
            </p:nvSpPr>
            <p:spPr>
              <a:xfrm>
                <a:off x="5290920" y="623736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63"/>
              <p:cNvSpPr/>
              <p:nvPr/>
            </p:nvSpPr>
            <p:spPr>
              <a:xfrm>
                <a:off x="4643280" y="625140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Freeform 64"/>
              <p:cNvSpPr/>
              <p:nvPr/>
            </p:nvSpPr>
            <p:spPr>
              <a:xfrm>
                <a:off x="4066920" y="623736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0" name="Group 105"/>
            <p:cNvGrpSpPr/>
            <p:nvPr/>
          </p:nvGrpSpPr>
          <p:grpSpPr>
            <a:xfrm>
              <a:off x="2527200" y="6237360"/>
              <a:ext cx="2549520" cy="647280"/>
              <a:chOff x="2527200" y="6237360"/>
              <a:chExt cx="2549520" cy="647280"/>
            </a:xfrm>
          </p:grpSpPr>
          <p:sp>
            <p:nvSpPr>
              <p:cNvPr id="1871" name="Freeform 66"/>
              <p:cNvSpPr/>
              <p:nvPr/>
            </p:nvSpPr>
            <p:spPr>
              <a:xfrm>
                <a:off x="4255920" y="625140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67"/>
              <p:cNvSpPr/>
              <p:nvPr/>
            </p:nvSpPr>
            <p:spPr>
              <a:xfrm>
                <a:off x="3751200" y="623736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68"/>
              <p:cNvSpPr/>
              <p:nvPr/>
            </p:nvSpPr>
            <p:spPr>
              <a:xfrm>
                <a:off x="3103560" y="625140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Freeform 69"/>
              <p:cNvSpPr/>
              <p:nvPr/>
            </p:nvSpPr>
            <p:spPr>
              <a:xfrm>
                <a:off x="2527200" y="623736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5" name="Group 110"/>
            <p:cNvGrpSpPr/>
            <p:nvPr/>
          </p:nvGrpSpPr>
          <p:grpSpPr>
            <a:xfrm>
              <a:off x="2050920" y="6237360"/>
              <a:ext cx="2015640" cy="647280"/>
              <a:chOff x="2050920" y="6237360"/>
              <a:chExt cx="2015640" cy="647280"/>
            </a:xfrm>
          </p:grpSpPr>
          <p:sp>
            <p:nvSpPr>
              <p:cNvPr id="1876" name="Freeform 78"/>
              <p:cNvSpPr/>
              <p:nvPr/>
            </p:nvSpPr>
            <p:spPr>
              <a:xfrm>
                <a:off x="3417840" y="6251400"/>
                <a:ext cx="648720" cy="633240"/>
              </a:xfrm>
              <a:custGeom>
                <a:avLst/>
                <a:gdLst>
                  <a:gd name="textAreaLeft" fmla="*/ 0 w 648720"/>
                  <a:gd name="textAreaRight" fmla="*/ 649080 w 64872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79"/>
              <p:cNvSpPr/>
              <p:nvPr/>
            </p:nvSpPr>
            <p:spPr>
              <a:xfrm>
                <a:off x="3018600" y="6237360"/>
                <a:ext cx="648720" cy="633240"/>
              </a:xfrm>
              <a:custGeom>
                <a:avLst/>
                <a:gdLst>
                  <a:gd name="textAreaLeft" fmla="*/ 0 w 648720"/>
                  <a:gd name="textAreaRight" fmla="*/ 649080 w 64872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Freeform 80"/>
              <p:cNvSpPr/>
              <p:nvPr/>
            </p:nvSpPr>
            <p:spPr>
              <a:xfrm>
                <a:off x="2506680" y="6251400"/>
                <a:ext cx="648720" cy="633240"/>
              </a:xfrm>
              <a:custGeom>
                <a:avLst/>
                <a:gdLst>
                  <a:gd name="textAreaLeft" fmla="*/ 0 w 648720"/>
                  <a:gd name="textAreaRight" fmla="*/ 649080 w 64872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81"/>
              <p:cNvSpPr/>
              <p:nvPr/>
            </p:nvSpPr>
            <p:spPr>
              <a:xfrm>
                <a:off x="2050920" y="6237360"/>
                <a:ext cx="648720" cy="633240"/>
              </a:xfrm>
              <a:custGeom>
                <a:avLst/>
                <a:gdLst>
                  <a:gd name="textAreaLeft" fmla="*/ 0 w 648720"/>
                  <a:gd name="textAreaRight" fmla="*/ 649080 w 64872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0" name="Group 115"/>
            <p:cNvGrpSpPr/>
            <p:nvPr/>
          </p:nvGrpSpPr>
          <p:grpSpPr>
            <a:xfrm>
              <a:off x="4284360" y="6237360"/>
              <a:ext cx="2016000" cy="647280"/>
              <a:chOff x="4284360" y="6237360"/>
              <a:chExt cx="2016000" cy="647280"/>
            </a:xfrm>
          </p:grpSpPr>
          <p:sp>
            <p:nvSpPr>
              <p:cNvPr id="1881" name="Freeform 83"/>
              <p:cNvSpPr/>
              <p:nvPr/>
            </p:nvSpPr>
            <p:spPr>
              <a:xfrm>
                <a:off x="5651280" y="625140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84"/>
              <p:cNvSpPr/>
              <p:nvPr/>
            </p:nvSpPr>
            <p:spPr>
              <a:xfrm>
                <a:off x="5252400" y="623736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85"/>
              <p:cNvSpPr/>
              <p:nvPr/>
            </p:nvSpPr>
            <p:spPr>
              <a:xfrm>
                <a:off x="4740120" y="625140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Freeform 86"/>
              <p:cNvSpPr/>
              <p:nvPr/>
            </p:nvSpPr>
            <p:spPr>
              <a:xfrm>
                <a:off x="4284360" y="623736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5" name="Group 120"/>
            <p:cNvGrpSpPr/>
            <p:nvPr/>
          </p:nvGrpSpPr>
          <p:grpSpPr>
            <a:xfrm>
              <a:off x="5796000" y="6237360"/>
              <a:ext cx="2015640" cy="647280"/>
              <a:chOff x="5796000" y="6237360"/>
              <a:chExt cx="2015640" cy="647280"/>
            </a:xfrm>
          </p:grpSpPr>
          <p:sp>
            <p:nvSpPr>
              <p:cNvPr id="1886" name="Freeform 88"/>
              <p:cNvSpPr/>
              <p:nvPr/>
            </p:nvSpPr>
            <p:spPr>
              <a:xfrm>
                <a:off x="7162920" y="6251400"/>
                <a:ext cx="648720" cy="633240"/>
              </a:xfrm>
              <a:custGeom>
                <a:avLst/>
                <a:gdLst>
                  <a:gd name="textAreaLeft" fmla="*/ 0 w 648720"/>
                  <a:gd name="textAreaRight" fmla="*/ 649080 w 64872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89"/>
              <p:cNvSpPr/>
              <p:nvPr/>
            </p:nvSpPr>
            <p:spPr>
              <a:xfrm>
                <a:off x="6763680" y="6237360"/>
                <a:ext cx="648720" cy="633240"/>
              </a:xfrm>
              <a:custGeom>
                <a:avLst/>
                <a:gdLst>
                  <a:gd name="textAreaLeft" fmla="*/ 0 w 648720"/>
                  <a:gd name="textAreaRight" fmla="*/ 649080 w 64872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90"/>
              <p:cNvSpPr/>
              <p:nvPr/>
            </p:nvSpPr>
            <p:spPr>
              <a:xfrm>
                <a:off x="6251760" y="6251400"/>
                <a:ext cx="648720" cy="633240"/>
              </a:xfrm>
              <a:custGeom>
                <a:avLst/>
                <a:gdLst>
                  <a:gd name="textAreaLeft" fmla="*/ 0 w 648720"/>
                  <a:gd name="textAreaRight" fmla="*/ 649080 w 64872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Freeform 91"/>
              <p:cNvSpPr/>
              <p:nvPr/>
            </p:nvSpPr>
            <p:spPr>
              <a:xfrm>
                <a:off x="5796000" y="6237360"/>
                <a:ext cx="648720" cy="633240"/>
              </a:xfrm>
              <a:custGeom>
                <a:avLst/>
                <a:gdLst>
                  <a:gd name="textAreaLeft" fmla="*/ 0 w 648720"/>
                  <a:gd name="textAreaRight" fmla="*/ 649080 w 64872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0" name="Group 125"/>
            <p:cNvGrpSpPr/>
            <p:nvPr/>
          </p:nvGrpSpPr>
          <p:grpSpPr>
            <a:xfrm>
              <a:off x="7092720" y="6237360"/>
              <a:ext cx="2016000" cy="647280"/>
              <a:chOff x="7092720" y="6237360"/>
              <a:chExt cx="2016000" cy="647280"/>
            </a:xfrm>
          </p:grpSpPr>
          <p:sp>
            <p:nvSpPr>
              <p:cNvPr id="1891" name="Freeform 93"/>
              <p:cNvSpPr/>
              <p:nvPr/>
            </p:nvSpPr>
            <p:spPr>
              <a:xfrm>
                <a:off x="8459640" y="625140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94"/>
              <p:cNvSpPr/>
              <p:nvPr/>
            </p:nvSpPr>
            <p:spPr>
              <a:xfrm>
                <a:off x="8060760" y="623736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Freeform 95"/>
              <p:cNvSpPr/>
              <p:nvPr/>
            </p:nvSpPr>
            <p:spPr>
              <a:xfrm>
                <a:off x="7548480" y="625140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96"/>
              <p:cNvSpPr/>
              <p:nvPr/>
            </p:nvSpPr>
            <p:spPr>
              <a:xfrm>
                <a:off x="7092720" y="623736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5" name="Group 130"/>
          <p:cNvGrpSpPr/>
          <p:nvPr/>
        </p:nvGrpSpPr>
        <p:grpSpPr>
          <a:xfrm>
            <a:off x="6584400" y="5155200"/>
            <a:ext cx="367920" cy="368640"/>
            <a:chOff x="6584400" y="5155200"/>
            <a:chExt cx="367920" cy="368640"/>
          </a:xfrm>
        </p:grpSpPr>
        <p:grpSp>
          <p:nvGrpSpPr>
            <p:cNvPr id="1896" name="Group 131"/>
            <p:cNvGrpSpPr/>
            <p:nvPr/>
          </p:nvGrpSpPr>
          <p:grpSpPr>
            <a:xfrm>
              <a:off x="6588000" y="5157720"/>
              <a:ext cx="363240" cy="363240"/>
              <a:chOff x="6588000" y="5157720"/>
              <a:chExt cx="363240" cy="363240"/>
            </a:xfrm>
          </p:grpSpPr>
          <p:grpSp>
            <p:nvGrpSpPr>
              <p:cNvPr id="1897" name="Group 132"/>
              <p:cNvGrpSpPr/>
              <p:nvPr/>
            </p:nvGrpSpPr>
            <p:grpSpPr>
              <a:xfrm>
                <a:off x="6588000" y="5157720"/>
                <a:ext cx="363240" cy="363240"/>
                <a:chOff x="6588000" y="5157720"/>
                <a:chExt cx="363240" cy="363240"/>
              </a:xfrm>
            </p:grpSpPr>
            <p:sp>
              <p:nvSpPr>
                <p:cNvPr id="1898" name="Oval 163"/>
                <p:cNvSpPr/>
                <p:nvPr/>
              </p:nvSpPr>
              <p:spPr>
                <a:xfrm>
                  <a:off x="6588000" y="53017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9" name="Oval 164"/>
                <p:cNvSpPr/>
                <p:nvPr/>
              </p:nvSpPr>
              <p:spPr>
                <a:xfrm rot="5400000">
                  <a:off x="658728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0" name="Group 135"/>
              <p:cNvGrpSpPr/>
              <p:nvPr/>
            </p:nvGrpSpPr>
            <p:grpSpPr>
              <a:xfrm>
                <a:off x="6609240" y="5181480"/>
                <a:ext cx="317160" cy="317880"/>
                <a:chOff x="6609240" y="5181480"/>
                <a:chExt cx="317160" cy="317880"/>
              </a:xfrm>
            </p:grpSpPr>
            <p:sp>
              <p:nvSpPr>
                <p:cNvPr id="1901" name="Oval 166"/>
                <p:cNvSpPr/>
                <p:nvPr/>
              </p:nvSpPr>
              <p:spPr>
                <a:xfrm rot="2700000">
                  <a:off x="6585120" y="53006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Oval 167"/>
                <p:cNvSpPr/>
                <p:nvPr/>
              </p:nvSpPr>
              <p:spPr>
                <a:xfrm rot="8100000">
                  <a:off x="658692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03" name="Group 138"/>
            <p:cNvGrpSpPr/>
            <p:nvPr/>
          </p:nvGrpSpPr>
          <p:grpSpPr>
            <a:xfrm>
              <a:off x="6584400" y="5155200"/>
              <a:ext cx="367920" cy="368640"/>
              <a:chOff x="6584400" y="5155200"/>
              <a:chExt cx="367920" cy="368640"/>
            </a:xfrm>
          </p:grpSpPr>
          <p:grpSp>
            <p:nvGrpSpPr>
              <p:cNvPr id="1904" name="Group 139"/>
              <p:cNvGrpSpPr/>
              <p:nvPr/>
            </p:nvGrpSpPr>
            <p:grpSpPr>
              <a:xfrm>
                <a:off x="6584400" y="5155200"/>
                <a:ext cx="367920" cy="367920"/>
                <a:chOff x="6584400" y="5155200"/>
                <a:chExt cx="367920" cy="367920"/>
              </a:xfrm>
            </p:grpSpPr>
            <p:sp>
              <p:nvSpPr>
                <p:cNvPr id="1905" name="Oval 170"/>
                <p:cNvSpPr/>
                <p:nvPr/>
              </p:nvSpPr>
              <p:spPr>
                <a:xfrm rot="1320000">
                  <a:off x="6586560" y="53010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6" name="Oval 171"/>
                <p:cNvSpPr/>
                <p:nvPr/>
              </p:nvSpPr>
              <p:spPr>
                <a:xfrm rot="6720000">
                  <a:off x="658728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7" name="Group 142"/>
              <p:cNvGrpSpPr/>
              <p:nvPr/>
            </p:nvGrpSpPr>
            <p:grpSpPr>
              <a:xfrm>
                <a:off x="6585840" y="5157360"/>
                <a:ext cx="366480" cy="366480"/>
                <a:chOff x="6585840" y="5157360"/>
                <a:chExt cx="366480" cy="366480"/>
              </a:xfrm>
            </p:grpSpPr>
            <p:sp>
              <p:nvSpPr>
                <p:cNvPr id="1908" name="Oval 173"/>
                <p:cNvSpPr/>
                <p:nvPr/>
              </p:nvSpPr>
              <p:spPr>
                <a:xfrm rot="4020000">
                  <a:off x="6584400" y="52992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Oval 174"/>
                <p:cNvSpPr/>
                <p:nvPr/>
              </p:nvSpPr>
              <p:spPr>
                <a:xfrm rot="9420000">
                  <a:off x="6587280" y="5297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10" name="Oval 175"/>
            <p:cNvSpPr/>
            <p:nvPr/>
          </p:nvSpPr>
          <p:spPr>
            <a:xfrm>
              <a:off x="6710040" y="5285880"/>
              <a:ext cx="118800" cy="1058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1" name="Group 146"/>
          <p:cNvGrpSpPr/>
          <p:nvPr/>
        </p:nvGrpSpPr>
        <p:grpSpPr>
          <a:xfrm>
            <a:off x="6081120" y="5226840"/>
            <a:ext cx="367920" cy="368280"/>
            <a:chOff x="6081120" y="5226840"/>
            <a:chExt cx="367920" cy="368280"/>
          </a:xfrm>
        </p:grpSpPr>
        <p:grpSp>
          <p:nvGrpSpPr>
            <p:cNvPr id="1912" name="Group 147"/>
            <p:cNvGrpSpPr/>
            <p:nvPr/>
          </p:nvGrpSpPr>
          <p:grpSpPr>
            <a:xfrm>
              <a:off x="6084720" y="5229360"/>
              <a:ext cx="363240" cy="362880"/>
              <a:chOff x="6084720" y="5229360"/>
              <a:chExt cx="363240" cy="362880"/>
            </a:xfrm>
          </p:grpSpPr>
          <p:grpSp>
            <p:nvGrpSpPr>
              <p:cNvPr id="1913" name="Group 148"/>
              <p:cNvGrpSpPr/>
              <p:nvPr/>
            </p:nvGrpSpPr>
            <p:grpSpPr>
              <a:xfrm>
                <a:off x="6084720" y="5229360"/>
                <a:ext cx="363240" cy="362880"/>
                <a:chOff x="6084720" y="5229360"/>
                <a:chExt cx="363240" cy="362880"/>
              </a:xfrm>
            </p:grpSpPr>
            <p:sp>
              <p:nvSpPr>
                <p:cNvPr id="1914" name="Oval 179"/>
                <p:cNvSpPr/>
                <p:nvPr/>
              </p:nvSpPr>
              <p:spPr>
                <a:xfrm>
                  <a:off x="6084720" y="53733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5" name="Oval 180"/>
                <p:cNvSpPr/>
                <p:nvPr/>
              </p:nvSpPr>
              <p:spPr>
                <a:xfrm rot="5400000">
                  <a:off x="608400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6" name="Group 151"/>
              <p:cNvGrpSpPr/>
              <p:nvPr/>
            </p:nvGrpSpPr>
            <p:grpSpPr>
              <a:xfrm>
                <a:off x="6105960" y="5253120"/>
                <a:ext cx="317160" cy="317880"/>
                <a:chOff x="6105960" y="5253120"/>
                <a:chExt cx="317160" cy="317880"/>
              </a:xfrm>
            </p:grpSpPr>
            <p:sp>
              <p:nvSpPr>
                <p:cNvPr id="1917" name="Oval 182"/>
                <p:cNvSpPr/>
                <p:nvPr/>
              </p:nvSpPr>
              <p:spPr>
                <a:xfrm rot="2700000">
                  <a:off x="6081840" y="53719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Oval 183"/>
                <p:cNvSpPr/>
                <p:nvPr/>
              </p:nvSpPr>
              <p:spPr>
                <a:xfrm rot="8100000">
                  <a:off x="6083640" y="5369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9" name="Group 154"/>
            <p:cNvGrpSpPr/>
            <p:nvPr/>
          </p:nvGrpSpPr>
          <p:grpSpPr>
            <a:xfrm>
              <a:off x="6081120" y="5226840"/>
              <a:ext cx="367920" cy="368280"/>
              <a:chOff x="6081120" y="5226840"/>
              <a:chExt cx="367920" cy="368280"/>
            </a:xfrm>
          </p:grpSpPr>
          <p:grpSp>
            <p:nvGrpSpPr>
              <p:cNvPr id="1920" name="Group 155"/>
              <p:cNvGrpSpPr/>
              <p:nvPr/>
            </p:nvGrpSpPr>
            <p:grpSpPr>
              <a:xfrm>
                <a:off x="6081120" y="5226840"/>
                <a:ext cx="367920" cy="367560"/>
                <a:chOff x="6081120" y="5226840"/>
                <a:chExt cx="367920" cy="367560"/>
              </a:xfrm>
            </p:grpSpPr>
            <p:sp>
              <p:nvSpPr>
                <p:cNvPr id="1921" name="Oval 186"/>
                <p:cNvSpPr/>
                <p:nvPr/>
              </p:nvSpPr>
              <p:spPr>
                <a:xfrm rot="1320000">
                  <a:off x="6083280" y="53726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2" name="Oval 187"/>
                <p:cNvSpPr/>
                <p:nvPr/>
              </p:nvSpPr>
              <p:spPr>
                <a:xfrm rot="6720000">
                  <a:off x="608436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3" name="Group 158"/>
              <p:cNvGrpSpPr/>
              <p:nvPr/>
            </p:nvGrpSpPr>
            <p:grpSpPr>
              <a:xfrm>
                <a:off x="6082560" y="5229000"/>
                <a:ext cx="366480" cy="366120"/>
                <a:chOff x="6082560" y="5229000"/>
                <a:chExt cx="366480" cy="366120"/>
              </a:xfrm>
            </p:grpSpPr>
            <p:sp>
              <p:nvSpPr>
                <p:cNvPr id="1924" name="Oval 189"/>
                <p:cNvSpPr/>
                <p:nvPr/>
              </p:nvSpPr>
              <p:spPr>
                <a:xfrm rot="4020000">
                  <a:off x="6081120" y="53708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5" name="Oval 190"/>
                <p:cNvSpPr/>
                <p:nvPr/>
              </p:nvSpPr>
              <p:spPr>
                <a:xfrm rot="9420000">
                  <a:off x="6084000" y="5369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26" name="Oval 191"/>
            <p:cNvSpPr/>
            <p:nvPr/>
          </p:nvSpPr>
          <p:spPr>
            <a:xfrm>
              <a:off x="6206760" y="5357520"/>
              <a:ext cx="118800" cy="1058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7" name="Group 162"/>
          <p:cNvGrpSpPr/>
          <p:nvPr/>
        </p:nvGrpSpPr>
        <p:grpSpPr>
          <a:xfrm>
            <a:off x="6656040" y="5587200"/>
            <a:ext cx="367920" cy="368280"/>
            <a:chOff x="6656040" y="5587200"/>
            <a:chExt cx="367920" cy="368280"/>
          </a:xfrm>
        </p:grpSpPr>
        <p:grpSp>
          <p:nvGrpSpPr>
            <p:cNvPr id="1928" name="Group 163"/>
            <p:cNvGrpSpPr/>
            <p:nvPr/>
          </p:nvGrpSpPr>
          <p:grpSpPr>
            <a:xfrm>
              <a:off x="6659640" y="5589720"/>
              <a:ext cx="363240" cy="362880"/>
              <a:chOff x="6659640" y="5589720"/>
              <a:chExt cx="363240" cy="362880"/>
            </a:xfrm>
          </p:grpSpPr>
          <p:grpSp>
            <p:nvGrpSpPr>
              <p:cNvPr id="1929" name="Group 164"/>
              <p:cNvGrpSpPr/>
              <p:nvPr/>
            </p:nvGrpSpPr>
            <p:grpSpPr>
              <a:xfrm>
                <a:off x="6659640" y="5589720"/>
                <a:ext cx="363240" cy="362880"/>
                <a:chOff x="6659640" y="5589720"/>
                <a:chExt cx="363240" cy="362880"/>
              </a:xfrm>
            </p:grpSpPr>
            <p:sp>
              <p:nvSpPr>
                <p:cNvPr id="1930" name="Oval 195"/>
                <p:cNvSpPr/>
                <p:nvPr/>
              </p:nvSpPr>
              <p:spPr>
                <a:xfrm>
                  <a:off x="6659640" y="57337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Oval 196"/>
                <p:cNvSpPr/>
                <p:nvPr/>
              </p:nvSpPr>
              <p:spPr>
                <a:xfrm rot="5400000">
                  <a:off x="6658920" y="572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2" name="Group 167"/>
              <p:cNvGrpSpPr/>
              <p:nvPr/>
            </p:nvGrpSpPr>
            <p:grpSpPr>
              <a:xfrm>
                <a:off x="6680880" y="5613480"/>
                <a:ext cx="317160" cy="317880"/>
                <a:chOff x="6680880" y="5613480"/>
                <a:chExt cx="317160" cy="317880"/>
              </a:xfrm>
            </p:grpSpPr>
            <p:sp>
              <p:nvSpPr>
                <p:cNvPr id="1933" name="Oval 198"/>
                <p:cNvSpPr/>
                <p:nvPr/>
              </p:nvSpPr>
              <p:spPr>
                <a:xfrm rot="2700000">
                  <a:off x="6656760" y="573228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Oval 199"/>
                <p:cNvSpPr/>
                <p:nvPr/>
              </p:nvSpPr>
              <p:spPr>
                <a:xfrm rot="8100000">
                  <a:off x="6658560" y="5729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5" name="Group 170"/>
            <p:cNvGrpSpPr/>
            <p:nvPr/>
          </p:nvGrpSpPr>
          <p:grpSpPr>
            <a:xfrm>
              <a:off x="6656040" y="5587200"/>
              <a:ext cx="367920" cy="368280"/>
              <a:chOff x="6656040" y="5587200"/>
              <a:chExt cx="367920" cy="368280"/>
            </a:xfrm>
          </p:grpSpPr>
          <p:grpSp>
            <p:nvGrpSpPr>
              <p:cNvPr id="1936" name="Group 171"/>
              <p:cNvGrpSpPr/>
              <p:nvPr/>
            </p:nvGrpSpPr>
            <p:grpSpPr>
              <a:xfrm>
                <a:off x="6656040" y="5587200"/>
                <a:ext cx="367920" cy="367560"/>
                <a:chOff x="6656040" y="5587200"/>
                <a:chExt cx="367920" cy="367560"/>
              </a:xfrm>
            </p:grpSpPr>
            <p:sp>
              <p:nvSpPr>
                <p:cNvPr id="1937" name="Oval 202"/>
                <p:cNvSpPr/>
                <p:nvPr/>
              </p:nvSpPr>
              <p:spPr>
                <a:xfrm rot="1320000">
                  <a:off x="6658200" y="57330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8" name="Oval 203"/>
                <p:cNvSpPr/>
                <p:nvPr/>
              </p:nvSpPr>
              <p:spPr>
                <a:xfrm rot="6720000">
                  <a:off x="6659280" y="572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9" name="Group 174"/>
              <p:cNvGrpSpPr/>
              <p:nvPr/>
            </p:nvGrpSpPr>
            <p:grpSpPr>
              <a:xfrm>
                <a:off x="6657480" y="5589360"/>
                <a:ext cx="366480" cy="366120"/>
                <a:chOff x="6657480" y="5589360"/>
                <a:chExt cx="366480" cy="366120"/>
              </a:xfrm>
            </p:grpSpPr>
            <p:sp>
              <p:nvSpPr>
                <p:cNvPr id="1940" name="Oval 205"/>
                <p:cNvSpPr/>
                <p:nvPr/>
              </p:nvSpPr>
              <p:spPr>
                <a:xfrm rot="4020000">
                  <a:off x="6656040" y="57312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Oval 206"/>
                <p:cNvSpPr/>
                <p:nvPr/>
              </p:nvSpPr>
              <p:spPr>
                <a:xfrm rot="9420000">
                  <a:off x="6658920" y="5729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42" name="Oval 207"/>
            <p:cNvSpPr/>
            <p:nvPr/>
          </p:nvSpPr>
          <p:spPr>
            <a:xfrm>
              <a:off x="6781680" y="5717880"/>
              <a:ext cx="118800" cy="1058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3" name="Group 178"/>
          <p:cNvGrpSpPr/>
          <p:nvPr/>
        </p:nvGrpSpPr>
        <p:grpSpPr>
          <a:xfrm>
            <a:off x="7449480" y="5661000"/>
            <a:ext cx="219240" cy="219240"/>
            <a:chOff x="7449480" y="5661000"/>
            <a:chExt cx="219240" cy="219240"/>
          </a:xfrm>
        </p:grpSpPr>
        <p:grpSp>
          <p:nvGrpSpPr>
            <p:cNvPr id="1944" name="Group 179"/>
            <p:cNvGrpSpPr/>
            <p:nvPr/>
          </p:nvGrpSpPr>
          <p:grpSpPr>
            <a:xfrm>
              <a:off x="7451640" y="5662440"/>
              <a:ext cx="216000" cy="216000"/>
              <a:chOff x="7451640" y="5662440"/>
              <a:chExt cx="216000" cy="216000"/>
            </a:xfrm>
          </p:grpSpPr>
          <p:grpSp>
            <p:nvGrpSpPr>
              <p:cNvPr id="1945" name="Group 180"/>
              <p:cNvGrpSpPr/>
              <p:nvPr/>
            </p:nvGrpSpPr>
            <p:grpSpPr>
              <a:xfrm>
                <a:off x="7451640" y="5662440"/>
                <a:ext cx="216000" cy="216000"/>
                <a:chOff x="7451640" y="5662440"/>
                <a:chExt cx="216000" cy="216000"/>
              </a:xfrm>
            </p:grpSpPr>
            <p:sp>
              <p:nvSpPr>
                <p:cNvPr id="1946" name="Oval 227"/>
                <p:cNvSpPr/>
                <p:nvPr/>
              </p:nvSpPr>
              <p:spPr>
                <a:xfrm>
                  <a:off x="7451640" y="57481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Oval 228"/>
                <p:cNvSpPr/>
                <p:nvPr/>
              </p:nvSpPr>
              <p:spPr>
                <a:xfrm rot="5400000">
                  <a:off x="7451280" y="5745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8" name="Group 183"/>
              <p:cNvGrpSpPr/>
              <p:nvPr/>
            </p:nvGrpSpPr>
            <p:grpSpPr>
              <a:xfrm>
                <a:off x="7464600" y="5676480"/>
                <a:ext cx="188640" cy="189000"/>
                <a:chOff x="7464600" y="5676480"/>
                <a:chExt cx="188640" cy="189000"/>
              </a:xfrm>
            </p:grpSpPr>
            <p:sp>
              <p:nvSpPr>
                <p:cNvPr id="1949" name="Oval 230"/>
                <p:cNvSpPr/>
                <p:nvPr/>
              </p:nvSpPr>
              <p:spPr>
                <a:xfrm rot="2700000">
                  <a:off x="7450200" y="57474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0" name="Oval 231"/>
                <p:cNvSpPr/>
                <p:nvPr/>
              </p:nvSpPr>
              <p:spPr>
                <a:xfrm rot="8100000">
                  <a:off x="745128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1" name="Group 186"/>
            <p:cNvGrpSpPr/>
            <p:nvPr/>
          </p:nvGrpSpPr>
          <p:grpSpPr>
            <a:xfrm>
              <a:off x="7449480" y="5661000"/>
              <a:ext cx="219240" cy="219240"/>
              <a:chOff x="7449480" y="5661000"/>
              <a:chExt cx="219240" cy="219240"/>
            </a:xfrm>
          </p:grpSpPr>
          <p:grpSp>
            <p:nvGrpSpPr>
              <p:cNvPr id="1952" name="Group 187"/>
              <p:cNvGrpSpPr/>
              <p:nvPr/>
            </p:nvGrpSpPr>
            <p:grpSpPr>
              <a:xfrm>
                <a:off x="7449480" y="5661000"/>
                <a:ext cx="218520" cy="218520"/>
                <a:chOff x="7449480" y="5661000"/>
                <a:chExt cx="218520" cy="218520"/>
              </a:xfrm>
            </p:grpSpPr>
            <p:sp>
              <p:nvSpPr>
                <p:cNvPr id="1953" name="Oval 234"/>
                <p:cNvSpPr/>
                <p:nvPr/>
              </p:nvSpPr>
              <p:spPr>
                <a:xfrm rot="1320000">
                  <a:off x="7450560" y="57477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Oval 235"/>
                <p:cNvSpPr/>
                <p:nvPr/>
              </p:nvSpPr>
              <p:spPr>
                <a:xfrm rot="6720000">
                  <a:off x="745128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5" name="Group 190"/>
              <p:cNvGrpSpPr/>
              <p:nvPr/>
            </p:nvGrpSpPr>
            <p:grpSpPr>
              <a:xfrm>
                <a:off x="7450920" y="5662440"/>
                <a:ext cx="217800" cy="217800"/>
                <a:chOff x="7450920" y="5662440"/>
                <a:chExt cx="217800" cy="217800"/>
              </a:xfrm>
            </p:grpSpPr>
            <p:sp>
              <p:nvSpPr>
                <p:cNvPr id="1956" name="Oval 237"/>
                <p:cNvSpPr/>
                <p:nvPr/>
              </p:nvSpPr>
              <p:spPr>
                <a:xfrm rot="4020000">
                  <a:off x="7449480" y="57466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Oval 238"/>
                <p:cNvSpPr/>
                <p:nvPr/>
              </p:nvSpPr>
              <p:spPr>
                <a:xfrm rot="9420000">
                  <a:off x="7451640" y="574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8" name="Oval 239"/>
            <p:cNvSpPr/>
            <p:nvPr/>
          </p:nvSpPr>
          <p:spPr>
            <a:xfrm>
              <a:off x="7524000" y="5738760"/>
              <a:ext cx="70560" cy="630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9" name="Group 194"/>
          <p:cNvGrpSpPr/>
          <p:nvPr/>
        </p:nvGrpSpPr>
        <p:grpSpPr>
          <a:xfrm>
            <a:off x="4420800" y="5371200"/>
            <a:ext cx="367920" cy="368640"/>
            <a:chOff x="4420800" y="5371200"/>
            <a:chExt cx="367920" cy="368640"/>
          </a:xfrm>
        </p:grpSpPr>
        <p:grpSp>
          <p:nvGrpSpPr>
            <p:cNvPr id="1960" name="Group 195"/>
            <p:cNvGrpSpPr/>
            <p:nvPr/>
          </p:nvGrpSpPr>
          <p:grpSpPr>
            <a:xfrm>
              <a:off x="4424400" y="5373720"/>
              <a:ext cx="363240" cy="363240"/>
              <a:chOff x="4424400" y="5373720"/>
              <a:chExt cx="363240" cy="363240"/>
            </a:xfrm>
          </p:grpSpPr>
          <p:grpSp>
            <p:nvGrpSpPr>
              <p:cNvPr id="1961" name="Group 196"/>
              <p:cNvGrpSpPr/>
              <p:nvPr/>
            </p:nvGrpSpPr>
            <p:grpSpPr>
              <a:xfrm>
                <a:off x="4424400" y="5373720"/>
                <a:ext cx="363240" cy="363240"/>
                <a:chOff x="4424400" y="5373720"/>
                <a:chExt cx="363240" cy="363240"/>
              </a:xfrm>
            </p:grpSpPr>
            <p:sp>
              <p:nvSpPr>
                <p:cNvPr id="1962" name="Oval 243"/>
                <p:cNvSpPr/>
                <p:nvPr/>
              </p:nvSpPr>
              <p:spPr>
                <a:xfrm>
                  <a:off x="4424400" y="55177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Oval 244"/>
                <p:cNvSpPr/>
                <p:nvPr/>
              </p:nvSpPr>
              <p:spPr>
                <a:xfrm rot="5400000">
                  <a:off x="4423680" y="551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4" name="Group 199"/>
              <p:cNvGrpSpPr/>
              <p:nvPr/>
            </p:nvGrpSpPr>
            <p:grpSpPr>
              <a:xfrm>
                <a:off x="4445640" y="5397480"/>
                <a:ext cx="317160" cy="317880"/>
                <a:chOff x="4445640" y="5397480"/>
                <a:chExt cx="317160" cy="317880"/>
              </a:xfrm>
            </p:grpSpPr>
            <p:sp>
              <p:nvSpPr>
                <p:cNvPr id="1965" name="Oval 246"/>
                <p:cNvSpPr/>
                <p:nvPr/>
              </p:nvSpPr>
              <p:spPr>
                <a:xfrm rot="2700000">
                  <a:off x="4421520" y="55166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6" name="Oval 247"/>
                <p:cNvSpPr/>
                <p:nvPr/>
              </p:nvSpPr>
              <p:spPr>
                <a:xfrm rot="8100000">
                  <a:off x="4423320" y="5513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7" name="Group 202"/>
            <p:cNvGrpSpPr/>
            <p:nvPr/>
          </p:nvGrpSpPr>
          <p:grpSpPr>
            <a:xfrm>
              <a:off x="4420800" y="5371200"/>
              <a:ext cx="367920" cy="368640"/>
              <a:chOff x="4420800" y="5371200"/>
              <a:chExt cx="367920" cy="368640"/>
            </a:xfrm>
          </p:grpSpPr>
          <p:grpSp>
            <p:nvGrpSpPr>
              <p:cNvPr id="1968" name="Group 203"/>
              <p:cNvGrpSpPr/>
              <p:nvPr/>
            </p:nvGrpSpPr>
            <p:grpSpPr>
              <a:xfrm>
                <a:off x="4420800" y="5371200"/>
                <a:ext cx="367920" cy="367920"/>
                <a:chOff x="4420800" y="5371200"/>
                <a:chExt cx="367920" cy="367920"/>
              </a:xfrm>
            </p:grpSpPr>
            <p:sp>
              <p:nvSpPr>
                <p:cNvPr id="1969" name="Oval 250"/>
                <p:cNvSpPr/>
                <p:nvPr/>
              </p:nvSpPr>
              <p:spPr>
                <a:xfrm rot="1320000">
                  <a:off x="4422960" y="55170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0" name="Oval 251"/>
                <p:cNvSpPr/>
                <p:nvPr/>
              </p:nvSpPr>
              <p:spPr>
                <a:xfrm rot="6720000">
                  <a:off x="4423680" y="5513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1" name="Group 206"/>
              <p:cNvGrpSpPr/>
              <p:nvPr/>
            </p:nvGrpSpPr>
            <p:grpSpPr>
              <a:xfrm>
                <a:off x="4422240" y="5373360"/>
                <a:ext cx="366480" cy="366480"/>
                <a:chOff x="4422240" y="5373360"/>
                <a:chExt cx="366480" cy="366480"/>
              </a:xfrm>
            </p:grpSpPr>
            <p:sp>
              <p:nvSpPr>
                <p:cNvPr id="1972" name="Oval 253"/>
                <p:cNvSpPr/>
                <p:nvPr/>
              </p:nvSpPr>
              <p:spPr>
                <a:xfrm rot="4020000">
                  <a:off x="4420800" y="55152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3" name="Oval 254"/>
                <p:cNvSpPr/>
                <p:nvPr/>
              </p:nvSpPr>
              <p:spPr>
                <a:xfrm rot="9420000">
                  <a:off x="4423680" y="5513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74" name="Oval 255"/>
            <p:cNvSpPr/>
            <p:nvPr/>
          </p:nvSpPr>
          <p:spPr>
            <a:xfrm>
              <a:off x="4546440" y="5501880"/>
              <a:ext cx="118800" cy="1058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5" name="Group 210"/>
          <p:cNvGrpSpPr/>
          <p:nvPr/>
        </p:nvGrpSpPr>
        <p:grpSpPr>
          <a:xfrm>
            <a:off x="3988800" y="5514120"/>
            <a:ext cx="367920" cy="368640"/>
            <a:chOff x="3988800" y="5514120"/>
            <a:chExt cx="367920" cy="368640"/>
          </a:xfrm>
        </p:grpSpPr>
        <p:grpSp>
          <p:nvGrpSpPr>
            <p:cNvPr id="1976" name="Group 211"/>
            <p:cNvGrpSpPr/>
            <p:nvPr/>
          </p:nvGrpSpPr>
          <p:grpSpPr>
            <a:xfrm>
              <a:off x="3992400" y="5516640"/>
              <a:ext cx="363240" cy="363240"/>
              <a:chOff x="3992400" y="5516640"/>
              <a:chExt cx="363240" cy="363240"/>
            </a:xfrm>
          </p:grpSpPr>
          <p:grpSp>
            <p:nvGrpSpPr>
              <p:cNvPr id="1977" name="Group 212"/>
              <p:cNvGrpSpPr/>
              <p:nvPr/>
            </p:nvGrpSpPr>
            <p:grpSpPr>
              <a:xfrm>
                <a:off x="3992400" y="5516640"/>
                <a:ext cx="363240" cy="363240"/>
                <a:chOff x="3992400" y="5516640"/>
                <a:chExt cx="363240" cy="363240"/>
              </a:xfrm>
            </p:grpSpPr>
            <p:sp>
              <p:nvSpPr>
                <p:cNvPr id="1978" name="Oval 259"/>
                <p:cNvSpPr/>
                <p:nvPr/>
              </p:nvSpPr>
              <p:spPr>
                <a:xfrm>
                  <a:off x="3992400" y="56606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9" name="Oval 260"/>
                <p:cNvSpPr/>
                <p:nvPr/>
              </p:nvSpPr>
              <p:spPr>
                <a:xfrm rot="5400000">
                  <a:off x="3991680" y="5657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0" name="Group 215"/>
              <p:cNvGrpSpPr/>
              <p:nvPr/>
            </p:nvGrpSpPr>
            <p:grpSpPr>
              <a:xfrm>
                <a:off x="4013640" y="5540400"/>
                <a:ext cx="317160" cy="317880"/>
                <a:chOff x="4013640" y="5540400"/>
                <a:chExt cx="317160" cy="317880"/>
              </a:xfrm>
            </p:grpSpPr>
            <p:sp>
              <p:nvSpPr>
                <p:cNvPr id="1981" name="Oval 262"/>
                <p:cNvSpPr/>
                <p:nvPr/>
              </p:nvSpPr>
              <p:spPr>
                <a:xfrm rot="2700000">
                  <a:off x="3989520" y="56595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2" name="Oval 263"/>
                <p:cNvSpPr/>
                <p:nvPr/>
              </p:nvSpPr>
              <p:spPr>
                <a:xfrm rot="8100000">
                  <a:off x="3991320" y="5656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83" name="Group 218"/>
            <p:cNvGrpSpPr/>
            <p:nvPr/>
          </p:nvGrpSpPr>
          <p:grpSpPr>
            <a:xfrm>
              <a:off x="3988800" y="5514120"/>
              <a:ext cx="367920" cy="368640"/>
              <a:chOff x="3988800" y="5514120"/>
              <a:chExt cx="367920" cy="368640"/>
            </a:xfrm>
          </p:grpSpPr>
          <p:grpSp>
            <p:nvGrpSpPr>
              <p:cNvPr id="1984" name="Group 219"/>
              <p:cNvGrpSpPr/>
              <p:nvPr/>
            </p:nvGrpSpPr>
            <p:grpSpPr>
              <a:xfrm>
                <a:off x="3988800" y="5514120"/>
                <a:ext cx="367920" cy="367920"/>
                <a:chOff x="3988800" y="5514120"/>
                <a:chExt cx="367920" cy="367920"/>
              </a:xfrm>
            </p:grpSpPr>
            <p:sp>
              <p:nvSpPr>
                <p:cNvPr id="1985" name="Oval 266"/>
                <p:cNvSpPr/>
                <p:nvPr/>
              </p:nvSpPr>
              <p:spPr>
                <a:xfrm rot="1320000">
                  <a:off x="3990960" y="56599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6" name="Oval 267"/>
                <p:cNvSpPr/>
                <p:nvPr/>
              </p:nvSpPr>
              <p:spPr>
                <a:xfrm rot="6720000">
                  <a:off x="3991680" y="5656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7" name="Group 222"/>
              <p:cNvGrpSpPr/>
              <p:nvPr/>
            </p:nvGrpSpPr>
            <p:grpSpPr>
              <a:xfrm>
                <a:off x="3990240" y="5516280"/>
                <a:ext cx="366480" cy="366480"/>
                <a:chOff x="3990240" y="5516280"/>
                <a:chExt cx="366480" cy="366480"/>
              </a:xfrm>
            </p:grpSpPr>
            <p:sp>
              <p:nvSpPr>
                <p:cNvPr id="1988" name="Oval 269"/>
                <p:cNvSpPr/>
                <p:nvPr/>
              </p:nvSpPr>
              <p:spPr>
                <a:xfrm rot="4020000">
                  <a:off x="3988800" y="565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9" name="Oval 270"/>
                <p:cNvSpPr/>
                <p:nvPr/>
              </p:nvSpPr>
              <p:spPr>
                <a:xfrm rot="9420000">
                  <a:off x="3991680" y="56563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90" name="Oval 271"/>
            <p:cNvSpPr/>
            <p:nvPr/>
          </p:nvSpPr>
          <p:spPr>
            <a:xfrm>
              <a:off x="4114440" y="5644800"/>
              <a:ext cx="118800" cy="10584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Group 226"/>
          <p:cNvGrpSpPr/>
          <p:nvPr/>
        </p:nvGrpSpPr>
        <p:grpSpPr>
          <a:xfrm>
            <a:off x="3704760" y="5805720"/>
            <a:ext cx="218520" cy="219240"/>
            <a:chOff x="3704760" y="5805720"/>
            <a:chExt cx="218520" cy="219240"/>
          </a:xfrm>
        </p:grpSpPr>
        <p:grpSp>
          <p:nvGrpSpPr>
            <p:cNvPr id="1992" name="Group 227"/>
            <p:cNvGrpSpPr/>
            <p:nvPr/>
          </p:nvGrpSpPr>
          <p:grpSpPr>
            <a:xfrm>
              <a:off x="3706920" y="5807160"/>
              <a:ext cx="215640" cy="215640"/>
              <a:chOff x="3706920" y="5807160"/>
              <a:chExt cx="215640" cy="215640"/>
            </a:xfrm>
          </p:grpSpPr>
          <p:grpSp>
            <p:nvGrpSpPr>
              <p:cNvPr id="1993" name="Group 228"/>
              <p:cNvGrpSpPr/>
              <p:nvPr/>
            </p:nvGrpSpPr>
            <p:grpSpPr>
              <a:xfrm>
                <a:off x="3706920" y="5807160"/>
                <a:ext cx="215640" cy="215640"/>
                <a:chOff x="3706920" y="5807160"/>
                <a:chExt cx="215640" cy="215640"/>
              </a:xfrm>
            </p:grpSpPr>
            <p:sp>
              <p:nvSpPr>
                <p:cNvPr id="1994" name="Oval 291"/>
                <p:cNvSpPr/>
                <p:nvPr/>
              </p:nvSpPr>
              <p:spPr>
                <a:xfrm>
                  <a:off x="3706920" y="589284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5" name="Oval 292"/>
                <p:cNvSpPr/>
                <p:nvPr/>
              </p:nvSpPr>
              <p:spPr>
                <a:xfrm rot="540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6" name="Group 231"/>
              <p:cNvGrpSpPr/>
              <p:nvPr/>
            </p:nvGrpSpPr>
            <p:grpSpPr>
              <a:xfrm>
                <a:off x="3719520" y="5821560"/>
                <a:ext cx="188640" cy="188640"/>
                <a:chOff x="3719520" y="5821560"/>
                <a:chExt cx="188640" cy="188640"/>
              </a:xfrm>
            </p:grpSpPr>
            <p:sp>
              <p:nvSpPr>
                <p:cNvPr id="1997" name="Oval 294"/>
                <p:cNvSpPr/>
                <p:nvPr/>
              </p:nvSpPr>
              <p:spPr>
                <a:xfrm rot="2700000">
                  <a:off x="3705120" y="58917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Oval 295"/>
                <p:cNvSpPr/>
                <p:nvPr/>
              </p:nvSpPr>
              <p:spPr>
                <a:xfrm rot="810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99" name="Group 234"/>
            <p:cNvGrpSpPr/>
            <p:nvPr/>
          </p:nvGrpSpPr>
          <p:grpSpPr>
            <a:xfrm>
              <a:off x="3704760" y="5805720"/>
              <a:ext cx="218520" cy="219240"/>
              <a:chOff x="3704760" y="5805720"/>
              <a:chExt cx="218520" cy="219240"/>
            </a:xfrm>
          </p:grpSpPr>
          <p:grpSp>
            <p:nvGrpSpPr>
              <p:cNvPr id="2000" name="Group 235"/>
              <p:cNvGrpSpPr/>
              <p:nvPr/>
            </p:nvGrpSpPr>
            <p:grpSpPr>
              <a:xfrm>
                <a:off x="3704760" y="5805720"/>
                <a:ext cx="218160" cy="218160"/>
                <a:chOff x="3704760" y="5805720"/>
                <a:chExt cx="218160" cy="218160"/>
              </a:xfrm>
            </p:grpSpPr>
            <p:sp>
              <p:nvSpPr>
                <p:cNvPr id="2001" name="Oval 298"/>
                <p:cNvSpPr/>
                <p:nvPr/>
              </p:nvSpPr>
              <p:spPr>
                <a:xfrm rot="1320000">
                  <a:off x="3705840" y="58924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2" name="Oval 299"/>
                <p:cNvSpPr/>
                <p:nvPr/>
              </p:nvSpPr>
              <p:spPr>
                <a:xfrm rot="672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3" name="Group 238"/>
              <p:cNvGrpSpPr/>
              <p:nvPr/>
            </p:nvGrpSpPr>
            <p:grpSpPr>
              <a:xfrm>
                <a:off x="3705480" y="5807160"/>
                <a:ext cx="217800" cy="217800"/>
                <a:chOff x="3705480" y="5807160"/>
                <a:chExt cx="217800" cy="217800"/>
              </a:xfrm>
            </p:grpSpPr>
            <p:sp>
              <p:nvSpPr>
                <p:cNvPr id="2004" name="Oval 301"/>
                <p:cNvSpPr/>
                <p:nvPr/>
              </p:nvSpPr>
              <p:spPr>
                <a:xfrm rot="4020000">
                  <a:off x="3704400" y="58914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5" name="Oval 302"/>
                <p:cNvSpPr/>
                <p:nvPr/>
              </p:nvSpPr>
              <p:spPr>
                <a:xfrm rot="942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6" name="Oval 303"/>
            <p:cNvSpPr/>
            <p:nvPr/>
          </p:nvSpPr>
          <p:spPr>
            <a:xfrm>
              <a:off x="3779280" y="5883120"/>
              <a:ext cx="70200" cy="626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7" name="Group 242"/>
          <p:cNvGrpSpPr/>
          <p:nvPr/>
        </p:nvGrpSpPr>
        <p:grpSpPr>
          <a:xfrm>
            <a:off x="8457480" y="5300640"/>
            <a:ext cx="219240" cy="219240"/>
            <a:chOff x="8457480" y="5300640"/>
            <a:chExt cx="219240" cy="219240"/>
          </a:xfrm>
        </p:grpSpPr>
        <p:grpSp>
          <p:nvGrpSpPr>
            <p:cNvPr id="2008" name="Group 243"/>
            <p:cNvGrpSpPr/>
            <p:nvPr/>
          </p:nvGrpSpPr>
          <p:grpSpPr>
            <a:xfrm>
              <a:off x="8459640" y="5302080"/>
              <a:ext cx="216000" cy="216000"/>
              <a:chOff x="8459640" y="5302080"/>
              <a:chExt cx="216000" cy="216000"/>
            </a:xfrm>
          </p:grpSpPr>
          <p:grpSp>
            <p:nvGrpSpPr>
              <p:cNvPr id="2009" name="Group 244"/>
              <p:cNvGrpSpPr/>
              <p:nvPr/>
            </p:nvGrpSpPr>
            <p:grpSpPr>
              <a:xfrm>
                <a:off x="8459640" y="5302080"/>
                <a:ext cx="216000" cy="216000"/>
                <a:chOff x="8459640" y="5302080"/>
                <a:chExt cx="216000" cy="216000"/>
              </a:xfrm>
            </p:grpSpPr>
            <p:sp>
              <p:nvSpPr>
                <p:cNvPr id="2010" name="Oval 307"/>
                <p:cNvSpPr/>
                <p:nvPr/>
              </p:nvSpPr>
              <p:spPr>
                <a:xfrm>
                  <a:off x="8459640" y="53877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Oval 308"/>
                <p:cNvSpPr/>
                <p:nvPr/>
              </p:nvSpPr>
              <p:spPr>
                <a:xfrm rot="5400000">
                  <a:off x="8459280" y="538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2" name="Group 247"/>
              <p:cNvGrpSpPr/>
              <p:nvPr/>
            </p:nvGrpSpPr>
            <p:grpSpPr>
              <a:xfrm>
                <a:off x="8472600" y="5316120"/>
                <a:ext cx="188640" cy="189000"/>
                <a:chOff x="8472600" y="5316120"/>
                <a:chExt cx="188640" cy="189000"/>
              </a:xfrm>
            </p:grpSpPr>
            <p:sp>
              <p:nvSpPr>
                <p:cNvPr id="2013" name="Oval 310"/>
                <p:cNvSpPr/>
                <p:nvPr/>
              </p:nvSpPr>
              <p:spPr>
                <a:xfrm rot="2700000">
                  <a:off x="8458200" y="53870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4" name="Oval 311"/>
                <p:cNvSpPr/>
                <p:nvPr/>
              </p:nvSpPr>
              <p:spPr>
                <a:xfrm rot="8100000">
                  <a:off x="845928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15" name="Group 250"/>
            <p:cNvGrpSpPr/>
            <p:nvPr/>
          </p:nvGrpSpPr>
          <p:grpSpPr>
            <a:xfrm>
              <a:off x="8457480" y="5300640"/>
              <a:ext cx="219240" cy="219240"/>
              <a:chOff x="8457480" y="5300640"/>
              <a:chExt cx="219240" cy="219240"/>
            </a:xfrm>
          </p:grpSpPr>
          <p:grpSp>
            <p:nvGrpSpPr>
              <p:cNvPr id="2016" name="Group 251"/>
              <p:cNvGrpSpPr/>
              <p:nvPr/>
            </p:nvGrpSpPr>
            <p:grpSpPr>
              <a:xfrm>
                <a:off x="8457480" y="5300640"/>
                <a:ext cx="218520" cy="218520"/>
                <a:chOff x="8457480" y="5300640"/>
                <a:chExt cx="218520" cy="218520"/>
              </a:xfrm>
            </p:grpSpPr>
            <p:sp>
              <p:nvSpPr>
                <p:cNvPr id="2017" name="Oval 314"/>
                <p:cNvSpPr/>
                <p:nvPr/>
              </p:nvSpPr>
              <p:spPr>
                <a:xfrm rot="1320000">
                  <a:off x="8458560" y="53874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8" name="Oval 315"/>
                <p:cNvSpPr/>
                <p:nvPr/>
              </p:nvSpPr>
              <p:spPr>
                <a:xfrm rot="6720000">
                  <a:off x="845928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9" name="Group 254"/>
              <p:cNvGrpSpPr/>
              <p:nvPr/>
            </p:nvGrpSpPr>
            <p:grpSpPr>
              <a:xfrm>
                <a:off x="8458920" y="5302080"/>
                <a:ext cx="217800" cy="217800"/>
                <a:chOff x="8458920" y="5302080"/>
                <a:chExt cx="217800" cy="217800"/>
              </a:xfrm>
            </p:grpSpPr>
            <p:sp>
              <p:nvSpPr>
                <p:cNvPr id="2020" name="Oval 317"/>
                <p:cNvSpPr/>
                <p:nvPr/>
              </p:nvSpPr>
              <p:spPr>
                <a:xfrm rot="4020000">
                  <a:off x="8457480" y="5386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1" name="Oval 318"/>
                <p:cNvSpPr/>
                <p:nvPr/>
              </p:nvSpPr>
              <p:spPr>
                <a:xfrm rot="9420000">
                  <a:off x="8459640" y="5384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22" name="Oval 319"/>
            <p:cNvSpPr/>
            <p:nvPr/>
          </p:nvSpPr>
          <p:spPr>
            <a:xfrm>
              <a:off x="8532000" y="5378400"/>
              <a:ext cx="70560" cy="630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3" name="Group 258"/>
          <p:cNvGrpSpPr/>
          <p:nvPr/>
        </p:nvGrpSpPr>
        <p:grpSpPr>
          <a:xfrm>
            <a:off x="5144400" y="5445360"/>
            <a:ext cx="219240" cy="219240"/>
            <a:chOff x="5144400" y="5445360"/>
            <a:chExt cx="219240" cy="219240"/>
          </a:xfrm>
        </p:grpSpPr>
        <p:grpSp>
          <p:nvGrpSpPr>
            <p:cNvPr id="2024" name="Group 259"/>
            <p:cNvGrpSpPr/>
            <p:nvPr/>
          </p:nvGrpSpPr>
          <p:grpSpPr>
            <a:xfrm>
              <a:off x="5146560" y="5446800"/>
              <a:ext cx="216000" cy="215640"/>
              <a:chOff x="5146560" y="5446800"/>
              <a:chExt cx="216000" cy="215640"/>
            </a:xfrm>
          </p:grpSpPr>
          <p:grpSp>
            <p:nvGrpSpPr>
              <p:cNvPr id="2025" name="Group 260"/>
              <p:cNvGrpSpPr/>
              <p:nvPr/>
            </p:nvGrpSpPr>
            <p:grpSpPr>
              <a:xfrm>
                <a:off x="5146560" y="5446800"/>
                <a:ext cx="216000" cy="215640"/>
                <a:chOff x="5146560" y="5446800"/>
                <a:chExt cx="216000" cy="215640"/>
              </a:xfrm>
            </p:grpSpPr>
            <p:sp>
              <p:nvSpPr>
                <p:cNvPr id="2026" name="Oval 323"/>
                <p:cNvSpPr/>
                <p:nvPr/>
              </p:nvSpPr>
              <p:spPr>
                <a:xfrm>
                  <a:off x="5146560" y="55324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7" name="Oval 324"/>
                <p:cNvSpPr/>
                <p:nvPr/>
              </p:nvSpPr>
              <p:spPr>
                <a:xfrm rot="5400000">
                  <a:off x="5146200" y="552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8" name="Group 263"/>
              <p:cNvGrpSpPr/>
              <p:nvPr/>
            </p:nvGrpSpPr>
            <p:grpSpPr>
              <a:xfrm>
                <a:off x="5159520" y="5460840"/>
                <a:ext cx="188640" cy="189000"/>
                <a:chOff x="5159520" y="5460840"/>
                <a:chExt cx="188640" cy="189000"/>
              </a:xfrm>
            </p:grpSpPr>
            <p:sp>
              <p:nvSpPr>
                <p:cNvPr id="2029" name="Oval 326"/>
                <p:cNvSpPr/>
                <p:nvPr/>
              </p:nvSpPr>
              <p:spPr>
                <a:xfrm rot="2700000">
                  <a:off x="5145120" y="55314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0" name="Oval 327"/>
                <p:cNvSpPr/>
                <p:nvPr/>
              </p:nvSpPr>
              <p:spPr>
                <a:xfrm rot="8100000">
                  <a:off x="5146200" y="552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1" name="Group 266"/>
            <p:cNvGrpSpPr/>
            <p:nvPr/>
          </p:nvGrpSpPr>
          <p:grpSpPr>
            <a:xfrm>
              <a:off x="5144400" y="5445360"/>
              <a:ext cx="219240" cy="219240"/>
              <a:chOff x="5144400" y="5445360"/>
              <a:chExt cx="219240" cy="219240"/>
            </a:xfrm>
          </p:grpSpPr>
          <p:grpSp>
            <p:nvGrpSpPr>
              <p:cNvPr id="2032" name="Group 267"/>
              <p:cNvGrpSpPr/>
              <p:nvPr/>
            </p:nvGrpSpPr>
            <p:grpSpPr>
              <a:xfrm>
                <a:off x="5144400" y="5445360"/>
                <a:ext cx="218520" cy="218160"/>
                <a:chOff x="5144400" y="5445360"/>
                <a:chExt cx="218520" cy="218160"/>
              </a:xfrm>
            </p:grpSpPr>
            <p:sp>
              <p:nvSpPr>
                <p:cNvPr id="2033" name="Oval 330"/>
                <p:cNvSpPr/>
                <p:nvPr/>
              </p:nvSpPr>
              <p:spPr>
                <a:xfrm rot="1320000">
                  <a:off x="5145480" y="55321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4" name="Oval 331"/>
                <p:cNvSpPr/>
                <p:nvPr/>
              </p:nvSpPr>
              <p:spPr>
                <a:xfrm rot="6720000">
                  <a:off x="5146200" y="552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5" name="Group 270"/>
              <p:cNvGrpSpPr/>
              <p:nvPr/>
            </p:nvGrpSpPr>
            <p:grpSpPr>
              <a:xfrm>
                <a:off x="5145840" y="5446800"/>
                <a:ext cx="217800" cy="217800"/>
                <a:chOff x="5145840" y="5446800"/>
                <a:chExt cx="217800" cy="217800"/>
              </a:xfrm>
            </p:grpSpPr>
            <p:sp>
              <p:nvSpPr>
                <p:cNvPr id="2036" name="Oval 333"/>
                <p:cNvSpPr/>
                <p:nvPr/>
              </p:nvSpPr>
              <p:spPr>
                <a:xfrm rot="4020000">
                  <a:off x="5144400" y="553104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7" name="Oval 334"/>
                <p:cNvSpPr/>
                <p:nvPr/>
              </p:nvSpPr>
              <p:spPr>
                <a:xfrm rot="9420000">
                  <a:off x="5146560" y="5529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38" name="Oval 335"/>
            <p:cNvSpPr/>
            <p:nvPr/>
          </p:nvSpPr>
          <p:spPr>
            <a:xfrm>
              <a:off x="5218920" y="5522760"/>
              <a:ext cx="70560" cy="6264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9" name="Group 274"/>
          <p:cNvGrpSpPr/>
          <p:nvPr/>
        </p:nvGrpSpPr>
        <p:grpSpPr>
          <a:xfrm>
            <a:off x="8097120" y="5229360"/>
            <a:ext cx="219240" cy="219240"/>
            <a:chOff x="8097120" y="5229360"/>
            <a:chExt cx="219240" cy="219240"/>
          </a:xfrm>
        </p:grpSpPr>
        <p:grpSp>
          <p:nvGrpSpPr>
            <p:cNvPr id="2040" name="Group 275"/>
            <p:cNvGrpSpPr/>
            <p:nvPr/>
          </p:nvGrpSpPr>
          <p:grpSpPr>
            <a:xfrm>
              <a:off x="8099280" y="5230800"/>
              <a:ext cx="216000" cy="216000"/>
              <a:chOff x="8099280" y="5230800"/>
              <a:chExt cx="216000" cy="216000"/>
            </a:xfrm>
          </p:grpSpPr>
          <p:grpSp>
            <p:nvGrpSpPr>
              <p:cNvPr id="2041" name="Group 276"/>
              <p:cNvGrpSpPr/>
              <p:nvPr/>
            </p:nvGrpSpPr>
            <p:grpSpPr>
              <a:xfrm>
                <a:off x="8099280" y="5230800"/>
                <a:ext cx="216000" cy="216000"/>
                <a:chOff x="8099280" y="5230800"/>
                <a:chExt cx="216000" cy="216000"/>
              </a:xfrm>
            </p:grpSpPr>
            <p:sp>
              <p:nvSpPr>
                <p:cNvPr id="2042" name="Oval 339"/>
                <p:cNvSpPr/>
                <p:nvPr/>
              </p:nvSpPr>
              <p:spPr>
                <a:xfrm>
                  <a:off x="8099280" y="53164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3" name="Oval 340"/>
                <p:cNvSpPr/>
                <p:nvPr/>
              </p:nvSpPr>
              <p:spPr>
                <a:xfrm rot="5400000">
                  <a:off x="8098920" y="5314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4" name="Group 279"/>
              <p:cNvGrpSpPr/>
              <p:nvPr/>
            </p:nvGrpSpPr>
            <p:grpSpPr>
              <a:xfrm>
                <a:off x="8112240" y="5244840"/>
                <a:ext cx="188640" cy="189000"/>
                <a:chOff x="8112240" y="5244840"/>
                <a:chExt cx="188640" cy="189000"/>
              </a:xfrm>
            </p:grpSpPr>
            <p:sp>
              <p:nvSpPr>
                <p:cNvPr id="2045" name="Oval 342"/>
                <p:cNvSpPr/>
                <p:nvPr/>
              </p:nvSpPr>
              <p:spPr>
                <a:xfrm rot="2700000">
                  <a:off x="8097840" y="53157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Oval 343"/>
                <p:cNvSpPr/>
                <p:nvPr/>
              </p:nvSpPr>
              <p:spPr>
                <a:xfrm rot="8100000">
                  <a:off x="809892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7" name="Group 282"/>
            <p:cNvGrpSpPr/>
            <p:nvPr/>
          </p:nvGrpSpPr>
          <p:grpSpPr>
            <a:xfrm>
              <a:off x="8097120" y="5229360"/>
              <a:ext cx="219240" cy="219240"/>
              <a:chOff x="8097120" y="5229360"/>
              <a:chExt cx="219240" cy="219240"/>
            </a:xfrm>
          </p:grpSpPr>
          <p:grpSp>
            <p:nvGrpSpPr>
              <p:cNvPr id="2048" name="Group 283"/>
              <p:cNvGrpSpPr/>
              <p:nvPr/>
            </p:nvGrpSpPr>
            <p:grpSpPr>
              <a:xfrm>
                <a:off x="8097120" y="5229360"/>
                <a:ext cx="218520" cy="218520"/>
                <a:chOff x="8097120" y="5229360"/>
                <a:chExt cx="218520" cy="218520"/>
              </a:xfrm>
            </p:grpSpPr>
            <p:sp>
              <p:nvSpPr>
                <p:cNvPr id="2049" name="Oval 346"/>
                <p:cNvSpPr/>
                <p:nvPr/>
              </p:nvSpPr>
              <p:spPr>
                <a:xfrm rot="1320000">
                  <a:off x="8098200" y="53161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0" name="Oval 347"/>
                <p:cNvSpPr/>
                <p:nvPr/>
              </p:nvSpPr>
              <p:spPr>
                <a:xfrm rot="6720000">
                  <a:off x="809892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1" name="Group 286"/>
              <p:cNvGrpSpPr/>
              <p:nvPr/>
            </p:nvGrpSpPr>
            <p:grpSpPr>
              <a:xfrm>
                <a:off x="8098560" y="5230800"/>
                <a:ext cx="217800" cy="217800"/>
                <a:chOff x="8098560" y="5230800"/>
                <a:chExt cx="217800" cy="217800"/>
              </a:xfrm>
            </p:grpSpPr>
            <p:sp>
              <p:nvSpPr>
                <p:cNvPr id="2052" name="Oval 349"/>
                <p:cNvSpPr/>
                <p:nvPr/>
              </p:nvSpPr>
              <p:spPr>
                <a:xfrm rot="4020000">
                  <a:off x="8097120" y="53150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3" name="Oval 350"/>
                <p:cNvSpPr/>
                <p:nvPr/>
              </p:nvSpPr>
              <p:spPr>
                <a:xfrm rot="9420000">
                  <a:off x="8099280" y="5313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54" name="Oval 351"/>
            <p:cNvSpPr/>
            <p:nvPr/>
          </p:nvSpPr>
          <p:spPr>
            <a:xfrm>
              <a:off x="8171640" y="5307120"/>
              <a:ext cx="70560" cy="6300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5" name="Group 290"/>
          <p:cNvGrpSpPr/>
          <p:nvPr/>
        </p:nvGrpSpPr>
        <p:grpSpPr>
          <a:xfrm>
            <a:off x="5649480" y="5372280"/>
            <a:ext cx="218520" cy="219240"/>
            <a:chOff x="5649480" y="5372280"/>
            <a:chExt cx="218520" cy="219240"/>
          </a:xfrm>
        </p:grpSpPr>
        <p:grpSp>
          <p:nvGrpSpPr>
            <p:cNvPr id="2056" name="Group 291"/>
            <p:cNvGrpSpPr/>
            <p:nvPr/>
          </p:nvGrpSpPr>
          <p:grpSpPr>
            <a:xfrm>
              <a:off x="5651640" y="5373720"/>
              <a:ext cx="215640" cy="216000"/>
              <a:chOff x="5651640" y="5373720"/>
              <a:chExt cx="215640" cy="216000"/>
            </a:xfrm>
          </p:grpSpPr>
          <p:grpSp>
            <p:nvGrpSpPr>
              <p:cNvPr id="2057" name="Group 292"/>
              <p:cNvGrpSpPr/>
              <p:nvPr/>
            </p:nvGrpSpPr>
            <p:grpSpPr>
              <a:xfrm>
                <a:off x="5651640" y="5373720"/>
                <a:ext cx="215640" cy="216000"/>
                <a:chOff x="5651640" y="5373720"/>
                <a:chExt cx="215640" cy="216000"/>
              </a:xfrm>
            </p:grpSpPr>
            <p:sp>
              <p:nvSpPr>
                <p:cNvPr id="2058" name="Oval 355"/>
                <p:cNvSpPr/>
                <p:nvPr/>
              </p:nvSpPr>
              <p:spPr>
                <a:xfrm>
                  <a:off x="5651640" y="54594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9" name="Oval 356"/>
                <p:cNvSpPr/>
                <p:nvPr/>
              </p:nvSpPr>
              <p:spPr>
                <a:xfrm rot="5400000">
                  <a:off x="5651280" y="5457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0" name="Group 295"/>
              <p:cNvGrpSpPr/>
              <p:nvPr/>
            </p:nvGrpSpPr>
            <p:grpSpPr>
              <a:xfrm>
                <a:off x="5663880" y="5388120"/>
                <a:ext cx="188640" cy="189000"/>
                <a:chOff x="5663880" y="5388120"/>
                <a:chExt cx="188640" cy="189000"/>
              </a:xfrm>
            </p:grpSpPr>
            <p:sp>
              <p:nvSpPr>
                <p:cNvPr id="2061" name="Oval 358"/>
                <p:cNvSpPr/>
                <p:nvPr/>
              </p:nvSpPr>
              <p:spPr>
                <a:xfrm rot="2700000">
                  <a:off x="5649480" y="54590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Oval 359"/>
                <p:cNvSpPr/>
                <p:nvPr/>
              </p:nvSpPr>
              <p:spPr>
                <a:xfrm rot="8100000">
                  <a:off x="5650920" y="54568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63" name="Group 298"/>
            <p:cNvGrpSpPr/>
            <p:nvPr/>
          </p:nvGrpSpPr>
          <p:grpSpPr>
            <a:xfrm>
              <a:off x="5649480" y="5372280"/>
              <a:ext cx="218520" cy="219240"/>
              <a:chOff x="5649480" y="5372280"/>
              <a:chExt cx="218520" cy="219240"/>
            </a:xfrm>
          </p:grpSpPr>
          <p:grpSp>
            <p:nvGrpSpPr>
              <p:cNvPr id="2064" name="Group 299"/>
              <p:cNvGrpSpPr/>
              <p:nvPr/>
            </p:nvGrpSpPr>
            <p:grpSpPr>
              <a:xfrm>
                <a:off x="5649480" y="5372280"/>
                <a:ext cx="218160" cy="218520"/>
                <a:chOff x="5649480" y="5372280"/>
                <a:chExt cx="218160" cy="218520"/>
              </a:xfrm>
            </p:grpSpPr>
            <p:sp>
              <p:nvSpPr>
                <p:cNvPr id="2065" name="Oval 362"/>
                <p:cNvSpPr/>
                <p:nvPr/>
              </p:nvSpPr>
              <p:spPr>
                <a:xfrm rot="1320000">
                  <a:off x="5650560" y="54594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6" name="Oval 363"/>
                <p:cNvSpPr/>
                <p:nvPr/>
              </p:nvSpPr>
              <p:spPr>
                <a:xfrm rot="6720000">
                  <a:off x="5650920" y="5456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7" name="Group 302"/>
              <p:cNvGrpSpPr/>
              <p:nvPr/>
            </p:nvGrpSpPr>
            <p:grpSpPr>
              <a:xfrm>
                <a:off x="5650200" y="5373720"/>
                <a:ext cx="217800" cy="217800"/>
                <a:chOff x="5650200" y="5373720"/>
                <a:chExt cx="217800" cy="217800"/>
              </a:xfrm>
            </p:grpSpPr>
            <p:sp>
              <p:nvSpPr>
                <p:cNvPr id="2068" name="Oval 365"/>
                <p:cNvSpPr/>
                <p:nvPr/>
              </p:nvSpPr>
              <p:spPr>
                <a:xfrm rot="4020000">
                  <a:off x="5648760" y="5457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9" name="Oval 366"/>
                <p:cNvSpPr/>
                <p:nvPr/>
              </p:nvSpPr>
              <p:spPr>
                <a:xfrm rot="9420000">
                  <a:off x="5651280" y="54568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70" name="Oval 367"/>
            <p:cNvSpPr/>
            <p:nvPr/>
          </p:nvSpPr>
          <p:spPr>
            <a:xfrm>
              <a:off x="5724000" y="5450040"/>
              <a:ext cx="70200" cy="6300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1" name="Group 306"/>
          <p:cNvGrpSpPr/>
          <p:nvPr/>
        </p:nvGrpSpPr>
        <p:grpSpPr>
          <a:xfrm>
            <a:off x="7594920" y="6021720"/>
            <a:ext cx="146160" cy="147240"/>
            <a:chOff x="7594920" y="6021720"/>
            <a:chExt cx="146160" cy="147240"/>
          </a:xfrm>
        </p:grpSpPr>
        <p:grpSp>
          <p:nvGrpSpPr>
            <p:cNvPr id="2072" name="Group 307"/>
            <p:cNvGrpSpPr/>
            <p:nvPr/>
          </p:nvGrpSpPr>
          <p:grpSpPr>
            <a:xfrm>
              <a:off x="7596360" y="6022800"/>
              <a:ext cx="144360" cy="144720"/>
              <a:chOff x="7596360" y="6022800"/>
              <a:chExt cx="144360" cy="144720"/>
            </a:xfrm>
          </p:grpSpPr>
          <p:grpSp>
            <p:nvGrpSpPr>
              <p:cNvPr id="2073" name="Group 308"/>
              <p:cNvGrpSpPr/>
              <p:nvPr/>
            </p:nvGrpSpPr>
            <p:grpSpPr>
              <a:xfrm>
                <a:off x="7596360" y="6022800"/>
                <a:ext cx="144360" cy="144720"/>
                <a:chOff x="7596360" y="6022800"/>
                <a:chExt cx="144360" cy="144720"/>
              </a:xfrm>
            </p:grpSpPr>
            <p:sp>
              <p:nvSpPr>
                <p:cNvPr id="2074" name="Oval 371"/>
                <p:cNvSpPr/>
                <p:nvPr/>
              </p:nvSpPr>
              <p:spPr>
                <a:xfrm>
                  <a:off x="7596360" y="60800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5" name="Oval 372"/>
                <p:cNvSpPr/>
                <p:nvPr/>
              </p:nvSpPr>
              <p:spPr>
                <a:xfrm rot="5400000">
                  <a:off x="7595640" y="60786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6" name="Group 311"/>
              <p:cNvGrpSpPr/>
              <p:nvPr/>
            </p:nvGrpSpPr>
            <p:grpSpPr>
              <a:xfrm>
                <a:off x="7604640" y="6032520"/>
                <a:ext cx="126000" cy="126720"/>
                <a:chOff x="7604640" y="6032520"/>
                <a:chExt cx="126000" cy="126720"/>
              </a:xfrm>
            </p:grpSpPr>
            <p:sp>
              <p:nvSpPr>
                <p:cNvPr id="2077" name="Oval 374"/>
                <p:cNvSpPr/>
                <p:nvPr/>
              </p:nvSpPr>
              <p:spPr>
                <a:xfrm rot="2700000">
                  <a:off x="7594560" y="60796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8" name="Oval 375"/>
                <p:cNvSpPr/>
                <p:nvPr/>
              </p:nvSpPr>
              <p:spPr>
                <a:xfrm rot="8100000">
                  <a:off x="7595640" y="6078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79" name="Group 314"/>
            <p:cNvGrpSpPr/>
            <p:nvPr/>
          </p:nvGrpSpPr>
          <p:grpSpPr>
            <a:xfrm>
              <a:off x="7594920" y="6021720"/>
              <a:ext cx="146160" cy="147240"/>
              <a:chOff x="7594920" y="6021720"/>
              <a:chExt cx="146160" cy="147240"/>
            </a:xfrm>
          </p:grpSpPr>
          <p:grpSp>
            <p:nvGrpSpPr>
              <p:cNvPr id="2080" name="Group 315"/>
              <p:cNvGrpSpPr/>
              <p:nvPr/>
            </p:nvGrpSpPr>
            <p:grpSpPr>
              <a:xfrm>
                <a:off x="7594920" y="6021720"/>
                <a:ext cx="146160" cy="146520"/>
                <a:chOff x="7594920" y="6021720"/>
                <a:chExt cx="146160" cy="146520"/>
              </a:xfrm>
            </p:grpSpPr>
            <p:sp>
              <p:nvSpPr>
                <p:cNvPr id="2081" name="Oval 378"/>
                <p:cNvSpPr/>
                <p:nvPr/>
              </p:nvSpPr>
              <p:spPr>
                <a:xfrm rot="1320000">
                  <a:off x="7595640" y="60796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2" name="Oval 379"/>
                <p:cNvSpPr/>
                <p:nvPr/>
              </p:nvSpPr>
              <p:spPr>
                <a:xfrm rot="6720000">
                  <a:off x="7595640" y="607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3" name="Group 318"/>
              <p:cNvGrpSpPr/>
              <p:nvPr/>
            </p:nvGrpSpPr>
            <p:grpSpPr>
              <a:xfrm>
                <a:off x="7595280" y="6022800"/>
                <a:ext cx="145800" cy="146160"/>
                <a:chOff x="7595280" y="6022800"/>
                <a:chExt cx="145800" cy="146160"/>
              </a:xfrm>
            </p:grpSpPr>
            <p:sp>
              <p:nvSpPr>
                <p:cNvPr id="2084" name="Oval 381"/>
                <p:cNvSpPr/>
                <p:nvPr/>
              </p:nvSpPr>
              <p:spPr>
                <a:xfrm rot="4020000">
                  <a:off x="7594200" y="607932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Oval 382"/>
                <p:cNvSpPr/>
                <p:nvPr/>
              </p:nvSpPr>
              <p:spPr>
                <a:xfrm rot="9420000">
                  <a:off x="7596000" y="607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86" name="Oval 383"/>
            <p:cNvSpPr/>
            <p:nvPr/>
          </p:nvSpPr>
          <p:spPr>
            <a:xfrm>
              <a:off x="7644600" y="6073920"/>
              <a:ext cx="47160" cy="4212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7" name="Group 322"/>
          <p:cNvGrpSpPr/>
          <p:nvPr/>
        </p:nvGrpSpPr>
        <p:grpSpPr>
          <a:xfrm>
            <a:off x="3849840" y="6166440"/>
            <a:ext cx="146160" cy="146880"/>
            <a:chOff x="3849840" y="6166440"/>
            <a:chExt cx="146160" cy="146880"/>
          </a:xfrm>
        </p:grpSpPr>
        <p:grpSp>
          <p:nvGrpSpPr>
            <p:cNvPr id="2088" name="Group 323"/>
            <p:cNvGrpSpPr/>
            <p:nvPr/>
          </p:nvGrpSpPr>
          <p:grpSpPr>
            <a:xfrm>
              <a:off x="3851280" y="6167520"/>
              <a:ext cx="144360" cy="144360"/>
              <a:chOff x="3851280" y="6167520"/>
              <a:chExt cx="144360" cy="144360"/>
            </a:xfrm>
          </p:grpSpPr>
          <p:grpSp>
            <p:nvGrpSpPr>
              <p:cNvPr id="2089" name="Group 324"/>
              <p:cNvGrpSpPr/>
              <p:nvPr/>
            </p:nvGrpSpPr>
            <p:grpSpPr>
              <a:xfrm>
                <a:off x="3851280" y="6167520"/>
                <a:ext cx="144360" cy="144360"/>
                <a:chOff x="3851280" y="6167520"/>
                <a:chExt cx="144360" cy="144360"/>
              </a:xfrm>
            </p:grpSpPr>
            <p:sp>
              <p:nvSpPr>
                <p:cNvPr id="2090" name="Oval 387"/>
                <p:cNvSpPr/>
                <p:nvPr/>
              </p:nvSpPr>
              <p:spPr>
                <a:xfrm>
                  <a:off x="3851280" y="62247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1" name="Oval 388"/>
                <p:cNvSpPr/>
                <p:nvPr/>
              </p:nvSpPr>
              <p:spPr>
                <a:xfrm rot="5400000">
                  <a:off x="385092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2" name="Group 327"/>
              <p:cNvGrpSpPr/>
              <p:nvPr/>
            </p:nvGrpSpPr>
            <p:grpSpPr>
              <a:xfrm>
                <a:off x="3859920" y="6176880"/>
                <a:ext cx="125640" cy="126720"/>
                <a:chOff x="3859920" y="6176880"/>
                <a:chExt cx="125640" cy="126720"/>
              </a:xfrm>
            </p:grpSpPr>
            <p:sp>
              <p:nvSpPr>
                <p:cNvPr id="2093" name="Oval 390"/>
                <p:cNvSpPr/>
                <p:nvPr/>
              </p:nvSpPr>
              <p:spPr>
                <a:xfrm rot="2700000">
                  <a:off x="3850200" y="62244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4" name="Oval 391"/>
                <p:cNvSpPr/>
                <p:nvPr/>
              </p:nvSpPr>
              <p:spPr>
                <a:xfrm rot="8100000">
                  <a:off x="385056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5" name="Group 330"/>
            <p:cNvGrpSpPr/>
            <p:nvPr/>
          </p:nvGrpSpPr>
          <p:grpSpPr>
            <a:xfrm>
              <a:off x="3849840" y="6166440"/>
              <a:ext cx="146160" cy="146880"/>
              <a:chOff x="3849840" y="6166440"/>
              <a:chExt cx="146160" cy="146880"/>
            </a:xfrm>
          </p:grpSpPr>
          <p:grpSp>
            <p:nvGrpSpPr>
              <p:cNvPr id="2096" name="Group 331"/>
              <p:cNvGrpSpPr/>
              <p:nvPr/>
            </p:nvGrpSpPr>
            <p:grpSpPr>
              <a:xfrm>
                <a:off x="3849840" y="6166440"/>
                <a:ext cx="146160" cy="146160"/>
                <a:chOff x="3849840" y="6166440"/>
                <a:chExt cx="146160" cy="146160"/>
              </a:xfrm>
            </p:grpSpPr>
            <p:sp>
              <p:nvSpPr>
                <p:cNvPr id="2097" name="Oval 394"/>
                <p:cNvSpPr/>
                <p:nvPr/>
              </p:nvSpPr>
              <p:spPr>
                <a:xfrm rot="1320000">
                  <a:off x="3850560" y="62244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8" name="Oval 395"/>
                <p:cNvSpPr/>
                <p:nvPr/>
              </p:nvSpPr>
              <p:spPr>
                <a:xfrm rot="6720000">
                  <a:off x="385092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9" name="Group 334"/>
              <p:cNvGrpSpPr/>
              <p:nvPr/>
            </p:nvGrpSpPr>
            <p:grpSpPr>
              <a:xfrm>
                <a:off x="3850200" y="6167520"/>
                <a:ext cx="145800" cy="145800"/>
                <a:chOff x="3850200" y="6167520"/>
                <a:chExt cx="145800" cy="145800"/>
              </a:xfrm>
            </p:grpSpPr>
            <p:sp>
              <p:nvSpPr>
                <p:cNvPr id="2100" name="Oval 397"/>
                <p:cNvSpPr/>
                <p:nvPr/>
              </p:nvSpPr>
              <p:spPr>
                <a:xfrm rot="4020000">
                  <a:off x="3849480" y="62236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1" name="Oval 398"/>
                <p:cNvSpPr/>
                <p:nvPr/>
              </p:nvSpPr>
              <p:spPr>
                <a:xfrm rot="9420000">
                  <a:off x="3850920" y="622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2" name="Oval 399"/>
            <p:cNvSpPr/>
            <p:nvPr/>
          </p:nvSpPr>
          <p:spPr>
            <a:xfrm>
              <a:off x="3899520" y="6218280"/>
              <a:ext cx="47160" cy="4212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3" name="Group 338"/>
          <p:cNvGrpSpPr/>
          <p:nvPr/>
        </p:nvGrpSpPr>
        <p:grpSpPr>
          <a:xfrm>
            <a:off x="8602920" y="5661360"/>
            <a:ext cx="146160" cy="147240"/>
            <a:chOff x="8602920" y="5661360"/>
            <a:chExt cx="146160" cy="147240"/>
          </a:xfrm>
        </p:grpSpPr>
        <p:grpSp>
          <p:nvGrpSpPr>
            <p:cNvPr id="2104" name="Group 339"/>
            <p:cNvGrpSpPr/>
            <p:nvPr/>
          </p:nvGrpSpPr>
          <p:grpSpPr>
            <a:xfrm>
              <a:off x="8604360" y="5662440"/>
              <a:ext cx="144360" cy="144720"/>
              <a:chOff x="8604360" y="5662440"/>
              <a:chExt cx="144360" cy="144720"/>
            </a:xfrm>
          </p:grpSpPr>
          <p:grpSp>
            <p:nvGrpSpPr>
              <p:cNvPr id="2105" name="Group 340"/>
              <p:cNvGrpSpPr/>
              <p:nvPr/>
            </p:nvGrpSpPr>
            <p:grpSpPr>
              <a:xfrm>
                <a:off x="8604360" y="5662440"/>
                <a:ext cx="144360" cy="144720"/>
                <a:chOff x="8604360" y="5662440"/>
                <a:chExt cx="144360" cy="144720"/>
              </a:xfrm>
            </p:grpSpPr>
            <p:sp>
              <p:nvSpPr>
                <p:cNvPr id="2106" name="Oval 403"/>
                <p:cNvSpPr/>
                <p:nvPr/>
              </p:nvSpPr>
              <p:spPr>
                <a:xfrm>
                  <a:off x="8604360" y="57196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7" name="Oval 404"/>
                <p:cNvSpPr/>
                <p:nvPr/>
              </p:nvSpPr>
              <p:spPr>
                <a:xfrm rot="5400000">
                  <a:off x="8603640" y="571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8" name="Group 343"/>
              <p:cNvGrpSpPr/>
              <p:nvPr/>
            </p:nvGrpSpPr>
            <p:grpSpPr>
              <a:xfrm>
                <a:off x="8612640" y="5672160"/>
                <a:ext cx="126000" cy="126720"/>
                <a:chOff x="8612640" y="5672160"/>
                <a:chExt cx="126000" cy="126720"/>
              </a:xfrm>
            </p:grpSpPr>
            <p:sp>
              <p:nvSpPr>
                <p:cNvPr id="2109" name="Oval 406"/>
                <p:cNvSpPr/>
                <p:nvPr/>
              </p:nvSpPr>
              <p:spPr>
                <a:xfrm rot="2700000">
                  <a:off x="8602560" y="571932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0" name="Oval 407"/>
                <p:cNvSpPr/>
                <p:nvPr/>
              </p:nvSpPr>
              <p:spPr>
                <a:xfrm rot="8100000">
                  <a:off x="8603640" y="571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1" name="Group 346"/>
            <p:cNvGrpSpPr/>
            <p:nvPr/>
          </p:nvGrpSpPr>
          <p:grpSpPr>
            <a:xfrm>
              <a:off x="8602920" y="5661360"/>
              <a:ext cx="146160" cy="147240"/>
              <a:chOff x="8602920" y="5661360"/>
              <a:chExt cx="146160" cy="147240"/>
            </a:xfrm>
          </p:grpSpPr>
          <p:grpSp>
            <p:nvGrpSpPr>
              <p:cNvPr id="2112" name="Group 347"/>
              <p:cNvGrpSpPr/>
              <p:nvPr/>
            </p:nvGrpSpPr>
            <p:grpSpPr>
              <a:xfrm>
                <a:off x="8602920" y="5661360"/>
                <a:ext cx="146160" cy="146520"/>
                <a:chOff x="8602920" y="5661360"/>
                <a:chExt cx="146160" cy="146520"/>
              </a:xfrm>
            </p:grpSpPr>
            <p:sp>
              <p:nvSpPr>
                <p:cNvPr id="2113" name="Oval 410"/>
                <p:cNvSpPr/>
                <p:nvPr/>
              </p:nvSpPr>
              <p:spPr>
                <a:xfrm rot="1320000">
                  <a:off x="8603640" y="5719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4" name="Oval 411"/>
                <p:cNvSpPr/>
                <p:nvPr/>
              </p:nvSpPr>
              <p:spPr>
                <a:xfrm rot="6720000">
                  <a:off x="8603640" y="57178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5" name="Group 350"/>
              <p:cNvGrpSpPr/>
              <p:nvPr/>
            </p:nvGrpSpPr>
            <p:grpSpPr>
              <a:xfrm>
                <a:off x="8603280" y="5662440"/>
                <a:ext cx="145800" cy="146160"/>
                <a:chOff x="8603280" y="5662440"/>
                <a:chExt cx="145800" cy="146160"/>
              </a:xfrm>
            </p:grpSpPr>
            <p:sp>
              <p:nvSpPr>
                <p:cNvPr id="2116" name="Oval 413"/>
                <p:cNvSpPr/>
                <p:nvPr/>
              </p:nvSpPr>
              <p:spPr>
                <a:xfrm rot="4020000">
                  <a:off x="8602200" y="57189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7" name="Oval 414"/>
                <p:cNvSpPr/>
                <p:nvPr/>
              </p:nvSpPr>
              <p:spPr>
                <a:xfrm rot="9420000">
                  <a:off x="8604000" y="5717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18" name="Oval 415"/>
            <p:cNvSpPr/>
            <p:nvPr/>
          </p:nvSpPr>
          <p:spPr>
            <a:xfrm>
              <a:off x="8652600" y="5713560"/>
              <a:ext cx="47160" cy="42120"/>
            </a:xfrm>
            <a:prstGeom prst="ellips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9" name="Group 354"/>
          <p:cNvGrpSpPr/>
          <p:nvPr/>
        </p:nvGrpSpPr>
        <p:grpSpPr>
          <a:xfrm>
            <a:off x="5289840" y="5806080"/>
            <a:ext cx="146160" cy="146880"/>
            <a:chOff x="5289840" y="5806080"/>
            <a:chExt cx="146160" cy="146880"/>
          </a:xfrm>
        </p:grpSpPr>
        <p:grpSp>
          <p:nvGrpSpPr>
            <p:cNvPr id="2120" name="Group 355"/>
            <p:cNvGrpSpPr/>
            <p:nvPr/>
          </p:nvGrpSpPr>
          <p:grpSpPr>
            <a:xfrm>
              <a:off x="5291280" y="5807160"/>
              <a:ext cx="144360" cy="144360"/>
              <a:chOff x="5291280" y="5807160"/>
              <a:chExt cx="144360" cy="144360"/>
            </a:xfrm>
          </p:grpSpPr>
          <p:grpSp>
            <p:nvGrpSpPr>
              <p:cNvPr id="2121" name="Group 356"/>
              <p:cNvGrpSpPr/>
              <p:nvPr/>
            </p:nvGrpSpPr>
            <p:grpSpPr>
              <a:xfrm>
                <a:off x="5291280" y="5807160"/>
                <a:ext cx="144360" cy="144360"/>
                <a:chOff x="5291280" y="5807160"/>
                <a:chExt cx="144360" cy="144360"/>
              </a:xfrm>
            </p:grpSpPr>
            <p:sp>
              <p:nvSpPr>
                <p:cNvPr id="2122" name="Oval 419"/>
                <p:cNvSpPr/>
                <p:nvPr/>
              </p:nvSpPr>
              <p:spPr>
                <a:xfrm>
                  <a:off x="5291280" y="58644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3" name="Oval 420"/>
                <p:cNvSpPr/>
                <p:nvPr/>
              </p:nvSpPr>
              <p:spPr>
                <a:xfrm rot="5400000">
                  <a:off x="5290920" y="586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4" name="Group 359"/>
              <p:cNvGrpSpPr/>
              <p:nvPr/>
            </p:nvGrpSpPr>
            <p:grpSpPr>
              <a:xfrm>
                <a:off x="5299920" y="5816520"/>
                <a:ext cx="125640" cy="126720"/>
                <a:chOff x="5299920" y="5816520"/>
                <a:chExt cx="125640" cy="126720"/>
              </a:xfrm>
            </p:grpSpPr>
            <p:sp>
              <p:nvSpPr>
                <p:cNvPr id="2125" name="Oval 422"/>
                <p:cNvSpPr/>
                <p:nvPr/>
              </p:nvSpPr>
              <p:spPr>
                <a:xfrm rot="2700000">
                  <a:off x="5290200" y="58640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6" name="Oval 423"/>
                <p:cNvSpPr/>
                <p:nvPr/>
              </p:nvSpPr>
              <p:spPr>
                <a:xfrm rot="8100000">
                  <a:off x="529056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27" name="Group 362"/>
            <p:cNvGrpSpPr/>
            <p:nvPr/>
          </p:nvGrpSpPr>
          <p:grpSpPr>
            <a:xfrm>
              <a:off x="5289840" y="5806080"/>
              <a:ext cx="146160" cy="146880"/>
              <a:chOff x="5289840" y="5806080"/>
              <a:chExt cx="146160" cy="146880"/>
            </a:xfrm>
          </p:grpSpPr>
          <p:grpSp>
            <p:nvGrpSpPr>
              <p:cNvPr id="2128" name="Group 363"/>
              <p:cNvGrpSpPr/>
              <p:nvPr/>
            </p:nvGrpSpPr>
            <p:grpSpPr>
              <a:xfrm>
                <a:off x="5289840" y="5806080"/>
                <a:ext cx="146160" cy="146160"/>
                <a:chOff x="5289840" y="5806080"/>
                <a:chExt cx="146160" cy="146160"/>
              </a:xfrm>
            </p:grpSpPr>
            <p:sp>
              <p:nvSpPr>
                <p:cNvPr id="2129" name="Oval 426"/>
                <p:cNvSpPr/>
                <p:nvPr/>
              </p:nvSpPr>
              <p:spPr>
                <a:xfrm rot="1320000">
                  <a:off x="5290560" y="58640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Oval 427"/>
                <p:cNvSpPr/>
                <p:nvPr/>
              </p:nvSpPr>
              <p:spPr>
                <a:xfrm rot="6720000">
                  <a:off x="529092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1" name="Group 366"/>
              <p:cNvGrpSpPr/>
              <p:nvPr/>
            </p:nvGrpSpPr>
            <p:grpSpPr>
              <a:xfrm>
                <a:off x="5290200" y="5807160"/>
                <a:ext cx="145800" cy="145800"/>
                <a:chOff x="5290200" y="5807160"/>
                <a:chExt cx="145800" cy="145800"/>
              </a:xfrm>
            </p:grpSpPr>
            <p:sp>
              <p:nvSpPr>
                <p:cNvPr id="2132" name="Oval 429"/>
                <p:cNvSpPr/>
                <p:nvPr/>
              </p:nvSpPr>
              <p:spPr>
                <a:xfrm rot="4020000">
                  <a:off x="5289480" y="586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Oval 430"/>
                <p:cNvSpPr/>
                <p:nvPr/>
              </p:nvSpPr>
              <p:spPr>
                <a:xfrm rot="9420000">
                  <a:off x="5290920" y="586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34" name="Oval 431"/>
            <p:cNvSpPr/>
            <p:nvPr/>
          </p:nvSpPr>
          <p:spPr>
            <a:xfrm>
              <a:off x="5339520" y="5857920"/>
              <a:ext cx="47160" cy="42120"/>
            </a:xfrm>
            <a:prstGeom prst="ellips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5" name="Group 370"/>
          <p:cNvGrpSpPr/>
          <p:nvPr/>
        </p:nvGrpSpPr>
        <p:grpSpPr>
          <a:xfrm>
            <a:off x="8242560" y="5590080"/>
            <a:ext cx="146160" cy="146880"/>
            <a:chOff x="8242560" y="5590080"/>
            <a:chExt cx="146160" cy="146880"/>
          </a:xfrm>
        </p:grpSpPr>
        <p:grpSp>
          <p:nvGrpSpPr>
            <p:cNvPr id="2136" name="Group 371"/>
            <p:cNvGrpSpPr/>
            <p:nvPr/>
          </p:nvGrpSpPr>
          <p:grpSpPr>
            <a:xfrm>
              <a:off x="8244000" y="5591160"/>
              <a:ext cx="144360" cy="144360"/>
              <a:chOff x="8244000" y="5591160"/>
              <a:chExt cx="144360" cy="144360"/>
            </a:xfrm>
          </p:grpSpPr>
          <p:grpSp>
            <p:nvGrpSpPr>
              <p:cNvPr id="2137" name="Group 372"/>
              <p:cNvGrpSpPr/>
              <p:nvPr/>
            </p:nvGrpSpPr>
            <p:grpSpPr>
              <a:xfrm>
                <a:off x="8244000" y="5591160"/>
                <a:ext cx="144360" cy="144360"/>
                <a:chOff x="8244000" y="5591160"/>
                <a:chExt cx="144360" cy="144360"/>
              </a:xfrm>
            </p:grpSpPr>
            <p:sp>
              <p:nvSpPr>
                <p:cNvPr id="2138" name="Oval 435"/>
                <p:cNvSpPr/>
                <p:nvPr/>
              </p:nvSpPr>
              <p:spPr>
                <a:xfrm>
                  <a:off x="8244000" y="56484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9" name="Oval 436"/>
                <p:cNvSpPr/>
                <p:nvPr/>
              </p:nvSpPr>
              <p:spPr>
                <a:xfrm rot="5400000">
                  <a:off x="8243640" y="5646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0" name="Group 375"/>
              <p:cNvGrpSpPr/>
              <p:nvPr/>
            </p:nvGrpSpPr>
            <p:grpSpPr>
              <a:xfrm>
                <a:off x="8252640" y="5600520"/>
                <a:ext cx="125640" cy="126720"/>
                <a:chOff x="8252640" y="5600520"/>
                <a:chExt cx="125640" cy="126720"/>
              </a:xfrm>
            </p:grpSpPr>
            <p:sp>
              <p:nvSpPr>
                <p:cNvPr id="2141" name="Oval 438"/>
                <p:cNvSpPr/>
                <p:nvPr/>
              </p:nvSpPr>
              <p:spPr>
                <a:xfrm rot="2700000">
                  <a:off x="8242920" y="56480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2" name="Oval 439"/>
                <p:cNvSpPr/>
                <p:nvPr/>
              </p:nvSpPr>
              <p:spPr>
                <a:xfrm rot="8100000">
                  <a:off x="824328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3" name="Group 378"/>
            <p:cNvGrpSpPr/>
            <p:nvPr/>
          </p:nvGrpSpPr>
          <p:grpSpPr>
            <a:xfrm>
              <a:off x="8242560" y="5590080"/>
              <a:ext cx="146160" cy="146880"/>
              <a:chOff x="8242560" y="5590080"/>
              <a:chExt cx="146160" cy="146880"/>
            </a:xfrm>
          </p:grpSpPr>
          <p:grpSp>
            <p:nvGrpSpPr>
              <p:cNvPr id="2144" name="Group 379"/>
              <p:cNvGrpSpPr/>
              <p:nvPr/>
            </p:nvGrpSpPr>
            <p:grpSpPr>
              <a:xfrm>
                <a:off x="8242560" y="5590080"/>
                <a:ext cx="146160" cy="146160"/>
                <a:chOff x="8242560" y="5590080"/>
                <a:chExt cx="146160" cy="146160"/>
              </a:xfrm>
            </p:grpSpPr>
            <p:sp>
              <p:nvSpPr>
                <p:cNvPr id="2145" name="Oval 442"/>
                <p:cNvSpPr/>
                <p:nvPr/>
              </p:nvSpPr>
              <p:spPr>
                <a:xfrm rot="1320000">
                  <a:off x="8243280" y="56480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6" name="Oval 443"/>
                <p:cNvSpPr/>
                <p:nvPr/>
              </p:nvSpPr>
              <p:spPr>
                <a:xfrm rot="6720000">
                  <a:off x="824364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7" name="Group 382"/>
              <p:cNvGrpSpPr/>
              <p:nvPr/>
            </p:nvGrpSpPr>
            <p:grpSpPr>
              <a:xfrm>
                <a:off x="8242920" y="5591160"/>
                <a:ext cx="145800" cy="145800"/>
                <a:chOff x="8242920" y="5591160"/>
                <a:chExt cx="145800" cy="145800"/>
              </a:xfrm>
            </p:grpSpPr>
            <p:sp>
              <p:nvSpPr>
                <p:cNvPr id="2148" name="Oval 445"/>
                <p:cNvSpPr/>
                <p:nvPr/>
              </p:nvSpPr>
              <p:spPr>
                <a:xfrm rot="4020000">
                  <a:off x="8242200" y="5647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9" name="Oval 446"/>
                <p:cNvSpPr/>
                <p:nvPr/>
              </p:nvSpPr>
              <p:spPr>
                <a:xfrm rot="9420000">
                  <a:off x="8243640" y="5646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50" name="Oval 447"/>
            <p:cNvSpPr/>
            <p:nvPr/>
          </p:nvSpPr>
          <p:spPr>
            <a:xfrm>
              <a:off x="8292240" y="5641920"/>
              <a:ext cx="47160" cy="42120"/>
            </a:xfrm>
            <a:prstGeom prst="ellips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1" name="Group 386"/>
          <p:cNvGrpSpPr/>
          <p:nvPr/>
        </p:nvGrpSpPr>
        <p:grpSpPr>
          <a:xfrm>
            <a:off x="5361120" y="5445720"/>
            <a:ext cx="146160" cy="146880"/>
            <a:chOff x="5361120" y="5445720"/>
            <a:chExt cx="146160" cy="146880"/>
          </a:xfrm>
        </p:grpSpPr>
        <p:grpSp>
          <p:nvGrpSpPr>
            <p:cNvPr id="2152" name="Group 387"/>
            <p:cNvGrpSpPr/>
            <p:nvPr/>
          </p:nvGrpSpPr>
          <p:grpSpPr>
            <a:xfrm>
              <a:off x="5362560" y="5446800"/>
              <a:ext cx="144360" cy="144360"/>
              <a:chOff x="5362560" y="5446800"/>
              <a:chExt cx="144360" cy="144360"/>
            </a:xfrm>
          </p:grpSpPr>
          <p:grpSp>
            <p:nvGrpSpPr>
              <p:cNvPr id="2153" name="Group 388"/>
              <p:cNvGrpSpPr/>
              <p:nvPr/>
            </p:nvGrpSpPr>
            <p:grpSpPr>
              <a:xfrm>
                <a:off x="5362560" y="5446800"/>
                <a:ext cx="144360" cy="144360"/>
                <a:chOff x="5362560" y="5446800"/>
                <a:chExt cx="144360" cy="144360"/>
              </a:xfrm>
            </p:grpSpPr>
            <p:sp>
              <p:nvSpPr>
                <p:cNvPr id="2154" name="Oval 451"/>
                <p:cNvSpPr/>
                <p:nvPr/>
              </p:nvSpPr>
              <p:spPr>
                <a:xfrm>
                  <a:off x="5362560" y="55040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5" name="Oval 452"/>
                <p:cNvSpPr/>
                <p:nvPr/>
              </p:nvSpPr>
              <p:spPr>
                <a:xfrm rot="5400000">
                  <a:off x="5362200" y="550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6" name="Group 391"/>
              <p:cNvGrpSpPr/>
              <p:nvPr/>
            </p:nvGrpSpPr>
            <p:grpSpPr>
              <a:xfrm>
                <a:off x="5371200" y="5456160"/>
                <a:ext cx="125640" cy="126720"/>
                <a:chOff x="5371200" y="5456160"/>
                <a:chExt cx="125640" cy="126720"/>
              </a:xfrm>
            </p:grpSpPr>
            <p:sp>
              <p:nvSpPr>
                <p:cNvPr id="2157" name="Oval 454"/>
                <p:cNvSpPr/>
                <p:nvPr/>
              </p:nvSpPr>
              <p:spPr>
                <a:xfrm rot="2700000">
                  <a:off x="5361480" y="55036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8" name="Oval 455"/>
                <p:cNvSpPr/>
                <p:nvPr/>
              </p:nvSpPr>
              <p:spPr>
                <a:xfrm rot="8100000">
                  <a:off x="536184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9" name="Group 394"/>
            <p:cNvGrpSpPr/>
            <p:nvPr/>
          </p:nvGrpSpPr>
          <p:grpSpPr>
            <a:xfrm>
              <a:off x="5361120" y="5445720"/>
              <a:ext cx="146160" cy="146880"/>
              <a:chOff x="5361120" y="5445720"/>
              <a:chExt cx="146160" cy="146880"/>
            </a:xfrm>
          </p:grpSpPr>
          <p:grpSp>
            <p:nvGrpSpPr>
              <p:cNvPr id="2160" name="Group 395"/>
              <p:cNvGrpSpPr/>
              <p:nvPr/>
            </p:nvGrpSpPr>
            <p:grpSpPr>
              <a:xfrm>
                <a:off x="5361120" y="5445720"/>
                <a:ext cx="146160" cy="146160"/>
                <a:chOff x="5361120" y="5445720"/>
                <a:chExt cx="146160" cy="146160"/>
              </a:xfrm>
            </p:grpSpPr>
            <p:sp>
              <p:nvSpPr>
                <p:cNvPr id="2161" name="Oval 458"/>
                <p:cNvSpPr/>
                <p:nvPr/>
              </p:nvSpPr>
              <p:spPr>
                <a:xfrm rot="1320000">
                  <a:off x="5361840" y="55036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2" name="Oval 459"/>
                <p:cNvSpPr/>
                <p:nvPr/>
              </p:nvSpPr>
              <p:spPr>
                <a:xfrm rot="6720000">
                  <a:off x="536220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3" name="Group 398"/>
              <p:cNvGrpSpPr/>
              <p:nvPr/>
            </p:nvGrpSpPr>
            <p:grpSpPr>
              <a:xfrm>
                <a:off x="5361480" y="5446800"/>
                <a:ext cx="145800" cy="145800"/>
                <a:chOff x="5361480" y="5446800"/>
                <a:chExt cx="145800" cy="145800"/>
              </a:xfrm>
            </p:grpSpPr>
            <p:sp>
              <p:nvSpPr>
                <p:cNvPr id="2164" name="Oval 461"/>
                <p:cNvSpPr/>
                <p:nvPr/>
              </p:nvSpPr>
              <p:spPr>
                <a:xfrm rot="4020000">
                  <a:off x="5360760" y="550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5" name="Oval 462"/>
                <p:cNvSpPr/>
                <p:nvPr/>
              </p:nvSpPr>
              <p:spPr>
                <a:xfrm rot="9420000">
                  <a:off x="5362200" y="5501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66" name="Oval 463"/>
            <p:cNvSpPr/>
            <p:nvPr/>
          </p:nvSpPr>
          <p:spPr>
            <a:xfrm>
              <a:off x="5410800" y="5497560"/>
              <a:ext cx="47160" cy="42120"/>
            </a:xfrm>
            <a:prstGeom prst="ellips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7" name="Group 402"/>
          <p:cNvGrpSpPr/>
          <p:nvPr/>
        </p:nvGrpSpPr>
        <p:grpSpPr>
          <a:xfrm>
            <a:off x="1399680" y="5658480"/>
            <a:ext cx="367920" cy="368640"/>
            <a:chOff x="1399680" y="5658480"/>
            <a:chExt cx="367920" cy="368640"/>
          </a:xfrm>
        </p:grpSpPr>
        <p:grpSp>
          <p:nvGrpSpPr>
            <p:cNvPr id="2168" name="Group 403"/>
            <p:cNvGrpSpPr/>
            <p:nvPr/>
          </p:nvGrpSpPr>
          <p:grpSpPr>
            <a:xfrm>
              <a:off x="1403280" y="5661000"/>
              <a:ext cx="363240" cy="363240"/>
              <a:chOff x="1403280" y="5661000"/>
              <a:chExt cx="363240" cy="363240"/>
            </a:xfrm>
          </p:grpSpPr>
          <p:grpSp>
            <p:nvGrpSpPr>
              <p:cNvPr id="2169" name="Group 404"/>
              <p:cNvGrpSpPr/>
              <p:nvPr/>
            </p:nvGrpSpPr>
            <p:grpSpPr>
              <a:xfrm>
                <a:off x="1403280" y="5661000"/>
                <a:ext cx="363240" cy="363240"/>
                <a:chOff x="1403280" y="5661000"/>
                <a:chExt cx="363240" cy="363240"/>
              </a:xfrm>
            </p:grpSpPr>
            <p:sp>
              <p:nvSpPr>
                <p:cNvPr id="2170" name="Oval 467"/>
                <p:cNvSpPr/>
                <p:nvPr/>
              </p:nvSpPr>
              <p:spPr>
                <a:xfrm>
                  <a:off x="1403280" y="58050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1" name="Oval 468"/>
                <p:cNvSpPr/>
                <p:nvPr/>
              </p:nvSpPr>
              <p:spPr>
                <a:xfrm rot="5400000">
                  <a:off x="140256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2" name="Group 407"/>
              <p:cNvGrpSpPr/>
              <p:nvPr/>
            </p:nvGrpSpPr>
            <p:grpSpPr>
              <a:xfrm>
                <a:off x="1424520" y="5684760"/>
                <a:ext cx="317160" cy="317880"/>
                <a:chOff x="1424520" y="5684760"/>
                <a:chExt cx="317160" cy="317880"/>
              </a:xfrm>
            </p:grpSpPr>
            <p:sp>
              <p:nvSpPr>
                <p:cNvPr id="2173" name="Oval 470"/>
                <p:cNvSpPr/>
                <p:nvPr/>
              </p:nvSpPr>
              <p:spPr>
                <a:xfrm rot="2700000">
                  <a:off x="1400400" y="58039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4" name="Oval 471"/>
                <p:cNvSpPr/>
                <p:nvPr/>
              </p:nvSpPr>
              <p:spPr>
                <a:xfrm rot="8100000">
                  <a:off x="140220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5" name="Group 410"/>
            <p:cNvGrpSpPr/>
            <p:nvPr/>
          </p:nvGrpSpPr>
          <p:grpSpPr>
            <a:xfrm>
              <a:off x="1399680" y="5658480"/>
              <a:ext cx="367920" cy="368640"/>
              <a:chOff x="1399680" y="5658480"/>
              <a:chExt cx="367920" cy="368640"/>
            </a:xfrm>
          </p:grpSpPr>
          <p:grpSp>
            <p:nvGrpSpPr>
              <p:cNvPr id="2176" name="Group 411"/>
              <p:cNvGrpSpPr/>
              <p:nvPr/>
            </p:nvGrpSpPr>
            <p:grpSpPr>
              <a:xfrm>
                <a:off x="1399680" y="5658480"/>
                <a:ext cx="367920" cy="367920"/>
                <a:chOff x="1399680" y="5658480"/>
                <a:chExt cx="367920" cy="367920"/>
              </a:xfrm>
            </p:grpSpPr>
            <p:sp>
              <p:nvSpPr>
                <p:cNvPr id="2177" name="Oval 474"/>
                <p:cNvSpPr/>
                <p:nvPr/>
              </p:nvSpPr>
              <p:spPr>
                <a:xfrm rot="1320000">
                  <a:off x="1401840" y="58042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8" name="Oval 475"/>
                <p:cNvSpPr/>
                <p:nvPr/>
              </p:nvSpPr>
              <p:spPr>
                <a:xfrm rot="6720000">
                  <a:off x="140256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9" name="Group 414"/>
              <p:cNvGrpSpPr/>
              <p:nvPr/>
            </p:nvGrpSpPr>
            <p:grpSpPr>
              <a:xfrm>
                <a:off x="1401120" y="5660640"/>
                <a:ext cx="366480" cy="366480"/>
                <a:chOff x="1401120" y="5660640"/>
                <a:chExt cx="366480" cy="366480"/>
              </a:xfrm>
            </p:grpSpPr>
            <p:sp>
              <p:nvSpPr>
                <p:cNvPr id="2180" name="Oval 477"/>
                <p:cNvSpPr/>
                <p:nvPr/>
              </p:nvSpPr>
              <p:spPr>
                <a:xfrm rot="4020000">
                  <a:off x="1399680" y="580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1" name="Oval 478"/>
                <p:cNvSpPr/>
                <p:nvPr/>
              </p:nvSpPr>
              <p:spPr>
                <a:xfrm rot="9420000">
                  <a:off x="1402560" y="580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82" name="Oval 479"/>
            <p:cNvSpPr/>
            <p:nvPr/>
          </p:nvSpPr>
          <p:spPr>
            <a:xfrm>
              <a:off x="1525320" y="5789160"/>
              <a:ext cx="118800" cy="105840"/>
            </a:xfrm>
            <a:prstGeom prst="ellips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3" name="Group 418"/>
          <p:cNvGrpSpPr/>
          <p:nvPr/>
        </p:nvGrpSpPr>
        <p:grpSpPr>
          <a:xfrm>
            <a:off x="2192040" y="5659920"/>
            <a:ext cx="367920" cy="368640"/>
            <a:chOff x="2192040" y="5659920"/>
            <a:chExt cx="367920" cy="368640"/>
          </a:xfrm>
        </p:grpSpPr>
        <p:grpSp>
          <p:nvGrpSpPr>
            <p:cNvPr id="2184" name="Group 419"/>
            <p:cNvGrpSpPr/>
            <p:nvPr/>
          </p:nvGrpSpPr>
          <p:grpSpPr>
            <a:xfrm>
              <a:off x="2195640" y="5662440"/>
              <a:ext cx="362880" cy="363240"/>
              <a:chOff x="2195640" y="5662440"/>
              <a:chExt cx="362880" cy="363240"/>
            </a:xfrm>
          </p:grpSpPr>
          <p:grpSp>
            <p:nvGrpSpPr>
              <p:cNvPr id="2185" name="Group 420"/>
              <p:cNvGrpSpPr/>
              <p:nvPr/>
            </p:nvGrpSpPr>
            <p:grpSpPr>
              <a:xfrm>
                <a:off x="2195640" y="5662440"/>
                <a:ext cx="362880" cy="363240"/>
                <a:chOff x="2195640" y="5662440"/>
                <a:chExt cx="362880" cy="363240"/>
              </a:xfrm>
            </p:grpSpPr>
            <p:sp>
              <p:nvSpPr>
                <p:cNvPr id="2186" name="Oval 483"/>
                <p:cNvSpPr/>
                <p:nvPr/>
              </p:nvSpPr>
              <p:spPr>
                <a:xfrm>
                  <a:off x="2195640" y="58064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7" name="Oval 484"/>
                <p:cNvSpPr/>
                <p:nvPr/>
              </p:nvSpPr>
              <p:spPr>
                <a:xfrm rot="5400000">
                  <a:off x="2194920" y="580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8" name="Group 423"/>
              <p:cNvGrpSpPr/>
              <p:nvPr/>
            </p:nvGrpSpPr>
            <p:grpSpPr>
              <a:xfrm>
                <a:off x="2216880" y="5686200"/>
                <a:ext cx="317160" cy="317880"/>
                <a:chOff x="2216880" y="5686200"/>
                <a:chExt cx="317160" cy="317880"/>
              </a:xfrm>
            </p:grpSpPr>
            <p:sp>
              <p:nvSpPr>
                <p:cNvPr id="2189" name="Oval 486"/>
                <p:cNvSpPr/>
                <p:nvPr/>
              </p:nvSpPr>
              <p:spPr>
                <a:xfrm rot="2700000">
                  <a:off x="2192760" y="58053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0" name="Oval 487"/>
                <p:cNvSpPr/>
                <p:nvPr/>
              </p:nvSpPr>
              <p:spPr>
                <a:xfrm rot="8100000">
                  <a:off x="2194920" y="5802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91" name="Group 426"/>
            <p:cNvGrpSpPr/>
            <p:nvPr/>
          </p:nvGrpSpPr>
          <p:grpSpPr>
            <a:xfrm>
              <a:off x="2192040" y="5659920"/>
              <a:ext cx="367920" cy="368640"/>
              <a:chOff x="2192040" y="5659920"/>
              <a:chExt cx="367920" cy="368640"/>
            </a:xfrm>
          </p:grpSpPr>
          <p:grpSp>
            <p:nvGrpSpPr>
              <p:cNvPr id="2192" name="Group 427"/>
              <p:cNvGrpSpPr/>
              <p:nvPr/>
            </p:nvGrpSpPr>
            <p:grpSpPr>
              <a:xfrm>
                <a:off x="2192040" y="5659920"/>
                <a:ext cx="367560" cy="367920"/>
                <a:chOff x="2192040" y="5659920"/>
                <a:chExt cx="367560" cy="367920"/>
              </a:xfrm>
            </p:grpSpPr>
            <p:sp>
              <p:nvSpPr>
                <p:cNvPr id="2193" name="Oval 490"/>
                <p:cNvSpPr/>
                <p:nvPr/>
              </p:nvSpPr>
              <p:spPr>
                <a:xfrm rot="1320000">
                  <a:off x="2194200" y="580608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4" name="Oval 491"/>
                <p:cNvSpPr/>
                <p:nvPr/>
              </p:nvSpPr>
              <p:spPr>
                <a:xfrm rot="6720000">
                  <a:off x="2194920" y="580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5" name="Group 430"/>
              <p:cNvGrpSpPr/>
              <p:nvPr/>
            </p:nvGrpSpPr>
            <p:grpSpPr>
              <a:xfrm>
                <a:off x="2193840" y="5662080"/>
                <a:ext cx="366120" cy="366480"/>
                <a:chOff x="2193840" y="5662080"/>
                <a:chExt cx="366120" cy="366480"/>
              </a:xfrm>
            </p:grpSpPr>
            <p:sp>
              <p:nvSpPr>
                <p:cNvPr id="2196" name="Oval 493"/>
                <p:cNvSpPr/>
                <p:nvPr/>
              </p:nvSpPr>
              <p:spPr>
                <a:xfrm rot="4020000">
                  <a:off x="2192040" y="58039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7" name="Oval 494"/>
                <p:cNvSpPr/>
                <p:nvPr/>
              </p:nvSpPr>
              <p:spPr>
                <a:xfrm rot="9420000">
                  <a:off x="2195280" y="5802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98" name="Oval 495"/>
            <p:cNvSpPr/>
            <p:nvPr/>
          </p:nvSpPr>
          <p:spPr>
            <a:xfrm>
              <a:off x="2317320" y="5790600"/>
              <a:ext cx="118440" cy="105840"/>
            </a:xfrm>
            <a:prstGeom prst="ellipse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9" name="Group 434"/>
          <p:cNvGrpSpPr/>
          <p:nvPr/>
        </p:nvGrpSpPr>
        <p:grpSpPr>
          <a:xfrm>
            <a:off x="1112400" y="5082120"/>
            <a:ext cx="367920" cy="368640"/>
            <a:chOff x="1112400" y="5082120"/>
            <a:chExt cx="367920" cy="368640"/>
          </a:xfrm>
        </p:grpSpPr>
        <p:grpSp>
          <p:nvGrpSpPr>
            <p:cNvPr id="2200" name="Group 435"/>
            <p:cNvGrpSpPr/>
            <p:nvPr/>
          </p:nvGrpSpPr>
          <p:grpSpPr>
            <a:xfrm>
              <a:off x="1116000" y="5084640"/>
              <a:ext cx="363240" cy="363240"/>
              <a:chOff x="1116000" y="5084640"/>
              <a:chExt cx="363240" cy="363240"/>
            </a:xfrm>
          </p:grpSpPr>
          <p:grpSp>
            <p:nvGrpSpPr>
              <p:cNvPr id="2201" name="Group 436"/>
              <p:cNvGrpSpPr/>
              <p:nvPr/>
            </p:nvGrpSpPr>
            <p:grpSpPr>
              <a:xfrm>
                <a:off x="1116000" y="5084640"/>
                <a:ext cx="363240" cy="363240"/>
                <a:chOff x="1116000" y="5084640"/>
                <a:chExt cx="363240" cy="363240"/>
              </a:xfrm>
            </p:grpSpPr>
            <p:sp>
              <p:nvSpPr>
                <p:cNvPr id="2202" name="Oval 499"/>
                <p:cNvSpPr/>
                <p:nvPr/>
              </p:nvSpPr>
              <p:spPr>
                <a:xfrm>
                  <a:off x="1116000" y="52286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3" name="Oval 500"/>
                <p:cNvSpPr/>
                <p:nvPr/>
              </p:nvSpPr>
              <p:spPr>
                <a:xfrm rot="5400000">
                  <a:off x="1115280" y="5225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4" name="Group 439"/>
              <p:cNvGrpSpPr/>
              <p:nvPr/>
            </p:nvGrpSpPr>
            <p:grpSpPr>
              <a:xfrm>
                <a:off x="1137240" y="5108400"/>
                <a:ext cx="317160" cy="317880"/>
                <a:chOff x="1137240" y="5108400"/>
                <a:chExt cx="317160" cy="317880"/>
              </a:xfrm>
            </p:grpSpPr>
            <p:sp>
              <p:nvSpPr>
                <p:cNvPr id="2205" name="Oval 502"/>
                <p:cNvSpPr/>
                <p:nvPr/>
              </p:nvSpPr>
              <p:spPr>
                <a:xfrm rot="2700000">
                  <a:off x="1113120" y="52275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6" name="Oval 503"/>
                <p:cNvSpPr/>
                <p:nvPr/>
              </p:nvSpPr>
              <p:spPr>
                <a:xfrm rot="8100000">
                  <a:off x="1114920" y="5224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07" name="Group 442"/>
            <p:cNvGrpSpPr/>
            <p:nvPr/>
          </p:nvGrpSpPr>
          <p:grpSpPr>
            <a:xfrm>
              <a:off x="1112400" y="5082120"/>
              <a:ext cx="367920" cy="368640"/>
              <a:chOff x="1112400" y="5082120"/>
              <a:chExt cx="367920" cy="368640"/>
            </a:xfrm>
          </p:grpSpPr>
          <p:grpSp>
            <p:nvGrpSpPr>
              <p:cNvPr id="2208" name="Group 443"/>
              <p:cNvGrpSpPr/>
              <p:nvPr/>
            </p:nvGrpSpPr>
            <p:grpSpPr>
              <a:xfrm>
                <a:off x="1112400" y="5082120"/>
                <a:ext cx="367920" cy="367920"/>
                <a:chOff x="1112400" y="5082120"/>
                <a:chExt cx="367920" cy="367920"/>
              </a:xfrm>
            </p:grpSpPr>
            <p:sp>
              <p:nvSpPr>
                <p:cNvPr id="2209" name="Oval 506"/>
                <p:cNvSpPr/>
                <p:nvPr/>
              </p:nvSpPr>
              <p:spPr>
                <a:xfrm rot="1320000">
                  <a:off x="1114560" y="52279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0" name="Oval 507"/>
                <p:cNvSpPr/>
                <p:nvPr/>
              </p:nvSpPr>
              <p:spPr>
                <a:xfrm rot="6720000">
                  <a:off x="1115280" y="5224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1" name="Group 446"/>
              <p:cNvGrpSpPr/>
              <p:nvPr/>
            </p:nvGrpSpPr>
            <p:grpSpPr>
              <a:xfrm>
                <a:off x="1113840" y="5084280"/>
                <a:ext cx="366480" cy="366480"/>
                <a:chOff x="1113840" y="5084280"/>
                <a:chExt cx="366480" cy="366480"/>
              </a:xfrm>
            </p:grpSpPr>
            <p:sp>
              <p:nvSpPr>
                <p:cNvPr id="2212" name="Oval 509"/>
                <p:cNvSpPr/>
                <p:nvPr/>
              </p:nvSpPr>
              <p:spPr>
                <a:xfrm rot="4020000">
                  <a:off x="1112400" y="5226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3" name="Oval 510"/>
                <p:cNvSpPr/>
                <p:nvPr/>
              </p:nvSpPr>
              <p:spPr>
                <a:xfrm rot="9420000">
                  <a:off x="1115280" y="52243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14" name="Oval 511"/>
            <p:cNvSpPr/>
            <p:nvPr/>
          </p:nvSpPr>
          <p:spPr>
            <a:xfrm>
              <a:off x="1238040" y="5212800"/>
              <a:ext cx="118800" cy="105840"/>
            </a:xfrm>
            <a:prstGeom prst="ellipse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5" name="Group 450"/>
          <p:cNvGrpSpPr/>
          <p:nvPr/>
        </p:nvGrpSpPr>
        <p:grpSpPr>
          <a:xfrm>
            <a:off x="1902960" y="5299560"/>
            <a:ext cx="367920" cy="368640"/>
            <a:chOff x="1902960" y="5299560"/>
            <a:chExt cx="367920" cy="368640"/>
          </a:xfrm>
        </p:grpSpPr>
        <p:grpSp>
          <p:nvGrpSpPr>
            <p:cNvPr id="2216" name="Group 451"/>
            <p:cNvGrpSpPr/>
            <p:nvPr/>
          </p:nvGrpSpPr>
          <p:grpSpPr>
            <a:xfrm>
              <a:off x="1906560" y="5302080"/>
              <a:ext cx="363240" cy="363240"/>
              <a:chOff x="1906560" y="5302080"/>
              <a:chExt cx="363240" cy="363240"/>
            </a:xfrm>
          </p:grpSpPr>
          <p:grpSp>
            <p:nvGrpSpPr>
              <p:cNvPr id="2217" name="Group 452"/>
              <p:cNvGrpSpPr/>
              <p:nvPr/>
            </p:nvGrpSpPr>
            <p:grpSpPr>
              <a:xfrm>
                <a:off x="1906560" y="5302080"/>
                <a:ext cx="363240" cy="363240"/>
                <a:chOff x="1906560" y="5302080"/>
                <a:chExt cx="363240" cy="363240"/>
              </a:xfrm>
            </p:grpSpPr>
            <p:sp>
              <p:nvSpPr>
                <p:cNvPr id="2218" name="Oval 531"/>
                <p:cNvSpPr/>
                <p:nvPr/>
              </p:nvSpPr>
              <p:spPr>
                <a:xfrm>
                  <a:off x="1906560" y="54460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9" name="Oval 532"/>
                <p:cNvSpPr/>
                <p:nvPr/>
              </p:nvSpPr>
              <p:spPr>
                <a:xfrm rot="5400000">
                  <a:off x="190584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0" name="Group 455"/>
              <p:cNvGrpSpPr/>
              <p:nvPr/>
            </p:nvGrpSpPr>
            <p:grpSpPr>
              <a:xfrm>
                <a:off x="1927800" y="5325840"/>
                <a:ext cx="317160" cy="317880"/>
                <a:chOff x="1927800" y="5325840"/>
                <a:chExt cx="317160" cy="317880"/>
              </a:xfrm>
            </p:grpSpPr>
            <p:sp>
              <p:nvSpPr>
                <p:cNvPr id="2221" name="Oval 534"/>
                <p:cNvSpPr/>
                <p:nvPr/>
              </p:nvSpPr>
              <p:spPr>
                <a:xfrm rot="2700000">
                  <a:off x="1903680" y="54450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2" name="Oval 535"/>
                <p:cNvSpPr/>
                <p:nvPr/>
              </p:nvSpPr>
              <p:spPr>
                <a:xfrm rot="8100000">
                  <a:off x="190548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3" name="Group 458"/>
            <p:cNvGrpSpPr/>
            <p:nvPr/>
          </p:nvGrpSpPr>
          <p:grpSpPr>
            <a:xfrm>
              <a:off x="1902960" y="5299560"/>
              <a:ext cx="367920" cy="368640"/>
              <a:chOff x="1902960" y="5299560"/>
              <a:chExt cx="367920" cy="368640"/>
            </a:xfrm>
          </p:grpSpPr>
          <p:grpSp>
            <p:nvGrpSpPr>
              <p:cNvPr id="2224" name="Group 459"/>
              <p:cNvGrpSpPr/>
              <p:nvPr/>
            </p:nvGrpSpPr>
            <p:grpSpPr>
              <a:xfrm>
                <a:off x="1902960" y="5299560"/>
                <a:ext cx="367920" cy="367920"/>
                <a:chOff x="1902960" y="5299560"/>
                <a:chExt cx="367920" cy="367920"/>
              </a:xfrm>
            </p:grpSpPr>
            <p:sp>
              <p:nvSpPr>
                <p:cNvPr id="2225" name="Oval 538"/>
                <p:cNvSpPr/>
                <p:nvPr/>
              </p:nvSpPr>
              <p:spPr>
                <a:xfrm rot="1320000">
                  <a:off x="1905120" y="54453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6" name="Oval 539"/>
                <p:cNvSpPr/>
                <p:nvPr/>
              </p:nvSpPr>
              <p:spPr>
                <a:xfrm rot="6720000">
                  <a:off x="190584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7" name="Group 462"/>
              <p:cNvGrpSpPr/>
              <p:nvPr/>
            </p:nvGrpSpPr>
            <p:grpSpPr>
              <a:xfrm>
                <a:off x="1904400" y="5301720"/>
                <a:ext cx="366480" cy="366480"/>
                <a:chOff x="1904400" y="5301720"/>
                <a:chExt cx="366480" cy="366480"/>
              </a:xfrm>
            </p:grpSpPr>
            <p:sp>
              <p:nvSpPr>
                <p:cNvPr id="2228" name="Oval 541"/>
                <p:cNvSpPr/>
                <p:nvPr/>
              </p:nvSpPr>
              <p:spPr>
                <a:xfrm rot="4020000">
                  <a:off x="1902960" y="54435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9" name="Oval 542"/>
                <p:cNvSpPr/>
                <p:nvPr/>
              </p:nvSpPr>
              <p:spPr>
                <a:xfrm rot="9420000">
                  <a:off x="1905840" y="544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30" name="Oval 543"/>
            <p:cNvSpPr/>
            <p:nvPr/>
          </p:nvSpPr>
          <p:spPr>
            <a:xfrm>
              <a:off x="2028600" y="5430240"/>
              <a:ext cx="118800" cy="105840"/>
            </a:xfrm>
            <a:prstGeom prst="ellipse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1" name="Group 466"/>
          <p:cNvGrpSpPr/>
          <p:nvPr/>
        </p:nvGrpSpPr>
        <p:grpSpPr>
          <a:xfrm>
            <a:off x="2625120" y="5805720"/>
            <a:ext cx="219240" cy="219240"/>
            <a:chOff x="2625120" y="5805720"/>
            <a:chExt cx="219240" cy="219240"/>
          </a:xfrm>
        </p:grpSpPr>
        <p:grpSp>
          <p:nvGrpSpPr>
            <p:cNvPr id="2232" name="Group 467"/>
            <p:cNvGrpSpPr/>
            <p:nvPr/>
          </p:nvGrpSpPr>
          <p:grpSpPr>
            <a:xfrm>
              <a:off x="2627280" y="5807160"/>
              <a:ext cx="216000" cy="215640"/>
              <a:chOff x="2627280" y="5807160"/>
              <a:chExt cx="216000" cy="215640"/>
            </a:xfrm>
          </p:grpSpPr>
          <p:grpSp>
            <p:nvGrpSpPr>
              <p:cNvPr id="2233" name="Group 468"/>
              <p:cNvGrpSpPr/>
              <p:nvPr/>
            </p:nvGrpSpPr>
            <p:grpSpPr>
              <a:xfrm>
                <a:off x="2627280" y="5807160"/>
                <a:ext cx="216000" cy="215640"/>
                <a:chOff x="2627280" y="5807160"/>
                <a:chExt cx="216000" cy="215640"/>
              </a:xfrm>
            </p:grpSpPr>
            <p:sp>
              <p:nvSpPr>
                <p:cNvPr id="2234" name="Oval 547"/>
                <p:cNvSpPr/>
                <p:nvPr/>
              </p:nvSpPr>
              <p:spPr>
                <a:xfrm>
                  <a:off x="2627280" y="58928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5" name="Oval 548"/>
                <p:cNvSpPr/>
                <p:nvPr/>
              </p:nvSpPr>
              <p:spPr>
                <a:xfrm rot="5400000">
                  <a:off x="262692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6" name="Group 471"/>
              <p:cNvGrpSpPr/>
              <p:nvPr/>
            </p:nvGrpSpPr>
            <p:grpSpPr>
              <a:xfrm>
                <a:off x="2640240" y="5821200"/>
                <a:ext cx="188640" cy="189000"/>
                <a:chOff x="2640240" y="5821200"/>
                <a:chExt cx="188640" cy="189000"/>
              </a:xfrm>
            </p:grpSpPr>
            <p:sp>
              <p:nvSpPr>
                <p:cNvPr id="2237" name="Oval 550"/>
                <p:cNvSpPr/>
                <p:nvPr/>
              </p:nvSpPr>
              <p:spPr>
                <a:xfrm rot="2700000">
                  <a:off x="2625840" y="58917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8" name="Oval 551"/>
                <p:cNvSpPr/>
                <p:nvPr/>
              </p:nvSpPr>
              <p:spPr>
                <a:xfrm rot="8100000">
                  <a:off x="262692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9" name="Group 474"/>
            <p:cNvGrpSpPr/>
            <p:nvPr/>
          </p:nvGrpSpPr>
          <p:grpSpPr>
            <a:xfrm>
              <a:off x="2625120" y="5805720"/>
              <a:ext cx="219240" cy="219240"/>
              <a:chOff x="2625120" y="5805720"/>
              <a:chExt cx="219240" cy="219240"/>
            </a:xfrm>
          </p:grpSpPr>
          <p:grpSp>
            <p:nvGrpSpPr>
              <p:cNvPr id="2240" name="Group 475"/>
              <p:cNvGrpSpPr/>
              <p:nvPr/>
            </p:nvGrpSpPr>
            <p:grpSpPr>
              <a:xfrm>
                <a:off x="2625120" y="5805720"/>
                <a:ext cx="218520" cy="218160"/>
                <a:chOff x="2625120" y="5805720"/>
                <a:chExt cx="218520" cy="218160"/>
              </a:xfrm>
            </p:grpSpPr>
            <p:sp>
              <p:nvSpPr>
                <p:cNvPr id="2241" name="Oval 554"/>
                <p:cNvSpPr/>
                <p:nvPr/>
              </p:nvSpPr>
              <p:spPr>
                <a:xfrm rot="1320000">
                  <a:off x="2626200" y="58924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2" name="Oval 555"/>
                <p:cNvSpPr/>
                <p:nvPr/>
              </p:nvSpPr>
              <p:spPr>
                <a:xfrm rot="6720000">
                  <a:off x="262692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3" name="Group 478"/>
              <p:cNvGrpSpPr/>
              <p:nvPr/>
            </p:nvGrpSpPr>
            <p:grpSpPr>
              <a:xfrm>
                <a:off x="2626560" y="5807160"/>
                <a:ext cx="217800" cy="217800"/>
                <a:chOff x="2626560" y="5807160"/>
                <a:chExt cx="217800" cy="217800"/>
              </a:xfrm>
            </p:grpSpPr>
            <p:sp>
              <p:nvSpPr>
                <p:cNvPr id="2244" name="Oval 557"/>
                <p:cNvSpPr/>
                <p:nvPr/>
              </p:nvSpPr>
              <p:spPr>
                <a:xfrm rot="4020000">
                  <a:off x="2625120" y="58914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5" name="Oval 558"/>
                <p:cNvSpPr/>
                <p:nvPr/>
              </p:nvSpPr>
              <p:spPr>
                <a:xfrm rot="9420000">
                  <a:off x="2627280" y="588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46" name="Oval 559"/>
            <p:cNvSpPr/>
            <p:nvPr/>
          </p:nvSpPr>
          <p:spPr>
            <a:xfrm>
              <a:off x="2699640" y="5883120"/>
              <a:ext cx="70560" cy="62640"/>
            </a:xfrm>
            <a:prstGeom prst="ellipse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7" name="Group 482"/>
          <p:cNvGrpSpPr/>
          <p:nvPr/>
        </p:nvGrpSpPr>
        <p:grpSpPr>
          <a:xfrm>
            <a:off x="896400" y="5805720"/>
            <a:ext cx="219240" cy="219240"/>
            <a:chOff x="896400" y="5805720"/>
            <a:chExt cx="219240" cy="219240"/>
          </a:xfrm>
        </p:grpSpPr>
        <p:grpSp>
          <p:nvGrpSpPr>
            <p:cNvPr id="2248" name="Group 483"/>
            <p:cNvGrpSpPr/>
            <p:nvPr/>
          </p:nvGrpSpPr>
          <p:grpSpPr>
            <a:xfrm>
              <a:off x="898560" y="5807160"/>
              <a:ext cx="216000" cy="215640"/>
              <a:chOff x="898560" y="5807160"/>
              <a:chExt cx="216000" cy="215640"/>
            </a:xfrm>
          </p:grpSpPr>
          <p:grpSp>
            <p:nvGrpSpPr>
              <p:cNvPr id="2249" name="Group 484"/>
              <p:cNvGrpSpPr/>
              <p:nvPr/>
            </p:nvGrpSpPr>
            <p:grpSpPr>
              <a:xfrm>
                <a:off x="898560" y="5807160"/>
                <a:ext cx="216000" cy="215640"/>
                <a:chOff x="898560" y="5807160"/>
                <a:chExt cx="216000" cy="215640"/>
              </a:xfrm>
            </p:grpSpPr>
            <p:sp>
              <p:nvSpPr>
                <p:cNvPr id="2250" name="Oval 563"/>
                <p:cNvSpPr/>
                <p:nvPr/>
              </p:nvSpPr>
              <p:spPr>
                <a:xfrm>
                  <a:off x="898560" y="58928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1" name="Oval 564"/>
                <p:cNvSpPr/>
                <p:nvPr/>
              </p:nvSpPr>
              <p:spPr>
                <a:xfrm rot="5400000">
                  <a:off x="89820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2" name="Group 487"/>
              <p:cNvGrpSpPr/>
              <p:nvPr/>
            </p:nvGrpSpPr>
            <p:grpSpPr>
              <a:xfrm>
                <a:off x="911520" y="5821200"/>
                <a:ext cx="188640" cy="189000"/>
                <a:chOff x="911520" y="5821200"/>
                <a:chExt cx="188640" cy="189000"/>
              </a:xfrm>
            </p:grpSpPr>
            <p:sp>
              <p:nvSpPr>
                <p:cNvPr id="2253" name="Oval 566"/>
                <p:cNvSpPr/>
                <p:nvPr/>
              </p:nvSpPr>
              <p:spPr>
                <a:xfrm rot="2700000">
                  <a:off x="897120" y="58917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4" name="Oval 567"/>
                <p:cNvSpPr/>
                <p:nvPr/>
              </p:nvSpPr>
              <p:spPr>
                <a:xfrm rot="8100000">
                  <a:off x="89820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5" name="Group 490"/>
            <p:cNvGrpSpPr/>
            <p:nvPr/>
          </p:nvGrpSpPr>
          <p:grpSpPr>
            <a:xfrm>
              <a:off x="896400" y="5805720"/>
              <a:ext cx="219240" cy="219240"/>
              <a:chOff x="896400" y="5805720"/>
              <a:chExt cx="219240" cy="219240"/>
            </a:xfrm>
          </p:grpSpPr>
          <p:grpSp>
            <p:nvGrpSpPr>
              <p:cNvPr id="2256" name="Group 491"/>
              <p:cNvGrpSpPr/>
              <p:nvPr/>
            </p:nvGrpSpPr>
            <p:grpSpPr>
              <a:xfrm>
                <a:off x="896400" y="5805720"/>
                <a:ext cx="218520" cy="218160"/>
                <a:chOff x="896400" y="5805720"/>
                <a:chExt cx="218520" cy="218160"/>
              </a:xfrm>
            </p:grpSpPr>
            <p:sp>
              <p:nvSpPr>
                <p:cNvPr id="2257" name="Oval 570"/>
                <p:cNvSpPr/>
                <p:nvPr/>
              </p:nvSpPr>
              <p:spPr>
                <a:xfrm rot="1320000">
                  <a:off x="897480" y="58924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8" name="Oval 571"/>
                <p:cNvSpPr/>
                <p:nvPr/>
              </p:nvSpPr>
              <p:spPr>
                <a:xfrm rot="6720000">
                  <a:off x="89820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9" name="Group 494"/>
              <p:cNvGrpSpPr/>
              <p:nvPr/>
            </p:nvGrpSpPr>
            <p:grpSpPr>
              <a:xfrm>
                <a:off x="897840" y="5807160"/>
                <a:ext cx="217800" cy="217800"/>
                <a:chOff x="897840" y="5807160"/>
                <a:chExt cx="217800" cy="217800"/>
              </a:xfrm>
            </p:grpSpPr>
            <p:sp>
              <p:nvSpPr>
                <p:cNvPr id="2260" name="Oval 573"/>
                <p:cNvSpPr/>
                <p:nvPr/>
              </p:nvSpPr>
              <p:spPr>
                <a:xfrm rot="4020000">
                  <a:off x="896400" y="58914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1" name="Oval 574"/>
                <p:cNvSpPr/>
                <p:nvPr/>
              </p:nvSpPr>
              <p:spPr>
                <a:xfrm rot="9420000">
                  <a:off x="898560" y="588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62" name="Oval 575"/>
            <p:cNvSpPr/>
            <p:nvPr/>
          </p:nvSpPr>
          <p:spPr>
            <a:xfrm>
              <a:off x="970920" y="5883120"/>
              <a:ext cx="70560" cy="62640"/>
            </a:xfrm>
            <a:prstGeom prst="ellipse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3" name="Group 498"/>
          <p:cNvGrpSpPr/>
          <p:nvPr/>
        </p:nvGrpSpPr>
        <p:grpSpPr>
          <a:xfrm>
            <a:off x="3202200" y="6020280"/>
            <a:ext cx="146160" cy="146880"/>
            <a:chOff x="3202200" y="6020280"/>
            <a:chExt cx="146160" cy="146880"/>
          </a:xfrm>
        </p:grpSpPr>
        <p:grpSp>
          <p:nvGrpSpPr>
            <p:cNvPr id="2264" name="Group 499"/>
            <p:cNvGrpSpPr/>
            <p:nvPr/>
          </p:nvGrpSpPr>
          <p:grpSpPr>
            <a:xfrm>
              <a:off x="3203640" y="6021360"/>
              <a:ext cx="144360" cy="144360"/>
              <a:chOff x="3203640" y="6021360"/>
              <a:chExt cx="144360" cy="144360"/>
            </a:xfrm>
          </p:grpSpPr>
          <p:grpSp>
            <p:nvGrpSpPr>
              <p:cNvPr id="2265" name="Group 500"/>
              <p:cNvGrpSpPr/>
              <p:nvPr/>
            </p:nvGrpSpPr>
            <p:grpSpPr>
              <a:xfrm>
                <a:off x="3203640" y="6021360"/>
                <a:ext cx="144360" cy="144360"/>
                <a:chOff x="3203640" y="6021360"/>
                <a:chExt cx="144360" cy="144360"/>
              </a:xfrm>
            </p:grpSpPr>
            <p:sp>
              <p:nvSpPr>
                <p:cNvPr id="2266" name="Oval 579"/>
                <p:cNvSpPr/>
                <p:nvPr/>
              </p:nvSpPr>
              <p:spPr>
                <a:xfrm>
                  <a:off x="3203640" y="6078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7" name="Oval 580"/>
                <p:cNvSpPr/>
                <p:nvPr/>
              </p:nvSpPr>
              <p:spPr>
                <a:xfrm rot="5400000">
                  <a:off x="320328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8" name="Group 503"/>
              <p:cNvGrpSpPr/>
              <p:nvPr/>
            </p:nvGrpSpPr>
            <p:grpSpPr>
              <a:xfrm>
                <a:off x="3212280" y="6030720"/>
                <a:ext cx="125640" cy="126720"/>
                <a:chOff x="3212280" y="6030720"/>
                <a:chExt cx="125640" cy="126720"/>
              </a:xfrm>
            </p:grpSpPr>
            <p:sp>
              <p:nvSpPr>
                <p:cNvPr id="2269" name="Oval 582"/>
                <p:cNvSpPr/>
                <p:nvPr/>
              </p:nvSpPr>
              <p:spPr>
                <a:xfrm rot="2700000">
                  <a:off x="3202560" y="607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0" name="Oval 583"/>
                <p:cNvSpPr/>
                <p:nvPr/>
              </p:nvSpPr>
              <p:spPr>
                <a:xfrm rot="8100000">
                  <a:off x="320292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71" name="Group 506"/>
            <p:cNvGrpSpPr/>
            <p:nvPr/>
          </p:nvGrpSpPr>
          <p:grpSpPr>
            <a:xfrm>
              <a:off x="3202200" y="6020280"/>
              <a:ext cx="146160" cy="146880"/>
              <a:chOff x="3202200" y="6020280"/>
              <a:chExt cx="146160" cy="146880"/>
            </a:xfrm>
          </p:grpSpPr>
          <p:grpSp>
            <p:nvGrpSpPr>
              <p:cNvPr id="2272" name="Group 507"/>
              <p:cNvGrpSpPr/>
              <p:nvPr/>
            </p:nvGrpSpPr>
            <p:grpSpPr>
              <a:xfrm>
                <a:off x="3202200" y="6020280"/>
                <a:ext cx="146160" cy="146160"/>
                <a:chOff x="3202200" y="6020280"/>
                <a:chExt cx="146160" cy="146160"/>
              </a:xfrm>
            </p:grpSpPr>
            <p:sp>
              <p:nvSpPr>
                <p:cNvPr id="2273" name="Oval 586"/>
                <p:cNvSpPr/>
                <p:nvPr/>
              </p:nvSpPr>
              <p:spPr>
                <a:xfrm rot="1320000">
                  <a:off x="3202920" y="607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4" name="Oval 587"/>
                <p:cNvSpPr/>
                <p:nvPr/>
              </p:nvSpPr>
              <p:spPr>
                <a:xfrm rot="6720000">
                  <a:off x="320328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5" name="Group 510"/>
              <p:cNvGrpSpPr/>
              <p:nvPr/>
            </p:nvGrpSpPr>
            <p:grpSpPr>
              <a:xfrm>
                <a:off x="3202560" y="6021360"/>
                <a:ext cx="145800" cy="145800"/>
                <a:chOff x="3202560" y="6021360"/>
                <a:chExt cx="145800" cy="145800"/>
              </a:xfrm>
            </p:grpSpPr>
            <p:sp>
              <p:nvSpPr>
                <p:cNvPr id="2276" name="Oval 589"/>
                <p:cNvSpPr/>
                <p:nvPr/>
              </p:nvSpPr>
              <p:spPr>
                <a:xfrm rot="4020000">
                  <a:off x="3201840" y="60775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7" name="Oval 590"/>
                <p:cNvSpPr/>
                <p:nvPr/>
              </p:nvSpPr>
              <p:spPr>
                <a:xfrm rot="9420000">
                  <a:off x="3203280" y="6076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78" name="Oval 591"/>
            <p:cNvSpPr/>
            <p:nvPr/>
          </p:nvSpPr>
          <p:spPr>
            <a:xfrm>
              <a:off x="3251880" y="6072120"/>
              <a:ext cx="47160" cy="42120"/>
            </a:xfrm>
            <a:prstGeom prst="ellipse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9" name="Group 514"/>
          <p:cNvGrpSpPr/>
          <p:nvPr/>
        </p:nvGrpSpPr>
        <p:grpSpPr>
          <a:xfrm>
            <a:off x="2770200" y="6166440"/>
            <a:ext cx="146880" cy="146520"/>
            <a:chOff x="2770200" y="6166440"/>
            <a:chExt cx="146880" cy="146520"/>
          </a:xfrm>
        </p:grpSpPr>
        <p:grpSp>
          <p:nvGrpSpPr>
            <p:cNvPr id="2280" name="Group 515"/>
            <p:cNvGrpSpPr/>
            <p:nvPr/>
          </p:nvGrpSpPr>
          <p:grpSpPr>
            <a:xfrm>
              <a:off x="2771640" y="6167520"/>
              <a:ext cx="144720" cy="144360"/>
              <a:chOff x="2771640" y="6167520"/>
              <a:chExt cx="144720" cy="144360"/>
            </a:xfrm>
          </p:grpSpPr>
          <p:grpSp>
            <p:nvGrpSpPr>
              <p:cNvPr id="2281" name="Group 516"/>
              <p:cNvGrpSpPr/>
              <p:nvPr/>
            </p:nvGrpSpPr>
            <p:grpSpPr>
              <a:xfrm>
                <a:off x="2771640" y="6167520"/>
                <a:ext cx="144720" cy="144360"/>
                <a:chOff x="2771640" y="6167520"/>
                <a:chExt cx="144720" cy="144360"/>
              </a:xfrm>
            </p:grpSpPr>
            <p:sp>
              <p:nvSpPr>
                <p:cNvPr id="2282" name="Oval 595"/>
                <p:cNvSpPr/>
                <p:nvPr/>
              </p:nvSpPr>
              <p:spPr>
                <a:xfrm>
                  <a:off x="2771640" y="62247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3" name="Oval 596"/>
                <p:cNvSpPr/>
                <p:nvPr/>
              </p:nvSpPr>
              <p:spPr>
                <a:xfrm rot="5400000">
                  <a:off x="277128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4" name="Group 519"/>
              <p:cNvGrpSpPr/>
              <p:nvPr/>
            </p:nvGrpSpPr>
            <p:grpSpPr>
              <a:xfrm>
                <a:off x="2780640" y="6176880"/>
                <a:ext cx="126000" cy="126360"/>
                <a:chOff x="2780640" y="6176880"/>
                <a:chExt cx="126000" cy="126360"/>
              </a:xfrm>
            </p:grpSpPr>
            <p:sp>
              <p:nvSpPr>
                <p:cNvPr id="2285" name="Oval 598"/>
                <p:cNvSpPr/>
                <p:nvPr/>
              </p:nvSpPr>
              <p:spPr>
                <a:xfrm rot="2700000">
                  <a:off x="2770920" y="62240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6" name="Oval 599"/>
                <p:cNvSpPr/>
                <p:nvPr/>
              </p:nvSpPr>
              <p:spPr>
                <a:xfrm rot="8100000">
                  <a:off x="2771280" y="62229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7" name="Group 522"/>
            <p:cNvGrpSpPr/>
            <p:nvPr/>
          </p:nvGrpSpPr>
          <p:grpSpPr>
            <a:xfrm>
              <a:off x="2770200" y="6166440"/>
              <a:ext cx="146880" cy="146520"/>
              <a:chOff x="2770200" y="6166440"/>
              <a:chExt cx="146880" cy="146520"/>
            </a:xfrm>
          </p:grpSpPr>
          <p:grpSp>
            <p:nvGrpSpPr>
              <p:cNvPr id="2288" name="Group 523"/>
              <p:cNvGrpSpPr/>
              <p:nvPr/>
            </p:nvGrpSpPr>
            <p:grpSpPr>
              <a:xfrm>
                <a:off x="2770200" y="6166440"/>
                <a:ext cx="146520" cy="146160"/>
                <a:chOff x="2770200" y="6166440"/>
                <a:chExt cx="146520" cy="146160"/>
              </a:xfrm>
            </p:grpSpPr>
            <p:sp>
              <p:nvSpPr>
                <p:cNvPr id="2289" name="Oval 602"/>
                <p:cNvSpPr/>
                <p:nvPr/>
              </p:nvSpPr>
              <p:spPr>
                <a:xfrm rot="1320000">
                  <a:off x="2770920" y="62244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0" name="Oval 603"/>
                <p:cNvSpPr/>
                <p:nvPr/>
              </p:nvSpPr>
              <p:spPr>
                <a:xfrm rot="6720000">
                  <a:off x="277128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1" name="Group 526"/>
              <p:cNvGrpSpPr/>
              <p:nvPr/>
            </p:nvGrpSpPr>
            <p:grpSpPr>
              <a:xfrm>
                <a:off x="2770920" y="6167160"/>
                <a:ext cx="146160" cy="145800"/>
                <a:chOff x="2770920" y="6167160"/>
                <a:chExt cx="146160" cy="145800"/>
              </a:xfrm>
            </p:grpSpPr>
            <p:sp>
              <p:nvSpPr>
                <p:cNvPr id="2292" name="Oval 605"/>
                <p:cNvSpPr/>
                <p:nvPr/>
              </p:nvSpPr>
              <p:spPr>
                <a:xfrm rot="4020000">
                  <a:off x="277020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3" name="Oval 606"/>
                <p:cNvSpPr/>
                <p:nvPr/>
              </p:nvSpPr>
              <p:spPr>
                <a:xfrm rot="9420000">
                  <a:off x="2771640" y="62229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4" name="Oval 607"/>
            <p:cNvSpPr/>
            <p:nvPr/>
          </p:nvSpPr>
          <p:spPr>
            <a:xfrm>
              <a:off x="2820240" y="6218280"/>
              <a:ext cx="47160" cy="42120"/>
            </a:xfrm>
            <a:prstGeom prst="ellipse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5" name="Group 530"/>
          <p:cNvGrpSpPr/>
          <p:nvPr/>
        </p:nvGrpSpPr>
        <p:grpSpPr>
          <a:xfrm>
            <a:off x="5361840" y="5946840"/>
            <a:ext cx="219240" cy="219240"/>
            <a:chOff x="5361840" y="5946840"/>
            <a:chExt cx="219240" cy="219240"/>
          </a:xfrm>
        </p:grpSpPr>
        <p:grpSp>
          <p:nvGrpSpPr>
            <p:cNvPr id="2296" name="Group 531"/>
            <p:cNvGrpSpPr/>
            <p:nvPr/>
          </p:nvGrpSpPr>
          <p:grpSpPr>
            <a:xfrm>
              <a:off x="5364000" y="5948280"/>
              <a:ext cx="216000" cy="216000"/>
              <a:chOff x="5364000" y="5948280"/>
              <a:chExt cx="216000" cy="216000"/>
            </a:xfrm>
          </p:grpSpPr>
          <p:grpSp>
            <p:nvGrpSpPr>
              <p:cNvPr id="2297" name="Group 532"/>
              <p:cNvGrpSpPr/>
              <p:nvPr/>
            </p:nvGrpSpPr>
            <p:grpSpPr>
              <a:xfrm>
                <a:off x="5364000" y="5948280"/>
                <a:ext cx="216000" cy="216000"/>
                <a:chOff x="5364000" y="5948280"/>
                <a:chExt cx="216000" cy="216000"/>
              </a:xfrm>
            </p:grpSpPr>
            <p:sp>
              <p:nvSpPr>
                <p:cNvPr id="2298" name="Oval 611"/>
                <p:cNvSpPr/>
                <p:nvPr/>
              </p:nvSpPr>
              <p:spPr>
                <a:xfrm>
                  <a:off x="5364000" y="603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9" name="Oval 612"/>
                <p:cNvSpPr/>
                <p:nvPr/>
              </p:nvSpPr>
              <p:spPr>
                <a:xfrm rot="5400000">
                  <a:off x="5363640" y="6031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0" name="Group 535"/>
              <p:cNvGrpSpPr/>
              <p:nvPr/>
            </p:nvGrpSpPr>
            <p:grpSpPr>
              <a:xfrm>
                <a:off x="5376960" y="5962320"/>
                <a:ext cx="188640" cy="189000"/>
                <a:chOff x="5376960" y="5962320"/>
                <a:chExt cx="188640" cy="189000"/>
              </a:xfrm>
            </p:grpSpPr>
            <p:sp>
              <p:nvSpPr>
                <p:cNvPr id="2301" name="Oval 614"/>
                <p:cNvSpPr/>
                <p:nvPr/>
              </p:nvSpPr>
              <p:spPr>
                <a:xfrm rot="2700000">
                  <a:off x="5362560" y="6033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2" name="Oval 615"/>
                <p:cNvSpPr/>
                <p:nvPr/>
              </p:nvSpPr>
              <p:spPr>
                <a:xfrm rot="8100000">
                  <a:off x="536364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3" name="Group 538"/>
            <p:cNvGrpSpPr/>
            <p:nvPr/>
          </p:nvGrpSpPr>
          <p:grpSpPr>
            <a:xfrm>
              <a:off x="5361840" y="5946840"/>
              <a:ext cx="219240" cy="219240"/>
              <a:chOff x="5361840" y="5946840"/>
              <a:chExt cx="219240" cy="219240"/>
            </a:xfrm>
          </p:grpSpPr>
          <p:grpSp>
            <p:nvGrpSpPr>
              <p:cNvPr id="2304" name="Group 539"/>
              <p:cNvGrpSpPr/>
              <p:nvPr/>
            </p:nvGrpSpPr>
            <p:grpSpPr>
              <a:xfrm>
                <a:off x="5361840" y="5946840"/>
                <a:ext cx="218520" cy="218520"/>
                <a:chOff x="5361840" y="5946840"/>
                <a:chExt cx="218520" cy="218520"/>
              </a:xfrm>
            </p:grpSpPr>
            <p:sp>
              <p:nvSpPr>
                <p:cNvPr id="2305" name="Oval 618"/>
                <p:cNvSpPr/>
                <p:nvPr/>
              </p:nvSpPr>
              <p:spPr>
                <a:xfrm rot="1320000">
                  <a:off x="5362920" y="6033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6" name="Oval 619"/>
                <p:cNvSpPr/>
                <p:nvPr/>
              </p:nvSpPr>
              <p:spPr>
                <a:xfrm rot="6720000">
                  <a:off x="536364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7" name="Group 542"/>
              <p:cNvGrpSpPr/>
              <p:nvPr/>
            </p:nvGrpSpPr>
            <p:grpSpPr>
              <a:xfrm>
                <a:off x="5363280" y="5948280"/>
                <a:ext cx="217800" cy="217800"/>
                <a:chOff x="5363280" y="5948280"/>
                <a:chExt cx="217800" cy="217800"/>
              </a:xfrm>
            </p:grpSpPr>
            <p:sp>
              <p:nvSpPr>
                <p:cNvPr id="2308" name="Oval 621"/>
                <p:cNvSpPr/>
                <p:nvPr/>
              </p:nvSpPr>
              <p:spPr>
                <a:xfrm rot="4020000">
                  <a:off x="5361840" y="6032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Oval 622"/>
                <p:cNvSpPr/>
                <p:nvPr/>
              </p:nvSpPr>
              <p:spPr>
                <a:xfrm rot="9420000">
                  <a:off x="5364000" y="60310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10" name="Oval 623"/>
            <p:cNvSpPr/>
            <p:nvPr/>
          </p:nvSpPr>
          <p:spPr>
            <a:xfrm>
              <a:off x="5436360" y="6024600"/>
              <a:ext cx="70560" cy="63000"/>
            </a:xfrm>
            <a:prstGeom prst="ellipse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1" name="Group 546"/>
          <p:cNvGrpSpPr/>
          <p:nvPr/>
        </p:nvGrpSpPr>
        <p:grpSpPr>
          <a:xfrm>
            <a:off x="6370200" y="5586480"/>
            <a:ext cx="218520" cy="219240"/>
            <a:chOff x="6370200" y="5586480"/>
            <a:chExt cx="218520" cy="219240"/>
          </a:xfrm>
        </p:grpSpPr>
        <p:grpSp>
          <p:nvGrpSpPr>
            <p:cNvPr id="2312" name="Group 547"/>
            <p:cNvGrpSpPr/>
            <p:nvPr/>
          </p:nvGrpSpPr>
          <p:grpSpPr>
            <a:xfrm>
              <a:off x="6372360" y="5587920"/>
              <a:ext cx="215640" cy="216000"/>
              <a:chOff x="6372360" y="5587920"/>
              <a:chExt cx="215640" cy="216000"/>
            </a:xfrm>
          </p:grpSpPr>
          <p:grpSp>
            <p:nvGrpSpPr>
              <p:cNvPr id="2313" name="Group 548"/>
              <p:cNvGrpSpPr/>
              <p:nvPr/>
            </p:nvGrpSpPr>
            <p:grpSpPr>
              <a:xfrm>
                <a:off x="6372360" y="5587920"/>
                <a:ext cx="215640" cy="216000"/>
                <a:chOff x="6372360" y="5587920"/>
                <a:chExt cx="215640" cy="216000"/>
              </a:xfrm>
            </p:grpSpPr>
            <p:sp>
              <p:nvSpPr>
                <p:cNvPr id="2314" name="Oval 627"/>
                <p:cNvSpPr/>
                <p:nvPr/>
              </p:nvSpPr>
              <p:spPr>
                <a:xfrm>
                  <a:off x="6372360" y="56736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5" name="Oval 628"/>
                <p:cNvSpPr/>
                <p:nvPr/>
              </p:nvSpPr>
              <p:spPr>
                <a:xfrm rot="5400000">
                  <a:off x="6372000" y="567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6" name="Group 551"/>
              <p:cNvGrpSpPr/>
              <p:nvPr/>
            </p:nvGrpSpPr>
            <p:grpSpPr>
              <a:xfrm>
                <a:off x="6384600" y="5602320"/>
                <a:ext cx="188640" cy="189000"/>
                <a:chOff x="6384600" y="5602320"/>
                <a:chExt cx="188640" cy="189000"/>
              </a:xfrm>
            </p:grpSpPr>
            <p:sp>
              <p:nvSpPr>
                <p:cNvPr id="2317" name="Oval 630"/>
                <p:cNvSpPr/>
                <p:nvPr/>
              </p:nvSpPr>
              <p:spPr>
                <a:xfrm rot="2700000">
                  <a:off x="6370200" y="5673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8" name="Oval 631"/>
                <p:cNvSpPr/>
                <p:nvPr/>
              </p:nvSpPr>
              <p:spPr>
                <a:xfrm rot="8100000">
                  <a:off x="6371640" y="56710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19" name="Group 554"/>
            <p:cNvGrpSpPr/>
            <p:nvPr/>
          </p:nvGrpSpPr>
          <p:grpSpPr>
            <a:xfrm>
              <a:off x="6370200" y="5586480"/>
              <a:ext cx="218520" cy="219240"/>
              <a:chOff x="6370200" y="5586480"/>
              <a:chExt cx="218520" cy="219240"/>
            </a:xfrm>
          </p:grpSpPr>
          <p:grpSp>
            <p:nvGrpSpPr>
              <p:cNvPr id="2320" name="Group 555"/>
              <p:cNvGrpSpPr/>
              <p:nvPr/>
            </p:nvGrpSpPr>
            <p:grpSpPr>
              <a:xfrm>
                <a:off x="6370200" y="5586480"/>
                <a:ext cx="218160" cy="218520"/>
                <a:chOff x="6370200" y="5586480"/>
                <a:chExt cx="218160" cy="218520"/>
              </a:xfrm>
            </p:grpSpPr>
            <p:sp>
              <p:nvSpPr>
                <p:cNvPr id="2321" name="Oval 634"/>
                <p:cNvSpPr/>
                <p:nvPr/>
              </p:nvSpPr>
              <p:spPr>
                <a:xfrm rot="1320000">
                  <a:off x="6371280" y="56736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2" name="Oval 635"/>
                <p:cNvSpPr/>
                <p:nvPr/>
              </p:nvSpPr>
              <p:spPr>
                <a:xfrm rot="6720000">
                  <a:off x="6371640" y="56710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3" name="Group 558"/>
              <p:cNvGrpSpPr/>
              <p:nvPr/>
            </p:nvGrpSpPr>
            <p:grpSpPr>
              <a:xfrm>
                <a:off x="6370920" y="5587920"/>
                <a:ext cx="217800" cy="217800"/>
                <a:chOff x="6370920" y="5587920"/>
                <a:chExt cx="217800" cy="217800"/>
              </a:xfrm>
            </p:grpSpPr>
            <p:sp>
              <p:nvSpPr>
                <p:cNvPr id="2324" name="Oval 637"/>
                <p:cNvSpPr/>
                <p:nvPr/>
              </p:nvSpPr>
              <p:spPr>
                <a:xfrm rot="4020000">
                  <a:off x="6369480" y="5672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Oval 638"/>
                <p:cNvSpPr/>
                <p:nvPr/>
              </p:nvSpPr>
              <p:spPr>
                <a:xfrm rot="9420000">
                  <a:off x="6372000" y="56710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26" name="Oval 639"/>
            <p:cNvSpPr/>
            <p:nvPr/>
          </p:nvSpPr>
          <p:spPr>
            <a:xfrm>
              <a:off x="6444720" y="5664240"/>
              <a:ext cx="70200" cy="63000"/>
            </a:xfrm>
            <a:prstGeom prst="ellipse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7" name="Group 562"/>
          <p:cNvGrpSpPr/>
          <p:nvPr/>
        </p:nvGrpSpPr>
        <p:grpSpPr>
          <a:xfrm>
            <a:off x="6009840" y="5515200"/>
            <a:ext cx="218520" cy="219240"/>
            <a:chOff x="6009840" y="5515200"/>
            <a:chExt cx="218520" cy="219240"/>
          </a:xfrm>
        </p:grpSpPr>
        <p:grpSp>
          <p:nvGrpSpPr>
            <p:cNvPr id="2328" name="Group 563"/>
            <p:cNvGrpSpPr/>
            <p:nvPr/>
          </p:nvGrpSpPr>
          <p:grpSpPr>
            <a:xfrm>
              <a:off x="6012000" y="5516640"/>
              <a:ext cx="215640" cy="216000"/>
              <a:chOff x="6012000" y="5516640"/>
              <a:chExt cx="215640" cy="216000"/>
            </a:xfrm>
          </p:grpSpPr>
          <p:grpSp>
            <p:nvGrpSpPr>
              <p:cNvPr id="2329" name="Group 564"/>
              <p:cNvGrpSpPr/>
              <p:nvPr/>
            </p:nvGrpSpPr>
            <p:grpSpPr>
              <a:xfrm>
                <a:off x="6012000" y="5516640"/>
                <a:ext cx="215640" cy="216000"/>
                <a:chOff x="6012000" y="5516640"/>
                <a:chExt cx="215640" cy="216000"/>
              </a:xfrm>
            </p:grpSpPr>
            <p:sp>
              <p:nvSpPr>
                <p:cNvPr id="2330" name="Oval 643"/>
                <p:cNvSpPr/>
                <p:nvPr/>
              </p:nvSpPr>
              <p:spPr>
                <a:xfrm>
                  <a:off x="6012000" y="5602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1" name="Oval 644"/>
                <p:cNvSpPr/>
                <p:nvPr/>
              </p:nvSpPr>
              <p:spPr>
                <a:xfrm rot="5400000">
                  <a:off x="6011640" y="5600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2" name="Group 567"/>
              <p:cNvGrpSpPr/>
              <p:nvPr/>
            </p:nvGrpSpPr>
            <p:grpSpPr>
              <a:xfrm>
                <a:off x="6024240" y="5531040"/>
                <a:ext cx="188640" cy="189000"/>
                <a:chOff x="6024240" y="5531040"/>
                <a:chExt cx="188640" cy="189000"/>
              </a:xfrm>
            </p:grpSpPr>
            <p:sp>
              <p:nvSpPr>
                <p:cNvPr id="2333" name="Oval 646"/>
                <p:cNvSpPr/>
                <p:nvPr/>
              </p:nvSpPr>
              <p:spPr>
                <a:xfrm rot="2700000">
                  <a:off x="6009840" y="5601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4" name="Oval 647"/>
                <p:cNvSpPr/>
                <p:nvPr/>
              </p:nvSpPr>
              <p:spPr>
                <a:xfrm rot="8100000">
                  <a:off x="6011280" y="5599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5" name="Group 570"/>
            <p:cNvGrpSpPr/>
            <p:nvPr/>
          </p:nvGrpSpPr>
          <p:grpSpPr>
            <a:xfrm>
              <a:off x="6009840" y="5515200"/>
              <a:ext cx="218520" cy="219240"/>
              <a:chOff x="6009840" y="5515200"/>
              <a:chExt cx="218520" cy="219240"/>
            </a:xfrm>
          </p:grpSpPr>
          <p:grpSp>
            <p:nvGrpSpPr>
              <p:cNvPr id="2336" name="Group 571"/>
              <p:cNvGrpSpPr/>
              <p:nvPr/>
            </p:nvGrpSpPr>
            <p:grpSpPr>
              <a:xfrm>
                <a:off x="6009840" y="5515200"/>
                <a:ext cx="218160" cy="218520"/>
                <a:chOff x="6009840" y="5515200"/>
                <a:chExt cx="218160" cy="218520"/>
              </a:xfrm>
            </p:grpSpPr>
            <p:sp>
              <p:nvSpPr>
                <p:cNvPr id="2337" name="Oval 650"/>
                <p:cNvSpPr/>
                <p:nvPr/>
              </p:nvSpPr>
              <p:spPr>
                <a:xfrm rot="1320000">
                  <a:off x="6010920" y="5602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8" name="Oval 651"/>
                <p:cNvSpPr/>
                <p:nvPr/>
              </p:nvSpPr>
              <p:spPr>
                <a:xfrm rot="6720000">
                  <a:off x="6011280" y="5599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9" name="Group 574"/>
              <p:cNvGrpSpPr/>
              <p:nvPr/>
            </p:nvGrpSpPr>
            <p:grpSpPr>
              <a:xfrm>
                <a:off x="6010560" y="5516640"/>
                <a:ext cx="217800" cy="217800"/>
                <a:chOff x="6010560" y="5516640"/>
                <a:chExt cx="217800" cy="217800"/>
              </a:xfrm>
            </p:grpSpPr>
            <p:sp>
              <p:nvSpPr>
                <p:cNvPr id="2340" name="Oval 653"/>
                <p:cNvSpPr/>
                <p:nvPr/>
              </p:nvSpPr>
              <p:spPr>
                <a:xfrm rot="4020000">
                  <a:off x="6009120" y="5600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1" name="Oval 654"/>
                <p:cNvSpPr/>
                <p:nvPr/>
              </p:nvSpPr>
              <p:spPr>
                <a:xfrm rot="9420000">
                  <a:off x="6011640" y="5599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2" name="Oval 655"/>
            <p:cNvSpPr/>
            <p:nvPr/>
          </p:nvSpPr>
          <p:spPr>
            <a:xfrm>
              <a:off x="6084360" y="5592960"/>
              <a:ext cx="70200" cy="63000"/>
            </a:xfrm>
            <a:prstGeom prst="ellipse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Group 578"/>
          <p:cNvGrpSpPr/>
          <p:nvPr/>
        </p:nvGrpSpPr>
        <p:grpSpPr>
          <a:xfrm>
            <a:off x="5794560" y="5875920"/>
            <a:ext cx="146160" cy="146880"/>
            <a:chOff x="5794560" y="5875920"/>
            <a:chExt cx="146160" cy="146880"/>
          </a:xfrm>
        </p:grpSpPr>
        <p:grpSp>
          <p:nvGrpSpPr>
            <p:cNvPr id="2344" name="Group 579"/>
            <p:cNvGrpSpPr/>
            <p:nvPr/>
          </p:nvGrpSpPr>
          <p:grpSpPr>
            <a:xfrm>
              <a:off x="5796000" y="5877000"/>
              <a:ext cx="144360" cy="144360"/>
              <a:chOff x="5796000" y="5877000"/>
              <a:chExt cx="144360" cy="144360"/>
            </a:xfrm>
          </p:grpSpPr>
          <p:grpSp>
            <p:nvGrpSpPr>
              <p:cNvPr id="2345" name="Group 580"/>
              <p:cNvGrpSpPr/>
              <p:nvPr/>
            </p:nvGrpSpPr>
            <p:grpSpPr>
              <a:xfrm>
                <a:off x="5796000" y="5877000"/>
                <a:ext cx="144360" cy="144360"/>
                <a:chOff x="5796000" y="5877000"/>
                <a:chExt cx="144360" cy="144360"/>
              </a:xfrm>
            </p:grpSpPr>
            <p:sp>
              <p:nvSpPr>
                <p:cNvPr id="2346" name="Oval 659"/>
                <p:cNvSpPr/>
                <p:nvPr/>
              </p:nvSpPr>
              <p:spPr>
                <a:xfrm>
                  <a:off x="5796000" y="5934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7" name="Oval 660"/>
                <p:cNvSpPr/>
                <p:nvPr/>
              </p:nvSpPr>
              <p:spPr>
                <a:xfrm rot="5400000">
                  <a:off x="579564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8" name="Group 583"/>
              <p:cNvGrpSpPr/>
              <p:nvPr/>
            </p:nvGrpSpPr>
            <p:grpSpPr>
              <a:xfrm>
                <a:off x="5804640" y="5886360"/>
                <a:ext cx="125640" cy="126720"/>
                <a:chOff x="5804640" y="5886360"/>
                <a:chExt cx="125640" cy="126720"/>
              </a:xfrm>
            </p:grpSpPr>
            <p:sp>
              <p:nvSpPr>
                <p:cNvPr id="2349" name="Oval 662"/>
                <p:cNvSpPr/>
                <p:nvPr/>
              </p:nvSpPr>
              <p:spPr>
                <a:xfrm rot="2700000">
                  <a:off x="5794920" y="5933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0" name="Oval 663"/>
                <p:cNvSpPr/>
                <p:nvPr/>
              </p:nvSpPr>
              <p:spPr>
                <a:xfrm rot="8100000">
                  <a:off x="579528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1" name="Group 586"/>
            <p:cNvGrpSpPr/>
            <p:nvPr/>
          </p:nvGrpSpPr>
          <p:grpSpPr>
            <a:xfrm>
              <a:off x="5794560" y="5875920"/>
              <a:ext cx="146160" cy="146880"/>
              <a:chOff x="5794560" y="5875920"/>
              <a:chExt cx="146160" cy="146880"/>
            </a:xfrm>
          </p:grpSpPr>
          <p:grpSp>
            <p:nvGrpSpPr>
              <p:cNvPr id="2352" name="Group 587"/>
              <p:cNvGrpSpPr/>
              <p:nvPr/>
            </p:nvGrpSpPr>
            <p:grpSpPr>
              <a:xfrm>
                <a:off x="5794560" y="5875920"/>
                <a:ext cx="146160" cy="146160"/>
                <a:chOff x="5794560" y="5875920"/>
                <a:chExt cx="146160" cy="146160"/>
              </a:xfrm>
            </p:grpSpPr>
            <p:sp>
              <p:nvSpPr>
                <p:cNvPr id="2353" name="Oval 666"/>
                <p:cNvSpPr/>
                <p:nvPr/>
              </p:nvSpPr>
              <p:spPr>
                <a:xfrm rot="1320000">
                  <a:off x="5795280" y="5933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4" name="Oval 667"/>
                <p:cNvSpPr/>
                <p:nvPr/>
              </p:nvSpPr>
              <p:spPr>
                <a:xfrm rot="6720000">
                  <a:off x="579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5" name="Group 590"/>
              <p:cNvGrpSpPr/>
              <p:nvPr/>
            </p:nvGrpSpPr>
            <p:grpSpPr>
              <a:xfrm>
                <a:off x="5794920" y="5877000"/>
                <a:ext cx="145800" cy="145800"/>
                <a:chOff x="5794920" y="5877000"/>
                <a:chExt cx="145800" cy="145800"/>
              </a:xfrm>
            </p:grpSpPr>
            <p:sp>
              <p:nvSpPr>
                <p:cNvPr id="2356" name="Oval 669"/>
                <p:cNvSpPr/>
                <p:nvPr/>
              </p:nvSpPr>
              <p:spPr>
                <a:xfrm rot="4020000">
                  <a:off x="5794200" y="5933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7" name="Oval 670"/>
                <p:cNvSpPr/>
                <p:nvPr/>
              </p:nvSpPr>
              <p:spPr>
                <a:xfrm rot="9420000">
                  <a:off x="5795640" y="5932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58" name="Oval 671"/>
            <p:cNvSpPr/>
            <p:nvPr/>
          </p:nvSpPr>
          <p:spPr>
            <a:xfrm>
              <a:off x="5844240" y="5927760"/>
              <a:ext cx="47160" cy="42120"/>
            </a:xfrm>
            <a:prstGeom prst="ellips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9" name="Group 594"/>
          <p:cNvGrpSpPr/>
          <p:nvPr/>
        </p:nvGrpSpPr>
        <p:grpSpPr>
          <a:xfrm>
            <a:off x="6515280" y="5947200"/>
            <a:ext cx="146160" cy="147240"/>
            <a:chOff x="6515280" y="5947200"/>
            <a:chExt cx="146160" cy="147240"/>
          </a:xfrm>
        </p:grpSpPr>
        <p:grpSp>
          <p:nvGrpSpPr>
            <p:cNvPr id="2360" name="Group 595"/>
            <p:cNvGrpSpPr/>
            <p:nvPr/>
          </p:nvGrpSpPr>
          <p:grpSpPr>
            <a:xfrm>
              <a:off x="6516720" y="5948280"/>
              <a:ext cx="144360" cy="144720"/>
              <a:chOff x="6516720" y="5948280"/>
              <a:chExt cx="144360" cy="144720"/>
            </a:xfrm>
          </p:grpSpPr>
          <p:grpSp>
            <p:nvGrpSpPr>
              <p:cNvPr id="2361" name="Group 596"/>
              <p:cNvGrpSpPr/>
              <p:nvPr/>
            </p:nvGrpSpPr>
            <p:grpSpPr>
              <a:xfrm>
                <a:off x="6516720" y="5948280"/>
                <a:ext cx="144360" cy="144720"/>
                <a:chOff x="6516720" y="5948280"/>
                <a:chExt cx="144360" cy="144720"/>
              </a:xfrm>
            </p:grpSpPr>
            <p:sp>
              <p:nvSpPr>
                <p:cNvPr id="2362" name="Oval 675"/>
                <p:cNvSpPr/>
                <p:nvPr/>
              </p:nvSpPr>
              <p:spPr>
                <a:xfrm>
                  <a:off x="6516720" y="60055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3" name="Oval 676"/>
                <p:cNvSpPr/>
                <p:nvPr/>
              </p:nvSpPr>
              <p:spPr>
                <a:xfrm rot="5400000">
                  <a:off x="6516000" y="60040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4" name="Group 599"/>
              <p:cNvGrpSpPr/>
              <p:nvPr/>
            </p:nvGrpSpPr>
            <p:grpSpPr>
              <a:xfrm>
                <a:off x="6525000" y="5958000"/>
                <a:ext cx="126000" cy="126720"/>
                <a:chOff x="6525000" y="5958000"/>
                <a:chExt cx="126000" cy="126720"/>
              </a:xfrm>
            </p:grpSpPr>
            <p:sp>
              <p:nvSpPr>
                <p:cNvPr id="2365" name="Oval 678"/>
                <p:cNvSpPr/>
                <p:nvPr/>
              </p:nvSpPr>
              <p:spPr>
                <a:xfrm rot="2700000">
                  <a:off x="6514920" y="60051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6" name="Oval 679"/>
                <p:cNvSpPr/>
                <p:nvPr/>
              </p:nvSpPr>
              <p:spPr>
                <a:xfrm rot="8100000">
                  <a:off x="6516000" y="6004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67" name="Group 602"/>
            <p:cNvGrpSpPr/>
            <p:nvPr/>
          </p:nvGrpSpPr>
          <p:grpSpPr>
            <a:xfrm>
              <a:off x="6515280" y="5947200"/>
              <a:ext cx="146160" cy="147240"/>
              <a:chOff x="6515280" y="5947200"/>
              <a:chExt cx="146160" cy="147240"/>
            </a:xfrm>
          </p:grpSpPr>
          <p:grpSp>
            <p:nvGrpSpPr>
              <p:cNvPr id="2368" name="Group 603"/>
              <p:cNvGrpSpPr/>
              <p:nvPr/>
            </p:nvGrpSpPr>
            <p:grpSpPr>
              <a:xfrm>
                <a:off x="6515280" y="5947200"/>
                <a:ext cx="146160" cy="146520"/>
                <a:chOff x="6515280" y="5947200"/>
                <a:chExt cx="146160" cy="146520"/>
              </a:xfrm>
            </p:grpSpPr>
            <p:sp>
              <p:nvSpPr>
                <p:cNvPr id="2369" name="Oval 682"/>
                <p:cNvSpPr/>
                <p:nvPr/>
              </p:nvSpPr>
              <p:spPr>
                <a:xfrm rot="1320000">
                  <a:off x="6516000" y="6005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0" name="Oval 683"/>
                <p:cNvSpPr/>
                <p:nvPr/>
              </p:nvSpPr>
              <p:spPr>
                <a:xfrm rot="6720000">
                  <a:off x="6516000" y="600372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1" name="Group 606"/>
              <p:cNvGrpSpPr/>
              <p:nvPr/>
            </p:nvGrpSpPr>
            <p:grpSpPr>
              <a:xfrm>
                <a:off x="6515640" y="5948280"/>
                <a:ext cx="145800" cy="146160"/>
                <a:chOff x="6515640" y="5948280"/>
                <a:chExt cx="145800" cy="146160"/>
              </a:xfrm>
            </p:grpSpPr>
            <p:sp>
              <p:nvSpPr>
                <p:cNvPr id="2372" name="Oval 685"/>
                <p:cNvSpPr/>
                <p:nvPr/>
              </p:nvSpPr>
              <p:spPr>
                <a:xfrm rot="4020000">
                  <a:off x="6514560" y="6004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3" name="Oval 686"/>
                <p:cNvSpPr/>
                <p:nvPr/>
              </p:nvSpPr>
              <p:spPr>
                <a:xfrm rot="9420000">
                  <a:off x="6516360" y="60037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74" name="Oval 687"/>
            <p:cNvSpPr/>
            <p:nvPr/>
          </p:nvSpPr>
          <p:spPr>
            <a:xfrm>
              <a:off x="6564960" y="5999400"/>
              <a:ext cx="47160" cy="42120"/>
            </a:xfrm>
            <a:prstGeom prst="ellips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5" name="Group 610"/>
          <p:cNvGrpSpPr/>
          <p:nvPr/>
        </p:nvGrpSpPr>
        <p:grpSpPr>
          <a:xfrm>
            <a:off x="6154920" y="5875920"/>
            <a:ext cx="146160" cy="146880"/>
            <a:chOff x="6154920" y="5875920"/>
            <a:chExt cx="146160" cy="146880"/>
          </a:xfrm>
        </p:grpSpPr>
        <p:grpSp>
          <p:nvGrpSpPr>
            <p:cNvPr id="2376" name="Group 611"/>
            <p:cNvGrpSpPr/>
            <p:nvPr/>
          </p:nvGrpSpPr>
          <p:grpSpPr>
            <a:xfrm>
              <a:off x="6156360" y="5877000"/>
              <a:ext cx="144360" cy="144360"/>
              <a:chOff x="6156360" y="5877000"/>
              <a:chExt cx="144360" cy="144360"/>
            </a:xfrm>
          </p:grpSpPr>
          <p:grpSp>
            <p:nvGrpSpPr>
              <p:cNvPr id="2377" name="Group 612"/>
              <p:cNvGrpSpPr/>
              <p:nvPr/>
            </p:nvGrpSpPr>
            <p:grpSpPr>
              <a:xfrm>
                <a:off x="6156360" y="5877000"/>
                <a:ext cx="144360" cy="144360"/>
                <a:chOff x="6156360" y="5877000"/>
                <a:chExt cx="144360" cy="144360"/>
              </a:xfrm>
            </p:grpSpPr>
            <p:sp>
              <p:nvSpPr>
                <p:cNvPr id="2378" name="Oval 691"/>
                <p:cNvSpPr/>
                <p:nvPr/>
              </p:nvSpPr>
              <p:spPr>
                <a:xfrm>
                  <a:off x="6156360" y="5934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9" name="Oval 692"/>
                <p:cNvSpPr/>
                <p:nvPr/>
              </p:nvSpPr>
              <p:spPr>
                <a:xfrm rot="5400000">
                  <a:off x="615600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0" name="Group 615"/>
              <p:cNvGrpSpPr/>
              <p:nvPr/>
            </p:nvGrpSpPr>
            <p:grpSpPr>
              <a:xfrm>
                <a:off x="6165000" y="5886360"/>
                <a:ext cx="125640" cy="126720"/>
                <a:chOff x="6165000" y="5886360"/>
                <a:chExt cx="125640" cy="126720"/>
              </a:xfrm>
            </p:grpSpPr>
            <p:sp>
              <p:nvSpPr>
                <p:cNvPr id="2381" name="Oval 694"/>
                <p:cNvSpPr/>
                <p:nvPr/>
              </p:nvSpPr>
              <p:spPr>
                <a:xfrm rot="2700000">
                  <a:off x="6155280" y="5933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2" name="Oval 695"/>
                <p:cNvSpPr/>
                <p:nvPr/>
              </p:nvSpPr>
              <p:spPr>
                <a:xfrm rot="8100000">
                  <a:off x="615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83" name="Group 618"/>
            <p:cNvGrpSpPr/>
            <p:nvPr/>
          </p:nvGrpSpPr>
          <p:grpSpPr>
            <a:xfrm>
              <a:off x="6154920" y="5875920"/>
              <a:ext cx="146160" cy="146880"/>
              <a:chOff x="6154920" y="5875920"/>
              <a:chExt cx="146160" cy="146880"/>
            </a:xfrm>
          </p:grpSpPr>
          <p:grpSp>
            <p:nvGrpSpPr>
              <p:cNvPr id="2384" name="Group 619"/>
              <p:cNvGrpSpPr/>
              <p:nvPr/>
            </p:nvGrpSpPr>
            <p:grpSpPr>
              <a:xfrm>
                <a:off x="6154920" y="5875920"/>
                <a:ext cx="146160" cy="146160"/>
                <a:chOff x="6154920" y="5875920"/>
                <a:chExt cx="146160" cy="146160"/>
              </a:xfrm>
            </p:grpSpPr>
            <p:sp>
              <p:nvSpPr>
                <p:cNvPr id="2385" name="Oval 698"/>
                <p:cNvSpPr/>
                <p:nvPr/>
              </p:nvSpPr>
              <p:spPr>
                <a:xfrm rot="1320000">
                  <a:off x="6155640" y="5933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6" name="Oval 699"/>
                <p:cNvSpPr/>
                <p:nvPr/>
              </p:nvSpPr>
              <p:spPr>
                <a:xfrm rot="6720000">
                  <a:off x="615600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7" name="Group 622"/>
              <p:cNvGrpSpPr/>
              <p:nvPr/>
            </p:nvGrpSpPr>
            <p:grpSpPr>
              <a:xfrm>
                <a:off x="6155280" y="5877000"/>
                <a:ext cx="145800" cy="145800"/>
                <a:chOff x="6155280" y="5877000"/>
                <a:chExt cx="145800" cy="145800"/>
              </a:xfrm>
            </p:grpSpPr>
            <p:sp>
              <p:nvSpPr>
                <p:cNvPr id="2388" name="Oval 701"/>
                <p:cNvSpPr/>
                <p:nvPr/>
              </p:nvSpPr>
              <p:spPr>
                <a:xfrm rot="4020000">
                  <a:off x="6154560" y="5933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9" name="Oval 702"/>
                <p:cNvSpPr/>
                <p:nvPr/>
              </p:nvSpPr>
              <p:spPr>
                <a:xfrm rot="9420000">
                  <a:off x="6156000" y="5932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90" name="Oval 703"/>
            <p:cNvSpPr/>
            <p:nvPr/>
          </p:nvSpPr>
          <p:spPr>
            <a:xfrm>
              <a:off x="6204600" y="5927760"/>
              <a:ext cx="47160" cy="42120"/>
            </a:xfrm>
            <a:prstGeom prst="ellipse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1" name="Group 626"/>
          <p:cNvGrpSpPr/>
          <p:nvPr/>
        </p:nvGrpSpPr>
        <p:grpSpPr>
          <a:xfrm>
            <a:off x="358200" y="5731200"/>
            <a:ext cx="219240" cy="219240"/>
            <a:chOff x="358200" y="5731200"/>
            <a:chExt cx="219240" cy="219240"/>
          </a:xfrm>
        </p:grpSpPr>
        <p:grpSp>
          <p:nvGrpSpPr>
            <p:cNvPr id="2392" name="Group 627"/>
            <p:cNvGrpSpPr/>
            <p:nvPr/>
          </p:nvGrpSpPr>
          <p:grpSpPr>
            <a:xfrm>
              <a:off x="360360" y="5732640"/>
              <a:ext cx="216000" cy="215640"/>
              <a:chOff x="360360" y="5732640"/>
              <a:chExt cx="216000" cy="215640"/>
            </a:xfrm>
          </p:grpSpPr>
          <p:grpSp>
            <p:nvGrpSpPr>
              <p:cNvPr id="2393" name="Group 628"/>
              <p:cNvGrpSpPr/>
              <p:nvPr/>
            </p:nvGrpSpPr>
            <p:grpSpPr>
              <a:xfrm>
                <a:off x="360360" y="5732640"/>
                <a:ext cx="216000" cy="215640"/>
                <a:chOff x="360360" y="5732640"/>
                <a:chExt cx="216000" cy="215640"/>
              </a:xfrm>
            </p:grpSpPr>
            <p:sp>
              <p:nvSpPr>
                <p:cNvPr id="2394" name="Oval 707"/>
                <p:cNvSpPr/>
                <p:nvPr/>
              </p:nvSpPr>
              <p:spPr>
                <a:xfrm>
                  <a:off x="360360" y="5818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5" name="Oval 708"/>
                <p:cNvSpPr/>
                <p:nvPr/>
              </p:nvSpPr>
              <p:spPr>
                <a:xfrm rot="5400000">
                  <a:off x="360000" y="5815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6" name="Group 631"/>
              <p:cNvGrpSpPr/>
              <p:nvPr/>
            </p:nvGrpSpPr>
            <p:grpSpPr>
              <a:xfrm>
                <a:off x="373320" y="5746680"/>
                <a:ext cx="188640" cy="189000"/>
                <a:chOff x="373320" y="5746680"/>
                <a:chExt cx="188640" cy="189000"/>
              </a:xfrm>
            </p:grpSpPr>
            <p:sp>
              <p:nvSpPr>
                <p:cNvPr id="2397" name="Oval 710"/>
                <p:cNvSpPr/>
                <p:nvPr/>
              </p:nvSpPr>
              <p:spPr>
                <a:xfrm rot="2700000">
                  <a:off x="358920" y="581724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8" name="Oval 711"/>
                <p:cNvSpPr/>
                <p:nvPr/>
              </p:nvSpPr>
              <p:spPr>
                <a:xfrm rot="8100000">
                  <a:off x="360000" y="5815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9" name="Group 634"/>
            <p:cNvGrpSpPr/>
            <p:nvPr/>
          </p:nvGrpSpPr>
          <p:grpSpPr>
            <a:xfrm>
              <a:off x="358200" y="5731200"/>
              <a:ext cx="219240" cy="219240"/>
              <a:chOff x="358200" y="5731200"/>
              <a:chExt cx="219240" cy="219240"/>
            </a:xfrm>
          </p:grpSpPr>
          <p:grpSp>
            <p:nvGrpSpPr>
              <p:cNvPr id="2400" name="Group 635"/>
              <p:cNvGrpSpPr/>
              <p:nvPr/>
            </p:nvGrpSpPr>
            <p:grpSpPr>
              <a:xfrm>
                <a:off x="358200" y="5731200"/>
                <a:ext cx="218520" cy="218160"/>
                <a:chOff x="358200" y="5731200"/>
                <a:chExt cx="218520" cy="218160"/>
              </a:xfrm>
            </p:grpSpPr>
            <p:sp>
              <p:nvSpPr>
                <p:cNvPr id="2401" name="Oval 714"/>
                <p:cNvSpPr/>
                <p:nvPr/>
              </p:nvSpPr>
              <p:spPr>
                <a:xfrm rot="1320000">
                  <a:off x="359280" y="5817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2" name="Oval 715"/>
                <p:cNvSpPr/>
                <p:nvPr/>
              </p:nvSpPr>
              <p:spPr>
                <a:xfrm rot="6720000">
                  <a:off x="360000" y="5815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3" name="Group 638"/>
              <p:cNvGrpSpPr/>
              <p:nvPr/>
            </p:nvGrpSpPr>
            <p:grpSpPr>
              <a:xfrm>
                <a:off x="359640" y="5732640"/>
                <a:ext cx="217800" cy="217800"/>
                <a:chOff x="359640" y="5732640"/>
                <a:chExt cx="217800" cy="217800"/>
              </a:xfrm>
            </p:grpSpPr>
            <p:sp>
              <p:nvSpPr>
                <p:cNvPr id="2404" name="Oval 717"/>
                <p:cNvSpPr/>
                <p:nvPr/>
              </p:nvSpPr>
              <p:spPr>
                <a:xfrm rot="4020000">
                  <a:off x="358200" y="58168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5" name="Oval 718"/>
                <p:cNvSpPr/>
                <p:nvPr/>
              </p:nvSpPr>
              <p:spPr>
                <a:xfrm rot="9420000">
                  <a:off x="360360" y="5815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06" name="Oval 719"/>
            <p:cNvSpPr/>
            <p:nvPr/>
          </p:nvSpPr>
          <p:spPr>
            <a:xfrm>
              <a:off x="432720" y="5808600"/>
              <a:ext cx="70560" cy="62640"/>
            </a:xfrm>
            <a:prstGeom prst="ellipse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7" name="Group 642"/>
          <p:cNvGrpSpPr/>
          <p:nvPr/>
        </p:nvGrpSpPr>
        <p:grpSpPr>
          <a:xfrm>
            <a:off x="-2160" y="5659560"/>
            <a:ext cx="219240" cy="219240"/>
            <a:chOff x="-2160" y="5659560"/>
            <a:chExt cx="219240" cy="219240"/>
          </a:xfrm>
        </p:grpSpPr>
        <p:grpSp>
          <p:nvGrpSpPr>
            <p:cNvPr id="2408" name="Group 643"/>
            <p:cNvGrpSpPr/>
            <p:nvPr/>
          </p:nvGrpSpPr>
          <p:grpSpPr>
            <a:xfrm>
              <a:off x="0" y="5661000"/>
              <a:ext cx="216000" cy="216000"/>
              <a:chOff x="0" y="5661000"/>
              <a:chExt cx="216000" cy="216000"/>
            </a:xfrm>
          </p:grpSpPr>
          <p:grpSp>
            <p:nvGrpSpPr>
              <p:cNvPr id="2409" name="Group 644"/>
              <p:cNvGrpSpPr/>
              <p:nvPr/>
            </p:nvGrpSpPr>
            <p:grpSpPr>
              <a:xfrm>
                <a:off x="0" y="5661000"/>
                <a:ext cx="216000" cy="216000"/>
                <a:chOff x="0" y="5661000"/>
                <a:chExt cx="216000" cy="216000"/>
              </a:xfrm>
            </p:grpSpPr>
            <p:sp>
              <p:nvSpPr>
                <p:cNvPr id="2410" name="Oval 723"/>
                <p:cNvSpPr/>
                <p:nvPr/>
              </p:nvSpPr>
              <p:spPr>
                <a:xfrm>
                  <a:off x="0" y="57466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1" name="Oval 724"/>
                <p:cNvSpPr/>
                <p:nvPr/>
              </p:nvSpPr>
              <p:spPr>
                <a:xfrm rot="5400000">
                  <a:off x="-36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2" name="Group 647"/>
              <p:cNvGrpSpPr/>
              <p:nvPr/>
            </p:nvGrpSpPr>
            <p:grpSpPr>
              <a:xfrm>
                <a:off x="12960" y="5675040"/>
                <a:ext cx="188640" cy="189000"/>
                <a:chOff x="12960" y="5675040"/>
                <a:chExt cx="188640" cy="189000"/>
              </a:xfrm>
            </p:grpSpPr>
            <p:sp>
              <p:nvSpPr>
                <p:cNvPr id="2413" name="Oval 726"/>
                <p:cNvSpPr/>
                <p:nvPr/>
              </p:nvSpPr>
              <p:spPr>
                <a:xfrm rot="2700000">
                  <a:off x="-1080" y="5745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4" name="Oval 727"/>
                <p:cNvSpPr/>
                <p:nvPr/>
              </p:nvSpPr>
              <p:spPr>
                <a:xfrm rot="8100000">
                  <a:off x="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5" name="Group 650"/>
            <p:cNvGrpSpPr/>
            <p:nvPr/>
          </p:nvGrpSpPr>
          <p:grpSpPr>
            <a:xfrm>
              <a:off x="-2160" y="5659560"/>
              <a:ext cx="219240" cy="219240"/>
              <a:chOff x="-2160" y="5659560"/>
              <a:chExt cx="219240" cy="219240"/>
            </a:xfrm>
          </p:grpSpPr>
          <p:grpSp>
            <p:nvGrpSpPr>
              <p:cNvPr id="2416" name="Group 651"/>
              <p:cNvGrpSpPr/>
              <p:nvPr/>
            </p:nvGrpSpPr>
            <p:grpSpPr>
              <a:xfrm>
                <a:off x="-2160" y="5659560"/>
                <a:ext cx="218520" cy="218520"/>
                <a:chOff x="-2160" y="5659560"/>
                <a:chExt cx="218520" cy="218520"/>
              </a:xfrm>
            </p:grpSpPr>
            <p:sp>
              <p:nvSpPr>
                <p:cNvPr id="2417" name="Oval 730"/>
                <p:cNvSpPr/>
                <p:nvPr/>
              </p:nvSpPr>
              <p:spPr>
                <a:xfrm rot="1320000">
                  <a:off x="-720" y="5746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8" name="Oval 731"/>
                <p:cNvSpPr/>
                <p:nvPr/>
              </p:nvSpPr>
              <p:spPr>
                <a:xfrm rot="6720000">
                  <a:off x="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9" name="Group 654"/>
              <p:cNvGrpSpPr/>
              <p:nvPr/>
            </p:nvGrpSpPr>
            <p:grpSpPr>
              <a:xfrm>
                <a:off x="-720" y="5661000"/>
                <a:ext cx="217800" cy="217800"/>
                <a:chOff x="-720" y="5661000"/>
                <a:chExt cx="217800" cy="217800"/>
              </a:xfrm>
            </p:grpSpPr>
            <p:sp>
              <p:nvSpPr>
                <p:cNvPr id="2420" name="Oval 733"/>
                <p:cNvSpPr/>
                <p:nvPr/>
              </p:nvSpPr>
              <p:spPr>
                <a:xfrm rot="4020000">
                  <a:off x="-1800" y="574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1" name="Oval 734"/>
                <p:cNvSpPr/>
                <p:nvPr/>
              </p:nvSpPr>
              <p:spPr>
                <a:xfrm rot="9420000">
                  <a:off x="0" y="5743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22" name="Oval 735"/>
            <p:cNvSpPr/>
            <p:nvPr/>
          </p:nvSpPr>
          <p:spPr>
            <a:xfrm>
              <a:off x="72360" y="5737320"/>
              <a:ext cx="70560" cy="63000"/>
            </a:xfrm>
            <a:prstGeom prst="ellipse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3" name="Group 658"/>
          <p:cNvGrpSpPr/>
          <p:nvPr/>
        </p:nvGrpSpPr>
        <p:grpSpPr>
          <a:xfrm>
            <a:off x="503280" y="6091920"/>
            <a:ext cx="146880" cy="146520"/>
            <a:chOff x="503280" y="6091920"/>
            <a:chExt cx="146880" cy="146520"/>
          </a:xfrm>
        </p:grpSpPr>
        <p:grpSp>
          <p:nvGrpSpPr>
            <p:cNvPr id="2424" name="Group 659"/>
            <p:cNvGrpSpPr/>
            <p:nvPr/>
          </p:nvGrpSpPr>
          <p:grpSpPr>
            <a:xfrm>
              <a:off x="504720" y="6093000"/>
              <a:ext cx="144720" cy="144360"/>
              <a:chOff x="504720" y="6093000"/>
              <a:chExt cx="144720" cy="144360"/>
            </a:xfrm>
          </p:grpSpPr>
          <p:grpSp>
            <p:nvGrpSpPr>
              <p:cNvPr id="2425" name="Group 660"/>
              <p:cNvGrpSpPr/>
              <p:nvPr/>
            </p:nvGrpSpPr>
            <p:grpSpPr>
              <a:xfrm>
                <a:off x="504720" y="6093000"/>
                <a:ext cx="144720" cy="144360"/>
                <a:chOff x="504720" y="6093000"/>
                <a:chExt cx="144720" cy="144360"/>
              </a:xfrm>
            </p:grpSpPr>
            <p:sp>
              <p:nvSpPr>
                <p:cNvPr id="2426" name="Oval 739"/>
                <p:cNvSpPr/>
                <p:nvPr/>
              </p:nvSpPr>
              <p:spPr>
                <a:xfrm>
                  <a:off x="504720" y="6150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7" name="Oval 740"/>
                <p:cNvSpPr/>
                <p:nvPr/>
              </p:nvSpPr>
              <p:spPr>
                <a:xfrm rot="5400000">
                  <a:off x="504360" y="6148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8" name="Group 663"/>
              <p:cNvGrpSpPr/>
              <p:nvPr/>
            </p:nvGrpSpPr>
            <p:grpSpPr>
              <a:xfrm>
                <a:off x="513720" y="6102360"/>
                <a:ext cx="126000" cy="126360"/>
                <a:chOff x="513720" y="6102360"/>
                <a:chExt cx="126000" cy="126360"/>
              </a:xfrm>
            </p:grpSpPr>
            <p:sp>
              <p:nvSpPr>
                <p:cNvPr id="2429" name="Oval 742"/>
                <p:cNvSpPr/>
                <p:nvPr/>
              </p:nvSpPr>
              <p:spPr>
                <a:xfrm rot="2700000">
                  <a:off x="504000" y="61495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0" name="Oval 743"/>
                <p:cNvSpPr/>
                <p:nvPr/>
              </p:nvSpPr>
              <p:spPr>
                <a:xfrm rot="8100000">
                  <a:off x="504360" y="61484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31" name="Group 666"/>
            <p:cNvGrpSpPr/>
            <p:nvPr/>
          </p:nvGrpSpPr>
          <p:grpSpPr>
            <a:xfrm>
              <a:off x="503280" y="6091920"/>
              <a:ext cx="146880" cy="146520"/>
              <a:chOff x="503280" y="6091920"/>
              <a:chExt cx="146880" cy="146520"/>
            </a:xfrm>
          </p:grpSpPr>
          <p:grpSp>
            <p:nvGrpSpPr>
              <p:cNvPr id="2432" name="Group 667"/>
              <p:cNvGrpSpPr/>
              <p:nvPr/>
            </p:nvGrpSpPr>
            <p:grpSpPr>
              <a:xfrm>
                <a:off x="503280" y="6091920"/>
                <a:ext cx="146520" cy="146160"/>
                <a:chOff x="503280" y="6091920"/>
                <a:chExt cx="146520" cy="146160"/>
              </a:xfrm>
            </p:grpSpPr>
            <p:sp>
              <p:nvSpPr>
                <p:cNvPr id="2433" name="Oval 746"/>
                <p:cNvSpPr/>
                <p:nvPr/>
              </p:nvSpPr>
              <p:spPr>
                <a:xfrm rot="1320000">
                  <a:off x="504000" y="61498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4" name="Oval 747"/>
                <p:cNvSpPr/>
                <p:nvPr/>
              </p:nvSpPr>
              <p:spPr>
                <a:xfrm rot="6720000">
                  <a:off x="504360" y="6148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5" name="Group 670"/>
              <p:cNvGrpSpPr/>
              <p:nvPr/>
            </p:nvGrpSpPr>
            <p:grpSpPr>
              <a:xfrm>
                <a:off x="504000" y="6092640"/>
                <a:ext cx="146160" cy="145800"/>
                <a:chOff x="504000" y="6092640"/>
                <a:chExt cx="146160" cy="145800"/>
              </a:xfrm>
            </p:grpSpPr>
            <p:sp>
              <p:nvSpPr>
                <p:cNvPr id="2436" name="Oval 749"/>
                <p:cNvSpPr/>
                <p:nvPr/>
              </p:nvSpPr>
              <p:spPr>
                <a:xfrm rot="4020000">
                  <a:off x="503280" y="6148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7" name="Oval 750"/>
                <p:cNvSpPr/>
                <p:nvPr/>
              </p:nvSpPr>
              <p:spPr>
                <a:xfrm rot="9420000">
                  <a:off x="504720" y="61484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38" name="Oval 751"/>
            <p:cNvSpPr/>
            <p:nvPr/>
          </p:nvSpPr>
          <p:spPr>
            <a:xfrm>
              <a:off x="553320" y="6143760"/>
              <a:ext cx="47160" cy="42120"/>
            </a:xfrm>
            <a:prstGeom prst="ellipse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9" name="Group 674"/>
          <p:cNvGrpSpPr/>
          <p:nvPr/>
        </p:nvGrpSpPr>
        <p:grpSpPr>
          <a:xfrm>
            <a:off x="142920" y="6020280"/>
            <a:ext cx="146880" cy="146520"/>
            <a:chOff x="142920" y="6020280"/>
            <a:chExt cx="146880" cy="146520"/>
          </a:xfrm>
        </p:grpSpPr>
        <p:grpSp>
          <p:nvGrpSpPr>
            <p:cNvPr id="2440" name="Group 675"/>
            <p:cNvGrpSpPr/>
            <p:nvPr/>
          </p:nvGrpSpPr>
          <p:grpSpPr>
            <a:xfrm>
              <a:off x="144360" y="6021360"/>
              <a:ext cx="144720" cy="144360"/>
              <a:chOff x="144360" y="6021360"/>
              <a:chExt cx="144720" cy="144360"/>
            </a:xfrm>
          </p:grpSpPr>
          <p:grpSp>
            <p:nvGrpSpPr>
              <p:cNvPr id="2441" name="Group 676"/>
              <p:cNvGrpSpPr/>
              <p:nvPr/>
            </p:nvGrpSpPr>
            <p:grpSpPr>
              <a:xfrm>
                <a:off x="144360" y="6021360"/>
                <a:ext cx="144720" cy="144360"/>
                <a:chOff x="144360" y="6021360"/>
                <a:chExt cx="144720" cy="144360"/>
              </a:xfrm>
            </p:grpSpPr>
            <p:sp>
              <p:nvSpPr>
                <p:cNvPr id="2442" name="Oval 755"/>
                <p:cNvSpPr/>
                <p:nvPr/>
              </p:nvSpPr>
              <p:spPr>
                <a:xfrm>
                  <a:off x="144360" y="60786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3" name="Oval 756"/>
                <p:cNvSpPr/>
                <p:nvPr/>
              </p:nvSpPr>
              <p:spPr>
                <a:xfrm rot="5400000">
                  <a:off x="14364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4" name="Group 679"/>
              <p:cNvGrpSpPr/>
              <p:nvPr/>
            </p:nvGrpSpPr>
            <p:grpSpPr>
              <a:xfrm>
                <a:off x="153360" y="6030720"/>
                <a:ext cx="126000" cy="126360"/>
                <a:chOff x="153360" y="6030720"/>
                <a:chExt cx="126000" cy="126360"/>
              </a:xfrm>
            </p:grpSpPr>
            <p:sp>
              <p:nvSpPr>
                <p:cNvPr id="2445" name="Oval 758"/>
                <p:cNvSpPr/>
                <p:nvPr/>
              </p:nvSpPr>
              <p:spPr>
                <a:xfrm rot="2700000">
                  <a:off x="143640" y="6077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6" name="Oval 759"/>
                <p:cNvSpPr/>
                <p:nvPr/>
              </p:nvSpPr>
              <p:spPr>
                <a:xfrm rot="8100000">
                  <a:off x="144000" y="6076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7" name="Group 682"/>
            <p:cNvGrpSpPr/>
            <p:nvPr/>
          </p:nvGrpSpPr>
          <p:grpSpPr>
            <a:xfrm>
              <a:off x="142920" y="6020280"/>
              <a:ext cx="146880" cy="146520"/>
              <a:chOff x="142920" y="6020280"/>
              <a:chExt cx="146880" cy="146520"/>
            </a:xfrm>
          </p:grpSpPr>
          <p:grpSp>
            <p:nvGrpSpPr>
              <p:cNvPr id="2448" name="Group 683"/>
              <p:cNvGrpSpPr/>
              <p:nvPr/>
            </p:nvGrpSpPr>
            <p:grpSpPr>
              <a:xfrm>
                <a:off x="142920" y="6020280"/>
                <a:ext cx="146520" cy="146160"/>
                <a:chOff x="142920" y="6020280"/>
                <a:chExt cx="146520" cy="146160"/>
              </a:xfrm>
            </p:grpSpPr>
            <p:sp>
              <p:nvSpPr>
                <p:cNvPr id="2449" name="Oval 762"/>
                <p:cNvSpPr/>
                <p:nvPr/>
              </p:nvSpPr>
              <p:spPr>
                <a:xfrm rot="1320000">
                  <a:off x="143640" y="607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0" name="Oval 763"/>
                <p:cNvSpPr/>
                <p:nvPr/>
              </p:nvSpPr>
              <p:spPr>
                <a:xfrm rot="6720000">
                  <a:off x="14400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1" name="Group 686"/>
              <p:cNvGrpSpPr/>
              <p:nvPr/>
            </p:nvGrpSpPr>
            <p:grpSpPr>
              <a:xfrm>
                <a:off x="143640" y="6021000"/>
                <a:ext cx="146160" cy="145800"/>
                <a:chOff x="143640" y="6021000"/>
                <a:chExt cx="146160" cy="145800"/>
              </a:xfrm>
            </p:grpSpPr>
            <p:sp>
              <p:nvSpPr>
                <p:cNvPr id="2452" name="Oval 765"/>
                <p:cNvSpPr/>
                <p:nvPr/>
              </p:nvSpPr>
              <p:spPr>
                <a:xfrm rot="4020000">
                  <a:off x="14292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3" name="Oval 766"/>
                <p:cNvSpPr/>
                <p:nvPr/>
              </p:nvSpPr>
              <p:spPr>
                <a:xfrm rot="9420000">
                  <a:off x="144360" y="6076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54" name="Oval 767"/>
            <p:cNvSpPr/>
            <p:nvPr/>
          </p:nvSpPr>
          <p:spPr>
            <a:xfrm>
              <a:off x="192960" y="6072120"/>
              <a:ext cx="47160" cy="42120"/>
            </a:xfrm>
            <a:prstGeom prst="ellipse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5" name="Group 690"/>
          <p:cNvGrpSpPr/>
          <p:nvPr/>
        </p:nvGrpSpPr>
        <p:grpSpPr>
          <a:xfrm>
            <a:off x="7592760" y="5226840"/>
            <a:ext cx="367920" cy="368280"/>
            <a:chOff x="7592760" y="5226840"/>
            <a:chExt cx="367920" cy="368280"/>
          </a:xfrm>
        </p:grpSpPr>
        <p:grpSp>
          <p:nvGrpSpPr>
            <p:cNvPr id="2456" name="Group 691"/>
            <p:cNvGrpSpPr/>
            <p:nvPr/>
          </p:nvGrpSpPr>
          <p:grpSpPr>
            <a:xfrm>
              <a:off x="7596360" y="5229360"/>
              <a:ext cx="362880" cy="362880"/>
              <a:chOff x="7596360" y="5229360"/>
              <a:chExt cx="362880" cy="362880"/>
            </a:xfrm>
          </p:grpSpPr>
          <p:grpSp>
            <p:nvGrpSpPr>
              <p:cNvPr id="2457" name="Group 692"/>
              <p:cNvGrpSpPr/>
              <p:nvPr/>
            </p:nvGrpSpPr>
            <p:grpSpPr>
              <a:xfrm>
                <a:off x="7596360" y="5229360"/>
                <a:ext cx="362880" cy="362880"/>
                <a:chOff x="7596360" y="5229360"/>
                <a:chExt cx="362880" cy="362880"/>
              </a:xfrm>
            </p:grpSpPr>
            <p:sp>
              <p:nvSpPr>
                <p:cNvPr id="2458" name="Oval 771"/>
                <p:cNvSpPr/>
                <p:nvPr/>
              </p:nvSpPr>
              <p:spPr>
                <a:xfrm>
                  <a:off x="7596360" y="53733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9" name="Oval 772"/>
                <p:cNvSpPr/>
                <p:nvPr/>
              </p:nvSpPr>
              <p:spPr>
                <a:xfrm rot="5400000">
                  <a:off x="759564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0" name="Group 695"/>
              <p:cNvGrpSpPr/>
              <p:nvPr/>
            </p:nvGrpSpPr>
            <p:grpSpPr>
              <a:xfrm>
                <a:off x="7617600" y="5253120"/>
                <a:ext cx="317160" cy="317880"/>
                <a:chOff x="7617600" y="5253120"/>
                <a:chExt cx="317160" cy="317880"/>
              </a:xfrm>
            </p:grpSpPr>
            <p:sp>
              <p:nvSpPr>
                <p:cNvPr id="2461" name="Oval 774"/>
                <p:cNvSpPr/>
                <p:nvPr/>
              </p:nvSpPr>
              <p:spPr>
                <a:xfrm rot="2700000">
                  <a:off x="7593480" y="53719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2" name="Oval 775"/>
                <p:cNvSpPr/>
                <p:nvPr/>
              </p:nvSpPr>
              <p:spPr>
                <a:xfrm rot="8100000">
                  <a:off x="759564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3" name="Group 698"/>
            <p:cNvGrpSpPr/>
            <p:nvPr/>
          </p:nvGrpSpPr>
          <p:grpSpPr>
            <a:xfrm>
              <a:off x="7592760" y="5226840"/>
              <a:ext cx="367920" cy="368280"/>
              <a:chOff x="7592760" y="5226840"/>
              <a:chExt cx="367920" cy="368280"/>
            </a:xfrm>
          </p:grpSpPr>
          <p:grpSp>
            <p:nvGrpSpPr>
              <p:cNvPr id="2464" name="Group 699"/>
              <p:cNvGrpSpPr/>
              <p:nvPr/>
            </p:nvGrpSpPr>
            <p:grpSpPr>
              <a:xfrm>
                <a:off x="7592760" y="5226840"/>
                <a:ext cx="367560" cy="367560"/>
                <a:chOff x="7592760" y="5226840"/>
                <a:chExt cx="367560" cy="367560"/>
              </a:xfrm>
            </p:grpSpPr>
            <p:sp>
              <p:nvSpPr>
                <p:cNvPr id="2465" name="Oval 778"/>
                <p:cNvSpPr/>
                <p:nvPr/>
              </p:nvSpPr>
              <p:spPr>
                <a:xfrm rot="1320000">
                  <a:off x="7594920" y="53730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6" name="Oval 779"/>
                <p:cNvSpPr/>
                <p:nvPr/>
              </p:nvSpPr>
              <p:spPr>
                <a:xfrm rot="6720000">
                  <a:off x="759600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7" name="Group 702"/>
              <p:cNvGrpSpPr/>
              <p:nvPr/>
            </p:nvGrpSpPr>
            <p:grpSpPr>
              <a:xfrm>
                <a:off x="7594560" y="5229000"/>
                <a:ext cx="366120" cy="366120"/>
                <a:chOff x="7594560" y="5229000"/>
                <a:chExt cx="366120" cy="366120"/>
              </a:xfrm>
            </p:grpSpPr>
            <p:sp>
              <p:nvSpPr>
                <p:cNvPr id="2468" name="Oval 781"/>
                <p:cNvSpPr/>
                <p:nvPr/>
              </p:nvSpPr>
              <p:spPr>
                <a:xfrm rot="4020000">
                  <a:off x="7592760" y="53708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9" name="Oval 782"/>
                <p:cNvSpPr/>
                <p:nvPr/>
              </p:nvSpPr>
              <p:spPr>
                <a:xfrm rot="9420000">
                  <a:off x="759600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70" name="Oval 783"/>
            <p:cNvSpPr/>
            <p:nvPr/>
          </p:nvSpPr>
          <p:spPr>
            <a:xfrm>
              <a:off x="7718040" y="5357520"/>
              <a:ext cx="118440" cy="105840"/>
            </a:xfrm>
            <a:prstGeom prst="ellipse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1" name="Group 706"/>
          <p:cNvGrpSpPr/>
          <p:nvPr/>
        </p:nvGrpSpPr>
        <p:grpSpPr>
          <a:xfrm>
            <a:off x="7809840" y="5659560"/>
            <a:ext cx="219240" cy="219240"/>
            <a:chOff x="7809840" y="5659560"/>
            <a:chExt cx="219240" cy="219240"/>
          </a:xfrm>
        </p:grpSpPr>
        <p:grpSp>
          <p:nvGrpSpPr>
            <p:cNvPr id="2472" name="Group 707"/>
            <p:cNvGrpSpPr/>
            <p:nvPr/>
          </p:nvGrpSpPr>
          <p:grpSpPr>
            <a:xfrm>
              <a:off x="7812000" y="5661000"/>
              <a:ext cx="216000" cy="216000"/>
              <a:chOff x="7812000" y="5661000"/>
              <a:chExt cx="216000" cy="216000"/>
            </a:xfrm>
          </p:grpSpPr>
          <p:grpSp>
            <p:nvGrpSpPr>
              <p:cNvPr id="2473" name="Group 708"/>
              <p:cNvGrpSpPr/>
              <p:nvPr/>
            </p:nvGrpSpPr>
            <p:grpSpPr>
              <a:xfrm>
                <a:off x="7812000" y="5661000"/>
                <a:ext cx="216000" cy="216000"/>
                <a:chOff x="7812000" y="5661000"/>
                <a:chExt cx="216000" cy="216000"/>
              </a:xfrm>
            </p:grpSpPr>
            <p:sp>
              <p:nvSpPr>
                <p:cNvPr id="2474" name="Oval 787"/>
                <p:cNvSpPr/>
                <p:nvPr/>
              </p:nvSpPr>
              <p:spPr>
                <a:xfrm>
                  <a:off x="7812000" y="57466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5" name="Oval 788"/>
                <p:cNvSpPr/>
                <p:nvPr/>
              </p:nvSpPr>
              <p:spPr>
                <a:xfrm rot="5400000">
                  <a:off x="781164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6" name="Group 711"/>
              <p:cNvGrpSpPr/>
              <p:nvPr/>
            </p:nvGrpSpPr>
            <p:grpSpPr>
              <a:xfrm>
                <a:off x="7824960" y="5675040"/>
                <a:ext cx="188640" cy="189000"/>
                <a:chOff x="7824960" y="5675040"/>
                <a:chExt cx="188640" cy="189000"/>
              </a:xfrm>
            </p:grpSpPr>
            <p:sp>
              <p:nvSpPr>
                <p:cNvPr id="2477" name="Oval 790"/>
                <p:cNvSpPr/>
                <p:nvPr/>
              </p:nvSpPr>
              <p:spPr>
                <a:xfrm rot="2700000">
                  <a:off x="7810560" y="5745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8" name="Oval 791"/>
                <p:cNvSpPr/>
                <p:nvPr/>
              </p:nvSpPr>
              <p:spPr>
                <a:xfrm rot="8100000">
                  <a:off x="781164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9" name="Group 714"/>
            <p:cNvGrpSpPr/>
            <p:nvPr/>
          </p:nvGrpSpPr>
          <p:grpSpPr>
            <a:xfrm>
              <a:off x="7809840" y="5659560"/>
              <a:ext cx="219240" cy="219240"/>
              <a:chOff x="7809840" y="5659560"/>
              <a:chExt cx="219240" cy="219240"/>
            </a:xfrm>
          </p:grpSpPr>
          <p:grpSp>
            <p:nvGrpSpPr>
              <p:cNvPr id="2480" name="Group 715"/>
              <p:cNvGrpSpPr/>
              <p:nvPr/>
            </p:nvGrpSpPr>
            <p:grpSpPr>
              <a:xfrm>
                <a:off x="7809840" y="5659560"/>
                <a:ext cx="218520" cy="218520"/>
                <a:chOff x="7809840" y="5659560"/>
                <a:chExt cx="218520" cy="218520"/>
              </a:xfrm>
            </p:grpSpPr>
            <p:sp>
              <p:nvSpPr>
                <p:cNvPr id="2481" name="Oval 794"/>
                <p:cNvSpPr/>
                <p:nvPr/>
              </p:nvSpPr>
              <p:spPr>
                <a:xfrm rot="1320000">
                  <a:off x="7810920" y="5746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2" name="Oval 795"/>
                <p:cNvSpPr/>
                <p:nvPr/>
              </p:nvSpPr>
              <p:spPr>
                <a:xfrm rot="6720000">
                  <a:off x="781164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3" name="Group 718"/>
              <p:cNvGrpSpPr/>
              <p:nvPr/>
            </p:nvGrpSpPr>
            <p:grpSpPr>
              <a:xfrm>
                <a:off x="7811280" y="5661000"/>
                <a:ext cx="217800" cy="217800"/>
                <a:chOff x="7811280" y="5661000"/>
                <a:chExt cx="217800" cy="217800"/>
              </a:xfrm>
            </p:grpSpPr>
            <p:sp>
              <p:nvSpPr>
                <p:cNvPr id="2484" name="Oval 797"/>
                <p:cNvSpPr/>
                <p:nvPr/>
              </p:nvSpPr>
              <p:spPr>
                <a:xfrm rot="4020000">
                  <a:off x="7809840" y="574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5" name="Oval 798"/>
                <p:cNvSpPr/>
                <p:nvPr/>
              </p:nvSpPr>
              <p:spPr>
                <a:xfrm rot="9420000">
                  <a:off x="7812000" y="5743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86" name="Oval 799"/>
            <p:cNvSpPr/>
            <p:nvPr/>
          </p:nvSpPr>
          <p:spPr>
            <a:xfrm>
              <a:off x="7884360" y="5737320"/>
              <a:ext cx="70560" cy="63000"/>
            </a:xfrm>
            <a:prstGeom prst="ellipse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7" name="Group 722"/>
          <p:cNvGrpSpPr/>
          <p:nvPr/>
        </p:nvGrpSpPr>
        <p:grpSpPr>
          <a:xfrm>
            <a:off x="8313480" y="5731560"/>
            <a:ext cx="367920" cy="368640"/>
            <a:chOff x="8313480" y="5731560"/>
            <a:chExt cx="367920" cy="368640"/>
          </a:xfrm>
        </p:grpSpPr>
        <p:grpSp>
          <p:nvGrpSpPr>
            <p:cNvPr id="2488" name="Group 723"/>
            <p:cNvGrpSpPr/>
            <p:nvPr/>
          </p:nvGrpSpPr>
          <p:grpSpPr>
            <a:xfrm>
              <a:off x="8317080" y="5734080"/>
              <a:ext cx="362880" cy="363240"/>
              <a:chOff x="8317080" y="5734080"/>
              <a:chExt cx="362880" cy="363240"/>
            </a:xfrm>
          </p:grpSpPr>
          <p:grpSp>
            <p:nvGrpSpPr>
              <p:cNvPr id="2489" name="Group 724"/>
              <p:cNvGrpSpPr/>
              <p:nvPr/>
            </p:nvGrpSpPr>
            <p:grpSpPr>
              <a:xfrm>
                <a:off x="8317080" y="5734080"/>
                <a:ext cx="362880" cy="363240"/>
                <a:chOff x="8317080" y="5734080"/>
                <a:chExt cx="362880" cy="363240"/>
              </a:xfrm>
            </p:grpSpPr>
            <p:sp>
              <p:nvSpPr>
                <p:cNvPr id="2490" name="Oval 803"/>
                <p:cNvSpPr/>
                <p:nvPr/>
              </p:nvSpPr>
              <p:spPr>
                <a:xfrm>
                  <a:off x="8317080" y="587808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1" name="Oval 804"/>
                <p:cNvSpPr/>
                <p:nvPr/>
              </p:nvSpPr>
              <p:spPr>
                <a:xfrm rot="5400000">
                  <a:off x="8316360" y="5874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2" name="Group 727"/>
              <p:cNvGrpSpPr/>
              <p:nvPr/>
            </p:nvGrpSpPr>
            <p:grpSpPr>
              <a:xfrm>
                <a:off x="8338320" y="5757840"/>
                <a:ext cx="317160" cy="317880"/>
                <a:chOff x="8338320" y="5757840"/>
                <a:chExt cx="317160" cy="317880"/>
              </a:xfrm>
            </p:grpSpPr>
            <p:sp>
              <p:nvSpPr>
                <p:cNvPr id="2493" name="Oval 806"/>
                <p:cNvSpPr/>
                <p:nvPr/>
              </p:nvSpPr>
              <p:spPr>
                <a:xfrm rot="2700000">
                  <a:off x="8314200" y="58770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4" name="Oval 807"/>
                <p:cNvSpPr/>
                <p:nvPr/>
              </p:nvSpPr>
              <p:spPr>
                <a:xfrm rot="8100000">
                  <a:off x="8316360" y="5873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5" name="Group 730"/>
            <p:cNvGrpSpPr/>
            <p:nvPr/>
          </p:nvGrpSpPr>
          <p:grpSpPr>
            <a:xfrm>
              <a:off x="8313480" y="5731560"/>
              <a:ext cx="367920" cy="368640"/>
              <a:chOff x="8313480" y="5731560"/>
              <a:chExt cx="367920" cy="368640"/>
            </a:xfrm>
          </p:grpSpPr>
          <p:grpSp>
            <p:nvGrpSpPr>
              <p:cNvPr id="2496" name="Group 731"/>
              <p:cNvGrpSpPr/>
              <p:nvPr/>
            </p:nvGrpSpPr>
            <p:grpSpPr>
              <a:xfrm>
                <a:off x="8313480" y="5731560"/>
                <a:ext cx="367560" cy="367920"/>
                <a:chOff x="8313480" y="5731560"/>
                <a:chExt cx="367560" cy="367920"/>
              </a:xfrm>
            </p:grpSpPr>
            <p:sp>
              <p:nvSpPr>
                <p:cNvPr id="2497" name="Oval 810"/>
                <p:cNvSpPr/>
                <p:nvPr/>
              </p:nvSpPr>
              <p:spPr>
                <a:xfrm rot="1320000">
                  <a:off x="8315640" y="58777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8" name="Oval 811"/>
                <p:cNvSpPr/>
                <p:nvPr/>
              </p:nvSpPr>
              <p:spPr>
                <a:xfrm rot="6720000">
                  <a:off x="8316360" y="587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9" name="Group 734"/>
              <p:cNvGrpSpPr/>
              <p:nvPr/>
            </p:nvGrpSpPr>
            <p:grpSpPr>
              <a:xfrm>
                <a:off x="8315280" y="5733720"/>
                <a:ext cx="366120" cy="366480"/>
                <a:chOff x="8315280" y="5733720"/>
                <a:chExt cx="366120" cy="366480"/>
              </a:xfrm>
            </p:grpSpPr>
            <p:sp>
              <p:nvSpPr>
                <p:cNvPr id="2500" name="Oval 813"/>
                <p:cNvSpPr/>
                <p:nvPr/>
              </p:nvSpPr>
              <p:spPr>
                <a:xfrm rot="4020000">
                  <a:off x="8313480" y="58755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1" name="Oval 814"/>
                <p:cNvSpPr/>
                <p:nvPr/>
              </p:nvSpPr>
              <p:spPr>
                <a:xfrm rot="9420000">
                  <a:off x="8316720" y="5873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02" name="Oval 815"/>
            <p:cNvSpPr/>
            <p:nvPr/>
          </p:nvSpPr>
          <p:spPr>
            <a:xfrm>
              <a:off x="8438760" y="5862240"/>
              <a:ext cx="118440" cy="105840"/>
            </a:xfrm>
            <a:prstGeom prst="ellipse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3" name="Group 738"/>
          <p:cNvGrpSpPr/>
          <p:nvPr/>
        </p:nvGrpSpPr>
        <p:grpSpPr>
          <a:xfrm>
            <a:off x="8776800" y="5155200"/>
            <a:ext cx="367920" cy="368640"/>
            <a:chOff x="8776800" y="5155200"/>
            <a:chExt cx="367920" cy="368640"/>
          </a:xfrm>
        </p:grpSpPr>
        <p:grpSp>
          <p:nvGrpSpPr>
            <p:cNvPr id="2504" name="Group 739"/>
            <p:cNvGrpSpPr/>
            <p:nvPr/>
          </p:nvGrpSpPr>
          <p:grpSpPr>
            <a:xfrm>
              <a:off x="8780400" y="5157720"/>
              <a:ext cx="363240" cy="363240"/>
              <a:chOff x="8780400" y="5157720"/>
              <a:chExt cx="363240" cy="363240"/>
            </a:xfrm>
          </p:grpSpPr>
          <p:grpSp>
            <p:nvGrpSpPr>
              <p:cNvPr id="2505" name="Group 740"/>
              <p:cNvGrpSpPr/>
              <p:nvPr/>
            </p:nvGrpSpPr>
            <p:grpSpPr>
              <a:xfrm>
                <a:off x="8780400" y="5157720"/>
                <a:ext cx="363240" cy="363240"/>
                <a:chOff x="8780400" y="5157720"/>
                <a:chExt cx="363240" cy="363240"/>
              </a:xfrm>
            </p:grpSpPr>
            <p:sp>
              <p:nvSpPr>
                <p:cNvPr id="2506" name="Oval 819"/>
                <p:cNvSpPr/>
                <p:nvPr/>
              </p:nvSpPr>
              <p:spPr>
                <a:xfrm>
                  <a:off x="8780400" y="53017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7" name="Oval 820"/>
                <p:cNvSpPr/>
                <p:nvPr/>
              </p:nvSpPr>
              <p:spPr>
                <a:xfrm rot="5400000">
                  <a:off x="877968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8" name="Group 743"/>
              <p:cNvGrpSpPr/>
              <p:nvPr/>
            </p:nvGrpSpPr>
            <p:grpSpPr>
              <a:xfrm>
                <a:off x="8801640" y="5181480"/>
                <a:ext cx="317160" cy="317880"/>
                <a:chOff x="8801640" y="5181480"/>
                <a:chExt cx="317160" cy="317880"/>
              </a:xfrm>
            </p:grpSpPr>
            <p:sp>
              <p:nvSpPr>
                <p:cNvPr id="2509" name="Oval 822"/>
                <p:cNvSpPr/>
                <p:nvPr/>
              </p:nvSpPr>
              <p:spPr>
                <a:xfrm rot="2700000">
                  <a:off x="8777520" y="53006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0" name="Oval 823"/>
                <p:cNvSpPr/>
                <p:nvPr/>
              </p:nvSpPr>
              <p:spPr>
                <a:xfrm rot="8100000">
                  <a:off x="877932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1" name="Group 746"/>
            <p:cNvGrpSpPr/>
            <p:nvPr/>
          </p:nvGrpSpPr>
          <p:grpSpPr>
            <a:xfrm>
              <a:off x="8776800" y="5155200"/>
              <a:ext cx="367920" cy="368640"/>
              <a:chOff x="8776800" y="5155200"/>
              <a:chExt cx="367920" cy="368640"/>
            </a:xfrm>
          </p:grpSpPr>
          <p:grpSp>
            <p:nvGrpSpPr>
              <p:cNvPr id="2512" name="Group 747"/>
              <p:cNvGrpSpPr/>
              <p:nvPr/>
            </p:nvGrpSpPr>
            <p:grpSpPr>
              <a:xfrm>
                <a:off x="8776800" y="5155200"/>
                <a:ext cx="367920" cy="367920"/>
                <a:chOff x="8776800" y="5155200"/>
                <a:chExt cx="367920" cy="367920"/>
              </a:xfrm>
            </p:grpSpPr>
            <p:sp>
              <p:nvSpPr>
                <p:cNvPr id="2513" name="Oval 826"/>
                <p:cNvSpPr/>
                <p:nvPr/>
              </p:nvSpPr>
              <p:spPr>
                <a:xfrm rot="1320000">
                  <a:off x="8778960" y="53010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4" name="Oval 827"/>
                <p:cNvSpPr/>
                <p:nvPr/>
              </p:nvSpPr>
              <p:spPr>
                <a:xfrm rot="6720000">
                  <a:off x="877968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5" name="Group 750"/>
              <p:cNvGrpSpPr/>
              <p:nvPr/>
            </p:nvGrpSpPr>
            <p:grpSpPr>
              <a:xfrm>
                <a:off x="8778240" y="5157360"/>
                <a:ext cx="366480" cy="366480"/>
                <a:chOff x="8778240" y="5157360"/>
                <a:chExt cx="366480" cy="366480"/>
              </a:xfrm>
            </p:grpSpPr>
            <p:sp>
              <p:nvSpPr>
                <p:cNvPr id="2516" name="Oval 829"/>
                <p:cNvSpPr/>
                <p:nvPr/>
              </p:nvSpPr>
              <p:spPr>
                <a:xfrm rot="4020000">
                  <a:off x="8776800" y="52992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7" name="Oval 830"/>
                <p:cNvSpPr/>
                <p:nvPr/>
              </p:nvSpPr>
              <p:spPr>
                <a:xfrm rot="9420000">
                  <a:off x="8779680" y="5297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18" name="Oval 831"/>
            <p:cNvSpPr/>
            <p:nvPr/>
          </p:nvSpPr>
          <p:spPr>
            <a:xfrm>
              <a:off x="8902440" y="5285880"/>
              <a:ext cx="118800" cy="105840"/>
            </a:xfrm>
            <a:prstGeom prst="ellipse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9" name="Group 754"/>
          <p:cNvGrpSpPr/>
          <p:nvPr/>
        </p:nvGrpSpPr>
        <p:grpSpPr>
          <a:xfrm>
            <a:off x="-558720" y="-437760"/>
            <a:ext cx="2774520" cy="1776240"/>
            <a:chOff x="-558720" y="-437760"/>
            <a:chExt cx="2774520" cy="1776240"/>
          </a:xfrm>
        </p:grpSpPr>
        <p:sp>
          <p:nvSpPr>
            <p:cNvPr id="2520" name="Freeform 1000"/>
            <p:cNvSpPr/>
            <p:nvPr/>
          </p:nvSpPr>
          <p:spPr>
            <a:xfrm flipH="1" rot="7023600">
              <a:off x="738000" y="-583920"/>
              <a:ext cx="275040" cy="2160000"/>
            </a:xfrm>
            <a:custGeom>
              <a:avLst/>
              <a:gdLst>
                <a:gd name="textAreaLeft" fmla="*/ 360 w 275040"/>
                <a:gd name="textAreaRight" fmla="*/ 275760 w 275040"/>
                <a:gd name="textAreaTop" fmla="*/ 0 h 2160000"/>
                <a:gd name="textAreaBottom" fmla="*/ 2160360 h 2160000"/>
              </a:gdLst>
              <a:ahLst/>
              <a:rect l="textAreaLeft" t="textAreaTop" r="textAreaRight" b="textAreaBottom"/>
              <a:pathLst>
                <a:path w="2573" h="12419">
                  <a:moveTo>
                    <a:pt x="103" y="11997"/>
                  </a:moveTo>
                  <a:lnTo>
                    <a:pt x="103" y="11955"/>
                  </a:lnTo>
                  <a:lnTo>
                    <a:pt x="113" y="11851"/>
                  </a:lnTo>
                  <a:lnTo>
                    <a:pt x="124" y="11788"/>
                  </a:lnTo>
                  <a:lnTo>
                    <a:pt x="135" y="11737"/>
                  </a:lnTo>
                  <a:lnTo>
                    <a:pt x="150" y="11690"/>
                  </a:lnTo>
                  <a:lnTo>
                    <a:pt x="160" y="11669"/>
                  </a:lnTo>
                  <a:lnTo>
                    <a:pt x="170" y="11658"/>
                  </a:lnTo>
                  <a:lnTo>
                    <a:pt x="228" y="11596"/>
                  </a:lnTo>
                  <a:lnTo>
                    <a:pt x="264" y="11555"/>
                  </a:lnTo>
                  <a:lnTo>
                    <a:pt x="300" y="11503"/>
                  </a:lnTo>
                  <a:lnTo>
                    <a:pt x="332" y="11445"/>
                  </a:lnTo>
                  <a:lnTo>
                    <a:pt x="368" y="11378"/>
                  </a:lnTo>
                  <a:lnTo>
                    <a:pt x="394" y="11305"/>
                  </a:lnTo>
                  <a:lnTo>
                    <a:pt x="410" y="11221"/>
                  </a:lnTo>
                  <a:lnTo>
                    <a:pt x="447" y="11071"/>
                  </a:lnTo>
                  <a:lnTo>
                    <a:pt x="504" y="10821"/>
                  </a:lnTo>
                  <a:lnTo>
                    <a:pt x="670" y="10144"/>
                  </a:lnTo>
                  <a:lnTo>
                    <a:pt x="831" y="9488"/>
                  </a:lnTo>
                  <a:lnTo>
                    <a:pt x="883" y="9254"/>
                  </a:lnTo>
                  <a:lnTo>
                    <a:pt x="904" y="9140"/>
                  </a:lnTo>
                  <a:lnTo>
                    <a:pt x="909" y="9056"/>
                  </a:lnTo>
                  <a:lnTo>
                    <a:pt x="914" y="9004"/>
                  </a:lnTo>
                  <a:lnTo>
                    <a:pt x="919" y="8983"/>
                  </a:lnTo>
                  <a:lnTo>
                    <a:pt x="930" y="8973"/>
                  </a:lnTo>
                  <a:lnTo>
                    <a:pt x="946" y="8963"/>
                  </a:lnTo>
                  <a:lnTo>
                    <a:pt x="966" y="8958"/>
                  </a:lnTo>
                  <a:lnTo>
                    <a:pt x="981" y="8946"/>
                  </a:lnTo>
                  <a:lnTo>
                    <a:pt x="1003" y="8921"/>
                  </a:lnTo>
                  <a:lnTo>
                    <a:pt x="1023" y="8884"/>
                  </a:lnTo>
                  <a:lnTo>
                    <a:pt x="1050" y="8833"/>
                  </a:lnTo>
                  <a:lnTo>
                    <a:pt x="1106" y="8708"/>
                  </a:lnTo>
                  <a:lnTo>
                    <a:pt x="1169" y="8556"/>
                  </a:lnTo>
                  <a:lnTo>
                    <a:pt x="1231" y="8395"/>
                  </a:lnTo>
                  <a:lnTo>
                    <a:pt x="1288" y="8239"/>
                  </a:lnTo>
                  <a:lnTo>
                    <a:pt x="1335" y="8104"/>
                  </a:lnTo>
                  <a:lnTo>
                    <a:pt x="1367" y="7999"/>
                  </a:lnTo>
                  <a:lnTo>
                    <a:pt x="1445" y="7755"/>
                  </a:lnTo>
                  <a:lnTo>
                    <a:pt x="1554" y="7401"/>
                  </a:lnTo>
                  <a:lnTo>
                    <a:pt x="1606" y="7213"/>
                  </a:lnTo>
                  <a:lnTo>
                    <a:pt x="1647" y="7026"/>
                  </a:lnTo>
                  <a:lnTo>
                    <a:pt x="1669" y="6943"/>
                  </a:lnTo>
                  <a:lnTo>
                    <a:pt x="1679" y="6860"/>
                  </a:lnTo>
                  <a:lnTo>
                    <a:pt x="1689" y="6786"/>
                  </a:lnTo>
                  <a:lnTo>
                    <a:pt x="1689" y="6719"/>
                  </a:lnTo>
                  <a:lnTo>
                    <a:pt x="1694" y="6651"/>
                  </a:lnTo>
                  <a:lnTo>
                    <a:pt x="1699" y="6558"/>
                  </a:lnTo>
                  <a:lnTo>
                    <a:pt x="1731" y="6318"/>
                  </a:lnTo>
                  <a:lnTo>
                    <a:pt x="1772" y="6032"/>
                  </a:lnTo>
                  <a:lnTo>
                    <a:pt x="1814" y="5730"/>
                  </a:lnTo>
                  <a:lnTo>
                    <a:pt x="1902" y="5163"/>
                  </a:lnTo>
                  <a:lnTo>
                    <a:pt x="1934" y="4955"/>
                  </a:lnTo>
                  <a:lnTo>
                    <a:pt x="1939" y="4877"/>
                  </a:lnTo>
                  <a:lnTo>
                    <a:pt x="1944" y="4830"/>
                  </a:lnTo>
                  <a:lnTo>
                    <a:pt x="1949" y="4236"/>
                  </a:lnTo>
                  <a:lnTo>
                    <a:pt x="1964" y="3133"/>
                  </a:lnTo>
                  <a:lnTo>
                    <a:pt x="1970" y="2555"/>
                  </a:lnTo>
                  <a:lnTo>
                    <a:pt x="1970" y="2050"/>
                  </a:lnTo>
                  <a:lnTo>
                    <a:pt x="1964" y="1686"/>
                  </a:lnTo>
                  <a:lnTo>
                    <a:pt x="1959" y="1571"/>
                  </a:lnTo>
                  <a:lnTo>
                    <a:pt x="1954" y="1541"/>
                  </a:lnTo>
                  <a:lnTo>
                    <a:pt x="1954" y="1524"/>
                  </a:lnTo>
                  <a:lnTo>
                    <a:pt x="1918" y="1457"/>
                  </a:lnTo>
                  <a:lnTo>
                    <a:pt x="1892" y="1399"/>
                  </a:lnTo>
                  <a:lnTo>
                    <a:pt x="1887" y="1374"/>
                  </a:lnTo>
                  <a:lnTo>
                    <a:pt x="1882" y="1347"/>
                  </a:lnTo>
                  <a:lnTo>
                    <a:pt x="1882" y="1327"/>
                  </a:lnTo>
                  <a:lnTo>
                    <a:pt x="1892" y="1311"/>
                  </a:lnTo>
                  <a:lnTo>
                    <a:pt x="1897" y="1306"/>
                  </a:lnTo>
                  <a:lnTo>
                    <a:pt x="1907" y="1301"/>
                  </a:lnTo>
                  <a:lnTo>
                    <a:pt x="1923" y="1306"/>
                  </a:lnTo>
                  <a:lnTo>
                    <a:pt x="1944" y="1311"/>
                  </a:lnTo>
                  <a:lnTo>
                    <a:pt x="1964" y="1322"/>
                  </a:lnTo>
                  <a:lnTo>
                    <a:pt x="1986" y="1332"/>
                  </a:lnTo>
                  <a:lnTo>
                    <a:pt x="2006" y="1337"/>
                  </a:lnTo>
                  <a:lnTo>
                    <a:pt x="2022" y="1337"/>
                  </a:lnTo>
                  <a:lnTo>
                    <a:pt x="2027" y="1332"/>
                  </a:lnTo>
                  <a:lnTo>
                    <a:pt x="2032" y="1322"/>
                  </a:lnTo>
                  <a:lnTo>
                    <a:pt x="2214" y="775"/>
                  </a:lnTo>
                  <a:lnTo>
                    <a:pt x="2386" y="265"/>
                  </a:lnTo>
                  <a:lnTo>
                    <a:pt x="2376" y="228"/>
                  </a:lnTo>
                  <a:lnTo>
                    <a:pt x="2360" y="140"/>
                  </a:lnTo>
                  <a:lnTo>
                    <a:pt x="2360" y="93"/>
                  </a:lnTo>
                  <a:lnTo>
                    <a:pt x="2360" y="51"/>
                  </a:lnTo>
                  <a:lnTo>
                    <a:pt x="2365" y="20"/>
                  </a:lnTo>
                  <a:lnTo>
                    <a:pt x="2376" y="10"/>
                  </a:lnTo>
                  <a:lnTo>
                    <a:pt x="2386" y="5"/>
                  </a:lnTo>
                  <a:lnTo>
                    <a:pt x="2396" y="0"/>
                  </a:lnTo>
                  <a:lnTo>
                    <a:pt x="2401" y="5"/>
                  </a:lnTo>
                  <a:lnTo>
                    <a:pt x="2417" y="15"/>
                  </a:lnTo>
                  <a:lnTo>
                    <a:pt x="2423" y="36"/>
                  </a:lnTo>
                  <a:lnTo>
                    <a:pt x="2428" y="67"/>
                  </a:lnTo>
                  <a:lnTo>
                    <a:pt x="2438" y="130"/>
                  </a:lnTo>
                  <a:lnTo>
                    <a:pt x="2448" y="155"/>
                  </a:lnTo>
                  <a:lnTo>
                    <a:pt x="2464" y="177"/>
                  </a:lnTo>
                  <a:lnTo>
                    <a:pt x="2485" y="187"/>
                  </a:lnTo>
                  <a:lnTo>
                    <a:pt x="2505" y="197"/>
                  </a:lnTo>
                  <a:lnTo>
                    <a:pt x="2547" y="213"/>
                  </a:lnTo>
                  <a:lnTo>
                    <a:pt x="2563" y="218"/>
                  </a:lnTo>
                  <a:lnTo>
                    <a:pt x="2568" y="228"/>
                  </a:lnTo>
                  <a:lnTo>
                    <a:pt x="2573" y="233"/>
                  </a:lnTo>
                  <a:lnTo>
                    <a:pt x="2568" y="245"/>
                  </a:lnTo>
                  <a:lnTo>
                    <a:pt x="2531" y="275"/>
                  </a:lnTo>
                  <a:lnTo>
                    <a:pt x="2490" y="327"/>
                  </a:lnTo>
                  <a:lnTo>
                    <a:pt x="2443" y="390"/>
                  </a:lnTo>
                  <a:lnTo>
                    <a:pt x="2423" y="421"/>
                  </a:lnTo>
                  <a:lnTo>
                    <a:pt x="2406" y="457"/>
                  </a:lnTo>
                  <a:lnTo>
                    <a:pt x="2334" y="650"/>
                  </a:lnTo>
                  <a:lnTo>
                    <a:pt x="2219" y="999"/>
                  </a:lnTo>
                  <a:lnTo>
                    <a:pt x="2163" y="1186"/>
                  </a:lnTo>
                  <a:lnTo>
                    <a:pt x="2116" y="1363"/>
                  </a:lnTo>
                  <a:lnTo>
                    <a:pt x="2084" y="1504"/>
                  </a:lnTo>
                  <a:lnTo>
                    <a:pt x="2074" y="1556"/>
                  </a:lnTo>
                  <a:lnTo>
                    <a:pt x="2074" y="1592"/>
                  </a:lnTo>
                  <a:lnTo>
                    <a:pt x="2074" y="1706"/>
                  </a:lnTo>
                  <a:lnTo>
                    <a:pt x="2074" y="1915"/>
                  </a:lnTo>
                  <a:lnTo>
                    <a:pt x="2069" y="2456"/>
                  </a:lnTo>
                  <a:lnTo>
                    <a:pt x="2053" y="3195"/>
                  </a:lnTo>
                  <a:lnTo>
                    <a:pt x="2064" y="3185"/>
                  </a:lnTo>
                  <a:lnTo>
                    <a:pt x="2089" y="3164"/>
                  </a:lnTo>
                  <a:lnTo>
                    <a:pt x="2106" y="3154"/>
                  </a:lnTo>
                  <a:lnTo>
                    <a:pt x="2116" y="3154"/>
                  </a:lnTo>
                  <a:lnTo>
                    <a:pt x="2121" y="3159"/>
                  </a:lnTo>
                  <a:lnTo>
                    <a:pt x="2121" y="3174"/>
                  </a:lnTo>
                  <a:lnTo>
                    <a:pt x="2111" y="3227"/>
                  </a:lnTo>
                  <a:lnTo>
                    <a:pt x="2089" y="3284"/>
                  </a:lnTo>
                  <a:lnTo>
                    <a:pt x="2069" y="3352"/>
                  </a:lnTo>
                  <a:lnTo>
                    <a:pt x="2064" y="3394"/>
                  </a:lnTo>
                  <a:lnTo>
                    <a:pt x="2064" y="3435"/>
                  </a:lnTo>
                  <a:lnTo>
                    <a:pt x="2058" y="3747"/>
                  </a:lnTo>
                  <a:lnTo>
                    <a:pt x="2043" y="4356"/>
                  </a:lnTo>
                  <a:lnTo>
                    <a:pt x="2032" y="4705"/>
                  </a:lnTo>
                  <a:lnTo>
                    <a:pt x="2022" y="5048"/>
                  </a:lnTo>
                  <a:lnTo>
                    <a:pt x="2001" y="5360"/>
                  </a:lnTo>
                  <a:lnTo>
                    <a:pt x="1981" y="5610"/>
                  </a:lnTo>
                  <a:lnTo>
                    <a:pt x="1954" y="5834"/>
                  </a:lnTo>
                  <a:lnTo>
                    <a:pt x="1923" y="6058"/>
                  </a:lnTo>
                  <a:lnTo>
                    <a:pt x="1850" y="6490"/>
                  </a:lnTo>
                  <a:lnTo>
                    <a:pt x="1819" y="6673"/>
                  </a:lnTo>
                  <a:lnTo>
                    <a:pt x="1799" y="6818"/>
                  </a:lnTo>
                  <a:lnTo>
                    <a:pt x="1794" y="6922"/>
                  </a:lnTo>
                  <a:lnTo>
                    <a:pt x="1794" y="6953"/>
                  </a:lnTo>
                  <a:lnTo>
                    <a:pt x="1804" y="6974"/>
                  </a:lnTo>
                  <a:lnTo>
                    <a:pt x="1819" y="6985"/>
                  </a:lnTo>
                  <a:lnTo>
                    <a:pt x="1834" y="6990"/>
                  </a:lnTo>
                  <a:lnTo>
                    <a:pt x="1866" y="6990"/>
                  </a:lnTo>
                  <a:lnTo>
                    <a:pt x="1876" y="6990"/>
                  </a:lnTo>
                  <a:lnTo>
                    <a:pt x="1887" y="6995"/>
                  </a:lnTo>
                  <a:lnTo>
                    <a:pt x="1897" y="7010"/>
                  </a:lnTo>
                  <a:lnTo>
                    <a:pt x="1902" y="7031"/>
                  </a:lnTo>
                  <a:lnTo>
                    <a:pt x="1897" y="7063"/>
                  </a:lnTo>
                  <a:lnTo>
                    <a:pt x="1887" y="7100"/>
                  </a:lnTo>
                  <a:lnTo>
                    <a:pt x="1866" y="7130"/>
                  </a:lnTo>
                  <a:lnTo>
                    <a:pt x="1845" y="7162"/>
                  </a:lnTo>
                  <a:lnTo>
                    <a:pt x="1804" y="7208"/>
                  </a:lnTo>
                  <a:lnTo>
                    <a:pt x="1782" y="7224"/>
                  </a:lnTo>
                  <a:lnTo>
                    <a:pt x="1076" y="9108"/>
                  </a:lnTo>
                  <a:lnTo>
                    <a:pt x="571" y="11174"/>
                  </a:lnTo>
                  <a:lnTo>
                    <a:pt x="582" y="11201"/>
                  </a:lnTo>
                  <a:lnTo>
                    <a:pt x="587" y="11243"/>
                  </a:lnTo>
                  <a:lnTo>
                    <a:pt x="582" y="11294"/>
                  </a:lnTo>
                  <a:lnTo>
                    <a:pt x="571" y="11331"/>
                  </a:lnTo>
                  <a:lnTo>
                    <a:pt x="550" y="11378"/>
                  </a:lnTo>
                  <a:lnTo>
                    <a:pt x="487" y="11492"/>
                  </a:lnTo>
                  <a:lnTo>
                    <a:pt x="457" y="11550"/>
                  </a:lnTo>
                  <a:lnTo>
                    <a:pt x="431" y="11606"/>
                  </a:lnTo>
                  <a:lnTo>
                    <a:pt x="410" y="11658"/>
                  </a:lnTo>
                  <a:lnTo>
                    <a:pt x="405" y="11695"/>
                  </a:lnTo>
                  <a:lnTo>
                    <a:pt x="399" y="11737"/>
                  </a:lnTo>
                  <a:lnTo>
                    <a:pt x="389" y="11783"/>
                  </a:lnTo>
                  <a:lnTo>
                    <a:pt x="352" y="11898"/>
                  </a:lnTo>
                  <a:lnTo>
                    <a:pt x="312" y="12018"/>
                  </a:lnTo>
                  <a:lnTo>
                    <a:pt x="259" y="12122"/>
                  </a:lnTo>
                  <a:lnTo>
                    <a:pt x="197" y="12220"/>
                  </a:lnTo>
                  <a:lnTo>
                    <a:pt x="113" y="12330"/>
                  </a:lnTo>
                  <a:lnTo>
                    <a:pt x="77" y="12377"/>
                  </a:lnTo>
                  <a:lnTo>
                    <a:pt x="40" y="12408"/>
                  </a:lnTo>
                  <a:lnTo>
                    <a:pt x="25" y="12419"/>
                  </a:lnTo>
                  <a:lnTo>
                    <a:pt x="15" y="12419"/>
                  </a:lnTo>
                  <a:lnTo>
                    <a:pt x="5" y="12419"/>
                  </a:lnTo>
                  <a:lnTo>
                    <a:pt x="0" y="12413"/>
                  </a:lnTo>
                  <a:lnTo>
                    <a:pt x="0" y="12397"/>
                  </a:lnTo>
                  <a:lnTo>
                    <a:pt x="0" y="12377"/>
                  </a:lnTo>
                  <a:lnTo>
                    <a:pt x="10" y="12320"/>
                  </a:lnTo>
                  <a:lnTo>
                    <a:pt x="40" y="12185"/>
                  </a:lnTo>
                  <a:lnTo>
                    <a:pt x="82" y="12055"/>
                  </a:lnTo>
                  <a:lnTo>
                    <a:pt x="103" y="11997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Freeform 1001"/>
            <p:cNvSpPr/>
            <p:nvPr/>
          </p:nvSpPr>
          <p:spPr>
            <a:xfrm flipH="1" rot="7023600">
              <a:off x="-113760" y="92520"/>
              <a:ext cx="30600" cy="83160"/>
            </a:xfrm>
            <a:custGeom>
              <a:avLst/>
              <a:gdLst>
                <a:gd name="textAreaLeft" fmla="*/ 360 w 30600"/>
                <a:gd name="textAreaRight" fmla="*/ 31320 w 3060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297" h="479">
                  <a:moveTo>
                    <a:pt x="265" y="0"/>
                  </a:moveTo>
                  <a:lnTo>
                    <a:pt x="249" y="5"/>
                  </a:lnTo>
                  <a:lnTo>
                    <a:pt x="228" y="10"/>
                  </a:lnTo>
                  <a:lnTo>
                    <a:pt x="202" y="22"/>
                  </a:lnTo>
                  <a:lnTo>
                    <a:pt x="177" y="37"/>
                  </a:lnTo>
                  <a:lnTo>
                    <a:pt x="145" y="57"/>
                  </a:lnTo>
                  <a:lnTo>
                    <a:pt x="120" y="89"/>
                  </a:lnTo>
                  <a:lnTo>
                    <a:pt x="93" y="130"/>
                  </a:lnTo>
                  <a:lnTo>
                    <a:pt x="73" y="182"/>
                  </a:lnTo>
                  <a:lnTo>
                    <a:pt x="52" y="245"/>
                  </a:lnTo>
                  <a:lnTo>
                    <a:pt x="31" y="312"/>
                  </a:lnTo>
                  <a:lnTo>
                    <a:pt x="10" y="375"/>
                  </a:lnTo>
                  <a:lnTo>
                    <a:pt x="5" y="427"/>
                  </a:lnTo>
                  <a:lnTo>
                    <a:pt x="0" y="464"/>
                  </a:lnTo>
                  <a:lnTo>
                    <a:pt x="5" y="474"/>
                  </a:lnTo>
                  <a:lnTo>
                    <a:pt x="10" y="479"/>
                  </a:lnTo>
                  <a:lnTo>
                    <a:pt x="20" y="474"/>
                  </a:lnTo>
                  <a:lnTo>
                    <a:pt x="36" y="464"/>
                  </a:lnTo>
                  <a:lnTo>
                    <a:pt x="73" y="422"/>
                  </a:lnTo>
                  <a:lnTo>
                    <a:pt x="125" y="359"/>
                  </a:lnTo>
                  <a:lnTo>
                    <a:pt x="177" y="282"/>
                  </a:lnTo>
                  <a:lnTo>
                    <a:pt x="228" y="204"/>
                  </a:lnTo>
                  <a:lnTo>
                    <a:pt x="270" y="125"/>
                  </a:lnTo>
                  <a:lnTo>
                    <a:pt x="280" y="89"/>
                  </a:lnTo>
                  <a:lnTo>
                    <a:pt x="290" y="63"/>
                  </a:lnTo>
                  <a:lnTo>
                    <a:pt x="297" y="37"/>
                  </a:lnTo>
                  <a:lnTo>
                    <a:pt x="297" y="16"/>
                  </a:lnTo>
                  <a:lnTo>
                    <a:pt x="285" y="5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2" name="Group 757"/>
            <p:cNvGrpSpPr/>
            <p:nvPr/>
          </p:nvGrpSpPr>
          <p:grpSpPr>
            <a:xfrm>
              <a:off x="-558720" y="77760"/>
              <a:ext cx="858240" cy="717120"/>
              <a:chOff x="-558720" y="77760"/>
              <a:chExt cx="858240" cy="717120"/>
            </a:xfrm>
          </p:grpSpPr>
          <p:grpSp>
            <p:nvGrpSpPr>
              <p:cNvPr id="2523" name="Group 758"/>
              <p:cNvGrpSpPr/>
              <p:nvPr/>
            </p:nvGrpSpPr>
            <p:grpSpPr>
              <a:xfrm>
                <a:off x="-558720" y="77760"/>
                <a:ext cx="825480" cy="717120"/>
                <a:chOff x="-558720" y="77760"/>
                <a:chExt cx="825480" cy="717120"/>
              </a:xfrm>
            </p:grpSpPr>
            <p:sp>
              <p:nvSpPr>
                <p:cNvPr id="2524" name="Freeform 1004"/>
                <p:cNvSpPr/>
                <p:nvPr/>
              </p:nvSpPr>
              <p:spPr>
                <a:xfrm flipH="1" rot="6883200">
                  <a:off x="-358200" y="96120"/>
                  <a:ext cx="424440" cy="713520"/>
                </a:xfrm>
                <a:custGeom>
                  <a:avLst/>
                  <a:gdLst>
                    <a:gd name="textAreaLeft" fmla="*/ 360 w 424440"/>
                    <a:gd name="textAreaRight" fmla="*/ 425160 w 424440"/>
                    <a:gd name="textAreaTop" fmla="*/ 0 h 713520"/>
                    <a:gd name="textAreaBottom" fmla="*/ 713880 h 71352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5" name="Freeform 1005"/>
                <p:cNvSpPr/>
                <p:nvPr/>
              </p:nvSpPr>
              <p:spPr>
                <a:xfrm flipH="1" rot="6883200">
                  <a:off x="-295560" y="278640"/>
                  <a:ext cx="359640" cy="338760"/>
                </a:xfrm>
                <a:custGeom>
                  <a:avLst/>
                  <a:gdLst>
                    <a:gd name="textAreaLeft" fmla="*/ 360 w 359640"/>
                    <a:gd name="textAreaRight" fmla="*/ 360360 w 359640"/>
                    <a:gd name="textAreaTop" fmla="*/ 0 h 338760"/>
                    <a:gd name="textAreaBottom" fmla="*/ 339120 h 33876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6" name="Freeform 1006"/>
                <p:cNvSpPr/>
                <p:nvPr/>
              </p:nvSpPr>
              <p:spPr>
                <a:xfrm flipH="1" rot="6883200">
                  <a:off x="-322920" y="192960"/>
                  <a:ext cx="523800" cy="421200"/>
                </a:xfrm>
                <a:custGeom>
                  <a:avLst/>
                  <a:gdLst>
                    <a:gd name="textAreaLeft" fmla="*/ 360 w 523800"/>
                    <a:gd name="textAreaRight" fmla="*/ 524520 w 523800"/>
                    <a:gd name="textAreaTop" fmla="*/ 0 h 421200"/>
                    <a:gd name="textAreaBottom" fmla="*/ 421560 h 42120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7" name="Freeform 1007"/>
                <p:cNvSpPr/>
                <p:nvPr/>
              </p:nvSpPr>
              <p:spPr>
                <a:xfrm flipH="1" rot="6883200">
                  <a:off x="-232920" y="473400"/>
                  <a:ext cx="170280" cy="41760"/>
                </a:xfrm>
                <a:custGeom>
                  <a:avLst/>
                  <a:gdLst>
                    <a:gd name="textAreaLeft" fmla="*/ 360 w 170280"/>
                    <a:gd name="textAreaRight" fmla="*/ 171000 w 17028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8" name="Freeform 1008"/>
                <p:cNvSpPr/>
                <p:nvPr/>
              </p:nvSpPr>
              <p:spPr>
                <a:xfrm flipH="1" rot="6883200">
                  <a:off x="-122040" y="419400"/>
                  <a:ext cx="219960" cy="156240"/>
                </a:xfrm>
                <a:custGeom>
                  <a:avLst/>
                  <a:gdLst>
                    <a:gd name="textAreaLeft" fmla="*/ 360 w 219960"/>
                    <a:gd name="textAreaRight" fmla="*/ 220680 w 219960"/>
                    <a:gd name="textAreaTop" fmla="*/ 0 h 156240"/>
                    <a:gd name="textAreaBottom" fmla="*/ 156600 h 15624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9" name="Freeform 1009"/>
                <p:cNvSpPr/>
                <p:nvPr/>
              </p:nvSpPr>
              <p:spPr>
                <a:xfrm flipH="1" rot="6883200">
                  <a:off x="-49680" y="389880"/>
                  <a:ext cx="242640" cy="205920"/>
                </a:xfrm>
                <a:custGeom>
                  <a:avLst/>
                  <a:gdLst>
                    <a:gd name="textAreaLeft" fmla="*/ 360 w 242640"/>
                    <a:gd name="textAreaRight" fmla="*/ 243360 w 24264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0" name="Freeform 1010"/>
                <p:cNvSpPr/>
                <p:nvPr/>
              </p:nvSpPr>
              <p:spPr>
                <a:xfrm flipH="1" rot="6883200">
                  <a:off x="-274320" y="497160"/>
                  <a:ext cx="100800" cy="26280"/>
                </a:xfrm>
                <a:custGeom>
                  <a:avLst/>
                  <a:gdLst>
                    <a:gd name="textAreaLeft" fmla="*/ -360 w 100800"/>
                    <a:gd name="textAreaRight" fmla="*/ 100800 w 10080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1" name="Freeform 1011"/>
                <p:cNvSpPr/>
                <p:nvPr/>
              </p:nvSpPr>
              <p:spPr>
                <a:xfrm flipH="1" rot="6883200">
                  <a:off x="-319680" y="524880"/>
                  <a:ext cx="52560" cy="10440"/>
                </a:xfrm>
                <a:custGeom>
                  <a:avLst/>
                  <a:gdLst>
                    <a:gd name="textAreaLeft" fmla="*/ -360 w 52560"/>
                    <a:gd name="textAreaRight" fmla="*/ 52560 w 5256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2" name="Freeform 1012"/>
                <p:cNvSpPr/>
                <p:nvPr/>
              </p:nvSpPr>
              <p:spPr>
                <a:xfrm flipH="1" rot="6883200">
                  <a:off x="-333000" y="463320"/>
                  <a:ext cx="38520" cy="73440"/>
                </a:xfrm>
                <a:custGeom>
                  <a:avLst/>
                  <a:gdLst>
                    <a:gd name="textAreaLeft" fmla="*/ 360 w 38520"/>
                    <a:gd name="textAreaRight" fmla="*/ 39240 w 38520"/>
                    <a:gd name="textAreaTop" fmla="*/ 0 h 73440"/>
                    <a:gd name="textAreaBottom" fmla="*/ 73800 h 7344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3" name="Freeform 1013"/>
                <p:cNvSpPr/>
                <p:nvPr/>
              </p:nvSpPr>
              <p:spPr>
                <a:xfrm flipH="1" rot="6883200">
                  <a:off x="-321120" y="395280"/>
                  <a:ext cx="67320" cy="134640"/>
                </a:xfrm>
                <a:custGeom>
                  <a:avLst/>
                  <a:gdLst>
                    <a:gd name="textAreaLeft" fmla="*/ 360 w 67320"/>
                    <a:gd name="textAreaRight" fmla="*/ 68040 w 67320"/>
                    <a:gd name="textAreaTop" fmla="*/ 0 h 134640"/>
                    <a:gd name="textAreaBottom" fmla="*/ 135000 h 13464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4" name="Freeform 1014"/>
                <p:cNvSpPr/>
                <p:nvPr/>
              </p:nvSpPr>
              <p:spPr>
                <a:xfrm flipH="1" rot="6883200">
                  <a:off x="-303120" y="288000"/>
                  <a:ext cx="107640" cy="237240"/>
                </a:xfrm>
                <a:custGeom>
                  <a:avLst/>
                  <a:gdLst>
                    <a:gd name="textAreaLeft" fmla="*/ 360 w 107640"/>
                    <a:gd name="textAreaRight" fmla="*/ 108360 w 107640"/>
                    <a:gd name="textAreaTop" fmla="*/ 0 h 237240"/>
                    <a:gd name="textAreaBottom" fmla="*/ 237600 h 23724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5" name="Freeform 1015"/>
                <p:cNvSpPr/>
                <p:nvPr/>
              </p:nvSpPr>
              <p:spPr>
                <a:xfrm flipH="1" rot="6883200">
                  <a:off x="-270360" y="171000"/>
                  <a:ext cx="115920" cy="346680"/>
                </a:xfrm>
                <a:custGeom>
                  <a:avLst/>
                  <a:gdLst>
                    <a:gd name="textAreaLeft" fmla="*/ -360 w 115920"/>
                    <a:gd name="textAreaRight" fmla="*/ 115920 w 115920"/>
                    <a:gd name="textAreaTop" fmla="*/ 0 h 346680"/>
                    <a:gd name="textAreaBottom" fmla="*/ 347040 h 34668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6" name="Freeform 1016"/>
                <p:cNvSpPr/>
                <p:nvPr/>
              </p:nvSpPr>
              <p:spPr>
                <a:xfrm flipH="1" rot="6883200">
                  <a:off x="-322200" y="231120"/>
                  <a:ext cx="12600" cy="138240"/>
                </a:xfrm>
                <a:custGeom>
                  <a:avLst/>
                  <a:gdLst>
                    <a:gd name="textAreaLeft" fmla="*/ 360 w 12600"/>
                    <a:gd name="textAreaRight" fmla="*/ 13320 w 1260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7" name="Freeform 1017"/>
                <p:cNvSpPr/>
                <p:nvPr/>
              </p:nvSpPr>
              <p:spPr>
                <a:xfrm flipH="1" rot="6883200">
                  <a:off x="-210240" y="69120"/>
                  <a:ext cx="79920" cy="426960"/>
                </a:xfrm>
                <a:custGeom>
                  <a:avLst/>
                  <a:gdLst>
                    <a:gd name="textAreaLeft" fmla="*/ -360 w 79920"/>
                    <a:gd name="textAreaRight" fmla="*/ 79920 w 79920"/>
                    <a:gd name="textAreaTop" fmla="*/ 0 h 426960"/>
                    <a:gd name="textAreaBottom" fmla="*/ 427320 h 42696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8" name="Freeform 1018"/>
                <p:cNvSpPr/>
                <p:nvPr/>
              </p:nvSpPr>
              <p:spPr>
                <a:xfrm flipH="1" rot="6883200">
                  <a:off x="-238320" y="318960"/>
                  <a:ext cx="59400" cy="67680"/>
                </a:xfrm>
                <a:custGeom>
                  <a:avLst/>
                  <a:gdLst>
                    <a:gd name="textAreaLeft" fmla="*/ 0 w 59400"/>
                    <a:gd name="textAreaRight" fmla="*/ 59400 w 594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9" name="Freeform 1019"/>
                <p:cNvSpPr/>
                <p:nvPr/>
              </p:nvSpPr>
              <p:spPr>
                <a:xfrm flipH="1" rot="6883200">
                  <a:off x="-336600" y="333720"/>
                  <a:ext cx="28800" cy="108720"/>
                </a:xfrm>
                <a:custGeom>
                  <a:avLst/>
                  <a:gdLst>
                    <a:gd name="textAreaLeft" fmla="*/ -360 w 28800"/>
                    <a:gd name="textAreaRight" fmla="*/ 28800 w 28800"/>
                    <a:gd name="textAreaTop" fmla="*/ 0 h 108720"/>
                    <a:gd name="textAreaBottom" fmla="*/ 109080 h 10872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0" name="Freeform 1020"/>
                <p:cNvSpPr/>
                <p:nvPr/>
              </p:nvSpPr>
              <p:spPr>
                <a:xfrm flipH="1" rot="6883200">
                  <a:off x="-189000" y="501840"/>
                  <a:ext cx="62640" cy="23400"/>
                </a:xfrm>
                <a:custGeom>
                  <a:avLst/>
                  <a:gdLst>
                    <a:gd name="textAreaLeft" fmla="*/ -360 w 62640"/>
                    <a:gd name="textAreaRight" fmla="*/ 62640 w 6264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1" name="Freeform 1021"/>
                <p:cNvSpPr/>
                <p:nvPr/>
              </p:nvSpPr>
              <p:spPr>
                <a:xfrm flipH="1" rot="6883200">
                  <a:off x="-148680" y="526320"/>
                  <a:ext cx="38520" cy="42120"/>
                </a:xfrm>
                <a:custGeom>
                  <a:avLst/>
                  <a:gdLst>
                    <a:gd name="textAreaLeft" fmla="*/ 360 w 38520"/>
                    <a:gd name="textAreaRight" fmla="*/ 39240 w 38520"/>
                    <a:gd name="textAreaTop" fmla="*/ 0 h 42120"/>
                    <a:gd name="textAreaBottom" fmla="*/ 42480 h 4212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2" name="Freeform 1022"/>
                <p:cNvSpPr/>
                <p:nvPr/>
              </p:nvSpPr>
              <p:spPr>
                <a:xfrm flipH="1" rot="6883200">
                  <a:off x="-282960" y="344160"/>
                  <a:ext cx="12600" cy="25920"/>
                </a:xfrm>
                <a:custGeom>
                  <a:avLst/>
                  <a:gdLst>
                    <a:gd name="textAreaLeft" fmla="*/ 360 w 12600"/>
                    <a:gd name="textAreaRight" fmla="*/ 13320 w 1260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3" name="Freeform 1023"/>
                <p:cNvSpPr/>
                <p:nvPr/>
              </p:nvSpPr>
              <p:spPr>
                <a:xfrm flipH="1" rot="6883200">
                  <a:off x="-78120" y="528480"/>
                  <a:ext cx="11160" cy="15120"/>
                </a:xfrm>
                <a:custGeom>
                  <a:avLst/>
                  <a:gdLst>
                    <a:gd name="textAreaLeft" fmla="*/ 0 w 11160"/>
                    <a:gd name="textAreaRight" fmla="*/ 11160 w 1116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4" name="Freeform 1024"/>
                <p:cNvSpPr/>
                <p:nvPr/>
              </p:nvSpPr>
              <p:spPr>
                <a:xfrm flipH="1" rot="6883200">
                  <a:off x="19800" y="523800"/>
                  <a:ext cx="12600" cy="2052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5" name="Freeform 1025"/>
                <p:cNvSpPr/>
                <p:nvPr/>
              </p:nvSpPr>
              <p:spPr>
                <a:xfrm flipH="1" rot="6883200">
                  <a:off x="-212400" y="561960"/>
                  <a:ext cx="9720" cy="9360"/>
                </a:xfrm>
                <a:custGeom>
                  <a:avLst/>
                  <a:gdLst>
                    <a:gd name="textAreaLeft" fmla="*/ 360 w 9720"/>
                    <a:gd name="textAreaRight" fmla="*/ 10440 w 972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6" name="Group 781"/>
              <p:cNvGrpSpPr/>
              <p:nvPr/>
            </p:nvGrpSpPr>
            <p:grpSpPr>
              <a:xfrm>
                <a:off x="235080" y="236160"/>
                <a:ext cx="64440" cy="51840"/>
                <a:chOff x="235080" y="236160"/>
                <a:chExt cx="64440" cy="51840"/>
              </a:xfrm>
            </p:grpSpPr>
            <p:sp>
              <p:nvSpPr>
                <p:cNvPr id="2547" name="Freeform 1027"/>
                <p:cNvSpPr/>
                <p:nvPr/>
              </p:nvSpPr>
              <p:spPr>
                <a:xfrm flipH="1" rot="11248200">
                  <a:off x="237240" y="239400"/>
                  <a:ext cx="59040" cy="44640"/>
                </a:xfrm>
                <a:custGeom>
                  <a:avLst/>
                  <a:gdLst>
                    <a:gd name="textAreaLeft" fmla="*/ 360 w 59040"/>
                    <a:gd name="textAreaRight" fmla="*/ 59760 w 5904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8" name="Freeform 1028"/>
                <p:cNvSpPr/>
                <p:nvPr/>
              </p:nvSpPr>
              <p:spPr>
                <a:xfrm flipH="1" rot="14895000">
                  <a:off x="244440" y="241200"/>
                  <a:ext cx="22680" cy="36000"/>
                </a:xfrm>
                <a:custGeom>
                  <a:avLst/>
                  <a:gdLst>
                    <a:gd name="textAreaLeft" fmla="*/ -360 w 22680"/>
                    <a:gd name="textAreaRight" fmla="*/ 22680 w 22680"/>
                    <a:gd name="textAreaTop" fmla="*/ 0 h 36000"/>
                    <a:gd name="textAreaBottom" fmla="*/ 36360 h 3600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9" name="Group 784"/>
            <p:cNvGrpSpPr/>
            <p:nvPr/>
          </p:nvGrpSpPr>
          <p:grpSpPr>
            <a:xfrm>
              <a:off x="45360" y="200520"/>
              <a:ext cx="914760" cy="834480"/>
              <a:chOff x="45360" y="200520"/>
              <a:chExt cx="914760" cy="834480"/>
            </a:xfrm>
          </p:grpSpPr>
          <p:grpSp>
            <p:nvGrpSpPr>
              <p:cNvPr id="2550" name="Group 785"/>
              <p:cNvGrpSpPr/>
              <p:nvPr/>
            </p:nvGrpSpPr>
            <p:grpSpPr>
              <a:xfrm>
                <a:off x="45360" y="200520"/>
                <a:ext cx="914760" cy="834480"/>
                <a:chOff x="45360" y="200520"/>
                <a:chExt cx="914760" cy="834480"/>
              </a:xfrm>
            </p:grpSpPr>
            <p:sp>
              <p:nvSpPr>
                <p:cNvPr id="2551" name="Freeform 1031"/>
                <p:cNvSpPr/>
                <p:nvPr/>
              </p:nvSpPr>
              <p:spPr>
                <a:xfrm flipH="1" rot="2120400">
                  <a:off x="208080" y="435960"/>
                  <a:ext cx="687600" cy="440280"/>
                </a:xfrm>
                <a:custGeom>
                  <a:avLst/>
                  <a:gdLst>
                    <a:gd name="textAreaLeft" fmla="*/ 360 w 687600"/>
                    <a:gd name="textAreaRight" fmla="*/ 688320 w 687600"/>
                    <a:gd name="textAreaTop" fmla="*/ 0 h 440280"/>
                    <a:gd name="textAreaBottom" fmla="*/ 440640 h 44028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2" name="Freeform 1032"/>
                <p:cNvSpPr/>
                <p:nvPr/>
              </p:nvSpPr>
              <p:spPr>
                <a:xfrm flipH="1" rot="2120400">
                  <a:off x="247320" y="522360"/>
                  <a:ext cx="582840" cy="208800"/>
                </a:xfrm>
                <a:custGeom>
                  <a:avLst/>
                  <a:gdLst>
                    <a:gd name="textAreaLeft" fmla="*/ -360 w 582840"/>
                    <a:gd name="textAreaRight" fmla="*/ 582840 w 582840"/>
                    <a:gd name="textAreaTop" fmla="*/ 0 h 208800"/>
                    <a:gd name="textAreaBottom" fmla="*/ 209160 h 20880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3" name="Freeform 1033"/>
                <p:cNvSpPr/>
                <p:nvPr/>
              </p:nvSpPr>
              <p:spPr>
                <a:xfrm flipH="1" rot="2120400">
                  <a:off x="42120" y="421920"/>
                  <a:ext cx="848880" cy="260280"/>
                </a:xfrm>
                <a:custGeom>
                  <a:avLst/>
                  <a:gdLst>
                    <a:gd name="textAreaLeft" fmla="*/ 360 w 848880"/>
                    <a:gd name="textAreaRight" fmla="*/ 849600 w 84888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4" name="Freeform 1034"/>
                <p:cNvSpPr/>
                <p:nvPr/>
              </p:nvSpPr>
              <p:spPr>
                <a:xfrm flipH="1" rot="2120400">
                  <a:off x="470880" y="671760"/>
                  <a:ext cx="275760" cy="25560"/>
                </a:xfrm>
                <a:custGeom>
                  <a:avLst/>
                  <a:gdLst>
                    <a:gd name="textAreaLeft" fmla="*/ 360 w 275760"/>
                    <a:gd name="textAreaRight" fmla="*/ 276480 w 27576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5" name="Freeform 1035"/>
                <p:cNvSpPr/>
                <p:nvPr/>
              </p:nvSpPr>
              <p:spPr>
                <a:xfrm flipH="1" rot="2120400">
                  <a:off x="403920" y="523440"/>
                  <a:ext cx="356760" cy="96120"/>
                </a:xfrm>
                <a:custGeom>
                  <a:avLst/>
                  <a:gdLst>
                    <a:gd name="textAreaLeft" fmla="*/ -360 w 356760"/>
                    <a:gd name="textAreaRight" fmla="*/ 356760 w 356760"/>
                    <a:gd name="textAreaTop" fmla="*/ 0 h 96120"/>
                    <a:gd name="textAreaBottom" fmla="*/ 96480 h 9612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6" name="Freeform 1036"/>
                <p:cNvSpPr/>
                <p:nvPr/>
              </p:nvSpPr>
              <p:spPr>
                <a:xfrm flipH="1" rot="2120400">
                  <a:off x="358560" y="432720"/>
                  <a:ext cx="393480" cy="127080"/>
                </a:xfrm>
                <a:custGeom>
                  <a:avLst/>
                  <a:gdLst>
                    <a:gd name="textAreaLeft" fmla="*/ -360 w 393480"/>
                    <a:gd name="textAreaRight" fmla="*/ 393480 w 393480"/>
                    <a:gd name="textAreaTop" fmla="*/ 0 h 127080"/>
                    <a:gd name="textAreaBottom" fmla="*/ 127440 h 12708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7" name="Freeform 1037"/>
                <p:cNvSpPr/>
                <p:nvPr/>
              </p:nvSpPr>
              <p:spPr>
                <a:xfrm flipH="1" rot="2120400">
                  <a:off x="566280" y="751320"/>
                  <a:ext cx="163440" cy="1620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8" name="Freeform 1038"/>
                <p:cNvSpPr/>
                <p:nvPr/>
              </p:nvSpPr>
              <p:spPr>
                <a:xfrm flipH="1" rot="2120400">
                  <a:off x="646560" y="827280"/>
                  <a:ext cx="85320" cy="684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9" name="Freeform 1039"/>
                <p:cNvSpPr/>
                <p:nvPr/>
              </p:nvSpPr>
              <p:spPr>
                <a:xfrm flipH="1" rot="2120400">
                  <a:off x="622440" y="806400"/>
                  <a:ext cx="62280" cy="45000"/>
                </a:xfrm>
                <a:custGeom>
                  <a:avLst/>
                  <a:gdLst>
                    <a:gd name="textAreaLeft" fmla="*/ -360 w 62280"/>
                    <a:gd name="textAreaRight" fmla="*/ 62280 w 6228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0" name="Freeform 1040"/>
                <p:cNvSpPr/>
                <p:nvPr/>
              </p:nvSpPr>
              <p:spPr>
                <a:xfrm flipH="1" rot="2120400">
                  <a:off x="542520" y="741240"/>
                  <a:ext cx="109080" cy="83520"/>
                </a:xfrm>
                <a:custGeom>
                  <a:avLst/>
                  <a:gdLst>
                    <a:gd name="textAreaLeft" fmla="*/ -360 w 109080"/>
                    <a:gd name="textAreaRight" fmla="*/ 109080 w 109080"/>
                    <a:gd name="textAreaTop" fmla="*/ 0 h 83520"/>
                    <a:gd name="textAreaBottom" fmla="*/ 83880 h 8352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1" name="Freeform 1041"/>
                <p:cNvSpPr/>
                <p:nvPr/>
              </p:nvSpPr>
              <p:spPr>
                <a:xfrm flipH="1" rot="2120400">
                  <a:off x="425160" y="640440"/>
                  <a:ext cx="174960" cy="146520"/>
                </a:xfrm>
                <a:custGeom>
                  <a:avLst/>
                  <a:gdLst>
                    <a:gd name="textAreaLeft" fmla="*/ 360 w 174960"/>
                    <a:gd name="textAreaRight" fmla="*/ 175680 w 17496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2" name="Freeform 1042"/>
                <p:cNvSpPr/>
                <p:nvPr/>
              </p:nvSpPr>
              <p:spPr>
                <a:xfrm flipH="1" rot="2120400">
                  <a:off x="327600" y="536040"/>
                  <a:ext cx="187560" cy="213840"/>
                </a:xfrm>
                <a:custGeom>
                  <a:avLst/>
                  <a:gdLst>
                    <a:gd name="textAreaLeft" fmla="*/ -360 w 187560"/>
                    <a:gd name="textAreaRight" fmla="*/ 187560 w 187560"/>
                    <a:gd name="textAreaTop" fmla="*/ 0 h 213840"/>
                    <a:gd name="textAreaBottom" fmla="*/ 214200 h 21384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3" name="Freeform 1043"/>
                <p:cNvSpPr/>
                <p:nvPr/>
              </p:nvSpPr>
              <p:spPr>
                <a:xfrm flipH="1" rot="2120400">
                  <a:off x="375480" y="659880"/>
                  <a:ext cx="20520" cy="85320"/>
                </a:xfrm>
                <a:custGeom>
                  <a:avLst/>
                  <a:gdLst>
                    <a:gd name="textAreaLeft" fmla="*/ -360 w 20520"/>
                    <a:gd name="textAreaRight" fmla="*/ 20520 w 2052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4" name="Freeform 1044"/>
                <p:cNvSpPr/>
                <p:nvPr/>
              </p:nvSpPr>
              <p:spPr>
                <a:xfrm flipH="1" rot="2120400">
                  <a:off x="262440" y="435240"/>
                  <a:ext cx="129960" cy="263520"/>
                </a:xfrm>
                <a:custGeom>
                  <a:avLst/>
                  <a:gdLst>
                    <a:gd name="textAreaLeft" fmla="*/ -360 w 129960"/>
                    <a:gd name="textAreaRight" fmla="*/ 129960 w 12996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5" name="Freeform 1045"/>
                <p:cNvSpPr/>
                <p:nvPr/>
              </p:nvSpPr>
              <p:spPr>
                <a:xfrm flipH="1" rot="2120400">
                  <a:off x="383040" y="624600"/>
                  <a:ext cx="96120" cy="41400"/>
                </a:xfrm>
                <a:custGeom>
                  <a:avLst/>
                  <a:gdLst>
                    <a:gd name="textAreaLeft" fmla="*/ -360 w 96120"/>
                    <a:gd name="textAreaRight" fmla="*/ 96120 w 9612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6" name="Freeform 1046"/>
                <p:cNvSpPr/>
                <p:nvPr/>
              </p:nvSpPr>
              <p:spPr>
                <a:xfrm flipH="1" rot="2120400">
                  <a:off x="481320" y="730440"/>
                  <a:ext cx="46440" cy="67320"/>
                </a:xfrm>
                <a:custGeom>
                  <a:avLst/>
                  <a:gdLst>
                    <a:gd name="textAreaLeft" fmla="*/ -360 w 46440"/>
                    <a:gd name="textAreaRight" fmla="*/ 46440 w 46440"/>
                    <a:gd name="textAreaTop" fmla="*/ 0 h 67320"/>
                    <a:gd name="textAreaBottom" fmla="*/ 67680 h 6732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7" name="Freeform 1047"/>
                <p:cNvSpPr/>
                <p:nvPr/>
              </p:nvSpPr>
              <p:spPr>
                <a:xfrm flipH="1" rot="2120400">
                  <a:off x="586080" y="698040"/>
                  <a:ext cx="101520" cy="14400"/>
                </a:xfrm>
                <a:custGeom>
                  <a:avLst/>
                  <a:gdLst>
                    <a:gd name="textAreaLeft" fmla="*/ 360 w 101520"/>
                    <a:gd name="textAreaRight" fmla="*/ 102240 w 1015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8" name="Freeform 1048"/>
                <p:cNvSpPr/>
                <p:nvPr/>
              </p:nvSpPr>
              <p:spPr>
                <a:xfrm flipH="1" rot="2120400">
                  <a:off x="645120" y="690120"/>
                  <a:ext cx="62280" cy="25560"/>
                </a:xfrm>
                <a:custGeom>
                  <a:avLst/>
                  <a:gdLst>
                    <a:gd name="textAreaLeft" fmla="*/ -360 w 62280"/>
                    <a:gd name="textAreaRight" fmla="*/ 62280 w 622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9" name="Freeform 1049"/>
                <p:cNvSpPr/>
                <p:nvPr/>
              </p:nvSpPr>
              <p:spPr>
                <a:xfrm flipH="1" rot="2120400">
                  <a:off x="442800" y="698040"/>
                  <a:ext cx="20520" cy="15840"/>
                </a:xfrm>
                <a:custGeom>
                  <a:avLst/>
                  <a:gdLst>
                    <a:gd name="textAreaLeft" fmla="*/ -360 w 20520"/>
                    <a:gd name="textAreaRight" fmla="*/ 20520 w 2052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0" name="Freeform 1050"/>
                <p:cNvSpPr/>
                <p:nvPr/>
              </p:nvSpPr>
              <p:spPr>
                <a:xfrm flipH="1" rot="2120400">
                  <a:off x="637920" y="641880"/>
                  <a:ext cx="18000" cy="9360"/>
                </a:xfrm>
                <a:custGeom>
                  <a:avLst/>
                  <a:gdLst>
                    <a:gd name="textAreaLeft" fmla="*/ 360 w 18000"/>
                    <a:gd name="textAreaRight" fmla="*/ 18720 w 1800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1" name="Freeform 1051"/>
                <p:cNvSpPr/>
                <p:nvPr/>
              </p:nvSpPr>
              <p:spPr>
                <a:xfrm flipH="1" rot="2120400">
                  <a:off x="612000" y="555840"/>
                  <a:ext cx="20520" cy="12960"/>
                </a:xfrm>
                <a:custGeom>
                  <a:avLst/>
                  <a:gdLst>
                    <a:gd name="textAreaLeft" fmla="*/ -360 w 20520"/>
                    <a:gd name="textAreaRight" fmla="*/ 20520 w 2052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2" name="Freeform 1052"/>
                <p:cNvSpPr/>
                <p:nvPr/>
              </p:nvSpPr>
              <p:spPr>
                <a:xfrm flipH="1" rot="2120400">
                  <a:off x="711360" y="777960"/>
                  <a:ext cx="15840" cy="5760"/>
                </a:xfrm>
                <a:custGeom>
                  <a:avLst/>
                  <a:gdLst>
                    <a:gd name="textAreaLeft" fmla="*/ 360 w 15840"/>
                    <a:gd name="textAreaRight" fmla="*/ 16560 w 1584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3" name="Group 808"/>
              <p:cNvGrpSpPr/>
              <p:nvPr/>
            </p:nvGrpSpPr>
            <p:grpSpPr>
              <a:xfrm>
                <a:off x="217080" y="261720"/>
                <a:ext cx="80280" cy="56880"/>
                <a:chOff x="217080" y="261720"/>
                <a:chExt cx="80280" cy="56880"/>
              </a:xfrm>
            </p:grpSpPr>
            <p:sp>
              <p:nvSpPr>
                <p:cNvPr id="2574" name="Freeform 1054"/>
                <p:cNvSpPr/>
                <p:nvPr/>
              </p:nvSpPr>
              <p:spPr>
                <a:xfrm flipH="1" rot="6484800">
                  <a:off x="238680" y="253440"/>
                  <a:ext cx="36360" cy="72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5" name="Freeform 1055"/>
                <p:cNvSpPr/>
                <p:nvPr/>
              </p:nvSpPr>
              <p:spPr>
                <a:xfrm flipH="1" rot="10131600">
                  <a:off x="234720" y="284760"/>
                  <a:ext cx="36720" cy="22320"/>
                </a:xfrm>
                <a:custGeom>
                  <a:avLst/>
                  <a:gdLst>
                    <a:gd name="textAreaLeft" fmla="*/ 360 w 36720"/>
                    <a:gd name="textAreaRight" fmla="*/ 37440 w 36720"/>
                    <a:gd name="textAreaTop" fmla="*/ 0 h 22320"/>
                    <a:gd name="textAreaBottom" fmla="*/ 22320 h 2232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6" name="Group 811"/>
            <p:cNvGrpSpPr/>
            <p:nvPr/>
          </p:nvGrpSpPr>
          <p:grpSpPr>
            <a:xfrm>
              <a:off x="13680" y="-437760"/>
              <a:ext cx="1298880" cy="972720"/>
              <a:chOff x="13680" y="-437760"/>
              <a:chExt cx="1298880" cy="972720"/>
            </a:xfrm>
          </p:grpSpPr>
          <p:grpSp>
            <p:nvGrpSpPr>
              <p:cNvPr id="2577" name="Group 812"/>
              <p:cNvGrpSpPr/>
              <p:nvPr/>
            </p:nvGrpSpPr>
            <p:grpSpPr>
              <a:xfrm>
                <a:off x="13680" y="-437760"/>
                <a:ext cx="774360" cy="784080"/>
                <a:chOff x="13680" y="-437760"/>
                <a:chExt cx="774360" cy="784080"/>
              </a:xfrm>
            </p:grpSpPr>
            <p:grpSp>
              <p:nvGrpSpPr>
                <p:cNvPr id="2578" name="Group 813"/>
                <p:cNvGrpSpPr/>
                <p:nvPr/>
              </p:nvGrpSpPr>
              <p:grpSpPr>
                <a:xfrm>
                  <a:off x="13680" y="-437760"/>
                  <a:ext cx="774360" cy="732240"/>
                  <a:chOff x="13680" y="-437760"/>
                  <a:chExt cx="774360" cy="732240"/>
                </a:xfrm>
              </p:grpSpPr>
              <p:sp>
                <p:nvSpPr>
                  <p:cNvPr id="2579" name="Freeform 1059"/>
                  <p:cNvSpPr/>
                  <p:nvPr/>
                </p:nvSpPr>
                <p:spPr>
                  <a:xfrm rot="7164000">
                    <a:off x="205560" y="-437760"/>
                    <a:ext cx="390240" cy="668880"/>
                  </a:xfrm>
                  <a:custGeom>
                    <a:avLst/>
                    <a:gdLst>
                      <a:gd name="textAreaLeft" fmla="*/ 0 w 390240"/>
                      <a:gd name="textAreaRight" fmla="*/ 390600 w 390240"/>
                      <a:gd name="textAreaTop" fmla="*/ 0 h 668880"/>
                      <a:gd name="textAreaBottom" fmla="*/ 669240 h 668880"/>
                    </a:gdLst>
                    <a:ahLst/>
                    <a:rect l="textAreaLeft" t="textAreaTop" r="textAreaRight" b="textAreaBottom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0" name="Freeform 1060"/>
                  <p:cNvSpPr/>
                  <p:nvPr/>
                </p:nvSpPr>
                <p:spPr>
                  <a:xfrm rot="7164000">
                    <a:off x="249120" y="-236160"/>
                    <a:ext cx="330840" cy="317880"/>
                  </a:xfrm>
                  <a:custGeom>
                    <a:avLst/>
                    <a:gdLst>
                      <a:gd name="textAreaLeft" fmla="*/ 0 w 330840"/>
                      <a:gd name="textAreaRight" fmla="*/ 331200 w 330840"/>
                      <a:gd name="textAreaTop" fmla="*/ 0 h 317880"/>
                      <a:gd name="textAreaBottom" fmla="*/ 318240 h 317880"/>
                    </a:gdLst>
                    <a:ahLst/>
                    <a:rect l="textAreaLeft" t="textAreaTop" r="textAreaRight" b="textAreaBottom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1" name="Freeform 1061"/>
                  <p:cNvSpPr/>
                  <p:nvPr/>
                </p:nvSpPr>
                <p:spPr>
                  <a:xfrm rot="7164000">
                    <a:off x="171000" y="-209520"/>
                    <a:ext cx="481680" cy="394920"/>
                  </a:xfrm>
                  <a:custGeom>
                    <a:avLst/>
                    <a:gdLst>
                      <a:gd name="textAreaLeft" fmla="*/ 0 w 481680"/>
                      <a:gd name="textAreaRight" fmla="*/ 482040 w 481680"/>
                      <a:gd name="textAreaTop" fmla="*/ 0 h 394920"/>
                      <a:gd name="textAreaBottom" fmla="*/ 395280 h 394920"/>
                    </a:gdLst>
                    <a:ahLst/>
                    <a:rect l="textAreaLeft" t="textAreaTop" r="textAreaRight" b="textAreaBottom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2" name="Freeform 1062"/>
                  <p:cNvSpPr/>
                  <p:nvPr/>
                </p:nvSpPr>
                <p:spPr>
                  <a:xfrm rot="7164000">
                    <a:off x="353160" y="-146160"/>
                    <a:ext cx="156600" cy="39240"/>
                  </a:xfrm>
                  <a:custGeom>
                    <a:avLst/>
                    <a:gdLst>
                      <a:gd name="textAreaLeft" fmla="*/ 0 w 156600"/>
                      <a:gd name="textAreaRight" fmla="*/ 156960 w 156600"/>
                      <a:gd name="textAreaTop" fmla="*/ 0 h 39240"/>
                      <a:gd name="textAreaBottom" fmla="*/ 39600 h 39240"/>
                    </a:gdLst>
                    <a:ahLst/>
                    <a:rect l="textAreaLeft" t="textAreaTop" r="textAreaRight" b="textAreaBottom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3" name="Freeform 1063"/>
                  <p:cNvSpPr/>
                  <p:nvPr/>
                </p:nvSpPr>
                <p:spPr>
                  <a:xfrm rot="7164000">
                    <a:off x="407880" y="-99720"/>
                    <a:ext cx="202320" cy="145800"/>
                  </a:xfrm>
                  <a:custGeom>
                    <a:avLst/>
                    <a:gdLst>
                      <a:gd name="textAreaLeft" fmla="*/ 0 w 202320"/>
                      <a:gd name="textAreaRight" fmla="*/ 202680 w 202320"/>
                      <a:gd name="textAreaTop" fmla="*/ 0 h 145800"/>
                      <a:gd name="textAreaBottom" fmla="*/ 146160 h 145800"/>
                    </a:gdLst>
                    <a:ahLst/>
                    <a:rect l="textAreaLeft" t="textAreaTop" r="textAreaRight" b="textAreaBottom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4" name="Freeform 1064"/>
                  <p:cNvSpPr/>
                  <p:nvPr/>
                </p:nvSpPr>
                <p:spPr>
                  <a:xfrm rot="7164000">
                    <a:off x="439920" y="-56880"/>
                    <a:ext cx="223200" cy="192960"/>
                  </a:xfrm>
                  <a:custGeom>
                    <a:avLst/>
                    <a:gdLst>
                      <a:gd name="textAreaLeft" fmla="*/ 0 w 223200"/>
                      <a:gd name="textAreaRight" fmla="*/ 223560 w 223200"/>
                      <a:gd name="textAreaTop" fmla="*/ 0 h 192960"/>
                      <a:gd name="textAreaBottom" fmla="*/ 193320 h 192960"/>
                    </a:gdLst>
                    <a:ahLst/>
                    <a:rect l="textAreaLeft" t="textAreaTop" r="textAreaRight" b="textAreaBottom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5" name="Freeform 1065"/>
                  <p:cNvSpPr/>
                  <p:nvPr/>
                </p:nvSpPr>
                <p:spPr>
                  <a:xfrm rot="7164000">
                    <a:off x="354240" y="-205200"/>
                    <a:ext cx="92880" cy="24840"/>
                  </a:xfrm>
                  <a:custGeom>
                    <a:avLst/>
                    <a:gdLst>
                      <a:gd name="textAreaLeft" fmla="*/ 0 w 92880"/>
                      <a:gd name="textAreaRight" fmla="*/ 93240 w 9288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6" name="Freeform 1066"/>
                  <p:cNvSpPr/>
                  <p:nvPr/>
                </p:nvSpPr>
                <p:spPr>
                  <a:xfrm rot="7164000">
                    <a:off x="353160" y="-259920"/>
                    <a:ext cx="48600" cy="9360"/>
                  </a:xfrm>
                  <a:custGeom>
                    <a:avLst/>
                    <a:gdLst>
                      <a:gd name="textAreaLeft" fmla="*/ 0 w 48600"/>
                      <a:gd name="textAreaRight" fmla="*/ 48960 w 4860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7" name="Freeform 1067"/>
                  <p:cNvSpPr/>
                  <p:nvPr/>
                </p:nvSpPr>
                <p:spPr>
                  <a:xfrm rot="7164000">
                    <a:off x="326160" y="-289080"/>
                    <a:ext cx="35280" cy="68400"/>
                  </a:xfrm>
                  <a:custGeom>
                    <a:avLst/>
                    <a:gdLst>
                      <a:gd name="textAreaLeft" fmla="*/ 0 w 35280"/>
                      <a:gd name="textAreaRight" fmla="*/ 35640 w 352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8" name="Freeform 1068"/>
                  <p:cNvSpPr/>
                  <p:nvPr/>
                </p:nvSpPr>
                <p:spPr>
                  <a:xfrm rot="7164000">
                    <a:off x="298800" y="-277920"/>
                    <a:ext cx="61920" cy="126720"/>
                  </a:xfrm>
                  <a:custGeom>
                    <a:avLst/>
                    <a:gdLst>
                      <a:gd name="textAreaLeft" fmla="*/ 0 w 61920"/>
                      <a:gd name="textAreaRight" fmla="*/ 62280 w 61920"/>
                      <a:gd name="textAreaTop" fmla="*/ 0 h 126720"/>
                      <a:gd name="textAreaBottom" fmla="*/ 127080 h 126720"/>
                    </a:gdLst>
                    <a:ahLst/>
                    <a:rect l="textAreaLeft" t="textAreaTop" r="textAreaRight" b="textAreaBottom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9" name="Freeform 1069"/>
                  <p:cNvSpPr/>
                  <p:nvPr/>
                </p:nvSpPr>
                <p:spPr>
                  <a:xfrm rot="7164000">
                    <a:off x="259560" y="-267120"/>
                    <a:ext cx="99000" cy="222480"/>
                  </a:xfrm>
                  <a:custGeom>
                    <a:avLst/>
                    <a:gdLst>
                      <a:gd name="textAreaLeft" fmla="*/ 0 w 99000"/>
                      <a:gd name="textAreaRight" fmla="*/ 99360 w 99000"/>
                      <a:gd name="textAreaTop" fmla="*/ 0 h 222480"/>
                      <a:gd name="textAreaBottom" fmla="*/ 222840 h 222480"/>
                    </a:gdLst>
                    <a:ahLst/>
                    <a:rect l="textAreaLeft" t="textAreaTop" r="textAreaRight" b="textAreaBottom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0" name="Freeform 1070"/>
                  <p:cNvSpPr/>
                  <p:nvPr/>
                </p:nvSpPr>
                <p:spPr>
                  <a:xfrm rot="7164000">
                    <a:off x="229680" y="-257040"/>
                    <a:ext cx="106560" cy="324720"/>
                  </a:xfrm>
                  <a:custGeom>
                    <a:avLst/>
                    <a:gdLst>
                      <a:gd name="textAreaLeft" fmla="*/ 0 w 106560"/>
                      <a:gd name="textAreaRight" fmla="*/ 106920 w 106560"/>
                      <a:gd name="textAreaTop" fmla="*/ 0 h 324720"/>
                      <a:gd name="textAreaBottom" fmla="*/ 325080 h 324720"/>
                    </a:gdLst>
                    <a:ahLst/>
                    <a:rect l="textAreaLeft" t="textAreaTop" r="textAreaRight" b="textAreaBottom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1" name="Freeform 1071"/>
                  <p:cNvSpPr/>
                  <p:nvPr/>
                </p:nvSpPr>
                <p:spPr>
                  <a:xfrm rot="7164000">
                    <a:off x="187560" y="-214200"/>
                    <a:ext cx="11520" cy="12924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129240"/>
                      <a:gd name="textAreaBottom" fmla="*/ 129600 h 129240"/>
                    </a:gdLst>
                    <a:ahLst/>
                    <a:rect l="textAreaLeft" t="textAreaTop" r="textAreaRight" b="textAreaBottom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2" name="Freeform 1072"/>
                  <p:cNvSpPr/>
                  <p:nvPr/>
                </p:nvSpPr>
                <p:spPr>
                  <a:xfrm rot="7164000">
                    <a:off x="222480" y="-230040"/>
                    <a:ext cx="73440" cy="399960"/>
                  </a:xfrm>
                  <a:custGeom>
                    <a:avLst/>
                    <a:gdLst>
                      <a:gd name="textAreaLeft" fmla="*/ 0 w 73440"/>
                      <a:gd name="textAreaRight" fmla="*/ 73800 w 73440"/>
                      <a:gd name="textAreaTop" fmla="*/ 0 h 399960"/>
                      <a:gd name="textAreaBottom" fmla="*/ 400320 h 399960"/>
                    </a:gdLst>
                    <a:ahLst/>
                    <a:rect l="textAreaLeft" t="textAreaTop" r="textAreaRight" b="textAreaBottom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3" name="Freeform 1073"/>
                  <p:cNvSpPr/>
                  <p:nvPr/>
                </p:nvSpPr>
                <p:spPr>
                  <a:xfrm rot="7164000">
                    <a:off x="263880" y="-128520"/>
                    <a:ext cx="54360" cy="63360"/>
                  </a:xfrm>
                  <a:custGeom>
                    <a:avLst/>
                    <a:gdLst>
                      <a:gd name="textAreaLeft" fmla="*/ 0 w 54360"/>
                      <a:gd name="textAreaRight" fmla="*/ 54720 w 54360"/>
                      <a:gd name="textAreaTop" fmla="*/ 0 h 63360"/>
                      <a:gd name="textAreaBottom" fmla="*/ 63720 h 63360"/>
                    </a:gdLst>
                    <a:ahLst/>
                    <a:rect l="textAreaLeft" t="textAreaTop" r="textAreaRight" b="textAreaBottom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4" name="Freeform 1074"/>
                  <p:cNvSpPr/>
                  <p:nvPr/>
                </p:nvSpPr>
                <p:spPr>
                  <a:xfrm rot="7164000">
                    <a:off x="241200" y="-252360"/>
                    <a:ext cx="26280" cy="102240"/>
                  </a:xfrm>
                  <a:custGeom>
                    <a:avLst/>
                    <a:gdLst>
                      <a:gd name="textAreaLeft" fmla="*/ 0 w 26280"/>
                      <a:gd name="textAreaRight" fmla="*/ 26640 w 26280"/>
                      <a:gd name="textAreaTop" fmla="*/ 0 h 102240"/>
                      <a:gd name="textAreaBottom" fmla="*/ 102600 h 102240"/>
                    </a:gdLst>
                    <a:ahLst/>
                    <a:rect l="textAreaLeft" t="textAreaTop" r="textAreaRight" b="textAreaBottom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5" name="Freeform 1075"/>
                  <p:cNvSpPr/>
                  <p:nvPr/>
                </p:nvSpPr>
                <p:spPr>
                  <a:xfrm rot="7164000">
                    <a:off x="410400" y="-156240"/>
                    <a:ext cx="57600" cy="21960"/>
                  </a:xfrm>
                  <a:custGeom>
                    <a:avLst/>
                    <a:gdLst>
                      <a:gd name="textAreaLeft" fmla="*/ 0 w 57600"/>
                      <a:gd name="textAreaRight" fmla="*/ 57960 w 5760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6" name="Freeform 1076"/>
                  <p:cNvSpPr/>
                  <p:nvPr/>
                </p:nvSpPr>
                <p:spPr>
                  <a:xfrm rot="7164000">
                    <a:off x="463320" y="-160920"/>
                    <a:ext cx="35280" cy="39240"/>
                  </a:xfrm>
                  <a:custGeom>
                    <a:avLst/>
                    <a:gdLst>
                      <a:gd name="textAreaLeft" fmla="*/ 0 w 35280"/>
                      <a:gd name="textAreaRight" fmla="*/ 35640 w 35280"/>
                      <a:gd name="textAreaTop" fmla="*/ 0 h 39240"/>
                      <a:gd name="textAreaBottom" fmla="*/ 39600 h 39240"/>
                    </a:gdLst>
                    <a:ahLst/>
                    <a:rect l="textAreaLeft" t="textAreaTop" r="textAreaRight" b="textAreaBottom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7" name="Freeform 1077"/>
                  <p:cNvSpPr/>
                  <p:nvPr/>
                </p:nvSpPr>
                <p:spPr>
                  <a:xfrm rot="7164000">
                    <a:off x="250920" y="-163080"/>
                    <a:ext cx="11520" cy="2448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8" name="Freeform 1078"/>
                  <p:cNvSpPr/>
                  <p:nvPr/>
                </p:nvSpPr>
                <p:spPr>
                  <a:xfrm rot="7164000">
                    <a:off x="499320" y="-99000"/>
                    <a:ext cx="10080" cy="1404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040"/>
                      <a:gd name="textAreaBottom" fmla="*/ 14400 h 14040"/>
                    </a:gdLst>
                    <a:ahLst/>
                    <a:rect l="textAreaLeft" t="textAreaTop" r="textAreaRight" b="textAreaBottom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9" name="Freeform 1079"/>
                  <p:cNvSpPr/>
                  <p:nvPr/>
                </p:nvSpPr>
                <p:spPr>
                  <a:xfrm rot="7164000">
                    <a:off x="551520" y="-26640"/>
                    <a:ext cx="11520" cy="1908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0" name="Freeform 1080"/>
                  <p:cNvSpPr/>
                  <p:nvPr/>
                </p:nvSpPr>
                <p:spPr>
                  <a:xfrm rot="7164000">
                    <a:off x="448200" y="-214560"/>
                    <a:ext cx="9000" cy="9360"/>
                  </a:xfrm>
                  <a:custGeom>
                    <a:avLst/>
                    <a:gdLst>
                      <a:gd name="textAreaLeft" fmla="*/ 0 w 9000"/>
                      <a:gd name="textAreaRight" fmla="*/ 9360 w 900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1" name="Group 836"/>
                <p:cNvGrpSpPr/>
                <p:nvPr/>
              </p:nvGrpSpPr>
              <p:grpSpPr>
                <a:xfrm>
                  <a:off x="451800" y="277920"/>
                  <a:ext cx="68040" cy="68400"/>
                  <a:chOff x="451800" y="277920"/>
                  <a:chExt cx="68040" cy="68400"/>
                </a:xfrm>
              </p:grpSpPr>
              <p:sp>
                <p:nvSpPr>
                  <p:cNvPr id="2602" name="Freeform 1082"/>
                  <p:cNvSpPr/>
                  <p:nvPr/>
                </p:nvSpPr>
                <p:spPr>
                  <a:xfrm rot="2799000">
                    <a:off x="457920" y="291600"/>
                    <a:ext cx="55440" cy="41040"/>
                  </a:xfrm>
                  <a:custGeom>
                    <a:avLst/>
                    <a:gdLst>
                      <a:gd name="textAreaLeft" fmla="*/ 0 w 55440"/>
                      <a:gd name="textAreaRight" fmla="*/ 55800 w 5544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3" name="Freeform 1083"/>
                  <p:cNvSpPr/>
                  <p:nvPr/>
                </p:nvSpPr>
                <p:spPr>
                  <a:xfrm rot="20752800">
                    <a:off x="467280" y="288360"/>
                    <a:ext cx="20880" cy="3384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3840"/>
                      <a:gd name="textAreaBottom" fmla="*/ 34200 h 33840"/>
                    </a:gdLst>
                    <a:ahLst/>
                    <a:rect l="textAreaLeft" t="textAreaTop" r="textAreaRight" b="textAreaBottom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04" name="Group 839"/>
              <p:cNvGrpSpPr/>
              <p:nvPr/>
            </p:nvGrpSpPr>
            <p:grpSpPr>
              <a:xfrm>
                <a:off x="435960" y="23400"/>
                <a:ext cx="876600" cy="511560"/>
                <a:chOff x="435960" y="23400"/>
                <a:chExt cx="876600" cy="511560"/>
              </a:xfrm>
            </p:grpSpPr>
            <p:grpSp>
              <p:nvGrpSpPr>
                <p:cNvPr id="2605" name="Group 840"/>
                <p:cNvGrpSpPr/>
                <p:nvPr/>
              </p:nvGrpSpPr>
              <p:grpSpPr>
                <a:xfrm>
                  <a:off x="435960" y="23400"/>
                  <a:ext cx="876600" cy="511560"/>
                  <a:chOff x="435960" y="23400"/>
                  <a:chExt cx="876600" cy="511560"/>
                </a:xfrm>
              </p:grpSpPr>
              <p:sp>
                <p:nvSpPr>
                  <p:cNvPr id="2606" name="Freeform 1086"/>
                  <p:cNvSpPr/>
                  <p:nvPr/>
                </p:nvSpPr>
                <p:spPr>
                  <a:xfrm rot="11388000">
                    <a:off x="648360" y="74520"/>
                    <a:ext cx="633600" cy="40932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409320"/>
                      <a:gd name="textAreaBottom" fmla="*/ 409680 h 409320"/>
                    </a:gdLst>
                    <a:ahLst/>
                    <a:rect l="textAreaLeft" t="textAreaTop" r="textAreaRight" b="textAreaBottom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7" name="Freeform 1087"/>
                  <p:cNvSpPr/>
                  <p:nvPr/>
                </p:nvSpPr>
                <p:spPr>
                  <a:xfrm rot="11388000">
                    <a:off x="668160" y="192960"/>
                    <a:ext cx="537120" cy="194040"/>
                  </a:xfrm>
                  <a:custGeom>
                    <a:avLst/>
                    <a:gdLst>
                      <a:gd name="textAreaLeft" fmla="*/ 0 w 537120"/>
                      <a:gd name="textAreaRight" fmla="*/ 537480 w 537120"/>
                      <a:gd name="textAreaTop" fmla="*/ 0 h 194040"/>
                      <a:gd name="textAreaBottom" fmla="*/ 194400 h 194040"/>
                    </a:gdLst>
                    <a:ahLst/>
                    <a:rect l="textAreaLeft" t="textAreaTop" r="textAreaRight" b="textAreaBottom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8" name="Freeform 1088"/>
                  <p:cNvSpPr/>
                  <p:nvPr/>
                </p:nvSpPr>
                <p:spPr>
                  <a:xfrm rot="11388000">
                    <a:off x="450360" y="170640"/>
                    <a:ext cx="782280" cy="241560"/>
                  </a:xfrm>
                  <a:custGeom>
                    <a:avLst/>
                    <a:gdLst>
                      <a:gd name="textAreaLeft" fmla="*/ 0 w 782280"/>
                      <a:gd name="textAreaRight" fmla="*/ 782640 w 782280"/>
                      <a:gd name="textAreaTop" fmla="*/ 0 h 241560"/>
                      <a:gd name="textAreaBottom" fmla="*/ 241920 h 241560"/>
                    </a:gdLst>
                    <a:ahLst/>
                    <a:rect l="textAreaLeft" t="textAreaTop" r="textAreaRight" b="textAreaBottom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9" name="Freeform 1089"/>
                  <p:cNvSpPr/>
                  <p:nvPr/>
                </p:nvSpPr>
                <p:spPr>
                  <a:xfrm rot="11388000">
                    <a:off x="893520" y="286200"/>
                    <a:ext cx="254160" cy="23760"/>
                  </a:xfrm>
                  <a:custGeom>
                    <a:avLst/>
                    <a:gdLst>
                      <a:gd name="textAreaLeft" fmla="*/ 0 w 254160"/>
                      <a:gd name="textAreaRight" fmla="*/ 254520 w 25416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0" name="Freeform 1090"/>
                  <p:cNvSpPr/>
                  <p:nvPr/>
                </p:nvSpPr>
                <p:spPr>
                  <a:xfrm rot="11388000">
                    <a:off x="764640" y="310320"/>
                    <a:ext cx="328680" cy="89280"/>
                  </a:xfrm>
                  <a:custGeom>
                    <a:avLst/>
                    <a:gdLst>
                      <a:gd name="textAreaLeft" fmla="*/ 0 w 328680"/>
                      <a:gd name="textAreaRight" fmla="*/ 329040 w 328680"/>
                      <a:gd name="textAreaTop" fmla="*/ 0 h 89280"/>
                      <a:gd name="textAreaBottom" fmla="*/ 89640 h 89280"/>
                    </a:gdLst>
                    <a:ahLst/>
                    <a:rect l="textAreaLeft" t="textAreaTop" r="textAreaRight" b="textAreaBottom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1" name="Freeform 1091"/>
                  <p:cNvSpPr/>
                  <p:nvPr/>
                </p:nvSpPr>
                <p:spPr>
                  <a:xfrm rot="11388000">
                    <a:off x="681840" y="327600"/>
                    <a:ext cx="362520" cy="118080"/>
                  </a:xfrm>
                  <a:custGeom>
                    <a:avLst/>
                    <a:gdLst>
                      <a:gd name="textAreaLeft" fmla="*/ 0 w 362520"/>
                      <a:gd name="textAreaRight" fmla="*/ 362880 w 362520"/>
                      <a:gd name="textAreaTop" fmla="*/ 0 h 118080"/>
                      <a:gd name="textAreaBottom" fmla="*/ 118440 h 118080"/>
                    </a:gdLst>
                    <a:ahLst/>
                    <a:rect l="textAreaLeft" t="textAreaTop" r="textAreaRight" b="textAreaBottom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2" name="Freeform 1092"/>
                  <p:cNvSpPr/>
                  <p:nvPr/>
                </p:nvSpPr>
                <p:spPr>
                  <a:xfrm rot="11388000">
                    <a:off x="1019160" y="267120"/>
                    <a:ext cx="150480" cy="15120"/>
                  </a:xfrm>
                  <a:custGeom>
                    <a:avLst/>
                    <a:gdLst>
                      <a:gd name="textAreaLeft" fmla="*/ 0 w 150480"/>
                      <a:gd name="textAreaRight" fmla="*/ 150840 w 150480"/>
                      <a:gd name="textAreaTop" fmla="*/ 0 h 15120"/>
                      <a:gd name="textAreaBottom" fmla="*/ 15480 h 15120"/>
                    </a:gdLst>
                    <a:ahLst/>
                    <a:rect l="textAreaLeft" t="textAreaTop" r="textAreaRight" b="textAreaBottom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3" name="Freeform 1093"/>
                  <p:cNvSpPr/>
                  <p:nvPr/>
                </p:nvSpPr>
                <p:spPr>
                  <a:xfrm rot="11388000">
                    <a:off x="1128960" y="253080"/>
                    <a:ext cx="78840" cy="5400"/>
                  </a:xfrm>
                  <a:custGeom>
                    <a:avLst/>
                    <a:gdLst>
                      <a:gd name="textAreaLeft" fmla="*/ 0 w 78840"/>
                      <a:gd name="textAreaRight" fmla="*/ 79200 w 7884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4" name="Freeform 1094"/>
                  <p:cNvSpPr/>
                  <p:nvPr/>
                </p:nvSpPr>
                <p:spPr>
                  <a:xfrm rot="11388000">
                    <a:off x="1115640" y="212400"/>
                    <a:ext cx="57600" cy="41400"/>
                  </a:xfrm>
                  <a:custGeom>
                    <a:avLst/>
                    <a:gdLst>
                      <a:gd name="textAreaLeft" fmla="*/ 0 w 57600"/>
                      <a:gd name="textAreaRight" fmla="*/ 57960 w 57600"/>
                      <a:gd name="textAreaTop" fmla="*/ 0 h 41400"/>
                      <a:gd name="textAreaBottom" fmla="*/ 41760 h 41400"/>
                    </a:gdLst>
                    <a:ahLst/>
                    <a:rect l="textAreaLeft" t="textAreaTop" r="textAreaRight" b="textAreaBottom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5" name="Freeform 1095"/>
                  <p:cNvSpPr/>
                  <p:nvPr/>
                </p:nvSpPr>
                <p:spPr>
                  <a:xfrm rot="11388000">
                    <a:off x="1027440" y="187920"/>
                    <a:ext cx="100440" cy="77400"/>
                  </a:xfrm>
                  <a:custGeom>
                    <a:avLst/>
                    <a:gdLst>
                      <a:gd name="textAreaLeft" fmla="*/ 0 w 100440"/>
                      <a:gd name="textAreaRight" fmla="*/ 100800 w 100440"/>
                      <a:gd name="textAreaTop" fmla="*/ 0 h 77400"/>
                      <a:gd name="textAreaBottom" fmla="*/ 77760 h 77400"/>
                    </a:gdLst>
                    <a:ahLst/>
                    <a:rect l="textAreaLeft" t="textAreaTop" r="textAreaRight" b="textAreaBottom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6" name="Freeform 1096"/>
                  <p:cNvSpPr/>
                  <p:nvPr/>
                </p:nvSpPr>
                <p:spPr>
                  <a:xfrm rot="11388000">
                    <a:off x="896760" y="147600"/>
                    <a:ext cx="160920" cy="136080"/>
                  </a:xfrm>
                  <a:custGeom>
                    <a:avLst/>
                    <a:gdLst>
                      <a:gd name="textAreaLeft" fmla="*/ 0 w 160920"/>
                      <a:gd name="textAreaRight" fmla="*/ 161280 w 160920"/>
                      <a:gd name="textAreaTop" fmla="*/ 0 h 136080"/>
                      <a:gd name="textAreaBottom" fmla="*/ 136440 h 136080"/>
                    </a:gdLst>
                    <a:ahLst/>
                    <a:rect l="textAreaLeft" t="textAreaTop" r="textAreaRight" b="textAreaBottom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7" name="Freeform 1097"/>
                  <p:cNvSpPr/>
                  <p:nvPr/>
                </p:nvSpPr>
                <p:spPr>
                  <a:xfrm rot="11388000">
                    <a:off x="785520" y="103320"/>
                    <a:ext cx="172800" cy="198720"/>
                  </a:xfrm>
                  <a:custGeom>
                    <a:avLst/>
                    <a:gdLst>
                      <a:gd name="textAreaLeft" fmla="*/ 0 w 172800"/>
                      <a:gd name="textAreaRight" fmla="*/ 173160 w 172800"/>
                      <a:gd name="textAreaTop" fmla="*/ 0 h 198720"/>
                      <a:gd name="textAreaBottom" fmla="*/ 199080 h 198720"/>
                    </a:gdLst>
                    <a:ahLst/>
                    <a:rect l="textAreaLeft" t="textAreaTop" r="textAreaRight" b="textAreaBottom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8" name="Freeform 1098"/>
                  <p:cNvSpPr/>
                  <p:nvPr/>
                </p:nvSpPr>
                <p:spPr>
                  <a:xfrm rot="11388000">
                    <a:off x="877680" y="99720"/>
                    <a:ext cx="18720" cy="79200"/>
                  </a:xfrm>
                  <a:custGeom>
                    <a:avLst/>
                    <a:gdLst>
                      <a:gd name="textAreaLeft" fmla="*/ 0 w 18720"/>
                      <a:gd name="textAreaRight" fmla="*/ 19080 w 18720"/>
                      <a:gd name="textAreaTop" fmla="*/ 0 h 79200"/>
                      <a:gd name="textAreaBottom" fmla="*/ 79560 h 79200"/>
                    </a:gdLst>
                    <a:ahLst/>
                    <a:rect l="textAreaLeft" t="textAreaTop" r="textAreaRight" b="textAreaBottom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9" name="Freeform 1099"/>
                  <p:cNvSpPr/>
                  <p:nvPr/>
                </p:nvSpPr>
                <p:spPr>
                  <a:xfrm rot="11388000">
                    <a:off x="702000" y="67320"/>
                    <a:ext cx="119520" cy="245160"/>
                  </a:xfrm>
                  <a:custGeom>
                    <a:avLst/>
                    <a:gdLst>
                      <a:gd name="textAreaLeft" fmla="*/ 0 w 119520"/>
                      <a:gd name="textAreaRight" fmla="*/ 119880 w 119520"/>
                      <a:gd name="textAreaTop" fmla="*/ 0 h 245160"/>
                      <a:gd name="textAreaBottom" fmla="*/ 245160 h 245160"/>
                    </a:gdLst>
                    <a:ahLst/>
                    <a:rect l="textAreaLeft" t="textAreaTop" r="textAreaRight" b="textAreaBottom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0" name="Freeform 1100"/>
                  <p:cNvSpPr/>
                  <p:nvPr/>
                </p:nvSpPr>
                <p:spPr>
                  <a:xfrm rot="11388000">
                    <a:off x="835200" y="187560"/>
                    <a:ext cx="88560" cy="39240"/>
                  </a:xfrm>
                  <a:custGeom>
                    <a:avLst/>
                    <a:gdLst>
                      <a:gd name="textAreaLeft" fmla="*/ 0 w 88560"/>
                      <a:gd name="textAreaRight" fmla="*/ 88920 w 88560"/>
                      <a:gd name="textAreaTop" fmla="*/ 0 h 39240"/>
                      <a:gd name="textAreaBottom" fmla="*/ 39600 h 39240"/>
                    </a:gdLst>
                    <a:ahLst/>
                    <a:rect l="textAreaLeft" t="textAreaTop" r="textAreaRight" b="textAreaBottom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1" name="Freeform 1101"/>
                  <p:cNvSpPr/>
                  <p:nvPr/>
                </p:nvSpPr>
                <p:spPr>
                  <a:xfrm rot="11388000">
                    <a:off x="983520" y="146520"/>
                    <a:ext cx="42840" cy="6228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62280"/>
                      <a:gd name="textAreaBottom" fmla="*/ 62640 h 62280"/>
                    </a:gdLst>
                    <a:ahLst/>
                    <a:rect l="textAreaLeft" t="textAreaTop" r="textAreaRight" b="textAreaBottom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2" name="Freeform 1102"/>
                  <p:cNvSpPr/>
                  <p:nvPr/>
                </p:nvSpPr>
                <p:spPr>
                  <a:xfrm rot="11388000">
                    <a:off x="1005840" y="296280"/>
                    <a:ext cx="93600" cy="1332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3" name="Freeform 1103"/>
                  <p:cNvSpPr/>
                  <p:nvPr/>
                </p:nvSpPr>
                <p:spPr>
                  <a:xfrm rot="11388000">
                    <a:off x="1046880" y="318240"/>
                    <a:ext cx="57600" cy="23760"/>
                  </a:xfrm>
                  <a:custGeom>
                    <a:avLst/>
                    <a:gdLst>
                      <a:gd name="textAreaLeft" fmla="*/ 0 w 57600"/>
                      <a:gd name="textAreaRight" fmla="*/ 57960 w 5760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4" name="Freeform 1104"/>
                  <p:cNvSpPr/>
                  <p:nvPr/>
                </p:nvSpPr>
                <p:spPr>
                  <a:xfrm rot="11388000">
                    <a:off x="924480" y="173520"/>
                    <a:ext cx="18720" cy="15120"/>
                  </a:xfrm>
                  <a:custGeom>
                    <a:avLst/>
                    <a:gdLst>
                      <a:gd name="textAreaLeft" fmla="*/ 0 w 18720"/>
                      <a:gd name="textAreaRight" fmla="*/ 19080 w 18720"/>
                      <a:gd name="textAreaTop" fmla="*/ 0 h 15120"/>
                      <a:gd name="textAreaBottom" fmla="*/ 15480 h 15120"/>
                    </a:gdLst>
                    <a:ahLst/>
                    <a:rect l="textAreaLeft" t="textAreaTop" r="textAreaRight" b="textAreaBottom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5" name="Freeform 1105"/>
                  <p:cNvSpPr/>
                  <p:nvPr/>
                </p:nvSpPr>
                <p:spPr>
                  <a:xfrm rot="11388000">
                    <a:off x="1012320" y="344160"/>
                    <a:ext cx="16560" cy="8640"/>
                  </a:xfrm>
                  <a:custGeom>
                    <a:avLst/>
                    <a:gdLst>
                      <a:gd name="textAreaLeft" fmla="*/ 0 w 16560"/>
                      <a:gd name="textAreaRight" fmla="*/ 16920 w 16560"/>
                      <a:gd name="textAreaTop" fmla="*/ 0 h 8640"/>
                      <a:gd name="textAreaBottom" fmla="*/ 9000 h 8640"/>
                    </a:gdLst>
                    <a:ahLst/>
                    <a:rect l="textAreaLeft" t="textAreaTop" r="textAreaRight" b="textAreaBottom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6" name="Freeform 1106"/>
                  <p:cNvSpPr/>
                  <p:nvPr/>
                </p:nvSpPr>
                <p:spPr>
                  <a:xfrm rot="11388000">
                    <a:off x="940320" y="381240"/>
                    <a:ext cx="18720" cy="11520"/>
                  </a:xfrm>
                  <a:custGeom>
                    <a:avLst/>
                    <a:gdLst>
                      <a:gd name="textAreaLeft" fmla="*/ 0 w 18720"/>
                      <a:gd name="textAreaRight" fmla="*/ 19080 w 1872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7" name="Freeform 1107"/>
                  <p:cNvSpPr/>
                  <p:nvPr/>
                </p:nvSpPr>
                <p:spPr>
                  <a:xfrm rot="11388000">
                    <a:off x="1148400" y="305640"/>
                    <a:ext cx="14400" cy="54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8" name="Group 863"/>
                <p:cNvGrpSpPr/>
                <p:nvPr/>
              </p:nvGrpSpPr>
              <p:grpSpPr>
                <a:xfrm>
                  <a:off x="496080" y="297000"/>
                  <a:ext cx="74880" cy="60480"/>
                  <a:chOff x="496080" y="297000"/>
                  <a:chExt cx="74880" cy="60480"/>
                </a:xfrm>
              </p:grpSpPr>
              <p:sp>
                <p:nvSpPr>
                  <p:cNvPr id="2629" name="Freeform 1109"/>
                  <p:cNvSpPr/>
                  <p:nvPr/>
                </p:nvSpPr>
                <p:spPr>
                  <a:xfrm rot="7023600">
                    <a:off x="516240" y="293760"/>
                    <a:ext cx="34200" cy="66600"/>
                  </a:xfrm>
                  <a:custGeom>
                    <a:avLst/>
                    <a:gdLst>
                      <a:gd name="textAreaLeft" fmla="*/ 0 w 34200"/>
                      <a:gd name="textAreaRight" fmla="*/ 34560 w 34200"/>
                      <a:gd name="textAreaTop" fmla="*/ 0 h 66600"/>
                      <a:gd name="textAreaBottom" fmla="*/ 66960 h 66600"/>
                    </a:gdLst>
                    <a:ahLst/>
                    <a:rect l="textAreaLeft" t="textAreaTop" r="textAreaRight" b="textAreaBottom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0" name="Freeform 1110"/>
                  <p:cNvSpPr/>
                  <p:nvPr/>
                </p:nvSpPr>
                <p:spPr>
                  <a:xfrm rot="3376800">
                    <a:off x="516960" y="309600"/>
                    <a:ext cx="33840" cy="20880"/>
                  </a:xfrm>
                  <a:custGeom>
                    <a:avLst/>
                    <a:gdLst>
                      <a:gd name="textAreaLeft" fmla="*/ 0 w 33840"/>
                      <a:gd name="textAreaRight" fmla="*/ 34200 w 33840"/>
                      <a:gd name="textAreaTop" fmla="*/ 0 h 20880"/>
                      <a:gd name="textAreaBottom" fmla="*/ 20880 h 20880"/>
                    </a:gdLst>
                    <a:ahLst/>
                    <a:rect l="textAreaLeft" t="textAreaTop" r="textAreaRight" b="textAreaBottom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631" name="Group 866"/>
            <p:cNvGrpSpPr/>
            <p:nvPr/>
          </p:nvGrpSpPr>
          <p:grpSpPr>
            <a:xfrm>
              <a:off x="1060920" y="532080"/>
              <a:ext cx="750240" cy="785160"/>
              <a:chOff x="1060920" y="532080"/>
              <a:chExt cx="750240" cy="785160"/>
            </a:xfrm>
          </p:grpSpPr>
          <p:grpSp>
            <p:nvGrpSpPr>
              <p:cNvPr id="2632" name="Group 867"/>
              <p:cNvGrpSpPr/>
              <p:nvPr/>
            </p:nvGrpSpPr>
            <p:grpSpPr>
              <a:xfrm>
                <a:off x="1060920" y="532080"/>
                <a:ext cx="750240" cy="785160"/>
                <a:chOff x="1060920" y="532080"/>
                <a:chExt cx="750240" cy="785160"/>
              </a:xfrm>
            </p:grpSpPr>
            <p:sp>
              <p:nvSpPr>
                <p:cNvPr id="2633" name="Freeform 1113"/>
                <p:cNvSpPr/>
                <p:nvPr/>
              </p:nvSpPr>
              <p:spPr>
                <a:xfrm flipH="1" rot="2658600">
                  <a:off x="1164240" y="780120"/>
                  <a:ext cx="597600" cy="382680"/>
                </a:xfrm>
                <a:custGeom>
                  <a:avLst/>
                  <a:gdLst>
                    <a:gd name="textAreaLeft" fmla="*/ 360 w 597600"/>
                    <a:gd name="textAreaRight" fmla="*/ 598320 w 597600"/>
                    <a:gd name="textAreaTop" fmla="*/ 0 h 382680"/>
                    <a:gd name="textAreaBottom" fmla="*/ 383040 h 38268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4" name="Freeform 1114"/>
                <p:cNvSpPr/>
                <p:nvPr/>
              </p:nvSpPr>
              <p:spPr>
                <a:xfrm flipH="1" rot="2658600">
                  <a:off x="1201320" y="853200"/>
                  <a:ext cx="507240" cy="181800"/>
                </a:xfrm>
                <a:custGeom>
                  <a:avLst/>
                  <a:gdLst>
                    <a:gd name="textAreaLeft" fmla="*/ -360 w 507240"/>
                    <a:gd name="textAreaRight" fmla="*/ 507240 w 507240"/>
                    <a:gd name="textAreaTop" fmla="*/ 0 h 181800"/>
                    <a:gd name="textAreaBottom" fmla="*/ 182160 h 18180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5" name="Freeform 1115"/>
                <p:cNvSpPr/>
                <p:nvPr/>
              </p:nvSpPr>
              <p:spPr>
                <a:xfrm flipH="1" rot="2658600">
                  <a:off x="1034640" y="757800"/>
                  <a:ext cx="738360" cy="226080"/>
                </a:xfrm>
                <a:custGeom>
                  <a:avLst/>
                  <a:gdLst>
                    <a:gd name="textAreaLeft" fmla="*/ -360 w 738360"/>
                    <a:gd name="textAreaRight" fmla="*/ 738360 w 738360"/>
                    <a:gd name="textAreaTop" fmla="*/ 0 h 226080"/>
                    <a:gd name="textAreaBottom" fmla="*/ 226440 h 22608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6" name="Freeform 1116"/>
                <p:cNvSpPr/>
                <p:nvPr/>
              </p:nvSpPr>
              <p:spPr>
                <a:xfrm flipH="1" rot="2658600">
                  <a:off x="1388520" y="992160"/>
                  <a:ext cx="239400" cy="22320"/>
                </a:xfrm>
                <a:custGeom>
                  <a:avLst/>
                  <a:gdLst>
                    <a:gd name="textAreaLeft" fmla="*/ -360 w 239400"/>
                    <a:gd name="textAreaRight" fmla="*/ 239400 w 23940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7" name="Freeform 1117"/>
                <p:cNvSpPr/>
                <p:nvPr/>
              </p:nvSpPr>
              <p:spPr>
                <a:xfrm flipH="1" rot="2658600">
                  <a:off x="1344960" y="860760"/>
                  <a:ext cx="310320" cy="83520"/>
                </a:xfrm>
                <a:custGeom>
                  <a:avLst/>
                  <a:gdLst>
                    <a:gd name="textAreaLeft" fmla="*/ 360 w 310320"/>
                    <a:gd name="textAreaRight" fmla="*/ 311040 w 310320"/>
                    <a:gd name="textAreaTop" fmla="*/ 0 h 83520"/>
                    <a:gd name="textAreaBottom" fmla="*/ 83520 h 8352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8" name="Freeform 1118"/>
                <p:cNvSpPr/>
                <p:nvPr/>
              </p:nvSpPr>
              <p:spPr>
                <a:xfrm flipH="1" rot="2658600">
                  <a:off x="1316880" y="779400"/>
                  <a:ext cx="342000" cy="110520"/>
                </a:xfrm>
                <a:custGeom>
                  <a:avLst/>
                  <a:gdLst>
                    <a:gd name="textAreaLeft" fmla="*/ 360 w 342000"/>
                    <a:gd name="textAreaRight" fmla="*/ 342720 w 342000"/>
                    <a:gd name="textAreaTop" fmla="*/ 0 h 110520"/>
                    <a:gd name="textAreaBottom" fmla="*/ 110880 h 11052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9" name="Freeform 1119"/>
                <p:cNvSpPr/>
                <p:nvPr/>
              </p:nvSpPr>
              <p:spPr>
                <a:xfrm flipH="1" rot="2658600">
                  <a:off x="1460160" y="1065240"/>
                  <a:ext cx="142200" cy="14040"/>
                </a:xfrm>
                <a:custGeom>
                  <a:avLst/>
                  <a:gdLst>
                    <a:gd name="textAreaLeft" fmla="*/ -360 w 142200"/>
                    <a:gd name="textAreaRight" fmla="*/ 142200 w 14220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0" name="Freeform 1120"/>
                <p:cNvSpPr/>
                <p:nvPr/>
              </p:nvSpPr>
              <p:spPr>
                <a:xfrm flipH="1" rot="2658600">
                  <a:off x="1519920" y="1136520"/>
                  <a:ext cx="74520" cy="5760"/>
                </a:xfrm>
                <a:custGeom>
                  <a:avLst/>
                  <a:gdLst>
                    <a:gd name="textAreaLeft" fmla="*/ -360 w 74520"/>
                    <a:gd name="textAreaRight" fmla="*/ 74520 w 7452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1" name="Freeform 1121"/>
                <p:cNvSpPr/>
                <p:nvPr/>
              </p:nvSpPr>
              <p:spPr>
                <a:xfrm flipH="1" rot="2658600">
                  <a:off x="1500120" y="1114200"/>
                  <a:ext cx="54360" cy="38880"/>
                </a:xfrm>
                <a:custGeom>
                  <a:avLst/>
                  <a:gdLst>
                    <a:gd name="textAreaLeft" fmla="*/ -360 w 54360"/>
                    <a:gd name="textAreaRight" fmla="*/ 54360 w 5436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2" name="Freeform 1122"/>
                <p:cNvSpPr/>
                <p:nvPr/>
              </p:nvSpPr>
              <p:spPr>
                <a:xfrm flipH="1" rot="2658600">
                  <a:off x="1437120" y="1049760"/>
                  <a:ext cx="95040" cy="72000"/>
                </a:xfrm>
                <a:custGeom>
                  <a:avLst/>
                  <a:gdLst>
                    <a:gd name="textAreaLeft" fmla="*/ 360 w 95040"/>
                    <a:gd name="textAreaRight" fmla="*/ 95760 w 9504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3" name="Freeform 1123"/>
                <p:cNvSpPr/>
                <p:nvPr/>
              </p:nvSpPr>
              <p:spPr>
                <a:xfrm flipH="1" rot="2658600">
                  <a:off x="1345320" y="952200"/>
                  <a:ext cx="151920" cy="127440"/>
                </a:xfrm>
                <a:custGeom>
                  <a:avLst/>
                  <a:gdLst>
                    <a:gd name="textAreaLeft" fmla="*/ 360 w 151920"/>
                    <a:gd name="textAreaRight" fmla="*/ 152640 w 151920"/>
                    <a:gd name="textAreaTop" fmla="*/ 0 h 127440"/>
                    <a:gd name="textAreaBottom" fmla="*/ 127800 h 12744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4" name="Freeform 1124"/>
                <p:cNvSpPr/>
                <p:nvPr/>
              </p:nvSpPr>
              <p:spPr>
                <a:xfrm flipH="1" rot="2658600">
                  <a:off x="1270440" y="849960"/>
                  <a:ext cx="163440" cy="18576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Freeform 1125"/>
                <p:cNvSpPr/>
                <p:nvPr/>
              </p:nvSpPr>
              <p:spPr>
                <a:xfrm flipH="1" rot="2658600">
                  <a:off x="1305360" y="951480"/>
                  <a:ext cx="17640" cy="73440"/>
                </a:xfrm>
                <a:custGeom>
                  <a:avLst/>
                  <a:gdLst>
                    <a:gd name="textAreaLeft" fmla="*/ -360 w 17640"/>
                    <a:gd name="textAreaRight" fmla="*/ 17640 w 17640"/>
                    <a:gd name="textAreaTop" fmla="*/ 0 h 73440"/>
                    <a:gd name="textAreaBottom" fmla="*/ 73800 h 7344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6" name="Freeform 1126"/>
                <p:cNvSpPr/>
                <p:nvPr/>
              </p:nvSpPr>
              <p:spPr>
                <a:xfrm flipH="1" rot="2658600">
                  <a:off x="1225440" y="750600"/>
                  <a:ext cx="113040" cy="228960"/>
                </a:xfrm>
                <a:custGeom>
                  <a:avLst/>
                  <a:gdLst>
                    <a:gd name="textAreaLeft" fmla="*/ 360 w 113040"/>
                    <a:gd name="textAreaRight" fmla="*/ 113760 w 11304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7" name="Freeform 1127"/>
                <p:cNvSpPr/>
                <p:nvPr/>
              </p:nvSpPr>
              <p:spPr>
                <a:xfrm flipH="1" rot="2658600">
                  <a:off x="1318680" y="927000"/>
                  <a:ext cx="83520" cy="36360"/>
                </a:xfrm>
                <a:custGeom>
                  <a:avLst/>
                  <a:gdLst>
                    <a:gd name="textAreaLeft" fmla="*/ 360 w 83520"/>
                    <a:gd name="textAreaRight" fmla="*/ 84240 w 8352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8" name="Freeform 1128"/>
                <p:cNvSpPr/>
                <p:nvPr/>
              </p:nvSpPr>
              <p:spPr>
                <a:xfrm flipH="1" rot="2658600">
                  <a:off x="1387440" y="1027800"/>
                  <a:ext cx="40320" cy="58320"/>
                </a:xfrm>
                <a:custGeom>
                  <a:avLst/>
                  <a:gdLst>
                    <a:gd name="textAreaLeft" fmla="*/ 360 w 40320"/>
                    <a:gd name="textAreaRight" fmla="*/ 41040 w 40320"/>
                    <a:gd name="textAreaTop" fmla="*/ 0 h 58320"/>
                    <a:gd name="textAreaBottom" fmla="*/ 58680 h 5832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9" name="Freeform 1129"/>
                <p:cNvSpPr/>
                <p:nvPr/>
              </p:nvSpPr>
              <p:spPr>
                <a:xfrm flipH="1" rot="2658600">
                  <a:off x="1485360" y="1019160"/>
                  <a:ext cx="88200" cy="12600"/>
                </a:xfrm>
                <a:custGeom>
                  <a:avLst/>
                  <a:gdLst>
                    <a:gd name="textAreaLeft" fmla="*/ -360 w 88200"/>
                    <a:gd name="textAreaRight" fmla="*/ 88200 w 882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0" name="Freeform 1130"/>
                <p:cNvSpPr/>
                <p:nvPr/>
              </p:nvSpPr>
              <p:spPr>
                <a:xfrm flipH="1" rot="2658600">
                  <a:off x="1536120" y="1017000"/>
                  <a:ext cx="54360" cy="22320"/>
                </a:xfrm>
                <a:custGeom>
                  <a:avLst/>
                  <a:gdLst>
                    <a:gd name="textAreaLeft" fmla="*/ -360 w 54360"/>
                    <a:gd name="textAreaRight" fmla="*/ 54360 w 5436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1" name="Freeform 1131"/>
                <p:cNvSpPr/>
                <p:nvPr/>
              </p:nvSpPr>
              <p:spPr>
                <a:xfrm flipH="1" rot="2658600">
                  <a:off x="1362960" y="993600"/>
                  <a:ext cx="17640" cy="13680"/>
                </a:xfrm>
                <a:custGeom>
                  <a:avLst/>
                  <a:gdLst>
                    <a:gd name="textAreaLeft" fmla="*/ -360 w 17640"/>
                    <a:gd name="textAreaRight" fmla="*/ 17640 w 17640"/>
                    <a:gd name="textAreaTop" fmla="*/ 0 h 13680"/>
                    <a:gd name="textAreaBottom" fmla="*/ 14040 h 1368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2" name="Freeform 1132"/>
                <p:cNvSpPr/>
                <p:nvPr/>
              </p:nvSpPr>
              <p:spPr>
                <a:xfrm flipH="1" rot="2658600">
                  <a:off x="1537920" y="972000"/>
                  <a:ext cx="15840" cy="8280"/>
                </a:xfrm>
                <a:custGeom>
                  <a:avLst/>
                  <a:gdLst>
                    <a:gd name="textAreaLeft" fmla="*/ 360 w 15840"/>
                    <a:gd name="textAreaRight" fmla="*/ 16560 w 1584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3" name="Freeform 1133"/>
                <p:cNvSpPr/>
                <p:nvPr/>
              </p:nvSpPr>
              <p:spPr>
                <a:xfrm flipH="1" rot="2658600">
                  <a:off x="1527120" y="894960"/>
                  <a:ext cx="17640" cy="10800"/>
                </a:xfrm>
                <a:custGeom>
                  <a:avLst/>
                  <a:gdLst>
                    <a:gd name="textAreaLeft" fmla="*/ -360 w 17640"/>
                    <a:gd name="textAreaRight" fmla="*/ 17640 w 1764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4" name="Freeform 1134"/>
                <p:cNvSpPr/>
                <p:nvPr/>
              </p:nvSpPr>
              <p:spPr>
                <a:xfrm flipH="1" rot="2658600">
                  <a:off x="1582920" y="1098360"/>
                  <a:ext cx="13680" cy="5040"/>
                </a:xfrm>
                <a:custGeom>
                  <a:avLst/>
                  <a:gdLst>
                    <a:gd name="textAreaLeft" fmla="*/ 360 w 13680"/>
                    <a:gd name="textAreaRight" fmla="*/ 14400 w 1368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5" name="Group 890"/>
              <p:cNvGrpSpPr/>
              <p:nvPr/>
            </p:nvGrpSpPr>
            <p:grpSpPr>
              <a:xfrm>
                <a:off x="1224720" y="588240"/>
                <a:ext cx="70920" cy="56880"/>
                <a:chOff x="1224720" y="588240"/>
                <a:chExt cx="70920" cy="56880"/>
              </a:xfrm>
            </p:grpSpPr>
            <p:sp>
              <p:nvSpPr>
                <p:cNvPr id="2656" name="Freeform 1136"/>
                <p:cNvSpPr/>
                <p:nvPr/>
              </p:nvSpPr>
              <p:spPr>
                <a:xfrm flipH="1" rot="7023600">
                  <a:off x="1243800" y="584640"/>
                  <a:ext cx="31680" cy="63360"/>
                </a:xfrm>
                <a:custGeom>
                  <a:avLst/>
                  <a:gdLst>
                    <a:gd name="textAreaLeft" fmla="*/ 360 w 31680"/>
                    <a:gd name="textAreaRight" fmla="*/ 32400 w 3168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7" name="Freeform 1137"/>
                <p:cNvSpPr/>
                <p:nvPr/>
              </p:nvSpPr>
              <p:spPr>
                <a:xfrm flipH="1" rot="10670400">
                  <a:off x="1239120" y="611280"/>
                  <a:ext cx="32040" cy="19440"/>
                </a:xfrm>
                <a:custGeom>
                  <a:avLst/>
                  <a:gdLst>
                    <a:gd name="textAreaLeft" fmla="*/ -360 w 32040"/>
                    <a:gd name="textAreaRight" fmla="*/ 32040 w 32040"/>
                    <a:gd name="textAreaTop" fmla="*/ 0 h 19440"/>
                    <a:gd name="textAreaBottom" fmla="*/ 19440 h 1944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58" name="Group 893"/>
            <p:cNvGrpSpPr/>
            <p:nvPr/>
          </p:nvGrpSpPr>
          <p:grpSpPr>
            <a:xfrm>
              <a:off x="1191600" y="312480"/>
              <a:ext cx="675720" cy="352440"/>
              <a:chOff x="1191600" y="312480"/>
              <a:chExt cx="675720" cy="352440"/>
            </a:xfrm>
          </p:grpSpPr>
          <p:grpSp>
            <p:nvGrpSpPr>
              <p:cNvPr id="2659" name="Group 894"/>
              <p:cNvGrpSpPr/>
              <p:nvPr/>
            </p:nvGrpSpPr>
            <p:grpSpPr>
              <a:xfrm>
                <a:off x="1191600" y="312480"/>
                <a:ext cx="675720" cy="352440"/>
                <a:chOff x="1191600" y="312480"/>
                <a:chExt cx="675720" cy="352440"/>
              </a:xfrm>
            </p:grpSpPr>
            <p:sp>
              <p:nvSpPr>
                <p:cNvPr id="2660" name="Freeform 1140"/>
                <p:cNvSpPr/>
                <p:nvPr/>
              </p:nvSpPr>
              <p:spPr>
                <a:xfrm rot="10594800">
                  <a:off x="1350000" y="326880"/>
                  <a:ext cx="507960" cy="322920"/>
                </a:xfrm>
                <a:custGeom>
                  <a:avLst/>
                  <a:gdLst>
                    <a:gd name="textAreaLeft" fmla="*/ 0 w 507960"/>
                    <a:gd name="textAreaRight" fmla="*/ 508320 w 507960"/>
                    <a:gd name="textAreaTop" fmla="*/ 0 h 322920"/>
                    <a:gd name="textAreaBottom" fmla="*/ 323280 h 32292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1" name="Freeform 1141"/>
                <p:cNvSpPr/>
                <p:nvPr/>
              </p:nvSpPr>
              <p:spPr>
                <a:xfrm rot="10594800">
                  <a:off x="1368000" y="424800"/>
                  <a:ext cx="430920" cy="153000"/>
                </a:xfrm>
                <a:custGeom>
                  <a:avLst/>
                  <a:gdLst>
                    <a:gd name="textAreaLeft" fmla="*/ 0 w 430920"/>
                    <a:gd name="textAreaRight" fmla="*/ 431280 w 430920"/>
                    <a:gd name="textAreaTop" fmla="*/ 0 h 153000"/>
                    <a:gd name="textAreaBottom" fmla="*/ 153360 h 15300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2" name="Freeform 1142"/>
                <p:cNvSpPr/>
                <p:nvPr/>
              </p:nvSpPr>
              <p:spPr>
                <a:xfrm rot="10594800">
                  <a:off x="1196280" y="424440"/>
                  <a:ext cx="627120" cy="190440"/>
                </a:xfrm>
                <a:custGeom>
                  <a:avLst/>
                  <a:gdLst>
                    <a:gd name="textAreaLeft" fmla="*/ 0 w 627120"/>
                    <a:gd name="textAreaRight" fmla="*/ 627480 w 627120"/>
                    <a:gd name="textAreaTop" fmla="*/ 0 h 190440"/>
                    <a:gd name="textAreaBottom" fmla="*/ 190800 h 19044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3" name="Freeform 1143"/>
                <p:cNvSpPr/>
                <p:nvPr/>
              </p:nvSpPr>
              <p:spPr>
                <a:xfrm rot="10594800">
                  <a:off x="1548720" y="484200"/>
                  <a:ext cx="203760" cy="187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4" name="Freeform 1144"/>
                <p:cNvSpPr/>
                <p:nvPr/>
              </p:nvSpPr>
              <p:spPr>
                <a:xfrm rot="10594800">
                  <a:off x="1458000" y="518040"/>
                  <a:ext cx="263520" cy="69840"/>
                </a:xfrm>
                <a:custGeom>
                  <a:avLst/>
                  <a:gdLst>
                    <a:gd name="textAreaLeft" fmla="*/ 0 w 263520"/>
                    <a:gd name="textAreaRight" fmla="*/ 263880 w 26352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5" name="Freeform 1145"/>
                <p:cNvSpPr/>
                <p:nvPr/>
              </p:nvSpPr>
              <p:spPr>
                <a:xfrm rot="10594800">
                  <a:off x="1398960" y="543240"/>
                  <a:ext cx="290160" cy="9288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92880"/>
                    <a:gd name="textAreaBottom" fmla="*/ 93240 h 9288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6" name="Freeform 1146"/>
                <p:cNvSpPr/>
                <p:nvPr/>
              </p:nvSpPr>
              <p:spPr>
                <a:xfrm rot="10594800">
                  <a:off x="1643760" y="456120"/>
                  <a:ext cx="120600" cy="11880"/>
                </a:xfrm>
                <a:custGeom>
                  <a:avLst/>
                  <a:gdLst>
                    <a:gd name="textAreaLeft" fmla="*/ 0 w 120600"/>
                    <a:gd name="textAreaRight" fmla="*/ 120960 w 12060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7" name="Freeform 1147"/>
                <p:cNvSpPr/>
                <p:nvPr/>
              </p:nvSpPr>
              <p:spPr>
                <a:xfrm rot="10594800">
                  <a:off x="1726920" y="432000"/>
                  <a:ext cx="63000" cy="468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8" name="Freeform 1148"/>
                <p:cNvSpPr/>
                <p:nvPr/>
              </p:nvSpPr>
              <p:spPr>
                <a:xfrm rot="10594800">
                  <a:off x="1713240" y="405000"/>
                  <a:ext cx="46080" cy="324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9" name="Freeform 1149"/>
                <p:cNvSpPr/>
                <p:nvPr/>
              </p:nvSpPr>
              <p:spPr>
                <a:xfrm rot="10594800">
                  <a:off x="1642320" y="397440"/>
                  <a:ext cx="80640" cy="6084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0" name="Freeform 1150"/>
                <p:cNvSpPr/>
                <p:nvPr/>
              </p:nvSpPr>
              <p:spPr>
                <a:xfrm rot="10594800">
                  <a:off x="1537560" y="384480"/>
                  <a:ext cx="129240" cy="106920"/>
                </a:xfrm>
                <a:custGeom>
                  <a:avLst/>
                  <a:gdLst>
                    <a:gd name="textAreaLeft" fmla="*/ 0 w 129240"/>
                    <a:gd name="textAreaRight" fmla="*/ 129600 w 129240"/>
                    <a:gd name="textAreaTop" fmla="*/ 0 h 106920"/>
                    <a:gd name="textAreaBottom" fmla="*/ 107280 h 10692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1" name="Freeform 1151"/>
                <p:cNvSpPr/>
                <p:nvPr/>
              </p:nvSpPr>
              <p:spPr>
                <a:xfrm rot="10594800">
                  <a:off x="1447200" y="367920"/>
                  <a:ext cx="138600" cy="156600"/>
                </a:xfrm>
                <a:custGeom>
                  <a:avLst/>
                  <a:gdLst>
                    <a:gd name="textAreaLeft" fmla="*/ 0 w 138600"/>
                    <a:gd name="textAreaRight" fmla="*/ 138960 w 138600"/>
                    <a:gd name="textAreaTop" fmla="*/ 0 h 156600"/>
                    <a:gd name="textAreaBottom" fmla="*/ 156960 h 15660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2" name="Freeform 1152"/>
                <p:cNvSpPr/>
                <p:nvPr/>
              </p:nvSpPr>
              <p:spPr>
                <a:xfrm rot="10594800">
                  <a:off x="1509840" y="365040"/>
                  <a:ext cx="15120" cy="61920"/>
                </a:xfrm>
                <a:custGeom>
                  <a:avLst/>
                  <a:gdLst>
                    <a:gd name="textAreaLeft" fmla="*/ 0 w 15120"/>
                    <a:gd name="textAreaRight" fmla="*/ 15480 w 151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3" name="Freeform 1153"/>
                <p:cNvSpPr/>
                <p:nvPr/>
              </p:nvSpPr>
              <p:spPr>
                <a:xfrm rot="10594800">
                  <a:off x="1381320" y="360720"/>
                  <a:ext cx="95760" cy="192600"/>
                </a:xfrm>
                <a:custGeom>
                  <a:avLst/>
                  <a:gdLst>
                    <a:gd name="textAreaLeft" fmla="*/ 0 w 95760"/>
                    <a:gd name="textAreaRight" fmla="*/ 96120 w 9576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4" name="Freeform 1154"/>
                <p:cNvSpPr/>
                <p:nvPr/>
              </p:nvSpPr>
              <p:spPr>
                <a:xfrm rot="10594800">
                  <a:off x="1488600" y="433440"/>
                  <a:ext cx="70920" cy="30600"/>
                </a:xfrm>
                <a:custGeom>
                  <a:avLst/>
                  <a:gdLst>
                    <a:gd name="textAreaLeft" fmla="*/ 0 w 70920"/>
                    <a:gd name="textAreaRight" fmla="*/ 71280 w 7092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5" name="Freeform 1155"/>
                <p:cNvSpPr/>
                <p:nvPr/>
              </p:nvSpPr>
              <p:spPr>
                <a:xfrm rot="10594800">
                  <a:off x="1599120" y="378720"/>
                  <a:ext cx="34200" cy="4896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6" name="Freeform 1156"/>
                <p:cNvSpPr/>
                <p:nvPr/>
              </p:nvSpPr>
              <p:spPr>
                <a:xfrm rot="10594800">
                  <a:off x="1639080" y="486000"/>
                  <a:ext cx="74880" cy="1044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7" name="Freeform 1157"/>
                <p:cNvSpPr/>
                <p:nvPr/>
              </p:nvSpPr>
              <p:spPr>
                <a:xfrm rot="10594800">
                  <a:off x="1677240" y="498960"/>
                  <a:ext cx="46080" cy="1872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8" name="Freeform 1158"/>
                <p:cNvSpPr/>
                <p:nvPr/>
              </p:nvSpPr>
              <p:spPr>
                <a:xfrm rot="10594800">
                  <a:off x="1553760" y="414720"/>
                  <a:ext cx="15120" cy="10800"/>
                </a:xfrm>
                <a:custGeom>
                  <a:avLst/>
                  <a:gdLst>
                    <a:gd name="textAreaLeft" fmla="*/ 0 w 15120"/>
                    <a:gd name="textAreaRight" fmla="*/ 15480 w 1512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9" name="Freeform 1159"/>
                <p:cNvSpPr/>
                <p:nvPr/>
              </p:nvSpPr>
              <p:spPr>
                <a:xfrm rot="10594800">
                  <a:off x="1653120" y="527760"/>
                  <a:ext cx="13320" cy="720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0" name="Freeform 1160"/>
                <p:cNvSpPr/>
                <p:nvPr/>
              </p:nvSpPr>
              <p:spPr>
                <a:xfrm rot="10594800">
                  <a:off x="1603800" y="569880"/>
                  <a:ext cx="15120" cy="8640"/>
                </a:xfrm>
                <a:custGeom>
                  <a:avLst/>
                  <a:gdLst>
                    <a:gd name="textAreaLeft" fmla="*/ 0 w 15120"/>
                    <a:gd name="textAreaRight" fmla="*/ 15480 w 1512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1" name="Freeform 1161"/>
                <p:cNvSpPr/>
                <p:nvPr/>
              </p:nvSpPr>
              <p:spPr>
                <a:xfrm rot="10594800">
                  <a:off x="1752120" y="474120"/>
                  <a:ext cx="11520" cy="43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2" name="Group 917"/>
              <p:cNvGrpSpPr/>
              <p:nvPr/>
            </p:nvGrpSpPr>
            <p:grpSpPr>
              <a:xfrm>
                <a:off x="1247400" y="581760"/>
                <a:ext cx="58680" cy="39960"/>
                <a:chOff x="1247400" y="581760"/>
                <a:chExt cx="58680" cy="39960"/>
              </a:xfrm>
            </p:grpSpPr>
            <p:sp>
              <p:nvSpPr>
                <p:cNvPr id="2683" name="Freeform 1163"/>
                <p:cNvSpPr/>
                <p:nvPr/>
              </p:nvSpPr>
              <p:spPr>
                <a:xfrm rot="6231000">
                  <a:off x="1263240" y="575280"/>
                  <a:ext cx="26640" cy="5364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4" name="Freeform 1164"/>
                <p:cNvSpPr/>
                <p:nvPr/>
              </p:nvSpPr>
              <p:spPr>
                <a:xfrm rot="2583600">
                  <a:off x="1262160" y="588600"/>
                  <a:ext cx="27000" cy="162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85" name="Group 920"/>
            <p:cNvGrpSpPr/>
            <p:nvPr/>
          </p:nvGrpSpPr>
          <p:grpSpPr>
            <a:xfrm>
              <a:off x="1645560" y="814320"/>
              <a:ext cx="570240" cy="524160"/>
              <a:chOff x="1645560" y="814320"/>
              <a:chExt cx="570240" cy="524160"/>
            </a:xfrm>
          </p:grpSpPr>
          <p:grpSp>
            <p:nvGrpSpPr>
              <p:cNvPr id="2686" name="Group 921"/>
              <p:cNvGrpSpPr/>
              <p:nvPr/>
            </p:nvGrpSpPr>
            <p:grpSpPr>
              <a:xfrm>
                <a:off x="1649520" y="814320"/>
                <a:ext cx="566280" cy="524160"/>
                <a:chOff x="1649520" y="814320"/>
                <a:chExt cx="566280" cy="524160"/>
              </a:xfrm>
            </p:grpSpPr>
            <p:sp>
              <p:nvSpPr>
                <p:cNvPr id="2687" name="Freeform 1167"/>
                <p:cNvSpPr/>
                <p:nvPr/>
              </p:nvSpPr>
              <p:spPr>
                <a:xfrm rot="15123000">
                  <a:off x="1764360" y="860040"/>
                  <a:ext cx="336240" cy="486360"/>
                </a:xfrm>
                <a:custGeom>
                  <a:avLst/>
                  <a:gdLst>
                    <a:gd name="textAreaLeft" fmla="*/ 0 w 336240"/>
                    <a:gd name="textAreaRight" fmla="*/ 336600 w 336240"/>
                    <a:gd name="textAreaTop" fmla="*/ 0 h 486360"/>
                    <a:gd name="textAreaBottom" fmla="*/ 486720 h 48636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8" name="Freeform 1168"/>
                <p:cNvSpPr/>
                <p:nvPr/>
              </p:nvSpPr>
              <p:spPr>
                <a:xfrm rot="15123000">
                  <a:off x="1768680" y="980280"/>
                  <a:ext cx="284760" cy="231120"/>
                </a:xfrm>
                <a:custGeom>
                  <a:avLst/>
                  <a:gdLst>
                    <a:gd name="textAreaLeft" fmla="*/ 0 w 284760"/>
                    <a:gd name="textAreaRight" fmla="*/ 285120 w 284760"/>
                    <a:gd name="textAreaTop" fmla="*/ 0 h 231120"/>
                    <a:gd name="textAreaBottom" fmla="*/ 231480 h 23112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9" name="Freeform 1169"/>
                <p:cNvSpPr/>
                <p:nvPr/>
              </p:nvSpPr>
              <p:spPr>
                <a:xfrm rot="15123000">
                  <a:off x="1669320" y="911520"/>
                  <a:ext cx="414360" cy="287640"/>
                </a:xfrm>
                <a:custGeom>
                  <a:avLst/>
                  <a:gdLst>
                    <a:gd name="textAreaLeft" fmla="*/ 0 w 414360"/>
                    <a:gd name="textAreaRight" fmla="*/ 414720 w 414360"/>
                    <a:gd name="textAreaTop" fmla="*/ 0 h 287640"/>
                    <a:gd name="textAreaBottom" fmla="*/ 288000 h 28764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0" name="Freeform 1170"/>
                <p:cNvSpPr/>
                <p:nvPr/>
              </p:nvSpPr>
              <p:spPr>
                <a:xfrm rot="15123000">
                  <a:off x="1864440" y="1122120"/>
                  <a:ext cx="134640" cy="28440"/>
                </a:xfrm>
                <a:custGeom>
                  <a:avLst/>
                  <a:gdLst>
                    <a:gd name="textAreaLeft" fmla="*/ 0 w 134640"/>
                    <a:gd name="textAreaRight" fmla="*/ 135000 w 13464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1" name="Freeform 1171"/>
                <p:cNvSpPr/>
                <p:nvPr/>
              </p:nvSpPr>
              <p:spPr>
                <a:xfrm rot="15123000">
                  <a:off x="1750680" y="1068120"/>
                  <a:ext cx="174240" cy="106200"/>
                </a:xfrm>
                <a:custGeom>
                  <a:avLst/>
                  <a:gdLst>
                    <a:gd name="textAreaLeft" fmla="*/ 0 w 174240"/>
                    <a:gd name="textAreaRight" fmla="*/ 174600 w 17424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2" name="Freeform 1172"/>
                <p:cNvSpPr/>
                <p:nvPr/>
              </p:nvSpPr>
              <p:spPr>
                <a:xfrm rot="15123000">
                  <a:off x="1684080" y="1037160"/>
                  <a:ext cx="191880" cy="140400"/>
                </a:xfrm>
                <a:custGeom>
                  <a:avLst/>
                  <a:gdLst>
                    <a:gd name="textAreaLeft" fmla="*/ 0 w 191880"/>
                    <a:gd name="textAreaRight" fmla="*/ 192240 w 191880"/>
                    <a:gd name="textAreaTop" fmla="*/ 0 h 140400"/>
                    <a:gd name="textAreaBottom" fmla="*/ 140760 h 14040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3" name="Freeform 1173"/>
                <p:cNvSpPr/>
                <p:nvPr/>
              </p:nvSpPr>
              <p:spPr>
                <a:xfrm rot="15123000">
                  <a:off x="1944000" y="1148760"/>
                  <a:ext cx="79920" cy="1764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4" name="Freeform 1174"/>
                <p:cNvSpPr/>
                <p:nvPr/>
              </p:nvSpPr>
              <p:spPr>
                <a:xfrm rot="15123000">
                  <a:off x="2010240" y="1177200"/>
                  <a:ext cx="41760" cy="720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5" name="Freeform 1175"/>
                <p:cNvSpPr/>
                <p:nvPr/>
              </p:nvSpPr>
              <p:spPr>
                <a:xfrm rot="15123000">
                  <a:off x="2031840" y="1135800"/>
                  <a:ext cx="29880" cy="4968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6" name="Freeform 1176"/>
                <p:cNvSpPr/>
                <p:nvPr/>
              </p:nvSpPr>
              <p:spPr>
                <a:xfrm rot="15123000">
                  <a:off x="2003760" y="1081800"/>
                  <a:ext cx="53280" cy="92160"/>
                </a:xfrm>
                <a:custGeom>
                  <a:avLst/>
                  <a:gdLst>
                    <a:gd name="textAreaLeft" fmla="*/ 0 w 53280"/>
                    <a:gd name="textAreaRight" fmla="*/ 53640 w 5328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7" name="Freeform 1177"/>
                <p:cNvSpPr/>
                <p:nvPr/>
              </p:nvSpPr>
              <p:spPr>
                <a:xfrm rot="15123000">
                  <a:off x="1963800" y="999720"/>
                  <a:ext cx="85320" cy="16200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62000"/>
                    <a:gd name="textAreaBottom" fmla="*/ 162360 h 16200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8" name="Freeform 1178"/>
                <p:cNvSpPr/>
                <p:nvPr/>
              </p:nvSpPr>
              <p:spPr>
                <a:xfrm rot="15123000">
                  <a:off x="1937880" y="910440"/>
                  <a:ext cx="92160" cy="2361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236160"/>
                    <a:gd name="textAreaBottom" fmla="*/ 236520 h 23616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9" name="Freeform 1179"/>
                <p:cNvSpPr/>
                <p:nvPr/>
              </p:nvSpPr>
              <p:spPr>
                <a:xfrm rot="15123000">
                  <a:off x="2052360" y="959400"/>
                  <a:ext cx="10080" cy="939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93960"/>
                    <a:gd name="textAreaBottom" fmla="*/ 94320 h 9396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0" name="Freeform 1180"/>
                <p:cNvSpPr/>
                <p:nvPr/>
              </p:nvSpPr>
              <p:spPr>
                <a:xfrm rot="15123000">
                  <a:off x="1926720" y="829440"/>
                  <a:ext cx="63000" cy="29124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291240"/>
                    <a:gd name="textAreaBottom" fmla="*/ 291600 h 29124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1" name="Freeform 1181"/>
                <p:cNvSpPr/>
                <p:nvPr/>
              </p:nvSpPr>
              <p:spPr>
                <a:xfrm rot="15123000">
                  <a:off x="1957680" y="1010880"/>
                  <a:ext cx="46800" cy="46080"/>
                </a:xfrm>
                <a:custGeom>
                  <a:avLst/>
                  <a:gdLst>
                    <a:gd name="textAreaLeft" fmla="*/ 0 w 46800"/>
                    <a:gd name="textAreaRight" fmla="*/ 47160 w 4680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2" name="Freeform 1182"/>
                <p:cNvSpPr/>
                <p:nvPr/>
              </p:nvSpPr>
              <p:spPr>
                <a:xfrm rot="15123000">
                  <a:off x="2046600" y="1037520"/>
                  <a:ext cx="23040" cy="74520"/>
                </a:xfrm>
                <a:custGeom>
                  <a:avLst/>
                  <a:gdLst>
                    <a:gd name="textAreaLeft" fmla="*/ 0 w 23040"/>
                    <a:gd name="textAreaRight" fmla="*/ 23400 w 23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3" name="Freeform 1183"/>
                <p:cNvSpPr/>
                <p:nvPr/>
              </p:nvSpPr>
              <p:spPr>
                <a:xfrm rot="15123000">
                  <a:off x="1913400" y="1144440"/>
                  <a:ext cx="49320" cy="1584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4" name="Freeform 1184"/>
                <p:cNvSpPr/>
                <p:nvPr/>
              </p:nvSpPr>
              <p:spPr>
                <a:xfrm rot="15123000">
                  <a:off x="1901520" y="1160640"/>
                  <a:ext cx="29880" cy="2808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5" name="Freeform 1185"/>
                <p:cNvSpPr/>
                <p:nvPr/>
              </p:nvSpPr>
              <p:spPr>
                <a:xfrm rot="15123000">
                  <a:off x="2022840" y="1037520"/>
                  <a:ext cx="10080" cy="172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6" name="Freeform 1186"/>
                <p:cNvSpPr/>
                <p:nvPr/>
              </p:nvSpPr>
              <p:spPr>
                <a:xfrm rot="15123000">
                  <a:off x="1873080" y="1153440"/>
                  <a:ext cx="8640" cy="10440"/>
                </a:xfrm>
                <a:custGeom>
                  <a:avLst/>
                  <a:gdLst>
                    <a:gd name="textAreaLeft" fmla="*/ 0 w 8640"/>
                    <a:gd name="textAreaRight" fmla="*/ 9000 w 86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7" name="Freeform 1187"/>
                <p:cNvSpPr/>
                <p:nvPr/>
              </p:nvSpPr>
              <p:spPr>
                <a:xfrm rot="15123000">
                  <a:off x="1805040" y="1137960"/>
                  <a:ext cx="10080" cy="1404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8" name="Freeform 1188"/>
                <p:cNvSpPr/>
                <p:nvPr/>
              </p:nvSpPr>
              <p:spPr>
                <a:xfrm rot="15123000">
                  <a:off x="1965960" y="1195560"/>
                  <a:ext cx="7560" cy="720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9" name="Group 944"/>
              <p:cNvGrpSpPr/>
              <p:nvPr/>
            </p:nvGrpSpPr>
            <p:grpSpPr>
              <a:xfrm>
                <a:off x="1645560" y="897120"/>
                <a:ext cx="43920" cy="35640"/>
                <a:chOff x="1645560" y="897120"/>
                <a:chExt cx="43920" cy="35640"/>
              </a:xfrm>
            </p:grpSpPr>
            <p:sp>
              <p:nvSpPr>
                <p:cNvPr id="2710" name="Freeform 1190"/>
                <p:cNvSpPr/>
                <p:nvPr/>
              </p:nvSpPr>
              <p:spPr>
                <a:xfrm rot="10758000">
                  <a:off x="1645560" y="897120"/>
                  <a:ext cx="40320" cy="35280"/>
                </a:xfrm>
                <a:custGeom>
                  <a:avLst/>
                  <a:gdLst>
                    <a:gd name="textAreaLeft" fmla="*/ 0 w 40320"/>
                    <a:gd name="textAreaRight" fmla="*/ 40680 w 40320"/>
                    <a:gd name="textAreaTop" fmla="*/ 0 h 35280"/>
                    <a:gd name="textAreaBottom" fmla="*/ 35640 h 3528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1" name="Freeform 1191"/>
                <p:cNvSpPr/>
                <p:nvPr/>
              </p:nvSpPr>
              <p:spPr>
                <a:xfrm rot="7111800">
                  <a:off x="1665000" y="899640"/>
                  <a:ext cx="18000" cy="2484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12" name="Group 947"/>
          <p:cNvGrpSpPr/>
          <p:nvPr/>
        </p:nvGrpSpPr>
        <p:grpSpPr>
          <a:xfrm>
            <a:off x="-149040" y="34200"/>
            <a:ext cx="2062440" cy="1561320"/>
            <a:chOff x="-149040" y="34200"/>
            <a:chExt cx="2062440" cy="1561320"/>
          </a:xfrm>
        </p:grpSpPr>
        <p:sp>
          <p:nvSpPr>
            <p:cNvPr id="2713" name="Freeform 1193"/>
            <p:cNvSpPr/>
            <p:nvPr/>
          </p:nvSpPr>
          <p:spPr>
            <a:xfrm flipH="1" rot="4059600">
              <a:off x="671400" y="-155880"/>
              <a:ext cx="216720" cy="1759680"/>
            </a:xfrm>
            <a:custGeom>
              <a:avLst/>
              <a:gdLst>
                <a:gd name="textAreaLeft" fmla="*/ 360 w 216720"/>
                <a:gd name="textAreaRight" fmla="*/ 217440 w 216720"/>
                <a:gd name="textAreaTop" fmla="*/ 0 h 1759680"/>
                <a:gd name="textAreaBottom" fmla="*/ 1760040 h 1759680"/>
              </a:gdLst>
              <a:ahLst/>
              <a:rect l="textAreaLeft" t="textAreaTop" r="textAreaRight" b="textAreaBottom"/>
              <a:pathLst>
                <a:path w="2573" h="12419">
                  <a:moveTo>
                    <a:pt x="103" y="11997"/>
                  </a:moveTo>
                  <a:lnTo>
                    <a:pt x="103" y="11955"/>
                  </a:lnTo>
                  <a:lnTo>
                    <a:pt x="113" y="11851"/>
                  </a:lnTo>
                  <a:lnTo>
                    <a:pt x="124" y="11788"/>
                  </a:lnTo>
                  <a:lnTo>
                    <a:pt x="135" y="11737"/>
                  </a:lnTo>
                  <a:lnTo>
                    <a:pt x="150" y="11690"/>
                  </a:lnTo>
                  <a:lnTo>
                    <a:pt x="160" y="11669"/>
                  </a:lnTo>
                  <a:lnTo>
                    <a:pt x="170" y="11658"/>
                  </a:lnTo>
                  <a:lnTo>
                    <a:pt x="228" y="11596"/>
                  </a:lnTo>
                  <a:lnTo>
                    <a:pt x="264" y="11555"/>
                  </a:lnTo>
                  <a:lnTo>
                    <a:pt x="300" y="11503"/>
                  </a:lnTo>
                  <a:lnTo>
                    <a:pt x="332" y="11445"/>
                  </a:lnTo>
                  <a:lnTo>
                    <a:pt x="368" y="11378"/>
                  </a:lnTo>
                  <a:lnTo>
                    <a:pt x="394" y="11305"/>
                  </a:lnTo>
                  <a:lnTo>
                    <a:pt x="410" y="11221"/>
                  </a:lnTo>
                  <a:lnTo>
                    <a:pt x="447" y="11071"/>
                  </a:lnTo>
                  <a:lnTo>
                    <a:pt x="504" y="10821"/>
                  </a:lnTo>
                  <a:lnTo>
                    <a:pt x="670" y="10144"/>
                  </a:lnTo>
                  <a:lnTo>
                    <a:pt x="831" y="9488"/>
                  </a:lnTo>
                  <a:lnTo>
                    <a:pt x="883" y="9254"/>
                  </a:lnTo>
                  <a:lnTo>
                    <a:pt x="904" y="9140"/>
                  </a:lnTo>
                  <a:lnTo>
                    <a:pt x="909" y="9056"/>
                  </a:lnTo>
                  <a:lnTo>
                    <a:pt x="914" y="9004"/>
                  </a:lnTo>
                  <a:lnTo>
                    <a:pt x="919" y="8983"/>
                  </a:lnTo>
                  <a:lnTo>
                    <a:pt x="930" y="8973"/>
                  </a:lnTo>
                  <a:lnTo>
                    <a:pt x="946" y="8963"/>
                  </a:lnTo>
                  <a:lnTo>
                    <a:pt x="966" y="8958"/>
                  </a:lnTo>
                  <a:lnTo>
                    <a:pt x="981" y="8946"/>
                  </a:lnTo>
                  <a:lnTo>
                    <a:pt x="1003" y="8921"/>
                  </a:lnTo>
                  <a:lnTo>
                    <a:pt x="1023" y="8884"/>
                  </a:lnTo>
                  <a:lnTo>
                    <a:pt x="1050" y="8833"/>
                  </a:lnTo>
                  <a:lnTo>
                    <a:pt x="1106" y="8708"/>
                  </a:lnTo>
                  <a:lnTo>
                    <a:pt x="1169" y="8556"/>
                  </a:lnTo>
                  <a:lnTo>
                    <a:pt x="1231" y="8395"/>
                  </a:lnTo>
                  <a:lnTo>
                    <a:pt x="1288" y="8239"/>
                  </a:lnTo>
                  <a:lnTo>
                    <a:pt x="1335" y="8104"/>
                  </a:lnTo>
                  <a:lnTo>
                    <a:pt x="1367" y="7999"/>
                  </a:lnTo>
                  <a:lnTo>
                    <a:pt x="1445" y="7755"/>
                  </a:lnTo>
                  <a:lnTo>
                    <a:pt x="1554" y="7401"/>
                  </a:lnTo>
                  <a:lnTo>
                    <a:pt x="1606" y="7213"/>
                  </a:lnTo>
                  <a:lnTo>
                    <a:pt x="1647" y="7026"/>
                  </a:lnTo>
                  <a:lnTo>
                    <a:pt x="1669" y="6943"/>
                  </a:lnTo>
                  <a:lnTo>
                    <a:pt x="1679" y="6860"/>
                  </a:lnTo>
                  <a:lnTo>
                    <a:pt x="1689" y="6786"/>
                  </a:lnTo>
                  <a:lnTo>
                    <a:pt x="1689" y="6719"/>
                  </a:lnTo>
                  <a:lnTo>
                    <a:pt x="1694" y="6651"/>
                  </a:lnTo>
                  <a:lnTo>
                    <a:pt x="1699" y="6558"/>
                  </a:lnTo>
                  <a:lnTo>
                    <a:pt x="1731" y="6318"/>
                  </a:lnTo>
                  <a:lnTo>
                    <a:pt x="1772" y="6032"/>
                  </a:lnTo>
                  <a:lnTo>
                    <a:pt x="1814" y="5730"/>
                  </a:lnTo>
                  <a:lnTo>
                    <a:pt x="1902" y="5163"/>
                  </a:lnTo>
                  <a:lnTo>
                    <a:pt x="1934" y="4955"/>
                  </a:lnTo>
                  <a:lnTo>
                    <a:pt x="1939" y="4877"/>
                  </a:lnTo>
                  <a:lnTo>
                    <a:pt x="1944" y="4830"/>
                  </a:lnTo>
                  <a:lnTo>
                    <a:pt x="1949" y="4236"/>
                  </a:lnTo>
                  <a:lnTo>
                    <a:pt x="1964" y="3133"/>
                  </a:lnTo>
                  <a:lnTo>
                    <a:pt x="1970" y="2555"/>
                  </a:lnTo>
                  <a:lnTo>
                    <a:pt x="1970" y="2050"/>
                  </a:lnTo>
                  <a:lnTo>
                    <a:pt x="1964" y="1686"/>
                  </a:lnTo>
                  <a:lnTo>
                    <a:pt x="1959" y="1571"/>
                  </a:lnTo>
                  <a:lnTo>
                    <a:pt x="1954" y="1541"/>
                  </a:lnTo>
                  <a:lnTo>
                    <a:pt x="1954" y="1524"/>
                  </a:lnTo>
                  <a:lnTo>
                    <a:pt x="1918" y="1457"/>
                  </a:lnTo>
                  <a:lnTo>
                    <a:pt x="1892" y="1399"/>
                  </a:lnTo>
                  <a:lnTo>
                    <a:pt x="1887" y="1374"/>
                  </a:lnTo>
                  <a:lnTo>
                    <a:pt x="1882" y="1347"/>
                  </a:lnTo>
                  <a:lnTo>
                    <a:pt x="1882" y="1327"/>
                  </a:lnTo>
                  <a:lnTo>
                    <a:pt x="1892" y="1311"/>
                  </a:lnTo>
                  <a:lnTo>
                    <a:pt x="1897" y="1306"/>
                  </a:lnTo>
                  <a:lnTo>
                    <a:pt x="1907" y="1301"/>
                  </a:lnTo>
                  <a:lnTo>
                    <a:pt x="1923" y="1306"/>
                  </a:lnTo>
                  <a:lnTo>
                    <a:pt x="1944" y="1311"/>
                  </a:lnTo>
                  <a:lnTo>
                    <a:pt x="1964" y="1322"/>
                  </a:lnTo>
                  <a:lnTo>
                    <a:pt x="1986" y="1332"/>
                  </a:lnTo>
                  <a:lnTo>
                    <a:pt x="2006" y="1337"/>
                  </a:lnTo>
                  <a:lnTo>
                    <a:pt x="2022" y="1337"/>
                  </a:lnTo>
                  <a:lnTo>
                    <a:pt x="2027" y="1332"/>
                  </a:lnTo>
                  <a:lnTo>
                    <a:pt x="2032" y="1322"/>
                  </a:lnTo>
                  <a:lnTo>
                    <a:pt x="2214" y="775"/>
                  </a:lnTo>
                  <a:lnTo>
                    <a:pt x="2386" y="265"/>
                  </a:lnTo>
                  <a:lnTo>
                    <a:pt x="2376" y="228"/>
                  </a:lnTo>
                  <a:lnTo>
                    <a:pt x="2360" y="140"/>
                  </a:lnTo>
                  <a:lnTo>
                    <a:pt x="2360" y="93"/>
                  </a:lnTo>
                  <a:lnTo>
                    <a:pt x="2360" y="51"/>
                  </a:lnTo>
                  <a:lnTo>
                    <a:pt x="2365" y="20"/>
                  </a:lnTo>
                  <a:lnTo>
                    <a:pt x="2376" y="10"/>
                  </a:lnTo>
                  <a:lnTo>
                    <a:pt x="2386" y="5"/>
                  </a:lnTo>
                  <a:lnTo>
                    <a:pt x="2396" y="0"/>
                  </a:lnTo>
                  <a:lnTo>
                    <a:pt x="2401" y="5"/>
                  </a:lnTo>
                  <a:lnTo>
                    <a:pt x="2417" y="15"/>
                  </a:lnTo>
                  <a:lnTo>
                    <a:pt x="2423" y="36"/>
                  </a:lnTo>
                  <a:lnTo>
                    <a:pt x="2428" y="67"/>
                  </a:lnTo>
                  <a:lnTo>
                    <a:pt x="2438" y="130"/>
                  </a:lnTo>
                  <a:lnTo>
                    <a:pt x="2448" y="155"/>
                  </a:lnTo>
                  <a:lnTo>
                    <a:pt x="2464" y="177"/>
                  </a:lnTo>
                  <a:lnTo>
                    <a:pt x="2485" y="187"/>
                  </a:lnTo>
                  <a:lnTo>
                    <a:pt x="2505" y="197"/>
                  </a:lnTo>
                  <a:lnTo>
                    <a:pt x="2547" y="213"/>
                  </a:lnTo>
                  <a:lnTo>
                    <a:pt x="2563" y="218"/>
                  </a:lnTo>
                  <a:lnTo>
                    <a:pt x="2568" y="228"/>
                  </a:lnTo>
                  <a:lnTo>
                    <a:pt x="2573" y="233"/>
                  </a:lnTo>
                  <a:lnTo>
                    <a:pt x="2568" y="245"/>
                  </a:lnTo>
                  <a:lnTo>
                    <a:pt x="2531" y="275"/>
                  </a:lnTo>
                  <a:lnTo>
                    <a:pt x="2490" y="327"/>
                  </a:lnTo>
                  <a:lnTo>
                    <a:pt x="2443" y="390"/>
                  </a:lnTo>
                  <a:lnTo>
                    <a:pt x="2423" y="421"/>
                  </a:lnTo>
                  <a:lnTo>
                    <a:pt x="2406" y="457"/>
                  </a:lnTo>
                  <a:lnTo>
                    <a:pt x="2334" y="650"/>
                  </a:lnTo>
                  <a:lnTo>
                    <a:pt x="2219" y="999"/>
                  </a:lnTo>
                  <a:lnTo>
                    <a:pt x="2163" y="1186"/>
                  </a:lnTo>
                  <a:lnTo>
                    <a:pt x="2116" y="1363"/>
                  </a:lnTo>
                  <a:lnTo>
                    <a:pt x="2084" y="1504"/>
                  </a:lnTo>
                  <a:lnTo>
                    <a:pt x="2074" y="1556"/>
                  </a:lnTo>
                  <a:lnTo>
                    <a:pt x="2074" y="1592"/>
                  </a:lnTo>
                  <a:lnTo>
                    <a:pt x="2074" y="1706"/>
                  </a:lnTo>
                  <a:lnTo>
                    <a:pt x="2074" y="1915"/>
                  </a:lnTo>
                  <a:lnTo>
                    <a:pt x="2069" y="2456"/>
                  </a:lnTo>
                  <a:lnTo>
                    <a:pt x="2053" y="3195"/>
                  </a:lnTo>
                  <a:lnTo>
                    <a:pt x="2064" y="3185"/>
                  </a:lnTo>
                  <a:lnTo>
                    <a:pt x="2089" y="3164"/>
                  </a:lnTo>
                  <a:lnTo>
                    <a:pt x="2106" y="3154"/>
                  </a:lnTo>
                  <a:lnTo>
                    <a:pt x="2116" y="3154"/>
                  </a:lnTo>
                  <a:lnTo>
                    <a:pt x="2121" y="3159"/>
                  </a:lnTo>
                  <a:lnTo>
                    <a:pt x="2121" y="3174"/>
                  </a:lnTo>
                  <a:lnTo>
                    <a:pt x="2111" y="3227"/>
                  </a:lnTo>
                  <a:lnTo>
                    <a:pt x="2089" y="3284"/>
                  </a:lnTo>
                  <a:lnTo>
                    <a:pt x="2069" y="3352"/>
                  </a:lnTo>
                  <a:lnTo>
                    <a:pt x="2064" y="3394"/>
                  </a:lnTo>
                  <a:lnTo>
                    <a:pt x="2064" y="3435"/>
                  </a:lnTo>
                  <a:lnTo>
                    <a:pt x="2058" y="3747"/>
                  </a:lnTo>
                  <a:lnTo>
                    <a:pt x="2043" y="4356"/>
                  </a:lnTo>
                  <a:lnTo>
                    <a:pt x="2032" y="4705"/>
                  </a:lnTo>
                  <a:lnTo>
                    <a:pt x="2022" y="5048"/>
                  </a:lnTo>
                  <a:lnTo>
                    <a:pt x="2001" y="5360"/>
                  </a:lnTo>
                  <a:lnTo>
                    <a:pt x="1981" y="5610"/>
                  </a:lnTo>
                  <a:lnTo>
                    <a:pt x="1954" y="5834"/>
                  </a:lnTo>
                  <a:lnTo>
                    <a:pt x="1923" y="6058"/>
                  </a:lnTo>
                  <a:lnTo>
                    <a:pt x="1850" y="6490"/>
                  </a:lnTo>
                  <a:lnTo>
                    <a:pt x="1819" y="6673"/>
                  </a:lnTo>
                  <a:lnTo>
                    <a:pt x="1799" y="6818"/>
                  </a:lnTo>
                  <a:lnTo>
                    <a:pt x="1794" y="6922"/>
                  </a:lnTo>
                  <a:lnTo>
                    <a:pt x="1794" y="6953"/>
                  </a:lnTo>
                  <a:lnTo>
                    <a:pt x="1804" y="6974"/>
                  </a:lnTo>
                  <a:lnTo>
                    <a:pt x="1819" y="6985"/>
                  </a:lnTo>
                  <a:lnTo>
                    <a:pt x="1834" y="6990"/>
                  </a:lnTo>
                  <a:lnTo>
                    <a:pt x="1866" y="6990"/>
                  </a:lnTo>
                  <a:lnTo>
                    <a:pt x="1876" y="6990"/>
                  </a:lnTo>
                  <a:lnTo>
                    <a:pt x="1887" y="6995"/>
                  </a:lnTo>
                  <a:lnTo>
                    <a:pt x="1897" y="7010"/>
                  </a:lnTo>
                  <a:lnTo>
                    <a:pt x="1902" y="7031"/>
                  </a:lnTo>
                  <a:lnTo>
                    <a:pt x="1897" y="7063"/>
                  </a:lnTo>
                  <a:lnTo>
                    <a:pt x="1887" y="7100"/>
                  </a:lnTo>
                  <a:lnTo>
                    <a:pt x="1866" y="7130"/>
                  </a:lnTo>
                  <a:lnTo>
                    <a:pt x="1845" y="7162"/>
                  </a:lnTo>
                  <a:lnTo>
                    <a:pt x="1804" y="7208"/>
                  </a:lnTo>
                  <a:lnTo>
                    <a:pt x="1782" y="7224"/>
                  </a:lnTo>
                  <a:lnTo>
                    <a:pt x="1076" y="9108"/>
                  </a:lnTo>
                  <a:lnTo>
                    <a:pt x="571" y="11174"/>
                  </a:lnTo>
                  <a:lnTo>
                    <a:pt x="582" y="11201"/>
                  </a:lnTo>
                  <a:lnTo>
                    <a:pt x="587" y="11243"/>
                  </a:lnTo>
                  <a:lnTo>
                    <a:pt x="582" y="11294"/>
                  </a:lnTo>
                  <a:lnTo>
                    <a:pt x="571" y="11331"/>
                  </a:lnTo>
                  <a:lnTo>
                    <a:pt x="550" y="11378"/>
                  </a:lnTo>
                  <a:lnTo>
                    <a:pt x="487" y="11492"/>
                  </a:lnTo>
                  <a:lnTo>
                    <a:pt x="457" y="11550"/>
                  </a:lnTo>
                  <a:lnTo>
                    <a:pt x="431" y="11606"/>
                  </a:lnTo>
                  <a:lnTo>
                    <a:pt x="410" y="11658"/>
                  </a:lnTo>
                  <a:lnTo>
                    <a:pt x="405" y="11695"/>
                  </a:lnTo>
                  <a:lnTo>
                    <a:pt x="399" y="11737"/>
                  </a:lnTo>
                  <a:lnTo>
                    <a:pt x="389" y="11783"/>
                  </a:lnTo>
                  <a:lnTo>
                    <a:pt x="352" y="11898"/>
                  </a:lnTo>
                  <a:lnTo>
                    <a:pt x="312" y="12018"/>
                  </a:lnTo>
                  <a:lnTo>
                    <a:pt x="259" y="12122"/>
                  </a:lnTo>
                  <a:lnTo>
                    <a:pt x="197" y="12220"/>
                  </a:lnTo>
                  <a:lnTo>
                    <a:pt x="113" y="12330"/>
                  </a:lnTo>
                  <a:lnTo>
                    <a:pt x="77" y="12377"/>
                  </a:lnTo>
                  <a:lnTo>
                    <a:pt x="40" y="12408"/>
                  </a:lnTo>
                  <a:lnTo>
                    <a:pt x="25" y="12419"/>
                  </a:lnTo>
                  <a:lnTo>
                    <a:pt x="15" y="12419"/>
                  </a:lnTo>
                  <a:lnTo>
                    <a:pt x="5" y="12419"/>
                  </a:lnTo>
                  <a:lnTo>
                    <a:pt x="0" y="12413"/>
                  </a:lnTo>
                  <a:lnTo>
                    <a:pt x="0" y="12397"/>
                  </a:lnTo>
                  <a:lnTo>
                    <a:pt x="0" y="12377"/>
                  </a:lnTo>
                  <a:lnTo>
                    <a:pt x="10" y="12320"/>
                  </a:lnTo>
                  <a:lnTo>
                    <a:pt x="40" y="12185"/>
                  </a:lnTo>
                  <a:lnTo>
                    <a:pt x="82" y="12055"/>
                  </a:lnTo>
                  <a:lnTo>
                    <a:pt x="103" y="11997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Freeform 1194"/>
            <p:cNvSpPr/>
            <p:nvPr/>
          </p:nvSpPr>
          <p:spPr>
            <a:xfrm flipH="1" rot="4059600">
              <a:off x="25920" y="1097640"/>
              <a:ext cx="24120" cy="67680"/>
            </a:xfrm>
            <a:custGeom>
              <a:avLst/>
              <a:gdLst>
                <a:gd name="textAreaLeft" fmla="*/ -360 w 24120"/>
                <a:gd name="textAreaRight" fmla="*/ 24120 w 241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297" h="479">
                  <a:moveTo>
                    <a:pt x="265" y="0"/>
                  </a:moveTo>
                  <a:lnTo>
                    <a:pt x="249" y="5"/>
                  </a:lnTo>
                  <a:lnTo>
                    <a:pt x="228" y="10"/>
                  </a:lnTo>
                  <a:lnTo>
                    <a:pt x="202" y="22"/>
                  </a:lnTo>
                  <a:lnTo>
                    <a:pt x="177" y="37"/>
                  </a:lnTo>
                  <a:lnTo>
                    <a:pt x="145" y="57"/>
                  </a:lnTo>
                  <a:lnTo>
                    <a:pt x="120" y="89"/>
                  </a:lnTo>
                  <a:lnTo>
                    <a:pt x="93" y="130"/>
                  </a:lnTo>
                  <a:lnTo>
                    <a:pt x="73" y="182"/>
                  </a:lnTo>
                  <a:lnTo>
                    <a:pt x="52" y="245"/>
                  </a:lnTo>
                  <a:lnTo>
                    <a:pt x="31" y="312"/>
                  </a:lnTo>
                  <a:lnTo>
                    <a:pt x="10" y="375"/>
                  </a:lnTo>
                  <a:lnTo>
                    <a:pt x="5" y="427"/>
                  </a:lnTo>
                  <a:lnTo>
                    <a:pt x="0" y="464"/>
                  </a:lnTo>
                  <a:lnTo>
                    <a:pt x="5" y="474"/>
                  </a:lnTo>
                  <a:lnTo>
                    <a:pt x="10" y="479"/>
                  </a:lnTo>
                  <a:lnTo>
                    <a:pt x="20" y="474"/>
                  </a:lnTo>
                  <a:lnTo>
                    <a:pt x="36" y="464"/>
                  </a:lnTo>
                  <a:lnTo>
                    <a:pt x="73" y="422"/>
                  </a:lnTo>
                  <a:lnTo>
                    <a:pt x="125" y="359"/>
                  </a:lnTo>
                  <a:lnTo>
                    <a:pt x="177" y="282"/>
                  </a:lnTo>
                  <a:lnTo>
                    <a:pt x="228" y="204"/>
                  </a:lnTo>
                  <a:lnTo>
                    <a:pt x="270" y="125"/>
                  </a:lnTo>
                  <a:lnTo>
                    <a:pt x="280" y="89"/>
                  </a:lnTo>
                  <a:lnTo>
                    <a:pt x="290" y="63"/>
                  </a:lnTo>
                  <a:lnTo>
                    <a:pt x="297" y="37"/>
                  </a:lnTo>
                  <a:lnTo>
                    <a:pt x="297" y="16"/>
                  </a:lnTo>
                  <a:lnTo>
                    <a:pt x="285" y="5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5" name="Group 950"/>
            <p:cNvGrpSpPr/>
            <p:nvPr/>
          </p:nvGrpSpPr>
          <p:grpSpPr>
            <a:xfrm>
              <a:off x="-126720" y="941040"/>
              <a:ext cx="668160" cy="654480"/>
              <a:chOff x="-126720" y="941040"/>
              <a:chExt cx="668160" cy="654480"/>
            </a:xfrm>
          </p:grpSpPr>
          <p:grpSp>
            <p:nvGrpSpPr>
              <p:cNvPr id="2716" name="Group 951"/>
              <p:cNvGrpSpPr/>
              <p:nvPr/>
            </p:nvGrpSpPr>
            <p:grpSpPr>
              <a:xfrm>
                <a:off x="-126720" y="985320"/>
                <a:ext cx="668160" cy="610200"/>
                <a:chOff x="-126720" y="985320"/>
                <a:chExt cx="668160" cy="610200"/>
              </a:xfrm>
            </p:grpSpPr>
            <p:sp>
              <p:nvSpPr>
                <p:cNvPr id="2717" name="Freeform 1197"/>
                <p:cNvSpPr/>
                <p:nvPr/>
              </p:nvSpPr>
              <p:spPr>
                <a:xfrm flipH="1" rot="3919200">
                  <a:off x="39600" y="1031040"/>
                  <a:ext cx="334800" cy="581400"/>
                </a:xfrm>
                <a:custGeom>
                  <a:avLst/>
                  <a:gdLst>
                    <a:gd name="textAreaLeft" fmla="*/ 360 w 334800"/>
                    <a:gd name="textAreaRight" fmla="*/ 335520 w 334800"/>
                    <a:gd name="textAreaTop" fmla="*/ 0 h 581400"/>
                    <a:gd name="textAreaBottom" fmla="*/ 581760 h 58140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8" name="Freeform 1198"/>
                <p:cNvSpPr/>
                <p:nvPr/>
              </p:nvSpPr>
              <p:spPr>
                <a:xfrm flipH="1" rot="3919200">
                  <a:off x="78840" y="1162080"/>
                  <a:ext cx="284040" cy="276120"/>
                </a:xfrm>
                <a:custGeom>
                  <a:avLst/>
                  <a:gdLst>
                    <a:gd name="textAreaLeft" fmla="*/ -360 w 284040"/>
                    <a:gd name="textAreaRight" fmla="*/ 284040 w 284040"/>
                    <a:gd name="textAreaTop" fmla="*/ 0 h 276120"/>
                    <a:gd name="textAreaBottom" fmla="*/ 276480 h 27612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9" name="Freeform 1199"/>
                <p:cNvSpPr/>
                <p:nvPr/>
              </p:nvSpPr>
              <p:spPr>
                <a:xfrm flipH="1" rot="3919200">
                  <a:off x="16200" y="1073160"/>
                  <a:ext cx="413640" cy="343440"/>
                </a:xfrm>
                <a:custGeom>
                  <a:avLst/>
                  <a:gdLst>
                    <a:gd name="textAreaLeft" fmla="*/ -360 w 413640"/>
                    <a:gd name="textAreaRight" fmla="*/ 413640 w 413640"/>
                    <a:gd name="textAreaTop" fmla="*/ 0 h 343440"/>
                    <a:gd name="textAreaBottom" fmla="*/ 343800 h 34344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0" name="Freeform 1200"/>
                <p:cNvSpPr/>
                <p:nvPr/>
              </p:nvSpPr>
              <p:spPr>
                <a:xfrm flipH="1" rot="3919200">
                  <a:off x="164520" y="1327320"/>
                  <a:ext cx="134280" cy="33840"/>
                </a:xfrm>
                <a:custGeom>
                  <a:avLst/>
                  <a:gdLst>
                    <a:gd name="textAreaLeft" fmla="*/ -360 w 134280"/>
                    <a:gd name="textAreaRight" fmla="*/ 134280 w 1342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1" name="Freeform 1201"/>
                <p:cNvSpPr/>
                <p:nvPr/>
              </p:nvSpPr>
              <p:spPr>
                <a:xfrm flipH="1" rot="3919200">
                  <a:off x="219960" y="1199520"/>
                  <a:ext cx="173520" cy="127080"/>
                </a:xfrm>
                <a:custGeom>
                  <a:avLst/>
                  <a:gdLst>
                    <a:gd name="textAreaLeft" fmla="*/ 360 w 173520"/>
                    <a:gd name="textAreaRight" fmla="*/ 174240 w 173520"/>
                    <a:gd name="textAreaTop" fmla="*/ 0 h 127080"/>
                    <a:gd name="textAreaBottom" fmla="*/ 127440 h 12708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2" name="Freeform 1202"/>
                <p:cNvSpPr/>
                <p:nvPr/>
              </p:nvSpPr>
              <p:spPr>
                <a:xfrm flipH="1" rot="3919200">
                  <a:off x="252360" y="1125720"/>
                  <a:ext cx="191520" cy="167760"/>
                </a:xfrm>
                <a:custGeom>
                  <a:avLst/>
                  <a:gdLst>
                    <a:gd name="textAreaLeft" fmla="*/ 360 w 191520"/>
                    <a:gd name="textAreaRight" fmla="*/ 192240 w 191520"/>
                    <a:gd name="textAreaTop" fmla="*/ 0 h 167760"/>
                    <a:gd name="textAreaBottom" fmla="*/ 168120 h 16776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3" name="Freeform 1203"/>
                <p:cNvSpPr/>
                <p:nvPr/>
              </p:nvSpPr>
              <p:spPr>
                <a:xfrm flipH="1" rot="3919200">
                  <a:off x="159840" y="1388160"/>
                  <a:ext cx="79560" cy="21600"/>
                </a:xfrm>
                <a:custGeom>
                  <a:avLst/>
                  <a:gdLst>
                    <a:gd name="textAreaLeft" fmla="*/ -360 w 79560"/>
                    <a:gd name="textAreaRight" fmla="*/ 79560 w 7956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4" name="Freeform 1204"/>
                <p:cNvSpPr/>
                <p:nvPr/>
              </p:nvSpPr>
              <p:spPr>
                <a:xfrm flipH="1" rot="3919200">
                  <a:off x="155160" y="1446480"/>
                  <a:ext cx="41400" cy="8640"/>
                </a:xfrm>
                <a:custGeom>
                  <a:avLst/>
                  <a:gdLst>
                    <a:gd name="textAreaLeft" fmla="*/ -360 w 41400"/>
                    <a:gd name="textAreaRight" fmla="*/ 41400 w 4140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5" name="Freeform 1205"/>
                <p:cNvSpPr/>
                <p:nvPr/>
              </p:nvSpPr>
              <p:spPr>
                <a:xfrm flipH="1" rot="3919200">
                  <a:off x="130680" y="1418400"/>
                  <a:ext cx="30240" cy="59400"/>
                </a:xfrm>
                <a:custGeom>
                  <a:avLst/>
                  <a:gdLst>
                    <a:gd name="textAreaLeft" fmla="*/ 360 w 30240"/>
                    <a:gd name="textAreaRight" fmla="*/ 30960 w 30240"/>
                    <a:gd name="textAreaTop" fmla="*/ 0 h 59400"/>
                    <a:gd name="textAreaBottom" fmla="*/ 59760 h 5940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6" name="Freeform 1206"/>
                <p:cNvSpPr/>
                <p:nvPr/>
              </p:nvSpPr>
              <p:spPr>
                <a:xfrm flipH="1" rot="3919200">
                  <a:off x="110880" y="1357560"/>
                  <a:ext cx="52920" cy="110160"/>
                </a:xfrm>
                <a:custGeom>
                  <a:avLst/>
                  <a:gdLst>
                    <a:gd name="textAreaLeft" fmla="*/ -360 w 52920"/>
                    <a:gd name="textAreaRight" fmla="*/ 52920 w 52920"/>
                    <a:gd name="textAreaTop" fmla="*/ 0 h 110160"/>
                    <a:gd name="textAreaBottom" fmla="*/ 110520 h 11016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7" name="Freeform 1207"/>
                <p:cNvSpPr/>
                <p:nvPr/>
              </p:nvSpPr>
              <p:spPr>
                <a:xfrm flipH="1" rot="3919200">
                  <a:off x="81360" y="1265040"/>
                  <a:ext cx="84960" cy="192960"/>
                </a:xfrm>
                <a:custGeom>
                  <a:avLst/>
                  <a:gdLst>
                    <a:gd name="textAreaLeft" fmla="*/ 360 w 84960"/>
                    <a:gd name="textAreaRight" fmla="*/ 85680 w 84960"/>
                    <a:gd name="textAreaTop" fmla="*/ 0 h 192960"/>
                    <a:gd name="textAreaBottom" fmla="*/ 193320 h 19296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8" name="Freeform 1208"/>
                <p:cNvSpPr/>
                <p:nvPr/>
              </p:nvSpPr>
              <p:spPr>
                <a:xfrm flipH="1" rot="3919200">
                  <a:off x="59760" y="1166040"/>
                  <a:ext cx="91440" cy="282600"/>
                </a:xfrm>
                <a:custGeom>
                  <a:avLst/>
                  <a:gdLst>
                    <a:gd name="textAreaLeft" fmla="*/ 360 w 91440"/>
                    <a:gd name="textAreaRight" fmla="*/ 92160 w 9144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9" name="Freeform 1209"/>
                <p:cNvSpPr/>
                <p:nvPr/>
              </p:nvSpPr>
              <p:spPr>
                <a:xfrm flipH="1" rot="3919200">
                  <a:off x="18720" y="1290600"/>
                  <a:ext cx="9720" cy="11268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0" name="Freeform 1210"/>
                <p:cNvSpPr/>
                <p:nvPr/>
              </p:nvSpPr>
              <p:spPr>
                <a:xfrm flipH="1" rot="3919200">
                  <a:off x="58680" y="1076400"/>
                  <a:ext cx="63000" cy="347760"/>
                </a:xfrm>
                <a:custGeom>
                  <a:avLst/>
                  <a:gdLst>
                    <a:gd name="textAreaLeft" fmla="*/ -360 w 63000"/>
                    <a:gd name="textAreaRight" fmla="*/ 63000 w 63000"/>
                    <a:gd name="textAreaTop" fmla="*/ 0 h 347760"/>
                    <a:gd name="textAreaBottom" fmla="*/ 348120 h 34776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1" name="Freeform 1211"/>
                <p:cNvSpPr/>
                <p:nvPr/>
              </p:nvSpPr>
              <p:spPr>
                <a:xfrm flipH="1" rot="3919200">
                  <a:off x="89280" y="1281600"/>
                  <a:ext cx="46800" cy="55080"/>
                </a:xfrm>
                <a:custGeom>
                  <a:avLst/>
                  <a:gdLst>
                    <a:gd name="textAreaLeft" fmla="*/ 360 w 46800"/>
                    <a:gd name="textAreaRight" fmla="*/ 47520 w 46800"/>
                    <a:gd name="textAreaTop" fmla="*/ 0 h 55080"/>
                    <a:gd name="textAreaBottom" fmla="*/ 55440 h 5508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2" name="Freeform 1212"/>
                <p:cNvSpPr/>
                <p:nvPr/>
              </p:nvSpPr>
              <p:spPr>
                <a:xfrm flipH="1" rot="3919200">
                  <a:off x="61560" y="1351800"/>
                  <a:ext cx="22680" cy="88920"/>
                </a:xfrm>
                <a:custGeom>
                  <a:avLst/>
                  <a:gdLst>
                    <a:gd name="textAreaLeft" fmla="*/ -360 w 22680"/>
                    <a:gd name="textAreaRight" fmla="*/ 22680 w 2268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3" name="Freeform 1213"/>
                <p:cNvSpPr/>
                <p:nvPr/>
              </p:nvSpPr>
              <p:spPr>
                <a:xfrm flipH="1" rot="3919200">
                  <a:off x="213120" y="1351080"/>
                  <a:ext cx="48960" cy="19080"/>
                </a:xfrm>
                <a:custGeom>
                  <a:avLst/>
                  <a:gdLst>
                    <a:gd name="textAreaLeft" fmla="*/ 360 w 48960"/>
                    <a:gd name="textAreaRight" fmla="*/ 49680 w 4896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4" name="Freeform 1214"/>
                <p:cNvSpPr/>
                <p:nvPr/>
              </p:nvSpPr>
              <p:spPr>
                <a:xfrm flipH="1" rot="3919200">
                  <a:off x="259200" y="1343160"/>
                  <a:ext cx="30240" cy="33840"/>
                </a:xfrm>
                <a:custGeom>
                  <a:avLst/>
                  <a:gdLst>
                    <a:gd name="textAreaLeft" fmla="*/ 360 w 30240"/>
                    <a:gd name="textAreaRight" fmla="*/ 30960 w 3024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5" name="Freeform 1215"/>
                <p:cNvSpPr/>
                <p:nvPr/>
              </p:nvSpPr>
              <p:spPr>
                <a:xfrm flipH="1" rot="3919200">
                  <a:off x="73440" y="1342440"/>
                  <a:ext cx="9720" cy="2124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6" name="Freeform 1216"/>
                <p:cNvSpPr/>
                <p:nvPr/>
              </p:nvSpPr>
              <p:spPr>
                <a:xfrm flipH="1" rot="3919200">
                  <a:off x="292680" y="1313280"/>
                  <a:ext cx="8640" cy="12240"/>
                </a:xfrm>
                <a:custGeom>
                  <a:avLst/>
                  <a:gdLst>
                    <a:gd name="textAreaLeft" fmla="*/ 360 w 8640"/>
                    <a:gd name="textAreaRight" fmla="*/ 9360 w 86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7" name="Freeform 1217"/>
                <p:cNvSpPr/>
                <p:nvPr/>
              </p:nvSpPr>
              <p:spPr>
                <a:xfrm flipH="1" rot="3919200">
                  <a:off x="343440" y="1250280"/>
                  <a:ext cx="9720" cy="1656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16560"/>
                    <a:gd name="textAreaBottom" fmla="*/ 16920 h 1656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8" name="Freeform 1218"/>
                <p:cNvSpPr/>
                <p:nvPr/>
              </p:nvSpPr>
              <p:spPr>
                <a:xfrm flipH="1" rot="3919200">
                  <a:off x="240120" y="1413360"/>
                  <a:ext cx="7560" cy="7920"/>
                </a:xfrm>
                <a:custGeom>
                  <a:avLst/>
                  <a:gdLst>
                    <a:gd name="textAreaLeft" fmla="*/ -360 w 7560"/>
                    <a:gd name="textAreaRight" fmla="*/ 7560 w 756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9" name="Group 974"/>
              <p:cNvGrpSpPr/>
              <p:nvPr/>
            </p:nvGrpSpPr>
            <p:grpSpPr>
              <a:xfrm>
                <a:off x="282600" y="941040"/>
                <a:ext cx="59760" cy="58680"/>
                <a:chOff x="282600" y="941040"/>
                <a:chExt cx="59760" cy="58680"/>
              </a:xfrm>
            </p:grpSpPr>
            <p:sp>
              <p:nvSpPr>
                <p:cNvPr id="2740" name="Freeform 1220"/>
                <p:cNvSpPr/>
                <p:nvPr/>
              </p:nvSpPr>
              <p:spPr>
                <a:xfrm flipH="1" rot="8284200">
                  <a:off x="288000" y="952560"/>
                  <a:ext cx="48600" cy="35280"/>
                </a:xfrm>
                <a:custGeom>
                  <a:avLst/>
                  <a:gdLst>
                    <a:gd name="textAreaLeft" fmla="*/ -360 w 48600"/>
                    <a:gd name="textAreaRight" fmla="*/ 48600 w 48600"/>
                    <a:gd name="textAreaTop" fmla="*/ 0 h 35280"/>
                    <a:gd name="textAreaBottom" fmla="*/ 35640 h 3528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1" name="Freeform 1221"/>
                <p:cNvSpPr/>
                <p:nvPr/>
              </p:nvSpPr>
              <p:spPr>
                <a:xfrm flipH="1" rot="11931000">
                  <a:off x="294480" y="960480"/>
                  <a:ext cx="18000" cy="29520"/>
                </a:xfrm>
                <a:custGeom>
                  <a:avLst/>
                  <a:gdLst>
                    <a:gd name="textAreaLeft" fmla="*/ 360 w 18000"/>
                    <a:gd name="textAreaRight" fmla="*/ 18720 w 1800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42" name="Group 977"/>
            <p:cNvGrpSpPr/>
            <p:nvPr/>
          </p:nvGrpSpPr>
          <p:grpSpPr>
            <a:xfrm>
              <a:off x="235440" y="765720"/>
              <a:ext cx="784080" cy="473040"/>
              <a:chOff x="235440" y="765720"/>
              <a:chExt cx="784080" cy="473040"/>
            </a:xfrm>
          </p:grpSpPr>
          <p:grpSp>
            <p:nvGrpSpPr>
              <p:cNvPr id="2743" name="Group 978"/>
              <p:cNvGrpSpPr/>
              <p:nvPr/>
            </p:nvGrpSpPr>
            <p:grpSpPr>
              <a:xfrm>
                <a:off x="235440" y="765720"/>
                <a:ext cx="784080" cy="473040"/>
                <a:chOff x="235440" y="765720"/>
                <a:chExt cx="784080" cy="473040"/>
              </a:xfrm>
            </p:grpSpPr>
            <p:sp>
              <p:nvSpPr>
                <p:cNvPr id="2744" name="Freeform 1224"/>
                <p:cNvSpPr/>
                <p:nvPr/>
              </p:nvSpPr>
              <p:spPr>
                <a:xfrm flipH="1" rot="20756400">
                  <a:off x="425520" y="828360"/>
                  <a:ext cx="560160" cy="347400"/>
                </a:xfrm>
                <a:custGeom>
                  <a:avLst/>
                  <a:gdLst>
                    <a:gd name="textAreaLeft" fmla="*/ 360 w 560160"/>
                    <a:gd name="textAreaRight" fmla="*/ 560880 w 560160"/>
                    <a:gd name="textAreaTop" fmla="*/ 0 h 347400"/>
                    <a:gd name="textAreaBottom" fmla="*/ 347760 h 34740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5" name="Freeform 1225"/>
                <p:cNvSpPr/>
                <p:nvPr/>
              </p:nvSpPr>
              <p:spPr>
                <a:xfrm flipH="1" rot="20756400">
                  <a:off x="442440" y="912960"/>
                  <a:ext cx="474480" cy="165240"/>
                </a:xfrm>
                <a:custGeom>
                  <a:avLst/>
                  <a:gdLst>
                    <a:gd name="textAreaLeft" fmla="*/ 360 w 474480"/>
                    <a:gd name="textAreaRight" fmla="*/ 475200 w 474480"/>
                    <a:gd name="textAreaTop" fmla="*/ 0 h 165240"/>
                    <a:gd name="textAreaBottom" fmla="*/ 165600 h 16524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6" name="Freeform 1226"/>
                <p:cNvSpPr/>
                <p:nvPr/>
              </p:nvSpPr>
              <p:spPr>
                <a:xfrm flipH="1" rot="20756400">
                  <a:off x="249840" y="897840"/>
                  <a:ext cx="691560" cy="205200"/>
                </a:xfrm>
                <a:custGeom>
                  <a:avLst/>
                  <a:gdLst>
                    <a:gd name="textAreaLeft" fmla="*/ -360 w 691560"/>
                    <a:gd name="textAreaRight" fmla="*/ 691560 w 691560"/>
                    <a:gd name="textAreaTop" fmla="*/ 0 h 205200"/>
                    <a:gd name="textAreaBottom" fmla="*/ 205560 h 20520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7" name="Freeform 1227"/>
                <p:cNvSpPr/>
                <p:nvPr/>
              </p:nvSpPr>
              <p:spPr>
                <a:xfrm flipH="1" rot="20756400">
                  <a:off x="640440" y="972360"/>
                  <a:ext cx="224640" cy="20160"/>
                </a:xfrm>
                <a:custGeom>
                  <a:avLst/>
                  <a:gdLst>
                    <a:gd name="textAreaLeft" fmla="*/ 360 w 224640"/>
                    <a:gd name="textAreaRight" fmla="*/ 225360 w 224640"/>
                    <a:gd name="textAreaTop" fmla="*/ 0 h 20160"/>
                    <a:gd name="textAreaBottom" fmla="*/ 20520 h 2016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8" name="Freeform 1228"/>
                <p:cNvSpPr/>
                <p:nvPr/>
              </p:nvSpPr>
              <p:spPr>
                <a:xfrm flipH="1" rot="20756400">
                  <a:off x="523440" y="902160"/>
                  <a:ext cx="290520" cy="75600"/>
                </a:xfrm>
                <a:custGeom>
                  <a:avLst/>
                  <a:gdLst>
                    <a:gd name="textAreaLeft" fmla="*/ -360 w 290520"/>
                    <a:gd name="textAreaRight" fmla="*/ 290520 w 290520"/>
                    <a:gd name="textAreaTop" fmla="*/ 0 h 75600"/>
                    <a:gd name="textAreaBottom" fmla="*/ 75960 h 7560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9" name="Freeform 1229"/>
                <p:cNvSpPr/>
                <p:nvPr/>
              </p:nvSpPr>
              <p:spPr>
                <a:xfrm flipH="1" rot="20756400">
                  <a:off x="448200" y="867960"/>
                  <a:ext cx="320400" cy="100080"/>
                </a:xfrm>
                <a:custGeom>
                  <a:avLst/>
                  <a:gdLst>
                    <a:gd name="textAreaLeft" fmla="*/ 360 w 320400"/>
                    <a:gd name="textAreaRight" fmla="*/ 321120 w 3204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0" name="Freeform 1230"/>
                <p:cNvSpPr/>
                <p:nvPr/>
              </p:nvSpPr>
              <p:spPr>
                <a:xfrm flipH="1" rot="20756400">
                  <a:off x="752040" y="990720"/>
                  <a:ext cx="133200" cy="12600"/>
                </a:xfrm>
                <a:custGeom>
                  <a:avLst/>
                  <a:gdLst>
                    <a:gd name="textAreaLeft" fmla="*/ 360 w 133200"/>
                    <a:gd name="textAreaRight" fmla="*/ 133920 w 1332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1" name="Freeform 1231"/>
                <p:cNvSpPr/>
                <p:nvPr/>
              </p:nvSpPr>
              <p:spPr>
                <a:xfrm flipH="1" rot="20756400">
                  <a:off x="850680" y="1005480"/>
                  <a:ext cx="69480" cy="4680"/>
                </a:xfrm>
                <a:custGeom>
                  <a:avLst/>
                  <a:gdLst>
                    <a:gd name="textAreaLeft" fmla="*/ -360 w 69480"/>
                    <a:gd name="textAreaRight" fmla="*/ 69480 w 6948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2" name="Freeform 1232"/>
                <p:cNvSpPr/>
                <p:nvPr/>
              </p:nvSpPr>
              <p:spPr>
                <a:xfrm flipH="1" rot="20756400">
                  <a:off x="839520" y="1010880"/>
                  <a:ext cx="50760" cy="35640"/>
                </a:xfrm>
                <a:custGeom>
                  <a:avLst/>
                  <a:gdLst>
                    <a:gd name="textAreaLeft" fmla="*/ -360 w 50760"/>
                    <a:gd name="textAreaRight" fmla="*/ 50760 w 5076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3" name="Freeform 1233"/>
                <p:cNvSpPr/>
                <p:nvPr/>
              </p:nvSpPr>
              <p:spPr>
                <a:xfrm flipH="1" rot="20756400">
                  <a:off x="762120" y="1006920"/>
                  <a:ext cx="88920" cy="65880"/>
                </a:xfrm>
                <a:custGeom>
                  <a:avLst/>
                  <a:gdLst>
                    <a:gd name="textAreaLeft" fmla="*/ -360 w 88920"/>
                    <a:gd name="textAreaRight" fmla="*/ 88920 w 88920"/>
                    <a:gd name="textAreaTop" fmla="*/ 0 h 65880"/>
                    <a:gd name="textAreaBottom" fmla="*/ 66240 h 6588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4" name="Freeform 1234"/>
                <p:cNvSpPr/>
                <p:nvPr/>
              </p:nvSpPr>
              <p:spPr>
                <a:xfrm flipH="1" rot="20756400">
                  <a:off x="648360" y="997560"/>
                  <a:ext cx="142200" cy="115560"/>
                </a:xfrm>
                <a:custGeom>
                  <a:avLst/>
                  <a:gdLst>
                    <a:gd name="textAreaLeft" fmla="*/ -360 w 142200"/>
                    <a:gd name="textAreaRight" fmla="*/ 142200 w 142200"/>
                    <a:gd name="textAreaTop" fmla="*/ 0 h 115560"/>
                    <a:gd name="textAreaBottom" fmla="*/ 115920 h 11556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5" name="Freeform 1235"/>
                <p:cNvSpPr/>
                <p:nvPr/>
              </p:nvSpPr>
              <p:spPr>
                <a:xfrm flipH="1" rot="20756400">
                  <a:off x="551160" y="989640"/>
                  <a:ext cx="153000" cy="168840"/>
                </a:xfrm>
                <a:custGeom>
                  <a:avLst/>
                  <a:gdLst>
                    <a:gd name="textAreaLeft" fmla="*/ -360 w 153000"/>
                    <a:gd name="textAreaRight" fmla="*/ 153000 w 153000"/>
                    <a:gd name="textAreaTop" fmla="*/ 0 h 168840"/>
                    <a:gd name="textAreaBottom" fmla="*/ 169200 h 16884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6" name="Freeform 1236"/>
                <p:cNvSpPr/>
                <p:nvPr/>
              </p:nvSpPr>
              <p:spPr>
                <a:xfrm flipH="1" rot="20756400">
                  <a:off x="635400" y="1092600"/>
                  <a:ext cx="16560" cy="67320"/>
                </a:xfrm>
                <a:custGeom>
                  <a:avLst/>
                  <a:gdLst>
                    <a:gd name="textAreaLeft" fmla="*/ 360 w 16560"/>
                    <a:gd name="textAreaRight" fmla="*/ 17280 w 16560"/>
                    <a:gd name="textAreaTop" fmla="*/ 0 h 67320"/>
                    <a:gd name="textAreaBottom" fmla="*/ 67680 h 6732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7" name="Freeform 1237"/>
                <p:cNvSpPr/>
                <p:nvPr/>
              </p:nvSpPr>
              <p:spPr>
                <a:xfrm flipH="1" rot="20756400">
                  <a:off x="478080" y="988560"/>
                  <a:ext cx="105840" cy="207720"/>
                </a:xfrm>
                <a:custGeom>
                  <a:avLst/>
                  <a:gdLst>
                    <a:gd name="textAreaLeft" fmla="*/ 360 w 105840"/>
                    <a:gd name="textAreaRight" fmla="*/ 106560 w 105840"/>
                    <a:gd name="textAreaTop" fmla="*/ 0 h 207720"/>
                    <a:gd name="textAreaBottom" fmla="*/ 208080 h 20772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8" name="Freeform 1238"/>
                <p:cNvSpPr/>
                <p:nvPr/>
              </p:nvSpPr>
              <p:spPr>
                <a:xfrm flipH="1" rot="20756400">
                  <a:off x="594720" y="1053360"/>
                  <a:ext cx="78120" cy="32760"/>
                </a:xfrm>
                <a:custGeom>
                  <a:avLst/>
                  <a:gdLst>
                    <a:gd name="textAreaLeft" fmla="*/ -360 w 78120"/>
                    <a:gd name="textAreaRight" fmla="*/ 78120 w 7812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9" name="Freeform 1239"/>
                <p:cNvSpPr/>
                <p:nvPr/>
              </p:nvSpPr>
              <p:spPr>
                <a:xfrm flipH="1" rot="20756400">
                  <a:off x="727200" y="1059120"/>
                  <a:ext cx="37800" cy="52560"/>
                </a:xfrm>
                <a:custGeom>
                  <a:avLst/>
                  <a:gdLst>
                    <a:gd name="textAreaLeft" fmla="*/ -360 w 37800"/>
                    <a:gd name="textAreaRight" fmla="*/ 37800 w 378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0" name="Freeform 1240"/>
                <p:cNvSpPr/>
                <p:nvPr/>
              </p:nvSpPr>
              <p:spPr>
                <a:xfrm flipH="1" rot="20756400">
                  <a:off x="739440" y="970560"/>
                  <a:ext cx="82440" cy="11160"/>
                </a:xfrm>
                <a:custGeom>
                  <a:avLst/>
                  <a:gdLst>
                    <a:gd name="textAreaLeft" fmla="*/ -360 w 82440"/>
                    <a:gd name="textAreaRight" fmla="*/ 82440 w 824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1" name="Freeform 1241"/>
                <p:cNvSpPr/>
                <p:nvPr/>
              </p:nvSpPr>
              <p:spPr>
                <a:xfrm flipH="1" rot="20756400">
                  <a:off x="774000" y="941040"/>
                  <a:ext cx="50760" cy="20520"/>
                </a:xfrm>
                <a:custGeom>
                  <a:avLst/>
                  <a:gdLst>
                    <a:gd name="textAreaLeft" fmla="*/ -360 w 50760"/>
                    <a:gd name="textAreaRight" fmla="*/ 50760 w 507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2" name="Freeform 1242"/>
                <p:cNvSpPr/>
                <p:nvPr/>
              </p:nvSpPr>
              <p:spPr>
                <a:xfrm flipH="1" rot="20756400">
                  <a:off x="673920" y="1081080"/>
                  <a:ext cx="16560" cy="12600"/>
                </a:xfrm>
                <a:custGeom>
                  <a:avLst/>
                  <a:gdLst>
                    <a:gd name="textAreaLeft" fmla="*/ 360 w 16560"/>
                    <a:gd name="textAreaRight" fmla="*/ 17280 w 165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3" name="Freeform 1243"/>
                <p:cNvSpPr/>
                <p:nvPr/>
              </p:nvSpPr>
              <p:spPr>
                <a:xfrm flipH="1" rot="20756400">
                  <a:off x="742320" y="936000"/>
                  <a:ext cx="14760" cy="7200"/>
                </a:xfrm>
                <a:custGeom>
                  <a:avLst/>
                  <a:gdLst>
                    <a:gd name="textAreaLeft" fmla="*/ -360 w 14760"/>
                    <a:gd name="textAreaRight" fmla="*/ 14760 w 147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4" name="Freeform 1244"/>
                <p:cNvSpPr/>
                <p:nvPr/>
              </p:nvSpPr>
              <p:spPr>
                <a:xfrm flipH="1" rot="20756400">
                  <a:off x="676080" y="906840"/>
                  <a:ext cx="16560" cy="9720"/>
                </a:xfrm>
                <a:custGeom>
                  <a:avLst/>
                  <a:gdLst>
                    <a:gd name="textAreaLeft" fmla="*/ 360 w 16560"/>
                    <a:gd name="textAreaRight" fmla="*/ 17280 w 1656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5" name="Freeform 1245"/>
                <p:cNvSpPr/>
                <p:nvPr/>
              </p:nvSpPr>
              <p:spPr>
                <a:xfrm flipH="1" rot="20756400">
                  <a:off x="864360" y="962280"/>
                  <a:ext cx="12960" cy="432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6" name="Group 1001"/>
              <p:cNvGrpSpPr/>
              <p:nvPr/>
            </p:nvGrpSpPr>
            <p:grpSpPr>
              <a:xfrm>
                <a:off x="292320" y="967320"/>
                <a:ext cx="65520" cy="55440"/>
                <a:chOff x="292320" y="967320"/>
                <a:chExt cx="65520" cy="55440"/>
              </a:xfrm>
            </p:grpSpPr>
            <p:sp>
              <p:nvSpPr>
                <p:cNvPr id="2767" name="Freeform 1247"/>
                <p:cNvSpPr/>
                <p:nvPr/>
              </p:nvSpPr>
              <p:spPr>
                <a:xfrm flipH="1" rot="3520800">
                  <a:off x="310320" y="965520"/>
                  <a:ext cx="28800" cy="59040"/>
                </a:xfrm>
                <a:custGeom>
                  <a:avLst/>
                  <a:gdLst>
                    <a:gd name="textAreaLeft" fmla="*/ 360 w 28800"/>
                    <a:gd name="textAreaRight" fmla="*/ 29520 w 288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8" name="Freeform 1248"/>
                <p:cNvSpPr/>
                <p:nvPr/>
              </p:nvSpPr>
              <p:spPr>
                <a:xfrm flipH="1" rot="7167600">
                  <a:off x="311400" y="991800"/>
                  <a:ext cx="29880" cy="1764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9" name="Group 1004"/>
            <p:cNvGrpSpPr/>
            <p:nvPr/>
          </p:nvGrpSpPr>
          <p:grpSpPr>
            <a:xfrm>
              <a:off x="-149040" y="268200"/>
              <a:ext cx="1146240" cy="711000"/>
              <a:chOff x="-149040" y="268200"/>
              <a:chExt cx="1146240" cy="711000"/>
            </a:xfrm>
          </p:grpSpPr>
          <p:grpSp>
            <p:nvGrpSpPr>
              <p:cNvPr id="2770" name="Group 1005"/>
              <p:cNvGrpSpPr/>
              <p:nvPr/>
            </p:nvGrpSpPr>
            <p:grpSpPr>
              <a:xfrm>
                <a:off x="-149040" y="468720"/>
                <a:ext cx="633600" cy="510480"/>
                <a:chOff x="-149040" y="468720"/>
                <a:chExt cx="633600" cy="510480"/>
              </a:xfrm>
            </p:grpSpPr>
            <p:grpSp>
              <p:nvGrpSpPr>
                <p:cNvPr id="2771" name="Group 1006"/>
                <p:cNvGrpSpPr/>
                <p:nvPr/>
              </p:nvGrpSpPr>
              <p:grpSpPr>
                <a:xfrm>
                  <a:off x="-149040" y="468720"/>
                  <a:ext cx="617040" cy="510480"/>
                  <a:chOff x="-149040" y="468720"/>
                  <a:chExt cx="617040" cy="510480"/>
                </a:xfrm>
              </p:grpSpPr>
              <p:sp>
                <p:nvSpPr>
                  <p:cNvPr id="2772" name="Freeform 1252"/>
                  <p:cNvSpPr/>
                  <p:nvPr/>
                </p:nvSpPr>
                <p:spPr>
                  <a:xfrm rot="4199400">
                    <a:off x="5400" y="433800"/>
                    <a:ext cx="307440" cy="544680"/>
                  </a:xfrm>
                  <a:custGeom>
                    <a:avLst/>
                    <a:gdLst>
                      <a:gd name="textAreaLeft" fmla="*/ 0 w 307440"/>
                      <a:gd name="textAreaRight" fmla="*/ 307800 w 307440"/>
                      <a:gd name="textAreaTop" fmla="*/ 0 h 544680"/>
                      <a:gd name="textAreaBottom" fmla="*/ 545040 h 544680"/>
                    </a:gdLst>
                    <a:ahLst/>
                    <a:rect l="textAreaLeft" t="textAreaTop" r="textAreaRight" b="textAreaBottom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3" name="Freeform 1253"/>
                  <p:cNvSpPr/>
                  <p:nvPr/>
                </p:nvSpPr>
                <p:spPr>
                  <a:xfrm rot="4199400">
                    <a:off x="51840" y="581760"/>
                    <a:ext cx="261000" cy="259200"/>
                  </a:xfrm>
                  <a:custGeom>
                    <a:avLst/>
                    <a:gdLst>
                      <a:gd name="textAreaLeft" fmla="*/ 0 w 261000"/>
                      <a:gd name="textAreaRight" fmla="*/ 261360 w 261000"/>
                      <a:gd name="textAreaTop" fmla="*/ 0 h 259200"/>
                      <a:gd name="textAreaBottom" fmla="*/ 259560 h 259200"/>
                    </a:gdLst>
                    <a:ahLst/>
                    <a:rect l="textAreaLeft" t="textAreaTop" r="textAreaRight" b="textAreaBottom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4" name="Freeform 1254"/>
                  <p:cNvSpPr/>
                  <p:nvPr/>
                </p:nvSpPr>
                <p:spPr>
                  <a:xfrm rot="4199400">
                    <a:off x="30960" y="584640"/>
                    <a:ext cx="379800" cy="321840"/>
                  </a:xfrm>
                  <a:custGeom>
                    <a:avLst/>
                    <a:gdLst>
                      <a:gd name="textAreaLeft" fmla="*/ 0 w 379800"/>
                      <a:gd name="textAreaRight" fmla="*/ 380160 w 379800"/>
                      <a:gd name="textAreaTop" fmla="*/ 0 h 321840"/>
                      <a:gd name="textAreaBottom" fmla="*/ 322200 h 321840"/>
                    </a:gdLst>
                    <a:ahLst/>
                    <a:rect l="textAreaLeft" t="textAreaTop" r="textAreaRight" b="textAreaBottom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5" name="Freeform 1255"/>
                  <p:cNvSpPr/>
                  <p:nvPr/>
                </p:nvSpPr>
                <p:spPr>
                  <a:xfrm rot="4199400">
                    <a:off x="99720" y="660600"/>
                    <a:ext cx="123480" cy="31680"/>
                  </a:xfrm>
                  <a:custGeom>
                    <a:avLst/>
                    <a:gdLst>
                      <a:gd name="textAreaLeft" fmla="*/ 0 w 123480"/>
                      <a:gd name="textAreaRight" fmla="*/ 123840 w 12348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6" name="Freeform 1256"/>
                  <p:cNvSpPr/>
                  <p:nvPr/>
                </p:nvSpPr>
                <p:spPr>
                  <a:xfrm rot="4199400">
                    <a:off x="184320" y="620640"/>
                    <a:ext cx="159480" cy="118800"/>
                  </a:xfrm>
                  <a:custGeom>
                    <a:avLst/>
                    <a:gdLst>
                      <a:gd name="textAreaLeft" fmla="*/ 0 w 159480"/>
                      <a:gd name="textAreaRight" fmla="*/ 159840 w 159480"/>
                      <a:gd name="textAreaTop" fmla="*/ 0 h 118800"/>
                      <a:gd name="textAreaBottom" fmla="*/ 119160 h 118800"/>
                    </a:gdLst>
                    <a:ahLst/>
                    <a:rect l="textAreaLeft" t="textAreaTop" r="textAreaRight" b="textAreaBottom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7" name="Freeform 1257"/>
                  <p:cNvSpPr/>
                  <p:nvPr/>
                </p:nvSpPr>
                <p:spPr>
                  <a:xfrm rot="4199400">
                    <a:off x="239400" y="609120"/>
                    <a:ext cx="176040" cy="157680"/>
                  </a:xfrm>
                  <a:custGeom>
                    <a:avLst/>
                    <a:gdLst>
                      <a:gd name="textAreaLeft" fmla="*/ 0 w 176040"/>
                      <a:gd name="textAreaRight" fmla="*/ 176400 w 176040"/>
                      <a:gd name="textAreaTop" fmla="*/ 0 h 157680"/>
                      <a:gd name="textAreaBottom" fmla="*/ 158040 h 157680"/>
                    </a:gdLst>
                    <a:ahLst/>
                    <a:rect l="textAreaLeft" t="textAreaTop" r="textAreaRight" b="textAreaBottom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8" name="Freeform 1258"/>
                  <p:cNvSpPr/>
                  <p:nvPr/>
                </p:nvSpPr>
                <p:spPr>
                  <a:xfrm rot="4199400">
                    <a:off x="68400" y="650160"/>
                    <a:ext cx="73080" cy="20160"/>
                  </a:xfrm>
                  <a:custGeom>
                    <a:avLst/>
                    <a:gdLst>
                      <a:gd name="textAreaLeft" fmla="*/ 0 w 73080"/>
                      <a:gd name="textAreaRight" fmla="*/ 73440 w 73080"/>
                      <a:gd name="textAreaTop" fmla="*/ 0 h 20160"/>
                      <a:gd name="textAreaBottom" fmla="*/ 20520 h 20160"/>
                    </a:gdLst>
                    <a:ahLst/>
                    <a:rect l="textAreaLeft" t="textAreaTop" r="textAreaRight" b="textAreaBottom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9" name="Freeform 1259"/>
                  <p:cNvSpPr/>
                  <p:nvPr/>
                </p:nvSpPr>
                <p:spPr>
                  <a:xfrm rot="4199400">
                    <a:off x="34920" y="639360"/>
                    <a:ext cx="38160" cy="792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7920"/>
                      <a:gd name="textAreaBottom" fmla="*/ 8280 h 7920"/>
                    </a:gdLst>
                    <a:ahLst/>
                    <a:rect l="textAreaLeft" t="textAreaTop" r="textAreaRight" b="textAreaBottom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0" name="Freeform 1260"/>
                  <p:cNvSpPr/>
                  <p:nvPr/>
                </p:nvSpPr>
                <p:spPr>
                  <a:xfrm rot="4199400">
                    <a:off x="22320" y="636120"/>
                    <a:ext cx="27720" cy="55800"/>
                  </a:xfrm>
                  <a:custGeom>
                    <a:avLst/>
                    <a:gdLst>
                      <a:gd name="textAreaLeft" fmla="*/ 0 w 27720"/>
                      <a:gd name="textAreaRight" fmla="*/ 28080 w 27720"/>
                      <a:gd name="textAreaTop" fmla="*/ 0 h 55800"/>
                      <a:gd name="textAreaBottom" fmla="*/ 56160 h 55800"/>
                    </a:gdLst>
                    <a:ahLst/>
                    <a:rect l="textAreaLeft" t="textAreaTop" r="textAreaRight" b="textAreaBottom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1" name="Freeform 1261"/>
                  <p:cNvSpPr/>
                  <p:nvPr/>
                </p:nvSpPr>
                <p:spPr>
                  <a:xfrm rot="4199400">
                    <a:off x="29160" y="641160"/>
                    <a:ext cx="48600" cy="102960"/>
                  </a:xfrm>
                  <a:custGeom>
                    <a:avLst/>
                    <a:gdLst>
                      <a:gd name="textAreaLeft" fmla="*/ 0 w 48600"/>
                      <a:gd name="textAreaRight" fmla="*/ 48960 w 48600"/>
                      <a:gd name="textAreaTop" fmla="*/ 0 h 102960"/>
                      <a:gd name="textAreaBottom" fmla="*/ 103320 h 102960"/>
                    </a:gdLst>
                    <a:ahLst/>
                    <a:rect l="textAreaLeft" t="textAreaTop" r="textAreaRight" b="textAreaBottom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2" name="Freeform 1262"/>
                  <p:cNvSpPr/>
                  <p:nvPr/>
                </p:nvSpPr>
                <p:spPr>
                  <a:xfrm rot="4199400">
                    <a:off x="39240" y="644760"/>
                    <a:ext cx="78120" cy="180720"/>
                  </a:xfrm>
                  <a:custGeom>
                    <a:avLst/>
                    <a:gdLst>
                      <a:gd name="textAreaLeft" fmla="*/ 0 w 78120"/>
                      <a:gd name="textAreaRight" fmla="*/ 78480 w 78120"/>
                      <a:gd name="textAreaTop" fmla="*/ 0 h 180720"/>
                      <a:gd name="textAreaBottom" fmla="*/ 181080 h 180720"/>
                    </a:gdLst>
                    <a:ahLst/>
                    <a:rect l="textAreaLeft" t="textAreaTop" r="textAreaRight" b="textAreaBottom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3" name="Freeform 1263"/>
                  <p:cNvSpPr/>
                  <p:nvPr/>
                </p:nvSpPr>
                <p:spPr>
                  <a:xfrm rot="4199400">
                    <a:off x="59400" y="649440"/>
                    <a:ext cx="83880" cy="264960"/>
                  </a:xfrm>
                  <a:custGeom>
                    <a:avLst/>
                    <a:gdLst>
                      <a:gd name="textAreaLeft" fmla="*/ 0 w 83880"/>
                      <a:gd name="textAreaRight" fmla="*/ 84240 w 83880"/>
                      <a:gd name="textAreaTop" fmla="*/ 0 h 264960"/>
                      <a:gd name="textAreaBottom" fmla="*/ 265320 h 264960"/>
                    </a:gdLst>
                    <a:ahLst/>
                    <a:rect l="textAreaLeft" t="textAreaTop" r="textAreaRight" b="textAreaBottom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4" name="Freeform 1264"/>
                  <p:cNvSpPr/>
                  <p:nvPr/>
                </p:nvSpPr>
                <p:spPr>
                  <a:xfrm rot="4199400">
                    <a:off x="16200" y="757800"/>
                    <a:ext cx="9000" cy="105480"/>
                  </a:xfrm>
                  <a:custGeom>
                    <a:avLst/>
                    <a:gdLst>
                      <a:gd name="textAreaLeft" fmla="*/ 0 w 9000"/>
                      <a:gd name="textAreaRight" fmla="*/ 9360 w 9000"/>
                      <a:gd name="textAreaTop" fmla="*/ 0 h 105480"/>
                      <a:gd name="textAreaBottom" fmla="*/ 105840 h 105480"/>
                    </a:gdLst>
                    <a:ahLst/>
                    <a:rect l="textAreaLeft" t="textAreaTop" r="textAreaRight" b="textAreaBottom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5" name="Freeform 1265"/>
                  <p:cNvSpPr/>
                  <p:nvPr/>
                </p:nvSpPr>
                <p:spPr>
                  <a:xfrm rot="4199400">
                    <a:off x="99720" y="666720"/>
                    <a:ext cx="57960" cy="325440"/>
                  </a:xfrm>
                  <a:custGeom>
                    <a:avLst/>
                    <a:gdLst>
                      <a:gd name="textAreaLeft" fmla="*/ 0 w 57960"/>
                      <a:gd name="textAreaRight" fmla="*/ 58320 w 57960"/>
                      <a:gd name="textAreaTop" fmla="*/ 0 h 325440"/>
                      <a:gd name="textAreaBottom" fmla="*/ 325800 h 325440"/>
                    </a:gdLst>
                    <a:ahLst/>
                    <a:rect l="textAreaLeft" t="textAreaTop" r="textAreaRight" b="textAreaBottom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6" name="Freeform 1266"/>
                  <p:cNvSpPr/>
                  <p:nvPr/>
                </p:nvSpPr>
                <p:spPr>
                  <a:xfrm rot="4199400">
                    <a:off x="83160" y="750240"/>
                    <a:ext cx="42840" cy="518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1840"/>
                      <a:gd name="textAreaBottom" fmla="*/ 52200 h 51840"/>
                    </a:gdLst>
                    <a:ahLst/>
                    <a:rect l="textAreaLeft" t="textAreaTop" r="textAreaRight" b="textAreaBottom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7" name="Freeform 1267"/>
                  <p:cNvSpPr/>
                  <p:nvPr/>
                </p:nvSpPr>
                <p:spPr>
                  <a:xfrm rot="4199400">
                    <a:off x="11520" y="703800"/>
                    <a:ext cx="21240" cy="83160"/>
                  </a:xfrm>
                  <a:custGeom>
                    <a:avLst/>
                    <a:gdLst>
                      <a:gd name="textAreaLeft" fmla="*/ 0 w 21240"/>
                      <a:gd name="textAreaRight" fmla="*/ 21600 w 21240"/>
                      <a:gd name="textAreaTop" fmla="*/ 0 h 83160"/>
                      <a:gd name="textAreaBottom" fmla="*/ 83520 h 83160"/>
                    </a:gdLst>
                    <a:ahLst/>
                    <a:rect l="textAreaLeft" t="textAreaTop" r="textAreaRight" b="textAreaBottom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8" name="Freeform 1268"/>
                  <p:cNvSpPr/>
                  <p:nvPr/>
                </p:nvSpPr>
                <p:spPr>
                  <a:xfrm rot="4199400">
                    <a:off x="132480" y="652680"/>
                    <a:ext cx="45360" cy="1800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18000"/>
                      <a:gd name="textAreaBottom" fmla="*/ 18360 h 18000"/>
                    </a:gdLst>
                    <a:ahLst/>
                    <a:rect l="textAreaLeft" t="textAreaTop" r="textAreaRight" b="textAreaBottom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9" name="Freeform 1269"/>
                  <p:cNvSpPr/>
                  <p:nvPr/>
                </p:nvSpPr>
                <p:spPr>
                  <a:xfrm rot="4199400">
                    <a:off x="165960" y="622440"/>
                    <a:ext cx="27720" cy="31680"/>
                  </a:xfrm>
                  <a:custGeom>
                    <a:avLst/>
                    <a:gdLst>
                      <a:gd name="textAreaLeft" fmla="*/ 0 w 27720"/>
                      <a:gd name="textAreaRight" fmla="*/ 28080 w 2772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0" name="Freeform 1270"/>
                  <p:cNvSpPr/>
                  <p:nvPr/>
                </p:nvSpPr>
                <p:spPr>
                  <a:xfrm rot="4199400">
                    <a:off x="48960" y="759960"/>
                    <a:ext cx="9000" cy="19440"/>
                  </a:xfrm>
                  <a:custGeom>
                    <a:avLst/>
                    <a:gdLst>
                      <a:gd name="textAreaLeft" fmla="*/ 0 w 9000"/>
                      <a:gd name="textAreaRight" fmla="*/ 9360 w 9000"/>
                      <a:gd name="textAreaTop" fmla="*/ 0 h 19440"/>
                      <a:gd name="textAreaBottom" fmla="*/ 19800 h 19440"/>
                    </a:gdLst>
                    <a:ahLst/>
                    <a:rect l="textAreaLeft" t="textAreaTop" r="textAreaRight" b="textAreaBottom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1" name="Freeform 1271"/>
                  <p:cNvSpPr/>
                  <p:nvPr/>
                </p:nvSpPr>
                <p:spPr>
                  <a:xfrm rot="4199400">
                    <a:off x="217440" y="643320"/>
                    <a:ext cx="7920" cy="1152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2" name="Freeform 1272"/>
                  <p:cNvSpPr/>
                  <p:nvPr/>
                </p:nvSpPr>
                <p:spPr>
                  <a:xfrm rot="4199400">
                    <a:off x="291240" y="648360"/>
                    <a:ext cx="9000" cy="15120"/>
                  </a:xfrm>
                  <a:custGeom>
                    <a:avLst/>
                    <a:gdLst>
                      <a:gd name="textAreaLeft" fmla="*/ 0 w 9000"/>
                      <a:gd name="textAreaRight" fmla="*/ 9360 w 9000"/>
                      <a:gd name="textAreaTop" fmla="*/ 0 h 15120"/>
                      <a:gd name="textAreaBottom" fmla="*/ 15480 h 15120"/>
                    </a:gdLst>
                    <a:ahLst/>
                    <a:rect l="textAreaLeft" t="textAreaTop" r="textAreaRight" b="textAreaBottom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3" name="Freeform 1273"/>
                  <p:cNvSpPr/>
                  <p:nvPr/>
                </p:nvSpPr>
                <p:spPr>
                  <a:xfrm rot="4199400">
                    <a:off x="118440" y="616320"/>
                    <a:ext cx="6840" cy="7560"/>
                  </a:xfrm>
                  <a:custGeom>
                    <a:avLst/>
                    <a:gdLst>
                      <a:gd name="textAreaLeft" fmla="*/ 0 w 6840"/>
                      <a:gd name="textAreaRight" fmla="*/ 7200 w 684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4" name="Group 1029"/>
                <p:cNvGrpSpPr/>
                <p:nvPr/>
              </p:nvGrpSpPr>
              <p:grpSpPr>
                <a:xfrm>
                  <a:off x="436680" y="851040"/>
                  <a:ext cx="47880" cy="34920"/>
                  <a:chOff x="436680" y="851040"/>
                  <a:chExt cx="47880" cy="34920"/>
                </a:xfrm>
              </p:grpSpPr>
              <p:sp>
                <p:nvSpPr>
                  <p:cNvPr id="2795" name="Freeform 1275"/>
                  <p:cNvSpPr/>
                  <p:nvPr/>
                </p:nvSpPr>
                <p:spPr>
                  <a:xfrm rot="21435000">
                    <a:off x="438840" y="851760"/>
                    <a:ext cx="45000" cy="32760"/>
                  </a:xfrm>
                  <a:custGeom>
                    <a:avLst/>
                    <a:gdLst>
                      <a:gd name="textAreaLeft" fmla="*/ 0 w 45000"/>
                      <a:gd name="textAreaRight" fmla="*/ 45360 w 4500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6" name="Freeform 1276"/>
                  <p:cNvSpPr/>
                  <p:nvPr/>
                </p:nvSpPr>
                <p:spPr>
                  <a:xfrm rot="17788200">
                    <a:off x="444240" y="856080"/>
                    <a:ext cx="16560" cy="27720"/>
                  </a:xfrm>
                  <a:custGeom>
                    <a:avLst/>
                    <a:gdLst>
                      <a:gd name="textAreaLeft" fmla="*/ 0 w 16560"/>
                      <a:gd name="textAreaRight" fmla="*/ 16920 w 16560"/>
                      <a:gd name="textAreaTop" fmla="*/ 0 h 27720"/>
                      <a:gd name="textAreaBottom" fmla="*/ 28080 h 27720"/>
                    </a:gdLst>
                    <a:ahLst/>
                    <a:rect l="textAreaLeft" t="textAreaTop" r="textAreaRight" b="textAreaBottom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97" name="Group 1032"/>
              <p:cNvGrpSpPr/>
              <p:nvPr/>
            </p:nvGrpSpPr>
            <p:grpSpPr>
              <a:xfrm>
                <a:off x="330120" y="268200"/>
                <a:ext cx="667080" cy="648000"/>
                <a:chOff x="330120" y="268200"/>
                <a:chExt cx="667080" cy="648000"/>
              </a:xfrm>
            </p:grpSpPr>
            <p:grpSp>
              <p:nvGrpSpPr>
                <p:cNvPr id="2798" name="Group 1033"/>
                <p:cNvGrpSpPr/>
                <p:nvPr/>
              </p:nvGrpSpPr>
              <p:grpSpPr>
                <a:xfrm>
                  <a:off x="330120" y="268200"/>
                  <a:ext cx="667080" cy="648000"/>
                  <a:chOff x="330120" y="268200"/>
                  <a:chExt cx="667080" cy="648000"/>
                </a:xfrm>
              </p:grpSpPr>
              <p:sp>
                <p:nvSpPr>
                  <p:cNvPr id="2799" name="Freeform 1279"/>
                  <p:cNvSpPr/>
                  <p:nvPr/>
                </p:nvSpPr>
                <p:spPr>
                  <a:xfrm rot="8424000">
                    <a:off x="437400" y="395280"/>
                    <a:ext cx="515880" cy="323280"/>
                  </a:xfrm>
                  <a:custGeom>
                    <a:avLst/>
                    <a:gdLst>
                      <a:gd name="textAreaLeft" fmla="*/ 0 w 515880"/>
                      <a:gd name="textAreaRight" fmla="*/ 516240 w 515880"/>
                      <a:gd name="textAreaTop" fmla="*/ 0 h 323280"/>
                      <a:gd name="textAreaBottom" fmla="*/ 323640 h 323280"/>
                    </a:gdLst>
                    <a:ahLst/>
                    <a:rect l="textAreaLeft" t="textAreaTop" r="textAreaRight" b="textAreaBottom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0" name="Freeform 1280"/>
                  <p:cNvSpPr/>
                  <p:nvPr/>
                </p:nvSpPr>
                <p:spPr>
                  <a:xfrm rot="8424000">
                    <a:off x="467640" y="503280"/>
                    <a:ext cx="437760" cy="153360"/>
                  </a:xfrm>
                  <a:custGeom>
                    <a:avLst/>
                    <a:gdLst>
                      <a:gd name="textAreaLeft" fmla="*/ 0 w 437760"/>
                      <a:gd name="textAreaRight" fmla="*/ 438120 w 437760"/>
                      <a:gd name="textAreaTop" fmla="*/ 0 h 153360"/>
                      <a:gd name="textAreaBottom" fmla="*/ 153720 h 153360"/>
                    </a:gdLst>
                    <a:ahLst/>
                    <a:rect l="textAreaLeft" t="textAreaTop" r="textAreaRight" b="textAreaBottom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1" name="Freeform 1281"/>
                  <p:cNvSpPr/>
                  <p:nvPr/>
                </p:nvSpPr>
                <p:spPr>
                  <a:xfrm rot="8424000">
                    <a:off x="317880" y="543960"/>
                    <a:ext cx="637560" cy="190800"/>
                  </a:xfrm>
                  <a:custGeom>
                    <a:avLst/>
                    <a:gdLst>
                      <a:gd name="textAreaLeft" fmla="*/ 0 w 637560"/>
                      <a:gd name="textAreaRight" fmla="*/ 637920 w 637560"/>
                      <a:gd name="textAreaTop" fmla="*/ 0 h 190800"/>
                      <a:gd name="textAreaBottom" fmla="*/ 191160 h 190800"/>
                    </a:gdLst>
                    <a:ahLst/>
                    <a:rect l="textAreaLeft" t="textAreaTop" r="textAreaRight" b="textAreaBottom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2" name="Freeform 1282"/>
                  <p:cNvSpPr/>
                  <p:nvPr/>
                </p:nvSpPr>
                <p:spPr>
                  <a:xfrm rot="8424000">
                    <a:off x="632880" y="523440"/>
                    <a:ext cx="207000" cy="18720"/>
                  </a:xfrm>
                  <a:custGeom>
                    <a:avLst/>
                    <a:gdLst>
                      <a:gd name="textAreaLeft" fmla="*/ 0 w 207000"/>
                      <a:gd name="textAreaRight" fmla="*/ 207360 w 20700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3" name="Freeform 1283"/>
                  <p:cNvSpPr/>
                  <p:nvPr/>
                </p:nvSpPr>
                <p:spPr>
                  <a:xfrm rot="8424000">
                    <a:off x="587880" y="582840"/>
                    <a:ext cx="267840" cy="70560"/>
                  </a:xfrm>
                  <a:custGeom>
                    <a:avLst/>
                    <a:gdLst>
                      <a:gd name="textAreaLeft" fmla="*/ 0 w 267840"/>
                      <a:gd name="textAreaRight" fmla="*/ 268200 w 267840"/>
                      <a:gd name="textAreaTop" fmla="*/ 0 h 70560"/>
                      <a:gd name="textAreaBottom" fmla="*/ 70920 h 70560"/>
                    </a:gdLst>
                    <a:ahLst/>
                    <a:rect l="textAreaLeft" t="textAreaTop" r="textAreaRight" b="textAreaBottom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4" name="Freeform 1284"/>
                  <p:cNvSpPr/>
                  <p:nvPr/>
                </p:nvSpPr>
                <p:spPr>
                  <a:xfrm rot="8424000">
                    <a:off x="557640" y="628200"/>
                    <a:ext cx="295200" cy="93240"/>
                  </a:xfrm>
                  <a:custGeom>
                    <a:avLst/>
                    <a:gdLst>
                      <a:gd name="textAreaLeft" fmla="*/ 0 w 295200"/>
                      <a:gd name="textAreaRight" fmla="*/ 295560 w 295200"/>
                      <a:gd name="textAreaTop" fmla="*/ 0 h 93240"/>
                      <a:gd name="textAreaBottom" fmla="*/ 93600 h 93240"/>
                    </a:gdLst>
                    <a:ahLst/>
                    <a:rect l="textAreaLeft" t="textAreaTop" r="textAreaRight" b="textAreaBottom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5" name="Freeform 1285"/>
                  <p:cNvSpPr/>
                  <p:nvPr/>
                </p:nvSpPr>
                <p:spPr>
                  <a:xfrm rot="8424000">
                    <a:off x="699480" y="469440"/>
                    <a:ext cx="122760" cy="11880"/>
                  </a:xfrm>
                  <a:custGeom>
                    <a:avLst/>
                    <a:gdLst>
                      <a:gd name="textAreaLeft" fmla="*/ 0 w 122760"/>
                      <a:gd name="textAreaRight" fmla="*/ 123120 w 12276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6" name="Freeform 1286"/>
                  <p:cNvSpPr/>
                  <p:nvPr/>
                </p:nvSpPr>
                <p:spPr>
                  <a:xfrm rot="8424000">
                    <a:off x="756720" y="417600"/>
                    <a:ext cx="64080" cy="504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5040"/>
                      <a:gd name="textAreaBottom" fmla="*/ 5400 h 5040"/>
                    </a:gdLst>
                    <a:ahLst/>
                    <a:rect l="textAreaLeft" t="textAreaTop" r="textAreaRight" b="textAreaBottom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7" name="Freeform 1287"/>
                  <p:cNvSpPr/>
                  <p:nvPr/>
                </p:nvSpPr>
                <p:spPr>
                  <a:xfrm rot="8424000">
                    <a:off x="739080" y="407160"/>
                    <a:ext cx="46800" cy="33120"/>
                  </a:xfrm>
                  <a:custGeom>
                    <a:avLst/>
                    <a:gdLst>
                      <a:gd name="textAreaLeft" fmla="*/ 0 w 46800"/>
                      <a:gd name="textAreaRight" fmla="*/ 47160 w 46800"/>
                      <a:gd name="textAreaTop" fmla="*/ 0 h 33120"/>
                      <a:gd name="textAreaBottom" fmla="*/ 33480 h 33120"/>
                    </a:gdLst>
                    <a:ahLst/>
                    <a:rect l="textAreaLeft" t="textAreaTop" r="textAreaRight" b="textAreaBottom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8" name="Freeform 1288"/>
                  <p:cNvSpPr/>
                  <p:nvPr/>
                </p:nvSpPr>
                <p:spPr>
                  <a:xfrm rot="8424000">
                    <a:off x="681480" y="430560"/>
                    <a:ext cx="82080" cy="61200"/>
                  </a:xfrm>
                  <a:custGeom>
                    <a:avLst/>
                    <a:gdLst>
                      <a:gd name="textAreaLeft" fmla="*/ 0 w 82080"/>
                      <a:gd name="textAreaRight" fmla="*/ 82440 w 82080"/>
                      <a:gd name="textAreaTop" fmla="*/ 0 h 61200"/>
                      <a:gd name="textAreaBottom" fmla="*/ 61560 h 61200"/>
                    </a:gdLst>
                    <a:ahLst/>
                    <a:rect l="textAreaLeft" t="textAreaTop" r="textAreaRight" b="textAreaBottom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9" name="Freeform 1289"/>
                  <p:cNvSpPr/>
                  <p:nvPr/>
                </p:nvSpPr>
                <p:spPr>
                  <a:xfrm rot="8424000">
                    <a:off x="597600" y="463680"/>
                    <a:ext cx="131040" cy="107280"/>
                  </a:xfrm>
                  <a:custGeom>
                    <a:avLst/>
                    <a:gdLst>
                      <a:gd name="textAreaLeft" fmla="*/ 0 w 131040"/>
                      <a:gd name="textAreaRight" fmla="*/ 131400 w 131040"/>
                      <a:gd name="textAreaTop" fmla="*/ 0 h 107280"/>
                      <a:gd name="textAreaBottom" fmla="*/ 107640 h 107280"/>
                    </a:gdLst>
                    <a:ahLst/>
                    <a:rect l="textAreaLeft" t="textAreaTop" r="textAreaRight" b="textAreaBottom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0" name="Freeform 1290"/>
                  <p:cNvSpPr/>
                  <p:nvPr/>
                </p:nvSpPr>
                <p:spPr>
                  <a:xfrm rot="8424000">
                    <a:off x="528120" y="496800"/>
                    <a:ext cx="140760" cy="156960"/>
                  </a:xfrm>
                  <a:custGeom>
                    <a:avLst/>
                    <a:gdLst>
                      <a:gd name="textAreaLeft" fmla="*/ 0 w 140760"/>
                      <a:gd name="textAreaRight" fmla="*/ 141120 w 140760"/>
                      <a:gd name="textAreaTop" fmla="*/ 0 h 156960"/>
                      <a:gd name="textAreaBottom" fmla="*/ 157320 h 156960"/>
                    </a:gdLst>
                    <a:ahLst/>
                    <a:rect l="textAreaLeft" t="textAreaTop" r="textAreaRight" b="textAreaBottom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1" name="Freeform 1291"/>
                  <p:cNvSpPr/>
                  <p:nvPr/>
                </p:nvSpPr>
                <p:spPr>
                  <a:xfrm rot="8424000">
                    <a:off x="561600" y="502920"/>
                    <a:ext cx="15480" cy="62280"/>
                  </a:xfrm>
                  <a:custGeom>
                    <a:avLst/>
                    <a:gdLst>
                      <a:gd name="textAreaLeft" fmla="*/ 0 w 15480"/>
                      <a:gd name="textAreaRight" fmla="*/ 15840 w 15480"/>
                      <a:gd name="textAreaTop" fmla="*/ 0 h 62280"/>
                      <a:gd name="textAreaBottom" fmla="*/ 62640 h 62280"/>
                    </a:gdLst>
                    <a:ahLst/>
                    <a:rect l="textAreaLeft" t="textAreaTop" r="textAreaRight" b="textAreaBottom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2" name="Freeform 1292"/>
                  <p:cNvSpPr/>
                  <p:nvPr/>
                </p:nvSpPr>
                <p:spPr>
                  <a:xfrm rot="8424000">
                    <a:off x="483840" y="540360"/>
                    <a:ext cx="97560" cy="192960"/>
                  </a:xfrm>
                  <a:custGeom>
                    <a:avLst/>
                    <a:gdLst>
                      <a:gd name="textAreaLeft" fmla="*/ 0 w 97560"/>
                      <a:gd name="textAreaRight" fmla="*/ 97920 w 97560"/>
                      <a:gd name="textAreaTop" fmla="*/ 0 h 192960"/>
                      <a:gd name="textAreaBottom" fmla="*/ 193320 h 192960"/>
                    </a:gdLst>
                    <a:ahLst/>
                    <a:rect l="textAreaLeft" t="textAreaTop" r="textAreaRight" b="textAreaBottom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3" name="Freeform 1293"/>
                  <p:cNvSpPr/>
                  <p:nvPr/>
                </p:nvSpPr>
                <p:spPr>
                  <a:xfrm rot="8424000">
                    <a:off x="569880" y="557640"/>
                    <a:ext cx="72000" cy="30600"/>
                  </a:xfrm>
                  <a:custGeom>
                    <a:avLst/>
                    <a:gdLst>
                      <a:gd name="textAreaLeft" fmla="*/ 0 w 72000"/>
                      <a:gd name="textAreaRight" fmla="*/ 72360 w 7200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4" name="Freeform 1294"/>
                  <p:cNvSpPr/>
                  <p:nvPr/>
                </p:nvSpPr>
                <p:spPr>
                  <a:xfrm rot="8424000">
                    <a:off x="637560" y="455760"/>
                    <a:ext cx="34920" cy="4932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49320"/>
                      <a:gd name="textAreaBottom" fmla="*/ 49680 h 49320"/>
                    </a:gdLst>
                    <a:ahLst/>
                    <a:rect l="textAreaLeft" t="textAreaTop" r="textAreaRight" b="textAreaBottom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5" name="Freeform 1295"/>
                  <p:cNvSpPr/>
                  <p:nvPr/>
                </p:nvSpPr>
                <p:spPr>
                  <a:xfrm rot="8424000">
                    <a:off x="718200" y="510480"/>
                    <a:ext cx="76320" cy="10080"/>
                  </a:xfrm>
                  <a:custGeom>
                    <a:avLst/>
                    <a:gdLst>
                      <a:gd name="textAreaLeft" fmla="*/ 0 w 76320"/>
                      <a:gd name="textAreaRight" fmla="*/ 76680 w 7632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6" name="Freeform 1296"/>
                  <p:cNvSpPr/>
                  <p:nvPr/>
                </p:nvSpPr>
                <p:spPr>
                  <a:xfrm rot="8424000">
                    <a:off x="761760" y="505800"/>
                    <a:ext cx="46800" cy="18720"/>
                  </a:xfrm>
                  <a:custGeom>
                    <a:avLst/>
                    <a:gdLst>
                      <a:gd name="textAreaLeft" fmla="*/ 0 w 46800"/>
                      <a:gd name="textAreaRight" fmla="*/ 47160 w 4680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7" name="Freeform 1297"/>
                  <p:cNvSpPr/>
                  <p:nvPr/>
                </p:nvSpPr>
                <p:spPr>
                  <a:xfrm rot="8424000">
                    <a:off x="611280" y="520920"/>
                    <a:ext cx="15480" cy="11880"/>
                  </a:xfrm>
                  <a:custGeom>
                    <a:avLst/>
                    <a:gdLst>
                      <a:gd name="textAreaLeft" fmla="*/ 0 w 15480"/>
                      <a:gd name="textAreaRight" fmla="*/ 15840 w 1548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8" name="Freeform 1298"/>
                  <p:cNvSpPr/>
                  <p:nvPr/>
                </p:nvSpPr>
                <p:spPr>
                  <a:xfrm rot="8424000">
                    <a:off x="759240" y="554760"/>
                    <a:ext cx="13680" cy="6840"/>
                  </a:xfrm>
                  <a:custGeom>
                    <a:avLst/>
                    <a:gdLst>
                      <a:gd name="textAreaLeft" fmla="*/ 0 w 13680"/>
                      <a:gd name="textAreaRight" fmla="*/ 14040 w 1368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9" name="Freeform 1299"/>
                  <p:cNvSpPr/>
                  <p:nvPr/>
                </p:nvSpPr>
                <p:spPr>
                  <a:xfrm rot="8424000">
                    <a:off x="744120" y="617400"/>
                    <a:ext cx="15480" cy="9360"/>
                  </a:xfrm>
                  <a:custGeom>
                    <a:avLst/>
                    <a:gdLst>
                      <a:gd name="textAreaLeft" fmla="*/ 0 w 15480"/>
                      <a:gd name="textAreaRight" fmla="*/ 15840 w 1548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0" name="Freeform 1300"/>
                  <p:cNvSpPr/>
                  <p:nvPr/>
                </p:nvSpPr>
                <p:spPr>
                  <a:xfrm rot="8424000">
                    <a:off x="807480" y="452880"/>
                    <a:ext cx="12240" cy="3960"/>
                  </a:xfrm>
                  <a:custGeom>
                    <a:avLst/>
                    <a:gdLst>
                      <a:gd name="textAreaLeft" fmla="*/ 0 w 12240"/>
                      <a:gd name="textAreaRight" fmla="*/ 12600 w 12240"/>
                      <a:gd name="textAreaTop" fmla="*/ 0 h 3960"/>
                      <a:gd name="textAreaBottom" fmla="*/ 4320 h 3960"/>
                    </a:gdLst>
                    <a:ahLst/>
                    <a:rect l="textAreaLeft" t="textAreaTop" r="textAreaRight" b="textAreaBottom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1" name="Group 1056"/>
                <p:cNvGrpSpPr/>
                <p:nvPr/>
              </p:nvGrpSpPr>
              <p:grpSpPr>
                <a:xfrm>
                  <a:off x="464040" y="822240"/>
                  <a:ext cx="60120" cy="45720"/>
                  <a:chOff x="464040" y="822240"/>
                  <a:chExt cx="60120" cy="45720"/>
                </a:xfrm>
              </p:grpSpPr>
              <p:sp>
                <p:nvSpPr>
                  <p:cNvPr id="2822" name="Freeform 1302"/>
                  <p:cNvSpPr/>
                  <p:nvPr/>
                </p:nvSpPr>
                <p:spPr>
                  <a:xfrm rot="4059600">
                    <a:off x="480240" y="817920"/>
                    <a:ext cx="27000" cy="5400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3" name="Freeform 1303"/>
                  <p:cNvSpPr/>
                  <p:nvPr/>
                </p:nvSpPr>
                <p:spPr>
                  <a:xfrm rot="412800">
                    <a:off x="475920" y="832320"/>
                    <a:ext cx="27360" cy="16560"/>
                  </a:xfrm>
                  <a:custGeom>
                    <a:avLst/>
                    <a:gdLst>
                      <a:gd name="textAreaLeft" fmla="*/ 0 w 27360"/>
                      <a:gd name="textAreaRight" fmla="*/ 27720 w 273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24" name="Group 1059"/>
            <p:cNvGrpSpPr/>
            <p:nvPr/>
          </p:nvGrpSpPr>
          <p:grpSpPr>
            <a:xfrm>
              <a:off x="983520" y="436680"/>
              <a:ext cx="657360" cy="344160"/>
              <a:chOff x="983520" y="436680"/>
              <a:chExt cx="657360" cy="344160"/>
            </a:xfrm>
          </p:grpSpPr>
          <p:grpSp>
            <p:nvGrpSpPr>
              <p:cNvPr id="2825" name="Group 1060"/>
              <p:cNvGrpSpPr/>
              <p:nvPr/>
            </p:nvGrpSpPr>
            <p:grpSpPr>
              <a:xfrm>
                <a:off x="983520" y="436680"/>
                <a:ext cx="657360" cy="344160"/>
                <a:chOff x="983520" y="436680"/>
                <a:chExt cx="657360" cy="344160"/>
              </a:xfrm>
            </p:grpSpPr>
            <p:sp>
              <p:nvSpPr>
                <p:cNvPr id="2826" name="Freeform 1306"/>
                <p:cNvSpPr/>
                <p:nvPr/>
              </p:nvSpPr>
              <p:spPr>
                <a:xfrm flipH="1" rot="21294600">
                  <a:off x="1141200" y="457560"/>
                  <a:ext cx="487080" cy="302040"/>
                </a:xfrm>
                <a:custGeom>
                  <a:avLst/>
                  <a:gdLst>
                    <a:gd name="textAreaLeft" fmla="*/ -360 w 487080"/>
                    <a:gd name="textAreaRight" fmla="*/ 487080 w 487080"/>
                    <a:gd name="textAreaTop" fmla="*/ 0 h 302040"/>
                    <a:gd name="textAreaBottom" fmla="*/ 302400 h 30204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7" name="Freeform 1307"/>
                <p:cNvSpPr/>
                <p:nvPr/>
              </p:nvSpPr>
              <p:spPr>
                <a:xfrm flipH="1" rot="21294600">
                  <a:off x="1157760" y="527400"/>
                  <a:ext cx="412920" cy="143280"/>
                </a:xfrm>
                <a:custGeom>
                  <a:avLst/>
                  <a:gdLst>
                    <a:gd name="textAreaLeft" fmla="*/ -360 w 412920"/>
                    <a:gd name="textAreaRight" fmla="*/ 412920 w 412920"/>
                    <a:gd name="textAreaTop" fmla="*/ 0 h 143280"/>
                    <a:gd name="textAreaBottom" fmla="*/ 143640 h 14328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8" name="Freeform 1308"/>
                <p:cNvSpPr/>
                <p:nvPr/>
              </p:nvSpPr>
              <p:spPr>
                <a:xfrm flipH="1" rot="21294600">
                  <a:off x="990000" y="503640"/>
                  <a:ext cx="601560" cy="178560"/>
                </a:xfrm>
                <a:custGeom>
                  <a:avLst/>
                  <a:gdLst>
                    <a:gd name="textAreaLeft" fmla="*/ -360 w 601560"/>
                    <a:gd name="textAreaRight" fmla="*/ 601560 w 601560"/>
                    <a:gd name="textAreaTop" fmla="*/ 0 h 178560"/>
                    <a:gd name="textAreaBottom" fmla="*/ 178920 h 17856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9" name="Freeform 1309"/>
                <p:cNvSpPr/>
                <p:nvPr/>
              </p:nvSpPr>
              <p:spPr>
                <a:xfrm flipH="1" rot="21294600">
                  <a:off x="1330200" y="588960"/>
                  <a:ext cx="195480" cy="17640"/>
                </a:xfrm>
                <a:custGeom>
                  <a:avLst/>
                  <a:gdLst>
                    <a:gd name="textAreaLeft" fmla="*/ -360 w 195480"/>
                    <a:gd name="textAreaRight" fmla="*/ 195480 w 1954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0" name="Freeform 1310"/>
                <p:cNvSpPr/>
                <p:nvPr/>
              </p:nvSpPr>
              <p:spPr>
                <a:xfrm flipH="1" rot="21294600">
                  <a:off x="1235160" y="517680"/>
                  <a:ext cx="252720" cy="65880"/>
                </a:xfrm>
                <a:custGeom>
                  <a:avLst/>
                  <a:gdLst>
                    <a:gd name="textAreaLeft" fmla="*/ 360 w 252720"/>
                    <a:gd name="textAreaRight" fmla="*/ 253440 w 252720"/>
                    <a:gd name="textAreaTop" fmla="*/ 0 h 65880"/>
                    <a:gd name="textAreaBottom" fmla="*/ 66240 h 6588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1" name="Freeform 1311"/>
                <p:cNvSpPr/>
                <p:nvPr/>
              </p:nvSpPr>
              <p:spPr>
                <a:xfrm flipH="1" rot="21294600">
                  <a:off x="1173600" y="479880"/>
                  <a:ext cx="278640" cy="87120"/>
                </a:xfrm>
                <a:custGeom>
                  <a:avLst/>
                  <a:gdLst>
                    <a:gd name="textAreaLeft" fmla="*/ 360 w 278640"/>
                    <a:gd name="textAreaRight" fmla="*/ 279360 w 27864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2" name="Freeform 1312"/>
                <p:cNvSpPr/>
                <p:nvPr/>
              </p:nvSpPr>
              <p:spPr>
                <a:xfrm flipH="1" rot="21294600">
                  <a:off x="1424160" y="614160"/>
                  <a:ext cx="115920" cy="10800"/>
                </a:xfrm>
                <a:custGeom>
                  <a:avLst/>
                  <a:gdLst>
                    <a:gd name="textAreaLeft" fmla="*/ 360 w 115920"/>
                    <a:gd name="textAreaRight" fmla="*/ 116640 w 11592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3" name="Freeform 1313"/>
                <p:cNvSpPr/>
                <p:nvPr/>
              </p:nvSpPr>
              <p:spPr>
                <a:xfrm flipH="1" rot="21294600">
                  <a:off x="1508400" y="635760"/>
                  <a:ext cx="60480" cy="4320"/>
                </a:xfrm>
                <a:custGeom>
                  <a:avLst/>
                  <a:gdLst>
                    <a:gd name="textAreaLeft" fmla="*/ 360 w 60480"/>
                    <a:gd name="textAreaRight" fmla="*/ 61200 w 6048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4" name="Freeform 1314"/>
                <p:cNvSpPr/>
                <p:nvPr/>
              </p:nvSpPr>
              <p:spPr>
                <a:xfrm flipH="1" rot="21294600">
                  <a:off x="1496160" y="637920"/>
                  <a:ext cx="44280" cy="30960"/>
                </a:xfrm>
                <a:custGeom>
                  <a:avLst/>
                  <a:gdLst>
                    <a:gd name="textAreaLeft" fmla="*/ -360 w 44280"/>
                    <a:gd name="textAreaRight" fmla="*/ 44280 w 442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5" name="Freeform 1315"/>
                <p:cNvSpPr/>
                <p:nvPr/>
              </p:nvSpPr>
              <p:spPr>
                <a:xfrm flipH="1" rot="21294600">
                  <a:off x="1428120" y="625680"/>
                  <a:ext cx="77400" cy="57240"/>
                </a:xfrm>
                <a:custGeom>
                  <a:avLst/>
                  <a:gdLst>
                    <a:gd name="textAreaLeft" fmla="*/ -360 w 77400"/>
                    <a:gd name="textAreaRight" fmla="*/ 77400 w 7740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6" name="Freeform 1316"/>
                <p:cNvSpPr/>
                <p:nvPr/>
              </p:nvSpPr>
              <p:spPr>
                <a:xfrm flipH="1" rot="21294600">
                  <a:off x="1327680" y="606240"/>
                  <a:ext cx="123840" cy="100440"/>
                </a:xfrm>
                <a:custGeom>
                  <a:avLst/>
                  <a:gdLst>
                    <a:gd name="textAreaLeft" fmla="*/ 360 w 123840"/>
                    <a:gd name="textAreaRight" fmla="*/ 124560 w 123840"/>
                    <a:gd name="textAreaTop" fmla="*/ 0 h 100440"/>
                    <a:gd name="textAreaBottom" fmla="*/ 100800 h 10044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7" name="Freeform 1317"/>
                <p:cNvSpPr/>
                <p:nvPr/>
              </p:nvSpPr>
              <p:spPr>
                <a:xfrm flipH="1" rot="21294600">
                  <a:off x="1241280" y="586800"/>
                  <a:ext cx="132840" cy="146520"/>
                </a:xfrm>
                <a:custGeom>
                  <a:avLst/>
                  <a:gdLst>
                    <a:gd name="textAreaLeft" fmla="*/ -360 w 132840"/>
                    <a:gd name="textAreaRight" fmla="*/ 132840 w 13284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8" name="Freeform 1318"/>
                <p:cNvSpPr/>
                <p:nvPr/>
              </p:nvSpPr>
              <p:spPr>
                <a:xfrm flipH="1" rot="21294600">
                  <a:off x="1308600" y="678240"/>
                  <a:ext cx="14400" cy="58320"/>
                </a:xfrm>
                <a:custGeom>
                  <a:avLst/>
                  <a:gdLst>
                    <a:gd name="textAreaLeft" fmla="*/ 360 w 14400"/>
                    <a:gd name="textAreaRight" fmla="*/ 15120 w 14400"/>
                    <a:gd name="textAreaTop" fmla="*/ 0 h 58320"/>
                    <a:gd name="textAreaBottom" fmla="*/ 58680 h 5832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9" name="Freeform 1319"/>
                <p:cNvSpPr/>
                <p:nvPr/>
              </p:nvSpPr>
              <p:spPr>
                <a:xfrm flipH="1" rot="21294600">
                  <a:off x="1176840" y="572400"/>
                  <a:ext cx="91800" cy="180720"/>
                </a:xfrm>
                <a:custGeom>
                  <a:avLst/>
                  <a:gdLst>
                    <a:gd name="textAreaLeft" fmla="*/ -360 w 91800"/>
                    <a:gd name="textAreaRight" fmla="*/ 91800 w 91800"/>
                    <a:gd name="textAreaTop" fmla="*/ 0 h 180720"/>
                    <a:gd name="textAreaBottom" fmla="*/ 181080 h 18072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0" name="Freeform 1320"/>
                <p:cNvSpPr/>
                <p:nvPr/>
              </p:nvSpPr>
              <p:spPr>
                <a:xfrm flipH="1" rot="21294600">
                  <a:off x="1280160" y="642960"/>
                  <a:ext cx="68040" cy="28080"/>
                </a:xfrm>
                <a:custGeom>
                  <a:avLst/>
                  <a:gdLst>
                    <a:gd name="textAreaLeft" fmla="*/ -360 w 68040"/>
                    <a:gd name="textAreaRight" fmla="*/ 68040 w 6804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1" name="Freeform 1321"/>
                <p:cNvSpPr/>
                <p:nvPr/>
              </p:nvSpPr>
              <p:spPr>
                <a:xfrm flipH="1" rot="21294600">
                  <a:off x="1392120" y="662760"/>
                  <a:ext cx="32760" cy="46440"/>
                </a:xfrm>
                <a:custGeom>
                  <a:avLst/>
                  <a:gdLst>
                    <a:gd name="textAreaLeft" fmla="*/ -360 w 32760"/>
                    <a:gd name="textAreaRight" fmla="*/ 32760 w 327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2" name="Freeform 1322"/>
                <p:cNvSpPr/>
                <p:nvPr/>
              </p:nvSpPr>
              <p:spPr>
                <a:xfrm flipH="1" rot="21294600">
                  <a:off x="1417320" y="591480"/>
                  <a:ext cx="72000" cy="9720"/>
                </a:xfrm>
                <a:custGeom>
                  <a:avLst/>
                  <a:gdLst>
                    <a:gd name="textAreaLeft" fmla="*/ 360 w 72000"/>
                    <a:gd name="textAreaRight" fmla="*/ 72720 w 7200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3" name="Freeform 1323"/>
                <p:cNvSpPr/>
                <p:nvPr/>
              </p:nvSpPr>
              <p:spPr>
                <a:xfrm flipH="1" rot="21294600">
                  <a:off x="1449720" y="568440"/>
                  <a:ext cx="44280" cy="17640"/>
                </a:xfrm>
                <a:custGeom>
                  <a:avLst/>
                  <a:gdLst>
                    <a:gd name="textAreaLeft" fmla="*/ -360 w 44280"/>
                    <a:gd name="textAreaRight" fmla="*/ 44280 w 442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4" name="Freeform 1324"/>
                <p:cNvSpPr/>
                <p:nvPr/>
              </p:nvSpPr>
              <p:spPr>
                <a:xfrm flipH="1" rot="21294600">
                  <a:off x="1346040" y="673200"/>
                  <a:ext cx="14400" cy="10440"/>
                </a:xfrm>
                <a:custGeom>
                  <a:avLst/>
                  <a:gdLst>
                    <a:gd name="textAreaLeft" fmla="*/ 360 w 14400"/>
                    <a:gd name="textAreaRight" fmla="*/ 15120 w 1440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5" name="Freeform 1325"/>
                <p:cNvSpPr/>
                <p:nvPr/>
              </p:nvSpPr>
              <p:spPr>
                <a:xfrm flipH="1" rot="21294600">
                  <a:off x="1424520" y="558360"/>
                  <a:ext cx="12960" cy="648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6" name="Freeform 1326"/>
                <p:cNvSpPr/>
                <p:nvPr/>
              </p:nvSpPr>
              <p:spPr>
                <a:xfrm flipH="1" rot="21294600">
                  <a:off x="1371960" y="524160"/>
                  <a:ext cx="14400" cy="8280"/>
                </a:xfrm>
                <a:custGeom>
                  <a:avLst/>
                  <a:gdLst>
                    <a:gd name="textAreaLeft" fmla="*/ 360 w 14400"/>
                    <a:gd name="textAreaRight" fmla="*/ 15120 w 1440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7" name="Freeform 1327"/>
                <p:cNvSpPr/>
                <p:nvPr/>
              </p:nvSpPr>
              <p:spPr>
                <a:xfrm flipH="1" rot="21294600">
                  <a:off x="1526400" y="597240"/>
                  <a:ext cx="11160" cy="3960"/>
                </a:xfrm>
                <a:custGeom>
                  <a:avLst/>
                  <a:gdLst>
                    <a:gd name="textAreaLeft" fmla="*/ -360 w 11160"/>
                    <a:gd name="textAreaRight" fmla="*/ 11160 w 1116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8" name="Group 1083"/>
              <p:cNvGrpSpPr/>
              <p:nvPr/>
            </p:nvGrpSpPr>
            <p:grpSpPr>
              <a:xfrm>
                <a:off x="1030680" y="529200"/>
                <a:ext cx="57240" cy="43200"/>
                <a:chOff x="1030680" y="529200"/>
                <a:chExt cx="57240" cy="43200"/>
              </a:xfrm>
            </p:grpSpPr>
            <p:sp>
              <p:nvSpPr>
                <p:cNvPr id="2849" name="Freeform 1329"/>
                <p:cNvSpPr/>
                <p:nvPr/>
              </p:nvSpPr>
              <p:spPr>
                <a:xfrm flipH="1" rot="4059600">
                  <a:off x="1046160" y="524880"/>
                  <a:ext cx="25200" cy="51480"/>
                </a:xfrm>
                <a:custGeom>
                  <a:avLst/>
                  <a:gdLst>
                    <a:gd name="textAreaLeft" fmla="*/ 360 w 25200"/>
                    <a:gd name="textAreaRight" fmla="*/ 25920 w 2520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0" name="Freeform 1330"/>
                <p:cNvSpPr/>
                <p:nvPr/>
              </p:nvSpPr>
              <p:spPr>
                <a:xfrm flipH="1" rot="7706400">
                  <a:off x="1046160" y="547920"/>
                  <a:ext cx="25920" cy="15480"/>
                </a:xfrm>
                <a:custGeom>
                  <a:avLst/>
                  <a:gdLst>
                    <a:gd name="textAreaLeft" fmla="*/ 360 w 25920"/>
                    <a:gd name="textAreaRight" fmla="*/ 26640 w 25920"/>
                    <a:gd name="textAreaTop" fmla="*/ 0 h 15480"/>
                    <a:gd name="textAreaBottom" fmla="*/ 15840 h 1548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1" name="Group 1086"/>
            <p:cNvGrpSpPr/>
            <p:nvPr/>
          </p:nvGrpSpPr>
          <p:grpSpPr>
            <a:xfrm>
              <a:off x="919800" y="34200"/>
              <a:ext cx="471240" cy="565560"/>
              <a:chOff x="919800" y="34200"/>
              <a:chExt cx="471240" cy="565560"/>
            </a:xfrm>
          </p:grpSpPr>
          <p:grpSp>
            <p:nvGrpSpPr>
              <p:cNvPr id="2852" name="Group 1087"/>
              <p:cNvGrpSpPr/>
              <p:nvPr/>
            </p:nvGrpSpPr>
            <p:grpSpPr>
              <a:xfrm>
                <a:off x="919800" y="34200"/>
                <a:ext cx="471240" cy="565560"/>
                <a:chOff x="919800" y="34200"/>
                <a:chExt cx="471240" cy="565560"/>
              </a:xfrm>
            </p:grpSpPr>
            <p:sp>
              <p:nvSpPr>
                <p:cNvPr id="2853" name="Freeform 1333"/>
                <p:cNvSpPr/>
                <p:nvPr/>
              </p:nvSpPr>
              <p:spPr>
                <a:xfrm rot="7630800">
                  <a:off x="957600" y="148680"/>
                  <a:ext cx="414000" cy="253800"/>
                </a:xfrm>
                <a:custGeom>
                  <a:avLst/>
                  <a:gdLst>
                    <a:gd name="textAreaLeft" fmla="*/ 0 w 414000"/>
                    <a:gd name="textAreaRight" fmla="*/ 414360 w 414000"/>
                    <a:gd name="textAreaTop" fmla="*/ 0 h 253800"/>
                    <a:gd name="textAreaBottom" fmla="*/ 254160 h 25380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4" name="Freeform 1334"/>
                <p:cNvSpPr/>
                <p:nvPr/>
              </p:nvSpPr>
              <p:spPr>
                <a:xfrm rot="7630800">
                  <a:off x="986400" y="234720"/>
                  <a:ext cx="351000" cy="120600"/>
                </a:xfrm>
                <a:custGeom>
                  <a:avLst/>
                  <a:gdLst>
                    <a:gd name="textAreaLeft" fmla="*/ 0 w 351000"/>
                    <a:gd name="textAreaRight" fmla="*/ 351360 w 35100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5" name="Freeform 1335"/>
                <p:cNvSpPr/>
                <p:nvPr/>
              </p:nvSpPr>
              <p:spPr>
                <a:xfrm rot="7630800">
                  <a:off x="878400" y="275760"/>
                  <a:ext cx="511200" cy="149760"/>
                </a:xfrm>
                <a:custGeom>
                  <a:avLst/>
                  <a:gdLst>
                    <a:gd name="textAreaLeft" fmla="*/ 0 w 511200"/>
                    <a:gd name="textAreaRight" fmla="*/ 511200 w 511200"/>
                    <a:gd name="textAreaTop" fmla="*/ 0 h 149760"/>
                    <a:gd name="textAreaBottom" fmla="*/ 150120 h 14976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6" name="Freeform 1336"/>
                <p:cNvSpPr/>
                <p:nvPr/>
              </p:nvSpPr>
              <p:spPr>
                <a:xfrm rot="7630800">
                  <a:off x="1109160" y="241560"/>
                  <a:ext cx="165960" cy="14760"/>
                </a:xfrm>
                <a:custGeom>
                  <a:avLst/>
                  <a:gdLst>
                    <a:gd name="textAreaLeft" fmla="*/ 0 w 165960"/>
                    <a:gd name="textAreaRight" fmla="*/ 166320 w 1659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7" name="Freeform 1337"/>
                <p:cNvSpPr/>
                <p:nvPr/>
              </p:nvSpPr>
              <p:spPr>
                <a:xfrm rot="7630800">
                  <a:off x="1089000" y="289800"/>
                  <a:ext cx="214920" cy="55800"/>
                </a:xfrm>
                <a:custGeom>
                  <a:avLst/>
                  <a:gdLst>
                    <a:gd name="textAreaLeft" fmla="*/ 0 w 214920"/>
                    <a:gd name="textAreaRight" fmla="*/ 215280 w 2149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8" name="Freeform 1338"/>
                <p:cNvSpPr/>
                <p:nvPr/>
              </p:nvSpPr>
              <p:spPr>
                <a:xfrm rot="7630800">
                  <a:off x="1074960" y="328680"/>
                  <a:ext cx="236880" cy="73080"/>
                </a:xfrm>
                <a:custGeom>
                  <a:avLst/>
                  <a:gdLst>
                    <a:gd name="textAreaLeft" fmla="*/ 0 w 236880"/>
                    <a:gd name="textAreaRight" fmla="*/ 237240 w 23688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9" name="Freeform 1339"/>
                <p:cNvSpPr/>
                <p:nvPr/>
              </p:nvSpPr>
              <p:spPr>
                <a:xfrm rot="7630800">
                  <a:off x="1152720" y="194400"/>
                  <a:ext cx="98280" cy="9360"/>
                </a:xfrm>
                <a:custGeom>
                  <a:avLst/>
                  <a:gdLst>
                    <a:gd name="textAreaLeft" fmla="*/ 0 w 98280"/>
                    <a:gd name="textAreaRight" fmla="*/ 98640 w 9828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0" name="Freeform 1340"/>
                <p:cNvSpPr/>
                <p:nvPr/>
              </p:nvSpPr>
              <p:spPr>
                <a:xfrm rot="7630800">
                  <a:off x="1188000" y="150480"/>
                  <a:ext cx="51480" cy="3600"/>
                </a:xfrm>
                <a:custGeom>
                  <a:avLst/>
                  <a:gdLst>
                    <a:gd name="textAreaLeft" fmla="*/ 0 w 51480"/>
                    <a:gd name="textAreaRight" fmla="*/ 51840 w 51480"/>
                    <a:gd name="textAreaTop" fmla="*/ 0 h 3600"/>
                    <a:gd name="textAreaBottom" fmla="*/ 3960 h 360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1" name="Freeform 1341"/>
                <p:cNvSpPr/>
                <p:nvPr/>
              </p:nvSpPr>
              <p:spPr>
                <a:xfrm rot="7630800">
                  <a:off x="1175400" y="146880"/>
                  <a:ext cx="37440" cy="259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2" name="Freeform 1342"/>
                <p:cNvSpPr/>
                <p:nvPr/>
              </p:nvSpPr>
              <p:spPr>
                <a:xfrm rot="7630800">
                  <a:off x="1136880" y="172440"/>
                  <a:ext cx="65520" cy="47520"/>
                </a:xfrm>
                <a:custGeom>
                  <a:avLst/>
                  <a:gdLst>
                    <a:gd name="textAreaLeft" fmla="*/ 0 w 65520"/>
                    <a:gd name="textAreaRight" fmla="*/ 65880 w 65520"/>
                    <a:gd name="textAreaTop" fmla="*/ 0 h 47520"/>
                    <a:gd name="textAreaBottom" fmla="*/ 47880 h 4752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3" name="Freeform 1343"/>
                <p:cNvSpPr/>
                <p:nvPr/>
              </p:nvSpPr>
              <p:spPr>
                <a:xfrm rot="7630800">
                  <a:off x="1080720" y="208800"/>
                  <a:ext cx="105120" cy="83880"/>
                </a:xfrm>
                <a:custGeom>
                  <a:avLst/>
                  <a:gdLst>
                    <a:gd name="textAreaLeft" fmla="*/ 0 w 105120"/>
                    <a:gd name="textAreaRight" fmla="*/ 105480 w 10512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4" name="Freeform 1344"/>
                <p:cNvSpPr/>
                <p:nvPr/>
              </p:nvSpPr>
              <p:spPr>
                <a:xfrm rot="7630800">
                  <a:off x="1036800" y="246960"/>
                  <a:ext cx="113040" cy="1227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122760"/>
                    <a:gd name="textAreaBottom" fmla="*/ 123120 h 12276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5" name="Freeform 1345"/>
                <p:cNvSpPr/>
                <p:nvPr/>
              </p:nvSpPr>
              <p:spPr>
                <a:xfrm rot="7630800">
                  <a:off x="1057320" y="256680"/>
                  <a:ext cx="12240" cy="4896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6" name="Freeform 1346"/>
                <p:cNvSpPr/>
                <p:nvPr/>
              </p:nvSpPr>
              <p:spPr>
                <a:xfrm rot="7630800">
                  <a:off x="1013760" y="292320"/>
                  <a:ext cx="78120" cy="15192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151920"/>
                    <a:gd name="textAreaBottom" fmla="*/ 152280 h 15192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7" name="Freeform 1347"/>
                <p:cNvSpPr/>
                <p:nvPr/>
              </p:nvSpPr>
              <p:spPr>
                <a:xfrm rot="7630800">
                  <a:off x="1069560" y="293760"/>
                  <a:ext cx="57960" cy="24120"/>
                </a:xfrm>
                <a:custGeom>
                  <a:avLst/>
                  <a:gdLst>
                    <a:gd name="textAreaLeft" fmla="*/ 0 w 57960"/>
                    <a:gd name="textAreaRight" fmla="*/ 58320 w 5796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8" name="Freeform 1348"/>
                <p:cNvSpPr/>
                <p:nvPr/>
              </p:nvSpPr>
              <p:spPr>
                <a:xfrm rot="7630800">
                  <a:off x="1105920" y="204480"/>
                  <a:ext cx="28080" cy="3924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9" name="Freeform 1349"/>
                <p:cNvSpPr/>
                <p:nvPr/>
              </p:nvSpPr>
              <p:spPr>
                <a:xfrm rot="7630800">
                  <a:off x="1173240" y="227880"/>
                  <a:ext cx="61200" cy="8640"/>
                </a:xfrm>
                <a:custGeom>
                  <a:avLst/>
                  <a:gdLst>
                    <a:gd name="textAreaLeft" fmla="*/ 0 w 61200"/>
                    <a:gd name="textAreaRight" fmla="*/ 61560 w 6120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0" name="Freeform 1350"/>
                <p:cNvSpPr/>
                <p:nvPr/>
              </p:nvSpPr>
              <p:spPr>
                <a:xfrm rot="7630800">
                  <a:off x="1208520" y="218880"/>
                  <a:ext cx="37440" cy="1476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1" name="Freeform 1351"/>
                <p:cNvSpPr/>
                <p:nvPr/>
              </p:nvSpPr>
              <p:spPr>
                <a:xfrm rot="7630800">
                  <a:off x="1095120" y="262440"/>
                  <a:ext cx="12240" cy="900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9000"/>
                    <a:gd name="textAreaBottom" fmla="*/ 9360 h 900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2" name="Freeform 1352"/>
                <p:cNvSpPr/>
                <p:nvPr/>
              </p:nvSpPr>
              <p:spPr>
                <a:xfrm rot="7630800">
                  <a:off x="1214280" y="260640"/>
                  <a:ext cx="10800" cy="54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3" name="Freeform 1353"/>
                <p:cNvSpPr/>
                <p:nvPr/>
              </p:nvSpPr>
              <p:spPr>
                <a:xfrm rot="7630800">
                  <a:off x="1214280" y="311400"/>
                  <a:ext cx="12240" cy="720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4" name="Freeform 1354"/>
                <p:cNvSpPr/>
                <p:nvPr/>
              </p:nvSpPr>
              <p:spPr>
                <a:xfrm rot="7630800">
                  <a:off x="1234440" y="172080"/>
                  <a:ext cx="9360" cy="324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5" name="Group 1110"/>
              <p:cNvGrpSpPr/>
              <p:nvPr/>
            </p:nvGrpSpPr>
            <p:grpSpPr>
              <a:xfrm>
                <a:off x="1035720" y="514440"/>
                <a:ext cx="47160" cy="42120"/>
                <a:chOff x="1035720" y="514440"/>
                <a:chExt cx="47160" cy="42120"/>
              </a:xfrm>
            </p:grpSpPr>
            <p:sp>
              <p:nvSpPr>
                <p:cNvPr id="2876" name="Freeform 1356"/>
                <p:cNvSpPr/>
                <p:nvPr/>
              </p:nvSpPr>
              <p:spPr>
                <a:xfrm rot="3266400">
                  <a:off x="1048680" y="513720"/>
                  <a:ext cx="20880" cy="43200"/>
                </a:xfrm>
                <a:custGeom>
                  <a:avLst/>
                  <a:gdLst>
                    <a:gd name="textAreaLeft" fmla="*/ 0 w 20880"/>
                    <a:gd name="textAreaRight" fmla="*/ 21240 w 20880"/>
                    <a:gd name="textAreaTop" fmla="*/ 0 h 43200"/>
                    <a:gd name="textAreaBottom" fmla="*/ 43200 h 4320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7" name="Freeform 1357"/>
                <p:cNvSpPr/>
                <p:nvPr/>
              </p:nvSpPr>
              <p:spPr>
                <a:xfrm rot="21219600">
                  <a:off x="1044720" y="526320"/>
                  <a:ext cx="21960" cy="12600"/>
                </a:xfrm>
                <a:custGeom>
                  <a:avLst/>
                  <a:gdLst>
                    <a:gd name="textAreaLeft" fmla="*/ 0 w 21960"/>
                    <a:gd name="textAreaRight" fmla="*/ 21960 w 219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8" name="Group 1113"/>
            <p:cNvGrpSpPr/>
            <p:nvPr/>
          </p:nvGrpSpPr>
          <p:grpSpPr>
            <a:xfrm>
              <a:off x="1438560" y="156240"/>
              <a:ext cx="474840" cy="468000"/>
              <a:chOff x="1438560" y="156240"/>
              <a:chExt cx="474840" cy="468000"/>
            </a:xfrm>
          </p:grpSpPr>
          <p:grpSp>
            <p:nvGrpSpPr>
              <p:cNvPr id="2879" name="Group 1114"/>
              <p:cNvGrpSpPr/>
              <p:nvPr/>
            </p:nvGrpSpPr>
            <p:grpSpPr>
              <a:xfrm>
                <a:off x="1460520" y="156240"/>
                <a:ext cx="452880" cy="468000"/>
                <a:chOff x="1460520" y="156240"/>
                <a:chExt cx="452880" cy="468000"/>
              </a:xfrm>
            </p:grpSpPr>
            <p:sp>
              <p:nvSpPr>
                <p:cNvPr id="2880" name="Freeform 1360"/>
                <p:cNvSpPr/>
                <p:nvPr/>
              </p:nvSpPr>
              <p:spPr>
                <a:xfrm rot="12159000">
                  <a:off x="1582200" y="191520"/>
                  <a:ext cx="264600" cy="396720"/>
                </a:xfrm>
                <a:custGeom>
                  <a:avLst/>
                  <a:gdLst>
                    <a:gd name="textAreaLeft" fmla="*/ 0 w 264600"/>
                    <a:gd name="textAreaRight" fmla="*/ 264960 w 264600"/>
                    <a:gd name="textAreaTop" fmla="*/ 0 h 396720"/>
                    <a:gd name="textAreaBottom" fmla="*/ 397080 h 39672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1" name="Freeform 1361"/>
                <p:cNvSpPr/>
                <p:nvPr/>
              </p:nvSpPr>
              <p:spPr>
                <a:xfrm rot="12159000">
                  <a:off x="1587240" y="305640"/>
                  <a:ext cx="224280" cy="188280"/>
                </a:xfrm>
                <a:custGeom>
                  <a:avLst/>
                  <a:gdLst>
                    <a:gd name="textAreaLeft" fmla="*/ 0 w 224280"/>
                    <a:gd name="textAreaRight" fmla="*/ 224640 w 224280"/>
                    <a:gd name="textAreaTop" fmla="*/ 0 h 188280"/>
                    <a:gd name="textAreaBottom" fmla="*/ 188640 h 18828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2" name="Freeform 1362"/>
                <p:cNvSpPr/>
                <p:nvPr/>
              </p:nvSpPr>
              <p:spPr>
                <a:xfrm rot="12159000">
                  <a:off x="1492920" y="283680"/>
                  <a:ext cx="326880" cy="234360"/>
                </a:xfrm>
                <a:custGeom>
                  <a:avLst/>
                  <a:gdLst>
                    <a:gd name="textAreaLeft" fmla="*/ 0 w 326880"/>
                    <a:gd name="textAreaRight" fmla="*/ 327240 w 326880"/>
                    <a:gd name="textAreaTop" fmla="*/ 0 h 234360"/>
                    <a:gd name="textAreaBottom" fmla="*/ 234720 h 23436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3" name="Freeform 1363"/>
                <p:cNvSpPr/>
                <p:nvPr/>
              </p:nvSpPr>
              <p:spPr>
                <a:xfrm rot="12159000">
                  <a:off x="1680480" y="396000"/>
                  <a:ext cx="106560" cy="2304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4" name="Freeform 1364"/>
                <p:cNvSpPr/>
                <p:nvPr/>
              </p:nvSpPr>
              <p:spPr>
                <a:xfrm rot="12159000">
                  <a:off x="1607400" y="416160"/>
                  <a:ext cx="137160" cy="86400"/>
                </a:xfrm>
                <a:custGeom>
                  <a:avLst/>
                  <a:gdLst>
                    <a:gd name="textAreaLeft" fmla="*/ 0 w 137160"/>
                    <a:gd name="textAreaRight" fmla="*/ 137520 w 137160"/>
                    <a:gd name="textAreaTop" fmla="*/ 0 h 86400"/>
                    <a:gd name="textAreaBottom" fmla="*/ 86760 h 8640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5" name="Freeform 1365"/>
                <p:cNvSpPr/>
                <p:nvPr/>
              </p:nvSpPr>
              <p:spPr>
                <a:xfrm rot="12159000">
                  <a:off x="1561680" y="429840"/>
                  <a:ext cx="151200" cy="114480"/>
                </a:xfrm>
                <a:custGeom>
                  <a:avLst/>
                  <a:gdLst>
                    <a:gd name="textAreaLeft" fmla="*/ 0 w 151200"/>
                    <a:gd name="textAreaRight" fmla="*/ 151560 w 151200"/>
                    <a:gd name="textAreaTop" fmla="*/ 0 h 114480"/>
                    <a:gd name="textAreaBottom" fmla="*/ 114840 h 11448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6" name="Freeform 1366"/>
                <p:cNvSpPr/>
                <p:nvPr/>
              </p:nvSpPr>
              <p:spPr>
                <a:xfrm rot="12159000">
                  <a:off x="1742400" y="379440"/>
                  <a:ext cx="63000" cy="144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7" name="Freeform 1367"/>
                <p:cNvSpPr/>
                <p:nvPr/>
              </p:nvSpPr>
              <p:spPr>
                <a:xfrm rot="12159000">
                  <a:off x="1796040" y="366840"/>
                  <a:ext cx="32760" cy="5760"/>
                </a:xfrm>
                <a:custGeom>
                  <a:avLst/>
                  <a:gdLst>
                    <a:gd name="textAreaLeft" fmla="*/ 0 w 32760"/>
                    <a:gd name="textAreaRight" fmla="*/ 33120 w 32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8" name="Freeform 1368"/>
                <p:cNvSpPr/>
                <p:nvPr/>
              </p:nvSpPr>
              <p:spPr>
                <a:xfrm rot="12159000">
                  <a:off x="1795680" y="328320"/>
                  <a:ext cx="23760" cy="4068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9" name="Freeform 1369"/>
                <p:cNvSpPr/>
                <p:nvPr/>
              </p:nvSpPr>
              <p:spPr>
                <a:xfrm rot="12159000">
                  <a:off x="1759680" y="305280"/>
                  <a:ext cx="41760" cy="7488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0" name="Freeform 1370"/>
                <p:cNvSpPr/>
                <p:nvPr/>
              </p:nvSpPr>
              <p:spPr>
                <a:xfrm rot="12159000">
                  <a:off x="1706040" y="266760"/>
                  <a:ext cx="67320" cy="131760"/>
                </a:xfrm>
                <a:custGeom>
                  <a:avLst/>
                  <a:gdLst>
                    <a:gd name="textAreaLeft" fmla="*/ 0 w 67320"/>
                    <a:gd name="textAreaRight" fmla="*/ 67680 w 6732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1" name="Freeform 1371"/>
                <p:cNvSpPr/>
                <p:nvPr/>
              </p:nvSpPr>
              <p:spPr>
                <a:xfrm rot="12159000">
                  <a:off x="1661400" y="223200"/>
                  <a:ext cx="71640" cy="19260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2" name="Freeform 1372"/>
                <p:cNvSpPr/>
                <p:nvPr/>
              </p:nvSpPr>
              <p:spPr>
                <a:xfrm rot="12159000">
                  <a:off x="1717920" y="224280"/>
                  <a:ext cx="8280" cy="7668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76680"/>
                    <a:gd name="textAreaBottom" fmla="*/ 77040 h 7668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3" name="Freeform 1373"/>
                <p:cNvSpPr/>
                <p:nvPr/>
              </p:nvSpPr>
              <p:spPr>
                <a:xfrm rot="12159000">
                  <a:off x="1627200" y="189000"/>
                  <a:ext cx="50040" cy="23724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0 h 237240"/>
                    <a:gd name="textAreaBottom" fmla="*/ 237600 h 23724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4" name="Freeform 1374"/>
                <p:cNvSpPr/>
                <p:nvPr/>
              </p:nvSpPr>
              <p:spPr>
                <a:xfrm rot="12159000">
                  <a:off x="1680120" y="305280"/>
                  <a:ext cx="37080" cy="37440"/>
                </a:xfrm>
                <a:custGeom>
                  <a:avLst/>
                  <a:gdLst>
                    <a:gd name="textAreaLeft" fmla="*/ 0 w 37080"/>
                    <a:gd name="textAreaRight" fmla="*/ 37440 w 3708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5" name="Freeform 1375"/>
                <p:cNvSpPr/>
                <p:nvPr/>
              </p:nvSpPr>
              <p:spPr>
                <a:xfrm rot="12159000">
                  <a:off x="1754640" y="267480"/>
                  <a:ext cx="17640" cy="6048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6" name="Freeform 1376"/>
                <p:cNvSpPr/>
                <p:nvPr/>
              </p:nvSpPr>
              <p:spPr>
                <a:xfrm rot="12159000">
                  <a:off x="1726920" y="405720"/>
                  <a:ext cx="38520" cy="129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7" name="Freeform 1377"/>
                <p:cNvSpPr/>
                <p:nvPr/>
              </p:nvSpPr>
              <p:spPr>
                <a:xfrm rot="12159000">
                  <a:off x="1736640" y="425520"/>
                  <a:ext cx="23760" cy="2304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8" name="Freeform 1378"/>
                <p:cNvSpPr/>
                <p:nvPr/>
              </p:nvSpPr>
              <p:spPr>
                <a:xfrm rot="12159000">
                  <a:off x="1726200" y="293760"/>
                  <a:ext cx="8280" cy="1440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9" name="Freeform 1379"/>
                <p:cNvSpPr/>
                <p:nvPr/>
              </p:nvSpPr>
              <p:spPr>
                <a:xfrm rot="12159000">
                  <a:off x="1715400" y="449280"/>
                  <a:ext cx="6480" cy="7920"/>
                </a:xfrm>
                <a:custGeom>
                  <a:avLst/>
                  <a:gdLst>
                    <a:gd name="textAreaLeft" fmla="*/ 0 w 6480"/>
                    <a:gd name="textAreaRight" fmla="*/ 6840 w 648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0" name="Freeform 1380"/>
                <p:cNvSpPr/>
                <p:nvPr/>
              </p:nvSpPr>
              <p:spPr>
                <a:xfrm rot="12159000">
                  <a:off x="1671120" y="482760"/>
                  <a:ext cx="8280" cy="1080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1" name="Freeform 1381"/>
                <p:cNvSpPr/>
                <p:nvPr/>
              </p:nvSpPr>
              <p:spPr>
                <a:xfrm rot="12159000">
                  <a:off x="1787760" y="414000"/>
                  <a:ext cx="6120" cy="576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2" name="Group 1137"/>
              <p:cNvGrpSpPr/>
              <p:nvPr/>
            </p:nvGrpSpPr>
            <p:grpSpPr>
              <a:xfrm>
                <a:off x="1438560" y="436320"/>
                <a:ext cx="42840" cy="43560"/>
                <a:chOff x="1438560" y="436320"/>
                <a:chExt cx="42840" cy="43560"/>
              </a:xfrm>
            </p:grpSpPr>
            <p:sp>
              <p:nvSpPr>
                <p:cNvPr id="2903" name="Freeform 1383"/>
                <p:cNvSpPr/>
                <p:nvPr/>
              </p:nvSpPr>
              <p:spPr>
                <a:xfrm rot="7794000">
                  <a:off x="1443240" y="443880"/>
                  <a:ext cx="33120" cy="28080"/>
                </a:xfrm>
                <a:custGeom>
                  <a:avLst/>
                  <a:gdLst>
                    <a:gd name="textAreaLeft" fmla="*/ 0 w 33120"/>
                    <a:gd name="textAreaRight" fmla="*/ 33120 w 3312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4" name="Freeform 1384"/>
                <p:cNvSpPr/>
                <p:nvPr/>
              </p:nvSpPr>
              <p:spPr>
                <a:xfrm rot="4147200">
                  <a:off x="1456560" y="442440"/>
                  <a:ext cx="14040" cy="2016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20160"/>
                    <a:gd name="textAreaBottom" fmla="*/ 20160 h 2016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05" name="Group 1140"/>
          <p:cNvGrpSpPr/>
          <p:nvPr/>
        </p:nvGrpSpPr>
        <p:grpSpPr>
          <a:xfrm>
            <a:off x="-187920" y="759600"/>
            <a:ext cx="1493280" cy="1297440"/>
            <a:chOff x="-187920" y="759600"/>
            <a:chExt cx="1493280" cy="1297440"/>
          </a:xfrm>
        </p:grpSpPr>
        <p:sp>
          <p:nvSpPr>
            <p:cNvPr id="2906" name="Freeform 1386"/>
            <p:cNvSpPr/>
            <p:nvPr/>
          </p:nvSpPr>
          <p:spPr>
            <a:xfrm flipH="1" rot="4059600">
              <a:off x="377280" y="726480"/>
              <a:ext cx="216720" cy="1187280"/>
            </a:xfrm>
            <a:custGeom>
              <a:avLst/>
              <a:gdLst>
                <a:gd name="textAreaLeft" fmla="*/ 360 w 216720"/>
                <a:gd name="textAreaRight" fmla="*/ 217440 w 216720"/>
                <a:gd name="textAreaTop" fmla="*/ 0 h 1187280"/>
                <a:gd name="textAreaBottom" fmla="*/ 1187640 h 1187280"/>
              </a:gdLst>
              <a:ahLst/>
              <a:rect l="textAreaLeft" t="textAreaTop" r="textAreaRight" b="textAreaBottom"/>
              <a:pathLst>
                <a:path w="2573" h="12419">
                  <a:moveTo>
                    <a:pt x="103" y="11997"/>
                  </a:moveTo>
                  <a:lnTo>
                    <a:pt x="103" y="11955"/>
                  </a:lnTo>
                  <a:lnTo>
                    <a:pt x="113" y="11851"/>
                  </a:lnTo>
                  <a:lnTo>
                    <a:pt x="124" y="11788"/>
                  </a:lnTo>
                  <a:lnTo>
                    <a:pt x="135" y="11737"/>
                  </a:lnTo>
                  <a:lnTo>
                    <a:pt x="150" y="11690"/>
                  </a:lnTo>
                  <a:lnTo>
                    <a:pt x="160" y="11669"/>
                  </a:lnTo>
                  <a:lnTo>
                    <a:pt x="170" y="11658"/>
                  </a:lnTo>
                  <a:lnTo>
                    <a:pt x="228" y="11596"/>
                  </a:lnTo>
                  <a:lnTo>
                    <a:pt x="264" y="11555"/>
                  </a:lnTo>
                  <a:lnTo>
                    <a:pt x="300" y="11503"/>
                  </a:lnTo>
                  <a:lnTo>
                    <a:pt x="332" y="11445"/>
                  </a:lnTo>
                  <a:lnTo>
                    <a:pt x="368" y="11378"/>
                  </a:lnTo>
                  <a:lnTo>
                    <a:pt x="394" y="11305"/>
                  </a:lnTo>
                  <a:lnTo>
                    <a:pt x="410" y="11221"/>
                  </a:lnTo>
                  <a:lnTo>
                    <a:pt x="447" y="11071"/>
                  </a:lnTo>
                  <a:lnTo>
                    <a:pt x="504" y="10821"/>
                  </a:lnTo>
                  <a:lnTo>
                    <a:pt x="670" y="10144"/>
                  </a:lnTo>
                  <a:lnTo>
                    <a:pt x="831" y="9488"/>
                  </a:lnTo>
                  <a:lnTo>
                    <a:pt x="883" y="9254"/>
                  </a:lnTo>
                  <a:lnTo>
                    <a:pt x="904" y="9140"/>
                  </a:lnTo>
                  <a:lnTo>
                    <a:pt x="909" y="9056"/>
                  </a:lnTo>
                  <a:lnTo>
                    <a:pt x="914" y="9004"/>
                  </a:lnTo>
                  <a:lnTo>
                    <a:pt x="919" y="8983"/>
                  </a:lnTo>
                  <a:lnTo>
                    <a:pt x="930" y="8973"/>
                  </a:lnTo>
                  <a:lnTo>
                    <a:pt x="946" y="8963"/>
                  </a:lnTo>
                  <a:lnTo>
                    <a:pt x="966" y="8958"/>
                  </a:lnTo>
                  <a:lnTo>
                    <a:pt x="981" y="8946"/>
                  </a:lnTo>
                  <a:lnTo>
                    <a:pt x="1003" y="8921"/>
                  </a:lnTo>
                  <a:lnTo>
                    <a:pt x="1023" y="8884"/>
                  </a:lnTo>
                  <a:lnTo>
                    <a:pt x="1050" y="8833"/>
                  </a:lnTo>
                  <a:lnTo>
                    <a:pt x="1106" y="8708"/>
                  </a:lnTo>
                  <a:lnTo>
                    <a:pt x="1169" y="8556"/>
                  </a:lnTo>
                  <a:lnTo>
                    <a:pt x="1231" y="8395"/>
                  </a:lnTo>
                  <a:lnTo>
                    <a:pt x="1288" y="8239"/>
                  </a:lnTo>
                  <a:lnTo>
                    <a:pt x="1335" y="8104"/>
                  </a:lnTo>
                  <a:lnTo>
                    <a:pt x="1367" y="7999"/>
                  </a:lnTo>
                  <a:lnTo>
                    <a:pt x="1445" y="7755"/>
                  </a:lnTo>
                  <a:lnTo>
                    <a:pt x="1554" y="7401"/>
                  </a:lnTo>
                  <a:lnTo>
                    <a:pt x="1606" y="7213"/>
                  </a:lnTo>
                  <a:lnTo>
                    <a:pt x="1647" y="7026"/>
                  </a:lnTo>
                  <a:lnTo>
                    <a:pt x="1669" y="6943"/>
                  </a:lnTo>
                  <a:lnTo>
                    <a:pt x="1679" y="6860"/>
                  </a:lnTo>
                  <a:lnTo>
                    <a:pt x="1689" y="6786"/>
                  </a:lnTo>
                  <a:lnTo>
                    <a:pt x="1689" y="6719"/>
                  </a:lnTo>
                  <a:lnTo>
                    <a:pt x="1694" y="6651"/>
                  </a:lnTo>
                  <a:lnTo>
                    <a:pt x="1699" y="6558"/>
                  </a:lnTo>
                  <a:lnTo>
                    <a:pt x="1731" y="6318"/>
                  </a:lnTo>
                  <a:lnTo>
                    <a:pt x="1772" y="6032"/>
                  </a:lnTo>
                  <a:lnTo>
                    <a:pt x="1814" y="5730"/>
                  </a:lnTo>
                  <a:lnTo>
                    <a:pt x="1902" y="5163"/>
                  </a:lnTo>
                  <a:lnTo>
                    <a:pt x="1934" y="4955"/>
                  </a:lnTo>
                  <a:lnTo>
                    <a:pt x="1939" y="4877"/>
                  </a:lnTo>
                  <a:lnTo>
                    <a:pt x="1944" y="4830"/>
                  </a:lnTo>
                  <a:lnTo>
                    <a:pt x="1949" y="4236"/>
                  </a:lnTo>
                  <a:lnTo>
                    <a:pt x="1964" y="3133"/>
                  </a:lnTo>
                  <a:lnTo>
                    <a:pt x="1970" y="2555"/>
                  </a:lnTo>
                  <a:lnTo>
                    <a:pt x="1970" y="2050"/>
                  </a:lnTo>
                  <a:lnTo>
                    <a:pt x="1964" y="1686"/>
                  </a:lnTo>
                  <a:lnTo>
                    <a:pt x="1959" y="1571"/>
                  </a:lnTo>
                  <a:lnTo>
                    <a:pt x="1954" y="1541"/>
                  </a:lnTo>
                  <a:lnTo>
                    <a:pt x="1954" y="1524"/>
                  </a:lnTo>
                  <a:lnTo>
                    <a:pt x="1918" y="1457"/>
                  </a:lnTo>
                  <a:lnTo>
                    <a:pt x="1892" y="1399"/>
                  </a:lnTo>
                  <a:lnTo>
                    <a:pt x="1887" y="1374"/>
                  </a:lnTo>
                  <a:lnTo>
                    <a:pt x="1882" y="1347"/>
                  </a:lnTo>
                  <a:lnTo>
                    <a:pt x="1882" y="1327"/>
                  </a:lnTo>
                  <a:lnTo>
                    <a:pt x="1892" y="1311"/>
                  </a:lnTo>
                  <a:lnTo>
                    <a:pt x="1897" y="1306"/>
                  </a:lnTo>
                  <a:lnTo>
                    <a:pt x="1907" y="1301"/>
                  </a:lnTo>
                  <a:lnTo>
                    <a:pt x="1923" y="1306"/>
                  </a:lnTo>
                  <a:lnTo>
                    <a:pt x="1944" y="1311"/>
                  </a:lnTo>
                  <a:lnTo>
                    <a:pt x="1964" y="1322"/>
                  </a:lnTo>
                  <a:lnTo>
                    <a:pt x="1986" y="1332"/>
                  </a:lnTo>
                  <a:lnTo>
                    <a:pt x="2006" y="1337"/>
                  </a:lnTo>
                  <a:lnTo>
                    <a:pt x="2022" y="1337"/>
                  </a:lnTo>
                  <a:lnTo>
                    <a:pt x="2027" y="1332"/>
                  </a:lnTo>
                  <a:lnTo>
                    <a:pt x="2032" y="1322"/>
                  </a:lnTo>
                  <a:lnTo>
                    <a:pt x="2214" y="775"/>
                  </a:lnTo>
                  <a:lnTo>
                    <a:pt x="2386" y="265"/>
                  </a:lnTo>
                  <a:lnTo>
                    <a:pt x="2376" y="228"/>
                  </a:lnTo>
                  <a:lnTo>
                    <a:pt x="2360" y="140"/>
                  </a:lnTo>
                  <a:lnTo>
                    <a:pt x="2360" y="93"/>
                  </a:lnTo>
                  <a:lnTo>
                    <a:pt x="2360" y="51"/>
                  </a:lnTo>
                  <a:lnTo>
                    <a:pt x="2365" y="20"/>
                  </a:lnTo>
                  <a:lnTo>
                    <a:pt x="2376" y="10"/>
                  </a:lnTo>
                  <a:lnTo>
                    <a:pt x="2386" y="5"/>
                  </a:lnTo>
                  <a:lnTo>
                    <a:pt x="2396" y="0"/>
                  </a:lnTo>
                  <a:lnTo>
                    <a:pt x="2401" y="5"/>
                  </a:lnTo>
                  <a:lnTo>
                    <a:pt x="2417" y="15"/>
                  </a:lnTo>
                  <a:lnTo>
                    <a:pt x="2423" y="36"/>
                  </a:lnTo>
                  <a:lnTo>
                    <a:pt x="2428" y="67"/>
                  </a:lnTo>
                  <a:lnTo>
                    <a:pt x="2438" y="130"/>
                  </a:lnTo>
                  <a:lnTo>
                    <a:pt x="2448" y="155"/>
                  </a:lnTo>
                  <a:lnTo>
                    <a:pt x="2464" y="177"/>
                  </a:lnTo>
                  <a:lnTo>
                    <a:pt x="2485" y="187"/>
                  </a:lnTo>
                  <a:lnTo>
                    <a:pt x="2505" y="197"/>
                  </a:lnTo>
                  <a:lnTo>
                    <a:pt x="2547" y="213"/>
                  </a:lnTo>
                  <a:lnTo>
                    <a:pt x="2563" y="218"/>
                  </a:lnTo>
                  <a:lnTo>
                    <a:pt x="2568" y="228"/>
                  </a:lnTo>
                  <a:lnTo>
                    <a:pt x="2573" y="233"/>
                  </a:lnTo>
                  <a:lnTo>
                    <a:pt x="2568" y="245"/>
                  </a:lnTo>
                  <a:lnTo>
                    <a:pt x="2531" y="275"/>
                  </a:lnTo>
                  <a:lnTo>
                    <a:pt x="2490" y="327"/>
                  </a:lnTo>
                  <a:lnTo>
                    <a:pt x="2443" y="390"/>
                  </a:lnTo>
                  <a:lnTo>
                    <a:pt x="2423" y="421"/>
                  </a:lnTo>
                  <a:lnTo>
                    <a:pt x="2406" y="457"/>
                  </a:lnTo>
                  <a:lnTo>
                    <a:pt x="2334" y="650"/>
                  </a:lnTo>
                  <a:lnTo>
                    <a:pt x="2219" y="999"/>
                  </a:lnTo>
                  <a:lnTo>
                    <a:pt x="2163" y="1186"/>
                  </a:lnTo>
                  <a:lnTo>
                    <a:pt x="2116" y="1363"/>
                  </a:lnTo>
                  <a:lnTo>
                    <a:pt x="2084" y="1504"/>
                  </a:lnTo>
                  <a:lnTo>
                    <a:pt x="2074" y="1556"/>
                  </a:lnTo>
                  <a:lnTo>
                    <a:pt x="2074" y="1592"/>
                  </a:lnTo>
                  <a:lnTo>
                    <a:pt x="2074" y="1706"/>
                  </a:lnTo>
                  <a:lnTo>
                    <a:pt x="2074" y="1915"/>
                  </a:lnTo>
                  <a:lnTo>
                    <a:pt x="2069" y="2456"/>
                  </a:lnTo>
                  <a:lnTo>
                    <a:pt x="2053" y="3195"/>
                  </a:lnTo>
                  <a:lnTo>
                    <a:pt x="2064" y="3185"/>
                  </a:lnTo>
                  <a:lnTo>
                    <a:pt x="2089" y="3164"/>
                  </a:lnTo>
                  <a:lnTo>
                    <a:pt x="2106" y="3154"/>
                  </a:lnTo>
                  <a:lnTo>
                    <a:pt x="2116" y="3154"/>
                  </a:lnTo>
                  <a:lnTo>
                    <a:pt x="2121" y="3159"/>
                  </a:lnTo>
                  <a:lnTo>
                    <a:pt x="2121" y="3174"/>
                  </a:lnTo>
                  <a:lnTo>
                    <a:pt x="2111" y="3227"/>
                  </a:lnTo>
                  <a:lnTo>
                    <a:pt x="2089" y="3284"/>
                  </a:lnTo>
                  <a:lnTo>
                    <a:pt x="2069" y="3352"/>
                  </a:lnTo>
                  <a:lnTo>
                    <a:pt x="2064" y="3394"/>
                  </a:lnTo>
                  <a:lnTo>
                    <a:pt x="2064" y="3435"/>
                  </a:lnTo>
                  <a:lnTo>
                    <a:pt x="2058" y="3747"/>
                  </a:lnTo>
                  <a:lnTo>
                    <a:pt x="2043" y="4356"/>
                  </a:lnTo>
                  <a:lnTo>
                    <a:pt x="2032" y="4705"/>
                  </a:lnTo>
                  <a:lnTo>
                    <a:pt x="2022" y="5048"/>
                  </a:lnTo>
                  <a:lnTo>
                    <a:pt x="2001" y="5360"/>
                  </a:lnTo>
                  <a:lnTo>
                    <a:pt x="1981" y="5610"/>
                  </a:lnTo>
                  <a:lnTo>
                    <a:pt x="1954" y="5834"/>
                  </a:lnTo>
                  <a:lnTo>
                    <a:pt x="1923" y="6058"/>
                  </a:lnTo>
                  <a:lnTo>
                    <a:pt x="1850" y="6490"/>
                  </a:lnTo>
                  <a:lnTo>
                    <a:pt x="1819" y="6673"/>
                  </a:lnTo>
                  <a:lnTo>
                    <a:pt x="1799" y="6818"/>
                  </a:lnTo>
                  <a:lnTo>
                    <a:pt x="1794" y="6922"/>
                  </a:lnTo>
                  <a:lnTo>
                    <a:pt x="1794" y="6953"/>
                  </a:lnTo>
                  <a:lnTo>
                    <a:pt x="1804" y="6974"/>
                  </a:lnTo>
                  <a:lnTo>
                    <a:pt x="1819" y="6985"/>
                  </a:lnTo>
                  <a:lnTo>
                    <a:pt x="1834" y="6990"/>
                  </a:lnTo>
                  <a:lnTo>
                    <a:pt x="1866" y="6990"/>
                  </a:lnTo>
                  <a:lnTo>
                    <a:pt x="1876" y="6990"/>
                  </a:lnTo>
                  <a:lnTo>
                    <a:pt x="1887" y="6995"/>
                  </a:lnTo>
                  <a:lnTo>
                    <a:pt x="1897" y="7010"/>
                  </a:lnTo>
                  <a:lnTo>
                    <a:pt x="1902" y="7031"/>
                  </a:lnTo>
                  <a:lnTo>
                    <a:pt x="1897" y="7063"/>
                  </a:lnTo>
                  <a:lnTo>
                    <a:pt x="1887" y="7100"/>
                  </a:lnTo>
                  <a:lnTo>
                    <a:pt x="1866" y="7130"/>
                  </a:lnTo>
                  <a:lnTo>
                    <a:pt x="1845" y="7162"/>
                  </a:lnTo>
                  <a:lnTo>
                    <a:pt x="1804" y="7208"/>
                  </a:lnTo>
                  <a:lnTo>
                    <a:pt x="1782" y="7224"/>
                  </a:lnTo>
                  <a:lnTo>
                    <a:pt x="1076" y="9108"/>
                  </a:lnTo>
                  <a:lnTo>
                    <a:pt x="571" y="11174"/>
                  </a:lnTo>
                  <a:lnTo>
                    <a:pt x="582" y="11201"/>
                  </a:lnTo>
                  <a:lnTo>
                    <a:pt x="587" y="11243"/>
                  </a:lnTo>
                  <a:lnTo>
                    <a:pt x="582" y="11294"/>
                  </a:lnTo>
                  <a:lnTo>
                    <a:pt x="571" y="11331"/>
                  </a:lnTo>
                  <a:lnTo>
                    <a:pt x="550" y="11378"/>
                  </a:lnTo>
                  <a:lnTo>
                    <a:pt x="487" y="11492"/>
                  </a:lnTo>
                  <a:lnTo>
                    <a:pt x="457" y="11550"/>
                  </a:lnTo>
                  <a:lnTo>
                    <a:pt x="431" y="11606"/>
                  </a:lnTo>
                  <a:lnTo>
                    <a:pt x="410" y="11658"/>
                  </a:lnTo>
                  <a:lnTo>
                    <a:pt x="405" y="11695"/>
                  </a:lnTo>
                  <a:lnTo>
                    <a:pt x="399" y="11737"/>
                  </a:lnTo>
                  <a:lnTo>
                    <a:pt x="389" y="11783"/>
                  </a:lnTo>
                  <a:lnTo>
                    <a:pt x="352" y="11898"/>
                  </a:lnTo>
                  <a:lnTo>
                    <a:pt x="312" y="12018"/>
                  </a:lnTo>
                  <a:lnTo>
                    <a:pt x="259" y="12122"/>
                  </a:lnTo>
                  <a:lnTo>
                    <a:pt x="197" y="12220"/>
                  </a:lnTo>
                  <a:lnTo>
                    <a:pt x="113" y="12330"/>
                  </a:lnTo>
                  <a:lnTo>
                    <a:pt x="77" y="12377"/>
                  </a:lnTo>
                  <a:lnTo>
                    <a:pt x="40" y="12408"/>
                  </a:lnTo>
                  <a:lnTo>
                    <a:pt x="25" y="12419"/>
                  </a:lnTo>
                  <a:lnTo>
                    <a:pt x="15" y="12419"/>
                  </a:lnTo>
                  <a:lnTo>
                    <a:pt x="5" y="12419"/>
                  </a:lnTo>
                  <a:lnTo>
                    <a:pt x="0" y="12413"/>
                  </a:lnTo>
                  <a:lnTo>
                    <a:pt x="0" y="12397"/>
                  </a:lnTo>
                  <a:lnTo>
                    <a:pt x="0" y="12377"/>
                  </a:lnTo>
                  <a:lnTo>
                    <a:pt x="10" y="12320"/>
                  </a:lnTo>
                  <a:lnTo>
                    <a:pt x="40" y="12185"/>
                  </a:lnTo>
                  <a:lnTo>
                    <a:pt x="82" y="12055"/>
                  </a:lnTo>
                  <a:lnTo>
                    <a:pt x="103" y="11997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Freeform 1387"/>
            <p:cNvSpPr/>
            <p:nvPr/>
          </p:nvSpPr>
          <p:spPr>
            <a:xfrm flipH="1" rot="4059600">
              <a:off x="-15480" y="1600920"/>
              <a:ext cx="24120" cy="45720"/>
            </a:xfrm>
            <a:custGeom>
              <a:avLst/>
              <a:gdLst>
                <a:gd name="textAreaLeft" fmla="*/ 360 w 24120"/>
                <a:gd name="textAreaRight" fmla="*/ 24840 w 24120"/>
                <a:gd name="textAreaTop" fmla="*/ 0 h 45720"/>
                <a:gd name="textAreaBottom" fmla="*/ 45720 h 45720"/>
              </a:gdLst>
              <a:ahLst/>
              <a:rect l="textAreaLeft" t="textAreaTop" r="textAreaRight" b="textAreaBottom"/>
              <a:pathLst>
                <a:path w="297" h="479">
                  <a:moveTo>
                    <a:pt x="265" y="0"/>
                  </a:moveTo>
                  <a:lnTo>
                    <a:pt x="249" y="5"/>
                  </a:lnTo>
                  <a:lnTo>
                    <a:pt x="228" y="10"/>
                  </a:lnTo>
                  <a:lnTo>
                    <a:pt x="202" y="22"/>
                  </a:lnTo>
                  <a:lnTo>
                    <a:pt x="177" y="37"/>
                  </a:lnTo>
                  <a:lnTo>
                    <a:pt x="145" y="57"/>
                  </a:lnTo>
                  <a:lnTo>
                    <a:pt x="120" y="89"/>
                  </a:lnTo>
                  <a:lnTo>
                    <a:pt x="93" y="130"/>
                  </a:lnTo>
                  <a:lnTo>
                    <a:pt x="73" y="182"/>
                  </a:lnTo>
                  <a:lnTo>
                    <a:pt x="52" y="245"/>
                  </a:lnTo>
                  <a:lnTo>
                    <a:pt x="31" y="312"/>
                  </a:lnTo>
                  <a:lnTo>
                    <a:pt x="10" y="375"/>
                  </a:lnTo>
                  <a:lnTo>
                    <a:pt x="5" y="427"/>
                  </a:lnTo>
                  <a:lnTo>
                    <a:pt x="0" y="464"/>
                  </a:lnTo>
                  <a:lnTo>
                    <a:pt x="5" y="474"/>
                  </a:lnTo>
                  <a:lnTo>
                    <a:pt x="10" y="479"/>
                  </a:lnTo>
                  <a:lnTo>
                    <a:pt x="20" y="474"/>
                  </a:lnTo>
                  <a:lnTo>
                    <a:pt x="36" y="464"/>
                  </a:lnTo>
                  <a:lnTo>
                    <a:pt x="73" y="422"/>
                  </a:lnTo>
                  <a:lnTo>
                    <a:pt x="125" y="359"/>
                  </a:lnTo>
                  <a:lnTo>
                    <a:pt x="177" y="282"/>
                  </a:lnTo>
                  <a:lnTo>
                    <a:pt x="228" y="204"/>
                  </a:lnTo>
                  <a:lnTo>
                    <a:pt x="270" y="125"/>
                  </a:lnTo>
                  <a:lnTo>
                    <a:pt x="280" y="89"/>
                  </a:lnTo>
                  <a:lnTo>
                    <a:pt x="290" y="63"/>
                  </a:lnTo>
                  <a:lnTo>
                    <a:pt x="297" y="37"/>
                  </a:lnTo>
                  <a:lnTo>
                    <a:pt x="297" y="16"/>
                  </a:lnTo>
                  <a:lnTo>
                    <a:pt x="285" y="5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8" name="Group 1143"/>
            <p:cNvGrpSpPr/>
            <p:nvPr/>
          </p:nvGrpSpPr>
          <p:grpSpPr>
            <a:xfrm>
              <a:off x="-107640" y="1512000"/>
              <a:ext cx="496440" cy="545040"/>
              <a:chOff x="-107640" y="1512000"/>
              <a:chExt cx="496440" cy="545040"/>
            </a:xfrm>
          </p:grpSpPr>
          <p:grpSp>
            <p:nvGrpSpPr>
              <p:cNvPr id="2909" name="Group 1144"/>
              <p:cNvGrpSpPr/>
              <p:nvPr/>
            </p:nvGrpSpPr>
            <p:grpSpPr>
              <a:xfrm>
                <a:off x="-107640" y="1515960"/>
                <a:ext cx="496440" cy="541080"/>
                <a:chOff x="-107640" y="1515960"/>
                <a:chExt cx="496440" cy="541080"/>
              </a:xfrm>
            </p:grpSpPr>
            <p:sp>
              <p:nvSpPr>
                <p:cNvPr id="2910" name="Freeform 1390"/>
                <p:cNvSpPr/>
                <p:nvPr/>
              </p:nvSpPr>
              <p:spPr>
                <a:xfrm flipH="1" rot="3919200">
                  <a:off x="-27000" y="1626480"/>
                  <a:ext cx="334800" cy="392400"/>
                </a:xfrm>
                <a:custGeom>
                  <a:avLst/>
                  <a:gdLst>
                    <a:gd name="textAreaLeft" fmla="*/ 360 w 334800"/>
                    <a:gd name="textAreaRight" fmla="*/ 335520 w 334800"/>
                    <a:gd name="textAreaTop" fmla="*/ 0 h 392400"/>
                    <a:gd name="textAreaBottom" fmla="*/ 392760 h 39240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1" name="Freeform 1391"/>
                <p:cNvSpPr/>
                <p:nvPr/>
              </p:nvSpPr>
              <p:spPr>
                <a:xfrm flipH="1" rot="3919200">
                  <a:off x="5400" y="1711080"/>
                  <a:ext cx="284040" cy="186120"/>
                </a:xfrm>
                <a:custGeom>
                  <a:avLst/>
                  <a:gdLst>
                    <a:gd name="textAreaLeft" fmla="*/ -360 w 284040"/>
                    <a:gd name="textAreaRight" fmla="*/ 284040 w 284040"/>
                    <a:gd name="textAreaTop" fmla="*/ 0 h 186120"/>
                    <a:gd name="textAreaBottom" fmla="*/ 186480 h 18612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2" name="Freeform 1392"/>
                <p:cNvSpPr/>
                <p:nvPr/>
              </p:nvSpPr>
              <p:spPr>
                <a:xfrm flipH="1" rot="3919200">
                  <a:off x="-63720" y="1636200"/>
                  <a:ext cx="413640" cy="231840"/>
                </a:xfrm>
                <a:custGeom>
                  <a:avLst/>
                  <a:gdLst>
                    <a:gd name="textAreaLeft" fmla="*/ -360 w 413640"/>
                    <a:gd name="textAreaRight" fmla="*/ 413640 w 413640"/>
                    <a:gd name="textAreaTop" fmla="*/ 0 h 231840"/>
                    <a:gd name="textAreaBottom" fmla="*/ 232200 h 23184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3" name="Freeform 1393"/>
                <p:cNvSpPr/>
                <p:nvPr/>
              </p:nvSpPr>
              <p:spPr>
                <a:xfrm flipH="1" rot="3919200">
                  <a:off x="93960" y="1835280"/>
                  <a:ext cx="134280" cy="23040"/>
                </a:xfrm>
                <a:custGeom>
                  <a:avLst/>
                  <a:gdLst>
                    <a:gd name="textAreaLeft" fmla="*/ -360 w 134280"/>
                    <a:gd name="textAreaRight" fmla="*/ 134280 w 1342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4" name="Freeform 1394"/>
                <p:cNvSpPr/>
                <p:nvPr/>
              </p:nvSpPr>
              <p:spPr>
                <a:xfrm flipH="1" rot="3919200">
                  <a:off x="119520" y="1737000"/>
                  <a:ext cx="173520" cy="86040"/>
                </a:xfrm>
                <a:custGeom>
                  <a:avLst/>
                  <a:gdLst>
                    <a:gd name="textAreaLeft" fmla="*/ 360 w 173520"/>
                    <a:gd name="textAreaRight" fmla="*/ 174240 w 17352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5" name="Freeform 1395"/>
                <p:cNvSpPr/>
                <p:nvPr/>
              </p:nvSpPr>
              <p:spPr>
                <a:xfrm flipH="1" rot="3919200">
                  <a:off x="133920" y="1677600"/>
                  <a:ext cx="191520" cy="113040"/>
                </a:xfrm>
                <a:custGeom>
                  <a:avLst/>
                  <a:gdLst>
                    <a:gd name="textAreaLeft" fmla="*/ 360 w 191520"/>
                    <a:gd name="textAreaRight" fmla="*/ 192240 w 191520"/>
                    <a:gd name="textAreaTop" fmla="*/ 0 h 113040"/>
                    <a:gd name="textAreaBottom" fmla="*/ 113400 h 11304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6" name="Freeform 1396"/>
                <p:cNvSpPr/>
                <p:nvPr/>
              </p:nvSpPr>
              <p:spPr>
                <a:xfrm flipH="1" rot="3919200">
                  <a:off x="105480" y="1887120"/>
                  <a:ext cx="79560" cy="14760"/>
                </a:xfrm>
                <a:custGeom>
                  <a:avLst/>
                  <a:gdLst>
                    <a:gd name="textAreaLeft" fmla="*/ -360 w 79560"/>
                    <a:gd name="textAreaRight" fmla="*/ 79560 w 795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7" name="Freeform 1397"/>
                <p:cNvSpPr/>
                <p:nvPr/>
              </p:nvSpPr>
              <p:spPr>
                <a:xfrm flipH="1" rot="3919200">
                  <a:off x="111960" y="1937880"/>
                  <a:ext cx="41400" cy="5760"/>
                </a:xfrm>
                <a:custGeom>
                  <a:avLst/>
                  <a:gdLst>
                    <a:gd name="textAreaLeft" fmla="*/ -360 w 41400"/>
                    <a:gd name="textAreaRight" fmla="*/ 41400 w 4140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8" name="Freeform 1398"/>
                <p:cNvSpPr/>
                <p:nvPr/>
              </p:nvSpPr>
              <p:spPr>
                <a:xfrm flipH="1" rot="3919200">
                  <a:off x="96120" y="1914840"/>
                  <a:ext cx="30240" cy="39960"/>
                </a:xfrm>
                <a:custGeom>
                  <a:avLst/>
                  <a:gdLst>
                    <a:gd name="textAreaLeft" fmla="*/ 360 w 30240"/>
                    <a:gd name="textAreaRight" fmla="*/ 30960 w 3024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9" name="Freeform 1399"/>
                <p:cNvSpPr/>
                <p:nvPr/>
              </p:nvSpPr>
              <p:spPr>
                <a:xfrm flipH="1" rot="3919200">
                  <a:off x="74160" y="1862640"/>
                  <a:ext cx="52920" cy="74520"/>
                </a:xfrm>
                <a:custGeom>
                  <a:avLst/>
                  <a:gdLst>
                    <a:gd name="textAreaLeft" fmla="*/ -360 w 52920"/>
                    <a:gd name="textAreaRight" fmla="*/ 52920 w 5292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0" name="Freeform 1400"/>
                <p:cNvSpPr/>
                <p:nvPr/>
              </p:nvSpPr>
              <p:spPr>
                <a:xfrm flipH="1" rot="3919200">
                  <a:off x="42120" y="1784520"/>
                  <a:ext cx="84960" cy="129960"/>
                </a:xfrm>
                <a:custGeom>
                  <a:avLst/>
                  <a:gdLst>
                    <a:gd name="textAreaLeft" fmla="*/ 360 w 84960"/>
                    <a:gd name="textAreaRight" fmla="*/ 85680 w 8496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1" name="Freeform 1401"/>
                <p:cNvSpPr/>
                <p:nvPr/>
              </p:nvSpPr>
              <p:spPr>
                <a:xfrm flipH="1" rot="3919200">
                  <a:off x="18720" y="1701360"/>
                  <a:ext cx="91440" cy="190440"/>
                </a:xfrm>
                <a:custGeom>
                  <a:avLst/>
                  <a:gdLst>
                    <a:gd name="textAreaLeft" fmla="*/ 360 w 91440"/>
                    <a:gd name="textAreaRight" fmla="*/ 92160 w 91440"/>
                    <a:gd name="textAreaTop" fmla="*/ 0 h 190440"/>
                    <a:gd name="textAreaBottom" fmla="*/ 190800 h 19044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2" name="Freeform 1402"/>
                <p:cNvSpPr/>
                <p:nvPr/>
              </p:nvSpPr>
              <p:spPr>
                <a:xfrm flipH="1" rot="3919200">
                  <a:off x="4680" y="1786320"/>
                  <a:ext cx="9720" cy="7632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3" name="Freeform 1403"/>
                <p:cNvSpPr/>
                <p:nvPr/>
              </p:nvSpPr>
              <p:spPr>
                <a:xfrm flipH="1" rot="3919200">
                  <a:off x="14760" y="1623240"/>
                  <a:ext cx="63000" cy="234720"/>
                </a:xfrm>
                <a:custGeom>
                  <a:avLst/>
                  <a:gdLst>
                    <a:gd name="textAreaLeft" fmla="*/ -360 w 63000"/>
                    <a:gd name="textAreaRight" fmla="*/ 63000 w 63000"/>
                    <a:gd name="textAreaTop" fmla="*/ 0 h 234720"/>
                    <a:gd name="textAreaBottom" fmla="*/ 235080 h 23472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4" name="Freeform 1404"/>
                <p:cNvSpPr/>
                <p:nvPr/>
              </p:nvSpPr>
              <p:spPr>
                <a:xfrm flipH="1" rot="3919200">
                  <a:off x="46440" y="1780560"/>
                  <a:ext cx="46800" cy="37080"/>
                </a:xfrm>
                <a:custGeom>
                  <a:avLst/>
                  <a:gdLst>
                    <a:gd name="textAreaLeft" fmla="*/ 360 w 46800"/>
                    <a:gd name="textAreaRight" fmla="*/ 47520 w 4680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5" name="Freeform 1405"/>
                <p:cNvSpPr/>
                <p:nvPr/>
              </p:nvSpPr>
              <p:spPr>
                <a:xfrm flipH="1" rot="3919200">
                  <a:off x="40320" y="1846440"/>
                  <a:ext cx="22680" cy="59760"/>
                </a:xfrm>
                <a:custGeom>
                  <a:avLst/>
                  <a:gdLst>
                    <a:gd name="textAreaLeft" fmla="*/ -360 w 22680"/>
                    <a:gd name="textAreaRight" fmla="*/ 22680 w 2268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6" name="Freeform 1406"/>
                <p:cNvSpPr/>
                <p:nvPr/>
              </p:nvSpPr>
              <p:spPr>
                <a:xfrm flipH="1" rot="3919200">
                  <a:off x="142920" y="1856880"/>
                  <a:ext cx="48960" cy="12960"/>
                </a:xfrm>
                <a:custGeom>
                  <a:avLst/>
                  <a:gdLst>
                    <a:gd name="textAreaLeft" fmla="*/ 360 w 48960"/>
                    <a:gd name="textAreaRight" fmla="*/ 49680 w 489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7" name="Freeform 1407"/>
                <p:cNvSpPr/>
                <p:nvPr/>
              </p:nvSpPr>
              <p:spPr>
                <a:xfrm flipH="1" rot="3919200">
                  <a:off x="178920" y="1855440"/>
                  <a:ext cx="30240" cy="23040"/>
                </a:xfrm>
                <a:custGeom>
                  <a:avLst/>
                  <a:gdLst>
                    <a:gd name="textAreaLeft" fmla="*/ 360 w 30240"/>
                    <a:gd name="textAreaRight" fmla="*/ 30960 w 3024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8" name="Freeform 1408"/>
                <p:cNvSpPr/>
                <p:nvPr/>
              </p:nvSpPr>
              <p:spPr>
                <a:xfrm flipH="1" rot="3919200">
                  <a:off x="45720" y="1829160"/>
                  <a:ext cx="9720" cy="1440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9" name="Freeform 1409"/>
                <p:cNvSpPr/>
                <p:nvPr/>
              </p:nvSpPr>
              <p:spPr>
                <a:xfrm flipH="1" rot="3919200">
                  <a:off x="201240" y="1827720"/>
                  <a:ext cx="8640" cy="8280"/>
                </a:xfrm>
                <a:custGeom>
                  <a:avLst/>
                  <a:gdLst>
                    <a:gd name="textAreaLeft" fmla="*/ 360 w 8640"/>
                    <a:gd name="textAreaRight" fmla="*/ 9360 w 864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0" name="Freeform 1410"/>
                <p:cNvSpPr/>
                <p:nvPr/>
              </p:nvSpPr>
              <p:spPr>
                <a:xfrm flipH="1" rot="3919200">
                  <a:off x="231480" y="1775520"/>
                  <a:ext cx="9720" cy="1116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1" name="Freeform 1411"/>
                <p:cNvSpPr/>
                <p:nvPr/>
              </p:nvSpPr>
              <p:spPr>
                <a:xfrm flipH="1" rot="3919200">
                  <a:off x="175680" y="1914840"/>
                  <a:ext cx="7560" cy="5040"/>
                </a:xfrm>
                <a:custGeom>
                  <a:avLst/>
                  <a:gdLst>
                    <a:gd name="textAreaLeft" fmla="*/ -360 w 7560"/>
                    <a:gd name="textAreaRight" fmla="*/ 7560 w 756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2" name="Group 1167"/>
              <p:cNvGrpSpPr/>
              <p:nvPr/>
            </p:nvGrpSpPr>
            <p:grpSpPr>
              <a:xfrm>
                <a:off x="149760" y="1512000"/>
                <a:ext cx="47880" cy="48240"/>
                <a:chOff x="149760" y="1512000"/>
                <a:chExt cx="47880" cy="48240"/>
              </a:xfrm>
            </p:grpSpPr>
            <p:sp>
              <p:nvSpPr>
                <p:cNvPr id="2933" name="Freeform 1413"/>
                <p:cNvSpPr/>
                <p:nvPr/>
              </p:nvSpPr>
              <p:spPr>
                <a:xfrm flipH="1" rot="8284200">
                  <a:off x="156960" y="1518480"/>
                  <a:ext cx="32760" cy="35280"/>
                </a:xfrm>
                <a:custGeom>
                  <a:avLst/>
                  <a:gdLst>
                    <a:gd name="textAreaLeft" fmla="*/ -360 w 32760"/>
                    <a:gd name="textAreaRight" fmla="*/ 32760 w 32760"/>
                    <a:gd name="textAreaTop" fmla="*/ 0 h 35280"/>
                    <a:gd name="textAreaBottom" fmla="*/ 35640 h 3528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4" name="Freeform 1414"/>
                <p:cNvSpPr/>
                <p:nvPr/>
              </p:nvSpPr>
              <p:spPr>
                <a:xfrm flipH="1" rot="11931000">
                  <a:off x="158040" y="1529280"/>
                  <a:ext cx="18000" cy="19800"/>
                </a:xfrm>
                <a:custGeom>
                  <a:avLst/>
                  <a:gdLst>
                    <a:gd name="textAreaLeft" fmla="*/ 360 w 18000"/>
                    <a:gd name="textAreaRight" fmla="*/ 18720 w 18000"/>
                    <a:gd name="textAreaTop" fmla="*/ 0 h 19800"/>
                    <a:gd name="textAreaBottom" fmla="*/ 19800 h 1980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5" name="Group 1170"/>
            <p:cNvGrpSpPr/>
            <p:nvPr/>
          </p:nvGrpSpPr>
          <p:grpSpPr>
            <a:xfrm>
              <a:off x="135000" y="1358640"/>
              <a:ext cx="552960" cy="428760"/>
              <a:chOff x="135000" y="1358640"/>
              <a:chExt cx="552960" cy="428760"/>
            </a:xfrm>
          </p:grpSpPr>
          <p:grpSp>
            <p:nvGrpSpPr>
              <p:cNvPr id="2936" name="Group 1171"/>
              <p:cNvGrpSpPr/>
              <p:nvPr/>
            </p:nvGrpSpPr>
            <p:grpSpPr>
              <a:xfrm>
                <a:off x="135000" y="1358640"/>
                <a:ext cx="552960" cy="428760"/>
                <a:chOff x="135000" y="1358640"/>
                <a:chExt cx="552960" cy="428760"/>
              </a:xfrm>
            </p:grpSpPr>
            <p:sp>
              <p:nvSpPr>
                <p:cNvPr id="2937" name="Freeform 1417"/>
                <p:cNvSpPr/>
                <p:nvPr/>
              </p:nvSpPr>
              <p:spPr>
                <a:xfrm flipH="1" rot="20756400">
                  <a:off x="272880" y="1399320"/>
                  <a:ext cx="378000" cy="347400"/>
                </a:xfrm>
                <a:custGeom>
                  <a:avLst/>
                  <a:gdLst>
                    <a:gd name="textAreaLeft" fmla="*/ 360 w 378000"/>
                    <a:gd name="textAreaRight" fmla="*/ 378720 w 378000"/>
                    <a:gd name="textAreaTop" fmla="*/ 0 h 347400"/>
                    <a:gd name="textAreaBottom" fmla="*/ 347760 h 34740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8" name="Freeform 1418"/>
                <p:cNvSpPr/>
                <p:nvPr/>
              </p:nvSpPr>
              <p:spPr>
                <a:xfrm flipH="1" rot="20756400">
                  <a:off x="284400" y="1482480"/>
                  <a:ext cx="320760" cy="165240"/>
                </a:xfrm>
                <a:custGeom>
                  <a:avLst/>
                  <a:gdLst>
                    <a:gd name="textAreaLeft" fmla="*/ -360 w 320760"/>
                    <a:gd name="textAreaRight" fmla="*/ 320760 w 320760"/>
                    <a:gd name="textAreaTop" fmla="*/ 0 h 165240"/>
                    <a:gd name="textAreaBottom" fmla="*/ 165600 h 16524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9" name="Freeform 1419"/>
                <p:cNvSpPr/>
                <p:nvPr/>
              </p:nvSpPr>
              <p:spPr>
                <a:xfrm flipH="1" rot="20756400">
                  <a:off x="152640" y="1460880"/>
                  <a:ext cx="466920" cy="205200"/>
                </a:xfrm>
                <a:custGeom>
                  <a:avLst/>
                  <a:gdLst>
                    <a:gd name="textAreaLeft" fmla="*/ 0 w 466920"/>
                    <a:gd name="textAreaRight" fmla="*/ 466920 w 466920"/>
                    <a:gd name="textAreaTop" fmla="*/ 0 h 205200"/>
                    <a:gd name="textAreaBottom" fmla="*/ 205560 h 20520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0" name="Freeform 1420"/>
                <p:cNvSpPr/>
                <p:nvPr/>
              </p:nvSpPr>
              <p:spPr>
                <a:xfrm flipH="1" rot="20756400">
                  <a:off x="418680" y="1547280"/>
                  <a:ext cx="151560" cy="20520"/>
                </a:xfrm>
                <a:custGeom>
                  <a:avLst/>
                  <a:gdLst>
                    <a:gd name="textAreaLeft" fmla="*/ -360 w 151560"/>
                    <a:gd name="textAreaRight" fmla="*/ 151560 w 1515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1" name="Freeform 1421"/>
                <p:cNvSpPr/>
                <p:nvPr/>
              </p:nvSpPr>
              <p:spPr>
                <a:xfrm flipH="1" rot="20756400">
                  <a:off x="334440" y="1471680"/>
                  <a:ext cx="196200" cy="75600"/>
                </a:xfrm>
                <a:custGeom>
                  <a:avLst/>
                  <a:gdLst>
                    <a:gd name="textAreaLeft" fmla="*/ -360 w 196200"/>
                    <a:gd name="textAreaRight" fmla="*/ 196200 w 196200"/>
                    <a:gd name="textAreaTop" fmla="*/ 0 h 75600"/>
                    <a:gd name="textAreaBottom" fmla="*/ 75960 h 7560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2" name="Freeform 1422"/>
                <p:cNvSpPr/>
                <p:nvPr/>
              </p:nvSpPr>
              <p:spPr>
                <a:xfrm flipH="1" rot="20756400">
                  <a:off x="280800" y="1432800"/>
                  <a:ext cx="216360" cy="100080"/>
                </a:xfrm>
                <a:custGeom>
                  <a:avLst/>
                  <a:gdLst>
                    <a:gd name="textAreaLeft" fmla="*/ -360 w 216360"/>
                    <a:gd name="textAreaRight" fmla="*/ 216360 w 2163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3" name="Freeform 1423"/>
                <p:cNvSpPr/>
                <p:nvPr/>
              </p:nvSpPr>
              <p:spPr>
                <a:xfrm flipH="1" rot="20756400">
                  <a:off x="495720" y="1571040"/>
                  <a:ext cx="90360" cy="12600"/>
                </a:xfrm>
                <a:custGeom>
                  <a:avLst/>
                  <a:gdLst>
                    <a:gd name="textAreaLeft" fmla="*/ -360 w 90360"/>
                    <a:gd name="textAreaRight" fmla="*/ 90360 w 90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4" name="Freeform 1424"/>
                <p:cNvSpPr/>
                <p:nvPr/>
              </p:nvSpPr>
              <p:spPr>
                <a:xfrm flipH="1" rot="20756400">
                  <a:off x="564120" y="1589760"/>
                  <a:ext cx="46800" cy="4680"/>
                </a:xfrm>
                <a:custGeom>
                  <a:avLst/>
                  <a:gdLst>
                    <a:gd name="textAreaLeft" fmla="*/ 360 w 46800"/>
                    <a:gd name="textAreaRight" fmla="*/ 47520 w 4680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5" name="Freeform 1425"/>
                <p:cNvSpPr/>
                <p:nvPr/>
              </p:nvSpPr>
              <p:spPr>
                <a:xfrm flipH="1" rot="20756400">
                  <a:off x="558720" y="1593720"/>
                  <a:ext cx="34200" cy="35640"/>
                </a:xfrm>
                <a:custGeom>
                  <a:avLst/>
                  <a:gdLst>
                    <a:gd name="textAreaLeft" fmla="*/ -360 w 34200"/>
                    <a:gd name="textAreaRight" fmla="*/ 34200 w 3420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6" name="Freeform 1426"/>
                <p:cNvSpPr/>
                <p:nvPr/>
              </p:nvSpPr>
              <p:spPr>
                <a:xfrm flipH="1" rot="20756400">
                  <a:off x="505440" y="1584720"/>
                  <a:ext cx="60120" cy="65160"/>
                </a:xfrm>
                <a:custGeom>
                  <a:avLst/>
                  <a:gdLst>
                    <a:gd name="textAreaLeft" fmla="*/ -360 w 60120"/>
                    <a:gd name="textAreaRight" fmla="*/ 60120 w 60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7" name="Freeform 1427"/>
                <p:cNvSpPr/>
                <p:nvPr/>
              </p:nvSpPr>
              <p:spPr>
                <a:xfrm flipH="1" rot="20756400">
                  <a:off x="428040" y="1568160"/>
                  <a:ext cx="96120" cy="115560"/>
                </a:xfrm>
                <a:custGeom>
                  <a:avLst/>
                  <a:gdLst>
                    <a:gd name="textAreaLeft" fmla="*/ -360 w 96120"/>
                    <a:gd name="textAreaRight" fmla="*/ 96120 w 96120"/>
                    <a:gd name="textAreaTop" fmla="*/ 0 h 115560"/>
                    <a:gd name="textAreaBottom" fmla="*/ 115920 h 11556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8" name="Freeform 1428"/>
                <p:cNvSpPr/>
                <p:nvPr/>
              </p:nvSpPr>
              <p:spPr>
                <a:xfrm flipH="1" rot="20756400">
                  <a:off x="361800" y="1553400"/>
                  <a:ext cx="103320" cy="168840"/>
                </a:xfrm>
                <a:custGeom>
                  <a:avLst/>
                  <a:gdLst>
                    <a:gd name="textAreaLeft" fmla="*/ -360 w 103320"/>
                    <a:gd name="textAreaRight" fmla="*/ 103320 w 103320"/>
                    <a:gd name="textAreaTop" fmla="*/ 0 h 168840"/>
                    <a:gd name="textAreaBottom" fmla="*/ 169200 h 16884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9" name="Freeform 1429"/>
                <p:cNvSpPr/>
                <p:nvPr/>
              </p:nvSpPr>
              <p:spPr>
                <a:xfrm flipH="1" rot="20756400">
                  <a:off x="424440" y="1656720"/>
                  <a:ext cx="11160" cy="66960"/>
                </a:xfrm>
                <a:custGeom>
                  <a:avLst/>
                  <a:gdLst>
                    <a:gd name="textAreaLeft" fmla="*/ -360 w 11160"/>
                    <a:gd name="textAreaRight" fmla="*/ 11160 w 111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0" name="Freeform 1430"/>
                <p:cNvSpPr/>
                <p:nvPr/>
              </p:nvSpPr>
              <p:spPr>
                <a:xfrm flipH="1" rot="20756400">
                  <a:off x="312840" y="1544400"/>
                  <a:ext cx="71280" cy="207720"/>
                </a:xfrm>
                <a:custGeom>
                  <a:avLst/>
                  <a:gdLst>
                    <a:gd name="textAreaLeft" fmla="*/ 360 w 71280"/>
                    <a:gd name="textAreaRight" fmla="*/ 72000 w 71280"/>
                    <a:gd name="textAreaTop" fmla="*/ 0 h 207720"/>
                    <a:gd name="textAreaBottom" fmla="*/ 208080 h 20772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1" name="Freeform 1431"/>
                <p:cNvSpPr/>
                <p:nvPr/>
              </p:nvSpPr>
              <p:spPr>
                <a:xfrm flipH="1" rot="20756400">
                  <a:off x="390960" y="1617120"/>
                  <a:ext cx="52920" cy="32760"/>
                </a:xfrm>
                <a:custGeom>
                  <a:avLst/>
                  <a:gdLst>
                    <a:gd name="textAreaLeft" fmla="*/ -360 w 52920"/>
                    <a:gd name="textAreaRight" fmla="*/ 52920 w 5292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2" name="Freeform 1432"/>
                <p:cNvSpPr/>
                <p:nvPr/>
              </p:nvSpPr>
              <p:spPr>
                <a:xfrm flipH="1" rot="20756400">
                  <a:off x="484200" y="1632240"/>
                  <a:ext cx="25560" cy="52920"/>
                </a:xfrm>
                <a:custGeom>
                  <a:avLst/>
                  <a:gdLst>
                    <a:gd name="textAreaLeft" fmla="*/ -360 w 25560"/>
                    <a:gd name="textAreaRight" fmla="*/ 25560 w 255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3" name="Freeform 1433"/>
                <p:cNvSpPr/>
                <p:nvPr/>
              </p:nvSpPr>
              <p:spPr>
                <a:xfrm flipH="1" rot="20756400">
                  <a:off x="485280" y="1547640"/>
                  <a:ext cx="55800" cy="11160"/>
                </a:xfrm>
                <a:custGeom>
                  <a:avLst/>
                  <a:gdLst>
                    <a:gd name="textAreaLeft" fmla="*/ -360 w 55800"/>
                    <a:gd name="textAreaRight" fmla="*/ 55800 w 5580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4" name="Freeform 1434"/>
                <p:cNvSpPr/>
                <p:nvPr/>
              </p:nvSpPr>
              <p:spPr>
                <a:xfrm flipH="1" rot="20756400">
                  <a:off x="507240" y="1519920"/>
                  <a:ext cx="34200" cy="20160"/>
                </a:xfrm>
                <a:custGeom>
                  <a:avLst/>
                  <a:gdLst>
                    <a:gd name="textAreaLeft" fmla="*/ -360 w 34200"/>
                    <a:gd name="textAreaRight" fmla="*/ 34200 w 34200"/>
                    <a:gd name="textAreaTop" fmla="*/ 0 h 20160"/>
                    <a:gd name="textAreaBottom" fmla="*/ 20520 h 2016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5" name="Freeform 1435"/>
                <p:cNvSpPr/>
                <p:nvPr/>
              </p:nvSpPr>
              <p:spPr>
                <a:xfrm flipH="1" rot="20756400">
                  <a:off x="447840" y="1648800"/>
                  <a:ext cx="11160" cy="12240"/>
                </a:xfrm>
                <a:custGeom>
                  <a:avLst/>
                  <a:gdLst>
                    <a:gd name="textAreaLeft" fmla="*/ -360 w 11160"/>
                    <a:gd name="textAreaRight" fmla="*/ 11160 w 1116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6" name="Freeform 1436"/>
                <p:cNvSpPr/>
                <p:nvPr/>
              </p:nvSpPr>
              <p:spPr>
                <a:xfrm flipH="1" rot="20756400">
                  <a:off x="483480" y="1511640"/>
                  <a:ext cx="9720" cy="720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7" name="Freeform 1437"/>
                <p:cNvSpPr/>
                <p:nvPr/>
              </p:nvSpPr>
              <p:spPr>
                <a:xfrm flipH="1" rot="20756400">
                  <a:off x="435240" y="1478160"/>
                  <a:ext cx="11160" cy="9720"/>
                </a:xfrm>
                <a:custGeom>
                  <a:avLst/>
                  <a:gdLst>
                    <a:gd name="textAreaLeft" fmla="*/ -360 w 11160"/>
                    <a:gd name="textAreaRight" fmla="*/ 11160 w 1116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8" name="Freeform 1438"/>
                <p:cNvSpPr/>
                <p:nvPr/>
              </p:nvSpPr>
              <p:spPr>
                <a:xfrm flipH="1" rot="20756400">
                  <a:off x="570960" y="1546200"/>
                  <a:ext cx="8640" cy="4320"/>
                </a:xfrm>
                <a:custGeom>
                  <a:avLst/>
                  <a:gdLst>
                    <a:gd name="textAreaLeft" fmla="*/ 360 w 8640"/>
                    <a:gd name="textAreaRight" fmla="*/ 9360 w 864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9" name="Group 1194"/>
              <p:cNvGrpSpPr/>
              <p:nvPr/>
            </p:nvGrpSpPr>
            <p:grpSpPr>
              <a:xfrm>
                <a:off x="151560" y="1495800"/>
                <a:ext cx="48960" cy="45360"/>
                <a:chOff x="151560" y="1495800"/>
                <a:chExt cx="48960" cy="45360"/>
              </a:xfrm>
            </p:grpSpPr>
            <p:sp>
              <p:nvSpPr>
                <p:cNvPr id="2960" name="Freeform 1440"/>
                <p:cNvSpPr/>
                <p:nvPr/>
              </p:nvSpPr>
              <p:spPr>
                <a:xfrm flipH="1" rot="3520800">
                  <a:off x="161280" y="1498320"/>
                  <a:ext cx="28800" cy="39600"/>
                </a:xfrm>
                <a:custGeom>
                  <a:avLst/>
                  <a:gdLst>
                    <a:gd name="textAreaLeft" fmla="*/ 360 w 28800"/>
                    <a:gd name="textAreaRight" fmla="*/ 29520 w 2880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1" name="Freeform 1441"/>
                <p:cNvSpPr/>
                <p:nvPr/>
              </p:nvSpPr>
              <p:spPr>
                <a:xfrm flipH="1" rot="7167600">
                  <a:off x="168120" y="1515240"/>
                  <a:ext cx="20160" cy="17640"/>
                </a:xfrm>
                <a:custGeom>
                  <a:avLst/>
                  <a:gdLst>
                    <a:gd name="textAreaLeft" fmla="*/ 0 w 20160"/>
                    <a:gd name="textAreaRight" fmla="*/ 20160 w 201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62" name="Group 1197"/>
            <p:cNvGrpSpPr/>
            <p:nvPr/>
          </p:nvGrpSpPr>
          <p:grpSpPr>
            <a:xfrm>
              <a:off x="-187920" y="923400"/>
              <a:ext cx="833760" cy="570240"/>
              <a:chOff x="-187920" y="923400"/>
              <a:chExt cx="833760" cy="570240"/>
            </a:xfrm>
          </p:grpSpPr>
          <p:grpSp>
            <p:nvGrpSpPr>
              <p:cNvPr id="2963" name="Group 1198"/>
              <p:cNvGrpSpPr/>
              <p:nvPr/>
            </p:nvGrpSpPr>
            <p:grpSpPr>
              <a:xfrm>
                <a:off x="-187920" y="1026720"/>
                <a:ext cx="452160" cy="466920"/>
                <a:chOff x="-187920" y="1026720"/>
                <a:chExt cx="452160" cy="466920"/>
              </a:xfrm>
            </p:grpSpPr>
            <p:grpSp>
              <p:nvGrpSpPr>
                <p:cNvPr id="2964" name="Group 1199"/>
                <p:cNvGrpSpPr/>
                <p:nvPr/>
              </p:nvGrpSpPr>
              <p:grpSpPr>
                <a:xfrm>
                  <a:off x="-187920" y="1026720"/>
                  <a:ext cx="450720" cy="466920"/>
                  <a:chOff x="-187920" y="1026720"/>
                  <a:chExt cx="450720" cy="466920"/>
                </a:xfrm>
              </p:grpSpPr>
              <p:sp>
                <p:nvSpPr>
                  <p:cNvPr id="2965" name="Freeform 1445"/>
                  <p:cNvSpPr/>
                  <p:nvPr/>
                </p:nvSpPr>
                <p:spPr>
                  <a:xfrm rot="4199400">
                    <a:off x="-116280" y="1049760"/>
                    <a:ext cx="307440" cy="367920"/>
                  </a:xfrm>
                  <a:custGeom>
                    <a:avLst/>
                    <a:gdLst>
                      <a:gd name="textAreaLeft" fmla="*/ 0 w 307440"/>
                      <a:gd name="textAreaRight" fmla="*/ 307800 w 307440"/>
                      <a:gd name="textAreaTop" fmla="*/ 0 h 367920"/>
                      <a:gd name="textAreaBottom" fmla="*/ 368280 h 367920"/>
                    </a:gdLst>
                    <a:ahLst/>
                    <a:rect l="textAreaLeft" t="textAreaTop" r="textAreaRight" b="textAreaBottom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6" name="Freeform 1446"/>
                  <p:cNvSpPr/>
                  <p:nvPr/>
                </p:nvSpPr>
                <p:spPr>
                  <a:xfrm rot="4199400">
                    <a:off x="-75600" y="1154160"/>
                    <a:ext cx="261000" cy="174600"/>
                  </a:xfrm>
                  <a:custGeom>
                    <a:avLst/>
                    <a:gdLst>
                      <a:gd name="textAreaLeft" fmla="*/ 0 w 261000"/>
                      <a:gd name="textAreaRight" fmla="*/ 261360 w 261000"/>
                      <a:gd name="textAreaTop" fmla="*/ 0 h 174600"/>
                      <a:gd name="textAreaBottom" fmla="*/ 174960 h 174600"/>
                    </a:gdLst>
                    <a:ahLst/>
                    <a:rect l="textAreaLeft" t="textAreaTop" r="textAreaRight" b="textAreaBottom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7" name="Freeform 1447"/>
                  <p:cNvSpPr/>
                  <p:nvPr/>
                </p:nvSpPr>
                <p:spPr>
                  <a:xfrm rot="4199400">
                    <a:off x="-104040" y="1169640"/>
                    <a:ext cx="379800" cy="216720"/>
                  </a:xfrm>
                  <a:custGeom>
                    <a:avLst/>
                    <a:gdLst>
                      <a:gd name="textAreaLeft" fmla="*/ 0 w 379800"/>
                      <a:gd name="textAreaRight" fmla="*/ 380160 w 379800"/>
                      <a:gd name="textAreaTop" fmla="*/ 0 h 216720"/>
                      <a:gd name="textAreaBottom" fmla="*/ 217080 h 216720"/>
                    </a:gdLst>
                    <a:ahLst/>
                    <a:rect l="textAreaLeft" t="textAreaTop" r="textAreaRight" b="textAreaBottom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8" name="Freeform 1448"/>
                  <p:cNvSpPr/>
                  <p:nvPr/>
                </p:nvSpPr>
                <p:spPr>
                  <a:xfrm rot="4199400">
                    <a:off x="-25560" y="1194120"/>
                    <a:ext cx="123480" cy="21600"/>
                  </a:xfrm>
                  <a:custGeom>
                    <a:avLst/>
                    <a:gdLst>
                      <a:gd name="textAreaLeft" fmla="*/ 0 w 123480"/>
                      <a:gd name="textAreaRight" fmla="*/ 123840 w 12348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9" name="Freeform 1449"/>
                  <p:cNvSpPr/>
                  <p:nvPr/>
                </p:nvSpPr>
                <p:spPr>
                  <a:xfrm rot="4199400">
                    <a:off x="29880" y="1179720"/>
                    <a:ext cx="159480" cy="79920"/>
                  </a:xfrm>
                  <a:custGeom>
                    <a:avLst/>
                    <a:gdLst>
                      <a:gd name="textAreaLeft" fmla="*/ 0 w 159480"/>
                      <a:gd name="textAreaRight" fmla="*/ 159840 w 159480"/>
                      <a:gd name="textAreaTop" fmla="*/ 0 h 79920"/>
                      <a:gd name="textAreaBottom" fmla="*/ 80280 h 79920"/>
                    </a:gdLst>
                    <a:ahLst/>
                    <a:rect l="textAreaLeft" t="textAreaTop" r="textAreaRight" b="textAreaBottom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0" name="Freeform 1450"/>
                  <p:cNvSpPr/>
                  <p:nvPr/>
                </p:nvSpPr>
                <p:spPr>
                  <a:xfrm rot="4199400">
                    <a:off x="67680" y="1180440"/>
                    <a:ext cx="176040" cy="106200"/>
                  </a:xfrm>
                  <a:custGeom>
                    <a:avLst/>
                    <a:gdLst>
                      <a:gd name="textAreaLeft" fmla="*/ 0 w 176040"/>
                      <a:gd name="textAreaRight" fmla="*/ 176400 w 17604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1" name="Freeform 1451"/>
                  <p:cNvSpPr/>
                  <p:nvPr/>
                </p:nvSpPr>
                <p:spPr>
                  <a:xfrm rot="4199400">
                    <a:off x="-41760" y="1177200"/>
                    <a:ext cx="73080" cy="13680"/>
                  </a:xfrm>
                  <a:custGeom>
                    <a:avLst/>
                    <a:gdLst>
                      <a:gd name="textAreaLeft" fmla="*/ 0 w 73080"/>
                      <a:gd name="textAreaRight" fmla="*/ 73440 w 73080"/>
                      <a:gd name="textAreaTop" fmla="*/ 0 h 13680"/>
                      <a:gd name="textAreaBottom" fmla="*/ 13680 h 13680"/>
                    </a:gdLst>
                    <a:ahLst/>
                    <a:rect l="textAreaLeft" t="textAreaTop" r="textAreaRight" b="textAreaBottom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2" name="Freeform 1452"/>
                  <p:cNvSpPr/>
                  <p:nvPr/>
                </p:nvSpPr>
                <p:spPr>
                  <a:xfrm rot="4199400">
                    <a:off x="-63000" y="1159200"/>
                    <a:ext cx="38160" cy="540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3" name="Freeform 1453"/>
                  <p:cNvSpPr/>
                  <p:nvPr/>
                </p:nvSpPr>
                <p:spPr>
                  <a:xfrm rot="4199400">
                    <a:off x="-68400" y="1161360"/>
                    <a:ext cx="27720" cy="37440"/>
                  </a:xfrm>
                  <a:custGeom>
                    <a:avLst/>
                    <a:gdLst>
                      <a:gd name="textAreaLeft" fmla="*/ 0 w 27720"/>
                      <a:gd name="textAreaRight" fmla="*/ 28080 w 27720"/>
                      <a:gd name="textAreaTop" fmla="*/ 0 h 37440"/>
                      <a:gd name="textAreaBottom" fmla="*/ 37800 h 37440"/>
                    </a:gdLst>
                    <a:ahLst/>
                    <a:rect l="textAreaLeft" t="textAreaTop" r="textAreaRight" b="textAreaBottom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4" name="Freeform 1454"/>
                  <p:cNvSpPr/>
                  <p:nvPr/>
                </p:nvSpPr>
                <p:spPr>
                  <a:xfrm rot="4199400">
                    <a:off x="-63720" y="1174320"/>
                    <a:ext cx="48600" cy="69840"/>
                  </a:xfrm>
                  <a:custGeom>
                    <a:avLst/>
                    <a:gdLst>
                      <a:gd name="textAreaLeft" fmla="*/ 0 w 48600"/>
                      <a:gd name="textAreaRight" fmla="*/ 48960 w 48600"/>
                      <a:gd name="textAreaTop" fmla="*/ 0 h 69840"/>
                      <a:gd name="textAreaBottom" fmla="*/ 70200 h 69840"/>
                    </a:gdLst>
                    <a:ahLst/>
                    <a:rect l="textAreaLeft" t="textAreaTop" r="textAreaRight" b="textAreaBottom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5" name="Freeform 1455"/>
                  <p:cNvSpPr/>
                  <p:nvPr/>
                </p:nvSpPr>
                <p:spPr>
                  <a:xfrm rot="4199400">
                    <a:off x="-56520" y="1191960"/>
                    <a:ext cx="78120" cy="122400"/>
                  </a:xfrm>
                  <a:custGeom>
                    <a:avLst/>
                    <a:gdLst>
                      <a:gd name="textAreaLeft" fmla="*/ 0 w 78120"/>
                      <a:gd name="textAreaRight" fmla="*/ 78480 w 78120"/>
                      <a:gd name="textAreaTop" fmla="*/ 0 h 122400"/>
                      <a:gd name="textAreaBottom" fmla="*/ 122760 h 122400"/>
                    </a:gdLst>
                    <a:ahLst/>
                    <a:rect l="textAreaLeft" t="textAreaTop" r="textAreaRight" b="textAreaBottom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6" name="Freeform 1456"/>
                  <p:cNvSpPr/>
                  <p:nvPr/>
                </p:nvSpPr>
                <p:spPr>
                  <a:xfrm rot="4199400">
                    <a:off x="-37440" y="1211400"/>
                    <a:ext cx="83880" cy="178560"/>
                  </a:xfrm>
                  <a:custGeom>
                    <a:avLst/>
                    <a:gdLst>
                      <a:gd name="textAreaLeft" fmla="*/ 0 w 83880"/>
                      <a:gd name="textAreaRight" fmla="*/ 84240 w 838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7" name="Freeform 1457"/>
                  <p:cNvSpPr/>
                  <p:nvPr/>
                </p:nvSpPr>
                <p:spPr>
                  <a:xfrm rot="4199400">
                    <a:off x="-55080" y="1283040"/>
                    <a:ext cx="9000" cy="71280"/>
                  </a:xfrm>
                  <a:custGeom>
                    <a:avLst/>
                    <a:gdLst>
                      <a:gd name="textAreaLeft" fmla="*/ 0 w 9000"/>
                      <a:gd name="textAreaRight" fmla="*/ 9360 w 9000"/>
                      <a:gd name="textAreaTop" fmla="*/ 0 h 71280"/>
                      <a:gd name="textAreaBottom" fmla="*/ 71640 h 71280"/>
                    </a:gdLst>
                    <a:ahLst/>
                    <a:rect l="textAreaLeft" t="textAreaTop" r="textAreaRight" b="textAreaBottom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8" name="Freeform 1458"/>
                  <p:cNvSpPr/>
                  <p:nvPr/>
                </p:nvSpPr>
                <p:spPr>
                  <a:xfrm rot="4199400">
                    <a:off x="-720" y="1238760"/>
                    <a:ext cx="57960" cy="219960"/>
                  </a:xfrm>
                  <a:custGeom>
                    <a:avLst/>
                    <a:gdLst>
                      <a:gd name="textAreaLeft" fmla="*/ 0 w 57960"/>
                      <a:gd name="textAreaRight" fmla="*/ 58320 w 57960"/>
                      <a:gd name="textAreaTop" fmla="*/ 0 h 219960"/>
                      <a:gd name="textAreaBottom" fmla="*/ 220320 h 219960"/>
                    </a:gdLst>
                    <a:ahLst/>
                    <a:rect l="textAreaLeft" t="textAreaTop" r="textAreaRight" b="textAreaBottom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9" name="Freeform 1459"/>
                  <p:cNvSpPr/>
                  <p:nvPr/>
                </p:nvSpPr>
                <p:spPr>
                  <a:xfrm rot="4199400">
                    <a:off x="-15480" y="1277640"/>
                    <a:ext cx="42840" cy="3492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0" name="Freeform 1460"/>
                  <p:cNvSpPr/>
                  <p:nvPr/>
                </p:nvSpPr>
                <p:spPr>
                  <a:xfrm rot="4199400">
                    <a:off x="-66960" y="1229040"/>
                    <a:ext cx="21240" cy="56160"/>
                  </a:xfrm>
                  <a:custGeom>
                    <a:avLst/>
                    <a:gdLst>
                      <a:gd name="textAreaLeft" fmla="*/ 0 w 21240"/>
                      <a:gd name="textAreaRight" fmla="*/ 21600 w 21240"/>
                      <a:gd name="textAreaTop" fmla="*/ 0 h 56160"/>
                      <a:gd name="textAreaBottom" fmla="*/ 56520 h 56160"/>
                    </a:gdLst>
                    <a:ahLst/>
                    <a:rect l="textAreaLeft" t="textAreaTop" r="textAreaRight" b="textAreaBottom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1" name="Freeform 1461"/>
                  <p:cNvSpPr/>
                  <p:nvPr/>
                </p:nvSpPr>
                <p:spPr>
                  <a:xfrm rot="4199400">
                    <a:off x="7920" y="1184400"/>
                    <a:ext cx="45360" cy="1188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2" name="Freeform 1462"/>
                  <p:cNvSpPr/>
                  <p:nvPr/>
                </p:nvSpPr>
                <p:spPr>
                  <a:xfrm rot="4199400">
                    <a:off x="30960" y="1159200"/>
                    <a:ext cx="27720" cy="21600"/>
                  </a:xfrm>
                  <a:custGeom>
                    <a:avLst/>
                    <a:gdLst>
                      <a:gd name="textAreaLeft" fmla="*/ 0 w 27720"/>
                      <a:gd name="textAreaRight" fmla="*/ 28080 w 2772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3" name="Freeform 1463"/>
                  <p:cNvSpPr/>
                  <p:nvPr/>
                </p:nvSpPr>
                <p:spPr>
                  <a:xfrm rot="4199400">
                    <a:off x="-35280" y="1277640"/>
                    <a:ext cx="9000" cy="12960"/>
                  </a:xfrm>
                  <a:custGeom>
                    <a:avLst/>
                    <a:gdLst>
                      <a:gd name="textAreaLeft" fmla="*/ 0 w 9000"/>
                      <a:gd name="textAreaRight" fmla="*/ 9360 w 900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4" name="Freeform 1464"/>
                  <p:cNvSpPr/>
                  <p:nvPr/>
                </p:nvSpPr>
                <p:spPr>
                  <a:xfrm rot="4199400">
                    <a:off x="71640" y="1181160"/>
                    <a:ext cx="7920" cy="792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7920"/>
                      <a:gd name="textAreaBottom" fmla="*/ 8280 h 7920"/>
                    </a:gdLst>
                    <a:ahLst/>
                    <a:rect l="textAreaLeft" t="textAreaTop" r="textAreaRight" b="textAreaBottom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5" name="Freeform 1465"/>
                  <p:cNvSpPr/>
                  <p:nvPr/>
                </p:nvSpPr>
                <p:spPr>
                  <a:xfrm rot="4199400">
                    <a:off x="124920" y="1194120"/>
                    <a:ext cx="9000" cy="10080"/>
                  </a:xfrm>
                  <a:custGeom>
                    <a:avLst/>
                    <a:gdLst>
                      <a:gd name="textAreaLeft" fmla="*/ 0 w 9000"/>
                      <a:gd name="textAreaRight" fmla="*/ 9360 w 900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6" name="Freeform 1466"/>
                  <p:cNvSpPr/>
                  <p:nvPr/>
                </p:nvSpPr>
                <p:spPr>
                  <a:xfrm rot="4199400">
                    <a:off x="-1800" y="1144440"/>
                    <a:ext cx="6840" cy="5400"/>
                  </a:xfrm>
                  <a:custGeom>
                    <a:avLst/>
                    <a:gdLst>
                      <a:gd name="textAreaLeft" fmla="*/ 0 w 6840"/>
                      <a:gd name="textAreaRight" fmla="*/ 7200 w 684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7" name="Group 1222"/>
                <p:cNvGrpSpPr/>
                <p:nvPr/>
              </p:nvGrpSpPr>
              <p:grpSpPr>
                <a:xfrm>
                  <a:off x="230400" y="1382760"/>
                  <a:ext cx="33840" cy="34200"/>
                  <a:chOff x="230400" y="1382760"/>
                  <a:chExt cx="33840" cy="34200"/>
                </a:xfrm>
              </p:grpSpPr>
              <p:sp>
                <p:nvSpPr>
                  <p:cNvPr id="2988" name="Freeform 1468"/>
                  <p:cNvSpPr/>
                  <p:nvPr/>
                </p:nvSpPr>
                <p:spPr>
                  <a:xfrm rot="21435000">
                    <a:off x="232920" y="1383120"/>
                    <a:ext cx="30600" cy="3276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9" name="Freeform 1469"/>
                  <p:cNvSpPr/>
                  <p:nvPr/>
                </p:nvSpPr>
                <p:spPr>
                  <a:xfrm rot="17788200">
                    <a:off x="234000" y="1392120"/>
                    <a:ext cx="16560" cy="18720"/>
                  </a:xfrm>
                  <a:custGeom>
                    <a:avLst/>
                    <a:gdLst>
                      <a:gd name="textAreaLeft" fmla="*/ 0 w 16560"/>
                      <a:gd name="textAreaRight" fmla="*/ 16920 w 165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90" name="Group 1225"/>
              <p:cNvGrpSpPr/>
              <p:nvPr/>
            </p:nvGrpSpPr>
            <p:grpSpPr>
              <a:xfrm>
                <a:off x="148320" y="923400"/>
                <a:ext cx="497520" cy="508320"/>
                <a:chOff x="148320" y="923400"/>
                <a:chExt cx="497520" cy="508320"/>
              </a:xfrm>
            </p:grpSpPr>
            <p:grpSp>
              <p:nvGrpSpPr>
                <p:cNvPr id="2991" name="Group 1226"/>
                <p:cNvGrpSpPr/>
                <p:nvPr/>
              </p:nvGrpSpPr>
              <p:grpSpPr>
                <a:xfrm>
                  <a:off x="148320" y="923400"/>
                  <a:ext cx="497520" cy="508320"/>
                  <a:chOff x="148320" y="923400"/>
                  <a:chExt cx="497520" cy="508320"/>
                </a:xfrm>
              </p:grpSpPr>
              <p:sp>
                <p:nvSpPr>
                  <p:cNvPr id="2992" name="Freeform 1472"/>
                  <p:cNvSpPr/>
                  <p:nvPr/>
                </p:nvSpPr>
                <p:spPr>
                  <a:xfrm rot="8424000">
                    <a:off x="234360" y="997200"/>
                    <a:ext cx="348480" cy="322920"/>
                  </a:xfrm>
                  <a:custGeom>
                    <a:avLst/>
                    <a:gdLst>
                      <a:gd name="textAreaLeft" fmla="*/ 0 w 348480"/>
                      <a:gd name="textAreaRight" fmla="*/ 348840 w 348480"/>
                      <a:gd name="textAreaTop" fmla="*/ 0 h 322920"/>
                      <a:gd name="textAreaBottom" fmla="*/ 323280 h 322920"/>
                    </a:gdLst>
                    <a:ahLst/>
                    <a:rect l="textAreaLeft" t="textAreaTop" r="textAreaRight" b="textAreaBottom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3" name="Freeform 1473"/>
                  <p:cNvSpPr/>
                  <p:nvPr/>
                </p:nvSpPr>
                <p:spPr>
                  <a:xfrm rot="8424000">
                    <a:off x="258120" y="1100160"/>
                    <a:ext cx="295200" cy="153360"/>
                  </a:xfrm>
                  <a:custGeom>
                    <a:avLst/>
                    <a:gdLst>
                      <a:gd name="textAreaLeft" fmla="*/ 0 w 295200"/>
                      <a:gd name="textAreaRight" fmla="*/ 295560 w 295200"/>
                      <a:gd name="textAreaTop" fmla="*/ 0 h 153360"/>
                      <a:gd name="textAreaBottom" fmla="*/ 153720 h 153360"/>
                    </a:gdLst>
                    <a:ahLst/>
                    <a:rect l="textAreaLeft" t="textAreaTop" r="textAreaRight" b="textAreaBottom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4" name="Freeform 1474"/>
                  <p:cNvSpPr/>
                  <p:nvPr/>
                </p:nvSpPr>
                <p:spPr>
                  <a:xfrm rot="8424000">
                    <a:off x="159480" y="1125000"/>
                    <a:ext cx="430200" cy="191160"/>
                  </a:xfrm>
                  <a:custGeom>
                    <a:avLst/>
                    <a:gdLst>
                      <a:gd name="textAreaLeft" fmla="*/ 0 w 430200"/>
                      <a:gd name="textAreaRight" fmla="*/ 430560 w 430200"/>
                      <a:gd name="textAreaTop" fmla="*/ 0 h 191160"/>
                      <a:gd name="textAreaBottom" fmla="*/ 191520 h 191160"/>
                    </a:gdLst>
                    <a:ahLst/>
                    <a:rect l="textAreaLeft" t="textAreaTop" r="textAreaRight" b="textAreaBottom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5" name="Freeform 1475"/>
                  <p:cNvSpPr/>
                  <p:nvPr/>
                </p:nvSpPr>
                <p:spPr>
                  <a:xfrm rot="8424000">
                    <a:off x="367200" y="1134720"/>
                    <a:ext cx="139680" cy="18720"/>
                  </a:xfrm>
                  <a:custGeom>
                    <a:avLst/>
                    <a:gdLst>
                      <a:gd name="textAreaLeft" fmla="*/ 0 w 139680"/>
                      <a:gd name="textAreaRight" fmla="*/ 140040 w 13968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6" name="Freeform 1476"/>
                  <p:cNvSpPr/>
                  <p:nvPr/>
                </p:nvSpPr>
                <p:spPr>
                  <a:xfrm rot="8424000">
                    <a:off x="349560" y="1180440"/>
                    <a:ext cx="180720" cy="70560"/>
                  </a:xfrm>
                  <a:custGeom>
                    <a:avLst/>
                    <a:gdLst>
                      <a:gd name="textAreaLeft" fmla="*/ 0 w 180720"/>
                      <a:gd name="textAreaRight" fmla="*/ 181080 w 180720"/>
                      <a:gd name="textAreaTop" fmla="*/ 0 h 70560"/>
                      <a:gd name="textAreaBottom" fmla="*/ 70920 h 70560"/>
                    </a:gdLst>
                    <a:ahLst/>
                    <a:rect l="textAreaLeft" t="textAreaTop" r="textAreaRight" b="textAreaBottom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7" name="Freeform 1477"/>
                  <p:cNvSpPr/>
                  <p:nvPr/>
                </p:nvSpPr>
                <p:spPr>
                  <a:xfrm rot="8424000">
                    <a:off x="335880" y="1215720"/>
                    <a:ext cx="199080" cy="93240"/>
                  </a:xfrm>
                  <a:custGeom>
                    <a:avLst/>
                    <a:gdLst>
                      <a:gd name="textAreaLeft" fmla="*/ 0 w 199080"/>
                      <a:gd name="textAreaRight" fmla="*/ 199440 w 199080"/>
                      <a:gd name="textAreaTop" fmla="*/ 0 h 93240"/>
                      <a:gd name="textAreaBottom" fmla="*/ 93600 h 93240"/>
                    </a:gdLst>
                    <a:ahLst/>
                    <a:rect l="textAreaLeft" t="textAreaTop" r="textAreaRight" b="textAreaBottom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8" name="Freeform 1478"/>
                  <p:cNvSpPr/>
                  <p:nvPr/>
                </p:nvSpPr>
                <p:spPr>
                  <a:xfrm rot="8424000">
                    <a:off x="407160" y="1093320"/>
                    <a:ext cx="82800" cy="11160"/>
                  </a:xfrm>
                  <a:custGeom>
                    <a:avLst/>
                    <a:gdLst>
                      <a:gd name="textAreaLeft" fmla="*/ 0 w 82800"/>
                      <a:gd name="textAreaRight" fmla="*/ 83160 w 82800"/>
                      <a:gd name="textAreaTop" fmla="*/ 0 h 11160"/>
                      <a:gd name="textAreaBottom" fmla="*/ 11520 h 11160"/>
                    </a:gdLst>
                    <a:ahLst/>
                    <a:rect l="textAreaLeft" t="textAreaTop" r="textAreaRight" b="textAreaBottom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9" name="Freeform 1479"/>
                  <p:cNvSpPr/>
                  <p:nvPr/>
                </p:nvSpPr>
                <p:spPr>
                  <a:xfrm rot="8424000">
                    <a:off x="440640" y="1052640"/>
                    <a:ext cx="43560" cy="4680"/>
                  </a:xfrm>
                  <a:custGeom>
                    <a:avLst/>
                    <a:gdLst>
                      <a:gd name="textAreaLeft" fmla="*/ 0 w 43560"/>
                      <a:gd name="textAreaRight" fmla="*/ 43920 w 4356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0" name="Freeform 1480"/>
                  <p:cNvSpPr/>
                  <p:nvPr/>
                </p:nvSpPr>
                <p:spPr>
                  <a:xfrm rot="8424000">
                    <a:off x="425880" y="1036800"/>
                    <a:ext cx="31680" cy="3312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33120"/>
                      <a:gd name="textAreaBottom" fmla="*/ 33480 h 33120"/>
                    </a:gdLst>
                    <a:ahLst/>
                    <a:rect l="textAreaLeft" t="textAreaTop" r="textAreaRight" b="textAreaBottom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1" name="Freeform 1481"/>
                  <p:cNvSpPr/>
                  <p:nvPr/>
                </p:nvSpPr>
                <p:spPr>
                  <a:xfrm rot="8424000">
                    <a:off x="388440" y="1048680"/>
                    <a:ext cx="55080" cy="61200"/>
                  </a:xfrm>
                  <a:custGeom>
                    <a:avLst/>
                    <a:gdLst>
                      <a:gd name="textAreaLeft" fmla="*/ 0 w 55080"/>
                      <a:gd name="textAreaRight" fmla="*/ 55440 w 55080"/>
                      <a:gd name="textAreaTop" fmla="*/ 0 h 61200"/>
                      <a:gd name="textAreaBottom" fmla="*/ 61560 h 61200"/>
                    </a:gdLst>
                    <a:ahLst/>
                    <a:rect l="textAreaLeft" t="textAreaTop" r="textAreaRight" b="textAreaBottom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2" name="Freeform 1482"/>
                  <p:cNvSpPr/>
                  <p:nvPr/>
                </p:nvSpPr>
                <p:spPr>
                  <a:xfrm rot="8424000">
                    <a:off x="332640" y="1065240"/>
                    <a:ext cx="88560" cy="107280"/>
                  </a:xfrm>
                  <a:custGeom>
                    <a:avLst/>
                    <a:gdLst>
                      <a:gd name="textAreaLeft" fmla="*/ 0 w 88560"/>
                      <a:gd name="textAreaRight" fmla="*/ 88920 w 88560"/>
                      <a:gd name="textAreaTop" fmla="*/ 0 h 107280"/>
                      <a:gd name="textAreaBottom" fmla="*/ 107640 h 107280"/>
                    </a:gdLst>
                    <a:ahLst/>
                    <a:rect l="textAreaLeft" t="textAreaTop" r="textAreaRight" b="textAreaBottom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3" name="Freeform 1483"/>
                  <p:cNvSpPr/>
                  <p:nvPr/>
                </p:nvSpPr>
                <p:spPr>
                  <a:xfrm rot="8424000">
                    <a:off x="285840" y="1080360"/>
                    <a:ext cx="95040" cy="156960"/>
                  </a:xfrm>
                  <a:custGeom>
                    <a:avLst/>
                    <a:gdLst>
                      <a:gd name="textAreaLeft" fmla="*/ 0 w 95040"/>
                      <a:gd name="textAreaRight" fmla="*/ 95400 w 95040"/>
                      <a:gd name="textAreaTop" fmla="*/ 0 h 156960"/>
                      <a:gd name="textAreaBottom" fmla="*/ 157320 h 156960"/>
                    </a:gdLst>
                    <a:ahLst/>
                    <a:rect l="textAreaLeft" t="textAreaTop" r="textAreaRight" b="textAreaBottom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4" name="Freeform 1484"/>
                  <p:cNvSpPr/>
                  <p:nvPr/>
                </p:nvSpPr>
                <p:spPr>
                  <a:xfrm rot="8424000">
                    <a:off x="298080" y="1086480"/>
                    <a:ext cx="10080" cy="630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63000"/>
                      <a:gd name="textAreaBottom" fmla="*/ 63360 h 63000"/>
                    </a:gdLst>
                    <a:ahLst/>
                    <a:rect l="textAreaLeft" t="textAreaTop" r="textAreaRight" b="textAreaBottom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5" name="Freeform 1485"/>
                  <p:cNvSpPr/>
                  <p:nvPr/>
                </p:nvSpPr>
                <p:spPr>
                  <a:xfrm rot="8424000">
                    <a:off x="257400" y="1105200"/>
                    <a:ext cx="65520" cy="193320"/>
                  </a:xfrm>
                  <a:custGeom>
                    <a:avLst/>
                    <a:gdLst>
                      <a:gd name="textAreaLeft" fmla="*/ 0 w 65520"/>
                      <a:gd name="textAreaRight" fmla="*/ 65880 w 65520"/>
                      <a:gd name="textAreaTop" fmla="*/ 0 h 193320"/>
                      <a:gd name="textAreaBottom" fmla="*/ 193680 h 193320"/>
                    </a:gdLst>
                    <a:ahLst/>
                    <a:rect l="textAreaLeft" t="textAreaTop" r="textAreaRight" b="textAreaBottom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6" name="Freeform 1486"/>
                  <p:cNvSpPr/>
                  <p:nvPr/>
                </p:nvSpPr>
                <p:spPr>
                  <a:xfrm rot="8424000">
                    <a:off x="315000" y="1143000"/>
                    <a:ext cx="48600" cy="30600"/>
                  </a:xfrm>
                  <a:custGeom>
                    <a:avLst/>
                    <a:gdLst>
                      <a:gd name="textAreaLeft" fmla="*/ 0 w 48600"/>
                      <a:gd name="textAreaRight" fmla="*/ 48960 w 4860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7" name="Freeform 1487"/>
                  <p:cNvSpPr/>
                  <p:nvPr/>
                </p:nvSpPr>
                <p:spPr>
                  <a:xfrm rot="8424000">
                    <a:off x="352080" y="1061280"/>
                    <a:ext cx="23400" cy="4932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49320"/>
                      <a:gd name="textAreaBottom" fmla="*/ 49680 h 49320"/>
                    </a:gdLst>
                    <a:ahLst/>
                    <a:rect l="textAreaLeft" t="textAreaTop" r="textAreaRight" b="textAreaBottom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8" name="Freeform 1488"/>
                  <p:cNvSpPr/>
                  <p:nvPr/>
                </p:nvSpPr>
                <p:spPr>
                  <a:xfrm rot="8424000">
                    <a:off x="425160" y="1127520"/>
                    <a:ext cx="51480" cy="10080"/>
                  </a:xfrm>
                  <a:custGeom>
                    <a:avLst/>
                    <a:gdLst>
                      <a:gd name="textAreaLeft" fmla="*/ 0 w 51480"/>
                      <a:gd name="textAreaRight" fmla="*/ 51840 w 5148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9" name="Freeform 1489"/>
                  <p:cNvSpPr/>
                  <p:nvPr/>
                </p:nvSpPr>
                <p:spPr>
                  <a:xfrm rot="8424000">
                    <a:off x="458280" y="1127160"/>
                    <a:ext cx="31680" cy="1872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0" name="Freeform 1490"/>
                  <p:cNvSpPr/>
                  <p:nvPr/>
                </p:nvSpPr>
                <p:spPr>
                  <a:xfrm rot="8424000">
                    <a:off x="337320" y="1114920"/>
                    <a:ext cx="10080" cy="115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1" name="Freeform 1491"/>
                  <p:cNvSpPr/>
                  <p:nvPr/>
                </p:nvSpPr>
                <p:spPr>
                  <a:xfrm rot="8424000">
                    <a:off x="461160" y="1167480"/>
                    <a:ext cx="9000" cy="6840"/>
                  </a:xfrm>
                  <a:custGeom>
                    <a:avLst/>
                    <a:gdLst>
                      <a:gd name="textAreaLeft" fmla="*/ 0 w 9000"/>
                      <a:gd name="textAreaRight" fmla="*/ 9360 w 900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2" name="Freeform 1492"/>
                  <p:cNvSpPr/>
                  <p:nvPr/>
                </p:nvSpPr>
                <p:spPr>
                  <a:xfrm rot="8424000">
                    <a:off x="459360" y="1219680"/>
                    <a:ext cx="10080" cy="936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3" name="Freeform 1493"/>
                  <p:cNvSpPr/>
                  <p:nvPr/>
                </p:nvSpPr>
                <p:spPr>
                  <a:xfrm rot="8424000">
                    <a:off x="483840" y="1086480"/>
                    <a:ext cx="7920" cy="468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14" name="Group 1249"/>
                <p:cNvGrpSpPr/>
                <p:nvPr/>
              </p:nvGrpSpPr>
              <p:grpSpPr>
                <a:xfrm>
                  <a:off x="270720" y="1383480"/>
                  <a:ext cx="44640" cy="39240"/>
                  <a:chOff x="270720" y="1383480"/>
                  <a:chExt cx="44640" cy="39240"/>
                </a:xfrm>
              </p:grpSpPr>
              <p:sp>
                <p:nvSpPr>
                  <p:cNvPr id="3015" name="Freeform 1495"/>
                  <p:cNvSpPr/>
                  <p:nvPr/>
                </p:nvSpPr>
                <p:spPr>
                  <a:xfrm rot="4059600">
                    <a:off x="279360" y="1384560"/>
                    <a:ext cx="27000" cy="3708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6" name="Freeform 1496"/>
                  <p:cNvSpPr/>
                  <p:nvPr/>
                </p:nvSpPr>
                <p:spPr>
                  <a:xfrm rot="412800">
                    <a:off x="280800" y="1389960"/>
                    <a:ext cx="18360" cy="16920"/>
                  </a:xfrm>
                  <a:custGeom>
                    <a:avLst/>
                    <a:gdLst>
                      <a:gd name="textAreaLeft" fmla="*/ 0 w 18360"/>
                      <a:gd name="textAreaRight" fmla="*/ 18720 w 18360"/>
                      <a:gd name="textAreaTop" fmla="*/ 0 h 16920"/>
                      <a:gd name="textAreaBottom" fmla="*/ 17280 h 16920"/>
                    </a:gdLst>
                    <a:ahLst/>
                    <a:rect l="textAreaLeft" t="textAreaTop" r="textAreaRight" b="textAreaBottom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017" name="Group 1252"/>
            <p:cNvGrpSpPr/>
            <p:nvPr/>
          </p:nvGrpSpPr>
          <p:grpSpPr>
            <a:xfrm>
              <a:off x="632520" y="1108440"/>
              <a:ext cx="451440" cy="330120"/>
              <a:chOff x="632520" y="1108440"/>
              <a:chExt cx="451440" cy="330120"/>
            </a:xfrm>
          </p:grpSpPr>
          <p:grpSp>
            <p:nvGrpSpPr>
              <p:cNvPr id="3018" name="Group 1253"/>
              <p:cNvGrpSpPr/>
              <p:nvPr/>
            </p:nvGrpSpPr>
            <p:grpSpPr>
              <a:xfrm>
                <a:off x="632520" y="1108440"/>
                <a:ext cx="451440" cy="330120"/>
                <a:chOff x="632520" y="1108440"/>
                <a:chExt cx="451440" cy="330120"/>
              </a:xfrm>
            </p:grpSpPr>
            <p:sp>
              <p:nvSpPr>
                <p:cNvPr id="3019" name="Freeform 1499"/>
                <p:cNvSpPr/>
                <p:nvPr/>
              </p:nvSpPr>
              <p:spPr>
                <a:xfrm flipH="1" rot="21294600">
                  <a:off x="742320" y="1122120"/>
                  <a:ext cx="328680" cy="302040"/>
                </a:xfrm>
                <a:custGeom>
                  <a:avLst/>
                  <a:gdLst>
                    <a:gd name="textAreaLeft" fmla="*/ -360 w 328680"/>
                    <a:gd name="textAreaRight" fmla="*/ 328680 w 328680"/>
                    <a:gd name="textAreaTop" fmla="*/ 0 h 302040"/>
                    <a:gd name="textAreaBottom" fmla="*/ 302400 h 30204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0" name="Freeform 1500"/>
                <p:cNvSpPr/>
                <p:nvPr/>
              </p:nvSpPr>
              <p:spPr>
                <a:xfrm flipH="1" rot="21294600">
                  <a:off x="752400" y="1191240"/>
                  <a:ext cx="278640" cy="143280"/>
                </a:xfrm>
                <a:custGeom>
                  <a:avLst/>
                  <a:gdLst>
                    <a:gd name="textAreaLeft" fmla="*/ 360 w 278640"/>
                    <a:gd name="textAreaRight" fmla="*/ 279360 w 278640"/>
                    <a:gd name="textAreaTop" fmla="*/ 0 h 143280"/>
                    <a:gd name="textAreaBottom" fmla="*/ 143640 h 14328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1" name="Freeform 1501"/>
                <p:cNvSpPr/>
                <p:nvPr/>
              </p:nvSpPr>
              <p:spPr>
                <a:xfrm flipH="1" rot="21294600">
                  <a:off x="638640" y="1164960"/>
                  <a:ext cx="406080" cy="178560"/>
                </a:xfrm>
                <a:custGeom>
                  <a:avLst/>
                  <a:gdLst>
                    <a:gd name="textAreaLeft" fmla="*/ 360 w 406080"/>
                    <a:gd name="textAreaRight" fmla="*/ 406800 w 406080"/>
                    <a:gd name="textAreaTop" fmla="*/ 0 h 178560"/>
                    <a:gd name="textAreaBottom" fmla="*/ 178920 h 17856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2" name="Freeform 1502"/>
                <p:cNvSpPr/>
                <p:nvPr/>
              </p:nvSpPr>
              <p:spPr>
                <a:xfrm flipH="1" rot="21294600">
                  <a:off x="869400" y="1254600"/>
                  <a:ext cx="131760" cy="17640"/>
                </a:xfrm>
                <a:custGeom>
                  <a:avLst/>
                  <a:gdLst>
                    <a:gd name="textAreaLeft" fmla="*/ 360 w 131760"/>
                    <a:gd name="textAreaRight" fmla="*/ 132480 w 1317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3" name="Freeform 1503"/>
                <p:cNvSpPr/>
                <p:nvPr/>
              </p:nvSpPr>
              <p:spPr>
                <a:xfrm flipH="1" rot="21294600">
                  <a:off x="804240" y="1181520"/>
                  <a:ext cx="170640" cy="65880"/>
                </a:xfrm>
                <a:custGeom>
                  <a:avLst/>
                  <a:gdLst>
                    <a:gd name="textAreaLeft" fmla="*/ 360 w 170640"/>
                    <a:gd name="textAreaRight" fmla="*/ 171360 w 170640"/>
                    <a:gd name="textAreaTop" fmla="*/ 0 h 65880"/>
                    <a:gd name="textAreaBottom" fmla="*/ 66240 h 6588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4" name="Freeform 1504"/>
                <p:cNvSpPr/>
                <p:nvPr/>
              </p:nvSpPr>
              <p:spPr>
                <a:xfrm flipH="1" rot="21294600">
                  <a:off x="761400" y="1142280"/>
                  <a:ext cx="187920" cy="87120"/>
                </a:xfrm>
                <a:custGeom>
                  <a:avLst/>
                  <a:gdLst>
                    <a:gd name="textAreaLeft" fmla="*/ 360 w 187920"/>
                    <a:gd name="textAreaRight" fmla="*/ 188640 w 18792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5" name="Freeform 1505"/>
                <p:cNvSpPr/>
                <p:nvPr/>
              </p:nvSpPr>
              <p:spPr>
                <a:xfrm flipH="1" rot="21294600">
                  <a:off x="934560" y="1281240"/>
                  <a:ext cx="78120" cy="11160"/>
                </a:xfrm>
                <a:custGeom>
                  <a:avLst/>
                  <a:gdLst>
                    <a:gd name="textAreaLeft" fmla="*/ -360 w 78120"/>
                    <a:gd name="textAreaRight" fmla="*/ 78120 w 7812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6" name="Freeform 1506"/>
                <p:cNvSpPr/>
                <p:nvPr/>
              </p:nvSpPr>
              <p:spPr>
                <a:xfrm flipH="1" rot="21294600">
                  <a:off x="991440" y="1303920"/>
                  <a:ext cx="40680" cy="4320"/>
                </a:xfrm>
                <a:custGeom>
                  <a:avLst/>
                  <a:gdLst>
                    <a:gd name="textAreaLeft" fmla="*/ -360 w 40680"/>
                    <a:gd name="textAreaRight" fmla="*/ 40680 w 4068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7" name="Freeform 1507"/>
                <p:cNvSpPr/>
                <p:nvPr/>
              </p:nvSpPr>
              <p:spPr>
                <a:xfrm flipH="1" rot="21294600">
                  <a:off x="983160" y="1305720"/>
                  <a:ext cx="29880" cy="3096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8" name="Freeform 1508"/>
                <p:cNvSpPr/>
                <p:nvPr/>
              </p:nvSpPr>
              <p:spPr>
                <a:xfrm flipH="1" rot="21294600">
                  <a:off x="937440" y="1292400"/>
                  <a:ext cx="52200" cy="57240"/>
                </a:xfrm>
                <a:custGeom>
                  <a:avLst/>
                  <a:gdLst>
                    <a:gd name="textAreaLeft" fmla="*/ -360 w 52200"/>
                    <a:gd name="textAreaRight" fmla="*/ 52200 w 5220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9" name="Freeform 1509"/>
                <p:cNvSpPr/>
                <p:nvPr/>
              </p:nvSpPr>
              <p:spPr>
                <a:xfrm flipH="1" rot="21294600">
                  <a:off x="869400" y="1270440"/>
                  <a:ext cx="83520" cy="100080"/>
                </a:xfrm>
                <a:custGeom>
                  <a:avLst/>
                  <a:gdLst>
                    <a:gd name="textAreaLeft" fmla="*/ 360 w 83520"/>
                    <a:gd name="textAreaRight" fmla="*/ 84240 w 8352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0" name="Freeform 1510"/>
                <p:cNvSpPr/>
                <p:nvPr/>
              </p:nvSpPr>
              <p:spPr>
                <a:xfrm flipH="1" rot="21294600">
                  <a:off x="811080" y="1248840"/>
                  <a:ext cx="89640" cy="146520"/>
                </a:xfrm>
                <a:custGeom>
                  <a:avLst/>
                  <a:gdLst>
                    <a:gd name="textAreaLeft" fmla="*/ -360 w 89640"/>
                    <a:gd name="textAreaRight" fmla="*/ 89640 w 8964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1" name="Freeform 1511"/>
                <p:cNvSpPr/>
                <p:nvPr/>
              </p:nvSpPr>
              <p:spPr>
                <a:xfrm flipH="1" rot="21294600">
                  <a:off x="856800" y="1339920"/>
                  <a:ext cx="9720" cy="5868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2" name="Freeform 1512"/>
                <p:cNvSpPr/>
                <p:nvPr/>
              </p:nvSpPr>
              <p:spPr>
                <a:xfrm flipH="1" rot="21294600">
                  <a:off x="767160" y="1231560"/>
                  <a:ext cx="61920" cy="180720"/>
                </a:xfrm>
                <a:custGeom>
                  <a:avLst/>
                  <a:gdLst>
                    <a:gd name="textAreaLeft" fmla="*/ 360 w 61920"/>
                    <a:gd name="textAreaRight" fmla="*/ 62640 w 61920"/>
                    <a:gd name="textAreaTop" fmla="*/ 0 h 180720"/>
                    <a:gd name="textAreaBottom" fmla="*/ 181080 h 18072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3" name="Freeform 1513"/>
                <p:cNvSpPr/>
                <p:nvPr/>
              </p:nvSpPr>
              <p:spPr>
                <a:xfrm flipH="1" rot="21294600">
                  <a:off x="836280" y="1305000"/>
                  <a:ext cx="45720" cy="284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4" name="Freeform 1514"/>
                <p:cNvSpPr/>
                <p:nvPr/>
              </p:nvSpPr>
              <p:spPr>
                <a:xfrm flipH="1" rot="21294600">
                  <a:off x="913320" y="1327680"/>
                  <a:ext cx="22320" cy="46440"/>
                </a:xfrm>
                <a:custGeom>
                  <a:avLst/>
                  <a:gdLst>
                    <a:gd name="textAreaLeft" fmla="*/ 360 w 22320"/>
                    <a:gd name="textAreaRight" fmla="*/ 23040 w 223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5" name="Freeform 1515"/>
                <p:cNvSpPr/>
                <p:nvPr/>
              </p:nvSpPr>
              <p:spPr>
                <a:xfrm flipH="1" rot="21294600">
                  <a:off x="928440" y="1257840"/>
                  <a:ext cx="48600" cy="9720"/>
                </a:xfrm>
                <a:custGeom>
                  <a:avLst/>
                  <a:gdLst>
                    <a:gd name="textAreaLeft" fmla="*/ -360 w 48600"/>
                    <a:gd name="textAreaRight" fmla="*/ 48600 w 4860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6" name="Freeform 1516"/>
                <p:cNvSpPr/>
                <p:nvPr/>
              </p:nvSpPr>
              <p:spPr>
                <a:xfrm flipH="1" rot="21294600">
                  <a:off x="949680" y="1235160"/>
                  <a:ext cx="29880" cy="1764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7" name="Freeform 1517"/>
                <p:cNvSpPr/>
                <p:nvPr/>
              </p:nvSpPr>
              <p:spPr>
                <a:xfrm flipH="1" rot="21294600">
                  <a:off x="882000" y="1336320"/>
                  <a:ext cx="9720" cy="1080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8" name="Freeform 1518"/>
                <p:cNvSpPr/>
                <p:nvPr/>
              </p:nvSpPr>
              <p:spPr>
                <a:xfrm flipH="1" rot="21294600">
                  <a:off x="932040" y="1223640"/>
                  <a:ext cx="8640" cy="6480"/>
                </a:xfrm>
                <a:custGeom>
                  <a:avLst/>
                  <a:gdLst>
                    <a:gd name="textAreaLeft" fmla="*/ 360 w 8640"/>
                    <a:gd name="textAreaRight" fmla="*/ 9360 w 864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9" name="Freeform 1519"/>
                <p:cNvSpPr/>
                <p:nvPr/>
              </p:nvSpPr>
              <p:spPr>
                <a:xfrm flipH="1" rot="21294600">
                  <a:off x="895680" y="1188000"/>
                  <a:ext cx="9720" cy="864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0" name="Freeform 1520"/>
                <p:cNvSpPr/>
                <p:nvPr/>
              </p:nvSpPr>
              <p:spPr>
                <a:xfrm flipH="1" rot="21294600">
                  <a:off x="1002600" y="1265400"/>
                  <a:ext cx="7560" cy="3960"/>
                </a:xfrm>
                <a:custGeom>
                  <a:avLst/>
                  <a:gdLst>
                    <a:gd name="textAreaLeft" fmla="*/ -360 w 7560"/>
                    <a:gd name="textAreaRight" fmla="*/ 7560 w 756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1" name="Group 1276"/>
              <p:cNvGrpSpPr/>
              <p:nvPr/>
            </p:nvGrpSpPr>
            <p:grpSpPr>
              <a:xfrm>
                <a:off x="646920" y="1168920"/>
                <a:ext cx="41760" cy="36360"/>
                <a:chOff x="646920" y="1168920"/>
                <a:chExt cx="41760" cy="36360"/>
              </a:xfrm>
            </p:grpSpPr>
            <p:sp>
              <p:nvSpPr>
                <p:cNvPr id="3042" name="Freeform 1522"/>
                <p:cNvSpPr/>
                <p:nvPr/>
              </p:nvSpPr>
              <p:spPr>
                <a:xfrm flipH="1" rot="4059600">
                  <a:off x="654840" y="1170000"/>
                  <a:ext cx="25200" cy="34560"/>
                </a:xfrm>
                <a:custGeom>
                  <a:avLst/>
                  <a:gdLst>
                    <a:gd name="textAreaLeft" fmla="*/ 360 w 25200"/>
                    <a:gd name="textAreaRight" fmla="*/ 25920 w 2520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3" name="Freeform 1523"/>
                <p:cNvSpPr/>
                <p:nvPr/>
              </p:nvSpPr>
              <p:spPr>
                <a:xfrm flipH="1" rot="7706400">
                  <a:off x="659880" y="1184400"/>
                  <a:ext cx="17280" cy="15480"/>
                </a:xfrm>
                <a:custGeom>
                  <a:avLst/>
                  <a:gdLst>
                    <a:gd name="textAreaLeft" fmla="*/ 360 w 17280"/>
                    <a:gd name="textAreaRight" fmla="*/ 18000 w 17280"/>
                    <a:gd name="textAreaTop" fmla="*/ 0 h 15480"/>
                    <a:gd name="textAreaBottom" fmla="*/ 15840 h 1548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44" name="Group 1279"/>
            <p:cNvGrpSpPr/>
            <p:nvPr/>
          </p:nvGrpSpPr>
          <p:grpSpPr>
            <a:xfrm>
              <a:off x="530640" y="759600"/>
              <a:ext cx="371160" cy="425160"/>
              <a:chOff x="530640" y="759600"/>
              <a:chExt cx="371160" cy="425160"/>
            </a:xfrm>
          </p:grpSpPr>
          <p:grpSp>
            <p:nvGrpSpPr>
              <p:cNvPr id="3045" name="Group 1280"/>
              <p:cNvGrpSpPr/>
              <p:nvPr/>
            </p:nvGrpSpPr>
            <p:grpSpPr>
              <a:xfrm>
                <a:off x="530640" y="759600"/>
                <a:ext cx="371160" cy="425160"/>
                <a:chOff x="530640" y="759600"/>
                <a:chExt cx="371160" cy="425160"/>
              </a:xfrm>
            </p:grpSpPr>
            <p:sp>
              <p:nvSpPr>
                <p:cNvPr id="3046" name="Freeform 1526"/>
                <p:cNvSpPr/>
                <p:nvPr/>
              </p:nvSpPr>
              <p:spPr>
                <a:xfrm rot="7630800">
                  <a:off x="576360" y="820800"/>
                  <a:ext cx="279720" cy="253440"/>
                </a:xfrm>
                <a:custGeom>
                  <a:avLst/>
                  <a:gdLst>
                    <a:gd name="textAreaLeft" fmla="*/ 0 w 279720"/>
                    <a:gd name="textAreaRight" fmla="*/ 280080 w 27972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7" name="Freeform 1527"/>
                <p:cNvSpPr/>
                <p:nvPr/>
              </p:nvSpPr>
              <p:spPr>
                <a:xfrm rot="7630800">
                  <a:off x="598320" y="901800"/>
                  <a:ext cx="236880" cy="120600"/>
                </a:xfrm>
                <a:custGeom>
                  <a:avLst/>
                  <a:gdLst>
                    <a:gd name="textAreaLeft" fmla="*/ 0 w 236880"/>
                    <a:gd name="textAreaRight" fmla="*/ 237240 w 23688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8" name="Freeform 1528"/>
                <p:cNvSpPr/>
                <p:nvPr/>
              </p:nvSpPr>
              <p:spPr>
                <a:xfrm rot="7630800">
                  <a:off x="527760" y="927000"/>
                  <a:ext cx="344880" cy="150120"/>
                </a:xfrm>
                <a:custGeom>
                  <a:avLst/>
                  <a:gdLst>
                    <a:gd name="textAreaLeft" fmla="*/ 0 w 344880"/>
                    <a:gd name="textAreaRight" fmla="*/ 345240 w 344880"/>
                    <a:gd name="textAreaTop" fmla="*/ 0 h 150120"/>
                    <a:gd name="textAreaBottom" fmla="*/ 150480 h 15012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9" name="Freeform 1529"/>
                <p:cNvSpPr/>
                <p:nvPr/>
              </p:nvSpPr>
              <p:spPr>
                <a:xfrm rot="7630800">
                  <a:off x="679680" y="923040"/>
                  <a:ext cx="111960" cy="151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0" name="Freeform 1530"/>
                <p:cNvSpPr/>
                <p:nvPr/>
              </p:nvSpPr>
              <p:spPr>
                <a:xfrm rot="7630800">
                  <a:off x="677880" y="957600"/>
                  <a:ext cx="145080" cy="55080"/>
                </a:xfrm>
                <a:custGeom>
                  <a:avLst/>
                  <a:gdLst>
                    <a:gd name="textAreaLeft" fmla="*/ 0 w 145080"/>
                    <a:gd name="textAreaRight" fmla="*/ 145440 w 145080"/>
                    <a:gd name="textAreaTop" fmla="*/ 0 h 55080"/>
                    <a:gd name="textAreaBottom" fmla="*/ 55440 h 5508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1" name="Freeform 1531"/>
                <p:cNvSpPr/>
                <p:nvPr/>
              </p:nvSpPr>
              <p:spPr>
                <a:xfrm rot="7630800">
                  <a:off x="675000" y="986760"/>
                  <a:ext cx="159840" cy="72720"/>
                </a:xfrm>
                <a:custGeom>
                  <a:avLst/>
                  <a:gdLst>
                    <a:gd name="textAreaLeft" fmla="*/ 0 w 159840"/>
                    <a:gd name="textAreaRight" fmla="*/ 160200 w 1598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2" name="Freeform 1532"/>
                <p:cNvSpPr/>
                <p:nvPr/>
              </p:nvSpPr>
              <p:spPr>
                <a:xfrm rot="7630800">
                  <a:off x="703440" y="887760"/>
                  <a:ext cx="66240" cy="93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3" name="Freeform 1533"/>
                <p:cNvSpPr/>
                <p:nvPr/>
              </p:nvSpPr>
              <p:spPr>
                <a:xfrm rot="7630800">
                  <a:off x="722160" y="855000"/>
                  <a:ext cx="34560" cy="39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4" name="Freeform 1534"/>
                <p:cNvSpPr/>
                <p:nvPr/>
              </p:nvSpPr>
              <p:spPr>
                <a:xfrm rot="7630800">
                  <a:off x="711000" y="846000"/>
                  <a:ext cx="25200" cy="2628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5" name="Freeform 1535"/>
                <p:cNvSpPr/>
                <p:nvPr/>
              </p:nvSpPr>
              <p:spPr>
                <a:xfrm rot="7630800">
                  <a:off x="685440" y="861120"/>
                  <a:ext cx="44280" cy="4752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47520"/>
                    <a:gd name="textAreaBottom" fmla="*/ 47880 h 4752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6" name="Freeform 1536"/>
                <p:cNvSpPr/>
                <p:nvPr/>
              </p:nvSpPr>
              <p:spPr>
                <a:xfrm rot="7630800">
                  <a:off x="649080" y="880560"/>
                  <a:ext cx="70920" cy="83880"/>
                </a:xfrm>
                <a:custGeom>
                  <a:avLst/>
                  <a:gdLst>
                    <a:gd name="textAreaLeft" fmla="*/ 0 w 70920"/>
                    <a:gd name="textAreaRight" fmla="*/ 71280 w 7092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7" name="Freeform 1537"/>
                <p:cNvSpPr/>
                <p:nvPr/>
              </p:nvSpPr>
              <p:spPr>
                <a:xfrm rot="7630800">
                  <a:off x="619920" y="900000"/>
                  <a:ext cx="76320" cy="123120"/>
                </a:xfrm>
                <a:custGeom>
                  <a:avLst/>
                  <a:gdLst>
                    <a:gd name="textAreaLeft" fmla="*/ 0 w 76320"/>
                    <a:gd name="textAreaRight" fmla="*/ 76680 w 76320"/>
                    <a:gd name="textAreaTop" fmla="*/ 0 h 123120"/>
                    <a:gd name="textAreaBottom" fmla="*/ 123480 h 12312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8" name="Freeform 1538"/>
                <p:cNvSpPr/>
                <p:nvPr/>
              </p:nvSpPr>
              <p:spPr>
                <a:xfrm rot="7630800">
                  <a:off x="623520" y="911160"/>
                  <a:ext cx="8280" cy="4932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9" name="Freeform 1539"/>
                <p:cNvSpPr/>
                <p:nvPr/>
              </p:nvSpPr>
              <p:spPr>
                <a:xfrm rot="7630800">
                  <a:off x="605160" y="927000"/>
                  <a:ext cx="52560" cy="15192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151920"/>
                    <a:gd name="textAreaBottom" fmla="*/ 152280 h 15192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0" name="Freeform 1540"/>
                <p:cNvSpPr/>
                <p:nvPr/>
              </p:nvSpPr>
              <p:spPr>
                <a:xfrm rot="7630800">
                  <a:off x="642960" y="948240"/>
                  <a:ext cx="38880" cy="241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1" name="Freeform 1541"/>
                <p:cNvSpPr/>
                <p:nvPr/>
              </p:nvSpPr>
              <p:spPr>
                <a:xfrm rot="7630800">
                  <a:off x="659520" y="879480"/>
                  <a:ext cx="18360" cy="38880"/>
                </a:xfrm>
                <a:custGeom>
                  <a:avLst/>
                  <a:gdLst>
                    <a:gd name="textAreaLeft" fmla="*/ 0 w 18360"/>
                    <a:gd name="textAreaRight" fmla="*/ 18720 w 1836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2" name="Freeform 1542"/>
                <p:cNvSpPr/>
                <p:nvPr/>
              </p:nvSpPr>
              <p:spPr>
                <a:xfrm rot="7630800">
                  <a:off x="723600" y="914040"/>
                  <a:ext cx="41040" cy="828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3" name="Freeform 1543"/>
                <p:cNvSpPr/>
                <p:nvPr/>
              </p:nvSpPr>
              <p:spPr>
                <a:xfrm rot="7630800">
                  <a:off x="750960" y="910440"/>
                  <a:ext cx="25200" cy="1476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4" name="Freeform 1544"/>
                <p:cNvSpPr/>
                <p:nvPr/>
              </p:nvSpPr>
              <p:spPr>
                <a:xfrm rot="7630800">
                  <a:off x="654120" y="925560"/>
                  <a:ext cx="8280" cy="936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5" name="Freeform 1545"/>
                <p:cNvSpPr/>
                <p:nvPr/>
              </p:nvSpPr>
              <p:spPr>
                <a:xfrm rot="7630800">
                  <a:off x="759240" y="942840"/>
                  <a:ext cx="7200" cy="54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6" name="Freeform 1546"/>
                <p:cNvSpPr/>
                <p:nvPr/>
              </p:nvSpPr>
              <p:spPr>
                <a:xfrm rot="7630800">
                  <a:off x="766800" y="983520"/>
                  <a:ext cx="8280" cy="756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7560"/>
                    <a:gd name="textAreaBottom" fmla="*/ 7920 h 756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7" name="Freeform 1547"/>
                <p:cNvSpPr/>
                <p:nvPr/>
              </p:nvSpPr>
              <p:spPr>
                <a:xfrm rot="7630800">
                  <a:off x="761400" y="876240"/>
                  <a:ext cx="6480" cy="3240"/>
                </a:xfrm>
                <a:custGeom>
                  <a:avLst/>
                  <a:gdLst>
                    <a:gd name="textAreaLeft" fmla="*/ 0 w 6480"/>
                    <a:gd name="textAreaRight" fmla="*/ 6840 w 648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8" name="Group 1303"/>
              <p:cNvGrpSpPr/>
              <p:nvPr/>
            </p:nvGrpSpPr>
            <p:grpSpPr>
              <a:xfrm>
                <a:off x="651240" y="1140120"/>
                <a:ext cx="36000" cy="33840"/>
                <a:chOff x="651240" y="1140120"/>
                <a:chExt cx="36000" cy="33840"/>
              </a:xfrm>
            </p:grpSpPr>
            <p:sp>
              <p:nvSpPr>
                <p:cNvPr id="3069" name="Freeform 1549"/>
                <p:cNvSpPr/>
                <p:nvPr/>
              </p:nvSpPr>
              <p:spPr>
                <a:xfrm rot="3266400">
                  <a:off x="658800" y="1142280"/>
                  <a:ext cx="20880" cy="29160"/>
                </a:xfrm>
                <a:custGeom>
                  <a:avLst/>
                  <a:gdLst>
                    <a:gd name="textAreaLeft" fmla="*/ 0 w 20880"/>
                    <a:gd name="textAreaRight" fmla="*/ 21240 w 2088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0" name="Freeform 1550"/>
                <p:cNvSpPr/>
                <p:nvPr/>
              </p:nvSpPr>
              <p:spPr>
                <a:xfrm rot="21219600">
                  <a:off x="658440" y="1147680"/>
                  <a:ext cx="14760" cy="1260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1" name="Group 1306"/>
            <p:cNvGrpSpPr/>
            <p:nvPr/>
          </p:nvGrpSpPr>
          <p:grpSpPr>
            <a:xfrm>
              <a:off x="896040" y="932400"/>
              <a:ext cx="409320" cy="348480"/>
              <a:chOff x="896040" y="932400"/>
              <a:chExt cx="409320" cy="348480"/>
            </a:xfrm>
          </p:grpSpPr>
          <p:grpSp>
            <p:nvGrpSpPr>
              <p:cNvPr id="3072" name="Group 1307"/>
              <p:cNvGrpSpPr/>
              <p:nvPr/>
            </p:nvGrpSpPr>
            <p:grpSpPr>
              <a:xfrm>
                <a:off x="896040" y="932400"/>
                <a:ext cx="409320" cy="348480"/>
                <a:chOff x="896040" y="932400"/>
                <a:chExt cx="409320" cy="348480"/>
              </a:xfrm>
            </p:grpSpPr>
            <p:sp>
              <p:nvSpPr>
                <p:cNvPr id="3073" name="Freeform 1553"/>
                <p:cNvSpPr/>
                <p:nvPr/>
              </p:nvSpPr>
              <p:spPr>
                <a:xfrm rot="12159000">
                  <a:off x="999360" y="973080"/>
                  <a:ext cx="264600" cy="267120"/>
                </a:xfrm>
                <a:custGeom>
                  <a:avLst/>
                  <a:gdLst>
                    <a:gd name="textAreaLeft" fmla="*/ 0 w 264600"/>
                    <a:gd name="textAreaRight" fmla="*/ 264960 w 264600"/>
                    <a:gd name="textAreaTop" fmla="*/ 0 h 267120"/>
                    <a:gd name="textAreaBottom" fmla="*/ 267480 h 26712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4" name="Freeform 1554"/>
                <p:cNvSpPr/>
                <p:nvPr/>
              </p:nvSpPr>
              <p:spPr>
                <a:xfrm rot="12159000">
                  <a:off x="1006200" y="1047600"/>
                  <a:ext cx="224280" cy="127440"/>
                </a:xfrm>
                <a:custGeom>
                  <a:avLst/>
                  <a:gdLst>
                    <a:gd name="textAreaLeft" fmla="*/ 0 w 224280"/>
                    <a:gd name="textAreaRight" fmla="*/ 224640 w 224280"/>
                    <a:gd name="textAreaTop" fmla="*/ 0 h 127440"/>
                    <a:gd name="textAreaBottom" fmla="*/ 127800 h 12744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5" name="Freeform 1555"/>
                <p:cNvSpPr/>
                <p:nvPr/>
              </p:nvSpPr>
              <p:spPr>
                <a:xfrm rot="12159000">
                  <a:off x="913680" y="1028160"/>
                  <a:ext cx="326880" cy="158040"/>
                </a:xfrm>
                <a:custGeom>
                  <a:avLst/>
                  <a:gdLst>
                    <a:gd name="textAreaLeft" fmla="*/ 0 w 326880"/>
                    <a:gd name="textAreaRight" fmla="*/ 327240 w 326880"/>
                    <a:gd name="textAreaTop" fmla="*/ 0 h 158040"/>
                    <a:gd name="textAreaBottom" fmla="*/ 158400 h 15804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6" name="Freeform 1556"/>
                <p:cNvSpPr/>
                <p:nvPr/>
              </p:nvSpPr>
              <p:spPr>
                <a:xfrm rot="12159000">
                  <a:off x="1098360" y="1113840"/>
                  <a:ext cx="106560" cy="1548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15480"/>
                    <a:gd name="textAreaBottom" fmla="*/ 15840 h 1548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7" name="Freeform 1557"/>
                <p:cNvSpPr/>
                <p:nvPr/>
              </p:nvSpPr>
              <p:spPr>
                <a:xfrm rot="12159000">
                  <a:off x="1034640" y="1122480"/>
                  <a:ext cx="137160" cy="58680"/>
                </a:xfrm>
                <a:custGeom>
                  <a:avLst/>
                  <a:gdLst>
                    <a:gd name="textAreaLeft" fmla="*/ 0 w 137160"/>
                    <a:gd name="textAreaRight" fmla="*/ 137520 w 13716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8" name="Freeform 1558"/>
                <p:cNvSpPr/>
                <p:nvPr/>
              </p:nvSpPr>
              <p:spPr>
                <a:xfrm rot="12159000">
                  <a:off x="993600" y="1129680"/>
                  <a:ext cx="151200" cy="77040"/>
                </a:xfrm>
                <a:custGeom>
                  <a:avLst/>
                  <a:gdLst>
                    <a:gd name="textAreaLeft" fmla="*/ 0 w 151200"/>
                    <a:gd name="textAreaRight" fmla="*/ 151560 w 151200"/>
                    <a:gd name="textAreaTop" fmla="*/ 0 h 77040"/>
                    <a:gd name="textAreaBottom" fmla="*/ 77400 h 7704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9" name="Freeform 1559"/>
                <p:cNvSpPr/>
                <p:nvPr/>
              </p:nvSpPr>
              <p:spPr>
                <a:xfrm rot="12159000">
                  <a:off x="1155240" y="1106280"/>
                  <a:ext cx="63000" cy="972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0" name="Freeform 1560"/>
                <p:cNvSpPr/>
                <p:nvPr/>
              </p:nvSpPr>
              <p:spPr>
                <a:xfrm rot="12159000">
                  <a:off x="1206000" y="1100880"/>
                  <a:ext cx="32760" cy="3960"/>
                </a:xfrm>
                <a:custGeom>
                  <a:avLst/>
                  <a:gdLst>
                    <a:gd name="textAreaLeft" fmla="*/ 0 w 32760"/>
                    <a:gd name="textAreaRight" fmla="*/ 33120 w 3276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1" name="Freeform 1561"/>
                <p:cNvSpPr/>
                <p:nvPr/>
              </p:nvSpPr>
              <p:spPr>
                <a:xfrm rot="12159000">
                  <a:off x="1203840" y="1073880"/>
                  <a:ext cx="23760" cy="273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2" name="Freeform 1562"/>
                <p:cNvSpPr/>
                <p:nvPr/>
              </p:nvSpPr>
              <p:spPr>
                <a:xfrm rot="12159000">
                  <a:off x="1167840" y="1054440"/>
                  <a:ext cx="41760" cy="5076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3" name="Freeform 1563"/>
                <p:cNvSpPr/>
                <p:nvPr/>
              </p:nvSpPr>
              <p:spPr>
                <a:xfrm rot="12159000">
                  <a:off x="1114920" y="1023120"/>
                  <a:ext cx="67320" cy="88920"/>
                </a:xfrm>
                <a:custGeom>
                  <a:avLst/>
                  <a:gdLst>
                    <a:gd name="textAreaLeft" fmla="*/ 0 w 67320"/>
                    <a:gd name="textAreaRight" fmla="*/ 67680 w 673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4" name="Freeform 1564"/>
                <p:cNvSpPr/>
                <p:nvPr/>
              </p:nvSpPr>
              <p:spPr>
                <a:xfrm rot="12159000">
                  <a:off x="1071000" y="988200"/>
                  <a:ext cx="71640" cy="13032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130320"/>
                    <a:gd name="textAreaBottom" fmla="*/ 130680 h 13032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5" name="Freeform 1565"/>
                <p:cNvSpPr/>
                <p:nvPr/>
              </p:nvSpPr>
              <p:spPr>
                <a:xfrm rot="12159000">
                  <a:off x="1120320" y="989280"/>
                  <a:ext cx="8280" cy="5184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6" name="Freeform 1566"/>
                <p:cNvSpPr/>
                <p:nvPr/>
              </p:nvSpPr>
              <p:spPr>
                <a:xfrm rot="12159000">
                  <a:off x="1036800" y="960120"/>
                  <a:ext cx="50040" cy="15984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0 h 159840"/>
                    <a:gd name="textAreaBottom" fmla="*/ 159840 h 15984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7" name="Freeform 1567"/>
                <p:cNvSpPr/>
                <p:nvPr/>
              </p:nvSpPr>
              <p:spPr>
                <a:xfrm rot="12159000">
                  <a:off x="1090080" y="1044360"/>
                  <a:ext cx="37080" cy="25200"/>
                </a:xfrm>
                <a:custGeom>
                  <a:avLst/>
                  <a:gdLst>
                    <a:gd name="textAreaLeft" fmla="*/ 0 w 37080"/>
                    <a:gd name="textAreaRight" fmla="*/ 37440 w 3708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8" name="Freeform 1568"/>
                <p:cNvSpPr/>
                <p:nvPr/>
              </p:nvSpPr>
              <p:spPr>
                <a:xfrm rot="12159000">
                  <a:off x="1158120" y="1024920"/>
                  <a:ext cx="17640" cy="4068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9" name="Freeform 1569"/>
                <p:cNvSpPr/>
                <p:nvPr/>
              </p:nvSpPr>
              <p:spPr>
                <a:xfrm rot="12159000">
                  <a:off x="1145520" y="1121760"/>
                  <a:ext cx="38520" cy="86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0" name="Freeform 1570"/>
                <p:cNvSpPr/>
                <p:nvPr/>
              </p:nvSpPr>
              <p:spPr>
                <a:xfrm rot="12159000">
                  <a:off x="1157400" y="1137600"/>
                  <a:ext cx="23760" cy="1512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1" name="Freeform 1571"/>
                <p:cNvSpPr/>
                <p:nvPr/>
              </p:nvSpPr>
              <p:spPr>
                <a:xfrm rot="12159000">
                  <a:off x="1132200" y="1038960"/>
                  <a:ext cx="8280" cy="1008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2" name="Freeform 1572"/>
                <p:cNvSpPr/>
                <p:nvPr/>
              </p:nvSpPr>
              <p:spPr>
                <a:xfrm rot="12159000">
                  <a:off x="1139400" y="1150200"/>
                  <a:ext cx="6480" cy="5760"/>
                </a:xfrm>
                <a:custGeom>
                  <a:avLst/>
                  <a:gdLst>
                    <a:gd name="textAreaLeft" fmla="*/ 0 w 6480"/>
                    <a:gd name="textAreaRight" fmla="*/ 6840 w 648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3" name="Freeform 1573"/>
                <p:cNvSpPr/>
                <p:nvPr/>
              </p:nvSpPr>
              <p:spPr>
                <a:xfrm rot="12159000">
                  <a:off x="1101240" y="1168920"/>
                  <a:ext cx="8280" cy="792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4" name="Freeform 1574"/>
                <p:cNvSpPr/>
                <p:nvPr/>
              </p:nvSpPr>
              <p:spPr>
                <a:xfrm rot="12159000">
                  <a:off x="1203840" y="1133280"/>
                  <a:ext cx="6120" cy="396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5" name="Group 1330"/>
              <p:cNvGrpSpPr/>
              <p:nvPr/>
            </p:nvGrpSpPr>
            <p:grpSpPr>
              <a:xfrm>
                <a:off x="901440" y="1106640"/>
                <a:ext cx="36000" cy="35280"/>
                <a:chOff x="901440" y="1106640"/>
                <a:chExt cx="36000" cy="35280"/>
              </a:xfrm>
            </p:grpSpPr>
            <p:sp>
              <p:nvSpPr>
                <p:cNvPr id="3096" name="Freeform 1576"/>
                <p:cNvSpPr/>
                <p:nvPr/>
              </p:nvSpPr>
              <p:spPr>
                <a:xfrm rot="7794000">
                  <a:off x="908280" y="1109880"/>
                  <a:ext cx="22320" cy="2808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7" name="Freeform 1577"/>
                <p:cNvSpPr/>
                <p:nvPr/>
              </p:nvSpPr>
              <p:spPr>
                <a:xfrm rot="4147200">
                  <a:off x="915120" y="1114200"/>
                  <a:ext cx="14040" cy="1332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13320"/>
                    <a:gd name="textAreaBottom" fmla="*/ 13680 h 1332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98" name="Group 1333"/>
          <p:cNvGrpSpPr/>
          <p:nvPr/>
        </p:nvGrpSpPr>
        <p:grpSpPr>
          <a:xfrm>
            <a:off x="-412920" y="355320"/>
            <a:ext cx="2031840" cy="1442880"/>
            <a:chOff x="-412920" y="355320"/>
            <a:chExt cx="2031840" cy="1442880"/>
          </a:xfrm>
        </p:grpSpPr>
        <p:sp>
          <p:nvSpPr>
            <p:cNvPr id="3099" name="Freeform 1772"/>
            <p:cNvSpPr/>
            <p:nvPr/>
          </p:nvSpPr>
          <p:spPr>
            <a:xfrm flipH="1" rot="7023600">
              <a:off x="531720" y="388800"/>
              <a:ext cx="275040" cy="1503000"/>
            </a:xfrm>
            <a:custGeom>
              <a:avLst/>
              <a:gdLst>
                <a:gd name="textAreaLeft" fmla="*/ 360 w 275040"/>
                <a:gd name="textAreaRight" fmla="*/ 275760 w 275040"/>
                <a:gd name="textAreaTop" fmla="*/ 0 h 1503000"/>
                <a:gd name="textAreaBottom" fmla="*/ 1503360 h 1503000"/>
              </a:gdLst>
              <a:ahLst/>
              <a:rect l="textAreaLeft" t="textAreaTop" r="textAreaRight" b="textAreaBottom"/>
              <a:pathLst>
                <a:path w="2573" h="12419">
                  <a:moveTo>
                    <a:pt x="103" y="11997"/>
                  </a:moveTo>
                  <a:lnTo>
                    <a:pt x="103" y="11955"/>
                  </a:lnTo>
                  <a:lnTo>
                    <a:pt x="113" y="11851"/>
                  </a:lnTo>
                  <a:lnTo>
                    <a:pt x="124" y="11788"/>
                  </a:lnTo>
                  <a:lnTo>
                    <a:pt x="135" y="11737"/>
                  </a:lnTo>
                  <a:lnTo>
                    <a:pt x="150" y="11690"/>
                  </a:lnTo>
                  <a:lnTo>
                    <a:pt x="160" y="11669"/>
                  </a:lnTo>
                  <a:lnTo>
                    <a:pt x="170" y="11658"/>
                  </a:lnTo>
                  <a:lnTo>
                    <a:pt x="228" y="11596"/>
                  </a:lnTo>
                  <a:lnTo>
                    <a:pt x="264" y="11555"/>
                  </a:lnTo>
                  <a:lnTo>
                    <a:pt x="300" y="11503"/>
                  </a:lnTo>
                  <a:lnTo>
                    <a:pt x="332" y="11445"/>
                  </a:lnTo>
                  <a:lnTo>
                    <a:pt x="368" y="11378"/>
                  </a:lnTo>
                  <a:lnTo>
                    <a:pt x="394" y="11305"/>
                  </a:lnTo>
                  <a:lnTo>
                    <a:pt x="410" y="11221"/>
                  </a:lnTo>
                  <a:lnTo>
                    <a:pt x="447" y="11071"/>
                  </a:lnTo>
                  <a:lnTo>
                    <a:pt x="504" y="10821"/>
                  </a:lnTo>
                  <a:lnTo>
                    <a:pt x="670" y="10144"/>
                  </a:lnTo>
                  <a:lnTo>
                    <a:pt x="831" y="9488"/>
                  </a:lnTo>
                  <a:lnTo>
                    <a:pt x="883" y="9254"/>
                  </a:lnTo>
                  <a:lnTo>
                    <a:pt x="904" y="9140"/>
                  </a:lnTo>
                  <a:lnTo>
                    <a:pt x="909" y="9056"/>
                  </a:lnTo>
                  <a:lnTo>
                    <a:pt x="914" y="9004"/>
                  </a:lnTo>
                  <a:lnTo>
                    <a:pt x="919" y="8983"/>
                  </a:lnTo>
                  <a:lnTo>
                    <a:pt x="930" y="8973"/>
                  </a:lnTo>
                  <a:lnTo>
                    <a:pt x="946" y="8963"/>
                  </a:lnTo>
                  <a:lnTo>
                    <a:pt x="966" y="8958"/>
                  </a:lnTo>
                  <a:lnTo>
                    <a:pt x="981" y="8946"/>
                  </a:lnTo>
                  <a:lnTo>
                    <a:pt x="1003" y="8921"/>
                  </a:lnTo>
                  <a:lnTo>
                    <a:pt x="1023" y="8884"/>
                  </a:lnTo>
                  <a:lnTo>
                    <a:pt x="1050" y="8833"/>
                  </a:lnTo>
                  <a:lnTo>
                    <a:pt x="1106" y="8708"/>
                  </a:lnTo>
                  <a:lnTo>
                    <a:pt x="1169" y="8556"/>
                  </a:lnTo>
                  <a:lnTo>
                    <a:pt x="1231" y="8395"/>
                  </a:lnTo>
                  <a:lnTo>
                    <a:pt x="1288" y="8239"/>
                  </a:lnTo>
                  <a:lnTo>
                    <a:pt x="1335" y="8104"/>
                  </a:lnTo>
                  <a:lnTo>
                    <a:pt x="1367" y="7999"/>
                  </a:lnTo>
                  <a:lnTo>
                    <a:pt x="1445" y="7755"/>
                  </a:lnTo>
                  <a:lnTo>
                    <a:pt x="1554" y="7401"/>
                  </a:lnTo>
                  <a:lnTo>
                    <a:pt x="1606" y="7213"/>
                  </a:lnTo>
                  <a:lnTo>
                    <a:pt x="1647" y="7026"/>
                  </a:lnTo>
                  <a:lnTo>
                    <a:pt x="1669" y="6943"/>
                  </a:lnTo>
                  <a:lnTo>
                    <a:pt x="1679" y="6860"/>
                  </a:lnTo>
                  <a:lnTo>
                    <a:pt x="1689" y="6786"/>
                  </a:lnTo>
                  <a:lnTo>
                    <a:pt x="1689" y="6719"/>
                  </a:lnTo>
                  <a:lnTo>
                    <a:pt x="1694" y="6651"/>
                  </a:lnTo>
                  <a:lnTo>
                    <a:pt x="1699" y="6558"/>
                  </a:lnTo>
                  <a:lnTo>
                    <a:pt x="1731" y="6318"/>
                  </a:lnTo>
                  <a:lnTo>
                    <a:pt x="1772" y="6032"/>
                  </a:lnTo>
                  <a:lnTo>
                    <a:pt x="1814" y="5730"/>
                  </a:lnTo>
                  <a:lnTo>
                    <a:pt x="1902" y="5163"/>
                  </a:lnTo>
                  <a:lnTo>
                    <a:pt x="1934" y="4955"/>
                  </a:lnTo>
                  <a:lnTo>
                    <a:pt x="1939" y="4877"/>
                  </a:lnTo>
                  <a:lnTo>
                    <a:pt x="1944" y="4830"/>
                  </a:lnTo>
                  <a:lnTo>
                    <a:pt x="1949" y="4236"/>
                  </a:lnTo>
                  <a:lnTo>
                    <a:pt x="1964" y="3133"/>
                  </a:lnTo>
                  <a:lnTo>
                    <a:pt x="1970" y="2555"/>
                  </a:lnTo>
                  <a:lnTo>
                    <a:pt x="1970" y="2050"/>
                  </a:lnTo>
                  <a:lnTo>
                    <a:pt x="1964" y="1686"/>
                  </a:lnTo>
                  <a:lnTo>
                    <a:pt x="1959" y="1571"/>
                  </a:lnTo>
                  <a:lnTo>
                    <a:pt x="1954" y="1541"/>
                  </a:lnTo>
                  <a:lnTo>
                    <a:pt x="1954" y="1524"/>
                  </a:lnTo>
                  <a:lnTo>
                    <a:pt x="1918" y="1457"/>
                  </a:lnTo>
                  <a:lnTo>
                    <a:pt x="1892" y="1399"/>
                  </a:lnTo>
                  <a:lnTo>
                    <a:pt x="1887" y="1374"/>
                  </a:lnTo>
                  <a:lnTo>
                    <a:pt x="1882" y="1347"/>
                  </a:lnTo>
                  <a:lnTo>
                    <a:pt x="1882" y="1327"/>
                  </a:lnTo>
                  <a:lnTo>
                    <a:pt x="1892" y="1311"/>
                  </a:lnTo>
                  <a:lnTo>
                    <a:pt x="1897" y="1306"/>
                  </a:lnTo>
                  <a:lnTo>
                    <a:pt x="1907" y="1301"/>
                  </a:lnTo>
                  <a:lnTo>
                    <a:pt x="1923" y="1306"/>
                  </a:lnTo>
                  <a:lnTo>
                    <a:pt x="1944" y="1311"/>
                  </a:lnTo>
                  <a:lnTo>
                    <a:pt x="1964" y="1322"/>
                  </a:lnTo>
                  <a:lnTo>
                    <a:pt x="1986" y="1332"/>
                  </a:lnTo>
                  <a:lnTo>
                    <a:pt x="2006" y="1337"/>
                  </a:lnTo>
                  <a:lnTo>
                    <a:pt x="2022" y="1337"/>
                  </a:lnTo>
                  <a:lnTo>
                    <a:pt x="2027" y="1332"/>
                  </a:lnTo>
                  <a:lnTo>
                    <a:pt x="2032" y="1322"/>
                  </a:lnTo>
                  <a:lnTo>
                    <a:pt x="2214" y="775"/>
                  </a:lnTo>
                  <a:lnTo>
                    <a:pt x="2386" y="265"/>
                  </a:lnTo>
                  <a:lnTo>
                    <a:pt x="2376" y="228"/>
                  </a:lnTo>
                  <a:lnTo>
                    <a:pt x="2360" y="140"/>
                  </a:lnTo>
                  <a:lnTo>
                    <a:pt x="2360" y="93"/>
                  </a:lnTo>
                  <a:lnTo>
                    <a:pt x="2360" y="51"/>
                  </a:lnTo>
                  <a:lnTo>
                    <a:pt x="2365" y="20"/>
                  </a:lnTo>
                  <a:lnTo>
                    <a:pt x="2376" y="10"/>
                  </a:lnTo>
                  <a:lnTo>
                    <a:pt x="2386" y="5"/>
                  </a:lnTo>
                  <a:lnTo>
                    <a:pt x="2396" y="0"/>
                  </a:lnTo>
                  <a:lnTo>
                    <a:pt x="2401" y="5"/>
                  </a:lnTo>
                  <a:lnTo>
                    <a:pt x="2417" y="15"/>
                  </a:lnTo>
                  <a:lnTo>
                    <a:pt x="2423" y="36"/>
                  </a:lnTo>
                  <a:lnTo>
                    <a:pt x="2428" y="67"/>
                  </a:lnTo>
                  <a:lnTo>
                    <a:pt x="2438" y="130"/>
                  </a:lnTo>
                  <a:lnTo>
                    <a:pt x="2448" y="155"/>
                  </a:lnTo>
                  <a:lnTo>
                    <a:pt x="2464" y="177"/>
                  </a:lnTo>
                  <a:lnTo>
                    <a:pt x="2485" y="187"/>
                  </a:lnTo>
                  <a:lnTo>
                    <a:pt x="2505" y="197"/>
                  </a:lnTo>
                  <a:lnTo>
                    <a:pt x="2547" y="213"/>
                  </a:lnTo>
                  <a:lnTo>
                    <a:pt x="2563" y="218"/>
                  </a:lnTo>
                  <a:lnTo>
                    <a:pt x="2568" y="228"/>
                  </a:lnTo>
                  <a:lnTo>
                    <a:pt x="2573" y="233"/>
                  </a:lnTo>
                  <a:lnTo>
                    <a:pt x="2568" y="245"/>
                  </a:lnTo>
                  <a:lnTo>
                    <a:pt x="2531" y="275"/>
                  </a:lnTo>
                  <a:lnTo>
                    <a:pt x="2490" y="327"/>
                  </a:lnTo>
                  <a:lnTo>
                    <a:pt x="2443" y="390"/>
                  </a:lnTo>
                  <a:lnTo>
                    <a:pt x="2423" y="421"/>
                  </a:lnTo>
                  <a:lnTo>
                    <a:pt x="2406" y="457"/>
                  </a:lnTo>
                  <a:lnTo>
                    <a:pt x="2334" y="650"/>
                  </a:lnTo>
                  <a:lnTo>
                    <a:pt x="2219" y="999"/>
                  </a:lnTo>
                  <a:lnTo>
                    <a:pt x="2163" y="1186"/>
                  </a:lnTo>
                  <a:lnTo>
                    <a:pt x="2116" y="1363"/>
                  </a:lnTo>
                  <a:lnTo>
                    <a:pt x="2084" y="1504"/>
                  </a:lnTo>
                  <a:lnTo>
                    <a:pt x="2074" y="1556"/>
                  </a:lnTo>
                  <a:lnTo>
                    <a:pt x="2074" y="1592"/>
                  </a:lnTo>
                  <a:lnTo>
                    <a:pt x="2074" y="1706"/>
                  </a:lnTo>
                  <a:lnTo>
                    <a:pt x="2074" y="1915"/>
                  </a:lnTo>
                  <a:lnTo>
                    <a:pt x="2069" y="2456"/>
                  </a:lnTo>
                  <a:lnTo>
                    <a:pt x="2053" y="3195"/>
                  </a:lnTo>
                  <a:lnTo>
                    <a:pt x="2064" y="3185"/>
                  </a:lnTo>
                  <a:lnTo>
                    <a:pt x="2089" y="3164"/>
                  </a:lnTo>
                  <a:lnTo>
                    <a:pt x="2106" y="3154"/>
                  </a:lnTo>
                  <a:lnTo>
                    <a:pt x="2116" y="3154"/>
                  </a:lnTo>
                  <a:lnTo>
                    <a:pt x="2121" y="3159"/>
                  </a:lnTo>
                  <a:lnTo>
                    <a:pt x="2121" y="3174"/>
                  </a:lnTo>
                  <a:lnTo>
                    <a:pt x="2111" y="3227"/>
                  </a:lnTo>
                  <a:lnTo>
                    <a:pt x="2089" y="3284"/>
                  </a:lnTo>
                  <a:lnTo>
                    <a:pt x="2069" y="3352"/>
                  </a:lnTo>
                  <a:lnTo>
                    <a:pt x="2064" y="3394"/>
                  </a:lnTo>
                  <a:lnTo>
                    <a:pt x="2064" y="3435"/>
                  </a:lnTo>
                  <a:lnTo>
                    <a:pt x="2058" y="3747"/>
                  </a:lnTo>
                  <a:lnTo>
                    <a:pt x="2043" y="4356"/>
                  </a:lnTo>
                  <a:lnTo>
                    <a:pt x="2032" y="4705"/>
                  </a:lnTo>
                  <a:lnTo>
                    <a:pt x="2022" y="5048"/>
                  </a:lnTo>
                  <a:lnTo>
                    <a:pt x="2001" y="5360"/>
                  </a:lnTo>
                  <a:lnTo>
                    <a:pt x="1981" y="5610"/>
                  </a:lnTo>
                  <a:lnTo>
                    <a:pt x="1954" y="5834"/>
                  </a:lnTo>
                  <a:lnTo>
                    <a:pt x="1923" y="6058"/>
                  </a:lnTo>
                  <a:lnTo>
                    <a:pt x="1850" y="6490"/>
                  </a:lnTo>
                  <a:lnTo>
                    <a:pt x="1819" y="6673"/>
                  </a:lnTo>
                  <a:lnTo>
                    <a:pt x="1799" y="6818"/>
                  </a:lnTo>
                  <a:lnTo>
                    <a:pt x="1794" y="6922"/>
                  </a:lnTo>
                  <a:lnTo>
                    <a:pt x="1794" y="6953"/>
                  </a:lnTo>
                  <a:lnTo>
                    <a:pt x="1804" y="6974"/>
                  </a:lnTo>
                  <a:lnTo>
                    <a:pt x="1819" y="6985"/>
                  </a:lnTo>
                  <a:lnTo>
                    <a:pt x="1834" y="6990"/>
                  </a:lnTo>
                  <a:lnTo>
                    <a:pt x="1866" y="6990"/>
                  </a:lnTo>
                  <a:lnTo>
                    <a:pt x="1876" y="6990"/>
                  </a:lnTo>
                  <a:lnTo>
                    <a:pt x="1887" y="6995"/>
                  </a:lnTo>
                  <a:lnTo>
                    <a:pt x="1897" y="7010"/>
                  </a:lnTo>
                  <a:lnTo>
                    <a:pt x="1902" y="7031"/>
                  </a:lnTo>
                  <a:lnTo>
                    <a:pt x="1897" y="7063"/>
                  </a:lnTo>
                  <a:lnTo>
                    <a:pt x="1887" y="7100"/>
                  </a:lnTo>
                  <a:lnTo>
                    <a:pt x="1866" y="7130"/>
                  </a:lnTo>
                  <a:lnTo>
                    <a:pt x="1845" y="7162"/>
                  </a:lnTo>
                  <a:lnTo>
                    <a:pt x="1804" y="7208"/>
                  </a:lnTo>
                  <a:lnTo>
                    <a:pt x="1782" y="7224"/>
                  </a:lnTo>
                  <a:lnTo>
                    <a:pt x="1076" y="9108"/>
                  </a:lnTo>
                  <a:lnTo>
                    <a:pt x="571" y="11174"/>
                  </a:lnTo>
                  <a:lnTo>
                    <a:pt x="582" y="11201"/>
                  </a:lnTo>
                  <a:lnTo>
                    <a:pt x="587" y="11243"/>
                  </a:lnTo>
                  <a:lnTo>
                    <a:pt x="582" y="11294"/>
                  </a:lnTo>
                  <a:lnTo>
                    <a:pt x="571" y="11331"/>
                  </a:lnTo>
                  <a:lnTo>
                    <a:pt x="550" y="11378"/>
                  </a:lnTo>
                  <a:lnTo>
                    <a:pt x="487" y="11492"/>
                  </a:lnTo>
                  <a:lnTo>
                    <a:pt x="457" y="11550"/>
                  </a:lnTo>
                  <a:lnTo>
                    <a:pt x="431" y="11606"/>
                  </a:lnTo>
                  <a:lnTo>
                    <a:pt x="410" y="11658"/>
                  </a:lnTo>
                  <a:lnTo>
                    <a:pt x="405" y="11695"/>
                  </a:lnTo>
                  <a:lnTo>
                    <a:pt x="399" y="11737"/>
                  </a:lnTo>
                  <a:lnTo>
                    <a:pt x="389" y="11783"/>
                  </a:lnTo>
                  <a:lnTo>
                    <a:pt x="352" y="11898"/>
                  </a:lnTo>
                  <a:lnTo>
                    <a:pt x="312" y="12018"/>
                  </a:lnTo>
                  <a:lnTo>
                    <a:pt x="259" y="12122"/>
                  </a:lnTo>
                  <a:lnTo>
                    <a:pt x="197" y="12220"/>
                  </a:lnTo>
                  <a:lnTo>
                    <a:pt x="113" y="12330"/>
                  </a:lnTo>
                  <a:lnTo>
                    <a:pt x="77" y="12377"/>
                  </a:lnTo>
                  <a:lnTo>
                    <a:pt x="40" y="12408"/>
                  </a:lnTo>
                  <a:lnTo>
                    <a:pt x="25" y="12419"/>
                  </a:lnTo>
                  <a:lnTo>
                    <a:pt x="15" y="12419"/>
                  </a:lnTo>
                  <a:lnTo>
                    <a:pt x="5" y="12419"/>
                  </a:lnTo>
                  <a:lnTo>
                    <a:pt x="0" y="12413"/>
                  </a:lnTo>
                  <a:lnTo>
                    <a:pt x="0" y="12397"/>
                  </a:lnTo>
                  <a:lnTo>
                    <a:pt x="0" y="12377"/>
                  </a:lnTo>
                  <a:lnTo>
                    <a:pt x="10" y="12320"/>
                  </a:lnTo>
                  <a:lnTo>
                    <a:pt x="40" y="12185"/>
                  </a:lnTo>
                  <a:lnTo>
                    <a:pt x="82" y="12055"/>
                  </a:lnTo>
                  <a:lnTo>
                    <a:pt x="103" y="11997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Freeform 1773"/>
            <p:cNvSpPr/>
            <p:nvPr/>
          </p:nvSpPr>
          <p:spPr>
            <a:xfrm flipH="1" rot="7023600">
              <a:off x="-40320" y="892440"/>
              <a:ext cx="30600" cy="57960"/>
            </a:xfrm>
            <a:custGeom>
              <a:avLst/>
              <a:gdLst>
                <a:gd name="textAreaLeft" fmla="*/ 360 w 30600"/>
                <a:gd name="textAreaRight" fmla="*/ 31320 w 3060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97" h="479">
                  <a:moveTo>
                    <a:pt x="265" y="0"/>
                  </a:moveTo>
                  <a:lnTo>
                    <a:pt x="249" y="5"/>
                  </a:lnTo>
                  <a:lnTo>
                    <a:pt x="228" y="10"/>
                  </a:lnTo>
                  <a:lnTo>
                    <a:pt x="202" y="22"/>
                  </a:lnTo>
                  <a:lnTo>
                    <a:pt x="177" y="37"/>
                  </a:lnTo>
                  <a:lnTo>
                    <a:pt x="145" y="57"/>
                  </a:lnTo>
                  <a:lnTo>
                    <a:pt x="120" y="89"/>
                  </a:lnTo>
                  <a:lnTo>
                    <a:pt x="93" y="130"/>
                  </a:lnTo>
                  <a:lnTo>
                    <a:pt x="73" y="182"/>
                  </a:lnTo>
                  <a:lnTo>
                    <a:pt x="52" y="245"/>
                  </a:lnTo>
                  <a:lnTo>
                    <a:pt x="31" y="312"/>
                  </a:lnTo>
                  <a:lnTo>
                    <a:pt x="10" y="375"/>
                  </a:lnTo>
                  <a:lnTo>
                    <a:pt x="5" y="427"/>
                  </a:lnTo>
                  <a:lnTo>
                    <a:pt x="0" y="464"/>
                  </a:lnTo>
                  <a:lnTo>
                    <a:pt x="5" y="474"/>
                  </a:lnTo>
                  <a:lnTo>
                    <a:pt x="10" y="479"/>
                  </a:lnTo>
                  <a:lnTo>
                    <a:pt x="20" y="474"/>
                  </a:lnTo>
                  <a:lnTo>
                    <a:pt x="36" y="464"/>
                  </a:lnTo>
                  <a:lnTo>
                    <a:pt x="73" y="422"/>
                  </a:lnTo>
                  <a:lnTo>
                    <a:pt x="125" y="359"/>
                  </a:lnTo>
                  <a:lnTo>
                    <a:pt x="177" y="282"/>
                  </a:lnTo>
                  <a:lnTo>
                    <a:pt x="228" y="204"/>
                  </a:lnTo>
                  <a:lnTo>
                    <a:pt x="270" y="125"/>
                  </a:lnTo>
                  <a:lnTo>
                    <a:pt x="280" y="89"/>
                  </a:lnTo>
                  <a:lnTo>
                    <a:pt x="290" y="63"/>
                  </a:lnTo>
                  <a:lnTo>
                    <a:pt x="297" y="37"/>
                  </a:lnTo>
                  <a:lnTo>
                    <a:pt x="297" y="16"/>
                  </a:lnTo>
                  <a:lnTo>
                    <a:pt x="285" y="5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1" name="Group 1336"/>
            <p:cNvGrpSpPr/>
            <p:nvPr/>
          </p:nvGrpSpPr>
          <p:grpSpPr>
            <a:xfrm>
              <a:off x="-412920" y="869400"/>
              <a:ext cx="640440" cy="651960"/>
              <a:chOff x="-412920" y="869400"/>
              <a:chExt cx="640440" cy="651960"/>
            </a:xfrm>
          </p:grpSpPr>
          <p:grpSp>
            <p:nvGrpSpPr>
              <p:cNvPr id="3102" name="Group 1337"/>
              <p:cNvGrpSpPr/>
              <p:nvPr/>
            </p:nvGrpSpPr>
            <p:grpSpPr>
              <a:xfrm>
                <a:off x="-412920" y="869400"/>
                <a:ext cx="628560" cy="651960"/>
                <a:chOff x="-412920" y="869400"/>
                <a:chExt cx="628560" cy="651960"/>
              </a:xfrm>
            </p:grpSpPr>
            <p:sp>
              <p:nvSpPr>
                <p:cNvPr id="3103" name="Freeform 1776"/>
                <p:cNvSpPr/>
                <p:nvPr/>
              </p:nvSpPr>
              <p:spPr>
                <a:xfrm flipH="1" rot="6883200">
                  <a:off x="-310680" y="976320"/>
                  <a:ext cx="424440" cy="496440"/>
                </a:xfrm>
                <a:custGeom>
                  <a:avLst/>
                  <a:gdLst>
                    <a:gd name="textAreaLeft" fmla="*/ 360 w 424440"/>
                    <a:gd name="textAreaRight" fmla="*/ 425160 w 424440"/>
                    <a:gd name="textAreaTop" fmla="*/ 0 h 496440"/>
                    <a:gd name="textAreaBottom" fmla="*/ 496800 h 49644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4" name="Freeform 1777"/>
                <p:cNvSpPr/>
                <p:nvPr/>
              </p:nvSpPr>
              <p:spPr>
                <a:xfrm flipH="1" rot="6883200">
                  <a:off x="-254880" y="1098720"/>
                  <a:ext cx="359640" cy="235800"/>
                </a:xfrm>
                <a:custGeom>
                  <a:avLst/>
                  <a:gdLst>
                    <a:gd name="textAreaLeft" fmla="*/ 360 w 359640"/>
                    <a:gd name="textAreaRight" fmla="*/ 360360 w 359640"/>
                    <a:gd name="textAreaTop" fmla="*/ 0 h 235800"/>
                    <a:gd name="textAreaBottom" fmla="*/ 236160 h 23580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5" name="Freeform 1778"/>
                <p:cNvSpPr/>
                <p:nvPr/>
              </p:nvSpPr>
              <p:spPr>
                <a:xfrm flipH="1" rot="6883200">
                  <a:off x="-290520" y="1021680"/>
                  <a:ext cx="523800" cy="293040"/>
                </a:xfrm>
                <a:custGeom>
                  <a:avLst/>
                  <a:gdLst>
                    <a:gd name="textAreaLeft" fmla="*/ 360 w 523800"/>
                    <a:gd name="textAreaRight" fmla="*/ 524520 w 523800"/>
                    <a:gd name="textAreaTop" fmla="*/ 0 h 293040"/>
                    <a:gd name="textAreaBottom" fmla="*/ 293400 h 29304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6" name="Freeform 1779"/>
                <p:cNvSpPr/>
                <p:nvPr/>
              </p:nvSpPr>
              <p:spPr>
                <a:xfrm flipH="1" rot="6883200">
                  <a:off x="-190080" y="1249200"/>
                  <a:ext cx="170280" cy="29160"/>
                </a:xfrm>
                <a:custGeom>
                  <a:avLst/>
                  <a:gdLst>
                    <a:gd name="textAreaLeft" fmla="*/ 360 w 170280"/>
                    <a:gd name="textAreaRight" fmla="*/ 171000 w 17028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7" name="Freeform 1780"/>
                <p:cNvSpPr/>
                <p:nvPr/>
              </p:nvSpPr>
              <p:spPr>
                <a:xfrm flipH="1" rot="6883200">
                  <a:off x="-113400" y="1197720"/>
                  <a:ext cx="219960" cy="108720"/>
                </a:xfrm>
                <a:custGeom>
                  <a:avLst/>
                  <a:gdLst>
                    <a:gd name="textAreaLeft" fmla="*/ 360 w 219960"/>
                    <a:gd name="textAreaRight" fmla="*/ 220680 w 219960"/>
                    <a:gd name="textAreaTop" fmla="*/ 0 h 108720"/>
                    <a:gd name="textAreaBottom" fmla="*/ 109080 h 10872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8" name="Freeform 1781"/>
                <p:cNvSpPr/>
                <p:nvPr/>
              </p:nvSpPr>
              <p:spPr>
                <a:xfrm flipH="1" rot="6883200">
                  <a:off x="-60480" y="1164960"/>
                  <a:ext cx="242640" cy="143640"/>
                </a:xfrm>
                <a:custGeom>
                  <a:avLst/>
                  <a:gdLst>
                    <a:gd name="textAreaLeft" fmla="*/ 360 w 242640"/>
                    <a:gd name="textAreaRight" fmla="*/ 243360 w 242640"/>
                    <a:gd name="textAreaTop" fmla="*/ 0 h 143640"/>
                    <a:gd name="textAreaBottom" fmla="*/ 144000 h 14364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9" name="Freeform 1782"/>
                <p:cNvSpPr/>
                <p:nvPr/>
              </p:nvSpPr>
              <p:spPr>
                <a:xfrm flipH="1" rot="6883200">
                  <a:off x="-214200" y="1278720"/>
                  <a:ext cx="100800" cy="18360"/>
                </a:xfrm>
                <a:custGeom>
                  <a:avLst/>
                  <a:gdLst>
                    <a:gd name="textAreaLeft" fmla="*/ -360 w 100800"/>
                    <a:gd name="textAreaRight" fmla="*/ 100800 w 10080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0" name="Freeform 1783"/>
                <p:cNvSpPr/>
                <p:nvPr/>
              </p:nvSpPr>
              <p:spPr>
                <a:xfrm flipH="1" rot="6883200">
                  <a:off x="-244080" y="1311120"/>
                  <a:ext cx="52560" cy="7200"/>
                </a:xfrm>
                <a:custGeom>
                  <a:avLst/>
                  <a:gdLst>
                    <a:gd name="textAreaLeft" fmla="*/ -360 w 52560"/>
                    <a:gd name="textAreaRight" fmla="*/ 52560 w 525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1" name="Freeform 1784"/>
                <p:cNvSpPr/>
                <p:nvPr/>
              </p:nvSpPr>
              <p:spPr>
                <a:xfrm flipH="1" rot="6883200">
                  <a:off x="-249480" y="1263240"/>
                  <a:ext cx="38520" cy="50760"/>
                </a:xfrm>
                <a:custGeom>
                  <a:avLst/>
                  <a:gdLst>
                    <a:gd name="textAreaLeft" fmla="*/ 360 w 38520"/>
                    <a:gd name="textAreaRight" fmla="*/ 39240 w 3852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2" name="Freeform 1785"/>
                <p:cNvSpPr/>
                <p:nvPr/>
              </p:nvSpPr>
              <p:spPr>
                <a:xfrm flipH="1" rot="6883200">
                  <a:off x="-239400" y="1203480"/>
                  <a:ext cx="67320" cy="93960"/>
                </a:xfrm>
                <a:custGeom>
                  <a:avLst/>
                  <a:gdLst>
                    <a:gd name="textAreaLeft" fmla="*/ 360 w 67320"/>
                    <a:gd name="textAreaRight" fmla="*/ 68040 w 67320"/>
                    <a:gd name="textAreaTop" fmla="*/ 0 h 93960"/>
                    <a:gd name="textAreaBottom" fmla="*/ 94320 h 9396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3" name="Freeform 1786"/>
                <p:cNvSpPr/>
                <p:nvPr/>
              </p:nvSpPr>
              <p:spPr>
                <a:xfrm flipH="1" rot="6883200">
                  <a:off x="-224280" y="1109880"/>
                  <a:ext cx="107640" cy="165240"/>
                </a:xfrm>
                <a:custGeom>
                  <a:avLst/>
                  <a:gdLst>
                    <a:gd name="textAreaLeft" fmla="*/ 360 w 107640"/>
                    <a:gd name="textAreaRight" fmla="*/ 108360 w 107640"/>
                    <a:gd name="textAreaTop" fmla="*/ 0 h 165240"/>
                    <a:gd name="textAreaBottom" fmla="*/ 165600 h 16524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4" name="Freeform 1787"/>
                <p:cNvSpPr/>
                <p:nvPr/>
              </p:nvSpPr>
              <p:spPr>
                <a:xfrm flipH="1" rot="6883200">
                  <a:off x="-193680" y="1009080"/>
                  <a:ext cx="115920" cy="241560"/>
                </a:xfrm>
                <a:custGeom>
                  <a:avLst/>
                  <a:gdLst>
                    <a:gd name="textAreaLeft" fmla="*/ -360 w 115920"/>
                    <a:gd name="textAreaRight" fmla="*/ 115920 w 115920"/>
                    <a:gd name="textAreaTop" fmla="*/ 0 h 241560"/>
                    <a:gd name="textAreaBottom" fmla="*/ 241920 h 24156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5" name="Freeform 1788"/>
                <p:cNvSpPr/>
                <p:nvPr/>
              </p:nvSpPr>
              <p:spPr>
                <a:xfrm flipH="1" rot="6883200">
                  <a:off x="-214200" y="1052280"/>
                  <a:ext cx="12600" cy="96120"/>
                </a:xfrm>
                <a:custGeom>
                  <a:avLst/>
                  <a:gdLst>
                    <a:gd name="textAreaLeft" fmla="*/ 360 w 12600"/>
                    <a:gd name="textAreaRight" fmla="*/ 13320 w 12600"/>
                    <a:gd name="textAreaTop" fmla="*/ 0 h 96120"/>
                    <a:gd name="textAreaBottom" fmla="*/ 96480 h 9612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6" name="Freeform 1789"/>
                <p:cNvSpPr/>
                <p:nvPr/>
              </p:nvSpPr>
              <p:spPr>
                <a:xfrm flipH="1" rot="6883200">
                  <a:off x="-137520" y="917640"/>
                  <a:ext cx="79920" cy="297360"/>
                </a:xfrm>
                <a:custGeom>
                  <a:avLst/>
                  <a:gdLst>
                    <a:gd name="textAreaLeft" fmla="*/ -360 w 79920"/>
                    <a:gd name="textAreaRight" fmla="*/ 79920 w 79920"/>
                    <a:gd name="textAreaTop" fmla="*/ 0 h 297360"/>
                    <a:gd name="textAreaBottom" fmla="*/ 297720 h 29736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7" name="Freeform 1790"/>
                <p:cNvSpPr/>
                <p:nvPr/>
              </p:nvSpPr>
              <p:spPr>
                <a:xfrm flipH="1" rot="6883200">
                  <a:off x="-163440" y="1113840"/>
                  <a:ext cx="59400" cy="47160"/>
                </a:xfrm>
                <a:custGeom>
                  <a:avLst/>
                  <a:gdLst>
                    <a:gd name="textAreaLeft" fmla="*/ 0 w 59400"/>
                    <a:gd name="textAreaRight" fmla="*/ 59400 w 59400"/>
                    <a:gd name="textAreaTop" fmla="*/ 0 h 47160"/>
                    <a:gd name="textAreaBottom" fmla="*/ 47520 h 4716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8" name="Freeform 1791"/>
                <p:cNvSpPr/>
                <p:nvPr/>
              </p:nvSpPr>
              <p:spPr>
                <a:xfrm flipH="1" rot="6883200">
                  <a:off x="-237240" y="1145880"/>
                  <a:ext cx="28800" cy="75600"/>
                </a:xfrm>
                <a:custGeom>
                  <a:avLst/>
                  <a:gdLst>
                    <a:gd name="textAreaLeft" fmla="*/ -360 w 28800"/>
                    <a:gd name="textAreaRight" fmla="*/ 28800 w 28800"/>
                    <a:gd name="textAreaTop" fmla="*/ 0 h 75600"/>
                    <a:gd name="textAreaBottom" fmla="*/ 75960 h 7560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9" name="Freeform 1792"/>
                <p:cNvSpPr/>
                <p:nvPr/>
              </p:nvSpPr>
              <p:spPr>
                <a:xfrm flipH="1" rot="6883200">
                  <a:off x="-145800" y="1276200"/>
                  <a:ext cx="62640" cy="16200"/>
                </a:xfrm>
                <a:custGeom>
                  <a:avLst/>
                  <a:gdLst>
                    <a:gd name="textAreaLeft" fmla="*/ -360 w 62640"/>
                    <a:gd name="textAreaRight" fmla="*/ 62640 w 6264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0" name="Freeform 1793"/>
                <p:cNvSpPr/>
                <p:nvPr/>
              </p:nvSpPr>
              <p:spPr>
                <a:xfrm flipH="1" rot="6883200">
                  <a:off x="-116280" y="1297440"/>
                  <a:ext cx="38520" cy="29160"/>
                </a:xfrm>
                <a:custGeom>
                  <a:avLst/>
                  <a:gdLst>
                    <a:gd name="textAreaLeft" fmla="*/ 360 w 38520"/>
                    <a:gd name="textAreaRight" fmla="*/ 39240 w 385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1" name="Freeform 1794"/>
                <p:cNvSpPr/>
                <p:nvPr/>
              </p:nvSpPr>
              <p:spPr>
                <a:xfrm flipH="1" rot="6883200">
                  <a:off x="-191880" y="1139760"/>
                  <a:ext cx="12600" cy="18360"/>
                </a:xfrm>
                <a:custGeom>
                  <a:avLst/>
                  <a:gdLst>
                    <a:gd name="textAreaLeft" fmla="*/ 360 w 12600"/>
                    <a:gd name="textAreaRight" fmla="*/ 13320 w 1260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2" name="Freeform 1795"/>
                <p:cNvSpPr/>
                <p:nvPr/>
              </p:nvSpPr>
              <p:spPr>
                <a:xfrm flipH="1" rot="6883200">
                  <a:off x="-57960" y="1289520"/>
                  <a:ext cx="11160" cy="10440"/>
                </a:xfrm>
                <a:custGeom>
                  <a:avLst/>
                  <a:gdLst>
                    <a:gd name="textAreaLeft" fmla="*/ 0 w 11160"/>
                    <a:gd name="textAreaRight" fmla="*/ 11160 w 1116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3" name="Freeform 1796"/>
                <p:cNvSpPr/>
                <p:nvPr/>
              </p:nvSpPr>
              <p:spPr>
                <a:xfrm flipH="1" rot="6883200">
                  <a:off x="14400" y="1274760"/>
                  <a:ext cx="12600" cy="1404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4" name="Freeform 1797"/>
                <p:cNvSpPr/>
                <p:nvPr/>
              </p:nvSpPr>
              <p:spPr>
                <a:xfrm flipH="1" rot="6883200">
                  <a:off x="-162000" y="1336680"/>
                  <a:ext cx="9720" cy="6480"/>
                </a:xfrm>
                <a:custGeom>
                  <a:avLst/>
                  <a:gdLst>
                    <a:gd name="textAreaLeft" fmla="*/ 360 w 9720"/>
                    <a:gd name="textAreaRight" fmla="*/ 10440 w 972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5" name="Group 1360"/>
              <p:cNvGrpSpPr/>
              <p:nvPr/>
            </p:nvGrpSpPr>
            <p:grpSpPr>
              <a:xfrm>
                <a:off x="180720" y="994320"/>
                <a:ext cx="46800" cy="49680"/>
                <a:chOff x="180720" y="994320"/>
                <a:chExt cx="46800" cy="49680"/>
              </a:xfrm>
            </p:grpSpPr>
            <p:sp>
              <p:nvSpPr>
                <p:cNvPr id="3126" name="Freeform 1799"/>
                <p:cNvSpPr/>
                <p:nvPr/>
              </p:nvSpPr>
              <p:spPr>
                <a:xfrm flipH="1" rot="11248200">
                  <a:off x="183240" y="996840"/>
                  <a:ext cx="41040" cy="44640"/>
                </a:xfrm>
                <a:custGeom>
                  <a:avLst/>
                  <a:gdLst>
                    <a:gd name="textAreaLeft" fmla="*/ 360 w 41040"/>
                    <a:gd name="textAreaRight" fmla="*/ 41760 w 4104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7" name="Freeform 1800"/>
                <p:cNvSpPr/>
                <p:nvPr/>
              </p:nvSpPr>
              <p:spPr>
                <a:xfrm flipH="1" rot="14895000">
                  <a:off x="185040" y="1004040"/>
                  <a:ext cx="22680" cy="25200"/>
                </a:xfrm>
                <a:custGeom>
                  <a:avLst/>
                  <a:gdLst>
                    <a:gd name="textAreaLeft" fmla="*/ -360 w 22680"/>
                    <a:gd name="textAreaRight" fmla="*/ 22680 w 2268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8" name="Group 1363"/>
            <p:cNvGrpSpPr/>
            <p:nvPr/>
          </p:nvGrpSpPr>
          <p:grpSpPr>
            <a:xfrm>
              <a:off x="38520" y="968760"/>
              <a:ext cx="691200" cy="676080"/>
              <a:chOff x="38520" y="968760"/>
              <a:chExt cx="691200" cy="676080"/>
            </a:xfrm>
          </p:grpSpPr>
          <p:grpSp>
            <p:nvGrpSpPr>
              <p:cNvPr id="3129" name="Group 1364"/>
              <p:cNvGrpSpPr/>
              <p:nvPr/>
            </p:nvGrpSpPr>
            <p:grpSpPr>
              <a:xfrm>
                <a:off x="38520" y="968760"/>
                <a:ext cx="691200" cy="676080"/>
                <a:chOff x="38520" y="968760"/>
                <a:chExt cx="691200" cy="676080"/>
              </a:xfrm>
            </p:grpSpPr>
            <p:sp>
              <p:nvSpPr>
                <p:cNvPr id="3130" name="Freeform 1803"/>
                <p:cNvSpPr/>
                <p:nvPr/>
              </p:nvSpPr>
              <p:spPr>
                <a:xfrm flipH="1" rot="2120400">
                  <a:off x="167760" y="1106280"/>
                  <a:ext cx="478440" cy="440640"/>
                </a:xfrm>
                <a:custGeom>
                  <a:avLst/>
                  <a:gdLst>
                    <a:gd name="textAreaLeft" fmla="*/ -360 w 478440"/>
                    <a:gd name="textAreaRight" fmla="*/ 478440 w 47844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1" name="Freeform 1804"/>
                <p:cNvSpPr/>
                <p:nvPr/>
              </p:nvSpPr>
              <p:spPr>
                <a:xfrm flipH="1" rot="2120400">
                  <a:off x="197280" y="1197360"/>
                  <a:ext cx="405720" cy="209160"/>
                </a:xfrm>
                <a:custGeom>
                  <a:avLst/>
                  <a:gdLst>
                    <a:gd name="textAreaLeft" fmla="*/ -360 w 405720"/>
                    <a:gd name="textAreaRight" fmla="*/ 405720 w 405720"/>
                    <a:gd name="textAreaTop" fmla="*/ 0 h 209160"/>
                    <a:gd name="textAreaBottom" fmla="*/ 209520 h 20916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2" name="Freeform 1805"/>
                <p:cNvSpPr/>
                <p:nvPr/>
              </p:nvSpPr>
              <p:spPr>
                <a:xfrm flipH="1" rot="2120400">
                  <a:off x="59040" y="1115280"/>
                  <a:ext cx="590400" cy="260280"/>
                </a:xfrm>
                <a:custGeom>
                  <a:avLst/>
                  <a:gdLst>
                    <a:gd name="textAreaLeft" fmla="*/ 360 w 590400"/>
                    <a:gd name="textAreaRight" fmla="*/ 591120 w 59040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3" name="Freeform 1806"/>
                <p:cNvSpPr/>
                <p:nvPr/>
              </p:nvSpPr>
              <p:spPr>
                <a:xfrm flipH="1" rot="2120400">
                  <a:off x="352440" y="1331280"/>
                  <a:ext cx="191880" cy="25560"/>
                </a:xfrm>
                <a:custGeom>
                  <a:avLst/>
                  <a:gdLst>
                    <a:gd name="textAreaLeft" fmla="*/ -360 w 191880"/>
                    <a:gd name="textAreaRight" fmla="*/ 191880 w 1918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4" name="Freeform 1807"/>
                <p:cNvSpPr/>
                <p:nvPr/>
              </p:nvSpPr>
              <p:spPr>
                <a:xfrm flipH="1" rot="2120400">
                  <a:off x="318960" y="1198080"/>
                  <a:ext cx="248040" cy="96120"/>
                </a:xfrm>
                <a:custGeom>
                  <a:avLst/>
                  <a:gdLst>
                    <a:gd name="textAreaLeft" fmla="*/ -360 w 248040"/>
                    <a:gd name="textAreaRight" fmla="*/ 248040 w 248040"/>
                    <a:gd name="textAreaTop" fmla="*/ 0 h 96120"/>
                    <a:gd name="textAreaBottom" fmla="*/ 96480 h 9612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5" name="Freeform 1808"/>
                <p:cNvSpPr/>
                <p:nvPr/>
              </p:nvSpPr>
              <p:spPr>
                <a:xfrm flipH="1" rot="2120400">
                  <a:off x="296640" y="1118880"/>
                  <a:ext cx="273600" cy="127080"/>
                </a:xfrm>
                <a:custGeom>
                  <a:avLst/>
                  <a:gdLst>
                    <a:gd name="textAreaLeft" fmla="*/ 360 w 273600"/>
                    <a:gd name="textAreaRight" fmla="*/ 274320 w 273600"/>
                    <a:gd name="textAreaTop" fmla="*/ 0 h 127080"/>
                    <a:gd name="textAreaBottom" fmla="*/ 127440 h 12708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6" name="Freeform 1809"/>
                <p:cNvSpPr/>
                <p:nvPr/>
              </p:nvSpPr>
              <p:spPr>
                <a:xfrm flipH="1" rot="2120400">
                  <a:off x="410760" y="1397160"/>
                  <a:ext cx="113760" cy="16200"/>
                </a:xfrm>
                <a:custGeom>
                  <a:avLst/>
                  <a:gdLst>
                    <a:gd name="textAreaLeft" fmla="*/ 360 w 113760"/>
                    <a:gd name="textAreaRight" fmla="*/ 114480 w 11376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7" name="Freeform 1810"/>
                <p:cNvSpPr/>
                <p:nvPr/>
              </p:nvSpPr>
              <p:spPr>
                <a:xfrm flipH="1" rot="2120400">
                  <a:off x="461160" y="1460160"/>
                  <a:ext cx="59400" cy="6120"/>
                </a:xfrm>
                <a:custGeom>
                  <a:avLst/>
                  <a:gdLst>
                    <a:gd name="textAreaLeft" fmla="*/ -360 w 59400"/>
                    <a:gd name="textAreaRight" fmla="*/ 59400 w 5940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8" name="Freeform 1811"/>
                <p:cNvSpPr/>
                <p:nvPr/>
              </p:nvSpPr>
              <p:spPr>
                <a:xfrm flipH="1" rot="2120400">
                  <a:off x="441000" y="1444680"/>
                  <a:ext cx="43560" cy="45000"/>
                </a:xfrm>
                <a:custGeom>
                  <a:avLst/>
                  <a:gdLst>
                    <a:gd name="textAreaLeft" fmla="*/ 0 w 43560"/>
                    <a:gd name="textAreaRight" fmla="*/ 43560 w 4356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9" name="Freeform 1812"/>
                <p:cNvSpPr/>
                <p:nvPr/>
              </p:nvSpPr>
              <p:spPr>
                <a:xfrm flipH="1" rot="2120400">
                  <a:off x="386640" y="1391760"/>
                  <a:ext cx="75960" cy="8352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83520"/>
                    <a:gd name="textAreaBottom" fmla="*/ 83880 h 8352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0" name="Freeform 1813"/>
                <p:cNvSpPr/>
                <p:nvPr/>
              </p:nvSpPr>
              <p:spPr>
                <a:xfrm flipH="1" rot="2120400">
                  <a:off x="306360" y="1311120"/>
                  <a:ext cx="122040" cy="146520"/>
                </a:xfrm>
                <a:custGeom>
                  <a:avLst/>
                  <a:gdLst>
                    <a:gd name="textAreaLeft" fmla="*/ -360 w 122040"/>
                    <a:gd name="textAreaRight" fmla="*/ 122040 w 12204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1" name="Freeform 1814"/>
                <p:cNvSpPr/>
                <p:nvPr/>
              </p:nvSpPr>
              <p:spPr>
                <a:xfrm flipH="1" rot="2120400">
                  <a:off x="239400" y="1226880"/>
                  <a:ext cx="130680" cy="214200"/>
                </a:xfrm>
                <a:custGeom>
                  <a:avLst/>
                  <a:gdLst>
                    <a:gd name="textAreaLeft" fmla="*/ -360 w 130680"/>
                    <a:gd name="textAreaRight" fmla="*/ 130680 w 13068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2" name="Freeform 1815"/>
                <p:cNvSpPr/>
                <p:nvPr/>
              </p:nvSpPr>
              <p:spPr>
                <a:xfrm flipH="1" rot="2120400">
                  <a:off x="260280" y="1349280"/>
                  <a:ext cx="14040" cy="85320"/>
                </a:xfrm>
                <a:custGeom>
                  <a:avLst/>
                  <a:gdLst>
                    <a:gd name="textAreaLeft" fmla="*/ -360 w 14040"/>
                    <a:gd name="textAreaRight" fmla="*/ 14040 w 1404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3" name="Freeform 1816"/>
                <p:cNvSpPr/>
                <p:nvPr/>
              </p:nvSpPr>
              <p:spPr>
                <a:xfrm flipH="1" rot="2120400">
                  <a:off x="195480" y="1147680"/>
                  <a:ext cx="90360" cy="263520"/>
                </a:xfrm>
                <a:custGeom>
                  <a:avLst/>
                  <a:gdLst>
                    <a:gd name="textAreaLeft" fmla="*/ -360 w 90360"/>
                    <a:gd name="textAreaRight" fmla="*/ 90360 w 9036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4" name="Freeform 1817"/>
                <p:cNvSpPr/>
                <p:nvPr/>
              </p:nvSpPr>
              <p:spPr>
                <a:xfrm flipH="1" rot="2120400">
                  <a:off x="278280" y="1313280"/>
                  <a:ext cx="66960" cy="41760"/>
                </a:xfrm>
                <a:custGeom>
                  <a:avLst/>
                  <a:gdLst>
                    <a:gd name="textAreaLeft" fmla="*/ 360 w 66960"/>
                    <a:gd name="textAreaRight" fmla="*/ 67680 w 6696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5" name="Freeform 1818"/>
                <p:cNvSpPr/>
                <p:nvPr/>
              </p:nvSpPr>
              <p:spPr>
                <a:xfrm flipH="1" rot="2120400">
                  <a:off x="336960" y="1396800"/>
                  <a:ext cx="32400" cy="67320"/>
                </a:xfrm>
                <a:custGeom>
                  <a:avLst/>
                  <a:gdLst>
                    <a:gd name="textAreaLeft" fmla="*/ 360 w 32400"/>
                    <a:gd name="textAreaRight" fmla="*/ 33120 w 32400"/>
                    <a:gd name="textAreaTop" fmla="*/ 0 h 67320"/>
                    <a:gd name="textAreaBottom" fmla="*/ 67680 h 6732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6" name="Freeform 1819"/>
                <p:cNvSpPr/>
                <p:nvPr/>
              </p:nvSpPr>
              <p:spPr>
                <a:xfrm flipH="1" rot="2120400">
                  <a:off x="432720" y="1351800"/>
                  <a:ext cx="70560" cy="14040"/>
                </a:xfrm>
                <a:custGeom>
                  <a:avLst/>
                  <a:gdLst>
                    <a:gd name="textAreaLeft" fmla="*/ 360 w 70560"/>
                    <a:gd name="textAreaRight" fmla="*/ 71280 w 7056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7" name="Freeform 1820"/>
                <p:cNvSpPr/>
                <p:nvPr/>
              </p:nvSpPr>
              <p:spPr>
                <a:xfrm flipH="1" rot="2120400">
                  <a:off x="477720" y="1337760"/>
                  <a:ext cx="43560" cy="25560"/>
                </a:xfrm>
                <a:custGeom>
                  <a:avLst/>
                  <a:gdLst>
                    <a:gd name="textAreaLeft" fmla="*/ 0 w 43560"/>
                    <a:gd name="textAreaRight" fmla="*/ 43560 w 4356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8" name="Freeform 1821"/>
                <p:cNvSpPr/>
                <p:nvPr/>
              </p:nvSpPr>
              <p:spPr>
                <a:xfrm flipH="1" rot="2120400">
                  <a:off x="313560" y="1377720"/>
                  <a:ext cx="14040" cy="15840"/>
                </a:xfrm>
                <a:custGeom>
                  <a:avLst/>
                  <a:gdLst>
                    <a:gd name="textAreaLeft" fmla="*/ -360 w 14040"/>
                    <a:gd name="textAreaRight" fmla="*/ 14040 w 1404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9" name="Freeform 1822"/>
                <p:cNvSpPr/>
                <p:nvPr/>
              </p:nvSpPr>
              <p:spPr>
                <a:xfrm flipH="1" rot="2120400">
                  <a:off x="478080" y="1299600"/>
                  <a:ext cx="12600" cy="936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Freeform 1823"/>
                <p:cNvSpPr/>
                <p:nvPr/>
              </p:nvSpPr>
              <p:spPr>
                <a:xfrm flipH="1" rot="2120400">
                  <a:off x="470160" y="1226160"/>
                  <a:ext cx="14040" cy="12600"/>
                </a:xfrm>
                <a:custGeom>
                  <a:avLst/>
                  <a:gdLst>
                    <a:gd name="textAreaLeft" fmla="*/ -360 w 14040"/>
                    <a:gd name="textAreaRight" fmla="*/ 14040 w 1404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1" name="Freeform 1824"/>
                <p:cNvSpPr/>
                <p:nvPr/>
              </p:nvSpPr>
              <p:spPr>
                <a:xfrm flipH="1" rot="2120400">
                  <a:off x="517680" y="1411920"/>
                  <a:ext cx="10440" cy="6120"/>
                </a:xfrm>
                <a:custGeom>
                  <a:avLst/>
                  <a:gdLst>
                    <a:gd name="textAreaLeft" fmla="*/ -360 w 10440"/>
                    <a:gd name="textAreaRight" fmla="*/ 10440 w 1044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2" name="Group 1387"/>
              <p:cNvGrpSpPr/>
              <p:nvPr/>
            </p:nvGrpSpPr>
            <p:grpSpPr>
              <a:xfrm>
                <a:off x="193680" y="981720"/>
                <a:ext cx="59040" cy="50040"/>
                <a:chOff x="193680" y="981720"/>
                <a:chExt cx="59040" cy="50040"/>
              </a:xfrm>
            </p:grpSpPr>
            <p:sp>
              <p:nvSpPr>
                <p:cNvPr id="3153" name="Freeform 1826"/>
                <p:cNvSpPr/>
                <p:nvPr/>
              </p:nvSpPr>
              <p:spPr>
                <a:xfrm flipH="1" rot="6484800">
                  <a:off x="204840" y="981360"/>
                  <a:ext cx="36360" cy="5040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4" name="Freeform 1827"/>
                <p:cNvSpPr/>
                <p:nvPr/>
              </p:nvSpPr>
              <p:spPr>
                <a:xfrm flipH="1" rot="10131600">
                  <a:off x="207000" y="1001520"/>
                  <a:ext cx="25560" cy="22320"/>
                </a:xfrm>
                <a:custGeom>
                  <a:avLst/>
                  <a:gdLst>
                    <a:gd name="textAreaLeft" fmla="*/ -360 w 25560"/>
                    <a:gd name="textAreaRight" fmla="*/ 25560 w 25560"/>
                    <a:gd name="textAreaTop" fmla="*/ 0 h 22320"/>
                    <a:gd name="textAreaBottom" fmla="*/ 22320 h 2232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55" name="Group 1390"/>
            <p:cNvGrpSpPr/>
            <p:nvPr/>
          </p:nvGrpSpPr>
          <p:grpSpPr>
            <a:xfrm>
              <a:off x="84600" y="355320"/>
              <a:ext cx="928080" cy="818280"/>
              <a:chOff x="84600" y="355320"/>
              <a:chExt cx="928080" cy="818280"/>
            </a:xfrm>
          </p:grpSpPr>
          <p:grpSp>
            <p:nvGrpSpPr>
              <p:cNvPr id="3156" name="Group 1391"/>
              <p:cNvGrpSpPr/>
              <p:nvPr/>
            </p:nvGrpSpPr>
            <p:grpSpPr>
              <a:xfrm>
                <a:off x="84600" y="355320"/>
                <a:ext cx="597240" cy="652320"/>
                <a:chOff x="84600" y="355320"/>
                <a:chExt cx="597240" cy="652320"/>
              </a:xfrm>
            </p:grpSpPr>
            <p:grpSp>
              <p:nvGrpSpPr>
                <p:cNvPr id="3157" name="Group 1392"/>
                <p:cNvGrpSpPr/>
                <p:nvPr/>
              </p:nvGrpSpPr>
              <p:grpSpPr>
                <a:xfrm>
                  <a:off x="84600" y="355320"/>
                  <a:ext cx="597240" cy="644400"/>
                  <a:chOff x="84600" y="355320"/>
                  <a:chExt cx="597240" cy="644400"/>
                </a:xfrm>
              </p:grpSpPr>
              <p:sp>
                <p:nvSpPr>
                  <p:cNvPr id="3158" name="Freeform 1831"/>
                  <p:cNvSpPr/>
                  <p:nvPr/>
                </p:nvSpPr>
                <p:spPr>
                  <a:xfrm rot="7164000">
                    <a:off x="187920" y="406800"/>
                    <a:ext cx="390240" cy="465480"/>
                  </a:xfrm>
                  <a:custGeom>
                    <a:avLst/>
                    <a:gdLst>
                      <a:gd name="textAreaLeft" fmla="*/ 0 w 390240"/>
                      <a:gd name="textAreaRight" fmla="*/ 390600 w 390240"/>
                      <a:gd name="textAreaTop" fmla="*/ 0 h 465480"/>
                      <a:gd name="textAreaBottom" fmla="*/ 465840 h 465480"/>
                    </a:gdLst>
                    <a:ahLst/>
                    <a:rect l="textAreaLeft" t="textAreaTop" r="textAreaRight" b="textAreaBottom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9" name="Freeform 1832"/>
                  <p:cNvSpPr/>
                  <p:nvPr/>
                </p:nvSpPr>
                <p:spPr>
                  <a:xfrm rot="7164000">
                    <a:off x="225000" y="551160"/>
                    <a:ext cx="330840" cy="221400"/>
                  </a:xfrm>
                  <a:custGeom>
                    <a:avLst/>
                    <a:gdLst>
                      <a:gd name="textAreaLeft" fmla="*/ 0 w 330840"/>
                      <a:gd name="textAreaRight" fmla="*/ 331200 w 330840"/>
                      <a:gd name="textAreaTop" fmla="*/ 0 h 221400"/>
                      <a:gd name="textAreaBottom" fmla="*/ 221760 h 221400"/>
                    </a:gdLst>
                    <a:ahLst/>
                    <a:rect l="textAreaLeft" t="textAreaTop" r="textAreaRight" b="textAreaBottom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0" name="Freeform 1833"/>
                  <p:cNvSpPr/>
                  <p:nvPr/>
                </p:nvSpPr>
                <p:spPr>
                  <a:xfrm rot="7164000">
                    <a:off x="138600" y="584280"/>
                    <a:ext cx="481680" cy="275400"/>
                  </a:xfrm>
                  <a:custGeom>
                    <a:avLst/>
                    <a:gdLst>
                      <a:gd name="textAreaLeft" fmla="*/ 0 w 481680"/>
                      <a:gd name="textAreaRight" fmla="*/ 482040 w 481680"/>
                      <a:gd name="textAreaTop" fmla="*/ 0 h 275400"/>
                      <a:gd name="textAreaBottom" fmla="*/ 275760 h 275400"/>
                    </a:gdLst>
                    <a:ahLst/>
                    <a:rect l="textAreaLeft" t="textAreaTop" r="textAreaRight" b="textAreaBottom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1" name="Freeform 1834"/>
                  <p:cNvSpPr/>
                  <p:nvPr/>
                </p:nvSpPr>
                <p:spPr>
                  <a:xfrm rot="7164000">
                    <a:off x="331200" y="599760"/>
                    <a:ext cx="156600" cy="27720"/>
                  </a:xfrm>
                  <a:custGeom>
                    <a:avLst/>
                    <a:gdLst>
                      <a:gd name="textAreaLeft" fmla="*/ 0 w 156600"/>
                      <a:gd name="textAreaRight" fmla="*/ 156960 w 156600"/>
                      <a:gd name="textAreaTop" fmla="*/ 0 h 27720"/>
                      <a:gd name="textAreaBottom" fmla="*/ 28080 h 27720"/>
                    </a:gdLst>
                    <a:ahLst/>
                    <a:rect l="textAreaLeft" t="textAreaTop" r="textAreaRight" b="textAreaBottom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2" name="Freeform 1835"/>
                  <p:cNvSpPr/>
                  <p:nvPr/>
                </p:nvSpPr>
                <p:spPr>
                  <a:xfrm rot="7164000">
                    <a:off x="355320" y="645480"/>
                    <a:ext cx="202320" cy="101520"/>
                  </a:xfrm>
                  <a:custGeom>
                    <a:avLst/>
                    <a:gdLst>
                      <a:gd name="textAreaLeft" fmla="*/ 0 w 202320"/>
                      <a:gd name="textAreaRight" fmla="*/ 202680 w 202320"/>
                      <a:gd name="textAreaTop" fmla="*/ 0 h 101520"/>
                      <a:gd name="textAreaBottom" fmla="*/ 101880 h 101520"/>
                    </a:gdLst>
                    <a:ahLst/>
                    <a:rect l="textAreaLeft" t="textAreaTop" r="textAreaRight" b="textAreaBottom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3" name="Freeform 1836"/>
                  <p:cNvSpPr/>
                  <p:nvPr/>
                </p:nvSpPr>
                <p:spPr>
                  <a:xfrm rot="7164000">
                    <a:off x="369000" y="685440"/>
                    <a:ext cx="223200" cy="134280"/>
                  </a:xfrm>
                  <a:custGeom>
                    <a:avLst/>
                    <a:gdLst>
                      <a:gd name="textAreaLeft" fmla="*/ 0 w 223200"/>
                      <a:gd name="textAreaRight" fmla="*/ 223560 w 223200"/>
                      <a:gd name="textAreaTop" fmla="*/ 0 h 134280"/>
                      <a:gd name="textAreaBottom" fmla="*/ 134640 h 134280"/>
                    </a:gdLst>
                    <a:ahLst/>
                    <a:rect l="textAreaLeft" t="textAreaTop" r="textAreaRight" b="textAreaBottom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4" name="Freeform 1837"/>
                  <p:cNvSpPr/>
                  <p:nvPr/>
                </p:nvSpPr>
                <p:spPr>
                  <a:xfrm rot="7164000">
                    <a:off x="348120" y="547920"/>
                    <a:ext cx="92880" cy="17280"/>
                  </a:xfrm>
                  <a:custGeom>
                    <a:avLst/>
                    <a:gdLst>
                      <a:gd name="textAreaLeft" fmla="*/ 0 w 92880"/>
                      <a:gd name="textAreaRight" fmla="*/ 93240 w 92880"/>
                      <a:gd name="textAreaTop" fmla="*/ 0 h 17280"/>
                      <a:gd name="textAreaBottom" fmla="*/ 17280 h 17280"/>
                    </a:gdLst>
                    <a:ahLst/>
                    <a:rect l="textAreaLeft" t="textAreaTop" r="textAreaRight" b="textAreaBottom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5" name="Freeform 1838"/>
                  <p:cNvSpPr/>
                  <p:nvPr/>
                </p:nvSpPr>
                <p:spPr>
                  <a:xfrm rot="7164000">
                    <a:off x="360360" y="498240"/>
                    <a:ext cx="48600" cy="6480"/>
                  </a:xfrm>
                  <a:custGeom>
                    <a:avLst/>
                    <a:gdLst>
                      <a:gd name="textAreaLeft" fmla="*/ 0 w 48600"/>
                      <a:gd name="textAreaRight" fmla="*/ 48960 w 48600"/>
                      <a:gd name="textAreaTop" fmla="*/ 0 h 6480"/>
                      <a:gd name="textAreaBottom" fmla="*/ 6840 h 6480"/>
                    </a:gdLst>
                    <a:ahLst/>
                    <a:rect l="textAreaLeft" t="textAreaTop" r="textAreaRight" b="textAreaBottom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6" name="Freeform 1839"/>
                  <p:cNvSpPr/>
                  <p:nvPr/>
                </p:nvSpPr>
                <p:spPr>
                  <a:xfrm rot="7164000">
                    <a:off x="340920" y="482400"/>
                    <a:ext cx="35280" cy="47520"/>
                  </a:xfrm>
                  <a:custGeom>
                    <a:avLst/>
                    <a:gdLst>
                      <a:gd name="textAreaLeft" fmla="*/ 0 w 35280"/>
                      <a:gd name="textAreaRight" fmla="*/ 35640 w 35280"/>
                      <a:gd name="textAreaTop" fmla="*/ 0 h 47520"/>
                      <a:gd name="textAreaBottom" fmla="*/ 47880 h 47520"/>
                    </a:gdLst>
                    <a:ahLst/>
                    <a:rect l="textAreaLeft" t="textAreaTop" r="textAreaRight" b="textAreaBottom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7" name="Freeform 1840"/>
                  <p:cNvSpPr/>
                  <p:nvPr/>
                </p:nvSpPr>
                <p:spPr>
                  <a:xfrm rot="7164000">
                    <a:off x="311760" y="501840"/>
                    <a:ext cx="61920" cy="87840"/>
                  </a:xfrm>
                  <a:custGeom>
                    <a:avLst/>
                    <a:gdLst>
                      <a:gd name="textAreaLeft" fmla="*/ 0 w 61920"/>
                      <a:gd name="textAreaRight" fmla="*/ 62280 w 61920"/>
                      <a:gd name="textAreaTop" fmla="*/ 0 h 87840"/>
                      <a:gd name="textAreaBottom" fmla="*/ 88200 h 87840"/>
                    </a:gdLst>
                    <a:ahLst/>
                    <a:rect l="textAreaLeft" t="textAreaTop" r="textAreaRight" b="textAreaBottom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8" name="Freeform 1841"/>
                  <p:cNvSpPr/>
                  <p:nvPr/>
                </p:nvSpPr>
                <p:spPr>
                  <a:xfrm rot="7164000">
                    <a:off x="269640" y="524880"/>
                    <a:ext cx="99000" cy="154800"/>
                  </a:xfrm>
                  <a:custGeom>
                    <a:avLst/>
                    <a:gdLst>
                      <a:gd name="textAreaLeft" fmla="*/ 0 w 99000"/>
                      <a:gd name="textAreaRight" fmla="*/ 99360 w 99000"/>
                      <a:gd name="textAreaTop" fmla="*/ 0 h 154800"/>
                      <a:gd name="textAreaBottom" fmla="*/ 155160 h 154800"/>
                    </a:gdLst>
                    <a:ahLst/>
                    <a:rect l="textAreaLeft" t="textAreaTop" r="textAreaRight" b="textAreaBottom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9" name="Freeform 1842"/>
                  <p:cNvSpPr/>
                  <p:nvPr/>
                </p:nvSpPr>
                <p:spPr>
                  <a:xfrm rot="7164000">
                    <a:off x="238320" y="549000"/>
                    <a:ext cx="106560" cy="226440"/>
                  </a:xfrm>
                  <a:custGeom>
                    <a:avLst/>
                    <a:gdLst>
                      <a:gd name="textAreaLeft" fmla="*/ 0 w 106560"/>
                      <a:gd name="textAreaRight" fmla="*/ 106920 w 10656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0" name="Freeform 1843"/>
                  <p:cNvSpPr/>
                  <p:nvPr/>
                </p:nvSpPr>
                <p:spPr>
                  <a:xfrm rot="7164000">
                    <a:off x="223920" y="578160"/>
                    <a:ext cx="11520" cy="9000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90000"/>
                      <a:gd name="textAreaBottom" fmla="*/ 90000 h 90000"/>
                    </a:gdLst>
                    <a:ahLst/>
                    <a:rect l="textAreaLeft" t="textAreaTop" r="textAreaRight" b="textAreaBottom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1" name="Freeform 1844"/>
                  <p:cNvSpPr/>
                  <p:nvPr/>
                </p:nvSpPr>
                <p:spPr>
                  <a:xfrm rot="7164000">
                    <a:off x="227880" y="585720"/>
                    <a:ext cx="73440" cy="279000"/>
                  </a:xfrm>
                  <a:custGeom>
                    <a:avLst/>
                    <a:gdLst>
                      <a:gd name="textAreaLeft" fmla="*/ 0 w 73440"/>
                      <a:gd name="textAreaRight" fmla="*/ 73800 w 73440"/>
                      <a:gd name="textAreaTop" fmla="*/ 0 h 279000"/>
                      <a:gd name="textAreaBottom" fmla="*/ 279360 h 279000"/>
                    </a:gdLst>
                    <a:ahLst/>
                    <a:rect l="textAreaLeft" t="textAreaTop" r="textAreaRight" b="textAreaBottom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2" name="Freeform 1845"/>
                  <p:cNvSpPr/>
                  <p:nvPr/>
                </p:nvSpPr>
                <p:spPr>
                  <a:xfrm rot="7164000">
                    <a:off x="270360" y="637920"/>
                    <a:ext cx="54360" cy="44280"/>
                  </a:xfrm>
                  <a:custGeom>
                    <a:avLst/>
                    <a:gdLst>
                      <a:gd name="textAreaLeft" fmla="*/ 0 w 54360"/>
                      <a:gd name="textAreaRight" fmla="*/ 54720 w 543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3" name="Freeform 1846"/>
                  <p:cNvSpPr/>
                  <p:nvPr/>
                </p:nvSpPr>
                <p:spPr>
                  <a:xfrm rot="7164000">
                    <a:off x="270000" y="532080"/>
                    <a:ext cx="26280" cy="71280"/>
                  </a:xfrm>
                  <a:custGeom>
                    <a:avLst/>
                    <a:gdLst>
                      <a:gd name="textAreaLeft" fmla="*/ 0 w 26280"/>
                      <a:gd name="textAreaRight" fmla="*/ 26640 w 26280"/>
                      <a:gd name="textAreaTop" fmla="*/ 0 h 71280"/>
                      <a:gd name="textAreaBottom" fmla="*/ 71640 h 71280"/>
                    </a:gdLst>
                    <a:ahLst/>
                    <a:rect l="textAreaLeft" t="textAreaTop" r="textAreaRight" b="textAreaBottom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4" name="Freeform 1847"/>
                  <p:cNvSpPr/>
                  <p:nvPr/>
                </p:nvSpPr>
                <p:spPr>
                  <a:xfrm rot="7164000">
                    <a:off x="389520" y="588240"/>
                    <a:ext cx="57600" cy="15120"/>
                  </a:xfrm>
                  <a:custGeom>
                    <a:avLst/>
                    <a:gdLst>
                      <a:gd name="textAreaLeft" fmla="*/ 0 w 57600"/>
                      <a:gd name="textAreaRight" fmla="*/ 57960 w 57600"/>
                      <a:gd name="textAreaTop" fmla="*/ 0 h 15120"/>
                      <a:gd name="textAreaBottom" fmla="*/ 15480 h 15120"/>
                    </a:gdLst>
                    <a:ahLst/>
                    <a:rect l="textAreaLeft" t="textAreaTop" r="textAreaRight" b="textAreaBottom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5" name="Freeform 1848"/>
                  <p:cNvSpPr/>
                  <p:nvPr/>
                </p:nvSpPr>
                <p:spPr>
                  <a:xfrm rot="7164000">
                    <a:off x="432000" y="579960"/>
                    <a:ext cx="35280" cy="27360"/>
                  </a:xfrm>
                  <a:custGeom>
                    <a:avLst/>
                    <a:gdLst>
                      <a:gd name="textAreaLeft" fmla="*/ 0 w 35280"/>
                      <a:gd name="textAreaRight" fmla="*/ 35640 w 352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6" name="Freeform 1849"/>
                  <p:cNvSpPr/>
                  <p:nvPr/>
                </p:nvSpPr>
                <p:spPr>
                  <a:xfrm rot="7164000">
                    <a:off x="272520" y="605520"/>
                    <a:ext cx="11520" cy="1692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16920"/>
                      <a:gd name="textAreaBottom" fmla="*/ 17280 h 16920"/>
                    </a:gdLst>
                    <a:ahLst/>
                    <a:rect l="textAreaLeft" t="textAreaTop" r="textAreaRight" b="textAreaBottom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7" name="Freeform 1850"/>
                  <p:cNvSpPr/>
                  <p:nvPr/>
                </p:nvSpPr>
                <p:spPr>
                  <a:xfrm rot="7164000">
                    <a:off x="456120" y="631080"/>
                    <a:ext cx="10080" cy="100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8" name="Freeform 1851"/>
                  <p:cNvSpPr/>
                  <p:nvPr/>
                </p:nvSpPr>
                <p:spPr>
                  <a:xfrm rot="7164000">
                    <a:off x="486360" y="691560"/>
                    <a:ext cx="11520" cy="1368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13680"/>
                      <a:gd name="textAreaBottom" fmla="*/ 14040 h 13680"/>
                    </a:gdLst>
                    <a:ahLst/>
                    <a:rect l="textAreaLeft" t="textAreaTop" r="textAreaRight" b="textAreaBottom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9" name="Freeform 1852"/>
                  <p:cNvSpPr/>
                  <p:nvPr/>
                </p:nvSpPr>
                <p:spPr>
                  <a:xfrm rot="7164000">
                    <a:off x="432360" y="530640"/>
                    <a:ext cx="9000" cy="6120"/>
                  </a:xfrm>
                  <a:custGeom>
                    <a:avLst/>
                    <a:gdLst>
                      <a:gd name="textAreaLeft" fmla="*/ 0 w 9000"/>
                      <a:gd name="textAreaRight" fmla="*/ 9360 w 900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0" name="Group 1415"/>
                <p:cNvGrpSpPr/>
                <p:nvPr/>
              </p:nvGrpSpPr>
              <p:grpSpPr>
                <a:xfrm>
                  <a:off x="368280" y="951120"/>
                  <a:ext cx="56520" cy="56520"/>
                  <a:chOff x="368280" y="951120"/>
                  <a:chExt cx="56520" cy="56520"/>
                </a:xfrm>
              </p:grpSpPr>
              <p:sp>
                <p:nvSpPr>
                  <p:cNvPr id="3181" name="Freeform 1854"/>
                  <p:cNvSpPr/>
                  <p:nvPr/>
                </p:nvSpPr>
                <p:spPr>
                  <a:xfrm rot="2799000">
                    <a:off x="377280" y="958320"/>
                    <a:ext cx="38520" cy="4140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41400"/>
                      <a:gd name="textAreaBottom" fmla="*/ 41760 h 41400"/>
                    </a:gdLst>
                    <a:ahLst/>
                    <a:rect l="textAreaLeft" t="textAreaTop" r="textAreaRight" b="textAreaBottom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2" name="Freeform 1855"/>
                  <p:cNvSpPr/>
                  <p:nvPr/>
                </p:nvSpPr>
                <p:spPr>
                  <a:xfrm rot="20752800">
                    <a:off x="380160" y="962640"/>
                    <a:ext cx="20880" cy="2340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83" name="Group 1418"/>
              <p:cNvGrpSpPr/>
              <p:nvPr/>
            </p:nvGrpSpPr>
            <p:grpSpPr>
              <a:xfrm>
                <a:off x="383760" y="695520"/>
                <a:ext cx="628920" cy="478080"/>
                <a:chOff x="383760" y="695520"/>
                <a:chExt cx="628920" cy="478080"/>
              </a:xfrm>
            </p:grpSpPr>
            <p:grpSp>
              <p:nvGrpSpPr>
                <p:cNvPr id="3184" name="Group 1419"/>
                <p:cNvGrpSpPr/>
                <p:nvPr/>
              </p:nvGrpSpPr>
              <p:grpSpPr>
                <a:xfrm>
                  <a:off x="383760" y="695520"/>
                  <a:ext cx="628920" cy="478080"/>
                  <a:chOff x="383760" y="695520"/>
                  <a:chExt cx="628920" cy="478080"/>
                </a:xfrm>
              </p:grpSpPr>
              <p:sp>
                <p:nvSpPr>
                  <p:cNvPr id="3185" name="Freeform 1858"/>
                  <p:cNvSpPr/>
                  <p:nvPr/>
                </p:nvSpPr>
                <p:spPr>
                  <a:xfrm rot="11388000">
                    <a:off x="539640" y="729720"/>
                    <a:ext cx="441000" cy="4089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408960"/>
                      <a:gd name="textAreaBottom" fmla="*/ 409320 h 408960"/>
                    </a:gdLst>
                    <a:ahLst/>
                    <a:rect l="textAreaLeft" t="textAreaTop" r="textAreaRight" b="textAreaBottom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6" name="Freeform 1859"/>
                  <p:cNvSpPr/>
                  <p:nvPr/>
                </p:nvSpPr>
                <p:spPr>
                  <a:xfrm rot="11388000">
                    <a:off x="552960" y="849240"/>
                    <a:ext cx="373680" cy="194040"/>
                  </a:xfrm>
                  <a:custGeom>
                    <a:avLst/>
                    <a:gdLst>
                      <a:gd name="textAreaLeft" fmla="*/ 0 w 373680"/>
                      <a:gd name="textAreaRight" fmla="*/ 374040 w 373680"/>
                      <a:gd name="textAreaTop" fmla="*/ 0 h 194040"/>
                      <a:gd name="textAreaBottom" fmla="*/ 194400 h 194040"/>
                    </a:gdLst>
                    <a:ahLst/>
                    <a:rect l="textAreaLeft" t="textAreaTop" r="textAreaRight" b="textAreaBottom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7" name="Freeform 1860"/>
                  <p:cNvSpPr/>
                  <p:nvPr/>
                </p:nvSpPr>
                <p:spPr>
                  <a:xfrm rot="11388000">
                    <a:off x="400320" y="831960"/>
                    <a:ext cx="544320" cy="241560"/>
                  </a:xfrm>
                  <a:custGeom>
                    <a:avLst/>
                    <a:gdLst>
                      <a:gd name="textAreaLeft" fmla="*/ 0 w 544320"/>
                      <a:gd name="textAreaRight" fmla="*/ 544680 w 544320"/>
                      <a:gd name="textAreaTop" fmla="*/ 0 h 241560"/>
                      <a:gd name="textAreaBottom" fmla="*/ 241920 h 241560"/>
                    </a:gdLst>
                    <a:ahLst/>
                    <a:rect l="textAreaLeft" t="textAreaTop" r="textAreaRight" b="textAreaBottom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8" name="Freeform 1861"/>
                  <p:cNvSpPr/>
                  <p:nvPr/>
                </p:nvSpPr>
                <p:spPr>
                  <a:xfrm rot="11388000">
                    <a:off x="709920" y="938880"/>
                    <a:ext cx="176760" cy="23760"/>
                  </a:xfrm>
                  <a:custGeom>
                    <a:avLst/>
                    <a:gdLst>
                      <a:gd name="textAreaLeft" fmla="*/ 0 w 176760"/>
                      <a:gd name="textAreaRight" fmla="*/ 176760 w 17676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9" name="Freeform 1862"/>
                  <p:cNvSpPr/>
                  <p:nvPr/>
                </p:nvSpPr>
                <p:spPr>
                  <a:xfrm rot="11388000">
                    <a:off x="617040" y="966600"/>
                    <a:ext cx="228240" cy="88920"/>
                  </a:xfrm>
                  <a:custGeom>
                    <a:avLst/>
                    <a:gdLst>
                      <a:gd name="textAreaLeft" fmla="*/ 0 w 228240"/>
                      <a:gd name="textAreaRight" fmla="*/ 228600 w 228240"/>
                      <a:gd name="textAreaTop" fmla="*/ 0 h 88920"/>
                      <a:gd name="textAreaBottom" fmla="*/ 89280 h 88920"/>
                    </a:gdLst>
                    <a:ahLst/>
                    <a:rect l="textAreaLeft" t="textAreaTop" r="textAreaRight" b="textAreaBottom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0" name="Freeform 1863"/>
                  <p:cNvSpPr/>
                  <p:nvPr/>
                </p:nvSpPr>
                <p:spPr>
                  <a:xfrm rot="11388000">
                    <a:off x="556200" y="986760"/>
                    <a:ext cx="252360" cy="118080"/>
                  </a:xfrm>
                  <a:custGeom>
                    <a:avLst/>
                    <a:gdLst>
                      <a:gd name="textAreaLeft" fmla="*/ 0 w 252360"/>
                      <a:gd name="textAreaRight" fmla="*/ 252720 w 252360"/>
                      <a:gd name="textAreaTop" fmla="*/ 0 h 118080"/>
                      <a:gd name="textAreaBottom" fmla="*/ 118440 h 118080"/>
                    </a:gdLst>
                    <a:ahLst/>
                    <a:rect l="textAreaLeft" t="textAreaTop" r="textAreaRight" b="textAreaBottom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1" name="Freeform 1864"/>
                  <p:cNvSpPr/>
                  <p:nvPr/>
                </p:nvSpPr>
                <p:spPr>
                  <a:xfrm rot="11388000">
                    <a:off x="798840" y="915120"/>
                    <a:ext cx="104760" cy="154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2" name="Freeform 1865"/>
                  <p:cNvSpPr/>
                  <p:nvPr/>
                </p:nvSpPr>
                <p:spPr>
                  <a:xfrm rot="11388000">
                    <a:off x="877680" y="897840"/>
                    <a:ext cx="54720" cy="5760"/>
                  </a:xfrm>
                  <a:custGeom>
                    <a:avLst/>
                    <a:gdLst>
                      <a:gd name="textAreaLeft" fmla="*/ 0 w 54720"/>
                      <a:gd name="textAreaRight" fmla="*/ 55080 w 54720"/>
                      <a:gd name="textAreaTop" fmla="*/ 0 h 5760"/>
                      <a:gd name="textAreaBottom" fmla="*/ 6120 h 5760"/>
                    </a:gdLst>
                    <a:ahLst/>
                    <a:rect l="textAreaLeft" t="textAreaTop" r="textAreaRight" b="textAreaBottom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3" name="Freeform 1866"/>
                  <p:cNvSpPr/>
                  <p:nvPr/>
                </p:nvSpPr>
                <p:spPr>
                  <a:xfrm rot="11388000">
                    <a:off x="868680" y="858600"/>
                    <a:ext cx="39960" cy="41760"/>
                  </a:xfrm>
                  <a:custGeom>
                    <a:avLst/>
                    <a:gdLst>
                      <a:gd name="textAreaLeft" fmla="*/ 0 w 39960"/>
                      <a:gd name="textAreaRight" fmla="*/ 40320 w 3996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4" name="Freeform 1867"/>
                  <p:cNvSpPr/>
                  <p:nvPr/>
                </p:nvSpPr>
                <p:spPr>
                  <a:xfrm rot="11388000">
                    <a:off x="807120" y="837000"/>
                    <a:ext cx="69840" cy="77760"/>
                  </a:xfrm>
                  <a:custGeom>
                    <a:avLst/>
                    <a:gdLst>
                      <a:gd name="textAreaLeft" fmla="*/ 0 w 69840"/>
                      <a:gd name="textAreaRight" fmla="*/ 70200 w 69840"/>
                      <a:gd name="textAreaTop" fmla="*/ 0 h 77760"/>
                      <a:gd name="textAreaBottom" fmla="*/ 78120 h 77760"/>
                    </a:gdLst>
                    <a:ahLst/>
                    <a:rect l="textAreaLeft" t="textAreaTop" r="textAreaRight" b="textAreaBottom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5" name="Freeform 1868"/>
                  <p:cNvSpPr/>
                  <p:nvPr/>
                </p:nvSpPr>
                <p:spPr>
                  <a:xfrm rot="11388000">
                    <a:off x="716040" y="802080"/>
                    <a:ext cx="111960" cy="136440"/>
                  </a:xfrm>
                  <a:custGeom>
                    <a:avLst/>
                    <a:gdLst>
                      <a:gd name="textAreaLeft" fmla="*/ 0 w 111960"/>
                      <a:gd name="textAreaRight" fmla="*/ 112320 w 111960"/>
                      <a:gd name="textAreaTop" fmla="*/ 0 h 136440"/>
                      <a:gd name="textAreaBottom" fmla="*/ 136800 h 136440"/>
                    </a:gdLst>
                    <a:ahLst/>
                    <a:rect l="textAreaLeft" t="textAreaTop" r="textAreaRight" b="textAreaBottom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6" name="Freeform 1869"/>
                  <p:cNvSpPr/>
                  <p:nvPr/>
                </p:nvSpPr>
                <p:spPr>
                  <a:xfrm rot="11388000">
                    <a:off x="638280" y="763200"/>
                    <a:ext cx="120240" cy="198720"/>
                  </a:xfrm>
                  <a:custGeom>
                    <a:avLst/>
                    <a:gdLst>
                      <a:gd name="textAreaLeft" fmla="*/ 0 w 120240"/>
                      <a:gd name="textAreaRight" fmla="*/ 120600 w 120240"/>
                      <a:gd name="textAreaTop" fmla="*/ 0 h 198720"/>
                      <a:gd name="textAreaBottom" fmla="*/ 199080 h 198720"/>
                    </a:gdLst>
                    <a:ahLst/>
                    <a:rect l="textAreaLeft" t="textAreaTop" r="textAreaRight" b="textAreaBottom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7" name="Freeform 1870"/>
                  <p:cNvSpPr/>
                  <p:nvPr/>
                </p:nvSpPr>
                <p:spPr>
                  <a:xfrm rot="11388000">
                    <a:off x="705600" y="759960"/>
                    <a:ext cx="12960" cy="792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79200"/>
                      <a:gd name="textAreaBottom" fmla="*/ 79560 h 79200"/>
                    </a:gdLst>
                    <a:ahLst/>
                    <a:rect l="textAreaLeft" t="textAreaTop" r="textAreaRight" b="textAreaBottom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8" name="Freeform 1871"/>
                  <p:cNvSpPr/>
                  <p:nvPr/>
                </p:nvSpPr>
                <p:spPr>
                  <a:xfrm rot="11388000">
                    <a:off x="579600" y="733680"/>
                    <a:ext cx="83520" cy="244440"/>
                  </a:xfrm>
                  <a:custGeom>
                    <a:avLst/>
                    <a:gdLst>
                      <a:gd name="textAreaLeft" fmla="*/ 0 w 83520"/>
                      <a:gd name="textAreaRight" fmla="*/ 83880 w 8352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9" name="Freeform 1872"/>
                  <p:cNvSpPr/>
                  <p:nvPr/>
                </p:nvSpPr>
                <p:spPr>
                  <a:xfrm rot="11388000">
                    <a:off x="673200" y="847800"/>
                    <a:ext cx="61560" cy="38880"/>
                  </a:xfrm>
                  <a:custGeom>
                    <a:avLst/>
                    <a:gdLst>
                      <a:gd name="textAreaLeft" fmla="*/ 0 w 61560"/>
                      <a:gd name="textAreaRight" fmla="*/ 61920 w 61560"/>
                      <a:gd name="textAreaTop" fmla="*/ 0 h 38880"/>
                      <a:gd name="textAreaBottom" fmla="*/ 39240 h 38880"/>
                    </a:gdLst>
                    <a:ahLst/>
                    <a:rect l="textAreaLeft" t="textAreaTop" r="textAreaRight" b="textAreaBottom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0" name="Freeform 1873"/>
                  <p:cNvSpPr/>
                  <p:nvPr/>
                </p:nvSpPr>
                <p:spPr>
                  <a:xfrm rot="11388000">
                    <a:off x="778680" y="800280"/>
                    <a:ext cx="29880" cy="622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62280"/>
                      <a:gd name="textAreaBottom" fmla="*/ 62640 h 62280"/>
                    </a:gdLst>
                    <a:ahLst/>
                    <a:rect l="textAreaLeft" t="textAreaTop" r="textAreaRight" b="textAreaBottom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1" name="Freeform 1874"/>
                  <p:cNvSpPr/>
                  <p:nvPr/>
                </p:nvSpPr>
                <p:spPr>
                  <a:xfrm rot="11388000">
                    <a:off x="787680" y="945720"/>
                    <a:ext cx="65160" cy="14040"/>
                  </a:xfrm>
                  <a:custGeom>
                    <a:avLst/>
                    <a:gdLst>
                      <a:gd name="textAreaLeft" fmla="*/ 0 w 65160"/>
                      <a:gd name="textAreaRight" fmla="*/ 65520 w 65160"/>
                      <a:gd name="textAreaTop" fmla="*/ 0 h 14040"/>
                      <a:gd name="textAreaBottom" fmla="*/ 14400 h 14040"/>
                    </a:gdLst>
                    <a:ahLst/>
                    <a:rect l="textAreaLeft" t="textAreaTop" r="textAreaRight" b="textAreaBottom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2" name="Freeform 1875"/>
                  <p:cNvSpPr/>
                  <p:nvPr/>
                </p:nvSpPr>
                <p:spPr>
                  <a:xfrm rot="11388000">
                    <a:off x="815760" y="967680"/>
                    <a:ext cx="39960" cy="23760"/>
                  </a:xfrm>
                  <a:custGeom>
                    <a:avLst/>
                    <a:gdLst>
                      <a:gd name="textAreaLeft" fmla="*/ 0 w 39960"/>
                      <a:gd name="textAreaRight" fmla="*/ 40320 w 3996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3" name="Freeform 1876"/>
                  <p:cNvSpPr/>
                  <p:nvPr/>
                </p:nvSpPr>
                <p:spPr>
                  <a:xfrm rot="11388000">
                    <a:off x="736200" y="831960"/>
                    <a:ext cx="12960" cy="1476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4760"/>
                      <a:gd name="textAreaBottom" fmla="*/ 15120 h 14760"/>
                    </a:gdLst>
                    <a:ahLst/>
                    <a:rect l="textAreaLeft" t="textAreaTop" r="textAreaRight" b="textAreaBottom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4" name="Freeform 1877"/>
                  <p:cNvSpPr/>
                  <p:nvPr/>
                </p:nvSpPr>
                <p:spPr>
                  <a:xfrm rot="11388000">
                    <a:off x="789840" y="995760"/>
                    <a:ext cx="11520" cy="792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7920"/>
                      <a:gd name="textAreaBottom" fmla="*/ 8280 h 7920"/>
                    </a:gdLst>
                    <a:ahLst/>
                    <a:rect l="textAreaLeft" t="textAreaTop" r="textAreaRight" b="textAreaBottom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5" name="Freeform 1878"/>
                  <p:cNvSpPr/>
                  <p:nvPr/>
                </p:nvSpPr>
                <p:spPr>
                  <a:xfrm rot="11388000">
                    <a:off x="737280" y="1036080"/>
                    <a:ext cx="12960" cy="1188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6" name="Freeform 1879"/>
                  <p:cNvSpPr/>
                  <p:nvPr/>
                </p:nvSpPr>
                <p:spPr>
                  <a:xfrm rot="11388000">
                    <a:off x="887760" y="950040"/>
                    <a:ext cx="10080" cy="54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7" name="Group 1442"/>
                <p:cNvGrpSpPr/>
                <p:nvPr/>
              </p:nvGrpSpPr>
              <p:grpSpPr>
                <a:xfrm>
                  <a:off x="402480" y="998640"/>
                  <a:ext cx="56880" cy="51480"/>
                  <a:chOff x="402480" y="998640"/>
                  <a:chExt cx="56880" cy="51480"/>
                </a:xfrm>
              </p:grpSpPr>
              <p:sp>
                <p:nvSpPr>
                  <p:cNvPr id="3208" name="Freeform 1881"/>
                  <p:cNvSpPr/>
                  <p:nvPr/>
                </p:nvSpPr>
                <p:spPr>
                  <a:xfrm rot="7023600">
                    <a:off x="413640" y="1000800"/>
                    <a:ext cx="34200" cy="46440"/>
                  </a:xfrm>
                  <a:custGeom>
                    <a:avLst/>
                    <a:gdLst>
                      <a:gd name="textAreaLeft" fmla="*/ 0 w 34200"/>
                      <a:gd name="textAreaRight" fmla="*/ 34560 w 34200"/>
                      <a:gd name="textAreaTop" fmla="*/ 0 h 46440"/>
                      <a:gd name="textAreaBottom" fmla="*/ 46800 h 46440"/>
                    </a:gdLst>
                    <a:ahLst/>
                    <a:rect l="textAreaLeft" t="textAreaTop" r="textAreaRight" b="textAreaBottom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9" name="Freeform 1882"/>
                  <p:cNvSpPr/>
                  <p:nvPr/>
                </p:nvSpPr>
                <p:spPr>
                  <a:xfrm rot="3376800">
                    <a:off x="420840" y="1007640"/>
                    <a:ext cx="23400" cy="2088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20880"/>
                      <a:gd name="textAreaBottom" fmla="*/ 20880 h 20880"/>
                    </a:gdLst>
                    <a:ahLst/>
                    <a:rect l="textAreaLeft" t="textAreaTop" r="textAreaRight" b="textAreaBottom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210" name="Group 1445"/>
            <p:cNvGrpSpPr/>
            <p:nvPr/>
          </p:nvGrpSpPr>
          <p:grpSpPr>
            <a:xfrm>
              <a:off x="762840" y="1169280"/>
              <a:ext cx="581040" cy="619560"/>
              <a:chOff x="762840" y="1169280"/>
              <a:chExt cx="581040" cy="619560"/>
            </a:xfrm>
          </p:grpSpPr>
          <p:grpSp>
            <p:nvGrpSpPr>
              <p:cNvPr id="3211" name="Group 1446"/>
              <p:cNvGrpSpPr/>
              <p:nvPr/>
            </p:nvGrpSpPr>
            <p:grpSpPr>
              <a:xfrm>
                <a:off x="762840" y="1169280"/>
                <a:ext cx="581040" cy="619560"/>
                <a:chOff x="762840" y="1169280"/>
                <a:chExt cx="581040" cy="619560"/>
              </a:xfrm>
            </p:grpSpPr>
            <p:sp>
              <p:nvSpPr>
                <p:cNvPr id="3212" name="Freeform 1885"/>
                <p:cNvSpPr/>
                <p:nvPr/>
              </p:nvSpPr>
              <p:spPr>
                <a:xfrm flipH="1" rot="2658600">
                  <a:off x="852840" y="1315080"/>
                  <a:ext cx="416520" cy="382320"/>
                </a:xfrm>
                <a:custGeom>
                  <a:avLst/>
                  <a:gdLst>
                    <a:gd name="textAreaLeft" fmla="*/ -360 w 416520"/>
                    <a:gd name="textAreaRight" fmla="*/ 416520 w 416520"/>
                    <a:gd name="textAreaTop" fmla="*/ 0 h 382320"/>
                    <a:gd name="textAreaBottom" fmla="*/ 382680 h 38232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3" name="Freeform 1886"/>
                <p:cNvSpPr/>
                <p:nvPr/>
              </p:nvSpPr>
              <p:spPr>
                <a:xfrm flipH="1" rot="2658600">
                  <a:off x="880920" y="1393560"/>
                  <a:ext cx="353160" cy="181800"/>
                </a:xfrm>
                <a:custGeom>
                  <a:avLst/>
                  <a:gdLst>
                    <a:gd name="textAreaLeft" fmla="*/ -360 w 353160"/>
                    <a:gd name="textAreaRight" fmla="*/ 353160 w 353160"/>
                    <a:gd name="textAreaTop" fmla="*/ 0 h 181800"/>
                    <a:gd name="textAreaBottom" fmla="*/ 182160 h 18180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4" name="Freeform 1887"/>
                <p:cNvSpPr/>
                <p:nvPr/>
              </p:nvSpPr>
              <p:spPr>
                <a:xfrm flipH="1" rot="2658600">
                  <a:off x="768240" y="1316520"/>
                  <a:ext cx="514080" cy="226080"/>
                </a:xfrm>
                <a:custGeom>
                  <a:avLst/>
                  <a:gdLst>
                    <a:gd name="textAreaLeft" fmla="*/ 360 w 514080"/>
                    <a:gd name="textAreaRight" fmla="*/ 514800 w 514080"/>
                    <a:gd name="textAreaTop" fmla="*/ 0 h 226080"/>
                    <a:gd name="textAreaBottom" fmla="*/ 226440 h 22608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5" name="Freeform 1888"/>
                <p:cNvSpPr/>
                <p:nvPr/>
              </p:nvSpPr>
              <p:spPr>
                <a:xfrm flipH="1" rot="2658600">
                  <a:off x="1010160" y="1515600"/>
                  <a:ext cx="167040" cy="22320"/>
                </a:xfrm>
                <a:custGeom>
                  <a:avLst/>
                  <a:gdLst>
                    <a:gd name="textAreaLeft" fmla="*/ 0 w 167040"/>
                    <a:gd name="textAreaRight" fmla="*/ 167040 w 16704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6" name="Freeform 1889"/>
                <p:cNvSpPr/>
                <p:nvPr/>
              </p:nvSpPr>
              <p:spPr>
                <a:xfrm flipH="1" rot="2658600">
                  <a:off x="994680" y="1400040"/>
                  <a:ext cx="216000" cy="83520"/>
                </a:xfrm>
                <a:custGeom>
                  <a:avLst/>
                  <a:gdLst>
                    <a:gd name="textAreaLeft" fmla="*/ 360 w 216000"/>
                    <a:gd name="textAreaRight" fmla="*/ 216720 w 216000"/>
                    <a:gd name="textAreaTop" fmla="*/ 0 h 83520"/>
                    <a:gd name="textAreaBottom" fmla="*/ 83520 h 8352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7" name="Freeform 1890"/>
                <p:cNvSpPr/>
                <p:nvPr/>
              </p:nvSpPr>
              <p:spPr>
                <a:xfrm flipH="1" rot="2658600">
                  <a:off x="982080" y="1330920"/>
                  <a:ext cx="238680" cy="110520"/>
                </a:xfrm>
                <a:custGeom>
                  <a:avLst/>
                  <a:gdLst>
                    <a:gd name="textAreaLeft" fmla="*/ -360 w 238680"/>
                    <a:gd name="textAreaRight" fmla="*/ 238680 w 238680"/>
                    <a:gd name="textAreaTop" fmla="*/ 0 h 110520"/>
                    <a:gd name="textAreaBottom" fmla="*/ 110880 h 11052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8" name="Freeform 1891"/>
                <p:cNvSpPr/>
                <p:nvPr/>
              </p:nvSpPr>
              <p:spPr>
                <a:xfrm flipH="1" rot="2658600">
                  <a:off x="1053360" y="1575360"/>
                  <a:ext cx="99000" cy="14040"/>
                </a:xfrm>
                <a:custGeom>
                  <a:avLst/>
                  <a:gdLst>
                    <a:gd name="textAreaLeft" fmla="*/ -360 w 99000"/>
                    <a:gd name="textAreaRight" fmla="*/ 99000 w 9900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9" name="Freeform 1892"/>
                <p:cNvSpPr/>
                <p:nvPr/>
              </p:nvSpPr>
              <p:spPr>
                <a:xfrm flipH="1" rot="2658600">
                  <a:off x="1089000" y="1632600"/>
                  <a:ext cx="51840" cy="5760"/>
                </a:xfrm>
                <a:custGeom>
                  <a:avLst/>
                  <a:gdLst>
                    <a:gd name="textAreaLeft" fmla="*/ 360 w 51840"/>
                    <a:gd name="textAreaRight" fmla="*/ 52560 w 5184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0" name="Freeform 1893"/>
                <p:cNvSpPr/>
                <p:nvPr/>
              </p:nvSpPr>
              <p:spPr>
                <a:xfrm flipH="1" rot="2658600">
                  <a:off x="1071000" y="1615320"/>
                  <a:ext cx="37800" cy="39240"/>
                </a:xfrm>
                <a:custGeom>
                  <a:avLst/>
                  <a:gdLst>
                    <a:gd name="textAreaLeft" fmla="*/ -360 w 37800"/>
                    <a:gd name="textAreaRight" fmla="*/ 37800 w 3780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1" name="Freeform 1894"/>
                <p:cNvSpPr/>
                <p:nvPr/>
              </p:nvSpPr>
              <p:spPr>
                <a:xfrm flipH="1" rot="2658600">
                  <a:off x="1028520" y="1564560"/>
                  <a:ext cx="65880" cy="72360"/>
                </a:xfrm>
                <a:custGeom>
                  <a:avLst/>
                  <a:gdLst>
                    <a:gd name="textAreaLeft" fmla="*/ -360 w 65880"/>
                    <a:gd name="textAreaRight" fmla="*/ 65880 w 6588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2" name="Freeform 1895"/>
                <p:cNvSpPr/>
                <p:nvPr/>
              </p:nvSpPr>
              <p:spPr>
                <a:xfrm flipH="1" rot="2658600">
                  <a:off x="965880" y="1486800"/>
                  <a:ext cx="105480" cy="127080"/>
                </a:xfrm>
                <a:custGeom>
                  <a:avLst/>
                  <a:gdLst>
                    <a:gd name="textAreaLeft" fmla="*/ -360 w 105480"/>
                    <a:gd name="textAreaRight" fmla="*/ 105480 w 105480"/>
                    <a:gd name="textAreaTop" fmla="*/ 0 h 127080"/>
                    <a:gd name="textAreaBottom" fmla="*/ 127440 h 12708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3" name="Freeform 1896"/>
                <p:cNvSpPr/>
                <p:nvPr/>
              </p:nvSpPr>
              <p:spPr>
                <a:xfrm flipH="1" rot="2658600">
                  <a:off x="914400" y="1405440"/>
                  <a:ext cx="113760" cy="185760"/>
                </a:xfrm>
                <a:custGeom>
                  <a:avLst/>
                  <a:gdLst>
                    <a:gd name="textAreaLeft" fmla="*/ 360 w 113760"/>
                    <a:gd name="textAreaRight" fmla="*/ 114480 w 11376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4" name="Freeform 1897"/>
                <p:cNvSpPr/>
                <p:nvPr/>
              </p:nvSpPr>
              <p:spPr>
                <a:xfrm flipH="1" rot="2658600">
                  <a:off x="925560" y="1505880"/>
                  <a:ext cx="12240" cy="74160"/>
                </a:xfrm>
                <a:custGeom>
                  <a:avLst/>
                  <a:gdLst>
                    <a:gd name="textAreaLeft" fmla="*/ 360 w 12240"/>
                    <a:gd name="textAreaRight" fmla="*/ 12960 w 12240"/>
                    <a:gd name="textAreaTop" fmla="*/ 0 h 74160"/>
                    <a:gd name="textAreaBottom" fmla="*/ 74160 h 7416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5" name="Freeform 1898"/>
                <p:cNvSpPr/>
                <p:nvPr/>
              </p:nvSpPr>
              <p:spPr>
                <a:xfrm flipH="1" rot="2658600">
                  <a:off x="885600" y="1328760"/>
                  <a:ext cx="78480" cy="228960"/>
                </a:xfrm>
                <a:custGeom>
                  <a:avLst/>
                  <a:gdLst>
                    <a:gd name="textAreaLeft" fmla="*/ 360 w 78480"/>
                    <a:gd name="textAreaRight" fmla="*/ 79200 w 7848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6" name="Freeform 1899"/>
                <p:cNvSpPr/>
                <p:nvPr/>
              </p:nvSpPr>
              <p:spPr>
                <a:xfrm flipH="1" rot="2658600">
                  <a:off x="948960" y="1482120"/>
                  <a:ext cx="58320" cy="36000"/>
                </a:xfrm>
                <a:custGeom>
                  <a:avLst/>
                  <a:gdLst>
                    <a:gd name="textAreaLeft" fmla="*/ 360 w 58320"/>
                    <a:gd name="textAreaRight" fmla="*/ 59040 w 58320"/>
                    <a:gd name="textAreaTop" fmla="*/ 0 h 36000"/>
                    <a:gd name="textAreaBottom" fmla="*/ 36360 h 3600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7" name="Freeform 1900"/>
                <p:cNvSpPr/>
                <p:nvPr/>
              </p:nvSpPr>
              <p:spPr>
                <a:xfrm flipH="1" rot="2658600">
                  <a:off x="986760" y="1559160"/>
                  <a:ext cx="28080" cy="57960"/>
                </a:xfrm>
                <a:custGeom>
                  <a:avLst/>
                  <a:gdLst>
                    <a:gd name="textAreaLeft" fmla="*/ 360 w 28080"/>
                    <a:gd name="textAreaRight" fmla="*/ 28800 w 28080"/>
                    <a:gd name="textAreaTop" fmla="*/ 0 h 57960"/>
                    <a:gd name="textAreaBottom" fmla="*/ 58320 h 5796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8" name="Freeform 1901"/>
                <p:cNvSpPr/>
                <p:nvPr/>
              </p:nvSpPr>
              <p:spPr>
                <a:xfrm flipH="1" rot="2658600">
                  <a:off x="1078200" y="1535760"/>
                  <a:ext cx="61200" cy="12600"/>
                </a:xfrm>
                <a:custGeom>
                  <a:avLst/>
                  <a:gdLst>
                    <a:gd name="textAreaLeft" fmla="*/ 360 w 61200"/>
                    <a:gd name="textAreaRight" fmla="*/ 61920 w 612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9" name="Freeform 1902"/>
                <p:cNvSpPr/>
                <p:nvPr/>
              </p:nvSpPr>
              <p:spPr>
                <a:xfrm flipH="1" rot="2658600">
                  <a:off x="1117800" y="1528200"/>
                  <a:ext cx="37800" cy="22320"/>
                </a:xfrm>
                <a:custGeom>
                  <a:avLst/>
                  <a:gdLst>
                    <a:gd name="textAreaLeft" fmla="*/ -360 w 37800"/>
                    <a:gd name="textAreaRight" fmla="*/ 37800 w 3780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0" name="Freeform 1903"/>
                <p:cNvSpPr/>
                <p:nvPr/>
              </p:nvSpPr>
              <p:spPr>
                <a:xfrm flipH="1" rot="2658600">
                  <a:off x="972360" y="1538280"/>
                  <a:ext cx="12240" cy="13680"/>
                </a:xfrm>
                <a:custGeom>
                  <a:avLst/>
                  <a:gdLst>
                    <a:gd name="textAreaLeft" fmla="*/ 360 w 12240"/>
                    <a:gd name="textAreaRight" fmla="*/ 12960 w 12240"/>
                    <a:gd name="textAreaTop" fmla="*/ 0 h 13680"/>
                    <a:gd name="textAreaBottom" fmla="*/ 14040 h 1368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1" name="Freeform 1904"/>
                <p:cNvSpPr/>
                <p:nvPr/>
              </p:nvSpPr>
              <p:spPr>
                <a:xfrm flipH="1" rot="2658600">
                  <a:off x="1124280" y="1494000"/>
                  <a:ext cx="10800" cy="8280"/>
                </a:xfrm>
                <a:custGeom>
                  <a:avLst/>
                  <a:gdLst>
                    <a:gd name="textAreaLeft" fmla="*/ 360 w 10800"/>
                    <a:gd name="textAreaRight" fmla="*/ 11520 w 1080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2" name="Freeform 1905"/>
                <p:cNvSpPr/>
                <p:nvPr/>
              </p:nvSpPr>
              <p:spPr>
                <a:xfrm flipH="1" rot="2658600">
                  <a:off x="1126800" y="1429200"/>
                  <a:ext cx="12240" cy="10800"/>
                </a:xfrm>
                <a:custGeom>
                  <a:avLst/>
                  <a:gdLst>
                    <a:gd name="textAreaLeft" fmla="*/ 360 w 12240"/>
                    <a:gd name="textAreaRight" fmla="*/ 12960 w 1224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3" name="Freeform 1906"/>
                <p:cNvSpPr/>
                <p:nvPr/>
              </p:nvSpPr>
              <p:spPr>
                <a:xfrm flipH="1" rot="2658600">
                  <a:off x="1143720" y="1595160"/>
                  <a:ext cx="9360" cy="4680"/>
                </a:xfrm>
                <a:custGeom>
                  <a:avLst/>
                  <a:gdLst>
                    <a:gd name="textAreaLeft" fmla="*/ 360 w 9360"/>
                    <a:gd name="textAreaRight" fmla="*/ 10080 w 936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4" name="Group 1469"/>
              <p:cNvGrpSpPr/>
              <p:nvPr/>
            </p:nvGrpSpPr>
            <p:grpSpPr>
              <a:xfrm>
                <a:off x="919800" y="1182240"/>
                <a:ext cx="54000" cy="48240"/>
                <a:chOff x="919800" y="1182240"/>
                <a:chExt cx="54000" cy="48240"/>
              </a:xfrm>
            </p:grpSpPr>
            <p:sp>
              <p:nvSpPr>
                <p:cNvPr id="3235" name="Freeform 1908"/>
                <p:cNvSpPr/>
                <p:nvPr/>
              </p:nvSpPr>
              <p:spPr>
                <a:xfrm flipH="1" rot="7023600">
                  <a:off x="930600" y="1184040"/>
                  <a:ext cx="31680" cy="44280"/>
                </a:xfrm>
                <a:custGeom>
                  <a:avLst/>
                  <a:gdLst>
                    <a:gd name="textAreaLeft" fmla="*/ 360 w 31680"/>
                    <a:gd name="textAreaRight" fmla="*/ 32400 w 3168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6" name="Freeform 1909"/>
                <p:cNvSpPr/>
                <p:nvPr/>
              </p:nvSpPr>
              <p:spPr>
                <a:xfrm flipH="1" rot="10670400">
                  <a:off x="930960" y="1201320"/>
                  <a:ext cx="22320" cy="19440"/>
                </a:xfrm>
                <a:custGeom>
                  <a:avLst/>
                  <a:gdLst>
                    <a:gd name="textAreaLeft" fmla="*/ 360 w 22320"/>
                    <a:gd name="textAreaRight" fmla="*/ 23040 w 22320"/>
                    <a:gd name="textAreaTop" fmla="*/ 0 h 19440"/>
                    <a:gd name="textAreaBottom" fmla="*/ 19440 h 1944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37" name="Group 1472"/>
            <p:cNvGrpSpPr/>
            <p:nvPr/>
          </p:nvGrpSpPr>
          <p:grpSpPr>
            <a:xfrm>
              <a:off x="929160" y="883080"/>
              <a:ext cx="474120" cy="342720"/>
              <a:chOff x="929160" y="883080"/>
              <a:chExt cx="474120" cy="342720"/>
            </a:xfrm>
          </p:grpSpPr>
          <p:grpSp>
            <p:nvGrpSpPr>
              <p:cNvPr id="3238" name="Group 1473"/>
              <p:cNvGrpSpPr/>
              <p:nvPr/>
            </p:nvGrpSpPr>
            <p:grpSpPr>
              <a:xfrm>
                <a:off x="929160" y="883080"/>
                <a:ext cx="474120" cy="342720"/>
                <a:chOff x="929160" y="883080"/>
                <a:chExt cx="474120" cy="342720"/>
              </a:xfrm>
            </p:grpSpPr>
            <p:sp>
              <p:nvSpPr>
                <p:cNvPr id="3239" name="Freeform 1912"/>
                <p:cNvSpPr/>
                <p:nvPr/>
              </p:nvSpPr>
              <p:spPr>
                <a:xfrm rot="10594800">
                  <a:off x="1040040" y="893160"/>
                  <a:ext cx="353520" cy="322200"/>
                </a:xfrm>
                <a:custGeom>
                  <a:avLst/>
                  <a:gdLst>
                    <a:gd name="textAreaLeft" fmla="*/ 0 w 353520"/>
                    <a:gd name="textAreaRight" fmla="*/ 353880 w 353520"/>
                    <a:gd name="textAreaTop" fmla="*/ 0 h 322200"/>
                    <a:gd name="textAreaBottom" fmla="*/ 322560 h 32220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0" name="Freeform 1913"/>
                <p:cNvSpPr/>
                <p:nvPr/>
              </p:nvSpPr>
              <p:spPr>
                <a:xfrm rot="10594800">
                  <a:off x="1053360" y="990720"/>
                  <a:ext cx="300240" cy="153000"/>
                </a:xfrm>
                <a:custGeom>
                  <a:avLst/>
                  <a:gdLst>
                    <a:gd name="textAreaLeft" fmla="*/ 0 w 300240"/>
                    <a:gd name="textAreaRight" fmla="*/ 300600 w 300240"/>
                    <a:gd name="textAreaTop" fmla="*/ 0 h 153000"/>
                    <a:gd name="textAreaBottom" fmla="*/ 153360 h 15300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1" name="Freeform 1914"/>
                <p:cNvSpPr/>
                <p:nvPr/>
              </p:nvSpPr>
              <p:spPr>
                <a:xfrm rot="10594800">
                  <a:off x="934200" y="988920"/>
                  <a:ext cx="436680" cy="190440"/>
                </a:xfrm>
                <a:custGeom>
                  <a:avLst/>
                  <a:gdLst>
                    <a:gd name="textAreaLeft" fmla="*/ 0 w 436680"/>
                    <a:gd name="textAreaRight" fmla="*/ 437040 w 436680"/>
                    <a:gd name="textAreaTop" fmla="*/ 0 h 190440"/>
                    <a:gd name="textAreaBottom" fmla="*/ 190800 h 19044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2" name="Freeform 1915"/>
                <p:cNvSpPr/>
                <p:nvPr/>
              </p:nvSpPr>
              <p:spPr>
                <a:xfrm rot="10594800">
                  <a:off x="1178280" y="1050480"/>
                  <a:ext cx="141840" cy="18360"/>
                </a:xfrm>
                <a:custGeom>
                  <a:avLst/>
                  <a:gdLst>
                    <a:gd name="textAreaLeft" fmla="*/ 0 w 141840"/>
                    <a:gd name="textAreaRight" fmla="*/ 142200 w 14184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3" name="Freeform 1916"/>
                <p:cNvSpPr/>
                <p:nvPr/>
              </p:nvSpPr>
              <p:spPr>
                <a:xfrm rot="10594800">
                  <a:off x="1116720" y="1083600"/>
                  <a:ext cx="183240" cy="70200"/>
                </a:xfrm>
                <a:custGeom>
                  <a:avLst/>
                  <a:gdLst>
                    <a:gd name="textAreaLeft" fmla="*/ 0 w 183240"/>
                    <a:gd name="textAreaRight" fmla="*/ 183600 w 1832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4" name="Freeform 1917"/>
                <p:cNvSpPr/>
                <p:nvPr/>
              </p:nvSpPr>
              <p:spPr>
                <a:xfrm rot="10594800">
                  <a:off x="1076040" y="1108080"/>
                  <a:ext cx="202320" cy="92520"/>
                </a:xfrm>
                <a:custGeom>
                  <a:avLst/>
                  <a:gdLst>
                    <a:gd name="textAreaLeft" fmla="*/ 0 w 202320"/>
                    <a:gd name="textAreaRight" fmla="*/ 202680 w 202320"/>
                    <a:gd name="textAreaTop" fmla="*/ 0 h 92520"/>
                    <a:gd name="textAreaBottom" fmla="*/ 92880 h 9252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5" name="Freeform 1918"/>
                <p:cNvSpPr/>
                <p:nvPr/>
              </p:nvSpPr>
              <p:spPr>
                <a:xfrm rot="10594800">
                  <a:off x="1244880" y="1023480"/>
                  <a:ext cx="83880" cy="11880"/>
                </a:xfrm>
                <a:custGeom>
                  <a:avLst/>
                  <a:gdLst>
                    <a:gd name="textAreaLeft" fmla="*/ 0 w 83880"/>
                    <a:gd name="textAreaRight" fmla="*/ 84240 w 8388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6" name="Freeform 1919"/>
                <p:cNvSpPr/>
                <p:nvPr/>
              </p:nvSpPr>
              <p:spPr>
                <a:xfrm rot="10594800">
                  <a:off x="1302120" y="999720"/>
                  <a:ext cx="43920" cy="4680"/>
                </a:xfrm>
                <a:custGeom>
                  <a:avLst/>
                  <a:gdLst>
                    <a:gd name="textAreaLeft" fmla="*/ 0 w 43920"/>
                    <a:gd name="textAreaRight" fmla="*/ 44280 w 4392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7" name="Freeform 1920"/>
                <p:cNvSpPr/>
                <p:nvPr/>
              </p:nvSpPr>
              <p:spPr>
                <a:xfrm rot="10594800">
                  <a:off x="1291680" y="972720"/>
                  <a:ext cx="32040" cy="32760"/>
                </a:xfrm>
                <a:custGeom>
                  <a:avLst/>
                  <a:gdLst>
                    <a:gd name="textAreaLeft" fmla="*/ 0 w 32040"/>
                    <a:gd name="textAreaRight" fmla="*/ 32400 w 3204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8" name="Freeform 1921"/>
                <p:cNvSpPr/>
                <p:nvPr/>
              </p:nvSpPr>
              <p:spPr>
                <a:xfrm rot="10594800">
                  <a:off x="1242360" y="964440"/>
                  <a:ext cx="56160" cy="60840"/>
                </a:xfrm>
                <a:custGeom>
                  <a:avLst/>
                  <a:gdLst>
                    <a:gd name="textAreaLeft" fmla="*/ 0 w 56160"/>
                    <a:gd name="textAreaRight" fmla="*/ 56520 w 561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9" name="Freeform 1922"/>
                <p:cNvSpPr/>
                <p:nvPr/>
              </p:nvSpPr>
              <p:spPr>
                <a:xfrm rot="10594800">
                  <a:off x="1170720" y="949680"/>
                  <a:ext cx="89640" cy="106920"/>
                </a:xfrm>
                <a:custGeom>
                  <a:avLst/>
                  <a:gdLst>
                    <a:gd name="textAreaLeft" fmla="*/ 0 w 89640"/>
                    <a:gd name="textAreaRight" fmla="*/ 90000 w 89640"/>
                    <a:gd name="textAreaTop" fmla="*/ 0 h 106920"/>
                    <a:gd name="textAreaBottom" fmla="*/ 107280 h 10692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0" name="Freeform 1923"/>
                <p:cNvSpPr/>
                <p:nvPr/>
              </p:nvSpPr>
              <p:spPr>
                <a:xfrm rot="10594800">
                  <a:off x="1108080" y="932040"/>
                  <a:ext cx="96480" cy="156600"/>
                </a:xfrm>
                <a:custGeom>
                  <a:avLst/>
                  <a:gdLst>
                    <a:gd name="textAreaLeft" fmla="*/ 0 w 96480"/>
                    <a:gd name="textAreaRight" fmla="*/ 96840 w 96480"/>
                    <a:gd name="textAreaTop" fmla="*/ 0 h 156600"/>
                    <a:gd name="textAreaBottom" fmla="*/ 156960 h 15660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1" name="Freeform 1924"/>
                <p:cNvSpPr/>
                <p:nvPr/>
              </p:nvSpPr>
              <p:spPr>
                <a:xfrm rot="10594800">
                  <a:off x="1149480" y="929160"/>
                  <a:ext cx="10440" cy="6192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2" name="Freeform 1925"/>
                <p:cNvSpPr/>
                <p:nvPr/>
              </p:nvSpPr>
              <p:spPr>
                <a:xfrm rot="10594800">
                  <a:off x="1061640" y="923040"/>
                  <a:ext cx="66600" cy="1926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3" name="Freeform 1926"/>
                <p:cNvSpPr/>
                <p:nvPr/>
              </p:nvSpPr>
              <p:spPr>
                <a:xfrm rot="10594800">
                  <a:off x="1136160" y="997920"/>
                  <a:ext cx="49320" cy="306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4" name="Freeform 1927"/>
                <p:cNvSpPr/>
                <p:nvPr/>
              </p:nvSpPr>
              <p:spPr>
                <a:xfrm rot="10594800">
                  <a:off x="1212480" y="944280"/>
                  <a:ext cx="23760" cy="4932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5" name="Freeform 1928"/>
                <p:cNvSpPr/>
                <p:nvPr/>
              </p:nvSpPr>
              <p:spPr>
                <a:xfrm rot="10594800">
                  <a:off x="1241640" y="1052640"/>
                  <a:ext cx="52200" cy="10440"/>
                </a:xfrm>
                <a:custGeom>
                  <a:avLst/>
                  <a:gdLst>
                    <a:gd name="textAreaLeft" fmla="*/ 0 w 52200"/>
                    <a:gd name="textAreaRight" fmla="*/ 52560 w 5220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6" name="Freeform 1929"/>
                <p:cNvSpPr/>
                <p:nvPr/>
              </p:nvSpPr>
              <p:spPr>
                <a:xfrm rot="10594800">
                  <a:off x="1268280" y="1065960"/>
                  <a:ext cx="32040" cy="18720"/>
                </a:xfrm>
                <a:custGeom>
                  <a:avLst/>
                  <a:gdLst>
                    <a:gd name="textAreaLeft" fmla="*/ 0 w 32040"/>
                    <a:gd name="textAreaRight" fmla="*/ 32400 w 3204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7" name="Freeform 1930"/>
                <p:cNvSpPr/>
                <p:nvPr/>
              </p:nvSpPr>
              <p:spPr>
                <a:xfrm rot="10594800">
                  <a:off x="1180800" y="978840"/>
                  <a:ext cx="10440" cy="1152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8" name="Freeform 1931"/>
                <p:cNvSpPr/>
                <p:nvPr/>
              </p:nvSpPr>
              <p:spPr>
                <a:xfrm rot="10594800">
                  <a:off x="1252440" y="1095120"/>
                  <a:ext cx="9360" cy="6840"/>
                </a:xfrm>
                <a:custGeom>
                  <a:avLst/>
                  <a:gdLst>
                    <a:gd name="textAreaLeft" fmla="*/ 0 w 9360"/>
                    <a:gd name="textAreaRight" fmla="*/ 9360 w 936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9" name="Freeform 1932"/>
                <p:cNvSpPr/>
                <p:nvPr/>
              </p:nvSpPr>
              <p:spPr>
                <a:xfrm rot="10594800">
                  <a:off x="1218960" y="1135080"/>
                  <a:ext cx="10440" cy="936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0" name="Freeform 1933"/>
                <p:cNvSpPr/>
                <p:nvPr/>
              </p:nvSpPr>
              <p:spPr>
                <a:xfrm rot="10594800">
                  <a:off x="1320120" y="1042200"/>
                  <a:ext cx="7920" cy="4320"/>
                </a:xfrm>
                <a:custGeom>
                  <a:avLst/>
                  <a:gdLst>
                    <a:gd name="textAreaLeft" fmla="*/ 0 w 7920"/>
                    <a:gd name="textAreaRight" fmla="*/ 8280 w 792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1" name="Group 1496"/>
              <p:cNvGrpSpPr/>
              <p:nvPr/>
            </p:nvGrpSpPr>
            <p:grpSpPr>
              <a:xfrm>
                <a:off x="956160" y="1164240"/>
                <a:ext cx="42840" cy="35280"/>
                <a:chOff x="956160" y="1164240"/>
                <a:chExt cx="42840" cy="35280"/>
              </a:xfrm>
            </p:grpSpPr>
            <p:sp>
              <p:nvSpPr>
                <p:cNvPr id="3262" name="Freeform 1935"/>
                <p:cNvSpPr/>
                <p:nvPr/>
              </p:nvSpPr>
              <p:spPr>
                <a:xfrm rot="6231000">
                  <a:off x="964080" y="1163160"/>
                  <a:ext cx="26640" cy="3744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3" name="Freeform 1936"/>
                <p:cNvSpPr/>
                <p:nvPr/>
              </p:nvSpPr>
              <p:spPr>
                <a:xfrm rot="2583600">
                  <a:off x="968040" y="1168200"/>
                  <a:ext cx="18720" cy="1656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16560"/>
                    <a:gd name="textAreaBottom" fmla="*/ 16920 h 1656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64" name="Group 1499"/>
            <p:cNvGrpSpPr/>
            <p:nvPr/>
          </p:nvGrpSpPr>
          <p:grpSpPr>
            <a:xfrm>
              <a:off x="1193400" y="1306800"/>
              <a:ext cx="425520" cy="491400"/>
              <a:chOff x="1193400" y="1306800"/>
              <a:chExt cx="425520" cy="491400"/>
            </a:xfrm>
          </p:grpSpPr>
          <p:grpSp>
            <p:nvGrpSpPr>
              <p:cNvPr id="3265" name="Group 1500"/>
              <p:cNvGrpSpPr/>
              <p:nvPr/>
            </p:nvGrpSpPr>
            <p:grpSpPr>
              <a:xfrm>
                <a:off x="1193400" y="1306800"/>
                <a:ext cx="425520" cy="491400"/>
                <a:chOff x="1193400" y="1306800"/>
                <a:chExt cx="425520" cy="491400"/>
              </a:xfrm>
            </p:grpSpPr>
            <p:sp>
              <p:nvSpPr>
                <p:cNvPr id="3266" name="Freeform 1939"/>
                <p:cNvSpPr/>
                <p:nvPr/>
              </p:nvSpPr>
              <p:spPr>
                <a:xfrm rot="15123000">
                  <a:off x="1237680" y="1416600"/>
                  <a:ext cx="336240" cy="338400"/>
                </a:xfrm>
                <a:custGeom>
                  <a:avLst/>
                  <a:gdLst>
                    <a:gd name="textAreaLeft" fmla="*/ 0 w 336240"/>
                    <a:gd name="textAreaRight" fmla="*/ 336600 w 336240"/>
                    <a:gd name="textAreaTop" fmla="*/ 0 h 338400"/>
                    <a:gd name="textAreaBottom" fmla="*/ 338760 h 338400"/>
                  </a:gdLst>
                  <a:ahLst/>
                  <a:rect l="textAreaLeft" t="textAreaTop" r="textAreaRight" b="textAreaBottom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7" name="Freeform 1940"/>
                <p:cNvSpPr/>
                <p:nvPr/>
              </p:nvSpPr>
              <p:spPr>
                <a:xfrm rot="15123000">
                  <a:off x="1247400" y="1496160"/>
                  <a:ext cx="284760" cy="160920"/>
                </a:xfrm>
                <a:custGeom>
                  <a:avLst/>
                  <a:gdLst>
                    <a:gd name="textAreaLeft" fmla="*/ 0 w 284760"/>
                    <a:gd name="textAreaRight" fmla="*/ 285120 w 284760"/>
                    <a:gd name="textAreaTop" fmla="*/ 0 h 160920"/>
                    <a:gd name="textAreaBottom" fmla="*/ 161280 h 160920"/>
                  </a:gdLst>
                  <a:ahLst/>
                  <a:rect l="textAreaLeft" t="textAreaTop" r="textAreaRight" b="textAreaBottom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8" name="Freeform 1941"/>
                <p:cNvSpPr/>
                <p:nvPr/>
              </p:nvSpPr>
              <p:spPr>
                <a:xfrm rot="15123000">
                  <a:off x="1153440" y="1434240"/>
                  <a:ext cx="414360" cy="200160"/>
                </a:xfrm>
                <a:custGeom>
                  <a:avLst/>
                  <a:gdLst>
                    <a:gd name="textAreaLeft" fmla="*/ 0 w 414360"/>
                    <a:gd name="textAreaRight" fmla="*/ 414720 w 414360"/>
                    <a:gd name="textAreaTop" fmla="*/ 0 h 200160"/>
                    <a:gd name="textAreaBottom" fmla="*/ 200520 h 200160"/>
                  </a:gdLst>
                  <a:ahLst/>
                  <a:rect l="textAreaLeft" t="textAreaTop" r="textAreaRight" b="textAreaBottom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9" name="Freeform 1942"/>
                <p:cNvSpPr/>
                <p:nvPr/>
              </p:nvSpPr>
              <p:spPr>
                <a:xfrm rot="15123000">
                  <a:off x="1341000" y="1607760"/>
                  <a:ext cx="134640" cy="20160"/>
                </a:xfrm>
                <a:custGeom>
                  <a:avLst/>
                  <a:gdLst>
                    <a:gd name="textAreaLeft" fmla="*/ 0 w 134640"/>
                    <a:gd name="textAreaRight" fmla="*/ 135000 w 134640"/>
                    <a:gd name="textAreaTop" fmla="*/ 0 h 20160"/>
                    <a:gd name="textAreaBottom" fmla="*/ 20520 h 20160"/>
                  </a:gdLst>
                  <a:ahLst/>
                  <a:rect l="textAreaLeft" t="textAreaTop" r="textAreaRight" b="textAreaBottom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0" name="Freeform 1943"/>
                <p:cNvSpPr/>
                <p:nvPr/>
              </p:nvSpPr>
              <p:spPr>
                <a:xfrm rot="15123000">
                  <a:off x="1251360" y="1558080"/>
                  <a:ext cx="174240" cy="73800"/>
                </a:xfrm>
                <a:custGeom>
                  <a:avLst/>
                  <a:gdLst>
                    <a:gd name="textAreaLeft" fmla="*/ 0 w 174240"/>
                    <a:gd name="textAreaRight" fmla="*/ 174600 w 1742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1" name="Freeform 1944"/>
                <p:cNvSpPr/>
                <p:nvPr/>
              </p:nvSpPr>
              <p:spPr>
                <a:xfrm rot="15123000">
                  <a:off x="1199160" y="1527120"/>
                  <a:ext cx="191880" cy="97560"/>
                </a:xfrm>
                <a:custGeom>
                  <a:avLst/>
                  <a:gdLst>
                    <a:gd name="textAreaLeft" fmla="*/ 0 w 191880"/>
                    <a:gd name="textAreaRight" fmla="*/ 192240 w 19188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2" name="Freeform 1945"/>
                <p:cNvSpPr/>
                <p:nvPr/>
              </p:nvSpPr>
              <p:spPr>
                <a:xfrm rot="15123000">
                  <a:off x="1408680" y="1636200"/>
                  <a:ext cx="79920" cy="129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3" name="Freeform 1946"/>
                <p:cNvSpPr/>
                <p:nvPr/>
              </p:nvSpPr>
              <p:spPr>
                <a:xfrm rot="15123000">
                  <a:off x="1462680" y="1667160"/>
                  <a:ext cx="41760" cy="504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4" name="Freeform 1947"/>
                <p:cNvSpPr/>
                <p:nvPr/>
              </p:nvSpPr>
              <p:spPr>
                <a:xfrm rot="15123000">
                  <a:off x="1478160" y="1634760"/>
                  <a:ext cx="29880" cy="342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34200"/>
                    <a:gd name="textAreaBottom" fmla="*/ 34560 h 34200"/>
                  </a:gdLst>
                  <a:ahLst/>
                  <a:rect l="textAreaLeft" t="textAreaTop" r="textAreaRight" b="textAreaBottom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5" name="Freeform 1948"/>
                <p:cNvSpPr/>
                <p:nvPr/>
              </p:nvSpPr>
              <p:spPr>
                <a:xfrm rot="15123000">
                  <a:off x="1452240" y="1586880"/>
                  <a:ext cx="53280" cy="64080"/>
                </a:xfrm>
                <a:custGeom>
                  <a:avLst/>
                  <a:gdLst>
                    <a:gd name="textAreaLeft" fmla="*/ 0 w 53280"/>
                    <a:gd name="textAreaRight" fmla="*/ 53640 w 53280"/>
                    <a:gd name="textAreaTop" fmla="*/ 0 h 64080"/>
                    <a:gd name="textAreaBottom" fmla="*/ 64440 h 64080"/>
                  </a:gdLst>
                  <a:ahLst/>
                  <a:rect l="textAreaLeft" t="textAreaTop" r="textAreaRight" b="textAreaBottom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6" name="Freeform 1949"/>
                <p:cNvSpPr/>
                <p:nvPr/>
              </p:nvSpPr>
              <p:spPr>
                <a:xfrm rot="15123000">
                  <a:off x="1414800" y="1513800"/>
                  <a:ext cx="85320" cy="11268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7" name="Freeform 1950"/>
                <p:cNvSpPr/>
                <p:nvPr/>
              </p:nvSpPr>
              <p:spPr>
                <a:xfrm rot="15123000">
                  <a:off x="1390320" y="1435320"/>
                  <a:ext cx="92160" cy="1641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64160"/>
                    <a:gd name="textAreaBottom" fmla="*/ 164520 h 164160"/>
                  </a:gdLst>
                  <a:ahLst/>
                  <a:rect l="textAreaLeft" t="textAreaTop" r="textAreaRight" b="textAreaBottom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8" name="Freeform 1951"/>
                <p:cNvSpPr/>
                <p:nvPr/>
              </p:nvSpPr>
              <p:spPr>
                <a:xfrm rot="15123000">
                  <a:off x="1482480" y="1469880"/>
                  <a:ext cx="10080" cy="6552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65520"/>
                    <a:gd name="textAreaBottom" fmla="*/ 65880 h 65520"/>
                  </a:gdLst>
                  <a:ahLst/>
                  <a:rect l="textAreaLeft" t="textAreaTop" r="textAreaRight" b="textAreaBottom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9" name="Freeform 1952"/>
                <p:cNvSpPr/>
                <p:nvPr/>
              </p:nvSpPr>
              <p:spPr>
                <a:xfrm rot="15123000">
                  <a:off x="1381680" y="1362240"/>
                  <a:ext cx="63000" cy="20268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202680"/>
                    <a:gd name="textAreaBottom" fmla="*/ 203040 h 202680"/>
                  </a:gdLst>
                  <a:ahLst/>
                  <a:rect l="textAreaLeft" t="textAreaTop" r="textAreaRight" b="textAreaBottom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0" name="Freeform 1953"/>
                <p:cNvSpPr/>
                <p:nvPr/>
              </p:nvSpPr>
              <p:spPr>
                <a:xfrm rot="15123000">
                  <a:off x="1411200" y="1506960"/>
                  <a:ext cx="46800" cy="32040"/>
                </a:xfrm>
                <a:custGeom>
                  <a:avLst/>
                  <a:gdLst>
                    <a:gd name="textAreaLeft" fmla="*/ 0 w 46800"/>
                    <a:gd name="textAreaRight" fmla="*/ 47160 w 4680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1" name="Freeform 1954"/>
                <p:cNvSpPr/>
                <p:nvPr/>
              </p:nvSpPr>
              <p:spPr>
                <a:xfrm rot="15123000">
                  <a:off x="1482480" y="1543680"/>
                  <a:ext cx="23040" cy="51840"/>
                </a:xfrm>
                <a:custGeom>
                  <a:avLst/>
                  <a:gdLst>
                    <a:gd name="textAreaLeft" fmla="*/ 0 w 23040"/>
                    <a:gd name="textAreaRight" fmla="*/ 23400 w 2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2" name="Freeform 1955"/>
                <p:cNvSpPr/>
                <p:nvPr/>
              </p:nvSpPr>
              <p:spPr>
                <a:xfrm rot="15123000">
                  <a:off x="1389960" y="1627920"/>
                  <a:ext cx="49320" cy="1116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3" name="Freeform 1956"/>
                <p:cNvSpPr/>
                <p:nvPr/>
              </p:nvSpPr>
              <p:spPr>
                <a:xfrm rot="15123000">
                  <a:off x="1385280" y="1644480"/>
                  <a:ext cx="29880" cy="1944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4" name="Freeform 1957"/>
                <p:cNvSpPr/>
                <p:nvPr/>
              </p:nvSpPr>
              <p:spPr>
                <a:xfrm rot="15123000">
                  <a:off x="1464840" y="1532520"/>
                  <a:ext cx="10080" cy="1224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5" name="Freeform 1958"/>
                <p:cNvSpPr/>
                <p:nvPr/>
              </p:nvSpPr>
              <p:spPr>
                <a:xfrm rot="15123000">
                  <a:off x="1366920" y="1630800"/>
                  <a:ext cx="8640" cy="7200"/>
                </a:xfrm>
                <a:custGeom>
                  <a:avLst/>
                  <a:gdLst>
                    <a:gd name="textAreaLeft" fmla="*/ 0 w 8640"/>
                    <a:gd name="textAreaRight" fmla="*/ 9000 w 864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6" name="Freeform 1959"/>
                <p:cNvSpPr/>
                <p:nvPr/>
              </p:nvSpPr>
              <p:spPr>
                <a:xfrm rot="15123000">
                  <a:off x="1315800" y="1610280"/>
                  <a:ext cx="10080" cy="972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7" name="Freeform 1960"/>
                <p:cNvSpPr/>
                <p:nvPr/>
              </p:nvSpPr>
              <p:spPr>
                <a:xfrm rot="15123000">
                  <a:off x="1437120" y="1679040"/>
                  <a:ext cx="7560" cy="504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8" name="Group 1523"/>
              <p:cNvGrpSpPr/>
              <p:nvPr/>
            </p:nvGrpSpPr>
            <p:grpSpPr>
              <a:xfrm>
                <a:off x="1200600" y="1378800"/>
                <a:ext cx="31320" cy="35640"/>
                <a:chOff x="1200600" y="1378800"/>
                <a:chExt cx="31320" cy="35640"/>
              </a:xfrm>
            </p:grpSpPr>
            <p:sp>
              <p:nvSpPr>
                <p:cNvPr id="3289" name="Freeform 1962"/>
                <p:cNvSpPr/>
                <p:nvPr/>
              </p:nvSpPr>
              <p:spPr>
                <a:xfrm rot="10758000">
                  <a:off x="1200600" y="1378800"/>
                  <a:ext cx="28080" cy="3528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35280"/>
                    <a:gd name="textAreaBottom" fmla="*/ 35640 h 35280"/>
                  </a:gdLst>
                  <a:ahLst/>
                  <a:rect l="textAreaLeft" t="textAreaTop" r="textAreaRight" b="textAreaBottom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0" name="Freeform 1963"/>
                <p:cNvSpPr/>
                <p:nvPr/>
              </p:nvSpPr>
              <p:spPr>
                <a:xfrm rot="7111800">
                  <a:off x="1210680" y="1386360"/>
                  <a:ext cx="18000" cy="1728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91" name="AutoShape 1982"/>
          <p:cNvSpPr/>
          <p:nvPr/>
        </p:nvSpPr>
        <p:spPr>
          <a:xfrm>
            <a:off x="3924360" y="-4960800"/>
            <a:ext cx="9955080" cy="9937440"/>
          </a:xfrm>
          <a:prstGeom prst="sun">
            <a:avLst>
              <a:gd name="adj" fmla="val 39074"/>
            </a:avLst>
          </a:prstGeom>
          <a:blipFill rotWithShape="0">
            <a:blip r:embed="rId40">
              <a:alphaModFix amt="6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2" name="Picture 1981" descr="MCj04460980000[1]"/>
          <p:cNvPicPr/>
          <p:nvPr/>
        </p:nvPicPr>
        <p:blipFill>
          <a:blip r:embed="rId41"/>
          <a:stretch/>
        </p:blipFill>
        <p:spPr>
          <a:xfrm rot="5073600">
            <a:off x="7481880" y="-461880"/>
            <a:ext cx="1403280" cy="2327040"/>
          </a:xfrm>
          <a:prstGeom prst="rect">
            <a:avLst/>
          </a:prstGeom>
          <a:ln w="0">
            <a:noFill/>
          </a:ln>
        </p:spPr>
      </p:pic>
      <p:grpSp>
        <p:nvGrpSpPr>
          <p:cNvPr id="3293" name="Group 1528"/>
          <p:cNvGrpSpPr/>
          <p:nvPr/>
        </p:nvGrpSpPr>
        <p:grpSpPr>
          <a:xfrm>
            <a:off x="4722480" y="5213520"/>
            <a:ext cx="491400" cy="1253520"/>
            <a:chOff x="4722480" y="5213520"/>
            <a:chExt cx="491400" cy="1253520"/>
          </a:xfrm>
        </p:grpSpPr>
        <p:pic>
          <p:nvPicPr>
            <p:cNvPr id="3294" name="Picture 1967" descr="MCj04456520000[1]"/>
            <p:cNvPicPr/>
            <p:nvPr/>
          </p:nvPicPr>
          <p:blipFill>
            <a:blip r:embed="rId42"/>
            <a:stretch/>
          </p:blipFill>
          <p:spPr>
            <a:xfrm rot="21224400">
              <a:off x="4754160" y="5231160"/>
              <a:ext cx="358920" cy="60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5" name="Rectangle 1984"/>
            <p:cNvSpPr/>
            <p:nvPr/>
          </p:nvSpPr>
          <p:spPr>
            <a:xfrm rot="21224400">
              <a:off x="4821480" y="5846400"/>
              <a:ext cx="36036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6" name="Group 1531"/>
          <p:cNvGrpSpPr/>
          <p:nvPr/>
        </p:nvGrpSpPr>
        <p:grpSpPr>
          <a:xfrm>
            <a:off x="7034760" y="4851360"/>
            <a:ext cx="499320" cy="1325160"/>
            <a:chOff x="7034760" y="4851360"/>
            <a:chExt cx="499320" cy="1325160"/>
          </a:xfrm>
        </p:grpSpPr>
        <p:pic>
          <p:nvPicPr>
            <p:cNvPr id="3297" name="Picture 1987" descr="MCj04456520000[1]"/>
            <p:cNvPicPr/>
            <p:nvPr/>
          </p:nvPicPr>
          <p:blipFill>
            <a:blip r:embed="rId43"/>
            <a:stretch/>
          </p:blipFill>
          <p:spPr>
            <a:xfrm rot="21224400">
              <a:off x="7068240" y="4869000"/>
              <a:ext cx="35892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8" name="Rectangle 1988"/>
            <p:cNvSpPr/>
            <p:nvPr/>
          </p:nvSpPr>
          <p:spPr>
            <a:xfrm rot="21224400">
              <a:off x="7139880" y="5520600"/>
              <a:ext cx="3603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9" name="Group 1534"/>
          <p:cNvGrpSpPr/>
          <p:nvPr/>
        </p:nvGrpSpPr>
        <p:grpSpPr>
          <a:xfrm>
            <a:off x="472680" y="4924800"/>
            <a:ext cx="507240" cy="1395720"/>
            <a:chOff x="472680" y="4924800"/>
            <a:chExt cx="507240" cy="1395720"/>
          </a:xfrm>
        </p:grpSpPr>
        <p:pic>
          <p:nvPicPr>
            <p:cNvPr id="3300" name="Picture 1990" descr="MCj04456520000[1]"/>
            <p:cNvPicPr/>
            <p:nvPr/>
          </p:nvPicPr>
          <p:blipFill>
            <a:blip r:embed="rId44"/>
            <a:stretch/>
          </p:blipFill>
          <p:spPr>
            <a:xfrm rot="21224400">
              <a:off x="507960" y="4942440"/>
              <a:ext cx="35892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1" name="Rectangle 1991"/>
            <p:cNvSpPr/>
            <p:nvPr/>
          </p:nvSpPr>
          <p:spPr>
            <a:xfrm rot="21224400">
              <a:off x="583560" y="5629320"/>
              <a:ext cx="3603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2" name="Group 1537"/>
          <p:cNvGrpSpPr/>
          <p:nvPr/>
        </p:nvGrpSpPr>
        <p:grpSpPr>
          <a:xfrm>
            <a:off x="7087680" y="5299560"/>
            <a:ext cx="367920" cy="368640"/>
            <a:chOff x="7087680" y="5299560"/>
            <a:chExt cx="367920" cy="368640"/>
          </a:xfrm>
        </p:grpSpPr>
        <p:grpSp>
          <p:nvGrpSpPr>
            <p:cNvPr id="3303" name="Group 1538"/>
            <p:cNvGrpSpPr/>
            <p:nvPr/>
          </p:nvGrpSpPr>
          <p:grpSpPr>
            <a:xfrm>
              <a:off x="7091280" y="5302080"/>
              <a:ext cx="363240" cy="363240"/>
              <a:chOff x="7091280" y="5302080"/>
              <a:chExt cx="363240" cy="363240"/>
            </a:xfrm>
          </p:grpSpPr>
          <p:grpSp>
            <p:nvGrpSpPr>
              <p:cNvPr id="3304" name="Group 1539"/>
              <p:cNvGrpSpPr/>
              <p:nvPr/>
            </p:nvGrpSpPr>
            <p:grpSpPr>
              <a:xfrm>
                <a:off x="7091280" y="5302080"/>
                <a:ext cx="363240" cy="363240"/>
                <a:chOff x="7091280" y="5302080"/>
                <a:chExt cx="363240" cy="363240"/>
              </a:xfrm>
            </p:grpSpPr>
            <p:sp>
              <p:nvSpPr>
                <p:cNvPr id="3305" name="Oval 211"/>
                <p:cNvSpPr/>
                <p:nvPr/>
              </p:nvSpPr>
              <p:spPr>
                <a:xfrm>
                  <a:off x="7091280" y="54460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6" name="Oval 212"/>
                <p:cNvSpPr/>
                <p:nvPr/>
              </p:nvSpPr>
              <p:spPr>
                <a:xfrm rot="5400000">
                  <a:off x="709056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7" name="Group 1542"/>
              <p:cNvGrpSpPr/>
              <p:nvPr/>
            </p:nvGrpSpPr>
            <p:grpSpPr>
              <a:xfrm>
                <a:off x="7112520" y="5325840"/>
                <a:ext cx="317160" cy="317880"/>
                <a:chOff x="7112520" y="5325840"/>
                <a:chExt cx="317160" cy="317880"/>
              </a:xfrm>
            </p:grpSpPr>
            <p:sp>
              <p:nvSpPr>
                <p:cNvPr id="3308" name="Oval 214"/>
                <p:cNvSpPr/>
                <p:nvPr/>
              </p:nvSpPr>
              <p:spPr>
                <a:xfrm rot="2700000">
                  <a:off x="7088400" y="54450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9" name="Oval 215"/>
                <p:cNvSpPr/>
                <p:nvPr/>
              </p:nvSpPr>
              <p:spPr>
                <a:xfrm rot="8100000">
                  <a:off x="709020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10" name="Group 1545"/>
            <p:cNvGrpSpPr/>
            <p:nvPr/>
          </p:nvGrpSpPr>
          <p:grpSpPr>
            <a:xfrm>
              <a:off x="7087680" y="5299560"/>
              <a:ext cx="367920" cy="368640"/>
              <a:chOff x="7087680" y="5299560"/>
              <a:chExt cx="367920" cy="368640"/>
            </a:xfrm>
          </p:grpSpPr>
          <p:grpSp>
            <p:nvGrpSpPr>
              <p:cNvPr id="3311" name="Group 1546"/>
              <p:cNvGrpSpPr/>
              <p:nvPr/>
            </p:nvGrpSpPr>
            <p:grpSpPr>
              <a:xfrm>
                <a:off x="7087680" y="5299560"/>
                <a:ext cx="367920" cy="367920"/>
                <a:chOff x="7087680" y="5299560"/>
                <a:chExt cx="367920" cy="367920"/>
              </a:xfrm>
            </p:grpSpPr>
            <p:sp>
              <p:nvSpPr>
                <p:cNvPr id="3312" name="Oval 218"/>
                <p:cNvSpPr/>
                <p:nvPr/>
              </p:nvSpPr>
              <p:spPr>
                <a:xfrm rot="1320000">
                  <a:off x="7089840" y="54453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3" name="Oval 219"/>
                <p:cNvSpPr/>
                <p:nvPr/>
              </p:nvSpPr>
              <p:spPr>
                <a:xfrm rot="6720000">
                  <a:off x="709056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4" name="Group 1549"/>
              <p:cNvGrpSpPr/>
              <p:nvPr/>
            </p:nvGrpSpPr>
            <p:grpSpPr>
              <a:xfrm>
                <a:off x="7089120" y="5301720"/>
                <a:ext cx="366480" cy="366480"/>
                <a:chOff x="7089120" y="5301720"/>
                <a:chExt cx="366480" cy="366480"/>
              </a:xfrm>
            </p:grpSpPr>
            <p:sp>
              <p:nvSpPr>
                <p:cNvPr id="3315" name="Oval 221"/>
                <p:cNvSpPr/>
                <p:nvPr/>
              </p:nvSpPr>
              <p:spPr>
                <a:xfrm rot="4020000">
                  <a:off x="7087680" y="54435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6" name="Oval 222"/>
                <p:cNvSpPr/>
                <p:nvPr/>
              </p:nvSpPr>
              <p:spPr>
                <a:xfrm rot="9420000">
                  <a:off x="7090560" y="544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17" name="Oval 223"/>
            <p:cNvSpPr/>
            <p:nvPr/>
          </p:nvSpPr>
          <p:spPr>
            <a:xfrm>
              <a:off x="7213320" y="5430240"/>
              <a:ext cx="118800" cy="105840"/>
            </a:xfrm>
            <a:prstGeom prst="ellipse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8" name="Group 1553"/>
          <p:cNvGrpSpPr/>
          <p:nvPr/>
        </p:nvGrpSpPr>
        <p:grpSpPr>
          <a:xfrm>
            <a:off x="536040" y="5298120"/>
            <a:ext cx="367920" cy="368640"/>
            <a:chOff x="536040" y="5298120"/>
            <a:chExt cx="367920" cy="368640"/>
          </a:xfrm>
        </p:grpSpPr>
        <p:grpSp>
          <p:nvGrpSpPr>
            <p:cNvPr id="3319" name="Group 1554"/>
            <p:cNvGrpSpPr/>
            <p:nvPr/>
          </p:nvGrpSpPr>
          <p:grpSpPr>
            <a:xfrm>
              <a:off x="539640" y="5300640"/>
              <a:ext cx="363240" cy="363240"/>
              <a:chOff x="539640" y="5300640"/>
              <a:chExt cx="363240" cy="363240"/>
            </a:xfrm>
          </p:grpSpPr>
          <p:grpSp>
            <p:nvGrpSpPr>
              <p:cNvPr id="3320" name="Group 1555"/>
              <p:cNvGrpSpPr/>
              <p:nvPr/>
            </p:nvGrpSpPr>
            <p:grpSpPr>
              <a:xfrm>
                <a:off x="539640" y="5300640"/>
                <a:ext cx="363240" cy="363240"/>
                <a:chOff x="539640" y="5300640"/>
                <a:chExt cx="363240" cy="363240"/>
              </a:xfrm>
            </p:grpSpPr>
            <p:sp>
              <p:nvSpPr>
                <p:cNvPr id="3321" name="Oval 515"/>
                <p:cNvSpPr/>
                <p:nvPr/>
              </p:nvSpPr>
              <p:spPr>
                <a:xfrm>
                  <a:off x="539640" y="54446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2" name="Oval 516"/>
                <p:cNvSpPr/>
                <p:nvPr/>
              </p:nvSpPr>
              <p:spPr>
                <a:xfrm rot="5400000">
                  <a:off x="538920" y="544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3" name="Group 1558"/>
              <p:cNvGrpSpPr/>
              <p:nvPr/>
            </p:nvGrpSpPr>
            <p:grpSpPr>
              <a:xfrm>
                <a:off x="560880" y="5324400"/>
                <a:ext cx="317160" cy="317880"/>
                <a:chOff x="560880" y="5324400"/>
                <a:chExt cx="317160" cy="317880"/>
              </a:xfrm>
            </p:grpSpPr>
            <p:sp>
              <p:nvSpPr>
                <p:cNvPr id="3324" name="Oval 518"/>
                <p:cNvSpPr/>
                <p:nvPr/>
              </p:nvSpPr>
              <p:spPr>
                <a:xfrm rot="2700000">
                  <a:off x="536760" y="54435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5" name="Oval 519"/>
                <p:cNvSpPr/>
                <p:nvPr/>
              </p:nvSpPr>
              <p:spPr>
                <a:xfrm rot="8100000">
                  <a:off x="538560" y="544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26" name="Group 1561"/>
            <p:cNvGrpSpPr/>
            <p:nvPr/>
          </p:nvGrpSpPr>
          <p:grpSpPr>
            <a:xfrm>
              <a:off x="536040" y="5298120"/>
              <a:ext cx="367920" cy="368640"/>
              <a:chOff x="536040" y="5298120"/>
              <a:chExt cx="367920" cy="368640"/>
            </a:xfrm>
          </p:grpSpPr>
          <p:grpSp>
            <p:nvGrpSpPr>
              <p:cNvPr id="3327" name="Group 1562"/>
              <p:cNvGrpSpPr/>
              <p:nvPr/>
            </p:nvGrpSpPr>
            <p:grpSpPr>
              <a:xfrm>
                <a:off x="536040" y="5298120"/>
                <a:ext cx="367920" cy="367920"/>
                <a:chOff x="536040" y="5298120"/>
                <a:chExt cx="367920" cy="367920"/>
              </a:xfrm>
            </p:grpSpPr>
            <p:sp>
              <p:nvSpPr>
                <p:cNvPr id="3328" name="Oval 522"/>
                <p:cNvSpPr/>
                <p:nvPr/>
              </p:nvSpPr>
              <p:spPr>
                <a:xfrm rot="1320000">
                  <a:off x="538200" y="54439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9" name="Oval 523"/>
                <p:cNvSpPr/>
                <p:nvPr/>
              </p:nvSpPr>
              <p:spPr>
                <a:xfrm rot="6720000">
                  <a:off x="538920" y="544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0" name="Group 1565"/>
              <p:cNvGrpSpPr/>
              <p:nvPr/>
            </p:nvGrpSpPr>
            <p:grpSpPr>
              <a:xfrm>
                <a:off x="537480" y="5300280"/>
                <a:ext cx="366480" cy="366480"/>
                <a:chOff x="537480" y="5300280"/>
                <a:chExt cx="366480" cy="366480"/>
              </a:xfrm>
            </p:grpSpPr>
            <p:sp>
              <p:nvSpPr>
                <p:cNvPr id="3331" name="Oval 525"/>
                <p:cNvSpPr/>
                <p:nvPr/>
              </p:nvSpPr>
              <p:spPr>
                <a:xfrm rot="4020000">
                  <a:off x="53604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2" name="Oval 526"/>
                <p:cNvSpPr/>
                <p:nvPr/>
              </p:nvSpPr>
              <p:spPr>
                <a:xfrm rot="9420000">
                  <a:off x="538920" y="54403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33" name="Oval 527"/>
            <p:cNvSpPr/>
            <p:nvPr/>
          </p:nvSpPr>
          <p:spPr>
            <a:xfrm>
              <a:off x="661680" y="5428800"/>
              <a:ext cx="118800" cy="105840"/>
            </a:xfrm>
            <a:prstGeom prst="ellipse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4" name="Group 1569"/>
          <p:cNvGrpSpPr/>
          <p:nvPr/>
        </p:nvGrpSpPr>
        <p:grpSpPr>
          <a:xfrm>
            <a:off x="6012000" y="765000"/>
            <a:ext cx="844560" cy="844560"/>
            <a:chOff x="6012000" y="765000"/>
            <a:chExt cx="844560" cy="844560"/>
          </a:xfrm>
        </p:grpSpPr>
        <p:sp>
          <p:nvSpPr>
            <p:cNvPr id="3335" name="AutoShape 1993"/>
            <p:cNvSpPr/>
            <p:nvPr/>
          </p:nvSpPr>
          <p:spPr>
            <a:xfrm>
              <a:off x="6012000" y="765000"/>
              <a:ext cx="844560" cy="844560"/>
            </a:xfrm>
            <a:custGeom>
              <a:avLst/>
              <a:gdLst>
                <a:gd name="textAreaLeft" fmla="*/ 348120 w 844560"/>
                <a:gd name="textAreaRight" fmla="*/ 496440 w 844560"/>
                <a:gd name="textAreaTop" fmla="*/ 348120 h 844560"/>
                <a:gd name="textAreaBottom" fmla="*/ 496440 h 8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AutoShape 1994"/>
            <p:cNvSpPr/>
            <p:nvPr/>
          </p:nvSpPr>
          <p:spPr>
            <a:xfrm rot="2700000">
              <a:off x="6180480" y="933480"/>
              <a:ext cx="507960" cy="506520"/>
            </a:xfrm>
            <a:custGeom>
              <a:avLst/>
              <a:gdLst>
                <a:gd name="textAreaLeft" fmla="*/ 209160 w 507960"/>
                <a:gd name="textAreaRight" fmla="*/ 298800 w 507960"/>
                <a:gd name="textAreaTop" fmla="*/ 208800 h 506520"/>
                <a:gd name="textAreaBottom" fmla="*/ 2977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Oval 1995"/>
            <p:cNvSpPr/>
            <p:nvPr/>
          </p:nvSpPr>
          <p:spPr>
            <a:xfrm>
              <a:off x="6308640" y="1061640"/>
              <a:ext cx="250920" cy="250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8" name="Group 1573"/>
          <p:cNvGrpSpPr/>
          <p:nvPr/>
        </p:nvGrpSpPr>
        <p:grpSpPr>
          <a:xfrm>
            <a:off x="4572000" y="1628640"/>
            <a:ext cx="844560" cy="844560"/>
            <a:chOff x="4572000" y="1628640"/>
            <a:chExt cx="844560" cy="844560"/>
          </a:xfrm>
        </p:grpSpPr>
        <p:sp>
          <p:nvSpPr>
            <p:cNvPr id="3339" name="AutoShape 1997"/>
            <p:cNvSpPr/>
            <p:nvPr/>
          </p:nvSpPr>
          <p:spPr>
            <a:xfrm>
              <a:off x="4572000" y="1628640"/>
              <a:ext cx="844560" cy="844560"/>
            </a:xfrm>
            <a:custGeom>
              <a:avLst/>
              <a:gdLst>
                <a:gd name="textAreaLeft" fmla="*/ 348120 w 844560"/>
                <a:gd name="textAreaRight" fmla="*/ 496440 w 844560"/>
                <a:gd name="textAreaTop" fmla="*/ 348120 h 844560"/>
                <a:gd name="textAreaBottom" fmla="*/ 496440 h 8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AutoShape 1998"/>
            <p:cNvSpPr/>
            <p:nvPr/>
          </p:nvSpPr>
          <p:spPr>
            <a:xfrm rot="2700000">
              <a:off x="4740480" y="1797120"/>
              <a:ext cx="507960" cy="506520"/>
            </a:xfrm>
            <a:custGeom>
              <a:avLst/>
              <a:gdLst>
                <a:gd name="textAreaLeft" fmla="*/ 209160 w 507960"/>
                <a:gd name="textAreaRight" fmla="*/ 298800 w 507960"/>
                <a:gd name="textAreaTop" fmla="*/ 208800 h 506520"/>
                <a:gd name="textAreaBottom" fmla="*/ 2977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Oval 1999"/>
            <p:cNvSpPr/>
            <p:nvPr/>
          </p:nvSpPr>
          <p:spPr>
            <a:xfrm>
              <a:off x="4868640" y="1925280"/>
              <a:ext cx="250920" cy="250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2" name="Group 1577"/>
          <p:cNvGrpSpPr/>
          <p:nvPr/>
        </p:nvGrpSpPr>
        <p:grpSpPr>
          <a:xfrm>
            <a:off x="2916360" y="620640"/>
            <a:ext cx="844560" cy="844560"/>
            <a:chOff x="2916360" y="620640"/>
            <a:chExt cx="844560" cy="844560"/>
          </a:xfrm>
        </p:grpSpPr>
        <p:sp>
          <p:nvSpPr>
            <p:cNvPr id="3343" name="AutoShape 2001"/>
            <p:cNvSpPr/>
            <p:nvPr/>
          </p:nvSpPr>
          <p:spPr>
            <a:xfrm>
              <a:off x="2916360" y="620640"/>
              <a:ext cx="844560" cy="844560"/>
            </a:xfrm>
            <a:custGeom>
              <a:avLst/>
              <a:gdLst>
                <a:gd name="textAreaLeft" fmla="*/ 348120 w 844560"/>
                <a:gd name="textAreaRight" fmla="*/ 496440 w 844560"/>
                <a:gd name="textAreaTop" fmla="*/ 348120 h 844560"/>
                <a:gd name="textAreaBottom" fmla="*/ 496440 h 8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AutoShape 2002"/>
            <p:cNvSpPr/>
            <p:nvPr/>
          </p:nvSpPr>
          <p:spPr>
            <a:xfrm rot="2700000">
              <a:off x="3084840" y="789120"/>
              <a:ext cx="507960" cy="506520"/>
            </a:xfrm>
            <a:custGeom>
              <a:avLst/>
              <a:gdLst>
                <a:gd name="textAreaLeft" fmla="*/ 209160 w 507960"/>
                <a:gd name="textAreaRight" fmla="*/ 298800 w 507960"/>
                <a:gd name="textAreaTop" fmla="*/ 208800 h 506520"/>
                <a:gd name="textAreaBottom" fmla="*/ 2977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Oval 2003"/>
            <p:cNvSpPr/>
            <p:nvPr/>
          </p:nvSpPr>
          <p:spPr>
            <a:xfrm>
              <a:off x="3213000" y="917280"/>
              <a:ext cx="250920" cy="250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6" name="Group 1581"/>
          <p:cNvGrpSpPr/>
          <p:nvPr/>
        </p:nvGrpSpPr>
        <p:grpSpPr>
          <a:xfrm>
            <a:off x="1979640" y="1197000"/>
            <a:ext cx="576360" cy="576360"/>
            <a:chOff x="1979640" y="1197000"/>
            <a:chExt cx="576360" cy="576360"/>
          </a:xfrm>
        </p:grpSpPr>
        <p:sp>
          <p:nvSpPr>
            <p:cNvPr id="3347" name="AutoShape 2005"/>
            <p:cNvSpPr/>
            <p:nvPr/>
          </p:nvSpPr>
          <p:spPr>
            <a:xfrm>
              <a:off x="1979640" y="119700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AutoShape 2006"/>
            <p:cNvSpPr/>
            <p:nvPr/>
          </p:nvSpPr>
          <p:spPr>
            <a:xfrm rot="2700000">
              <a:off x="2089800" y="130752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Oval 2007"/>
            <p:cNvSpPr/>
            <p:nvPr/>
          </p:nvSpPr>
          <p:spPr>
            <a:xfrm>
              <a:off x="2183040" y="1400400"/>
              <a:ext cx="169920" cy="16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0" name="Group 1585"/>
          <p:cNvGrpSpPr/>
          <p:nvPr/>
        </p:nvGrpSpPr>
        <p:grpSpPr>
          <a:xfrm>
            <a:off x="4149720" y="549360"/>
            <a:ext cx="709560" cy="709560"/>
            <a:chOff x="4149720" y="549360"/>
            <a:chExt cx="709560" cy="709560"/>
          </a:xfrm>
        </p:grpSpPr>
        <p:sp>
          <p:nvSpPr>
            <p:cNvPr id="3351" name="AutoShape 2009"/>
            <p:cNvSpPr/>
            <p:nvPr/>
          </p:nvSpPr>
          <p:spPr>
            <a:xfrm>
              <a:off x="4149720" y="549360"/>
              <a:ext cx="709560" cy="709560"/>
            </a:xfrm>
            <a:custGeom>
              <a:avLst/>
              <a:gdLst>
                <a:gd name="textAreaLeft" fmla="*/ 292320 w 709560"/>
                <a:gd name="textAreaRight" fmla="*/ 417240 w 709560"/>
                <a:gd name="textAreaTop" fmla="*/ 292320 h 709560"/>
                <a:gd name="textAreaBottom" fmla="*/ 417240 h 7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AutoShape 2010"/>
            <p:cNvSpPr/>
            <p:nvPr/>
          </p:nvSpPr>
          <p:spPr>
            <a:xfrm rot="2700000">
              <a:off x="4285080" y="684360"/>
              <a:ext cx="427320" cy="425160"/>
            </a:xfrm>
            <a:custGeom>
              <a:avLst/>
              <a:gdLst>
                <a:gd name="textAreaLeft" fmla="*/ 176040 w 427320"/>
                <a:gd name="textAreaRight" fmla="*/ 251280 w 427320"/>
                <a:gd name="textAreaTop" fmla="*/ 175320 h 425160"/>
                <a:gd name="textAreaBottom" fmla="*/ 249840 h 42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Oval 2011"/>
            <p:cNvSpPr/>
            <p:nvPr/>
          </p:nvSpPr>
          <p:spPr>
            <a:xfrm>
              <a:off x="4398840" y="798480"/>
              <a:ext cx="210960" cy="21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4" name="Group 1589"/>
          <p:cNvGrpSpPr/>
          <p:nvPr/>
        </p:nvGrpSpPr>
        <p:grpSpPr>
          <a:xfrm>
            <a:off x="1403280" y="2421000"/>
            <a:ext cx="576360" cy="576360"/>
            <a:chOff x="1403280" y="2421000"/>
            <a:chExt cx="576360" cy="576360"/>
          </a:xfrm>
        </p:grpSpPr>
        <p:sp>
          <p:nvSpPr>
            <p:cNvPr id="3355" name="AutoShape 2013"/>
            <p:cNvSpPr/>
            <p:nvPr/>
          </p:nvSpPr>
          <p:spPr>
            <a:xfrm>
              <a:off x="1403280" y="242100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AutoShape 2014"/>
            <p:cNvSpPr/>
            <p:nvPr/>
          </p:nvSpPr>
          <p:spPr>
            <a:xfrm rot="2700000">
              <a:off x="1513440" y="253152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Oval 2015"/>
            <p:cNvSpPr/>
            <p:nvPr/>
          </p:nvSpPr>
          <p:spPr>
            <a:xfrm>
              <a:off x="1606680" y="2624400"/>
              <a:ext cx="169920" cy="16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8" name="Group 1593"/>
          <p:cNvGrpSpPr/>
          <p:nvPr/>
        </p:nvGrpSpPr>
        <p:grpSpPr>
          <a:xfrm>
            <a:off x="1763640" y="3933720"/>
            <a:ext cx="576360" cy="576360"/>
            <a:chOff x="1763640" y="3933720"/>
            <a:chExt cx="576360" cy="576360"/>
          </a:xfrm>
        </p:grpSpPr>
        <p:sp>
          <p:nvSpPr>
            <p:cNvPr id="3359" name="AutoShape 2017"/>
            <p:cNvSpPr/>
            <p:nvPr/>
          </p:nvSpPr>
          <p:spPr>
            <a:xfrm>
              <a:off x="1763640" y="393372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AutoShape 2018"/>
            <p:cNvSpPr/>
            <p:nvPr/>
          </p:nvSpPr>
          <p:spPr>
            <a:xfrm rot="2700000">
              <a:off x="1873800" y="404424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Oval 2019"/>
            <p:cNvSpPr/>
            <p:nvPr/>
          </p:nvSpPr>
          <p:spPr>
            <a:xfrm>
              <a:off x="1967040" y="4137120"/>
              <a:ext cx="169920" cy="16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2" name="Group 1597"/>
          <p:cNvGrpSpPr/>
          <p:nvPr/>
        </p:nvGrpSpPr>
        <p:grpSpPr>
          <a:xfrm>
            <a:off x="5796000" y="3429000"/>
            <a:ext cx="576360" cy="576360"/>
            <a:chOff x="5796000" y="3429000"/>
            <a:chExt cx="576360" cy="576360"/>
          </a:xfrm>
        </p:grpSpPr>
        <p:sp>
          <p:nvSpPr>
            <p:cNvPr id="3363" name="AutoShape 2021"/>
            <p:cNvSpPr/>
            <p:nvPr/>
          </p:nvSpPr>
          <p:spPr>
            <a:xfrm>
              <a:off x="5796000" y="342900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AutoShape 2022"/>
            <p:cNvSpPr/>
            <p:nvPr/>
          </p:nvSpPr>
          <p:spPr>
            <a:xfrm rot="2700000">
              <a:off x="5906160" y="353952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Oval 2023"/>
            <p:cNvSpPr/>
            <p:nvPr/>
          </p:nvSpPr>
          <p:spPr>
            <a:xfrm>
              <a:off x="5999400" y="3632400"/>
              <a:ext cx="169920" cy="16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6" name="Group 1601"/>
          <p:cNvGrpSpPr/>
          <p:nvPr/>
        </p:nvGrpSpPr>
        <p:grpSpPr>
          <a:xfrm>
            <a:off x="6877080" y="3139920"/>
            <a:ext cx="576360" cy="576360"/>
            <a:chOff x="6877080" y="3139920"/>
            <a:chExt cx="576360" cy="576360"/>
          </a:xfrm>
        </p:grpSpPr>
        <p:sp>
          <p:nvSpPr>
            <p:cNvPr id="3367" name="AutoShape 2025"/>
            <p:cNvSpPr/>
            <p:nvPr/>
          </p:nvSpPr>
          <p:spPr>
            <a:xfrm>
              <a:off x="6877080" y="313992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AutoShape 2026"/>
            <p:cNvSpPr/>
            <p:nvPr/>
          </p:nvSpPr>
          <p:spPr>
            <a:xfrm rot="2700000">
              <a:off x="6987240" y="325044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Oval 2027"/>
            <p:cNvSpPr/>
            <p:nvPr/>
          </p:nvSpPr>
          <p:spPr>
            <a:xfrm>
              <a:off x="7080480" y="3343320"/>
              <a:ext cx="169920" cy="16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0" name="Group 1605"/>
          <p:cNvGrpSpPr/>
          <p:nvPr/>
        </p:nvGrpSpPr>
        <p:grpSpPr>
          <a:xfrm>
            <a:off x="4817520" y="5658480"/>
            <a:ext cx="367920" cy="368640"/>
            <a:chOff x="4817520" y="5658480"/>
            <a:chExt cx="367920" cy="368640"/>
          </a:xfrm>
        </p:grpSpPr>
        <p:grpSp>
          <p:nvGrpSpPr>
            <p:cNvPr id="3371" name="Group 1606"/>
            <p:cNvGrpSpPr/>
            <p:nvPr/>
          </p:nvGrpSpPr>
          <p:grpSpPr>
            <a:xfrm>
              <a:off x="4821120" y="5661000"/>
              <a:ext cx="363240" cy="363240"/>
              <a:chOff x="4821120" y="5661000"/>
              <a:chExt cx="363240" cy="363240"/>
            </a:xfrm>
          </p:grpSpPr>
          <p:grpSp>
            <p:nvGrpSpPr>
              <p:cNvPr id="3372" name="Group 1607"/>
              <p:cNvGrpSpPr/>
              <p:nvPr/>
            </p:nvGrpSpPr>
            <p:grpSpPr>
              <a:xfrm>
                <a:off x="4821120" y="5661000"/>
                <a:ext cx="363240" cy="363240"/>
                <a:chOff x="4821120" y="5661000"/>
                <a:chExt cx="363240" cy="363240"/>
              </a:xfrm>
            </p:grpSpPr>
            <p:sp>
              <p:nvSpPr>
                <p:cNvPr id="3373" name="Oval 275"/>
                <p:cNvSpPr/>
                <p:nvPr/>
              </p:nvSpPr>
              <p:spPr>
                <a:xfrm>
                  <a:off x="4821120" y="58050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4" name="Oval 276"/>
                <p:cNvSpPr/>
                <p:nvPr/>
              </p:nvSpPr>
              <p:spPr>
                <a:xfrm rot="5400000">
                  <a:off x="482040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5" name="Group 1610"/>
              <p:cNvGrpSpPr/>
              <p:nvPr/>
            </p:nvGrpSpPr>
            <p:grpSpPr>
              <a:xfrm>
                <a:off x="4842360" y="5684760"/>
                <a:ext cx="317160" cy="317880"/>
                <a:chOff x="4842360" y="5684760"/>
                <a:chExt cx="317160" cy="317880"/>
              </a:xfrm>
            </p:grpSpPr>
            <p:sp>
              <p:nvSpPr>
                <p:cNvPr id="3376" name="Oval 278"/>
                <p:cNvSpPr/>
                <p:nvPr/>
              </p:nvSpPr>
              <p:spPr>
                <a:xfrm rot="2700000">
                  <a:off x="4818240" y="58039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7" name="Oval 279"/>
                <p:cNvSpPr/>
                <p:nvPr/>
              </p:nvSpPr>
              <p:spPr>
                <a:xfrm rot="8100000">
                  <a:off x="482004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78" name="Group 1613"/>
            <p:cNvGrpSpPr/>
            <p:nvPr/>
          </p:nvGrpSpPr>
          <p:grpSpPr>
            <a:xfrm>
              <a:off x="4817520" y="5658480"/>
              <a:ext cx="367920" cy="368640"/>
              <a:chOff x="4817520" y="5658480"/>
              <a:chExt cx="367920" cy="368640"/>
            </a:xfrm>
          </p:grpSpPr>
          <p:grpSp>
            <p:nvGrpSpPr>
              <p:cNvPr id="3379" name="Group 1614"/>
              <p:cNvGrpSpPr/>
              <p:nvPr/>
            </p:nvGrpSpPr>
            <p:grpSpPr>
              <a:xfrm>
                <a:off x="4817520" y="5658480"/>
                <a:ext cx="367920" cy="367920"/>
                <a:chOff x="4817520" y="5658480"/>
                <a:chExt cx="367920" cy="367920"/>
              </a:xfrm>
            </p:grpSpPr>
            <p:sp>
              <p:nvSpPr>
                <p:cNvPr id="3380" name="Oval 282"/>
                <p:cNvSpPr/>
                <p:nvPr/>
              </p:nvSpPr>
              <p:spPr>
                <a:xfrm rot="1320000">
                  <a:off x="4819680" y="58042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1" name="Oval 283"/>
                <p:cNvSpPr/>
                <p:nvPr/>
              </p:nvSpPr>
              <p:spPr>
                <a:xfrm rot="6720000">
                  <a:off x="482040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2" name="Group 1617"/>
              <p:cNvGrpSpPr/>
              <p:nvPr/>
            </p:nvGrpSpPr>
            <p:grpSpPr>
              <a:xfrm>
                <a:off x="4818960" y="5660640"/>
                <a:ext cx="366480" cy="366480"/>
                <a:chOff x="4818960" y="5660640"/>
                <a:chExt cx="366480" cy="366480"/>
              </a:xfrm>
            </p:grpSpPr>
            <p:sp>
              <p:nvSpPr>
                <p:cNvPr id="3383" name="Oval 285"/>
                <p:cNvSpPr/>
                <p:nvPr/>
              </p:nvSpPr>
              <p:spPr>
                <a:xfrm rot="4020000">
                  <a:off x="4817520" y="580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4" name="Oval 286"/>
                <p:cNvSpPr/>
                <p:nvPr/>
              </p:nvSpPr>
              <p:spPr>
                <a:xfrm rot="9420000">
                  <a:off x="4820400" y="580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85" name="Oval 287"/>
            <p:cNvSpPr/>
            <p:nvPr/>
          </p:nvSpPr>
          <p:spPr>
            <a:xfrm>
              <a:off x="4943160" y="5789160"/>
              <a:ext cx="118800" cy="105840"/>
            </a:xfrm>
            <a:prstGeom prst="ellipse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6" name="Text Box 2028"/>
          <p:cNvSpPr/>
          <p:nvPr/>
        </p:nvSpPr>
        <p:spPr>
          <a:xfrm>
            <a:off x="828720" y="2133720"/>
            <a:ext cx="648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叶根友行书繁"/>
              </a:rPr>
              <a:t>最后希望小朋友们上完这节课后能养成好的学习习惯，学会学习、爱上学习，做一个学习的小主人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4" dur="5000" fill="hold"/>
                                        <p:tgtEl>
                                          <p:spTgt spid="32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6" dur="5000" fill="hold"/>
                                        <p:tgtEl>
                                          <p:spTgt spid="3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0"/>
                                        <p:tgtEl>
                                          <p:spTgt spid="3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9" dur="2500" autoRev="1" fill="hold"/>
                                        <p:tgtEl>
                                          <p:spTgt spid="32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0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501" dur="30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2" autoRev="1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1200000">
                                      <p:cBhvr>
                                        <p:cTn id="503" dur="2000" fill="hold"/>
                                        <p:tgtEl>
                                          <p:spTgt spid="3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4" autoRev="1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1200000">
                                      <p:cBhvr>
                                        <p:cTn id="505" dur="3000" fill="hold"/>
                                        <p:tgtEl>
                                          <p:spTgt spid="3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847 -0.012963 C -0.048823 -0.060593 -0.140313 -0.107993 -0.216183 -0.109143 C -0.292053 -0.110303 -0.319483 -0.035393 -0.412883 -0.019433 C -0.506293 -0.003483 -0.671043 0.002987 -0.776773 -0.012963 C -0.882503 -0.028913 -0.964973 -0.072383 -1.047263 -0.115623 E">
                                      <p:cBhvr>
                                        <p:cTn id="507" dur="20000" fill="hold"/>
                                        <p:tgtEl>
                                          <p:spTgt spid="1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509" dur="20000" fill="hold"/>
                                        <p:tgtEl>
                                          <p:spTgt spid="1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511" dur="20000" fill="hold"/>
                                        <p:tgtEl>
                                          <p:spTgt spid="1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513" dur="20000" fill="hold"/>
                                        <p:tgtEl>
                                          <p:spTgt spid="18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5000"/>
                                        <p:tgtEl>
                                          <p:spTgt spid="3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6" dur="2500" autoRev="1" fill="hold"/>
                                        <p:tgtEl>
                                          <p:spTgt spid="3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8" dur="5000" fill="hold"/>
                                        <p:tgtEl>
                                          <p:spTgt spid="33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0" dur="5000" fill="hold"/>
                                        <p:tgtEl>
                                          <p:spTgt spid="3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5000"/>
                                        <p:tgtEl>
                                          <p:spTgt spid="33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3" dur="2500" autoRev="1" fill="hold"/>
                                        <p:tgtEl>
                                          <p:spTgt spid="33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4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5" dur="5000" fill="hold"/>
                                        <p:tgtEl>
                                          <p:spTgt spid="33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7" dur="5000" fill="hold"/>
                                        <p:tgtEl>
                                          <p:spTgt spid="3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5000"/>
                                        <p:tgtEl>
                                          <p:spTgt spid="3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2500" autoRev="1" fill="hold"/>
                                        <p:tgtEl>
                                          <p:spTgt spid="33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2" dur="5000" fill="hold"/>
                                        <p:tgtEl>
                                          <p:spTgt spid="33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4" dur="5000" fill="hold"/>
                                        <p:tgtEl>
                                          <p:spTgt spid="3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5000"/>
                                        <p:tgtEl>
                                          <p:spTgt spid="3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7" dur="2500" autoRev="1" fill="hold"/>
                                        <p:tgtEl>
                                          <p:spTgt spid="33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8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9" dur="5000" fill="hold"/>
                                        <p:tgtEl>
                                          <p:spTgt spid="33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1" dur="5000" fill="hold"/>
                                        <p:tgtEl>
                                          <p:spTgt spid="3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5000"/>
                                        <p:tgtEl>
                                          <p:spTgt spid="3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4" dur="2500" autoRev="1" fill="hold"/>
                                        <p:tgtEl>
                                          <p:spTgt spid="33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6" dur="5000" fill="hold"/>
                                        <p:tgtEl>
                                          <p:spTgt spid="33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8" dur="5000" fill="hold"/>
                                        <p:tgtEl>
                                          <p:spTgt spid="3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5000"/>
                                        <p:tgtEl>
                                          <p:spTgt spid="3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1" dur="2500" autoRev="1" fill="hold"/>
                                        <p:tgtEl>
                                          <p:spTgt spid="33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3" dur="5000" fill="hold"/>
                                        <p:tgtEl>
                                          <p:spTgt spid="33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5" dur="5000" fill="hold"/>
                                        <p:tgtEl>
                                          <p:spTgt spid="3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5000"/>
                                        <p:tgtEl>
                                          <p:spTgt spid="33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8" dur="2500" autoRev="1" fill="hold"/>
                                        <p:tgtEl>
                                          <p:spTgt spid="33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0" dur="5000" fill="hold"/>
                                        <p:tgtEl>
                                          <p:spTgt spid="33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2" dur="5000" fill="hold"/>
                                        <p:tgtEl>
                                          <p:spTgt spid="3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5000"/>
                                        <p:tgtEl>
                                          <p:spTgt spid="3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5" dur="2500" autoRev="1" fill="hold"/>
                                        <p:tgtEl>
                                          <p:spTgt spid="33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6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7" dur="5000" fill="hold"/>
                                        <p:tgtEl>
                                          <p:spTgt spid="33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5000" fill="hold"/>
                                        <p:tgtEl>
                                          <p:spTgt spid="3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5000"/>
                                        <p:tgtEl>
                                          <p:spTgt spid="3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2" dur="2500" autoRev="1" fill="hold"/>
                                        <p:tgtEl>
                                          <p:spTgt spid="33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4" dur="5000" fill="hold"/>
                                        <p:tgtEl>
                                          <p:spTgt spid="33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6" dur="50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7" nodeType="with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8" dur="3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155"/>
                                        <p:tgtEl>
                                          <p:spTgt spid="33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2" dur="1155" fill="hold"/>
                                        <p:tgtEl>
                                          <p:spTgt spid="33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3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4" dur="1155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6" dur="1155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8" name="Picture 2" descr="1学弈－动画故事_201352021822"/>
          <p:cNvPicPr/>
          <p:nvPr/>
        </p:nvPicPr>
        <p:blipFill>
          <a:blip r:embed="rId1"/>
          <a:stretch/>
        </p:blipFill>
        <p:spPr>
          <a:xfrm>
            <a:off x="2268360" y="909720"/>
            <a:ext cx="4187880" cy="3141720"/>
          </a:xfrm>
          <a:prstGeom prst="rect">
            <a:avLst/>
          </a:prstGeom>
          <a:ln w="0">
            <a:noFill/>
          </a:ln>
        </p:spPr>
      </p:pic>
      <p:sp>
        <p:nvSpPr>
          <p:cNvPr id="1709" name="Text Box 3"/>
          <p:cNvSpPr/>
          <p:nvPr/>
        </p:nvSpPr>
        <p:spPr>
          <a:xfrm>
            <a:off x="6877080" y="1341360"/>
            <a:ext cx="2014560" cy="1068840"/>
          </a:xfrm>
          <a:prstGeom prst="rect">
            <a:avLst/>
          </a:prstGeom>
          <a:solidFill>
            <a:srgbClr val="9bda07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会下棋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师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0" name="Picture 4" descr="1学弈－动画故事_2013520211028"/>
          <p:cNvPicPr/>
          <p:nvPr/>
        </p:nvPicPr>
        <p:blipFill>
          <a:blip r:embed="rId2"/>
          <a:stretch/>
        </p:blipFill>
        <p:spPr>
          <a:xfrm>
            <a:off x="5437080" y="2565360"/>
            <a:ext cx="3313080" cy="3354480"/>
          </a:xfrm>
          <a:prstGeom prst="rect">
            <a:avLst/>
          </a:prstGeom>
          <a:ln w="0">
            <a:noFill/>
          </a:ln>
        </p:spPr>
      </p:pic>
      <p:sp>
        <p:nvSpPr>
          <p:cNvPr id="1711" name="Text Box 5"/>
          <p:cNvSpPr/>
          <p:nvPr/>
        </p:nvSpPr>
        <p:spPr>
          <a:xfrm>
            <a:off x="468360" y="5805360"/>
            <a:ext cx="2158920" cy="581400"/>
          </a:xfrm>
          <a:prstGeom prst="rect">
            <a:avLst/>
          </a:prstGeom>
          <a:solidFill>
            <a:srgbClr val="9bda07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专心听讲的学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Text Box 6"/>
          <p:cNvSpPr/>
          <p:nvPr/>
        </p:nvSpPr>
        <p:spPr>
          <a:xfrm>
            <a:off x="5940360" y="5734080"/>
            <a:ext cx="2089080" cy="581400"/>
          </a:xfrm>
          <a:prstGeom prst="rect">
            <a:avLst/>
          </a:prstGeom>
          <a:solidFill>
            <a:srgbClr val="9bda07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专心的学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AutoShape 7"/>
          <p:cNvSpPr/>
          <p:nvPr/>
        </p:nvSpPr>
        <p:spPr>
          <a:xfrm>
            <a:off x="6445080" y="1917720"/>
            <a:ext cx="358920" cy="142920"/>
          </a:xfrm>
          <a:prstGeom prst="rightArrow">
            <a:avLst>
              <a:gd name="adj1" fmla="val 50000"/>
              <a:gd name="adj2" fmla="val 62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Text Box 8"/>
          <p:cNvSpPr/>
          <p:nvPr/>
        </p:nvSpPr>
        <p:spPr>
          <a:xfrm>
            <a:off x="3310920" y="117360"/>
            <a:ext cx="2009520" cy="703440"/>
          </a:xfrm>
          <a:prstGeom prst="rect">
            <a:avLst/>
          </a:prstGeom>
          <a:solidFill>
            <a:srgbClr val="99ff3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故事人物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5" name="Picture 9" descr="1学弈－动画故事_20135202199"/>
          <p:cNvPicPr/>
          <p:nvPr/>
        </p:nvPicPr>
        <p:blipFill>
          <a:blip r:embed="rId3"/>
          <a:stretch/>
        </p:blipFill>
        <p:spPr>
          <a:xfrm>
            <a:off x="181080" y="2421000"/>
            <a:ext cx="3166920" cy="33955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20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6" name="Picture 2" descr="1学弈－动画故事_20135202199"/>
          <p:cNvPicPr/>
          <p:nvPr/>
        </p:nvPicPr>
        <p:blipFill>
          <a:blip r:embed="rId1"/>
          <a:stretch/>
        </p:blipFill>
        <p:spPr>
          <a:xfrm>
            <a:off x="468360" y="260280"/>
            <a:ext cx="3166920" cy="3397320"/>
          </a:xfrm>
          <a:prstGeom prst="rect">
            <a:avLst/>
          </a:prstGeom>
          <a:ln w="0">
            <a:noFill/>
          </a:ln>
        </p:spPr>
      </p:pic>
      <p:sp>
        <p:nvSpPr>
          <p:cNvPr id="1717" name="AutoShape 3"/>
          <p:cNvSpPr/>
          <p:nvPr/>
        </p:nvSpPr>
        <p:spPr>
          <a:xfrm>
            <a:off x="5148360" y="836640"/>
            <a:ext cx="3024000" cy="1728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"/>
              </a:rPr>
              <a:t>专心致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"/>
              </a:rPr>
              <a:t>边听边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"/>
              </a:rPr>
              <a:t>及时问老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AutoShape 4"/>
          <p:cNvSpPr/>
          <p:nvPr/>
        </p:nvSpPr>
        <p:spPr>
          <a:xfrm>
            <a:off x="4140360" y="1628640"/>
            <a:ext cx="792000" cy="289080"/>
          </a:xfrm>
          <a:prstGeom prst="leftRightArrow">
            <a:avLst>
              <a:gd name="adj1" fmla="val 50000"/>
              <a:gd name="adj2" fmla="val 54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9" name="Picture 5" descr="1学弈－动画故事_2013520211028"/>
          <p:cNvPicPr/>
          <p:nvPr/>
        </p:nvPicPr>
        <p:blipFill>
          <a:blip r:embed="rId2"/>
          <a:stretch/>
        </p:blipFill>
        <p:spPr>
          <a:xfrm>
            <a:off x="5003640" y="3357720"/>
            <a:ext cx="3313440" cy="3354120"/>
          </a:xfrm>
          <a:prstGeom prst="rect">
            <a:avLst/>
          </a:prstGeom>
          <a:ln w="0">
            <a:noFill/>
          </a:ln>
        </p:spPr>
      </p:pic>
      <p:sp>
        <p:nvSpPr>
          <p:cNvPr id="1720" name="AutoShape 6"/>
          <p:cNvSpPr/>
          <p:nvPr/>
        </p:nvSpPr>
        <p:spPr>
          <a:xfrm>
            <a:off x="3995640" y="5229360"/>
            <a:ext cx="792360" cy="288720"/>
          </a:xfrm>
          <a:prstGeom prst="leftRightArrow">
            <a:avLst>
              <a:gd name="adj1" fmla="val 50000"/>
              <a:gd name="adj2" fmla="val 546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AutoShape 7"/>
          <p:cNvSpPr/>
          <p:nvPr/>
        </p:nvSpPr>
        <p:spPr>
          <a:xfrm>
            <a:off x="252360" y="4365720"/>
            <a:ext cx="3527640" cy="2160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"/>
              </a:rPr>
              <a:t>走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"/>
              </a:rPr>
              <a:t>搞小动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"/>
              </a:rPr>
              <a:t>听了一会又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"/>
              </a:rPr>
              <a:t>别的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1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1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1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2" name="Picture 2" descr="71cf3bc79f3df8dc46189cdbcd11728b4610b912c8fc706e[1]"/>
          <p:cNvPicPr/>
          <p:nvPr/>
        </p:nvPicPr>
        <p:blipFill>
          <a:blip r:embed="rId2"/>
          <a:stretch/>
        </p:blipFill>
        <p:spPr>
          <a:xfrm>
            <a:off x="0" y="3430440"/>
            <a:ext cx="5560920" cy="3057840"/>
          </a:xfrm>
          <a:prstGeom prst="rect">
            <a:avLst/>
          </a:prstGeom>
          <a:ln w="0">
            <a:noFill/>
          </a:ln>
        </p:spPr>
      </p:pic>
      <p:pic>
        <p:nvPicPr>
          <p:cNvPr id="1723" name="WordArt 3" descr=""/>
          <p:cNvPicPr/>
          <p:nvPr/>
        </p:nvPicPr>
        <p:blipFill>
          <a:blip r:embed="rId3"/>
          <a:stretch/>
        </p:blipFill>
        <p:spPr>
          <a:xfrm>
            <a:off x="2614680" y="2335320"/>
            <a:ext cx="4779720" cy="1036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77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770" fill="hold"/>
                                        <p:tgtEl>
                                          <p:spTgt spid="17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4" name="Picture 2" descr="1学弈－动画故事_201352021354"/>
          <p:cNvPicPr/>
          <p:nvPr/>
        </p:nvPicPr>
        <p:blipFill>
          <a:blip r:embed="rId1"/>
          <a:stretch/>
        </p:blipFill>
        <p:spPr>
          <a:xfrm>
            <a:off x="395280" y="476280"/>
            <a:ext cx="2797200" cy="2797200"/>
          </a:xfrm>
          <a:prstGeom prst="rect">
            <a:avLst/>
          </a:prstGeom>
          <a:ln w="0">
            <a:noFill/>
          </a:ln>
        </p:spPr>
      </p:pic>
      <p:sp>
        <p:nvSpPr>
          <p:cNvPr id="1725" name="Text Box 3"/>
          <p:cNvSpPr/>
          <p:nvPr/>
        </p:nvSpPr>
        <p:spPr>
          <a:xfrm>
            <a:off x="3564000" y="1197000"/>
            <a:ext cx="2928960" cy="825120"/>
          </a:xfrm>
          <a:prstGeom prst="rect">
            <a:avLst/>
          </a:prstGeom>
          <a:solidFill>
            <a:srgbClr val="9bda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楷体"/>
              </a:rPr>
              <a:t>围棋高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6" name="Picture 4" descr="1学弈－动画故事_2013520213519"/>
          <p:cNvPicPr/>
          <p:nvPr/>
        </p:nvPicPr>
        <p:blipFill>
          <a:blip r:embed="rId2"/>
          <a:stretch/>
        </p:blipFill>
        <p:spPr>
          <a:xfrm>
            <a:off x="6012000" y="3718080"/>
            <a:ext cx="2736720" cy="2795400"/>
          </a:xfrm>
          <a:prstGeom prst="rect">
            <a:avLst/>
          </a:prstGeom>
          <a:ln w="0">
            <a:noFill/>
          </a:ln>
        </p:spPr>
      </p:pic>
      <p:sp>
        <p:nvSpPr>
          <p:cNvPr id="1727" name="Text Box 5"/>
          <p:cNvSpPr/>
          <p:nvPr/>
        </p:nvSpPr>
        <p:spPr>
          <a:xfrm>
            <a:off x="2495880" y="4870440"/>
            <a:ext cx="2375280" cy="825120"/>
          </a:xfrm>
          <a:prstGeom prst="rect">
            <a:avLst/>
          </a:prstGeom>
          <a:solidFill>
            <a:srgbClr val="9bda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楷体"/>
              </a:rPr>
              <a:t>棋艺没有进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Text Box 6"/>
          <p:cNvSpPr/>
          <p:nvPr/>
        </p:nvSpPr>
        <p:spPr>
          <a:xfrm>
            <a:off x="6300720" y="2276640"/>
            <a:ext cx="1306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9" name="Picture 7" descr=""/>
          <p:cNvPicPr/>
          <p:nvPr/>
        </p:nvPicPr>
        <p:blipFill>
          <a:blip r:embed="rId3"/>
          <a:stretch/>
        </p:blipFill>
        <p:spPr>
          <a:xfrm>
            <a:off x="6229440" y="549360"/>
            <a:ext cx="2303280" cy="2303280"/>
          </a:xfrm>
          <a:prstGeom prst="rect">
            <a:avLst/>
          </a:prstGeom>
          <a:ln w="0">
            <a:noFill/>
          </a:ln>
        </p:spPr>
      </p:pic>
      <p:pic>
        <p:nvPicPr>
          <p:cNvPr id="1730" name="Picture 8" descr=""/>
          <p:cNvPicPr/>
          <p:nvPr/>
        </p:nvPicPr>
        <p:blipFill>
          <a:blip r:embed="rId4"/>
          <a:stretch/>
        </p:blipFill>
        <p:spPr>
          <a:xfrm>
            <a:off x="324000" y="404028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4" dur="2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77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770" fill="hold"/>
                                        <p:tgtEl>
                                          <p:spTgt spid="17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77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770" fill="hold"/>
                                        <p:tgtEl>
                                          <p:spTgt spid="17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5" dur="77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TextBox 2"/>
          <p:cNvSpPr/>
          <p:nvPr/>
        </p:nvSpPr>
        <p:spPr>
          <a:xfrm>
            <a:off x="2571840" y="3857760"/>
            <a:ext cx="4143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Text Box 3"/>
          <p:cNvSpPr/>
          <p:nvPr/>
        </p:nvSpPr>
        <p:spPr>
          <a:xfrm>
            <a:off x="1619280" y="1628640"/>
            <a:ext cx="60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习惯的力量是巨大的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养成良好的学习习惯是非常重要的，一个好的学习习惯，可以让我们更好的学到知识，掌握本领，可以得到老师、家长还有同学们的夸赞，而坏的学习习惯只会分散我们上课的注意力，学不到知识，使我们失去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兴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WordArt 2"/>
          <p:cNvSpPr txBox="1"/>
          <p:nvPr/>
        </p:nvSpPr>
        <p:spPr>
          <a:xfrm rot="5400000">
            <a:off x="-1188360" y="2491560"/>
            <a:ext cx="4317840" cy="115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"/>
              </a:rPr>
              <a:t>上学歌</a:t>
            </a:r>
            <a:endParaRPr b="1" lang="en-US" sz="4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"/>
              <a:ea typeface="楷体"/>
            </a:endParaRPr>
          </a:p>
        </p:txBody>
      </p:sp>
      <p:sp>
        <p:nvSpPr>
          <p:cNvPr id="1734" name="Text Box 3"/>
          <p:cNvSpPr/>
          <p:nvPr/>
        </p:nvSpPr>
        <p:spPr>
          <a:xfrm>
            <a:off x="4172040" y="2428920"/>
            <a:ext cx="227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Text Box 4"/>
          <p:cNvSpPr/>
          <p:nvPr/>
        </p:nvSpPr>
        <p:spPr>
          <a:xfrm>
            <a:off x="3314160" y="1917720"/>
            <a:ext cx="3533400" cy="1312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"/>
              </a:rPr>
              <a:t>在这首歌中，视频中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"/>
              </a:rPr>
              <a:t>小男生都做了哪些事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6" name="Picture 2" descr="getCAV1B7JF"/>
          <p:cNvPicPr/>
          <p:nvPr/>
        </p:nvPicPr>
        <p:blipFill>
          <a:blip r:embed="rId1"/>
          <a:stretch/>
        </p:blipFill>
        <p:spPr>
          <a:xfrm>
            <a:off x="755640" y="1844640"/>
            <a:ext cx="3417840" cy="4506840"/>
          </a:xfrm>
          <a:prstGeom prst="rect">
            <a:avLst/>
          </a:prstGeom>
          <a:ln w="0">
            <a:noFill/>
          </a:ln>
        </p:spPr>
      </p:pic>
      <p:sp>
        <p:nvSpPr>
          <p:cNvPr id="1737" name="AutoShape 3"/>
          <p:cNvSpPr/>
          <p:nvPr/>
        </p:nvSpPr>
        <p:spPr>
          <a:xfrm>
            <a:off x="5364000" y="333360"/>
            <a:ext cx="2880000" cy="1081080"/>
          </a:xfrm>
          <a:prstGeom prst="wedgeEllipseCallout">
            <a:avLst>
              <a:gd name="adj1" fmla="val -47476"/>
              <a:gd name="adj2" fmla="val 45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早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AutoShape 4"/>
          <p:cNvSpPr/>
          <p:nvPr/>
        </p:nvSpPr>
        <p:spPr>
          <a:xfrm>
            <a:off x="5940360" y="1989000"/>
            <a:ext cx="2521080" cy="1152720"/>
          </a:xfrm>
          <a:prstGeom prst="wedgeRoundRectCallout">
            <a:avLst>
              <a:gd name="adj1" fmla="val -41004"/>
              <a:gd name="adj2" fmla="val 68356"/>
              <a:gd name="adj3" fmla="val 16667"/>
            </a:avLst>
          </a:pr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到学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AutoShape 5"/>
          <p:cNvSpPr/>
          <p:nvPr/>
        </p:nvSpPr>
        <p:spPr>
          <a:xfrm>
            <a:off x="5724360" y="3860640"/>
            <a:ext cx="3024360" cy="1225800"/>
          </a:xfrm>
          <a:prstGeom prst="wedgeEllipseCallout">
            <a:avLst>
              <a:gd name="adj1" fmla="val -44296"/>
              <a:gd name="adj2" fmla="val 489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AutoShape 6"/>
          <p:cNvSpPr/>
          <p:nvPr/>
        </p:nvSpPr>
        <p:spPr>
          <a:xfrm>
            <a:off x="5292720" y="5445000"/>
            <a:ext cx="3095640" cy="1152720"/>
          </a:xfrm>
          <a:prstGeom prst="wedgeEllipseCallout">
            <a:avLst>
              <a:gd name="adj1" fmla="val -43180"/>
              <a:gd name="adj2" fmla="val 489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劳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1" name="Picture 7" descr="get[3]"/>
          <p:cNvPicPr/>
          <p:nvPr/>
        </p:nvPicPr>
        <p:blipFill>
          <a:blip r:embed="rId2"/>
          <a:stretch/>
        </p:blipFill>
        <p:spPr>
          <a:xfrm rot="20400000">
            <a:off x="-312480" y="-519120"/>
            <a:ext cx="2279880" cy="1709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819 0.000556 L 0.347222 0.000556 E">
                                      <p:cBhvr>
                                        <p:cTn id="270" dur="3000" fill="hold"/>
                                        <p:tgtEl>
                                          <p:spTgt spid="1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/>
          </p:nvPr>
        </p:nvSpPr>
        <p:spPr>
          <a:xfrm>
            <a:off x="61272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我们都是小学生，培养习惯最要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上课应当专心听，积极开动小脑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作业认真仔细做，按时完成交得勤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有了错误要订正，知识才能学得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学习要有好习惯，我们牢牢记在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记在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00:57:20Z</dcterms:created>
  <dc:creator>jujumao</dc:creator>
  <dc:description/>
  <cp:keywords/>
  <dc:language>en-US</dc:language>
  <cp:lastModifiedBy>Administrator</cp:lastModifiedBy>
  <dcterms:modified xsi:type="dcterms:W3CDTF">2015-09-30T01:38:14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