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5E6-1158-48E1-BA62-DA646488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B42-9DC7-42C9-8CA7-7A2CDF0F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91B-2834-4821-88CB-4B2B9390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BCE-E783-40B7-827C-8E64C485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B8F1-4195-46EA-85F1-B72E68FF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39A0-494E-48EC-8FC7-D8F180E5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81EC-E244-4728-BF8C-84EA499E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8DF8-B6A2-48BE-8D11-49DFAADA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266B-E694-4E9C-95BE-A7BAB6C0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6927-99D5-423B-A7D7-C3F49142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88EB-7B0A-42A7-A506-511743DB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F6F-B7A6-46A4-B37D-277D4BF7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ECDC-84A7-44C4-ADED-57A69CA4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B2F5-E710-4BE7-ADCF-8FBB86BD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660F-7A6F-46E5-AD8C-50FE82CE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3BF5-A4E7-49FD-A4C3-361E0D3E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B658-53FC-4E6D-99B4-2D09A26B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FF5-D841-4649-985C-B3179F8D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DC3-205A-44D0-9688-97B1FCC0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B2E-FEF4-455C-A9F8-5E555465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DC2-4F40-43F4-9402-BD64AD02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265-F79C-4076-AEFA-2536C74A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59D-4E0A-4DB4-B9EF-C00D7FC9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D65-938C-49B2-BADF-D525AD35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EE71-B53A-480A-8E01-FE8E6DC70F1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7C5D-ADE6-481C-BCF0-801E6988A1A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 rot="5400000">
            <a:off x="-1836000" y="2304000"/>
            <a:ext cx="5759280" cy="11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14 * 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白公鹅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2491920"/>
            <a:ext cx="854064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们写作文时，也应抓住事物特点，突出其特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549360"/>
            <a:ext cx="273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温馨寄语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280" y="1628640"/>
            <a:ext cx="55659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耀武扬威”是什么意思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32846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炫耀武力</a:t>
            </a:r>
            <a:r>
              <a:rPr b="1" lang="en-US" sz="3200" spc="-1" strike="noStrike">
                <a:solidFill>
                  <a:srgbClr val="bc1ab4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显示威风 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692000" y="1916280"/>
            <a:ext cx="58546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将下列词语补充完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慢条（　   ）（　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不慌（　   ）（　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（  　）（　  ）注目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（　  ）武（　  ）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476280"/>
            <a:ext cx="273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快乐作业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96710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多音字组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8783b"/>
                </a:solidFill>
                <a:latin typeface="Arial"/>
              </a:rPr>
              <a:t>iāng</a:t>
            </a:r>
            <a:r>
              <a:rPr b="1" lang="zh-CN" sz="2800" spc="-1" strike="noStrike">
                <a:solidFill>
                  <a:srgbClr val="38783b"/>
                </a:solidFill>
                <a:latin typeface="Arial"/>
              </a:rPr>
              <a:t>（　　）         </a:t>
            </a:r>
            <a:r>
              <a:rPr b="1" lang="en-US" sz="2800" spc="-1" strike="noStrike">
                <a:solidFill>
                  <a:srgbClr val="38783b"/>
                </a:solidFill>
                <a:latin typeface="Arial"/>
              </a:rPr>
              <a:t>liáng</a:t>
            </a:r>
            <a:r>
              <a:rPr b="1" lang="zh-CN" sz="2800" spc="-1" strike="noStrike">
                <a:solidFill>
                  <a:srgbClr val="38783b"/>
                </a:solidFill>
                <a:latin typeface="Arial"/>
              </a:rPr>
              <a:t>（　　）     </a:t>
            </a:r>
            <a:r>
              <a:rPr b="1" lang="en-US" sz="2800" spc="-1" strike="noStrike">
                <a:solidFill>
                  <a:srgbClr val="38783b"/>
                </a:solidFill>
                <a:latin typeface="Arial"/>
              </a:rPr>
              <a:t>shuài</a:t>
            </a:r>
            <a:r>
              <a:rPr b="1" lang="zh-CN" sz="2800" spc="-1" strike="noStrike">
                <a:solidFill>
                  <a:srgbClr val="38783b"/>
                </a:solidFill>
                <a:latin typeface="Arial"/>
              </a:rPr>
              <a:t>（　　）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c1ab4"/>
                </a:solidFill>
                <a:latin typeface="Arial"/>
              </a:rPr>
              <a:t>将：                     量：                        率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8783b"/>
                </a:solidFill>
                <a:latin typeface="Arial"/>
              </a:rPr>
              <a:t>jiàng</a:t>
            </a:r>
            <a:r>
              <a:rPr b="1" lang="zh-CN" sz="2800" spc="-1" strike="noStrike">
                <a:solidFill>
                  <a:srgbClr val="38783b"/>
                </a:solidFill>
                <a:latin typeface="Arial"/>
              </a:rPr>
              <a:t>（　　）        </a:t>
            </a:r>
            <a:r>
              <a:rPr b="1" lang="en-US" sz="2800" spc="-1" strike="noStrike">
                <a:solidFill>
                  <a:srgbClr val="38783b"/>
                </a:solidFill>
                <a:latin typeface="Arial"/>
              </a:rPr>
              <a:t>liàng</a:t>
            </a:r>
            <a:r>
              <a:rPr b="1" lang="zh-CN" sz="2800" spc="-1" strike="noStrike">
                <a:solidFill>
                  <a:srgbClr val="38783b"/>
                </a:solidFill>
                <a:latin typeface="Arial"/>
              </a:rPr>
              <a:t>（　　）          </a:t>
            </a:r>
            <a:r>
              <a:rPr b="1" lang="en-US" sz="2800" spc="-1" strike="noStrike">
                <a:solidFill>
                  <a:srgbClr val="38783b"/>
                </a:solidFill>
                <a:latin typeface="Arial"/>
              </a:rPr>
              <a:t>lǜ</a:t>
            </a:r>
            <a:r>
              <a:rPr b="1" lang="zh-CN" sz="2800" spc="-1" strike="noStrike">
                <a:solidFill>
                  <a:srgbClr val="38783b"/>
                </a:solidFill>
                <a:latin typeface="Arial"/>
              </a:rPr>
              <a:t>（　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783b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783b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38783b"/>
                </a:solidFill>
                <a:latin typeface="Arial"/>
              </a:rPr>
              <a:t>dāng</a:t>
            </a:r>
            <a:r>
              <a:rPr b="1" lang="zh-CN" sz="2800" spc="-1" strike="noStrike">
                <a:solidFill>
                  <a:srgbClr val="38783b"/>
                </a:solidFill>
                <a:latin typeface="Arial"/>
              </a:rPr>
              <a:t>（　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c1ab4"/>
                </a:solidFill>
                <a:latin typeface="Arial"/>
              </a:rPr>
              <a:t>当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38783b"/>
                </a:solidFill>
                <a:latin typeface="Arial"/>
              </a:rPr>
              <a:t>dàng </a:t>
            </a:r>
            <a:r>
              <a:rPr b="1" lang="zh-CN" sz="2800" spc="-1" strike="noStrike">
                <a:solidFill>
                  <a:srgbClr val="38783b"/>
                </a:solidFill>
                <a:latin typeface="Arial"/>
              </a:rPr>
              <a:t>（　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476280"/>
            <a:ext cx="273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快乐作业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抄写课文中生动有趣句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　＿＿＿＿＿＿＿＿＿＿＿＿＿＿＿＿＿＿＿＿＿＿＿＿＿＿＿＿＿＿＿＿＿＿＿＿＿＿＿＿＿＿＿＿＿＿＿＿＿＿＿＿＿＿＿＿＿＿＿＿＿＿＿＿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476280"/>
            <a:ext cx="273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快乐作业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54936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温馨提示：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155736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c1ab4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8783b"/>
                </a:solidFill>
                <a:latin typeface="Arial"/>
              </a:rPr>
              <a:t>给自然段标号，在文中勾画出生字和好词好句，多读几遍注意读准字音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只白鹅给你的印象是什么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46400" y="270756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耀武扬威的大公鹅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21560" y="349956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威风凛凛的大公鹅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46400" y="429156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派头十足的大公鹅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54936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温馨提示：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356000" y="2565360"/>
            <a:ext cx="478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你从哪些地方读出来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3682080"/>
            <a:ext cx="124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玩相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06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姿态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5600" y="31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叫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16880" y="31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步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1240" y="40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吃相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54936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温馨提示：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4140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95280" y="5444640"/>
            <a:ext cx="3406680" cy="8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高傲的白鹅 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18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01680" y="609480"/>
          <a:ext cx="8540640" cy="5489640"/>
        </p:xfrm>
        <a:graphic>
          <a:graphicData uri="http://schemas.openxmlformats.org/drawingml/2006/table">
            <a:tbl>
              <a:tblPr/>
              <a:tblGrid>
                <a:gridCol w="1195560"/>
                <a:gridCol w="3671640"/>
                <a:gridCol w="3673440"/>
              </a:tblGrid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bc1ab4"/>
                          </a:solidFill>
                          <a:latin typeface="Times New Roman"/>
                          <a:ea typeface="Times New Roman"/>
                        </a:rPr>
                        <a:t>白鹅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白公鹅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姿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叫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步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吃相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玩相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00" y="549360"/>
          <a:ext cx="8540640" cy="4867200"/>
        </p:xfrm>
        <a:graphic>
          <a:graphicData uri="http://schemas.openxmlformats.org/drawingml/2006/table">
            <a:tbl>
              <a:tblPr/>
              <a:tblGrid>
                <a:gridCol w="1195560"/>
                <a:gridCol w="3671640"/>
                <a:gridCol w="367344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bc1ab4"/>
                          </a:solidFill>
                          <a:latin typeface="Times New Roman"/>
                          <a:ea typeface="Times New Roman"/>
                        </a:rPr>
                        <a:t>白鹅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白公鹅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姿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bc1ab4"/>
                          </a:solidFill>
                          <a:latin typeface="Times New Roman"/>
                          <a:ea typeface="Times New Roman"/>
                        </a:rPr>
                        <a:t>高傲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海军上将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叫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bc1ab4"/>
                          </a:solidFill>
                          <a:latin typeface="Times New Roman"/>
                          <a:ea typeface="Times New Roman"/>
                        </a:rPr>
                        <a:t>厉声呵斥、厉声叫嚣、引吭大叫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大声叫唤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步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bc1ab4"/>
                          </a:solidFill>
                          <a:latin typeface="Times New Roman"/>
                          <a:ea typeface="Times New Roman"/>
                        </a:rPr>
                        <a:t>从容不迫、大模大样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慢条斯理、仔细掂量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吃相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bc1ab4"/>
                          </a:solidFill>
                          <a:latin typeface="Times New Roman"/>
                          <a:ea typeface="Times New Roman"/>
                        </a:rPr>
                        <a:t>食料简单、三板一眼、侍候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吞食鱼饵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玩相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戏水、抢占地盘、主宰一切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5222"/>
                      </a:solidFill>
                    </a:lnL>
                    <a:lnR w="5760">
                      <a:solidFill>
                        <a:srgbClr val="445222"/>
                      </a:solidFill>
                    </a:lnR>
                    <a:lnT w="5760">
                      <a:solidFill>
                        <a:srgbClr val="445222"/>
                      </a:solidFill>
                    </a:lnT>
                    <a:lnB w="5760">
                      <a:solidFill>
                        <a:srgbClr val="44522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835640" y="566028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2518"/>
                </a:solidFill>
                <a:latin typeface="Arial"/>
              </a:rPr>
              <a:t>从表中你发现什么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5580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相同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同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98320" y="1916280"/>
            <a:ext cx="8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傲慢、派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26960" y="3789360"/>
            <a:ext cx="1369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一个从容不迫、大模大样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1ab4"/>
                </a:solidFill>
                <a:latin typeface="Arial"/>
              </a:rPr>
              <a:t>另一个慢条斯理，仔细掂量。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40360" y="404640"/>
            <a:ext cx="3203640" cy="306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940360" y="3213000"/>
            <a:ext cx="3203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540640" cy="21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同是白鹅，但不同的作家笔下又各有姿态，两位作家的写法有哪些相同？哪些不同？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2565360"/>
            <a:ext cx="756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相同点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同点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13760" y="2637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c1ab4"/>
                </a:solidFill>
                <a:latin typeface="Arial"/>
              </a:rPr>
              <a:t>抓住特点，围绕特点来写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3213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bc1ab4"/>
                </a:solidFill>
                <a:latin typeface="Arial"/>
              </a:rPr>
              <a:t>前者抓住一个特点──高傲，从三个方面突出其高傲。后者写大白鹅应当荣膺海军上将衔，然后再写为什么应荣膺，再解释说明中写出白鹅特点。</a:t>
            </a:r>
            <a:r>
              <a:rPr b="0" lang="en-US" sz="2800" spc="-1" strike="noStrike">
                <a:solidFill>
                  <a:srgbClr val="bc1ab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5:34:34Z</dcterms:created>
  <dc:creator>六十铺中小学教育网http://www.lspjy.com</dc:creator>
  <dc:description>六十铺中小学教育网http://www.lspjy.com</dc:description>
  <dc:language>en-US</dc:language>
  <cp:lastModifiedBy>微软用户</cp:lastModifiedBy>
  <dcterms:modified xsi:type="dcterms:W3CDTF">2015-10-19T06:46:13Z</dcterms:modified>
  <cp:revision>18</cp:revision>
  <dc:subject/>
  <dc:title>14  白公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8</vt:r8>
  </property>
</Properties>
</file>