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1.wmf" ContentType="image/x-wmf"/>
  <Override PartName="/ppt/media/image9.jpeg" ContentType="image/jpeg"/>
  <Override PartName="/ppt/media/image8.jpeg" ContentType="image/jpeg"/>
  <Override PartName="/ppt/media/TYPE.WAV" ContentType="audio/x-wav"/>
  <Override PartName="/ppt/media/chimes.wav" ContentType="audio/x-wav"/>
  <Override PartName="/ppt/media/REMINDER.WAV" ContentType="audio/x-wav"/>
  <Override PartName="/ppt/media/image5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471-7427-429D-8247-B947626D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294-B3AE-4C64-BEC3-1F9237EE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1B4F6-7EB7-49B7-8664-670C278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9ACC9-23DF-4F1F-8A72-F54E07C6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FED14-444E-4121-9D82-8A5CA4AB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F63E9-6E2C-4F35-A748-2B27C1E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D2F8C-FB54-4BDF-9AB1-A76E727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62123-D14D-4CA9-B70E-66430F05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95112-3291-480B-AE7F-E0E08116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06719-5BBC-41B7-A296-E394E170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08DE5-E7C9-4B2F-B273-9A87DB29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8A993-9903-4ED6-8D72-D2D64605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74A-7F6C-4396-B5C2-A8A68935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D869D-A2BF-4FBE-8D8B-9D5F9BCA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8A8E-D149-4F94-BFF9-2FA78717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A07AD-2538-4953-9E8C-90219D3E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5C2AC-6128-4C3A-9F58-B8E32A1A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1E082-E00E-48C1-BFDA-3C24853E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D598F-B94D-4EF9-A876-D96A703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13BB3-A84B-4BCD-B3F8-D7C7C81D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C61DE-2321-4117-BE9B-F6A8A14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2C791-4FC3-48DC-8C10-7DC52D6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1FB29-695F-45D4-80A7-0912CA69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35B-DC1C-4004-9DFD-64521D21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B9A02-9EFF-4423-A9CD-3D9EE206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73928-9A3E-402C-B5D2-0C215EA0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ACCF3-CCAD-4E9B-AFF8-EB2FF909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EB3F6-7459-4FB5-837F-874EF1C9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88ED7-C4C3-41F8-A76C-7B1A1B33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01255-64E1-40AB-ABB3-3953076A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928F0-640A-4DF5-9F91-D6D5D1EC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6787A-9407-4D4D-88D2-688B149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F6372-9997-4DEF-BB93-3B26C85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346CB-0247-4932-B109-B1D8793A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AC6D-B287-43D7-93DE-3DFC5F09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AD6BA-BE7A-4176-8E10-0A984DD8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554F8-D480-43F6-97D1-AA8E9753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1DFFA-D362-4F47-8178-5486FCB9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E7657-1153-41FD-8047-99F526CB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D70C9-36D2-4428-9390-76447171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8E7CA-9156-45AE-BD6A-6DB2E5F3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BB55D-9A25-41BA-A505-CD255674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AA770-77EF-434D-835E-8EB63C6C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82B19-304B-48E9-84BA-680C6824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E49CF-BF4F-479E-9E2E-07B7E0DD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F367-3B9C-4C50-9779-F00CB57C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A31BF-6A56-411E-80DF-F36D9CA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F3BB8-9B56-473D-83F3-22D1A5E5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F7859-5064-4CBD-BDDD-33139054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FCEEC-EDCA-496B-B8EB-FB24098F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239B0-1257-4373-B4F2-0B15AF60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62CCC-A1BB-4938-88F1-6C73B986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9A667-5F14-4598-8DD4-D5A8C9E9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31F76-6A7A-4617-B096-49063009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7DD14-DFAB-41AF-AD56-4604556C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084CF-D1AA-464E-9668-1163DA01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9051-8A51-4125-A429-BA7595E2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C442E-30F0-48C8-BCD4-C8C30CE4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6B80B-62C0-4000-B696-6E4B90FC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329DA-F23D-4D9B-B9E8-12780019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9252C-254C-452C-AA79-DA721082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D6195-11CE-4F5A-B8BA-D92F1C8A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61BCD-43A1-4D11-8AB2-5E9DBFDA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00A45-AA25-4ADF-9D59-26E94766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DE30-F473-405A-B4A8-C1D6A34E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E362-0188-48F1-8C23-1806DCD8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8F41-44B3-4C74-A745-98724DE0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EEEA-2845-4696-896A-634E0393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BE2-7D90-4449-A69F-2D0B2CAF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1EFE-D897-4CA6-8BBC-238268CE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473F-E7AE-4B0A-B74F-153BB023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3BF1-42DA-4CFD-8E57-F26B34C5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F134-4096-4017-B8E4-92FA939A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F3B1-21A9-4844-A82A-F6B8A42A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03B1-1CB2-46C4-B5CF-8B79CB1A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8C98-6186-4F61-BA4E-72282EF4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BB1B-D005-4769-9E9F-735FFF57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5D5F-37B0-4196-8A05-B790F54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BF3B-F75F-4537-A6A9-1CCC5826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4DE-1D2A-450A-9C8E-34314738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D237-CF1A-479B-B529-4D4BB908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5746D-D9FC-4A45-BF1B-BC316F00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9263-0E31-4707-99E5-DA3B94C4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1D36-E4F7-41F0-87CE-CE756CAB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6E36-A144-43CE-8FA9-5A8B6289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80BE-A369-4767-80DC-0B679A41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2BF3-9C21-4F9B-B6D6-BD069D7D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84FDD-1A85-4D6D-9729-CDFBAEF3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A2E3-9157-4F55-9D18-D1D63D17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5207-6547-4D8F-A689-9B871CA1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645-37EC-48FC-BEC1-4BA37170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DE60-C9C6-405F-A4CC-31FEA5B7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1613-7E6B-45F8-AD8D-5AAE7714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5939-3E47-4B15-A4A9-707D730F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9B3B-4537-4474-A867-FE9453B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65082-BCC4-418D-811F-8D301332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1E2AF-A1BE-4409-B941-8CE7A0D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A7E0-8C73-41CB-B2FD-19077C7B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A9717-B25C-4812-80B3-8EFC7048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5782-96C5-421F-87D5-3B6320C2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0168-AF4B-450F-9426-2D0FFFFC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D21-8152-46E2-BB62-EC49F8FD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80DDD-6891-471B-87E9-E2314E22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CA596-69C9-41AA-94AB-2BD1A18E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FFA11-10CC-4594-A7C2-E01A0762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D334-9025-4CC3-8B4D-E685B54D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9FFE-3BC1-4004-AE9C-EAF9EC19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7BD3-180E-4250-8EF6-A38F5F1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5B7AF-07FC-4620-9EC5-755C139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8C88A-6741-43CC-91D7-D08F36D4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F8D0F-2EDC-4A52-A023-A9BE7A99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7533C-2D1A-42CA-A38B-1B66C0CC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0D5-7ACA-4B95-8805-29C6C3D8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08B17-F09C-479A-8197-9D165B8C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29FF-E79B-43C0-B4FD-434032CF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42F32-DEB2-4537-BF22-904BF82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7BB1F-7BD8-4345-8AF9-6B3196B6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F668-0276-4244-9707-D555C0F6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861AF-F680-4319-A8CD-C991CA44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663D3-7FFB-4764-BA61-95431637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60566-57D5-4120-87E5-97B1737C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3F502-AD8E-493E-9AAE-5A513E0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65691-0C63-4F58-A60F-79AD734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888-5FD4-4B66-BF50-DC5EB86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C3B2D-DF3C-4B1A-BE7D-3621867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B960B-B5BF-4B1D-8EDE-819A19A1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ECEDB-E464-4693-9FA3-03090D08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F0A01-1530-45CC-8188-6BD76314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31521-817C-4F13-A5D9-ACA147A9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A600B-E18A-4E3C-BEF8-8F36D4DA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B17B7-C26E-4DA1-9B55-2D5FC75F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7C33-C0BD-4134-8BA4-2737EEAA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DB847-0EAF-4E8B-9BD1-7AA8C3C0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F35D0-7A4E-4EC5-815B-2869854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FFF-1AF7-41B7-ADBA-5691E77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8EB1B-301B-4B1A-ACDE-9AE5CDC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DE713-68FF-47ED-AFBF-76C6E102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7B4E-DC9E-4371-BBBF-E3A98B1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25AF-BEDE-4B2E-B1AC-B9C3282F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31BC5-6FD9-4975-B805-B53D581B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E73CE-B33F-4136-9C25-5D17E008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952C-FB13-4837-850F-D3F9A82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BA95A-2CAF-4D5E-810E-4D48F918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E7BF6-0727-4A51-9589-89493C56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7462-1682-4D01-98E0-6D81C25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FEF-18A5-41A7-95C5-8C07A0F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1040B-6954-45AC-8F5C-4C6CDB2A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2BD92-E447-471C-9D67-B24BA09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3339F-F47F-4EE1-94CB-B49A6BC8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D68B5-AB95-449A-9D51-9FB93C9F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55C04-8A58-4921-A475-91C5D900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946B3-2224-4EC1-ABFB-B966F575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600E1-CFFD-46D0-AE21-05EFE686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82462-87C5-41DA-B1C8-6AA52367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8FDD2-626B-44DB-8A5A-ED4DA06A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F1E5B-7494-4DB7-90C1-166B2AC5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hyperlink" Target="mailto:owl@china.com" TargetMode="External"/><Relationship Id="rId6" Type="http://schemas.openxmlformats.org/officeDocument/2006/relationships/hyperlink" Target="mailto:owl@china.com" TargetMode="External"/><Relationship Id="rId7" Type="http://schemas.openxmlformats.org/officeDocument/2006/relationships/hyperlink" Target="mailto:owl@china.com" TargetMode="External"/><Relationship Id="rId8" Type="http://schemas.openxmlformats.org/officeDocument/2006/relationships/hyperlink" Target="mailto:owl@china.com" TargetMode="External"/><Relationship Id="rId9" Type="http://schemas.openxmlformats.org/officeDocument/2006/relationships/hyperlink" Target="mailto:owl@china.com" TargetMode="External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13B7-693D-4923-AF9A-F625BCF643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12D4-189C-45A3-9A83-8B5BD32C7B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B048-6011-4575-8827-7917263A42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6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B54A-0202-44C5-ABAD-272394DAA4F1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2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27F8-EB47-4498-96BC-E462E14F2E0E}" type="slidenum">
              <a:rPr b="0" lang="zh-CN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B9E-B249-4D96-9911-A0BC3447AD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7EAF-8A98-407D-91EF-178161DBD29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E13A-AE77-492F-8621-E3E292ADCD4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B8E1-8F22-4473-9732-7D80F5F153C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72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522-7142-42BA-AF73-998043777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9840" y="6453360"/>
            <a:ext cx="325440" cy="323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8710560" y="6453360"/>
            <a:ext cx="325440" cy="32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C79E-D879-4830-B870-E773C38D6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9840" y="6453360"/>
            <a:ext cx="325440" cy="323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8748720" y="6453360"/>
            <a:ext cx="325440" cy="323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87280" y="6264360"/>
            <a:ext cx="6985080" cy="6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0066"/>
                </a:solidFill>
                <a:uFillTx/>
                <a:latin typeface="华文隶书"/>
                <a:ea typeface="华文隶书"/>
                <a:hlinkClick r:id="rId5"/>
              </a:rPr>
              <a:t>枭唳天地</a:t>
            </a:r>
            <a:r>
              <a:rPr b="0" lang="zh-CN" sz="3600" spc="-1" strike="noStrike" u="sng">
                <a:solidFill>
                  <a:srgbClr val="cc0066"/>
                </a:solidFill>
                <a:uFillTx/>
                <a:latin typeface="华文隶书"/>
                <a:ea typeface="华文隶书"/>
                <a:hlinkClick r:id="rId6"/>
              </a:rPr>
              <a:t>  </a:t>
            </a:r>
            <a:r>
              <a:rPr b="0" lang="zh-CN" sz="3600" spc="-1" strike="noStrike" u="sng">
                <a:solidFill>
                  <a:srgbClr val="cc0066"/>
                </a:solidFill>
                <a:uFillTx/>
                <a:latin typeface="华文隶书"/>
                <a:ea typeface="华文隶书"/>
                <a:hlinkClick r:id="rId7"/>
              </a:rPr>
              <a:t>舒言空间</a:t>
            </a:r>
            <a:r>
              <a:rPr b="0" lang="zh-CN" sz="3600" spc="-1" strike="noStrike" u="sng">
                <a:solidFill>
                  <a:srgbClr val="cc0066"/>
                </a:solidFill>
                <a:uFillTx/>
                <a:latin typeface="华文隶书"/>
                <a:ea typeface="华文隶书"/>
                <a:hlinkClick r:id="rId8"/>
              </a:rPr>
              <a:t>  </a:t>
            </a:r>
            <a:r>
              <a:rPr b="0" lang="zh-CN" sz="3600" spc="-1" strike="noStrike" u="sng">
                <a:solidFill>
                  <a:srgbClr val="cc0066"/>
                </a:solidFill>
                <a:uFillTx/>
                <a:latin typeface="华文隶书"/>
                <a:ea typeface="华文隶书"/>
                <a:hlinkClick r:id="rId9"/>
              </a:rPr>
              <a:t>owl@chin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8C8C-4989-431E-966A-ED6B9F2CDB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553B-0F83-40FE-B4E8-9B2B8E016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EMINDER.WAV"/><Relationship Id="rId3" Type="http://schemas.openxmlformats.org/officeDocument/2006/relationships/slideLayout" Target="../slideLayouts/slideLayout1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EMIND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REMINDER.WAV"/><Relationship Id="rId7" Type="http://schemas.openxmlformats.org/officeDocument/2006/relationships/slideLayout" Target="../slideLayouts/slideLayout1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471960" y="260280"/>
            <a:ext cx="12776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隶书"/>
              </a:rPr>
              <a:t>出师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42040" y="3733920"/>
            <a:ext cx="667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诸葛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987640" y="0"/>
            <a:ext cx="28083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析课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403280" y="1052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形势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340000" y="981000"/>
            <a:ext cx="2592360" cy="863640"/>
            <a:chOff x="2340000" y="981000"/>
            <a:chExt cx="2592360" cy="863640"/>
          </a:xfrm>
        </p:grpSpPr>
        <p:sp>
          <p:nvSpPr>
            <p:cNvPr id="615" name=""/>
            <p:cNvSpPr/>
            <p:nvPr/>
          </p:nvSpPr>
          <p:spPr>
            <a:xfrm>
              <a:off x="2484360" y="98100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帝死天下三分益州疲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40000" y="119700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403280" y="227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提出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340000" y="1989000"/>
            <a:ext cx="1944720" cy="1224000"/>
            <a:chOff x="2340000" y="1989000"/>
            <a:chExt cx="1944720" cy="1224000"/>
          </a:xfrm>
        </p:grpSpPr>
        <p:sp>
          <p:nvSpPr>
            <p:cNvPr id="619" name=""/>
            <p:cNvSpPr/>
            <p:nvPr/>
          </p:nvSpPr>
          <p:spPr>
            <a:xfrm>
              <a:off x="2484360" y="1989000"/>
              <a:ext cx="18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开张圣听赏罚分明亲贤远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40000" y="220500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003640" y="1197000"/>
            <a:ext cx="2664000" cy="2016000"/>
            <a:chOff x="5003640" y="1197000"/>
            <a:chExt cx="2664000" cy="2016000"/>
          </a:xfrm>
        </p:grpSpPr>
        <p:sp>
          <p:nvSpPr>
            <p:cNvPr id="622" name=""/>
            <p:cNvSpPr/>
            <p:nvPr/>
          </p:nvSpPr>
          <p:spPr>
            <a:xfrm>
              <a:off x="5435640" y="1628640"/>
              <a:ext cx="223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论述透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句句在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03640" y="1197000"/>
              <a:ext cx="216000" cy="2016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52560 h 2016000"/>
                <a:gd name="textAreaBottom" fmla="*/ 196344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3132000" y="4149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身许国  创业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32000" y="4581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夙夜忧叹  请命北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32000" y="5013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述职责  诹善纳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372360" y="4292640"/>
            <a:ext cx="2087280" cy="1009440"/>
            <a:chOff x="6372360" y="4292640"/>
            <a:chExt cx="2087280" cy="1009440"/>
          </a:xfrm>
        </p:grpSpPr>
        <p:sp>
          <p:nvSpPr>
            <p:cNvPr id="628" name=""/>
            <p:cNvSpPr/>
            <p:nvPr/>
          </p:nvSpPr>
          <p:spPr>
            <a:xfrm>
              <a:off x="6516720" y="4292640"/>
              <a:ext cx="19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言词恳切字字有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72360" y="4365720"/>
              <a:ext cx="215640" cy="93636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476360" y="4365720"/>
            <a:ext cx="1727280" cy="1008000"/>
            <a:chOff x="1476360" y="4365720"/>
            <a:chExt cx="1727280" cy="1008000"/>
          </a:xfrm>
        </p:grpSpPr>
        <p:sp>
          <p:nvSpPr>
            <p:cNvPr id="631" name=""/>
            <p:cNvSpPr/>
            <p:nvPr/>
          </p:nvSpPr>
          <p:spPr>
            <a:xfrm>
              <a:off x="1476360" y="4365720"/>
              <a:ext cx="165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追述身世表明忠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987640" y="436572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1835280" y="3213000"/>
            <a:ext cx="0" cy="107964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2050920" y="2852640"/>
            <a:ext cx="4176720" cy="1025640"/>
            <a:chOff x="2050920" y="2852640"/>
            <a:chExt cx="4176720" cy="1025640"/>
          </a:xfrm>
        </p:grpSpPr>
        <p:grpSp>
          <p:nvGrpSpPr>
            <p:cNvPr id="635" name=""/>
            <p:cNvGrpSpPr/>
            <p:nvPr/>
          </p:nvGrpSpPr>
          <p:grpSpPr>
            <a:xfrm>
              <a:off x="2050920" y="2852640"/>
              <a:ext cx="4176720" cy="936720"/>
              <a:chOff x="2050920" y="2852640"/>
              <a:chExt cx="4176720" cy="936720"/>
            </a:xfrm>
          </p:grpSpPr>
          <p:sp>
            <p:nvSpPr>
              <p:cNvPr id="636" name=""/>
              <p:cNvSpPr/>
              <p:nvPr/>
            </p:nvSpPr>
            <p:spPr>
              <a:xfrm>
                <a:off x="2050920" y="3284640"/>
                <a:ext cx="0" cy="504720"/>
              </a:xfrm>
              <a:prstGeom prst="line">
                <a:avLst/>
              </a:prstGeom>
              <a:ln w="255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050920" y="3789360"/>
                <a:ext cx="4176720" cy="0"/>
              </a:xfrm>
              <a:prstGeom prst="line">
                <a:avLst/>
              </a:prstGeom>
              <a:ln w="255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6227640" y="2852640"/>
                <a:ext cx="0" cy="936720"/>
              </a:xfrm>
              <a:prstGeom prst="line">
                <a:avLst/>
              </a:prstGeom>
              <a:ln w="2556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3059280" y="3357720"/>
              <a:ext cx="28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晓 之 以 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2268360" y="5229360"/>
            <a:ext cx="4896000" cy="664920"/>
            <a:chOff x="2268360" y="5229360"/>
            <a:chExt cx="4896000" cy="664920"/>
          </a:xfrm>
        </p:grpSpPr>
        <p:sp>
          <p:nvSpPr>
            <p:cNvPr id="641" name=""/>
            <p:cNvSpPr/>
            <p:nvPr/>
          </p:nvSpPr>
          <p:spPr>
            <a:xfrm>
              <a:off x="2268360" y="5300640"/>
              <a:ext cx="0" cy="5047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68360" y="5805360"/>
              <a:ext cx="489600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164360" y="5229360"/>
              <a:ext cx="0" cy="57600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92360" y="537372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动 之 以 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1116000" y="5877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出师一表真名世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千载谁堪伯仲间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79280" y="1341360"/>
            <a:ext cx="936720" cy="3743280"/>
            <a:chOff x="179280" y="1341360"/>
            <a:chExt cx="936720" cy="3743280"/>
          </a:xfrm>
        </p:grpSpPr>
        <p:sp>
          <p:nvSpPr>
            <p:cNvPr id="647" name=""/>
            <p:cNvSpPr/>
            <p:nvPr/>
          </p:nvSpPr>
          <p:spPr>
            <a:xfrm>
              <a:off x="900000" y="1341360"/>
              <a:ext cx="216000" cy="3743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97560 h 3743280"/>
                <a:gd name="textAreaBottom" fmla="*/ 3645720 h 37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9280" y="2349360"/>
              <a:ext cx="827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出师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7688880" y="1700280"/>
            <a:ext cx="1155240" cy="4176720"/>
            <a:chOff x="7688880" y="1700280"/>
            <a:chExt cx="1155240" cy="4176720"/>
          </a:xfrm>
        </p:grpSpPr>
        <p:sp>
          <p:nvSpPr>
            <p:cNvPr id="650" name=""/>
            <p:cNvSpPr/>
            <p:nvPr/>
          </p:nvSpPr>
          <p:spPr>
            <a:xfrm>
              <a:off x="7885080" y="1700280"/>
              <a:ext cx="358920" cy="4176720"/>
            </a:xfrm>
            <a:custGeom>
              <a:avLst/>
              <a:gdLst>
                <a:gd name="textAreaLeft" fmla="*/ 0 w 358920"/>
                <a:gd name="textAreaRight" fmla="*/ 129600 w 35892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314"/>
                  </a:lnTo>
                  <a:cubicBezTo>
                    <a:pt x="10800" y="10214"/>
                    <a:pt x="16200" y="11114"/>
                    <a:pt x="21600" y="11114"/>
                  </a:cubicBezTo>
                  <a:cubicBezTo>
                    <a:pt x="16200" y="11114"/>
                    <a:pt x="10800" y="12014"/>
                    <a:pt x="10800" y="1291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88880" y="2205000"/>
              <a:ext cx="115524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议论叙事抒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884720" y="333360"/>
            <a:ext cx="1258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蜀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杜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78120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丞相祠堂何处寻，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锦官城外柏森森。 </a:t>
            </a:r>
            <a:br>
              <a:rPr sz="3600"/>
            </a:b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映阶碧草自春色，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隔叶黄鹂空好音。 </a:t>
            </a:r>
            <a:br>
              <a:rPr sz="3600"/>
            </a:b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三顾频烦天下计，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两朝开济老臣心。 </a:t>
            </a:r>
            <a:br>
              <a:rPr sz="3600"/>
            </a:b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出师未捷身先死，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长使英雄泪满襟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01924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304920" y="358920"/>
            <a:ext cx="83055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《出师表》的时代背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篇《出师表》是诸葛亮在公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蜀汉后主刘禅建兴五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兵伐魏，临行时写给刘禅的奏章。当时刘备已经死了四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蜀国和吴国的联盟已经破裂，荆州已经失守，蜀国实际只占有益州，实力本来不厚，再加上连年战争，国力更加困乏。于是诸葛亮派人和吴国修好，又亲自领兵平定了南方少数民族地区的叛乱，稳定了后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“五月渡泸，深入不毛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然后趁魏国君主曹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死、魏国大将司马懿被贬的机会，抱着“不伐贼，王业亦亡；帷坐而待亡，孰与伐之’’的心情，出兵北伐，企图巩固蜀汉政权、消灭魏国进而统一中国，复兴汉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191120" y="685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71640" y="1916280"/>
            <a:ext cx="754380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当时感到刘禅暗昧懦弱，颇有内顾之忧，所以临出发前上书刘禅，恳切劝谏，要刘禅继承刘备遗志，砥砺志行，振作精神，听信忠言，任用贤良，黜斥佞人，严明赏罚，尽心国事，以图完成复兴汉室，统一天下的大业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11280" y="981000"/>
            <a:ext cx="7832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刘备托孤：《三国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蜀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传》：“章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刘备即帝位后的年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公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。先主于永安宫病笃，召亮于成都，属以后事，谓亮曰：‘君才十倍曹丕，必能安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终定大事。若嗣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刘禅，即阿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辅，则辅之；如其不才，君可自取。’亮涕泣曰：‘臣敢竭股肱之力，效忠贞之节，继之以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主又为诏勒后主曰：‘汝与丞相从事，事之如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9640" y="3716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刘禅：刘备子，小名阿斗。刘备死后他继任蜀汉皇帝，昏庸无能，由诸葛亮辅政，“政事无巨细，咸决于亮”。公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诸葛亮病死北伐军中，他逐渐信任宦官，朝政腐政。公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魏军攻成都，他出降，第二年举家迁洛阳，被封为安乐县公。由于他是历史上最著名的庸碌无张的皇帝，所以后世就把“阿斗”当做昏庸无能的人的代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0880" y="228600"/>
            <a:ext cx="289584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课外拓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3520" y="1447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190f"/>
                </a:solidFill>
                <a:latin typeface="Times New Roman"/>
                <a:ea typeface="仿宋_GB2312"/>
              </a:rPr>
              <a:t>下边一副对联概括了诸葛亮一生的功绩，你能说出描写了他的哪些具体的事件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297180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收二川，排八阵，六出七擒，五丈原前，点四十九盏明灯，一心只为酬三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取西蜀，定南蛮，东和北拒，中军帐里，变金木土爻神卦，水面偏能用火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29200" y="609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2822b"/>
                </a:solidFill>
                <a:latin typeface="Times New Roman"/>
              </a:rPr>
              <a:t>你知道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819520" y="838080"/>
            <a:ext cx="403848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顾：三顾茅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00600" y="2057400"/>
            <a:ext cx="380988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出：六出祁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2057400"/>
            <a:ext cx="396252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东和：东和东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057400" y="5029200"/>
            <a:ext cx="487692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收二川：收东川西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2971800"/>
            <a:ext cx="396252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北拒：北拒曹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0600" y="2971800"/>
            <a:ext cx="396252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七擒：七擒孟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4038480"/>
            <a:ext cx="502920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排八阵：摆设八阵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24960" y="259920"/>
            <a:ext cx="85186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拓展延伸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我了解的有关诸葛亮的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舌战群儒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七擒七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草船借箭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空城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挥泪斩马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4211640" y="981000"/>
            <a:ext cx="4608360" cy="5400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015440" y="260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找出本文中的成语并作解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8200" y="1197000"/>
            <a:ext cx="1521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  <a:ea typeface="华文新魏"/>
              </a:rPr>
              <a:t>妄自菲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引喻失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不知所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  <a:ea typeface="华文新魏"/>
              </a:rPr>
              <a:t>作奸犯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优劣得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  <a:ea typeface="华文新魏"/>
              </a:rPr>
              <a:t>计日而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  <a:ea typeface="华文新魏"/>
              </a:rPr>
              <a:t>三顾茅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感激涕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86640" y="32839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为非作歹，触犯法令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35840" y="1125000"/>
            <a:ext cx="7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分看轻自己。形容自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00360" y="472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以数着日子等待。形容为时不远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5080" y="53730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比喻真心诚意，一再邀请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89440" y="2780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05480" y="4004640"/>
            <a:ext cx="425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指知人善任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使其得到适当的位子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16200" y="6061680"/>
            <a:ext cx="64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感激得掉下眼泪，形容非常感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00360" y="2565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不知道说些什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0360" y="1844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说话不恰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30200" y="342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师未捷身先死  长使英雄泪满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杜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4360" y="333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历代名人赞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4000" y="1268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古贤相  智慧化身  忠义之士  悲剧英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郭沫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5280" y="52293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师一表真名世    千载谁堪伯仲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陆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95280" y="242100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顾频繁天下计  两朝开济老臣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191120" y="685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71640" y="838080"/>
            <a:ext cx="7543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”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古时臣子向帝王上书言事的奏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用于向君主陈说作者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请求和愿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表文的内容一般不外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议论和叙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又往往带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抒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色彩。学习这篇文章，要注意领会诸葛亮在文中所表露的思想感情，了解文中诸葛亮的一些名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9228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是上表陈说意见，提出政治主张，所以全文以议论为主。又因诸葛亮对刘备有知遇之恩，要报恩于刘禅，他真诚地辅佐刘禅，希望刘禅能够支持自己，共同完成刘备生前没有完成的事业。所以文中又兼叙了自己以身许国的经过。在议论和叙述中，流露着忠于蜀国、忠于刘备父子的真情实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5105520" y="4365720"/>
            <a:ext cx="37512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隶书"/>
              </a:rPr>
              <a:t>中考文言文考点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、能正确诵读文中的句子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、能正确理解字词的意思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和句段篇的大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、正确默写、翻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考链接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8278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解释加点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臣本布衣　　　     布衣：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帝不以臣卑鄙　　卑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遂许先产以驱驰　　驱驰：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深入不毛　　　　　不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解释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苟全性命于乱世，不求闻达于诸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此诚危急存亡之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4713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按要求填空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1]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值倾覆，                                           ，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尔来二十有一年矣。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2]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求闻达于诸侯 。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3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帝遗诏中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惟贤惟德，能服于人”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。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2057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3888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1932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9520" y="1523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受任于败军之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86600" y="1523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奉命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332000" y="20606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危难之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03280" y="328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苟全性命于乱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62920" y="487692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15772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5122"/>
                </a:solidFill>
                <a:latin typeface="Times New Roman"/>
              </a:rPr>
              <a:t>勿以善小而不为</a:t>
            </a:r>
            <a:r>
              <a:rPr b="1" lang="zh-CN" sz="2800" spc="-1" strike="noStrike">
                <a:solidFill>
                  <a:srgbClr val="fc512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37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5122"/>
                </a:solidFill>
                <a:latin typeface="Times New Roman"/>
              </a:rPr>
              <a:t>勿以恶小而为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72928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0" lang="zh-CN" sz="8000" spc="-1" strike="noStrike">
                <a:solidFill>
                  <a:srgbClr val="6600ff"/>
                </a:solidFill>
                <a:latin typeface="Times New Roman"/>
              </a:rPr>
              <a:t>、理解填空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诸葛亮向后主提出的三条建议中，反复陈说的一条，其内容可概括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00000" y="46530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5122"/>
                </a:solidFill>
                <a:latin typeface="Times New Roman"/>
              </a:rPr>
              <a:t>亲贤远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文中表明作者与先帝患难与共的句子是哪一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任于败军之际，奉命于危难之间，尔来二十有一年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751120" y="2368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25120" y="1733400"/>
            <a:ext cx="2506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读准字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把握节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注意语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语速适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感情充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533520"/>
            <a:ext cx="41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朗读技巧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751120" y="2368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81080" y="304920"/>
            <a:ext cx="5399280" cy="581400"/>
          </a:xfrm>
          <a:prstGeom prst="rect">
            <a:avLst/>
          </a:prstGeom>
          <a:noFill/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把握句中停顿，应注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91320" y="2438280"/>
            <a:ext cx="43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然侍卫之臣不懈于内，忠志之士忘身于外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92200" y="3736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488400" y="3357720"/>
            <a:ext cx="12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是一个词或一个短语的不能连读（读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64600" y="4168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今天下三分，益州疲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627280" y="4221000"/>
            <a:ext cx="21600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1218960" y="2438280"/>
            <a:ext cx="15228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2743200" y="2514600"/>
            <a:ext cx="7632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943600" y="2438280"/>
            <a:ext cx="7632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3000" y="1295280"/>
            <a:ext cx="1768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523880"/>
            <a:ext cx="72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个词或一个短语不能拆开读（连读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076720" y="4292640"/>
            <a:ext cx="21600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诵 读 全 文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636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先帝创业未半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而中道崩殂，今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天下三分，益州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疲弊，此诚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危急存亡之秋也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然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侍卫之臣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懈于内，忠志之士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忘身于外者，盖追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先帝之殊遇，欲报之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于陛下也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若有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奸犯科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及为忠善者，宜付有司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论其刑赏，以昭陛下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平明之理，不宜偏私，使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内外异法也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侍中侍郎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郭攸之、费、董允等，此皆良实，志虑忠纯，是以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先帝简拔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以遗陛下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愚以为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营中之事，悉以咨之，必能使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行阵和睦，优劣得所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记忆经典语句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亲贤臣，远小人，此先汉所以兴隆也；亲小人，远贤臣，此后汉所以倾颓也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臣本布衣，躬耕于南阳，苟全性命于乱世，不求闻达于诸侯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受任于败军之际，奉命于危难之间，尔来二十有一年矣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当奖率三军，北定中原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庶竭驽钝，攘除奸凶，兴复汉室，还于旧都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刘备给后主遗诏中说：“勿以恶小而为之，勿以善小而不为。惟贤惟德，能服于人。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191120" y="685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990720"/>
            <a:ext cx="739152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自学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疏通文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翻译全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了解大意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4191120" y="685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8600" y="3808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3808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4000" y="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译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1600" y="3049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320040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1280" y="112536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陟罚臧否，不宜异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亲贤臣，远小人，此先汉所以兴隆也；亲小人，远贤臣，此后汉所以倾颓也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3"/>
              </a:rPr>
              <a:t>苟全性命于乱世，不求闻达于诸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⑷</a:t>
            </a:r>
            <a:r>
              <a:rPr b="1" lang="zh-CN" sz="2800" spc="-1" strike="noStrike">
                <a:solidFill>
                  <a:srgbClr val="000000"/>
                </a:solidFill>
                <a:latin typeface="3"/>
              </a:rPr>
              <a:t>先帝不以臣卑鄙，猥自枉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3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3"/>
              </a:rPr>
              <a:t>三顾臣于草庐之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任于败军之际，奉命于危难之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尔来二十有一年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28600" y="2133720"/>
            <a:ext cx="84582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第一部分（１－５）指明危机，提出建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第二部分（６－７）追忆往事，陈述理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第三部分（８－９）分清责任，表明决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6094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课文脉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3:33:16Z</dcterms:created>
  <dc:creator/>
  <dc:description/>
  <dc:language>en-US</dc:language>
  <cp:lastModifiedBy>微软用户</cp:lastModifiedBy>
  <dcterms:modified xsi:type="dcterms:W3CDTF">2011-09-29T02:22:42Z</dcterms:modified>
  <cp:revision>0</cp:revision>
  <dc:subject/>
  <dc:title>幻灯片 1</dc:title>
</cp:coreProperties>
</file>