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EF2-D685-4AEB-959A-2114FD2B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E30-F539-48A3-8CEA-3366596B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D49-053B-4D0A-8CA5-0991398D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CBA-9A9E-45FD-B45B-90CB5FE9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F625-3F96-4A03-B66E-D97C206B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437E-05DB-4922-AAD7-53D13A30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779D-0D32-49FE-9F63-1526C82E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7232-CB03-4A2D-A8DD-291436A3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970E-AEC6-4348-91E8-8516CF6E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2475-3DEA-42E4-8E28-0CC9219A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1FD4-E4E6-4B11-98C1-E51F833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2F9-EB7B-43C6-B421-43362989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DA59-CEB8-49B8-9655-6DAB8FC5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16BE-00EC-4D4F-8AD5-C4866EFD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448B-B698-4CCB-A8E4-5DE302A1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1186-8AD8-47A0-9112-9136AE98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0FA2-9B54-4109-BBD5-652B8DFF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AC94-4679-4999-96B5-C4F719E4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312E-9C39-4107-B9EC-82FA4173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A42A-4230-4107-A32E-6E454408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2BC5-7428-4597-BA1C-33313B44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F82A5-365D-47FF-A2DD-C17CB199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7CA-CBF7-4297-9EDA-D775C392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FEF8-691F-4078-8F23-72D5B88C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1D6F2-ADD9-42B9-ACB8-9FE46422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423B-B8D0-4845-A8F4-9D712FBA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706E-FC3B-4BD2-9C93-347F3BF0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10EFA-1AFB-4273-996B-4A3DC3F2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9DFB6-ECA1-4143-BEAF-C93C7298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BE503-F63B-4EE7-B3F1-FF0B5634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E77-8A63-47A0-969C-97500867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DEB-031D-4279-9AEE-1C91FA5C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84B-1072-4197-91FA-336F95F7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2AB-C346-4CBC-95A3-0AA1003E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BBD-3B44-44B3-8E8A-043F5437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72E-6029-4EBF-9149-41C9FE76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AAFE-E31B-4E6E-9F79-652CD77B90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AF0E-9AB4-4590-A342-81A96A180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C2D0-92F5-495D-9B6B-2E0B82B2C1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contrast="-70000"/>
            <a:alphaModFix amt="60000"/>
          </a:blip>
          <a:stretch/>
        </p:blipFill>
        <p:spPr>
          <a:xfrm>
            <a:off x="-1162080" y="-433440"/>
            <a:ext cx="10990440" cy="8326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843280" y="522936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隶书"/>
                <a:ea typeface="隶书"/>
              </a:rPr>
              <a:t>田村镇中心小学  李文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9400" y="6373800"/>
            <a:ext cx="541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5040" y="6345360"/>
            <a:ext cx="548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844640"/>
            <a:ext cx="7129440" cy="21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欢迎您的指导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7920" y="-22320"/>
            <a:ext cx="9309240" cy="6980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66560" y="1989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很慢    慢慢    快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60360" y="3141720"/>
            <a:ext cx="788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台球   讲台  台风  台灯              抬头  抬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60360" y="48704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娃娃   青蛙   洼地    山洼   挂衣服        好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1125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每天   每人   每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0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595440" y="-160200"/>
            <a:ext cx="10352160" cy="7335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356000" y="1270080"/>
            <a:ext cx="4324320" cy="4897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1449360"/>
            <a:ext cx="4140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仿宋_GB2312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从前，有个人种了一棵葫芦。细长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葫芦藤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上长满了绿叶，开出了几朵雪白的小花。花谢以后，藤上挂了几个小葫芦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多么可爱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的小葫芦哇！那个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每天都要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去看几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88760" y="106200"/>
            <a:ext cx="45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黑体"/>
                <a:ea typeface="黑体"/>
              </a:rPr>
              <a:t>14</a:t>
            </a:r>
            <a:r>
              <a:rPr b="0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我要的是葫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40" y="46080"/>
            <a:ext cx="9253800" cy="6983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33480" y="-23760"/>
            <a:ext cx="9071280" cy="7702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33480" y="907920"/>
            <a:ext cx="3886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长的葫芦藤上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长满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叶，开出几朵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雪白的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花。花谢以后，藤上挂了几个小葫芦。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多么可爱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葫芦哇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4673520" cy="352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-812880" y="-1162080"/>
            <a:ext cx="10352160" cy="8120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1240" y="1054080"/>
            <a:ext cx="424476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有一天，他看见叶子上爬着一些蚜虫，心里想，有几个虫子怕什么！他盯着小葫芦自言自语地说：“我的小葫芦，快长啊，快长啊！长得</a:t>
            </a:r>
            <a:r>
              <a:rPr b="1" lang="zh-CN" sz="2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赛</a:t>
            </a:r>
            <a:r>
              <a:rPr b="1" lang="zh-CN" sz="25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过大南瓜才好呢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5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个</a:t>
            </a:r>
            <a:r>
              <a:rPr b="1" lang="zh-CN" sz="2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邻</a:t>
            </a:r>
            <a:r>
              <a:rPr b="1" lang="zh-CN" sz="25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居看见了</a:t>
            </a:r>
            <a:r>
              <a:rPr b="1" lang="zh-CN" sz="21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zh-CN" sz="25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对他说：“你别光</a:t>
            </a:r>
            <a:r>
              <a:rPr b="1" lang="zh-CN" sz="2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盯</a:t>
            </a:r>
            <a:r>
              <a:rPr b="1" lang="zh-CN" sz="25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着葫芦了</a:t>
            </a:r>
            <a:r>
              <a:rPr b="1" lang="zh-CN" sz="21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zh-CN" sz="25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叶子上生了</a:t>
            </a:r>
            <a:r>
              <a:rPr b="1" lang="zh-CN" sz="2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蚜</a:t>
            </a:r>
            <a:r>
              <a:rPr b="1" lang="zh-CN" sz="25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虫</a:t>
            </a:r>
            <a:r>
              <a:rPr b="1" lang="zh-CN" sz="17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zh-CN" sz="25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快治一治吧！”那个人感到很奇怪</a:t>
            </a:r>
            <a:r>
              <a:rPr b="1" lang="zh-CN" sz="21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zh-CN" sz="25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说：“什么？叶子上的虫还用治？我要的是葫芦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66680" y="-227160"/>
            <a:ext cx="45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黑体"/>
                <a:ea typeface="黑体"/>
              </a:rPr>
              <a:t>14</a:t>
            </a:r>
            <a:r>
              <a:rPr b="0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我要的是葫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284720" y="838080"/>
            <a:ext cx="4680000" cy="5399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603360" y="-523800"/>
            <a:ext cx="11153880" cy="820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40" y="-236520"/>
            <a:ext cx="9541080" cy="7340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-812880" y="-1162080"/>
            <a:ext cx="10352160" cy="8120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1701720"/>
            <a:ext cx="38876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39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没过几天，叶子上的蚜虫更多了。小葫芦</a:t>
            </a: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黑体"/>
              </a:rPr>
              <a:t>慢慢地</a:t>
            </a:r>
            <a:r>
              <a:rPr b="1" lang="zh-CN" sz="39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变黄了，一个一个</a:t>
            </a: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黑体"/>
              </a:rPr>
              <a:t>都落</a:t>
            </a:r>
            <a:r>
              <a:rPr b="1" lang="zh-CN" sz="39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了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6680" y="-227160"/>
            <a:ext cx="45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黑体"/>
                <a:ea typeface="黑体"/>
              </a:rPr>
              <a:t>14</a:t>
            </a:r>
            <a:r>
              <a:rPr b="0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我要的是葫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427640" y="1123920"/>
            <a:ext cx="417492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40" y="-11160"/>
            <a:ext cx="9180720" cy="697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66560" y="2276640"/>
            <a:ext cx="828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8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种葫芦的人看到葫芦都落了，会想些什么呢？你有什么话要告诉他吗？与同伴说说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1676520" cy="1752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84440" y="1208160"/>
            <a:ext cx="494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想   一   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596880" y="0"/>
            <a:ext cx="10353600" cy="7174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76360" y="1917360"/>
            <a:ext cx="176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葫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31640" y="4870440"/>
            <a:ext cx="19429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叶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156000" y="4725720"/>
            <a:ext cx="1676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蚜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66680" y="476280"/>
            <a:ext cx="45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黑体"/>
                <a:ea typeface="黑体"/>
              </a:rPr>
              <a:t>14</a:t>
            </a:r>
            <a:r>
              <a:rPr b="0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我要的是葫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916000" y="5229360"/>
            <a:ext cx="3313080" cy="21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84360" y="2852640"/>
            <a:ext cx="1366920" cy="194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427280" y="2923920"/>
            <a:ext cx="2305080" cy="1873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4581360"/>
            <a:ext cx="106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Arial"/>
                <a:ea typeface="黑体"/>
              </a:rPr>
              <a:t>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3578400"/>
            <a:ext cx="15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Arial"/>
                <a:ea typeface="黑体"/>
              </a:rPr>
              <a:t>营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7560" y="3255840"/>
            <a:ext cx="307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Arial"/>
                <a:ea typeface="黑体"/>
              </a:rPr>
              <a:t>间接伤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104760" y="-23760"/>
            <a:ext cx="9356760" cy="6954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00000" y="1917720"/>
            <a:ext cx="7777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黑体"/>
              </a:rPr>
              <a:t>学了这篇课文，我明白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楷体_GB2312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事物之间都是有关系的，不能简      单地看问题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楷体_GB2312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      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      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66680" y="189000"/>
            <a:ext cx="45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黑体"/>
                <a:ea typeface="黑体"/>
              </a:rPr>
              <a:t>14</a:t>
            </a:r>
            <a:r>
              <a:rPr b="0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我要的是葫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2340000" y="1557360"/>
            <a:ext cx="547380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黑体"/>
              </a:rPr>
              <a:t>谢谢您的光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133800" y="3284640"/>
            <a:ext cx="547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黑体"/>
              </a:rPr>
              <a:t>谢谢您的光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61720"/>
            <a:ext cx="8893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华文细黑"/>
                <a:ea typeface="华文细黑"/>
              </a:rPr>
              <a:t>    </a:t>
            </a:r>
            <a:r>
              <a:rPr b="0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葫芦，蔓生或攀缘藤本植物，葫芦有藤蔓的长短，叶片、花朵的大小，果实的大小形状各不相同。果实有像木棒样的、像瓢一样的、还有像海豚和水壶一样的等等。 葫芦枝蔓生长快，茎多毛，卷须分叉，有麝香气味。花大，白色，美观。叶稠密。常栽培作凉棚或供观赏。果实嫩时可食，成熟后壳硬，可做瓶、瓢等用具，以及鸟巢、小装饰品、灯具及乐器等。有些品种果实长逾</a:t>
            </a:r>
            <a:r>
              <a:rPr b="0" lang="en-US" sz="3600" spc="-1" strike="noStrike">
                <a:solidFill>
                  <a:srgbClr val="ffff66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公尺。葫芦以种子繁殖，易栽培，但要求有较长的炎热季节果实才能成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60480" y="1257480"/>
            <a:ext cx="6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2600" y="946080"/>
            <a:ext cx="583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32080" y="838080"/>
            <a:ext cx="674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0640" y="1197000"/>
            <a:ext cx="51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92200" y="1612800"/>
            <a:ext cx="1208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68120" y="-14400"/>
            <a:ext cx="9769320" cy="6861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111400" y="5383080"/>
            <a:ext cx="548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ff99"/>
                </a:solidFill>
                <a:latin typeface="Arial"/>
                <a:ea typeface="楷体_GB2312"/>
              </a:rPr>
              <a:t>葫芦的果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82440" y="47520"/>
            <a:ext cx="9226440" cy="6981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71560" y="5451480"/>
            <a:ext cx="625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隶书"/>
              </a:rPr>
              <a:t>工艺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9420480" cy="6886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14360" y="5197320"/>
            <a:ext cx="855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66"/>
                </a:solidFill>
                <a:latin typeface="Arial"/>
                <a:ea typeface="楷体_GB2312"/>
              </a:rPr>
              <a:t>乐器：葫芦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595440" y="-160200"/>
            <a:ext cx="10352160" cy="7335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88760" y="106200"/>
            <a:ext cx="45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黑体"/>
                <a:ea typeface="黑体"/>
              </a:rPr>
              <a:t>14</a:t>
            </a:r>
            <a:r>
              <a:rPr b="0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我要的是葫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595440" y="-160200"/>
            <a:ext cx="10352160" cy="7335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2637000"/>
            <a:ext cx="842508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葫芦    藤    赛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蚜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哇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吧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6360" y="2133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ú 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3640" y="213372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2205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2205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40720" y="2205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y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42100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4941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494172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00720" y="5013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4941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80360" y="5013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x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8320" y="549360"/>
            <a:ext cx="45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黑体"/>
                <a:ea typeface="黑体"/>
              </a:rPr>
              <a:t>14</a:t>
            </a:r>
            <a:r>
              <a:rPr b="0" lang="en-US" sz="60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我要的是葫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9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3480" y="-22320"/>
            <a:ext cx="9250560" cy="738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71640" y="1701720"/>
            <a:ext cx="92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言自语 三言两语 千言万语                     胡言乱语 甜言蜜语 冷言冷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314172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写信    书信   信心   信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4005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治病  自治区  治安     治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941720"/>
            <a:ext cx="849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牵挂  挂念  记挂   古怪   奇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大惊小怪  千奇百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3:23:38Z</dcterms:created>
  <dc:creator>Administrator</dc:creator>
  <dc:description/>
  <cp:keywords/>
  <dc:language>en-US</dc:language>
  <cp:lastModifiedBy>luobo</cp:lastModifiedBy>
  <cp:lastPrinted>1899-12-30T00:00:00Z</cp:lastPrinted>
  <dcterms:modified xsi:type="dcterms:W3CDTF">2010-10-11T12:52:57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