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88F3D9-DD98-43D4-9858-59BA1614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47909-D811-49B6-9ACC-B4C180325A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38CFF5-AB8E-4EAE-B2C0-05D00CD0246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E81-5FCB-4779-A292-6654B015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5920" y="40251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E43-6200-4247-9AB4-4360431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2CC-78DA-4C30-9589-8D6B35D3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420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8284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592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420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8284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0DE-B44A-43F9-BB7A-9CFD1BB1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BCB-0741-4657-B5A9-CFD0E698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B47-B2EC-4D2A-A69B-6A59B88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4572-C510-4049-93EE-0EA024ED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493-620F-477F-B52E-5715EE29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40B1-5D28-4EF9-9506-3A0870FF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6760" y="291960"/>
            <a:ext cx="719568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D7F5-E435-4542-81AD-3A672D56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0E6-34AF-4D7C-9C85-94D4734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311-8ADB-4E78-9004-984BA4C2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86F8-0C01-4A00-994E-4652D15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931-1EF2-4E68-BB1A-65DA76E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5920" y="40251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1C49-4C20-47F3-A866-0416E7B7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C9AA-7107-429F-81B2-EA177660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420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82840" y="14763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592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420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82840" y="4025160"/>
            <a:ext cx="25790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D9E7-F51C-40D6-9444-82A41B9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FC0-1F0F-4F41-B1C2-3FC0236C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C38-CCC3-47FD-8EB4-9A58043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923-7C01-403A-AACB-CB490C6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96760" y="291960"/>
            <a:ext cx="719568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D2C-5833-4281-BDEE-611587CD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BCC-7D8C-42AD-9E98-23AE47C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48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40251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50E-1774-4BCC-BDD9-49FFAC3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5920" y="4025160"/>
            <a:ext cx="8010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1DE-B6C0-4E3A-ADD1-5468947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7e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pic>
        <p:nvPicPr>
          <p:cNvPr id="1" name="图片 9" descr=""/>
          <p:cNvPicPr/>
          <p:nvPr/>
        </p:nvPicPr>
        <p:blipFill>
          <a:blip r:embed="rId2"/>
          <a:srcRect l="25531" t="22245" r="0" b="0"/>
          <a:stretch/>
        </p:blipFill>
        <p:spPr>
          <a:xfrm>
            <a:off x="-9360" y="-12600"/>
            <a:ext cx="1171080" cy="1600560"/>
          </a:xfrm>
          <a:prstGeom prst="rect">
            <a:avLst/>
          </a:prstGeom>
          <a:ln w="0">
            <a:noFill/>
          </a:ln>
        </p:spPr>
      </p:pic>
      <p:sp>
        <p:nvSpPr>
          <p:cNvPr id="2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7e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pic>
        <p:nvPicPr>
          <p:cNvPr id="3" name="图片 6" descr=""/>
          <p:cNvPicPr/>
          <p:nvPr/>
        </p:nvPicPr>
        <p:blipFill>
          <a:blip r:embed="rId3"/>
          <a:stretch/>
        </p:blipFill>
        <p:spPr>
          <a:xfrm>
            <a:off x="1771560" y="1442160"/>
            <a:ext cx="5688360" cy="21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28960" y="3533400"/>
            <a:ext cx="5190840" cy="140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zh-CN" sz="3600" spc="-1" strike="noStrike">
                <a:solidFill>
                  <a:schemeClr val="accent1"/>
                </a:solidFill>
                <a:latin typeface="MS PMincho"/>
                <a:ea typeface="华文新魏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4d4d4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d4d4d"/>
                </a:solidFill>
                <a:latin typeface="Calibri"/>
                <a:ea typeface="幼圆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4d4d4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B651D-024B-4B14-B642-FB608BF3C404}" type="slidenum">
              <a:rPr b="0" lang="en-US" sz="900" spc="-1" strike="noStrike">
                <a:solidFill>
                  <a:srgbClr val="4d4d4d"/>
                </a:solidFill>
                <a:latin typeface="Calibri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图片 15" descr=""/>
          <p:cNvPicPr/>
          <p:nvPr/>
        </p:nvPicPr>
        <p:blipFill>
          <a:blip r:embed="rId4"/>
          <a:srcRect l="25531" t="22245" r="0" b="0"/>
          <a:stretch/>
        </p:blipFill>
        <p:spPr>
          <a:xfrm>
            <a:off x="-9360" y="-12600"/>
            <a:ext cx="1866600" cy="35931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6" descr=""/>
          <p:cNvPicPr/>
          <p:nvPr/>
        </p:nvPicPr>
        <p:blipFill>
          <a:blip r:embed="rId5"/>
          <a:srcRect l="25531" t="22245" r="0" b="0"/>
          <a:stretch/>
        </p:blipFill>
        <p:spPr>
          <a:xfrm flipH="1">
            <a:off x="7427160" y="0"/>
            <a:ext cx="1716840" cy="3304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3b3b3b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3b3b3b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3b3b3b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3b3b3b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3b3b3b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3b3b3b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b3b3b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b3b3b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b3b3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7e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2"/>
          <a:srcRect l="25531" t="22245" r="0" b="0"/>
          <a:stretch/>
        </p:blipFill>
        <p:spPr>
          <a:xfrm>
            <a:off x="-9360" y="-12600"/>
            <a:ext cx="1171080" cy="160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chemeClr val="accent1"/>
                </a:solidFill>
                <a:latin typeface="MS PMincho"/>
                <a:ea typeface="华文新魏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7840" indent="-267840">
              <a:lnSpc>
                <a:spcPct val="90000"/>
              </a:lnSpc>
              <a:spcBef>
                <a:spcPts val="1349"/>
              </a:spcBef>
              <a:buClr>
                <a:srgbClr val="ffca08"/>
              </a:buClr>
              <a:buSzPct val="80000"/>
              <a:buFont typeface="Wingdings 2" charset="2"/>
              <a:buChar char=""/>
            </a:pPr>
            <a:r>
              <a:rPr b="0" lang="zh-CN" sz="2400" spc="-1" strike="noStrike">
                <a:solidFill>
                  <a:schemeClr val="accent1"/>
                </a:solidFill>
                <a:latin typeface="Calibri"/>
                <a:ea typeface="幼圆"/>
              </a:rPr>
              <a:t>单击此处编辑母版文本样式</a:t>
            </a:r>
            <a:endParaRPr b="0" lang="en-US" sz="2400" spc="-1" strike="noStrike">
              <a:solidFill>
                <a:schemeClr val="accent1"/>
              </a:solidFill>
              <a:latin typeface="Calibri"/>
            </a:endParaRPr>
          </a:p>
          <a:p>
            <a:pPr lvl="1" marL="267840" indent="-267840">
              <a:lnSpc>
                <a:spcPct val="130000"/>
              </a:lnSpc>
              <a:buClr>
                <a:srgbClr val="ffffff"/>
              </a:buClr>
              <a:buFont typeface="Calibri"/>
              <a:buChar char=" "/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幼圆"/>
              </a:rPr>
              <a:t>第二级</a:t>
            </a:r>
            <a:endParaRPr b="0" lang="en-US" sz="16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4d4d4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d4d4d"/>
                </a:solidFill>
                <a:latin typeface="Calibri"/>
                <a:ea typeface="幼圆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4d4d4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CD41A-07AF-48C3-BB09-E1F829A00B3D}" type="slidenum">
              <a:rPr b="0" lang="en-US" sz="900" spc="-1" strike="noStrike">
                <a:solidFill>
                  <a:srgbClr val="4d4d4d"/>
                </a:solidFill>
                <a:latin typeface="Calibri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28960" y="3533400"/>
            <a:ext cx="5190840" cy="140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MS PMincho"/>
              <a:ea typeface="华文新魏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28960" y="5087880"/>
            <a:ext cx="51955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6760" y="291960"/>
            <a:ext cx="71956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MS PMincho"/>
              <a:ea typeface="华文新魏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5920" y="1476360"/>
            <a:ext cx="8010000" cy="48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000120141119A01PPBG">
  <a:themeElements>
    <a:clrScheme name="自定义 352">
      <a:dk1>
        <a:srgbClr val="ffffff"/>
      </a:dk1>
      <a:lt1>
        <a:srgbClr val="777777"/>
      </a:lt1>
      <a:dk2>
        <a:srgbClr val="ffffff"/>
      </a:dk2>
      <a:lt2>
        <a:srgbClr val="595959"/>
      </a:lt2>
      <a:accent1>
        <a:srgbClr val="ffca08"/>
      </a:accent1>
      <a:accent2>
        <a:srgbClr val="f8931d"/>
      </a:accent2>
      <a:accent3>
        <a:srgbClr val="ce8d3e"/>
      </a:accent3>
      <a:accent4>
        <a:srgbClr val="ec7016"/>
      </a:accent4>
      <a:accent5>
        <a:srgbClr val="e64823"/>
      </a:accent5>
      <a:accent6>
        <a:srgbClr val="9c6a6a"/>
      </a:accent6>
      <a:hlink>
        <a:srgbClr val="2998e3"/>
      </a:hlink>
      <a:folHlink>
        <a:srgbClr val="7f723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000120141119A01PPBG">
  <a:themeElements>
    <a:clrScheme name="自定义 352">
      <a:dk1>
        <a:srgbClr val="ffffff"/>
      </a:dk1>
      <a:lt1>
        <a:srgbClr val="777777"/>
      </a:lt1>
      <a:dk2>
        <a:srgbClr val="ffffff"/>
      </a:dk2>
      <a:lt2>
        <a:srgbClr val="595959"/>
      </a:lt2>
      <a:accent1>
        <a:srgbClr val="ffca08"/>
      </a:accent1>
      <a:accent2>
        <a:srgbClr val="f8931d"/>
      </a:accent2>
      <a:accent3>
        <a:srgbClr val="ce8d3e"/>
      </a:accent3>
      <a:accent4>
        <a:srgbClr val="ec7016"/>
      </a:accent4>
      <a:accent5>
        <a:srgbClr val="e64823"/>
      </a:accent5>
      <a:accent6>
        <a:srgbClr val="9c6a6a"/>
      </a:accent6>
      <a:hlink>
        <a:srgbClr val="2998e3"/>
      </a:hlink>
      <a:folHlink>
        <a:srgbClr val="7f723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595959"/>
      </a:lt2>
      <a:accent1>
        <a:srgbClr val="ffca08"/>
      </a:accent1>
      <a:accent2>
        <a:srgbClr val="f8931d"/>
      </a:accent2>
      <a:accent3>
        <a:srgbClr val="ce8d3e"/>
      </a:accent3>
      <a:accent4>
        <a:srgbClr val="ec7016"/>
      </a:accent4>
      <a:accent5>
        <a:srgbClr val="e64823"/>
      </a:accent5>
      <a:accent6>
        <a:srgbClr val="9c6a6a"/>
      </a:accent6>
      <a:hlink>
        <a:srgbClr val="2998e3"/>
      </a:hlink>
      <a:folHlink>
        <a:srgbClr val="7f723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000120150204A13PPBG</Template>
  <TotalTime>273</TotalTime>
  <Application>LibreOffice/7.4.7.2$Linux_X86_64 LibreOffice_project/40$Build-2</Application>
  <AppVersion>15.0000</AppVersion>
  <Words>2</Words>
  <Paragraphs>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2-06T06:13:38Z</dcterms:modified>
  <cp:revision>120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  <property fmtid="{D5CDD505-2E9C-101B-9397-08002B2CF9AE}" pid="5" name="fileid">
    <vt:lpwstr>537278</vt:lpwstr>
  </property>
  <property fmtid="{D5CDD505-2E9C-101B-9397-08002B2CF9AE}" pid="6" name="name">
    <vt:lpwstr>A000120150204A13PPBG.pptx</vt:lpwstr>
  </property>
</Properties>
</file>