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9DCF-7C2C-4BF0-B11B-38529463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DE0F-B5D3-4129-9438-6140923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845E-F320-4136-980B-8A41109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5EE4-8995-4FC0-9071-708D3E0E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52C-B3C7-46C3-857E-2C3409CC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2F90-5749-413A-837E-B6AEE200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4249-9224-4092-8C36-C5C847F6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0D4-3EBA-482B-B8D2-8226B895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0241-B94C-4268-8BEC-13A2CEF2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0F6-4BF3-457B-8A80-4A4B91ED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E7DA-A3EB-4F20-AFF9-6EED180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EFB3-2D27-44A1-87E6-060066A2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1E15-C3A4-4D94-ABD6-88AC7D66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A11C-FCA9-4B6B-BE3C-3487C402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3C16-B180-49FC-BDF4-24F75D4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39FE-723E-4736-83AE-BBB2E414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FEAB-F1F4-4782-B7E2-C0A6645A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53D3-E1BF-4C23-954F-91FA26A9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1AF8-E567-4A26-A75F-7A12E9B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DC8B-F509-451C-9C16-4146214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FE60-147A-4B88-A919-250E2DB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371F-7C88-4EAB-9192-A737C71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F712-FFF4-4C82-BE7F-EC7505A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6D24-AE24-4B58-838D-5CBF056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70CE-8038-4757-A056-8437C57FEB2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8FF-0E4C-4E30-856F-262BDE79FCD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公 司（项目） 名 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项目负责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联系方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（注：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大纲可根据各项目实际情况稍作调整，但尽量不要超过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张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，路演时间必须控制在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分钟以内。）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财务状况及未来三年财务预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融资需求及资金用途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目      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一、公司介绍及长远目标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二、管理团队的介绍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三、产品或服务介绍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四、商业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收入模式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五、市场推广及营销策略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六、市场分析及竞争分析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七、公司发展规划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八、财务状况及财务预测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九、融资需求及资金用途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公司介绍及长远目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管理团队的介绍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产品或服务介绍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商业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/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收入模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市场推广及营销策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市场分析及竞争分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公司发展规划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1:26:08Z</dcterms:created>
  <dc:creator>*</dc:creator>
  <dc:description/>
  <dc:language>en-US</dc:language>
  <cp:lastModifiedBy>*</cp:lastModifiedBy>
  <dcterms:modified xsi:type="dcterms:W3CDTF">2010-06-28T02:22:35Z</dcterms:modified>
  <cp:revision>4</cp:revision>
  <dc:subject/>
  <dc:title>公司名称</dc:title>
</cp:coreProperties>
</file>