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657-AF9F-4B3F-B134-1DABCB67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740-6A7A-43E0-A6E0-D5128D11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3E4-D02B-44F2-A635-016C77AE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2F4-A1AE-4B01-B2AD-8FB54209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E603-CDF4-487D-B280-E8C3541E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688-03C7-4A91-ADD0-3B9D0496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163-95A3-4236-8770-F0BFBFA0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D139-819E-4D5C-9762-4BC61BE2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B390-382D-4493-9DC5-6A804C82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C4B5-7D29-49B6-A9E5-60EE417A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E3B-CF1D-408C-AC95-A93F1382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D2F-EDF1-4332-B99E-B247A253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F28C-5249-4E61-97D5-C6392F93A31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93A3-AF8E-4EC4-ADD2-44EBAA0A019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14360" y="4429080"/>
            <a:ext cx="46004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儿童幻灯片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1187280" y="6237360"/>
            <a:ext cx="6908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14400" y="4785840"/>
            <a:ext cx="378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03:37:00Z</dcterms:created>
  <dc:creator>lenovo</dc:creator>
  <dc:description>Made by Moyea Software. To find more free PowerPoint templates, please visit http://www.dvd-ppt-slideshow.com/powerpoint-knowledge/powerpoint-templates.html</dc:description>
  <cp:keywords>free PowerPoint template download PPT template PowerPoint templates slideshow template POT POTX Power Point template slide show template festival Education Education PowerPoint template</cp:keywords>
  <dc:language>en-US</dc:language>
  <cp:lastModifiedBy>lenovo</cp:lastModifiedBy>
  <dcterms:modified xsi:type="dcterms:W3CDTF">2015-08-04T01:36:17Z</dcterms:modified>
  <cp:revision>4</cp:revision>
  <dc:subject>Education</dc:subject>
  <dc:title>儿童幻灯片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