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3BB-9D2B-4AAB-A8CA-27B2B26B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F70-88E4-4061-BF64-B2A9B4B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27F6B-6B04-48F9-ABD3-A568B88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B9162-6DE0-4837-AC1A-642FDA6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662BF-CF4A-4E8F-845E-7D1B480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39E00-932C-42A6-9882-3DBC5C2C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A8479-273E-4C68-91E1-BE919C2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7498A-C63F-451F-8299-6FE7C0A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FF124-E200-456D-A820-22712408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61909-C070-45F2-A40E-1FAFD19C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A3427-F8C1-4A9C-B037-4036975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6CA12-BC8F-44A7-A6EC-AE337A17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90B-B218-4381-8B79-F134E157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7C724-0DE8-48F2-A1D2-0CDE73F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6BFC6-9A03-4DF9-96C9-49CA389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1580-715F-424C-8D0F-9F1C692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32103-5340-43E8-8487-5E3D4AC3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E4560-007E-432E-9120-5209944D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1F1B-B446-4C36-9400-B2C1B8F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63D22-0807-46D3-BEA2-2D3B239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80AA-7347-469F-A0A6-3942DFE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0D6FD-CF74-476D-A414-27AE94B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84700-9D6E-4B5F-A198-10A8039D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8B2-4213-42E3-89EA-FCF0DAA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44C97-8F17-42CC-B92B-6AA1B375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7B5C-B7EE-4772-8500-540B8699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9691-5C00-4DD1-B3E1-D73EFFC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D3B58-CF85-42C9-B583-DAC4947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CFDF-2CD0-4B54-BF16-B479DC3A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2B946-89A7-4DE0-863B-D66D2AF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1BF13-B3D1-4DE0-8B28-73F20959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FFC64-F793-4A87-82EC-4A62955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CF12-54A2-455D-A58A-6B6A603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FE02-FECF-4449-B076-2516D98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0606-E069-44DB-9FAC-4F4C197A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E0584-8159-4FE3-8B05-5B828A7C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61E4-89EF-44AE-B5B7-20501BC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58EAD-3A71-4823-8485-4DC101D3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9C080-C5EB-44B7-9758-27CBFF70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BB99-0800-40C7-A30C-D1A6A17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C0DD-A5D2-4CD6-A655-37F6DCDB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920C8-04B8-4AEC-AA87-4EC395DE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2CD31-4E90-4098-9379-6E84D31B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731C-EF07-48E8-8831-8B3D058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F0FC1-9084-4A90-AB43-4A63385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9DF-90B8-4874-9679-AAE1A47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2AA8F-5D00-49C5-8314-4EAB922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25D53-A209-439C-A49A-B0CE268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5B7A-CC42-46C8-A930-EDF5D3E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52D37-192C-4340-B495-40FE0274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4EB53-6F2F-41D3-8FDC-4B2C3A47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F8CB-4461-4E9A-9B5E-BA66669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3CA-ADBF-41E4-8D52-7196D8A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E6B2-1888-427E-8E52-850DAA8F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3C8-54DE-4945-ABE7-19C7D648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3B7-CC00-4072-A13A-EC67B42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D06-CA45-4CCC-A325-B48D37C1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2811-D8F0-4A80-9AED-51A0814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07B-D660-4AFC-AAFE-D5B756A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755E-132D-48B0-B815-FCD90ED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A23-14B2-4A2B-9A25-4D7C0EE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FC3-15A5-4B84-A56E-135FCD0C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9524-904C-4EC3-9440-928CE3F9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FE13-2DF1-47FB-9342-84F88A6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14CA-C374-4CDA-A591-1AFC8507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61AD-30F5-492A-BF51-657F746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D078-777D-4846-9ACA-BFC28040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103-C728-42E5-B276-D22256F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47B4-2565-4C12-B9DA-B07168CA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4EFF-A138-4B00-9F5C-3FD949F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C952-6CF1-4A31-8815-16881C5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61CC-C6CC-4E92-9A28-F093761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CC23-DBD1-4605-A976-99B58FD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8501-45BD-4F0C-8C7A-5DED00B4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3B51-3CDB-4737-BC0B-C31DC78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4A29-1A6B-44DB-AD4B-4505B6E9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4102-1C67-41A1-BAD5-959FCDD2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6AF3-0013-4BA5-93B0-58F581C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4D5-11B2-4BEA-B93B-3181762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B104-D7F8-46EB-B101-39B9802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FF23-FDBA-4604-839A-FF8112E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054E-7292-4218-8A90-FF4F767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9158-0A96-4989-AAFA-0426A9B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72E8-5EE5-4816-9E35-0B7E129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F97E-66EE-4ED3-8387-2CCB990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0D3C-96FD-4A7F-895E-7D2BFB4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99B6-7535-433E-9713-561B3706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97E7-B454-4D49-9BA8-0D0371A7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FE68-B6C3-4BAB-A20C-2B8F6E8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DBB-683B-4160-ABDB-3EE6646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C67E-BCE3-4761-820D-8D2024B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88D9-E3B2-4FF9-BD9D-D583CE4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FB8F-10A0-477B-8130-A940B37A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8499-B2D3-456B-BEE3-D48F69B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9152-E006-4473-B409-D720E8AF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12DA-2A38-4E97-B0A1-BD6155DE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C2E2-BD83-448B-BFCF-201CE1F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6ECF-47F4-431E-949B-0E5DCD1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C08C-1081-4DC8-A3AC-3B5F695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A371-72DB-4ACF-B7AF-B5E1A889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B39-72B4-4C03-A407-2DF172A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988F-508A-485D-A2BC-94A3D63F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B068-1354-4754-806D-9CAF8A57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1C92-82D5-471A-91C5-003A8353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0754-2441-4148-83AB-5EB85E8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1F0F-210E-4FC3-8E91-8ABF513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134A-3B40-4A0E-89A0-41CAD52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3A93-FFE4-42E0-8024-8C70E073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7749-D644-463A-A1E0-B146394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B7DCD-F122-468A-8182-2F5E641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8E5CD-D14F-4653-9130-B368807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2C1-0C90-4C5D-A7C1-E696DE10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8EBC-69A5-49A8-9AF8-1EB0DC36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85E1-B598-44F1-B844-91AE5E7D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83B4D-B10F-41CF-9BB0-C1A0C8A2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C3B2-8A50-4C75-8876-E997C3EC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9C19-C896-4F16-ABBC-6433EAE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E8E4-790D-4AB0-8443-76FFFBCF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8C571-B9AD-4331-94C8-F9C58B7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8571-0FBB-4A25-888E-5DCDD732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19F3-104E-4645-8385-272C125A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ED0C-810B-48AB-B33D-834DB9E9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A9B-452A-40BE-815D-06B0768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22C1-3A65-4296-AC3D-A961347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5BC5-EFFF-426E-9825-F85EB44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90D97-6B57-4BB0-9003-221B983A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DEDC-6E45-4F27-B9CA-B1B25568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84D2-D425-43DD-90E2-F1D8984C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A2CE-A20F-4003-AC5C-11B1BD35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99F4D-24E2-4941-A0F0-38BB48A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9716-B40A-4C0D-B5D4-85E179A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89C0-DE00-400D-AAAE-A8593B77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841A-8217-4161-9E0D-6904207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5F2-2B91-48E4-9008-4E70BDE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2D14-605F-4DF8-9DD8-312B804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7AD1-6E9D-46A1-9347-D0CBF88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A6111-EB17-45D1-A8EB-B3D03C8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910F-AF76-4979-8321-1125805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F754-C30C-4F5B-8370-F2C68E1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5666-CBBD-4D9B-B9B5-4C1EB330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CCDAA-BDC5-4238-9DCE-F73457AD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28527-785D-4BA6-AE37-ADBA4F4A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8D595-66CF-4281-8AFC-A5BA0EF5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732F5-1ED9-45C6-8C1D-326AC9EB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7D6-42C7-4F82-85B1-57E46039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325-5897-4CA1-8A2E-810307E2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306-9CB3-4375-A8A4-42F4CC73B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BAC1-BF68-4D8E-A34C-084171AC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36B-2B2C-4974-A5AD-714FA0ACD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6A7-C5C1-4461-BC5D-96AEC5CF3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A052-B09B-4986-8FE6-427BB1E8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0617-176E-4A6A-844A-D09A47501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4E70-8048-407C-B717-1A3ED934F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1C6-2EFF-47C5-82F5-41356437C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02F-0925-4B49-B205-6A02B4795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0B03-8DBA-4364-A336-5FB5EED8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&#24847;&#24535;&#21147;&#33258;&#25105;&#27979;&#35797;.doc" TargetMode="External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华文新魏"/>
              </a:rPr>
              <a:t>如何培养意志力主题班会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250920" y="1722600"/>
            <a:ext cx="860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师正在发测验试卷，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上讲台领自己的试卷，走回到自己的座位后，看了一眼自己的得分，将试卷搓成一团，然后便伏在课桌上睡大觉了。教师讲评试卷了，同桌示意他，该听老师讲评了，但该学生仍懒洋洋地说：才得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，我学不了，“天生我才没有用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476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24000" y="45032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遇到学习上的困难便心灰意冷，甚至放弃意志努力 → 要转变认知，树立“天生我才必有用”的观念，重新振作起来，找到学习上的薄弱环节，一点点往前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4360" y="1341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听了一个先进同学的事迹，深受感动，决心在本学期内将成绩从全班三十多名提升至前十名，他模仿成绩好的同学的学习方法，但效果不好，他很灰心，只好放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153800" y="5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4360" y="4236480"/>
            <a:ext cx="76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标不现实，方法不当，机械模仿 →制定符合自身实际的奋斗目标（必须是经过自己的努力能够实现的），结合自己的实际情况，找到适合自己的科学的学习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468360" y="22662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一名住宿生，每天中午放学后，别的同学或回家或到餐厅吃饭，她却给自己规定要挤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的时间专门记英语单词，每天至少要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，然后再回宿舍凑合吃点，结果很多时候都不能完成预定的任务，反而还搞得身心疲惫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15380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755640" y="47214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意志不是盲目的努力 →要在平时的学习活动中锻炼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2400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个十足的足球迷，高考前两个月恰逢世界杯，他偷偷地看了两场，发现自己几乎不能自拔了，后来他叫人把自己反锁在房里，强迫自己学习。他发誓，考完高考后，立即找世界杯的录像好好地看个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79524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情境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95280" y="4286880"/>
            <a:ext cx="568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自制力和坚持性不是说有就有的，有时候的确需要对自己“狠”一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59280" y="548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心理小测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00720" y="24922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习意志强弱自我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580000" y="4143240"/>
            <a:ext cx="25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1"/>
              </a:rPr>
              <a:t>附自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324000" y="2708280"/>
            <a:ext cx="21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贴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468360" y="19332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凡单序号题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…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每题后面的五种回答，从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依次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；凡双序号题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…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题后五种回答依次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557360" y="3827520"/>
            <a:ext cx="482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 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题的分数和与意志力的关系如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1~1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 意志很坚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1~8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  意志较坚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1~6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  意志力一般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~4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 意志较薄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~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  意志很薄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383480" y="83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测评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900000" y="1136160"/>
            <a:ext cx="6969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四、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如何培养自己坚强的学习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971640" y="2348640"/>
            <a:ext cx="691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确定崇高的学习目标，树立远大的理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106000" y="3499560"/>
            <a:ext cx="495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制定一份自我约束，自我锻炼意志的计划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900000" y="4580640"/>
            <a:ext cx="4434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持之以恒，百折不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RTHELP"/>
          <p:cNvPicPr/>
          <p:nvPr/>
        </p:nvPicPr>
        <p:blipFill>
          <a:blip r:embed="rId1"/>
          <a:stretch/>
        </p:blipFill>
        <p:spPr>
          <a:xfrm>
            <a:off x="6948360" y="620640"/>
            <a:ext cx="25434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611280" y="2269800"/>
            <a:ext cx="79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伟大的事业不是靠力气、速度和身体的敏捷完成的，而是靠性格、意志和知识的力量完成的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1128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结束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WordArt 2" descr=""/>
          <p:cNvPicPr/>
          <p:nvPr/>
        </p:nvPicPr>
        <p:blipFill>
          <a:blip r:embed="rId1"/>
          <a:stretch/>
        </p:blipFill>
        <p:spPr>
          <a:xfrm>
            <a:off x="957240" y="1401840"/>
            <a:ext cx="7686720" cy="1847880"/>
          </a:xfrm>
          <a:prstGeom prst="rect">
            <a:avLst/>
          </a:prstGeom>
          <a:ln w="0">
            <a:noFill/>
          </a:ln>
        </p:spPr>
      </p:pic>
      <p:sp>
        <p:nvSpPr>
          <p:cNvPr id="562" name="WordArt 3"/>
          <p:cNvSpPr txBox="1"/>
          <p:nvPr/>
        </p:nvSpPr>
        <p:spPr>
          <a:xfrm>
            <a:off x="1042920" y="105264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成功＝？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3" name="Picture 4" descr="8+1广告"/>
          <p:cNvPicPr/>
          <p:nvPr/>
        </p:nvPicPr>
        <p:blipFill>
          <a:blip r:embed="rId2"/>
          <a:stretch/>
        </p:blipFill>
        <p:spPr>
          <a:xfrm>
            <a:off x="5305320" y="3981600"/>
            <a:ext cx="3838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WordArt 2"/>
          <p:cNvSpPr txBox="1"/>
          <p:nvPr/>
        </p:nvSpPr>
        <p:spPr>
          <a:xfrm>
            <a:off x="684360" y="1052640"/>
            <a:ext cx="7559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活动结束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5" name="Picture 3" descr="图片1"/>
          <p:cNvPicPr/>
          <p:nvPr/>
        </p:nvPicPr>
        <p:blipFill>
          <a:blip r:embed="rId1"/>
          <a:stretch/>
        </p:blipFill>
        <p:spPr>
          <a:xfrm>
            <a:off x="3276720" y="3716280"/>
            <a:ext cx="27082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2050920" y="4797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楷体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3"/>
          <p:cNvSpPr txBox="1"/>
          <p:nvPr/>
        </p:nvSpPr>
        <p:spPr>
          <a:xfrm>
            <a:off x="900000" y="1557360"/>
            <a:ext cx="742968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如何培养意志力</a:t>
            </a:r>
            <a:endParaRPr b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96" name="Picture 4" descr="cut1-85"/>
          <p:cNvPicPr/>
          <p:nvPr/>
        </p:nvPicPr>
        <p:blipFill>
          <a:blip r:embed="rId1"/>
          <a:stretch/>
        </p:blipFill>
        <p:spPr>
          <a:xfrm>
            <a:off x="2050920" y="0"/>
            <a:ext cx="54864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684360" y="16992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游戏环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11280" y="2851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案例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00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心理测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84360" y="5153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140360" y="39654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志力的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4067280" y="1731960"/>
            <a:ext cx="37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意志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4140360" y="277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志问题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4148280" y="50817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培养学习的意志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cut1-3"/>
          <p:cNvPicPr/>
          <p:nvPr/>
        </p:nvPicPr>
        <p:blipFill>
          <a:blip r:embed="rId1"/>
          <a:stretch/>
        </p:blipFill>
        <p:spPr>
          <a:xfrm>
            <a:off x="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cut1-4"/>
          <p:cNvPicPr/>
          <p:nvPr/>
        </p:nvPicPr>
        <p:blipFill>
          <a:blip r:embed="rId2"/>
          <a:stretch/>
        </p:blipFill>
        <p:spPr>
          <a:xfrm>
            <a:off x="68580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cut1-5"/>
          <p:cNvPicPr/>
          <p:nvPr/>
        </p:nvPicPr>
        <p:blipFill>
          <a:blip r:embed="rId3"/>
          <a:stretch/>
        </p:blipFill>
        <p:spPr>
          <a:xfrm>
            <a:off x="137160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cut1-6"/>
          <p:cNvPicPr/>
          <p:nvPr/>
        </p:nvPicPr>
        <p:blipFill>
          <a:blip r:embed="rId4"/>
          <a:stretch/>
        </p:blipFill>
        <p:spPr>
          <a:xfrm>
            <a:off x="205740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cut1-7"/>
          <p:cNvPicPr/>
          <p:nvPr/>
        </p:nvPicPr>
        <p:blipFill>
          <a:blip r:embed="rId5"/>
          <a:stretch/>
        </p:blipFill>
        <p:spPr>
          <a:xfrm>
            <a:off x="2743200" y="611496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cut1-3"/>
          <p:cNvPicPr/>
          <p:nvPr/>
        </p:nvPicPr>
        <p:blipFill>
          <a:blip r:embed="rId6"/>
          <a:stretch/>
        </p:blipFill>
        <p:spPr>
          <a:xfrm>
            <a:off x="350532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cut1-4"/>
          <p:cNvPicPr/>
          <p:nvPr/>
        </p:nvPicPr>
        <p:blipFill>
          <a:blip r:embed="rId7"/>
          <a:stretch/>
        </p:blipFill>
        <p:spPr>
          <a:xfrm>
            <a:off x="419112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cut1-5"/>
          <p:cNvPicPr/>
          <p:nvPr/>
        </p:nvPicPr>
        <p:blipFill>
          <a:blip r:embed="rId8"/>
          <a:stretch/>
        </p:blipFill>
        <p:spPr>
          <a:xfrm>
            <a:off x="487692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8" descr="cut1-6"/>
          <p:cNvPicPr/>
          <p:nvPr/>
        </p:nvPicPr>
        <p:blipFill>
          <a:blip r:embed="rId9"/>
          <a:stretch/>
        </p:blipFill>
        <p:spPr>
          <a:xfrm>
            <a:off x="5562720" y="612612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9" descr="cut1-7"/>
          <p:cNvPicPr/>
          <p:nvPr/>
        </p:nvPicPr>
        <p:blipFill>
          <a:blip r:embed="rId10"/>
          <a:stretch/>
        </p:blipFill>
        <p:spPr>
          <a:xfrm>
            <a:off x="6248520" y="611496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0" descr="cut1-3"/>
          <p:cNvPicPr/>
          <p:nvPr/>
        </p:nvPicPr>
        <p:blipFill>
          <a:blip r:embed="rId11"/>
          <a:stretch/>
        </p:blipFill>
        <p:spPr>
          <a:xfrm>
            <a:off x="5737320" y="1116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1" descr="cut1-4"/>
          <p:cNvPicPr/>
          <p:nvPr/>
        </p:nvPicPr>
        <p:blipFill>
          <a:blip r:embed="rId12"/>
          <a:stretch/>
        </p:blipFill>
        <p:spPr>
          <a:xfrm>
            <a:off x="6423120" y="1116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2" descr="cut1-5"/>
          <p:cNvPicPr/>
          <p:nvPr/>
        </p:nvPicPr>
        <p:blipFill>
          <a:blip r:embed="rId13"/>
          <a:stretch/>
        </p:blipFill>
        <p:spPr>
          <a:xfrm>
            <a:off x="7108920" y="1116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3" descr="cut1-6"/>
          <p:cNvPicPr/>
          <p:nvPr/>
        </p:nvPicPr>
        <p:blipFill>
          <a:blip r:embed="rId14"/>
          <a:stretch/>
        </p:blipFill>
        <p:spPr>
          <a:xfrm>
            <a:off x="7794720" y="11160"/>
            <a:ext cx="663480" cy="731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4" descr="cut1-7"/>
          <p:cNvPicPr/>
          <p:nvPr/>
        </p:nvPicPr>
        <p:blipFill>
          <a:blip r:embed="rId15"/>
          <a:stretch/>
        </p:blipFill>
        <p:spPr>
          <a:xfrm>
            <a:off x="8480520" y="0"/>
            <a:ext cx="663480" cy="743040"/>
          </a:xfrm>
          <a:prstGeom prst="rect">
            <a:avLst/>
          </a:prstGeom>
          <a:ln w="0">
            <a:noFill/>
          </a:ln>
        </p:spPr>
      </p:pic>
      <p:sp>
        <p:nvSpPr>
          <p:cNvPr id="520" name="WordArt 25"/>
          <p:cNvSpPr txBox="1"/>
          <p:nvPr/>
        </p:nvSpPr>
        <p:spPr>
          <a:xfrm>
            <a:off x="1042920" y="40464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会主要过程</a:t>
            </a:r>
            <a:endParaRPr b="1" lang="en-US" sz="1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1042920" y="2912040"/>
            <a:ext cx="7561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游戏：“站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班同学分四小组，每小组派一位代表参赛，练习“站桩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是：两手平伸，两脚与肩间宽，双腿尽量下蹲，上身保持平直。比谁坚持到最后，并获精美礼品一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/>
          <p:cNvSpPr/>
          <p:nvPr/>
        </p:nvSpPr>
        <p:spPr>
          <a:xfrm>
            <a:off x="2795760" y="966240"/>
            <a:ext cx="3360600" cy="856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游戏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55640" y="306864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意志力是人们有意识地支配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调节行为，通过克服困难、以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现预定目的的心理过程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187280" y="620640"/>
            <a:ext cx="4753080" cy="1295640"/>
          </a:xfrm>
          <a:prstGeom prst="wedgeEllipseCallout">
            <a:avLst>
              <a:gd name="adj1" fmla="val 74615"/>
              <a:gd name="adj2" fmla="val 18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意志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1766160" y="141228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意志需要以下四个条件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1805040" y="25646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的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690880" y="249156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灵活性和果断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2377800" y="407592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制力和坚持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5694120" y="400464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奖励和惩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484360" y="1381680"/>
            <a:ext cx="3095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二、案例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1476360" y="2852640"/>
            <a:ext cx="6480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情境中的这几个学生存在什么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该如何帮他们解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250920" y="1241640"/>
            <a:ext cx="864216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情境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师正在发测验试卷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上讲台领自己的试卷，走回到自己的座位后，看了一眼自己的得分，将试卷搓成一团，然后便伏在课桌上睡大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师讲评试卷了，同桌示意他，该听老师讲评了，但该学生仍懒洋洋地说：才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，我学不了，“天生我才没有用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情境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听了一个先进同学的事迹，深受感动，决心在本学期内将成绩从全班三十多名提升至前十名，他模仿成绩好的同学的学习方法，但效果不好，他很灰心，只好放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情境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一名住宿生，每天中午放学后，别的同学或回家或到餐厅吃饭，她却给自己规定要挤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的时间专门记英语单词，每天至少要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，然后再回宿舍凑合吃点，结果很多时候都不能完成预定的任务，反而还搞得身心疲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情境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是个十足的足球迷，高考前两个月恰逢世界杯，他偷偷地看了两场，发现自己几乎不能自拔了，后来他叫人把自己反锁在房里，强迫自己学习。他发誓，考完高考后，立即找世界杯的录像好好地看个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5-10-21T03:14:37Z</dcterms:modified>
  <cp:revision>30</cp:revision>
  <dc:subject>主题班会课件(分28大类): http://shop62905894.taobao.com</dc:subject>
  <dc:title>主题班会课件(分28大类): http://shop62905894.taobao.com</dc:title>
</cp:coreProperties>
</file>