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756-FF42-4E0F-BB2F-1031AA04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25B-23DF-4D5A-80FE-6F9ADAD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1C3-9121-4ABF-8714-BF282142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CAE-EE7F-4D4D-A4B3-B1CE89BA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4A8-AF90-4638-9777-00A8A5D7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FD3-D897-4841-B81B-DFF2C9B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143-7FF6-434D-9E6F-244A3636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C4D-67B4-455D-9BE7-F92F136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F99-765D-4958-8628-039F1EE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F36-7443-4FA9-8087-E7BB1FB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716-5A70-4440-8713-01E76A32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595-8E7E-4B49-B036-7B6C2ED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B49E-03B4-4674-80D7-8190DE00CD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D63-54BE-4ED6-A892-3FED6EDAC5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43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7640"/>
            <a:ext cx="9144000" cy="5161320"/>
            <a:chOff x="0" y="-17640"/>
            <a:chExt cx="9144000" cy="5161320"/>
          </a:xfrm>
        </p:grpSpPr>
      </p:grpSp>
      <p:pic>
        <p:nvPicPr>
          <p:cNvPr id="90" name="Picture 3" descr="C:\Users\Administrator\Desktop\图片1.png"/>
          <p:cNvPicPr/>
          <p:nvPr/>
        </p:nvPicPr>
        <p:blipFill>
          <a:blip r:embed="rId1"/>
          <a:srcRect l="86628" t="74083" r="53" b="0"/>
          <a:stretch/>
        </p:blipFill>
        <p:spPr>
          <a:xfrm>
            <a:off x="6046920" y="2120760"/>
            <a:ext cx="69372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矩形 5"/>
          <p:cNvSpPr/>
          <p:nvPr/>
        </p:nvSpPr>
        <p:spPr>
          <a:xfrm rot="20863200">
            <a:off x="-3240" y="3147480"/>
            <a:ext cx="9566280" cy="2910240"/>
          </a:xfrm>
          <a:custGeom>
            <a:avLst/>
            <a:gdLst>
              <a:gd name="textAreaLeft" fmla="*/ 0 w 9566280"/>
              <a:gd name="textAreaRight" fmla="*/ 9566640 w 9566280"/>
              <a:gd name="textAreaTop" fmla="*/ 0 h 2910240"/>
              <a:gd name="textAreaBottom" fmla="*/ 2910600 h 2910240"/>
            </a:gdLst>
            <a:ahLst/>
            <a:rect l="textAreaLeft" t="textAreaTop" r="textAreaRight" b="textAreaBottom"/>
            <a:pathLst>
              <a:path w="9568117" h="2910411">
                <a:moveTo>
                  <a:pt x="9568117" y="0"/>
                </a:moveTo>
                <a:lnTo>
                  <a:pt x="8935085" y="2910411"/>
                </a:lnTo>
                <a:lnTo>
                  <a:pt x="0" y="966976"/>
                </a:lnTo>
                <a:lnTo>
                  <a:pt x="210323" y="0"/>
                </a:lnTo>
                <a:lnTo>
                  <a:pt x="9568117" y="0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81"/>
          <p:cNvGrpSpPr/>
          <p:nvPr/>
        </p:nvGrpSpPr>
        <p:grpSpPr>
          <a:xfrm>
            <a:off x="4096080" y="2219400"/>
            <a:ext cx="2733840" cy="2319480"/>
            <a:chOff x="4096080" y="2219400"/>
            <a:chExt cx="2733840" cy="2319480"/>
          </a:xfrm>
        </p:grpSpPr>
        <p:sp>
          <p:nvSpPr>
            <p:cNvPr id="93" name="矩形 485"/>
            <p:cNvSpPr/>
            <p:nvPr/>
          </p:nvSpPr>
          <p:spPr>
            <a:xfrm flipH="1" rot="20022000">
              <a:off x="4291200" y="2664360"/>
              <a:ext cx="2343240" cy="1429200"/>
            </a:xfrm>
            <a:prstGeom prst="rect">
              <a:avLst/>
            </a:pr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486"/>
            <p:cNvGrpSpPr/>
            <p:nvPr/>
          </p:nvGrpSpPr>
          <p:grpSpPr>
            <a:xfrm>
              <a:off x="4177080" y="2282040"/>
              <a:ext cx="2079360" cy="1116360"/>
              <a:chOff x="4177080" y="2282040"/>
              <a:chExt cx="2079360" cy="1116360"/>
            </a:xfrm>
          </p:grpSpPr>
          <p:sp>
            <p:nvSpPr>
              <p:cNvPr id="95" name="直接连接符 487"/>
              <p:cNvSpPr/>
              <p:nvPr/>
            </p:nvSpPr>
            <p:spPr>
              <a:xfrm>
                <a:off x="6060240" y="2282040"/>
                <a:ext cx="72720" cy="141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488"/>
              <p:cNvSpPr/>
              <p:nvPr/>
            </p:nvSpPr>
            <p:spPr>
              <a:xfrm>
                <a:off x="5649480" y="2481840"/>
                <a:ext cx="72720" cy="141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489"/>
              <p:cNvSpPr/>
              <p:nvPr/>
            </p:nvSpPr>
            <p:spPr>
              <a:xfrm>
                <a:off x="5278680" y="2673720"/>
                <a:ext cx="73080" cy="141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490"/>
              <p:cNvSpPr/>
              <p:nvPr/>
            </p:nvSpPr>
            <p:spPr>
              <a:xfrm>
                <a:off x="4834800" y="2898000"/>
                <a:ext cx="72720" cy="141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491"/>
              <p:cNvSpPr/>
              <p:nvPr/>
            </p:nvSpPr>
            <p:spPr>
              <a:xfrm>
                <a:off x="4415040" y="3089160"/>
                <a:ext cx="72720" cy="141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492"/>
              <p:cNvSpPr/>
              <p:nvPr/>
            </p:nvSpPr>
            <p:spPr>
              <a:xfrm flipH="1">
                <a:off x="4177080" y="2367000"/>
                <a:ext cx="2079360" cy="1031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矩形 483"/>
          <p:cNvSpPr/>
          <p:nvPr/>
        </p:nvSpPr>
        <p:spPr>
          <a:xfrm flipH="1" rot="20022000">
            <a:off x="5380560" y="3369960"/>
            <a:ext cx="123516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84"/>
          <p:cNvSpPr/>
          <p:nvPr/>
        </p:nvSpPr>
        <p:spPr>
          <a:xfrm flipH="1" rot="3784800">
            <a:off x="6255000" y="3214800"/>
            <a:ext cx="3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十一大扫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6"/>
          <p:cNvSpPr/>
          <p:nvPr/>
        </p:nvSpPr>
        <p:spPr>
          <a:xfrm rot="20880000">
            <a:off x="123480" y="2241360"/>
            <a:ext cx="58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剁手党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”</a:t>
            </a: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扫货秘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角三角形 259"/>
          <p:cNvSpPr/>
          <p:nvPr/>
        </p:nvSpPr>
        <p:spPr>
          <a:xfrm flipH="1">
            <a:off x="2521800" y="3735360"/>
            <a:ext cx="6621480" cy="1408320"/>
          </a:xfrm>
          <a:prstGeom prst="rtTriangle">
            <a:avLst/>
          </a:prstGeom>
          <a:solidFill>
            <a:srgbClr val="ffb8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6"/>
          <p:cNvSpPr/>
          <p:nvPr/>
        </p:nvSpPr>
        <p:spPr>
          <a:xfrm rot="20820000">
            <a:off x="939600" y="367560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ww.rapidesign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7"/>
          <p:cNvSpPr/>
          <p:nvPr/>
        </p:nvSpPr>
        <p:spPr>
          <a:xfrm rot="20817000">
            <a:off x="855720" y="3451320"/>
            <a:ext cx="2332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上海锐普广告有限公司荣誉出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99"/>
          <p:cNvGrpSpPr/>
          <p:nvPr/>
        </p:nvGrpSpPr>
        <p:grpSpPr>
          <a:xfrm>
            <a:off x="250920" y="173160"/>
            <a:ext cx="2612880" cy="291960"/>
            <a:chOff x="250920" y="173160"/>
            <a:chExt cx="2612880" cy="291960"/>
          </a:xfrm>
        </p:grpSpPr>
        <p:grpSp>
          <p:nvGrpSpPr>
            <p:cNvPr id="108" name="组合 100"/>
            <p:cNvGrpSpPr/>
            <p:nvPr/>
          </p:nvGrpSpPr>
          <p:grpSpPr>
            <a:xfrm>
              <a:off x="250920" y="173160"/>
              <a:ext cx="299880" cy="291960"/>
              <a:chOff x="250920" y="173160"/>
              <a:chExt cx="299880" cy="291960"/>
            </a:xfrm>
          </p:grpSpPr>
          <p:sp>
            <p:nvSpPr>
              <p:cNvPr id="109" name="Freeform 39"/>
              <p:cNvSpPr/>
              <p:nvPr/>
            </p:nvSpPr>
            <p:spPr>
              <a:xfrm>
                <a:off x="250920" y="173160"/>
                <a:ext cx="159480" cy="29196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00" h="367">
                    <a:moveTo>
                      <a:pt x="0" y="0"/>
                    </a:moveTo>
                    <a:lnTo>
                      <a:pt x="0" y="367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0"/>
              <p:cNvSpPr/>
              <p:nvPr/>
            </p:nvSpPr>
            <p:spPr>
              <a:xfrm>
                <a:off x="322560" y="194400"/>
                <a:ext cx="228240" cy="27072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70720"/>
                  <a:gd name="textAreaBottom" fmla="*/ 271080 h 270720"/>
                </a:gdLst>
                <a:ahLst/>
                <a:rect l="textAreaLeft" t="textAreaTop" r="textAreaRight" b="textAreaBottom"/>
                <a:pathLst>
                  <a:path w="286" h="340">
                    <a:moveTo>
                      <a:pt x="167" y="0"/>
                    </a:moveTo>
                    <a:lnTo>
                      <a:pt x="110" y="99"/>
                    </a:lnTo>
                    <a:lnTo>
                      <a:pt x="156" y="161"/>
                    </a:lnTo>
                    <a:lnTo>
                      <a:pt x="64" y="188"/>
                    </a:lnTo>
                    <a:lnTo>
                      <a:pt x="0" y="302"/>
                    </a:lnTo>
                    <a:lnTo>
                      <a:pt x="126" y="258"/>
                    </a:lnTo>
                    <a:lnTo>
                      <a:pt x="184" y="340"/>
                    </a:lnTo>
                    <a:lnTo>
                      <a:pt x="174" y="242"/>
                    </a:lnTo>
                    <a:lnTo>
                      <a:pt x="286" y="204"/>
                    </a:lnTo>
                    <a:lnTo>
                      <a:pt x="167" y="0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250920" y="173160"/>
                <a:ext cx="159480" cy="29196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00" h="367">
                    <a:moveTo>
                      <a:pt x="0" y="0"/>
                    </a:moveTo>
                    <a:lnTo>
                      <a:pt x="0" y="367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322560" y="194400"/>
                <a:ext cx="228240" cy="27072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70720"/>
                  <a:gd name="textAreaBottom" fmla="*/ 271080 h 270720"/>
                </a:gdLst>
                <a:ahLst/>
                <a:rect l="textAreaLeft" t="textAreaTop" r="textAreaRight" b="textAreaBottom"/>
                <a:pathLst>
                  <a:path w="286" h="340">
                    <a:moveTo>
                      <a:pt x="167" y="0"/>
                    </a:moveTo>
                    <a:lnTo>
                      <a:pt x="110" y="99"/>
                    </a:lnTo>
                    <a:lnTo>
                      <a:pt x="156" y="161"/>
                    </a:lnTo>
                    <a:lnTo>
                      <a:pt x="64" y="188"/>
                    </a:lnTo>
                    <a:lnTo>
                      <a:pt x="0" y="302"/>
                    </a:lnTo>
                    <a:lnTo>
                      <a:pt x="126" y="258"/>
                    </a:lnTo>
                    <a:lnTo>
                      <a:pt x="184" y="340"/>
                    </a:lnTo>
                    <a:lnTo>
                      <a:pt x="174" y="242"/>
                    </a:lnTo>
                    <a:lnTo>
                      <a:pt x="286" y="204"/>
                    </a:lnTo>
                    <a:lnTo>
                      <a:pt x="167" y="0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101"/>
            <p:cNvGrpSpPr/>
            <p:nvPr/>
          </p:nvGrpSpPr>
          <p:grpSpPr>
            <a:xfrm>
              <a:off x="636120" y="178920"/>
              <a:ext cx="280080" cy="280080"/>
              <a:chOff x="636120" y="178920"/>
              <a:chExt cx="280080" cy="280080"/>
            </a:xfrm>
          </p:grpSpPr>
          <p:sp>
            <p:nvSpPr>
              <p:cNvPr id="114" name="Oval 6"/>
              <p:cNvSpPr/>
              <p:nvPr/>
            </p:nvSpPr>
            <p:spPr>
              <a:xfrm rot="10200">
                <a:off x="636120" y="179280"/>
                <a:ext cx="279360" cy="27936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组合 104"/>
              <p:cNvGrpSpPr/>
              <p:nvPr/>
            </p:nvGrpSpPr>
            <p:grpSpPr>
              <a:xfrm>
                <a:off x="669600" y="212400"/>
                <a:ext cx="213480" cy="212400"/>
                <a:chOff x="669600" y="212400"/>
                <a:chExt cx="213480" cy="212400"/>
              </a:xfrm>
            </p:grpSpPr>
            <p:sp>
              <p:nvSpPr>
                <p:cNvPr id="116" name="Freeform 8"/>
                <p:cNvSpPr/>
                <p:nvPr/>
              </p:nvSpPr>
              <p:spPr>
                <a:xfrm rot="10200">
                  <a:off x="747000" y="212400"/>
                  <a:ext cx="20520" cy="370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9"/>
                <p:cNvSpPr/>
                <p:nvPr/>
              </p:nvSpPr>
              <p:spPr>
                <a:xfrm rot="10200">
                  <a:off x="669600" y="27000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0"/>
                <p:cNvSpPr/>
                <p:nvPr/>
              </p:nvSpPr>
              <p:spPr>
                <a:xfrm rot="10200">
                  <a:off x="697680" y="22032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1"/>
                <p:cNvSpPr/>
                <p:nvPr/>
              </p:nvSpPr>
              <p:spPr>
                <a:xfrm rot="10200">
                  <a:off x="789480" y="212760"/>
                  <a:ext cx="20520" cy="370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"/>
                <p:cNvSpPr/>
                <p:nvPr/>
              </p:nvSpPr>
              <p:spPr>
                <a:xfrm rot="10200">
                  <a:off x="837720" y="27072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3"/>
                <p:cNvSpPr/>
                <p:nvPr/>
              </p:nvSpPr>
              <p:spPr>
                <a:xfrm rot="10200">
                  <a:off x="820440" y="220680"/>
                  <a:ext cx="38880" cy="2916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4"/>
                <p:cNvSpPr/>
                <p:nvPr/>
              </p:nvSpPr>
              <p:spPr>
                <a:xfrm rot="10200">
                  <a:off x="744120" y="388440"/>
                  <a:ext cx="20520" cy="363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5"/>
                <p:cNvSpPr/>
                <p:nvPr/>
              </p:nvSpPr>
              <p:spPr>
                <a:xfrm rot="10200">
                  <a:off x="669240" y="329040"/>
                  <a:ext cx="45000" cy="37800"/>
                </a:xfrm>
                <a:custGeom>
                  <a:avLst/>
                  <a:gdLst/>
                  <a:ahLst/>
                  <a:rect l="l" t="t" r="r" b="b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16"/>
                <p:cNvSpPr/>
                <p:nvPr/>
              </p:nvSpPr>
              <p:spPr>
                <a:xfrm rot="10200">
                  <a:off x="694080" y="388080"/>
                  <a:ext cx="39600" cy="284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7"/>
                <p:cNvSpPr/>
                <p:nvPr/>
              </p:nvSpPr>
              <p:spPr>
                <a:xfrm rot="10200">
                  <a:off x="786600" y="388440"/>
                  <a:ext cx="20520" cy="363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18"/>
                <p:cNvSpPr/>
                <p:nvPr/>
              </p:nvSpPr>
              <p:spPr>
                <a:xfrm rot="10200">
                  <a:off x="837360" y="329760"/>
                  <a:ext cx="45000" cy="37800"/>
                </a:xfrm>
                <a:custGeom>
                  <a:avLst/>
                  <a:gdLst/>
                  <a:ahLst/>
                  <a:rect l="l" t="t" r="r" b="b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19"/>
                <p:cNvSpPr/>
                <p:nvPr/>
              </p:nvSpPr>
              <p:spPr>
                <a:xfrm rot="10200">
                  <a:off x="817560" y="388800"/>
                  <a:ext cx="38880" cy="2844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1"/>
                <p:cNvSpPr/>
                <p:nvPr/>
              </p:nvSpPr>
              <p:spPr>
                <a:xfrm rot="10200">
                  <a:off x="726840" y="270720"/>
                  <a:ext cx="103680" cy="9576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矩形 102"/>
            <p:cNvSpPr/>
            <p:nvPr/>
          </p:nvSpPr>
          <p:spPr>
            <a:xfrm>
              <a:off x="943200" y="180720"/>
              <a:ext cx="19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演世界第</a:t>
              </a:r>
              <a:r>
                <a:rPr b="0" lang="en-US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1"/>
          <p:cNvGrpSpPr/>
          <p:nvPr/>
        </p:nvGrpSpPr>
        <p:grpSpPr>
          <a:xfrm>
            <a:off x="5245200" y="771480"/>
            <a:ext cx="3900240" cy="2071800"/>
            <a:chOff x="5245200" y="771480"/>
            <a:chExt cx="3900240" cy="2071800"/>
          </a:xfrm>
        </p:grpSpPr>
        <p:grpSp>
          <p:nvGrpSpPr>
            <p:cNvPr id="131" name="组合 9"/>
            <p:cNvGrpSpPr/>
            <p:nvPr/>
          </p:nvGrpSpPr>
          <p:grpSpPr>
            <a:xfrm>
              <a:off x="5245200" y="771480"/>
              <a:ext cx="3900240" cy="2071800"/>
              <a:chOff x="5245200" y="771480"/>
              <a:chExt cx="3900240" cy="2071800"/>
            </a:xfrm>
          </p:grpSpPr>
          <p:pic>
            <p:nvPicPr>
              <p:cNvPr id="132" name="Picture 3" descr="C:\Users\Administrator\Desktop\图片1.png"/>
              <p:cNvPicPr/>
              <p:nvPr/>
            </p:nvPicPr>
            <p:blipFill>
              <a:blip r:embed="rId2"/>
              <a:srcRect l="0" t="-1181" r="9902" b="0"/>
              <a:stretch/>
            </p:blipFill>
            <p:spPr>
              <a:xfrm>
                <a:off x="5245200" y="771480"/>
                <a:ext cx="3900240" cy="207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矩形 6"/>
              <p:cNvSpPr/>
              <p:nvPr/>
            </p:nvSpPr>
            <p:spPr>
              <a:xfrm>
                <a:off x="6476040" y="2120040"/>
                <a:ext cx="144000" cy="215280"/>
              </a:xfrm>
              <a:prstGeom prst="rect">
                <a:avLst/>
              </a:prstGeom>
              <a:solidFill>
                <a:srgbClr val="cd1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任意多边形 10"/>
            <p:cNvSpPr/>
            <p:nvPr/>
          </p:nvSpPr>
          <p:spPr>
            <a:xfrm>
              <a:off x="6391080" y="2090520"/>
              <a:ext cx="230760" cy="185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30980" h="185737">
                  <a:moveTo>
                    <a:pt x="0" y="59531"/>
                  </a:moveTo>
                  <a:cubicBezTo>
                    <a:pt x="30163" y="100012"/>
                    <a:pt x="38892" y="111918"/>
                    <a:pt x="52387" y="185737"/>
                  </a:cubicBezTo>
                  <a:lnTo>
                    <a:pt x="230980" y="157162"/>
                  </a:lnTo>
                  <a:lnTo>
                    <a:pt x="171449" y="0"/>
                  </a:lnTo>
                  <a:lnTo>
                    <a:pt x="47624" y="52387"/>
                  </a:lnTo>
                  <a:lnTo>
                    <a:pt x="0" y="59531"/>
                  </a:lnTo>
                  <a:close/>
                </a:path>
              </a:pathLst>
            </a:custGeom>
            <a:solidFill>
              <a:srgbClr val="cd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476"/>
          <p:cNvGrpSpPr/>
          <p:nvPr/>
        </p:nvGrpSpPr>
        <p:grpSpPr>
          <a:xfrm>
            <a:off x="7307640" y="1103400"/>
            <a:ext cx="1680480" cy="595080"/>
            <a:chOff x="7307640" y="1103400"/>
            <a:chExt cx="1680480" cy="595080"/>
          </a:xfrm>
        </p:grpSpPr>
        <p:sp>
          <p:nvSpPr>
            <p:cNvPr id="136" name="圆角矩形 477"/>
            <p:cNvSpPr/>
            <p:nvPr/>
          </p:nvSpPr>
          <p:spPr>
            <a:xfrm flipH="1" rot="20920800">
              <a:off x="7318080" y="1263240"/>
              <a:ext cx="1658880" cy="275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ee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圆角矩形 478"/>
            <p:cNvSpPr/>
            <p:nvPr/>
          </p:nvSpPr>
          <p:spPr>
            <a:xfrm flipH="1" rot="20920800">
              <a:off x="7819200" y="1289520"/>
              <a:ext cx="1085040" cy="136800"/>
            </a:xfrm>
            <a:prstGeom prst="roundRect">
              <a:avLst>
                <a:gd name="adj" fmla="val 50000"/>
              </a:avLst>
            </a:prstGeom>
            <a:solidFill>
              <a:srgbClr val="ef5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479"/>
            <p:cNvSpPr/>
            <p:nvPr/>
          </p:nvSpPr>
          <p:spPr>
            <a:xfrm flipH="1" rot="20920800">
              <a:off x="7453800" y="1410480"/>
              <a:ext cx="606240" cy="13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480"/>
            <p:cNvSpPr/>
            <p:nvPr/>
          </p:nvSpPr>
          <p:spPr>
            <a:xfrm flipH="1" rot="20920800">
              <a:off x="7900200" y="1382040"/>
              <a:ext cx="117000" cy="115560"/>
            </a:xfrm>
            <a:prstGeom prst="ellipse">
              <a:avLst/>
            </a:prstGeom>
            <a:solidFill>
              <a:srgbClr val="ef5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142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174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任意多边形 15"/>
          <p:cNvSpPr/>
          <p:nvPr/>
        </p:nvSpPr>
        <p:spPr>
          <a:xfrm>
            <a:off x="2028960" y="4430880"/>
            <a:ext cx="5857920" cy="714240"/>
          </a:xfrm>
          <a:custGeom>
            <a:avLst/>
            <a:gdLst>
              <a:gd name="textAreaLeft" fmla="*/ 0 w 5857920"/>
              <a:gd name="textAreaRight" fmla="*/ 5858280 w 585792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5857875" h="714375">
                <a:moveTo>
                  <a:pt x="0" y="0"/>
                </a:moveTo>
                <a:lnTo>
                  <a:pt x="0" y="419100"/>
                </a:lnTo>
                <a:lnTo>
                  <a:pt x="5857875" y="419100"/>
                </a:lnTo>
                <a:lnTo>
                  <a:pt x="5857875" y="714375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9"/>
          <p:cNvSpPr/>
          <p:nvPr/>
        </p:nvSpPr>
        <p:spPr>
          <a:xfrm>
            <a:off x="2028960" y="1281240"/>
            <a:ext cx="0" cy="674640"/>
          </a:xfrm>
          <a:prstGeom prst="line">
            <a:avLst/>
          </a:prstGeom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08"/>
          <p:cNvGrpSpPr/>
          <p:nvPr/>
        </p:nvGrpSpPr>
        <p:grpSpPr>
          <a:xfrm>
            <a:off x="5005440" y="1963080"/>
            <a:ext cx="1136160" cy="723960"/>
            <a:chOff x="5005440" y="1963080"/>
            <a:chExt cx="1136160" cy="723960"/>
          </a:xfrm>
        </p:grpSpPr>
        <p:sp>
          <p:nvSpPr>
            <p:cNvPr id="191" name="空心弧 104"/>
            <p:cNvSpPr/>
            <p:nvPr/>
          </p:nvSpPr>
          <p:spPr>
            <a:xfrm rot="7960800">
              <a:off x="5110920" y="2068920"/>
              <a:ext cx="512640" cy="51192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11920"/>
                <a:gd name="textAreaBottom" fmla="*/ 19080 h 511920"/>
              </a:gdLst>
              <a:ahLst/>
              <a:rect l="textAreaLeft" t="textAreaTop" r="textAreaRight" b="textAreaBottom"/>
              <a:pathLst>
                <a:path w="18205" h="6069">
                  <a:moveTo>
                    <a:pt x="6344" y="6069"/>
                  </a:moveTo>
                  <a:cubicBezTo>
                    <a:pt x="7550" y="4934"/>
                    <a:pt x="9143" y="4302"/>
                    <a:pt x="10799" y="4302"/>
                  </a:cubicBezTo>
                  <a:cubicBezTo>
                    <a:pt x="12456" y="4302"/>
                    <a:pt x="14049" y="4934"/>
                    <a:pt x="15255" y="6069"/>
                  </a:cubicBezTo>
                  <a:lnTo>
                    <a:pt x="18205" y="2938"/>
                  </a:lnTo>
                  <a:cubicBezTo>
                    <a:pt x="16201" y="1051"/>
                    <a:pt x="13552" y="0"/>
                    <a:pt x="10800" y="0"/>
                  </a:cubicBezTo>
                  <a:cubicBezTo>
                    <a:pt x="8047" y="0"/>
                    <a:pt x="5398" y="1051"/>
                    <a:pt x="3394" y="2938"/>
                  </a:cubicBezTo>
                  <a:lnTo>
                    <a:pt x="6344" y="6069"/>
                  </a:lnTo>
                  <a:close/>
                </a:path>
              </a:pathLst>
            </a:cu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空心弧 112"/>
            <p:cNvSpPr/>
            <p:nvPr/>
          </p:nvSpPr>
          <p:spPr>
            <a:xfrm rot="18700800">
              <a:off x="5523480" y="2068920"/>
              <a:ext cx="512640" cy="51192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11920"/>
                <a:gd name="textAreaBottom" fmla="*/ 19080 h 511920"/>
              </a:gdLst>
              <a:ahLst/>
              <a:rect l="textAreaLeft" t="textAreaTop" r="textAreaRight" b="textAreaBottom"/>
              <a:pathLst>
                <a:path w="18205" h="6069">
                  <a:moveTo>
                    <a:pt x="6344" y="6069"/>
                  </a:moveTo>
                  <a:cubicBezTo>
                    <a:pt x="7550" y="4934"/>
                    <a:pt x="9143" y="4302"/>
                    <a:pt x="10799" y="4302"/>
                  </a:cubicBezTo>
                  <a:cubicBezTo>
                    <a:pt x="12456" y="4302"/>
                    <a:pt x="14049" y="4934"/>
                    <a:pt x="15255" y="6069"/>
                  </a:cubicBezTo>
                  <a:lnTo>
                    <a:pt x="18205" y="2938"/>
                  </a:lnTo>
                  <a:cubicBezTo>
                    <a:pt x="16201" y="1051"/>
                    <a:pt x="13552" y="0"/>
                    <a:pt x="10800" y="0"/>
                  </a:cubicBezTo>
                  <a:cubicBezTo>
                    <a:pt x="8047" y="0"/>
                    <a:pt x="5398" y="1051"/>
                    <a:pt x="3394" y="2938"/>
                  </a:cubicBezTo>
                  <a:lnTo>
                    <a:pt x="6344" y="6069"/>
                  </a:lnTo>
                  <a:close/>
                </a:path>
              </a:pathLst>
            </a:cu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125"/>
          <p:cNvGrpSpPr/>
          <p:nvPr/>
        </p:nvGrpSpPr>
        <p:grpSpPr>
          <a:xfrm>
            <a:off x="4951080" y="2740320"/>
            <a:ext cx="1180800" cy="759600"/>
            <a:chOff x="4951080" y="2740320"/>
            <a:chExt cx="1180800" cy="759600"/>
          </a:xfrm>
        </p:grpSpPr>
        <p:sp>
          <p:nvSpPr>
            <p:cNvPr id="194" name="空心弧 126"/>
            <p:cNvSpPr/>
            <p:nvPr/>
          </p:nvSpPr>
          <p:spPr>
            <a:xfrm flipV="1" rot="13639200">
              <a:off x="5049000" y="2863440"/>
              <a:ext cx="560520" cy="5119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360 h 511920"/>
                <a:gd name="textAreaBottom" fmla="*/ 19440 h 511920"/>
              </a:gdLst>
              <a:ahLst/>
              <a:rect l="textAreaLeft" t="textAreaTop" r="textAreaRight" b="textAreaBottom"/>
              <a:pathLst>
                <a:path w="18205" h="6069">
                  <a:moveTo>
                    <a:pt x="6344" y="6069"/>
                  </a:moveTo>
                  <a:cubicBezTo>
                    <a:pt x="7550" y="4934"/>
                    <a:pt x="9143" y="4302"/>
                    <a:pt x="10799" y="4302"/>
                  </a:cubicBezTo>
                  <a:cubicBezTo>
                    <a:pt x="12456" y="4302"/>
                    <a:pt x="14049" y="4934"/>
                    <a:pt x="15255" y="6069"/>
                  </a:cubicBezTo>
                  <a:lnTo>
                    <a:pt x="18205" y="2938"/>
                  </a:lnTo>
                  <a:cubicBezTo>
                    <a:pt x="16201" y="1051"/>
                    <a:pt x="13552" y="0"/>
                    <a:pt x="10800" y="0"/>
                  </a:cubicBezTo>
                  <a:cubicBezTo>
                    <a:pt x="8047" y="0"/>
                    <a:pt x="5398" y="1051"/>
                    <a:pt x="3394" y="2938"/>
                  </a:cubicBezTo>
                  <a:lnTo>
                    <a:pt x="6344" y="6069"/>
                  </a:lnTo>
                  <a:close/>
                </a:path>
              </a:pathLst>
            </a:cu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空心弧 127"/>
            <p:cNvSpPr/>
            <p:nvPr/>
          </p:nvSpPr>
          <p:spPr>
            <a:xfrm flipV="1" rot="2899200">
              <a:off x="5474160" y="2864520"/>
              <a:ext cx="560520" cy="5119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360 h 511920"/>
                <a:gd name="textAreaBottom" fmla="*/ 19440 h 511920"/>
              </a:gdLst>
              <a:ahLst/>
              <a:rect l="textAreaLeft" t="textAreaTop" r="textAreaRight" b="textAreaBottom"/>
              <a:pathLst>
                <a:path w="18205" h="6069">
                  <a:moveTo>
                    <a:pt x="6344" y="6069"/>
                  </a:moveTo>
                  <a:cubicBezTo>
                    <a:pt x="7550" y="4934"/>
                    <a:pt x="9143" y="4302"/>
                    <a:pt x="10799" y="4302"/>
                  </a:cubicBezTo>
                  <a:cubicBezTo>
                    <a:pt x="12456" y="4302"/>
                    <a:pt x="14049" y="4934"/>
                    <a:pt x="15255" y="6069"/>
                  </a:cubicBezTo>
                  <a:lnTo>
                    <a:pt x="18205" y="2938"/>
                  </a:lnTo>
                  <a:cubicBezTo>
                    <a:pt x="16201" y="1051"/>
                    <a:pt x="13552" y="0"/>
                    <a:pt x="10800" y="0"/>
                  </a:cubicBezTo>
                  <a:cubicBezTo>
                    <a:pt x="8047" y="0"/>
                    <a:pt x="5398" y="1051"/>
                    <a:pt x="3394" y="2938"/>
                  </a:cubicBezTo>
                  <a:lnTo>
                    <a:pt x="6344" y="6069"/>
                  </a:lnTo>
                  <a:close/>
                </a:path>
              </a:pathLst>
            </a:cu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031"/>
          <p:cNvGrpSpPr/>
          <p:nvPr/>
        </p:nvGrpSpPr>
        <p:grpSpPr>
          <a:xfrm>
            <a:off x="-360" y="-360"/>
            <a:ext cx="9147240" cy="1051200"/>
            <a:chOff x="-360" y="-360"/>
            <a:chExt cx="9147240" cy="1051200"/>
          </a:xfrm>
        </p:grpSpPr>
        <p:sp>
          <p:nvSpPr>
            <p:cNvPr id="197" name="矩形 146"/>
            <p:cNvSpPr/>
            <p:nvPr/>
          </p:nvSpPr>
          <p:spPr>
            <a:xfrm rot="10800000">
              <a:off x="-360" y="-360"/>
              <a:ext cx="9147240" cy="992520"/>
            </a:xfrm>
            <a:prstGeom prst="rect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147"/>
            <p:cNvGrpSpPr/>
            <p:nvPr/>
          </p:nvGrpSpPr>
          <p:grpSpPr>
            <a:xfrm>
              <a:off x="-360" y="992520"/>
              <a:ext cx="9147240" cy="58320"/>
              <a:chOff x="-360" y="992520"/>
              <a:chExt cx="9147240" cy="58320"/>
            </a:xfrm>
          </p:grpSpPr>
          <p:sp>
            <p:nvSpPr>
              <p:cNvPr id="199" name="等腰三角形 148"/>
              <p:cNvSpPr/>
              <p:nvPr/>
            </p:nvSpPr>
            <p:spPr>
              <a:xfrm rot="10800000">
                <a:off x="8988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等腰三角形 149"/>
              <p:cNvSpPr/>
              <p:nvPr/>
            </p:nvSpPr>
            <p:spPr>
              <a:xfrm rot="10800000">
                <a:off x="8817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等腰三角形 150"/>
              <p:cNvSpPr/>
              <p:nvPr/>
            </p:nvSpPr>
            <p:spPr>
              <a:xfrm rot="10800000">
                <a:off x="86623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等腰三角形 151"/>
              <p:cNvSpPr/>
              <p:nvPr/>
            </p:nvSpPr>
            <p:spPr>
              <a:xfrm rot="10800000">
                <a:off x="84909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等腰三角形 152"/>
              <p:cNvSpPr/>
              <p:nvPr/>
            </p:nvSpPr>
            <p:spPr>
              <a:xfrm rot="10800000">
                <a:off x="84852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等腰三角形 153"/>
              <p:cNvSpPr/>
              <p:nvPr/>
            </p:nvSpPr>
            <p:spPr>
              <a:xfrm rot="10800000">
                <a:off x="83142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等腰三角形 154"/>
              <p:cNvSpPr/>
              <p:nvPr/>
            </p:nvSpPr>
            <p:spPr>
              <a:xfrm rot="10800000">
                <a:off x="81586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等腰三角形 155"/>
              <p:cNvSpPr/>
              <p:nvPr/>
            </p:nvSpPr>
            <p:spPr>
              <a:xfrm rot="10800000">
                <a:off x="79876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等腰三角形 156"/>
              <p:cNvSpPr/>
              <p:nvPr/>
            </p:nvSpPr>
            <p:spPr>
              <a:xfrm rot="10800000">
                <a:off x="77940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等腰三角形 157"/>
              <p:cNvSpPr/>
              <p:nvPr/>
            </p:nvSpPr>
            <p:spPr>
              <a:xfrm rot="10800000">
                <a:off x="76226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158"/>
              <p:cNvSpPr/>
              <p:nvPr/>
            </p:nvSpPr>
            <p:spPr>
              <a:xfrm rot="10800000">
                <a:off x="7467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等腰三角形 159"/>
              <p:cNvSpPr/>
              <p:nvPr/>
            </p:nvSpPr>
            <p:spPr>
              <a:xfrm rot="10800000">
                <a:off x="7296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等腰三角形 160"/>
              <p:cNvSpPr/>
              <p:nvPr/>
            </p:nvSpPr>
            <p:spPr>
              <a:xfrm rot="10800000">
                <a:off x="72907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等腰三角形 161"/>
              <p:cNvSpPr/>
              <p:nvPr/>
            </p:nvSpPr>
            <p:spPr>
              <a:xfrm rot="10800000">
                <a:off x="71193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等腰三角形 162"/>
              <p:cNvSpPr/>
              <p:nvPr/>
            </p:nvSpPr>
            <p:spPr>
              <a:xfrm rot="10800000">
                <a:off x="69642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等腰三角形 163"/>
              <p:cNvSpPr/>
              <p:nvPr/>
            </p:nvSpPr>
            <p:spPr>
              <a:xfrm rot="10800000">
                <a:off x="67928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等腰三角形 164"/>
              <p:cNvSpPr/>
              <p:nvPr/>
            </p:nvSpPr>
            <p:spPr>
              <a:xfrm rot="10800000">
                <a:off x="6612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等腰三角形 165"/>
              <p:cNvSpPr/>
              <p:nvPr/>
            </p:nvSpPr>
            <p:spPr>
              <a:xfrm rot="10800000">
                <a:off x="6441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等腰三角形 166"/>
              <p:cNvSpPr/>
              <p:nvPr/>
            </p:nvSpPr>
            <p:spPr>
              <a:xfrm rot="10800000">
                <a:off x="62859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等腰三角形 167"/>
              <p:cNvSpPr/>
              <p:nvPr/>
            </p:nvSpPr>
            <p:spPr>
              <a:xfrm rot="10800000">
                <a:off x="61146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等腰三角形 168"/>
              <p:cNvSpPr/>
              <p:nvPr/>
            </p:nvSpPr>
            <p:spPr>
              <a:xfrm rot="10800000">
                <a:off x="61088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等腰三角形 169"/>
              <p:cNvSpPr/>
              <p:nvPr/>
            </p:nvSpPr>
            <p:spPr>
              <a:xfrm rot="10800000">
                <a:off x="59378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170"/>
              <p:cNvSpPr/>
              <p:nvPr/>
            </p:nvSpPr>
            <p:spPr>
              <a:xfrm rot="10800000">
                <a:off x="57823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等腰三角形 171"/>
              <p:cNvSpPr/>
              <p:nvPr/>
            </p:nvSpPr>
            <p:spPr>
              <a:xfrm rot="10800000">
                <a:off x="56113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等腰三角形 172"/>
              <p:cNvSpPr/>
              <p:nvPr/>
            </p:nvSpPr>
            <p:spPr>
              <a:xfrm rot="10800000">
                <a:off x="54176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等腰三角形 173"/>
              <p:cNvSpPr/>
              <p:nvPr/>
            </p:nvSpPr>
            <p:spPr>
              <a:xfrm rot="10800000">
                <a:off x="52462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等腰三角形 174"/>
              <p:cNvSpPr/>
              <p:nvPr/>
            </p:nvSpPr>
            <p:spPr>
              <a:xfrm rot="10800000">
                <a:off x="5091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等腰三角形 175"/>
              <p:cNvSpPr/>
              <p:nvPr/>
            </p:nvSpPr>
            <p:spPr>
              <a:xfrm rot="10800000">
                <a:off x="49197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等腰三角形 176"/>
              <p:cNvSpPr/>
              <p:nvPr/>
            </p:nvSpPr>
            <p:spPr>
              <a:xfrm rot="10800000">
                <a:off x="49143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等腰三角形 177"/>
              <p:cNvSpPr/>
              <p:nvPr/>
            </p:nvSpPr>
            <p:spPr>
              <a:xfrm rot="10800000">
                <a:off x="47430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等腰三角形 178"/>
              <p:cNvSpPr/>
              <p:nvPr/>
            </p:nvSpPr>
            <p:spPr>
              <a:xfrm rot="10800000">
                <a:off x="45878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等腰三角形 179"/>
              <p:cNvSpPr/>
              <p:nvPr/>
            </p:nvSpPr>
            <p:spPr>
              <a:xfrm rot="10800000">
                <a:off x="4416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等腰三角形 180"/>
              <p:cNvSpPr/>
              <p:nvPr/>
            </p:nvSpPr>
            <p:spPr>
              <a:xfrm rot="10800000">
                <a:off x="4245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等腰三角形 181"/>
              <p:cNvSpPr/>
              <p:nvPr/>
            </p:nvSpPr>
            <p:spPr>
              <a:xfrm rot="10800000">
                <a:off x="4074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等腰三角形 182"/>
              <p:cNvSpPr/>
              <p:nvPr/>
            </p:nvSpPr>
            <p:spPr>
              <a:xfrm rot="10800000">
                <a:off x="39189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等腰三角形 183"/>
              <p:cNvSpPr/>
              <p:nvPr/>
            </p:nvSpPr>
            <p:spPr>
              <a:xfrm rot="10800000">
                <a:off x="37476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等腰三角形 184"/>
              <p:cNvSpPr/>
              <p:nvPr/>
            </p:nvSpPr>
            <p:spPr>
              <a:xfrm rot="10800000">
                <a:off x="37418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等腰三角形 185"/>
              <p:cNvSpPr/>
              <p:nvPr/>
            </p:nvSpPr>
            <p:spPr>
              <a:xfrm rot="10800000">
                <a:off x="3570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等腰三角形 186"/>
              <p:cNvSpPr/>
              <p:nvPr/>
            </p:nvSpPr>
            <p:spPr>
              <a:xfrm rot="10800000">
                <a:off x="34153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等腰三角形 187"/>
              <p:cNvSpPr/>
              <p:nvPr/>
            </p:nvSpPr>
            <p:spPr>
              <a:xfrm rot="10800000">
                <a:off x="32443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等腰三角形 188"/>
              <p:cNvSpPr/>
              <p:nvPr/>
            </p:nvSpPr>
            <p:spPr>
              <a:xfrm rot="10800000">
                <a:off x="30506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等腰三角形 189"/>
              <p:cNvSpPr/>
              <p:nvPr/>
            </p:nvSpPr>
            <p:spPr>
              <a:xfrm rot="10800000">
                <a:off x="28792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等腰三角形 190"/>
              <p:cNvSpPr/>
              <p:nvPr/>
            </p:nvSpPr>
            <p:spPr>
              <a:xfrm rot="10800000">
                <a:off x="2724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等腰三角形 191"/>
              <p:cNvSpPr/>
              <p:nvPr/>
            </p:nvSpPr>
            <p:spPr>
              <a:xfrm rot="10800000">
                <a:off x="25527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等腰三角形 192"/>
              <p:cNvSpPr/>
              <p:nvPr/>
            </p:nvSpPr>
            <p:spPr>
              <a:xfrm rot="10800000">
                <a:off x="25473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等腰三角形 193"/>
              <p:cNvSpPr/>
              <p:nvPr/>
            </p:nvSpPr>
            <p:spPr>
              <a:xfrm rot="10800000">
                <a:off x="23760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等腰三角形 194"/>
              <p:cNvSpPr/>
              <p:nvPr/>
            </p:nvSpPr>
            <p:spPr>
              <a:xfrm rot="10800000">
                <a:off x="22208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等腰三角形 195"/>
              <p:cNvSpPr/>
              <p:nvPr/>
            </p:nvSpPr>
            <p:spPr>
              <a:xfrm rot="10800000">
                <a:off x="2049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等腰三角形 196"/>
              <p:cNvSpPr/>
              <p:nvPr/>
            </p:nvSpPr>
            <p:spPr>
              <a:xfrm rot="10800000">
                <a:off x="18691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等腰三角形 197"/>
              <p:cNvSpPr/>
              <p:nvPr/>
            </p:nvSpPr>
            <p:spPr>
              <a:xfrm rot="10800000">
                <a:off x="16977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等腰三角形 198"/>
              <p:cNvSpPr/>
              <p:nvPr/>
            </p:nvSpPr>
            <p:spPr>
              <a:xfrm rot="10800000">
                <a:off x="15426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等腰三角形 199"/>
              <p:cNvSpPr/>
              <p:nvPr/>
            </p:nvSpPr>
            <p:spPr>
              <a:xfrm rot="10800000">
                <a:off x="137124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等腰三角形 200"/>
              <p:cNvSpPr/>
              <p:nvPr/>
            </p:nvSpPr>
            <p:spPr>
              <a:xfrm rot="10800000">
                <a:off x="1365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等腰三角形 201"/>
              <p:cNvSpPr/>
              <p:nvPr/>
            </p:nvSpPr>
            <p:spPr>
              <a:xfrm rot="10800000">
                <a:off x="11944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等腰三角形 202"/>
              <p:cNvSpPr/>
              <p:nvPr/>
            </p:nvSpPr>
            <p:spPr>
              <a:xfrm rot="10800000">
                <a:off x="10389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等腰三角形 203"/>
              <p:cNvSpPr/>
              <p:nvPr/>
            </p:nvSpPr>
            <p:spPr>
              <a:xfrm rot="10800000">
                <a:off x="8679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等腰三角形 204"/>
              <p:cNvSpPr/>
              <p:nvPr/>
            </p:nvSpPr>
            <p:spPr>
              <a:xfrm rot="10800000">
                <a:off x="67428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等腰三角形 205"/>
              <p:cNvSpPr/>
              <p:nvPr/>
            </p:nvSpPr>
            <p:spPr>
              <a:xfrm rot="10800000">
                <a:off x="50292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等腰三角形 206"/>
              <p:cNvSpPr/>
              <p:nvPr/>
            </p:nvSpPr>
            <p:spPr>
              <a:xfrm rot="10800000">
                <a:off x="3477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等腰三角形 207"/>
              <p:cNvSpPr/>
              <p:nvPr/>
            </p:nvSpPr>
            <p:spPr>
              <a:xfrm rot="10800000">
                <a:off x="1764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等腰三角形 208"/>
              <p:cNvSpPr/>
              <p:nvPr/>
            </p:nvSpPr>
            <p:spPr>
              <a:xfrm rot="10800000">
                <a:off x="17100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等腰三角形 209"/>
              <p:cNvSpPr/>
              <p:nvPr/>
            </p:nvSpPr>
            <p:spPr>
              <a:xfrm rot="10800000">
                <a:off x="-360" y="992520"/>
                <a:ext cx="15840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圆角矩形 91"/>
          <p:cNvSpPr/>
          <p:nvPr/>
        </p:nvSpPr>
        <p:spPr>
          <a:xfrm>
            <a:off x="3728880" y="1943280"/>
            <a:ext cx="1617840" cy="1569960"/>
          </a:xfrm>
          <a:prstGeom prst="roundRect">
            <a:avLst>
              <a:gd name="adj" fmla="val 50000"/>
            </a:avLst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92"/>
          <p:cNvSpPr/>
          <p:nvPr/>
        </p:nvSpPr>
        <p:spPr>
          <a:xfrm>
            <a:off x="2028960" y="1943280"/>
            <a:ext cx="2450880" cy="1569960"/>
          </a:xfrm>
          <a:prstGeom prst="rect">
            <a:avLst/>
          </a:pr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228"/>
          <p:cNvSpPr/>
          <p:nvPr/>
        </p:nvSpPr>
        <p:spPr>
          <a:xfrm>
            <a:off x="3743280" y="1946160"/>
            <a:ext cx="750960" cy="1567080"/>
          </a:xfrm>
          <a:custGeom>
            <a:avLst/>
            <a:gdLst>
              <a:gd name="textAreaLeft" fmla="*/ 0 w 750960"/>
              <a:gd name="textAreaRight" fmla="*/ 751320 w 750960"/>
              <a:gd name="textAreaTop" fmla="*/ 0 h 1567080"/>
              <a:gd name="textAreaBottom" fmla="*/ 1567440 h 1567080"/>
            </a:gdLst>
            <a:ahLst/>
            <a:rect l="textAreaLeft" t="textAreaTop" r="textAreaRight" b="textAreaBottom"/>
            <a:pathLst>
              <a:path w="750527" h="1565803">
                <a:moveTo>
                  <a:pt x="0" y="782901"/>
                </a:moveTo>
                <a:lnTo>
                  <a:pt x="0" y="782902"/>
                </a:lnTo>
                <a:lnTo>
                  <a:pt x="0" y="782901"/>
                </a:lnTo>
                <a:close/>
                <a:moveTo>
                  <a:pt x="750527" y="0"/>
                </a:moveTo>
                <a:lnTo>
                  <a:pt x="750527" y="1565803"/>
                </a:lnTo>
                <a:cubicBezTo>
                  <a:pt x="332987" y="1548922"/>
                  <a:pt x="0" y="1204798"/>
                  <a:pt x="0" y="782902"/>
                </a:cubicBezTo>
                <a:cubicBezTo>
                  <a:pt x="0" y="361005"/>
                  <a:pt x="332987" y="16881"/>
                  <a:pt x="750527" y="0"/>
                </a:cubicBezTo>
                <a:close/>
              </a:path>
            </a:pathLst>
          </a:cu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102"/>
          <p:cNvSpPr/>
          <p:nvPr/>
        </p:nvSpPr>
        <p:spPr>
          <a:xfrm>
            <a:off x="3873600" y="2068560"/>
            <a:ext cx="1317600" cy="13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109"/>
          <p:cNvSpPr/>
          <p:nvPr/>
        </p:nvSpPr>
        <p:spPr>
          <a:xfrm>
            <a:off x="5803920" y="1878120"/>
            <a:ext cx="1898640" cy="742680"/>
          </a:xfrm>
          <a:prstGeom prst="roundRect">
            <a:avLst>
              <a:gd name="adj" fmla="val 16667"/>
            </a:avLst>
          </a:pr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115"/>
          <p:cNvSpPr/>
          <p:nvPr/>
        </p:nvSpPr>
        <p:spPr>
          <a:xfrm>
            <a:off x="5803920" y="2760840"/>
            <a:ext cx="1898640" cy="742680"/>
          </a:xfrm>
          <a:prstGeom prst="roundRect">
            <a:avLst>
              <a:gd name="adj" fmla="val 16667"/>
            </a:avLst>
          </a:pr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13"/>
          <p:cNvSpPr/>
          <p:nvPr/>
        </p:nvSpPr>
        <p:spPr>
          <a:xfrm>
            <a:off x="6487920" y="287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双十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30"/>
          <p:cNvSpPr/>
          <p:nvPr/>
        </p:nvSpPr>
        <p:spPr>
          <a:xfrm>
            <a:off x="6400800" y="20494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  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31"/>
          <p:cNvSpPr/>
          <p:nvPr/>
        </p:nvSpPr>
        <p:spPr>
          <a:xfrm>
            <a:off x="2346840" y="2479680"/>
            <a:ext cx="1073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剁手党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226"/>
          <p:cNvSpPr/>
          <p:nvPr/>
        </p:nvSpPr>
        <p:spPr>
          <a:xfrm>
            <a:off x="5865840" y="1924200"/>
            <a:ext cx="1773360" cy="6508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227"/>
          <p:cNvSpPr/>
          <p:nvPr/>
        </p:nvSpPr>
        <p:spPr>
          <a:xfrm>
            <a:off x="5865840" y="2806560"/>
            <a:ext cx="1773360" cy="6508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229"/>
          <p:cNvGrpSpPr/>
          <p:nvPr/>
        </p:nvGrpSpPr>
        <p:grpSpPr>
          <a:xfrm>
            <a:off x="7701120" y="3328920"/>
            <a:ext cx="250560" cy="1035000"/>
            <a:chOff x="7701120" y="3328920"/>
            <a:chExt cx="250560" cy="1035000"/>
          </a:xfrm>
        </p:grpSpPr>
        <p:sp>
          <p:nvSpPr>
            <p:cNvPr id="273" name="圆角矩形 1053"/>
            <p:cNvSpPr/>
            <p:nvPr/>
          </p:nvSpPr>
          <p:spPr>
            <a:xfrm>
              <a:off x="7701840" y="3328920"/>
              <a:ext cx="249840" cy="51732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49177" h="517266">
                  <a:moveTo>
                    <a:pt x="0" y="0"/>
                  </a:moveTo>
                  <a:cubicBezTo>
                    <a:pt x="137945" y="1576"/>
                    <a:pt x="249177" y="113991"/>
                    <a:pt x="249177" y="252385"/>
                  </a:cubicBezTo>
                  <a:lnTo>
                    <a:pt x="249177" y="517266"/>
                  </a:lnTo>
                  <a:lnTo>
                    <a:pt x="166965" y="517266"/>
                  </a:lnTo>
                  <a:lnTo>
                    <a:pt x="166965" y="270999"/>
                  </a:lnTo>
                  <a:cubicBezTo>
                    <a:pt x="166965" y="179878"/>
                    <a:pt x="98290" y="104796"/>
                    <a:pt x="9545" y="97578"/>
                  </a:cubicBezTo>
                  <a:cubicBezTo>
                    <a:pt x="6717" y="95070"/>
                    <a:pt x="3377" y="94000"/>
                    <a:pt x="0" y="9301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1053"/>
            <p:cNvSpPr/>
            <p:nvPr/>
          </p:nvSpPr>
          <p:spPr>
            <a:xfrm flipV="1">
              <a:off x="7701120" y="3846240"/>
              <a:ext cx="249840" cy="5176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360 h 517680"/>
                <a:gd name="textAreaBottom" fmla="*/ 518400 h 517680"/>
              </a:gdLst>
              <a:ahLst/>
              <a:rect l="textAreaLeft" t="textAreaTop" r="textAreaRight" b="textAreaBottom"/>
              <a:pathLst>
                <a:path w="249177" h="517266">
                  <a:moveTo>
                    <a:pt x="0" y="0"/>
                  </a:moveTo>
                  <a:cubicBezTo>
                    <a:pt x="137945" y="1576"/>
                    <a:pt x="249177" y="113991"/>
                    <a:pt x="249177" y="252385"/>
                  </a:cubicBezTo>
                  <a:lnTo>
                    <a:pt x="249177" y="517266"/>
                  </a:lnTo>
                  <a:lnTo>
                    <a:pt x="166965" y="517266"/>
                  </a:lnTo>
                  <a:lnTo>
                    <a:pt x="166965" y="270999"/>
                  </a:lnTo>
                  <a:cubicBezTo>
                    <a:pt x="166965" y="179878"/>
                    <a:pt x="98290" y="104796"/>
                    <a:pt x="9545" y="97578"/>
                  </a:cubicBezTo>
                  <a:cubicBezTo>
                    <a:pt x="6717" y="95070"/>
                    <a:pt x="3377" y="94000"/>
                    <a:pt x="0" y="9301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41"/>
          <p:cNvGrpSpPr/>
          <p:nvPr/>
        </p:nvGrpSpPr>
        <p:grpSpPr>
          <a:xfrm>
            <a:off x="3951360" y="2143080"/>
            <a:ext cx="1179360" cy="1197000"/>
            <a:chOff x="3951360" y="2143080"/>
            <a:chExt cx="1179360" cy="1197000"/>
          </a:xfrm>
        </p:grpSpPr>
        <p:grpSp>
          <p:nvGrpSpPr>
            <p:cNvPr id="276" name="组合 233"/>
            <p:cNvGrpSpPr/>
            <p:nvPr/>
          </p:nvGrpSpPr>
          <p:grpSpPr>
            <a:xfrm>
              <a:off x="3951360" y="2143080"/>
              <a:ext cx="1179360" cy="1197000"/>
              <a:chOff x="3951360" y="2143080"/>
              <a:chExt cx="1179360" cy="1197000"/>
            </a:xfrm>
          </p:grpSpPr>
          <p:sp>
            <p:nvSpPr>
              <p:cNvPr id="277" name="Freeform 6"/>
              <p:cNvSpPr/>
              <p:nvPr/>
            </p:nvSpPr>
            <p:spPr>
              <a:xfrm>
                <a:off x="3951360" y="2143080"/>
                <a:ext cx="1179360" cy="1197000"/>
              </a:xfrm>
              <a:custGeom>
                <a:avLst/>
                <a:gdLst>
                  <a:gd name="textAreaLeft" fmla="*/ 0 w 1179360"/>
                  <a:gd name="textAreaRight" fmla="*/ 1179720 w 1179360"/>
                  <a:gd name="textAreaTop" fmla="*/ 0 h 1197000"/>
                  <a:gd name="textAreaBottom" fmla="*/ 1197360 h 1197000"/>
                </a:gdLst>
                <a:ahLst/>
                <a:rect l="textAreaLeft" t="textAreaTop" r="textAreaRight" b="textAreaBottom"/>
                <a:pathLst>
                  <a:path w="246" h="250">
                    <a:moveTo>
                      <a:pt x="123" y="250"/>
                    </a:moveTo>
                    <a:cubicBezTo>
                      <a:pt x="55" y="250"/>
                      <a:pt x="0" y="194"/>
                      <a:pt x="0" y="125"/>
                    </a:cubicBezTo>
                    <a:cubicBezTo>
                      <a:pt x="0" y="56"/>
                      <a:pt x="55" y="0"/>
                      <a:pt x="123" y="0"/>
                    </a:cubicBezTo>
                    <a:cubicBezTo>
                      <a:pt x="191" y="0"/>
                      <a:pt x="246" y="56"/>
                      <a:pt x="246" y="125"/>
                    </a:cubicBezTo>
                    <a:cubicBezTo>
                      <a:pt x="246" y="194"/>
                      <a:pt x="191" y="250"/>
                      <a:pt x="123" y="250"/>
                    </a:cubicBezTo>
                    <a:close/>
                    <a:moveTo>
                      <a:pt x="123" y="8"/>
                    </a:moveTo>
                    <a:cubicBezTo>
                      <a:pt x="59" y="8"/>
                      <a:pt x="8" y="61"/>
                      <a:pt x="8" y="125"/>
                    </a:cubicBezTo>
                    <a:cubicBezTo>
                      <a:pt x="8" y="190"/>
                      <a:pt x="59" y="242"/>
                      <a:pt x="123" y="242"/>
                    </a:cubicBezTo>
                    <a:cubicBezTo>
                      <a:pt x="186" y="242"/>
                      <a:pt x="238" y="190"/>
                      <a:pt x="238" y="125"/>
                    </a:cubicBezTo>
                    <a:cubicBezTo>
                      <a:pt x="238" y="61"/>
                      <a:pt x="186" y="8"/>
                      <a:pt x="123" y="8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"/>
              <p:cNvSpPr/>
              <p:nvPr/>
            </p:nvSpPr>
            <p:spPr>
              <a:xfrm>
                <a:off x="4521600" y="2199600"/>
                <a:ext cx="38520" cy="1094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" h="23">
                    <a:moveTo>
                      <a:pt x="4" y="23"/>
                    </a:moveTo>
                    <a:cubicBezTo>
                      <a:pt x="2" y="23"/>
                      <a:pt x="0" y="21"/>
                      <a:pt x="0" y="1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6" y="0"/>
                      <a:pt x="8" y="1"/>
                      <a:pt x="8" y="4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21"/>
                      <a:pt x="6" y="23"/>
                      <a:pt x="4" y="23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8"/>
              <p:cNvSpPr/>
              <p:nvPr/>
            </p:nvSpPr>
            <p:spPr>
              <a:xfrm>
                <a:off x="4257720" y="2266560"/>
                <a:ext cx="83160" cy="1011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2" y="21"/>
                    </a:moveTo>
                    <a:cubicBezTo>
                      <a:pt x="11" y="21"/>
                      <a:pt x="9" y="21"/>
                      <a:pt x="9" y="1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4"/>
                      <a:pt x="1" y="2"/>
                      <a:pt x="3" y="1"/>
                    </a:cubicBezTo>
                    <a:cubicBezTo>
                      <a:pt x="5" y="0"/>
                      <a:pt x="7" y="0"/>
                      <a:pt x="8" y="2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7"/>
                      <a:pt x="16" y="20"/>
                      <a:pt x="14" y="21"/>
                    </a:cubicBezTo>
                    <a:cubicBezTo>
                      <a:pt x="13" y="21"/>
                      <a:pt x="13" y="21"/>
                      <a:pt x="12" y="21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"/>
              <p:cNvSpPr/>
              <p:nvPr/>
            </p:nvSpPr>
            <p:spPr>
              <a:xfrm>
                <a:off x="4070880" y="2457360"/>
                <a:ext cx="101520" cy="7704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7" y="16"/>
                    </a:moveTo>
                    <a:cubicBezTo>
                      <a:pt x="16" y="16"/>
                      <a:pt x="16" y="16"/>
                      <a:pt x="15" y="15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0" y="7"/>
                      <a:pt x="0" y="4"/>
                      <a:pt x="1" y="2"/>
                    </a:cubicBezTo>
                    <a:cubicBezTo>
                      <a:pt x="2" y="1"/>
                      <a:pt x="4" y="0"/>
                      <a:pt x="6" y="1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2"/>
                      <a:pt x="20" y="14"/>
                    </a:cubicBezTo>
                    <a:cubicBezTo>
                      <a:pt x="20" y="15"/>
                      <a:pt x="18" y="16"/>
                      <a:pt x="17" y="16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"/>
              <p:cNvSpPr/>
              <p:nvPr/>
            </p:nvSpPr>
            <p:spPr>
              <a:xfrm>
                <a:off x="4003920" y="2721240"/>
                <a:ext cx="105480" cy="385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18" y="8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1" y="8"/>
                      <a:pt x="0" y="7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0"/>
                      <a:pt x="22" y="2"/>
                      <a:pt x="22" y="4"/>
                    </a:cubicBezTo>
                    <a:cubicBezTo>
                      <a:pt x="22" y="7"/>
                      <a:pt x="21" y="8"/>
                      <a:pt x="18" y="8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1"/>
              <p:cNvSpPr/>
              <p:nvPr/>
            </p:nvSpPr>
            <p:spPr>
              <a:xfrm>
                <a:off x="4070880" y="2946600"/>
                <a:ext cx="101520" cy="7704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4" y="16"/>
                    </a:moveTo>
                    <a:cubicBezTo>
                      <a:pt x="3" y="16"/>
                      <a:pt x="1" y="16"/>
                      <a:pt x="1" y="14"/>
                    </a:cubicBezTo>
                    <a:cubicBezTo>
                      <a:pt x="0" y="12"/>
                      <a:pt x="0" y="10"/>
                      <a:pt x="2" y="9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0"/>
                      <a:pt x="19" y="1"/>
                      <a:pt x="20" y="3"/>
                    </a:cubicBezTo>
                    <a:cubicBezTo>
                      <a:pt x="21" y="5"/>
                      <a:pt x="21" y="7"/>
                      <a:pt x="19" y="8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5" y="16"/>
                      <a:pt x="4" y="16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2"/>
              <p:cNvSpPr/>
              <p:nvPr/>
            </p:nvSpPr>
            <p:spPr>
              <a:xfrm>
                <a:off x="4257720" y="3115080"/>
                <a:ext cx="83160" cy="993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5" y="21"/>
                    </a:moveTo>
                    <a:cubicBezTo>
                      <a:pt x="4" y="21"/>
                      <a:pt x="3" y="21"/>
                      <a:pt x="3" y="21"/>
                    </a:cubicBezTo>
                    <a:cubicBezTo>
                      <a:pt x="1" y="20"/>
                      <a:pt x="0" y="17"/>
                      <a:pt x="1" y="15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1"/>
                      <a:pt x="12" y="0"/>
                      <a:pt x="14" y="1"/>
                    </a:cubicBezTo>
                    <a:cubicBezTo>
                      <a:pt x="16" y="2"/>
                      <a:pt x="17" y="5"/>
                      <a:pt x="16" y="6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7" y="21"/>
                      <a:pt x="6" y="21"/>
                      <a:pt x="5" y="21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3"/>
              <p:cNvSpPr/>
              <p:nvPr/>
            </p:nvSpPr>
            <p:spPr>
              <a:xfrm>
                <a:off x="4521600" y="3178080"/>
                <a:ext cx="38520" cy="1094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" h="23">
                    <a:moveTo>
                      <a:pt x="4" y="23"/>
                    </a:moveTo>
                    <a:cubicBezTo>
                      <a:pt x="2" y="23"/>
                      <a:pt x="0" y="21"/>
                      <a:pt x="0" y="1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21"/>
                      <a:pt x="6" y="23"/>
                      <a:pt x="4" y="23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"/>
              <p:cNvSpPr/>
              <p:nvPr/>
            </p:nvSpPr>
            <p:spPr>
              <a:xfrm>
                <a:off x="4743000" y="3115080"/>
                <a:ext cx="77040" cy="99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12" y="21"/>
                    </a:moveTo>
                    <a:cubicBezTo>
                      <a:pt x="10" y="21"/>
                      <a:pt x="9" y="21"/>
                      <a:pt x="8" y="1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1" y="2"/>
                      <a:pt x="3" y="1"/>
                    </a:cubicBezTo>
                    <a:cubicBezTo>
                      <a:pt x="4" y="0"/>
                      <a:pt x="7" y="1"/>
                      <a:pt x="8" y="3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7"/>
                      <a:pt x="16" y="20"/>
                      <a:pt x="14" y="21"/>
                    </a:cubicBezTo>
                    <a:cubicBezTo>
                      <a:pt x="13" y="21"/>
                      <a:pt x="13" y="21"/>
                      <a:pt x="12" y="21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5"/>
              <p:cNvSpPr/>
              <p:nvPr/>
            </p:nvSpPr>
            <p:spPr>
              <a:xfrm>
                <a:off x="4905360" y="2946600"/>
                <a:ext cx="105480" cy="770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7" y="16"/>
                    </a:moveTo>
                    <a:cubicBezTo>
                      <a:pt x="17" y="16"/>
                      <a:pt x="16" y="16"/>
                      <a:pt x="15" y="1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7"/>
                      <a:pt x="0" y="5"/>
                      <a:pt x="1" y="3"/>
                    </a:cubicBezTo>
                    <a:cubicBezTo>
                      <a:pt x="2" y="1"/>
                      <a:pt x="5" y="0"/>
                      <a:pt x="7" y="1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2" y="12"/>
                      <a:pt x="21" y="14"/>
                    </a:cubicBezTo>
                    <a:cubicBezTo>
                      <a:pt x="20" y="16"/>
                      <a:pt x="19" y="16"/>
                      <a:pt x="17" y="16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6"/>
              <p:cNvSpPr/>
              <p:nvPr/>
            </p:nvSpPr>
            <p:spPr>
              <a:xfrm>
                <a:off x="4968360" y="2721240"/>
                <a:ext cx="109440" cy="385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3" h="8">
                    <a:moveTo>
                      <a:pt x="4" y="8"/>
                    </a:moveTo>
                    <a:cubicBezTo>
                      <a:pt x="2" y="8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1" y="0"/>
                      <a:pt x="23" y="2"/>
                      <a:pt x="23" y="4"/>
                    </a:cubicBezTo>
                    <a:cubicBezTo>
                      <a:pt x="23" y="7"/>
                      <a:pt x="21" y="8"/>
                      <a:pt x="19" y="8"/>
                    </a:cubicBez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7"/>
              <p:cNvSpPr/>
              <p:nvPr/>
            </p:nvSpPr>
            <p:spPr>
              <a:xfrm>
                <a:off x="4905360" y="2457360"/>
                <a:ext cx="105480" cy="770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5" y="16"/>
                    </a:moveTo>
                    <a:cubicBezTo>
                      <a:pt x="3" y="16"/>
                      <a:pt x="2" y="15"/>
                      <a:pt x="1" y="14"/>
                    </a:cubicBezTo>
                    <a:cubicBezTo>
                      <a:pt x="0" y="12"/>
                      <a:pt x="1" y="10"/>
                      <a:pt x="3" y="9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0"/>
                      <a:pt x="20" y="1"/>
                      <a:pt x="21" y="2"/>
                    </a:cubicBezTo>
                    <a:cubicBezTo>
                      <a:pt x="22" y="4"/>
                      <a:pt x="21" y="7"/>
                      <a:pt x="19" y="8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6" y="16"/>
                      <a:pt x="5" y="16"/>
                      <a:pt x="5" y="16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8"/>
              <p:cNvSpPr/>
              <p:nvPr/>
            </p:nvSpPr>
            <p:spPr>
              <a:xfrm>
                <a:off x="4743000" y="2266560"/>
                <a:ext cx="77040" cy="1011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4" y="21"/>
                    </a:moveTo>
                    <a:cubicBezTo>
                      <a:pt x="4" y="21"/>
                      <a:pt x="3" y="21"/>
                      <a:pt x="3" y="21"/>
                    </a:cubicBezTo>
                    <a:cubicBezTo>
                      <a:pt x="1" y="20"/>
                      <a:pt x="0" y="17"/>
                      <a:pt x="1" y="15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0"/>
                      <a:pt x="12" y="0"/>
                      <a:pt x="14" y="1"/>
                    </a:cubicBezTo>
                    <a:cubicBezTo>
                      <a:pt x="16" y="2"/>
                      <a:pt x="16" y="4"/>
                      <a:pt x="15" y="6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7" y="21"/>
                      <a:pt x="6" y="21"/>
                      <a:pt x="4" y="21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9"/>
              <p:cNvSpPr/>
              <p:nvPr/>
            </p:nvSpPr>
            <p:spPr>
              <a:xfrm>
                <a:off x="4489200" y="2688840"/>
                <a:ext cx="105480" cy="1054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1" y="22"/>
                    </a:moveTo>
                    <a:cubicBezTo>
                      <a:pt x="5" y="22"/>
                      <a:pt x="0" y="17"/>
                      <a:pt x="0" y="11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7" y="0"/>
                      <a:pt x="22" y="5"/>
                      <a:pt x="22" y="11"/>
                    </a:cubicBezTo>
                    <a:cubicBezTo>
                      <a:pt x="22" y="17"/>
                      <a:pt x="17" y="22"/>
                      <a:pt x="11" y="22"/>
                    </a:cubicBezTo>
                    <a:close/>
                    <a:moveTo>
                      <a:pt x="11" y="8"/>
                    </a:moveTo>
                    <a:cubicBezTo>
                      <a:pt x="9" y="8"/>
                      <a:pt x="8" y="10"/>
                      <a:pt x="8" y="11"/>
                    </a:cubicBezTo>
                    <a:cubicBezTo>
                      <a:pt x="8" y="13"/>
                      <a:pt x="9" y="14"/>
                      <a:pt x="11" y="14"/>
                    </a:cubicBezTo>
                    <a:cubicBezTo>
                      <a:pt x="12" y="14"/>
                      <a:pt x="14" y="13"/>
                      <a:pt x="14" y="11"/>
                    </a:cubicBezTo>
                    <a:cubicBezTo>
                      <a:pt x="14" y="10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直接连接符 235"/>
            <p:cNvSpPr/>
            <p:nvPr/>
          </p:nvSpPr>
          <p:spPr>
            <a:xfrm flipH="1" flipV="1">
              <a:off x="4392720" y="2471760"/>
              <a:ext cx="132840" cy="237960"/>
            </a:xfrm>
            <a:prstGeom prst="line">
              <a:avLst/>
            </a:prstGeom>
            <a:ln w="2844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22"/>
            <p:cNvSpPr/>
            <p:nvPr/>
          </p:nvSpPr>
          <p:spPr>
            <a:xfrm flipH="1" flipV="1">
              <a:off x="4433400" y="2367720"/>
              <a:ext cx="108720" cy="358920"/>
            </a:xfrm>
            <a:prstGeom prst="line">
              <a:avLst/>
            </a:prstGeom>
            <a:ln w="2844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等腰三角形 282"/>
          <p:cNvSpPr/>
          <p:nvPr/>
        </p:nvSpPr>
        <p:spPr>
          <a:xfrm>
            <a:off x="1341360" y="760320"/>
            <a:ext cx="335160" cy="185760"/>
          </a:xfrm>
          <a:prstGeom prst="triangle">
            <a:avLst>
              <a:gd name="adj" fmla="val 50000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284"/>
          <p:cNvSpPr/>
          <p:nvPr/>
        </p:nvSpPr>
        <p:spPr>
          <a:xfrm>
            <a:off x="7472520" y="750960"/>
            <a:ext cx="336240" cy="185760"/>
          </a:xfrm>
          <a:prstGeom prst="triangle">
            <a:avLst>
              <a:gd name="adj" fmla="val 50000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285"/>
          <p:cNvSpPr/>
          <p:nvPr/>
        </p:nvSpPr>
        <p:spPr>
          <a:xfrm>
            <a:off x="1490760" y="755640"/>
            <a:ext cx="6162480" cy="539640"/>
          </a:xfrm>
          <a:custGeom>
            <a:avLst/>
            <a:gdLst>
              <a:gd name="textAreaLeft" fmla="*/ 0 w 6162480"/>
              <a:gd name="textAreaRight" fmla="*/ 6162840 w 61624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910840" h="457200">
                <a:moveTo>
                  <a:pt x="0" y="0"/>
                </a:moveTo>
                <a:lnTo>
                  <a:pt x="251460" y="457200"/>
                </a:lnTo>
                <a:lnTo>
                  <a:pt x="2659380" y="449580"/>
                </a:lnTo>
                <a:lnTo>
                  <a:pt x="2910840" y="0"/>
                </a:lnTo>
                <a:lnTo>
                  <a:pt x="0" y="0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"/>
          <p:cNvSpPr/>
          <p:nvPr/>
        </p:nvSpPr>
        <p:spPr>
          <a:xfrm>
            <a:off x="0" y="485640"/>
            <a:ext cx="1690560" cy="44136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0004" h="10000">
                <a:moveTo>
                  <a:pt x="0" y="1316"/>
                </a:moveTo>
                <a:lnTo>
                  <a:pt x="6570" y="1316"/>
                </a:lnTo>
                <a:cubicBezTo>
                  <a:pt x="6595" y="877"/>
                  <a:pt x="6619" y="439"/>
                  <a:pt x="6643" y="0"/>
                </a:cubicBezTo>
                <a:lnTo>
                  <a:pt x="7643" y="526"/>
                </a:lnTo>
                <a:lnTo>
                  <a:pt x="7643" y="1053"/>
                </a:lnTo>
                <a:cubicBezTo>
                  <a:pt x="7643" y="1053"/>
                  <a:pt x="8857" y="-263"/>
                  <a:pt x="9857" y="1316"/>
                </a:cubicBezTo>
                <a:cubicBezTo>
                  <a:pt x="9857" y="1316"/>
                  <a:pt x="10000" y="2368"/>
                  <a:pt x="9643" y="2105"/>
                </a:cubicBezTo>
                <a:cubicBezTo>
                  <a:pt x="9643" y="2105"/>
                  <a:pt x="8989" y="1550"/>
                  <a:pt x="8929" y="1579"/>
                </a:cubicBezTo>
                <a:cubicBezTo>
                  <a:pt x="8869" y="1608"/>
                  <a:pt x="8801" y="1708"/>
                  <a:pt x="9285" y="2279"/>
                </a:cubicBezTo>
                <a:cubicBezTo>
                  <a:pt x="9285" y="2279"/>
                  <a:pt x="10073" y="2868"/>
                  <a:pt x="10000" y="3684"/>
                </a:cubicBezTo>
                <a:cubicBezTo>
                  <a:pt x="9979" y="3920"/>
                  <a:pt x="10000" y="4211"/>
                  <a:pt x="9500" y="3684"/>
                </a:cubicBezTo>
                <a:cubicBezTo>
                  <a:pt x="9500" y="3684"/>
                  <a:pt x="9143" y="2895"/>
                  <a:pt x="9000" y="3158"/>
                </a:cubicBezTo>
                <a:cubicBezTo>
                  <a:pt x="8857" y="3421"/>
                  <a:pt x="9222" y="3706"/>
                  <a:pt x="9357" y="3947"/>
                </a:cubicBezTo>
                <a:cubicBezTo>
                  <a:pt x="9492" y="4188"/>
                  <a:pt x="10038" y="4591"/>
                  <a:pt x="10000" y="5789"/>
                </a:cubicBezTo>
                <a:cubicBezTo>
                  <a:pt x="10000" y="5789"/>
                  <a:pt x="9931" y="6853"/>
                  <a:pt x="9643" y="6053"/>
                </a:cubicBezTo>
                <a:cubicBezTo>
                  <a:pt x="9355" y="5253"/>
                  <a:pt x="9071" y="4211"/>
                  <a:pt x="9000" y="4737"/>
                </a:cubicBezTo>
                <a:cubicBezTo>
                  <a:pt x="9000" y="4737"/>
                  <a:pt x="9429" y="5789"/>
                  <a:pt x="9285" y="7895"/>
                </a:cubicBezTo>
                <a:cubicBezTo>
                  <a:pt x="9285" y="7895"/>
                  <a:pt x="9143" y="10000"/>
                  <a:pt x="8786" y="10000"/>
                </a:cubicBezTo>
                <a:cubicBezTo>
                  <a:pt x="8786" y="10000"/>
                  <a:pt x="8429" y="10000"/>
                  <a:pt x="8571" y="8947"/>
                </a:cubicBezTo>
                <a:cubicBezTo>
                  <a:pt x="8571" y="8947"/>
                  <a:pt x="9285" y="6842"/>
                  <a:pt x="8714" y="5526"/>
                </a:cubicBezTo>
                <a:cubicBezTo>
                  <a:pt x="8714" y="5526"/>
                  <a:pt x="8143" y="4737"/>
                  <a:pt x="7929" y="7105"/>
                </a:cubicBezTo>
                <a:cubicBezTo>
                  <a:pt x="7929" y="7105"/>
                  <a:pt x="8083" y="8595"/>
                  <a:pt x="8214" y="8421"/>
                </a:cubicBezTo>
                <a:cubicBezTo>
                  <a:pt x="8345" y="8247"/>
                  <a:pt x="8357" y="10263"/>
                  <a:pt x="7929" y="9211"/>
                </a:cubicBezTo>
                <a:cubicBezTo>
                  <a:pt x="7929" y="9211"/>
                  <a:pt x="7643" y="8684"/>
                  <a:pt x="7643" y="7105"/>
                </a:cubicBezTo>
                <a:lnTo>
                  <a:pt x="6786" y="7632"/>
                </a:lnTo>
                <a:cubicBezTo>
                  <a:pt x="6762" y="7193"/>
                  <a:pt x="6737" y="6431"/>
                  <a:pt x="6714" y="5992"/>
                </a:cubicBezTo>
                <a:lnTo>
                  <a:pt x="9" y="6053"/>
                </a:lnTo>
                <a:lnTo>
                  <a:pt x="0" y="1316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1"/>
          <p:cNvGrpSpPr/>
          <p:nvPr/>
        </p:nvGrpSpPr>
        <p:grpSpPr>
          <a:xfrm>
            <a:off x="2014560" y="3692520"/>
            <a:ext cx="5688000" cy="743040"/>
            <a:chOff x="2014560" y="3692520"/>
            <a:chExt cx="5688000" cy="743040"/>
          </a:xfrm>
        </p:grpSpPr>
        <p:sp>
          <p:nvSpPr>
            <p:cNvPr id="298" name="圆角矩形 141"/>
            <p:cNvSpPr/>
            <p:nvPr/>
          </p:nvSpPr>
          <p:spPr>
            <a:xfrm>
              <a:off x="2014560" y="3692520"/>
              <a:ext cx="5688000" cy="743040"/>
            </a:xfrm>
            <a:prstGeom prst="roundRect">
              <a:avLst>
                <a:gd name="adj" fmla="val 4028"/>
              </a:avLst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3"/>
            <p:cNvSpPr/>
            <p:nvPr/>
          </p:nvSpPr>
          <p:spPr>
            <a:xfrm>
              <a:off x="2454120" y="3815280"/>
              <a:ext cx="4998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对于以几乎所有女性为主体的</a:t>
              </a:r>
              <a:r>
                <a:rPr b="0" lang="zh-CN" sz="1200" spc="-1" strike="noStrike">
                  <a:solidFill>
                    <a:srgbClr val="494429"/>
                  </a:solidFill>
                  <a:latin typeface="Arial"/>
                  <a:ea typeface="微软雅黑"/>
                </a:rPr>
                <a:t>“</a:t>
              </a: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剁手党</a:t>
              </a:r>
              <a:r>
                <a:rPr b="0" lang="en-US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来讲，除去春节，哪天最重要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11.11</a:t>
              </a: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，它意味的不是光棍节，而是</a:t>
              </a:r>
              <a:r>
                <a:rPr b="0" lang="zh-CN" sz="1200" spc="-1" strike="noStrike">
                  <a:solidFill>
                    <a:srgbClr val="494429"/>
                  </a:solidFill>
                  <a:latin typeface="Arial"/>
                  <a:ea typeface="微软雅黑"/>
                </a:rPr>
                <a:t>“</a:t>
              </a: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双十一</a:t>
              </a:r>
              <a:r>
                <a:rPr b="0" lang="zh-CN" sz="1200" spc="-1" strike="noStrike">
                  <a:solidFill>
                    <a:srgbClr val="494429"/>
                  </a:solidFill>
                  <a:latin typeface="Arial"/>
                  <a:ea typeface="微软雅黑"/>
                </a:rPr>
                <a:t>”</a:t>
              </a:r>
              <a:r>
                <a:rPr b="0" lang="zh-CN" sz="1200" spc="-1" strike="noStrike">
                  <a:solidFill>
                    <a:srgbClr val="494429"/>
                  </a:solidFill>
                  <a:latin typeface="微软雅黑"/>
                  <a:ea typeface="微软雅黑"/>
                </a:rPr>
                <a:t>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圆角矩形 114"/>
            <p:cNvSpPr/>
            <p:nvPr/>
          </p:nvSpPr>
          <p:spPr>
            <a:xfrm>
              <a:off x="2084040" y="3767760"/>
              <a:ext cx="5549040" cy="592560"/>
            </a:xfrm>
            <a:prstGeom prst="roundRect">
              <a:avLst>
                <a:gd name="adj" fmla="val 4028"/>
              </a:avLst>
            </a:prstGeom>
            <a:noFill/>
            <a:ln w="3240">
              <a:solidFill>
                <a:srgbClr val="93895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17"/>
          <p:cNvSpPr/>
          <p:nvPr/>
        </p:nvSpPr>
        <p:spPr>
          <a:xfrm>
            <a:off x="2408400" y="1501920"/>
            <a:ext cx="40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俗称女人心情，三分天注定，七分靠</a:t>
            </a: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ho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7680240" y="4651200"/>
            <a:ext cx="370080" cy="371520"/>
            <a:chOff x="7680240" y="4651200"/>
            <a:chExt cx="370080" cy="371520"/>
          </a:xfrm>
        </p:grpSpPr>
        <p:sp>
          <p:nvSpPr>
            <p:cNvPr id="303" name="椭圆 134"/>
            <p:cNvSpPr/>
            <p:nvPr/>
          </p:nvSpPr>
          <p:spPr>
            <a:xfrm>
              <a:off x="7680240" y="4651200"/>
              <a:ext cx="370080" cy="371520"/>
            </a:xfrm>
            <a:prstGeom prst="ellipse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组合 122"/>
            <p:cNvGrpSpPr/>
            <p:nvPr/>
          </p:nvGrpSpPr>
          <p:grpSpPr>
            <a:xfrm>
              <a:off x="7725240" y="4695840"/>
              <a:ext cx="279720" cy="281160"/>
              <a:chOff x="7725240" y="4695840"/>
              <a:chExt cx="279720" cy="281160"/>
            </a:xfrm>
          </p:grpSpPr>
          <p:sp>
            <p:nvSpPr>
              <p:cNvPr id="305" name="Oval 6"/>
              <p:cNvSpPr/>
              <p:nvPr/>
            </p:nvSpPr>
            <p:spPr>
              <a:xfrm rot="10200">
                <a:off x="7725240" y="4696200"/>
                <a:ext cx="279000" cy="28044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组合 136"/>
              <p:cNvGrpSpPr/>
              <p:nvPr/>
            </p:nvGrpSpPr>
            <p:grpSpPr>
              <a:xfrm>
                <a:off x="7758360" y="4730040"/>
                <a:ext cx="213480" cy="213120"/>
                <a:chOff x="7758360" y="4730040"/>
                <a:chExt cx="213480" cy="213120"/>
              </a:xfrm>
            </p:grpSpPr>
            <p:sp>
              <p:nvSpPr>
                <p:cNvPr id="307" name="Freeform 8"/>
                <p:cNvSpPr/>
                <p:nvPr/>
              </p:nvSpPr>
              <p:spPr>
                <a:xfrm rot="10200">
                  <a:off x="7836120" y="4730040"/>
                  <a:ext cx="20520" cy="370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9"/>
                <p:cNvSpPr/>
                <p:nvPr/>
              </p:nvSpPr>
              <p:spPr>
                <a:xfrm rot="10200">
                  <a:off x="7758720" y="478764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10"/>
                <p:cNvSpPr/>
                <p:nvPr/>
              </p:nvSpPr>
              <p:spPr>
                <a:xfrm rot="10200">
                  <a:off x="7786800" y="473760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1"/>
                <p:cNvSpPr/>
                <p:nvPr/>
              </p:nvSpPr>
              <p:spPr>
                <a:xfrm rot="10200">
                  <a:off x="7878600" y="4730040"/>
                  <a:ext cx="20520" cy="370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2"/>
                <p:cNvSpPr/>
                <p:nvPr/>
              </p:nvSpPr>
              <p:spPr>
                <a:xfrm rot="10200">
                  <a:off x="7926480" y="478836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3"/>
                <p:cNvSpPr/>
                <p:nvPr/>
              </p:nvSpPr>
              <p:spPr>
                <a:xfrm rot="10200">
                  <a:off x="7909560" y="4737960"/>
                  <a:ext cx="38880" cy="2916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4"/>
                <p:cNvSpPr/>
                <p:nvPr/>
              </p:nvSpPr>
              <p:spPr>
                <a:xfrm rot="10200">
                  <a:off x="7832520" y="4906080"/>
                  <a:ext cx="20520" cy="367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5"/>
                <p:cNvSpPr/>
                <p:nvPr/>
              </p:nvSpPr>
              <p:spPr>
                <a:xfrm rot="10200">
                  <a:off x="7758000" y="484668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16"/>
                <p:cNvSpPr/>
                <p:nvPr/>
              </p:nvSpPr>
              <p:spPr>
                <a:xfrm rot="10200">
                  <a:off x="7782840" y="4906080"/>
                  <a:ext cx="39600" cy="288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7"/>
                <p:cNvSpPr/>
                <p:nvPr/>
              </p:nvSpPr>
              <p:spPr>
                <a:xfrm rot="10200">
                  <a:off x="7874640" y="4906440"/>
                  <a:ext cx="20520" cy="367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8"/>
                <p:cNvSpPr/>
                <p:nvPr/>
              </p:nvSpPr>
              <p:spPr>
                <a:xfrm rot="10200">
                  <a:off x="7925760" y="484740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9"/>
                <p:cNvSpPr/>
                <p:nvPr/>
              </p:nvSpPr>
              <p:spPr>
                <a:xfrm rot="10200">
                  <a:off x="7906320" y="4906440"/>
                  <a:ext cx="38880" cy="2880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21"/>
                <p:cNvSpPr/>
                <p:nvPr/>
              </p:nvSpPr>
              <p:spPr>
                <a:xfrm rot="10200">
                  <a:off x="7815960" y="4788000"/>
                  <a:ext cx="103320" cy="961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0" name="组合 215"/>
          <p:cNvGrpSpPr/>
          <p:nvPr/>
        </p:nvGrpSpPr>
        <p:grpSpPr>
          <a:xfrm>
            <a:off x="2261160" y="1566000"/>
            <a:ext cx="147960" cy="147960"/>
            <a:chOff x="2261160" y="1566000"/>
            <a:chExt cx="147960" cy="147960"/>
          </a:xfrm>
        </p:grpSpPr>
        <p:sp>
          <p:nvSpPr>
            <p:cNvPr id="321" name="椭圆 216"/>
            <p:cNvSpPr/>
            <p:nvPr/>
          </p:nvSpPr>
          <p:spPr>
            <a:xfrm rot="21300000">
              <a:off x="2266560" y="1571400"/>
              <a:ext cx="136440" cy="136440"/>
            </a:xfrm>
            <a:prstGeom prst="ellipse">
              <a:avLst/>
            </a:prstGeom>
            <a:solidFill>
              <a:srgbClr val="cd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17"/>
            <p:cNvSpPr/>
            <p:nvPr/>
          </p:nvSpPr>
          <p:spPr>
            <a:xfrm rot="21300000">
              <a:off x="2318760" y="1610280"/>
              <a:ext cx="32040" cy="58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57250" h="1571625">
                  <a:moveTo>
                    <a:pt x="66675" y="0"/>
                  </a:moveTo>
                  <a:lnTo>
                    <a:pt x="857250" y="790575"/>
                  </a:lnTo>
                  <a:lnTo>
                    <a:pt x="0" y="15716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218"/>
          <p:cNvGrpSpPr/>
          <p:nvPr/>
        </p:nvGrpSpPr>
        <p:grpSpPr>
          <a:xfrm>
            <a:off x="2261160" y="3893040"/>
            <a:ext cx="147960" cy="148320"/>
            <a:chOff x="2261160" y="3893040"/>
            <a:chExt cx="147960" cy="148320"/>
          </a:xfrm>
        </p:grpSpPr>
        <p:sp>
          <p:nvSpPr>
            <p:cNvPr id="324" name="椭圆 219"/>
            <p:cNvSpPr/>
            <p:nvPr/>
          </p:nvSpPr>
          <p:spPr>
            <a:xfrm rot="21300000">
              <a:off x="2266560" y="3898440"/>
              <a:ext cx="136440" cy="136800"/>
            </a:xfrm>
            <a:prstGeom prst="ellipse">
              <a:avLst/>
            </a:prstGeom>
            <a:solidFill>
              <a:srgbClr val="cd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220"/>
            <p:cNvSpPr/>
            <p:nvPr/>
          </p:nvSpPr>
          <p:spPr>
            <a:xfrm rot="21300000">
              <a:off x="2318760" y="3937320"/>
              <a:ext cx="32040" cy="590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7250" h="1571625">
                  <a:moveTo>
                    <a:pt x="66675" y="0"/>
                  </a:moveTo>
                  <a:lnTo>
                    <a:pt x="857250" y="790575"/>
                  </a:lnTo>
                  <a:lnTo>
                    <a:pt x="0" y="15716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328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360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矩形 108"/>
          <p:cNvSpPr/>
          <p:nvPr/>
        </p:nvSpPr>
        <p:spPr>
          <a:xfrm>
            <a:off x="1343160" y="426960"/>
            <a:ext cx="6465600" cy="4716720"/>
          </a:xfrm>
          <a:prstGeom prst="rect">
            <a:avLst/>
          </a:prstGeom>
          <a:solidFill>
            <a:srgbClr val="e3e0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右箭头 137"/>
          <p:cNvSpPr/>
          <p:nvPr/>
        </p:nvSpPr>
        <p:spPr>
          <a:xfrm rot="16200000">
            <a:off x="7031880" y="1488240"/>
            <a:ext cx="324000" cy="25560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任意多边形 153"/>
          <p:cNvSpPr/>
          <p:nvPr/>
        </p:nvSpPr>
        <p:spPr>
          <a:xfrm>
            <a:off x="5686560" y="-17640"/>
            <a:ext cx="2200320" cy="44640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446400"/>
              <a:gd name="textAreaBottom" fmla="*/ 446760 h 446400"/>
            </a:gdLst>
            <a:ahLst/>
            <a:rect l="textAreaLeft" t="textAreaTop" r="textAreaRight" b="textAreaBottom"/>
            <a:pathLst>
              <a:path w="2181225" h="400050">
                <a:moveTo>
                  <a:pt x="2181225" y="0"/>
                </a:moveTo>
                <a:lnTo>
                  <a:pt x="2181225" y="400050"/>
                </a:lnTo>
                <a:lnTo>
                  <a:pt x="0" y="400050"/>
                </a:lnTo>
                <a:lnTo>
                  <a:pt x="0" y="390525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等腰三角形 171"/>
          <p:cNvSpPr/>
          <p:nvPr/>
        </p:nvSpPr>
        <p:spPr>
          <a:xfrm>
            <a:off x="1341360" y="262080"/>
            <a:ext cx="335160" cy="185760"/>
          </a:xfrm>
          <a:prstGeom prst="triangle">
            <a:avLst>
              <a:gd name="adj" fmla="val 50000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等腰三角形 173"/>
          <p:cNvSpPr/>
          <p:nvPr/>
        </p:nvSpPr>
        <p:spPr>
          <a:xfrm>
            <a:off x="7472520" y="252360"/>
            <a:ext cx="336240" cy="185760"/>
          </a:xfrm>
          <a:prstGeom prst="triangle">
            <a:avLst>
              <a:gd name="adj" fmla="val 50000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任意多边形 174"/>
          <p:cNvSpPr/>
          <p:nvPr/>
        </p:nvSpPr>
        <p:spPr>
          <a:xfrm>
            <a:off x="1490760" y="257040"/>
            <a:ext cx="6162480" cy="540000"/>
          </a:xfrm>
          <a:custGeom>
            <a:avLst/>
            <a:gdLst>
              <a:gd name="textAreaLeft" fmla="*/ 0 w 6162480"/>
              <a:gd name="textAreaRight" fmla="*/ 6162840 w 616248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2910840" h="457200">
                <a:moveTo>
                  <a:pt x="0" y="0"/>
                </a:moveTo>
                <a:lnTo>
                  <a:pt x="251460" y="457200"/>
                </a:lnTo>
                <a:lnTo>
                  <a:pt x="2659380" y="449580"/>
                </a:lnTo>
                <a:lnTo>
                  <a:pt x="2910840" y="0"/>
                </a:lnTo>
                <a:lnTo>
                  <a:pt x="0" y="0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75"/>
          <p:cNvSpPr/>
          <p:nvPr/>
        </p:nvSpPr>
        <p:spPr>
          <a:xfrm>
            <a:off x="3164040" y="260280"/>
            <a:ext cx="28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十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-4680" y="-11160"/>
            <a:ext cx="1689120" cy="4399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0004" h="10000">
                <a:moveTo>
                  <a:pt x="0" y="1316"/>
                </a:moveTo>
                <a:lnTo>
                  <a:pt x="6570" y="1316"/>
                </a:lnTo>
                <a:cubicBezTo>
                  <a:pt x="6595" y="877"/>
                  <a:pt x="6619" y="439"/>
                  <a:pt x="6643" y="0"/>
                </a:cubicBezTo>
                <a:lnTo>
                  <a:pt x="7643" y="526"/>
                </a:lnTo>
                <a:lnTo>
                  <a:pt x="7643" y="1053"/>
                </a:lnTo>
                <a:cubicBezTo>
                  <a:pt x="7643" y="1053"/>
                  <a:pt x="8857" y="-263"/>
                  <a:pt x="9857" y="1316"/>
                </a:cubicBezTo>
                <a:cubicBezTo>
                  <a:pt x="9857" y="1316"/>
                  <a:pt x="10000" y="2368"/>
                  <a:pt x="9643" y="2105"/>
                </a:cubicBezTo>
                <a:cubicBezTo>
                  <a:pt x="9643" y="2105"/>
                  <a:pt x="8989" y="1550"/>
                  <a:pt x="8929" y="1579"/>
                </a:cubicBezTo>
                <a:cubicBezTo>
                  <a:pt x="8869" y="1608"/>
                  <a:pt x="8801" y="1708"/>
                  <a:pt x="9285" y="2279"/>
                </a:cubicBezTo>
                <a:cubicBezTo>
                  <a:pt x="9285" y="2279"/>
                  <a:pt x="10073" y="2868"/>
                  <a:pt x="10000" y="3684"/>
                </a:cubicBezTo>
                <a:cubicBezTo>
                  <a:pt x="9979" y="3920"/>
                  <a:pt x="10000" y="4211"/>
                  <a:pt x="9500" y="3684"/>
                </a:cubicBezTo>
                <a:cubicBezTo>
                  <a:pt x="9500" y="3684"/>
                  <a:pt x="9143" y="2895"/>
                  <a:pt x="9000" y="3158"/>
                </a:cubicBezTo>
                <a:cubicBezTo>
                  <a:pt x="8857" y="3421"/>
                  <a:pt x="9222" y="3706"/>
                  <a:pt x="9357" y="3947"/>
                </a:cubicBezTo>
                <a:cubicBezTo>
                  <a:pt x="9492" y="4188"/>
                  <a:pt x="10038" y="4591"/>
                  <a:pt x="10000" y="5789"/>
                </a:cubicBezTo>
                <a:cubicBezTo>
                  <a:pt x="10000" y="5789"/>
                  <a:pt x="9931" y="6853"/>
                  <a:pt x="9643" y="6053"/>
                </a:cubicBezTo>
                <a:cubicBezTo>
                  <a:pt x="9355" y="5253"/>
                  <a:pt x="9071" y="4211"/>
                  <a:pt x="9000" y="4737"/>
                </a:cubicBezTo>
                <a:cubicBezTo>
                  <a:pt x="9000" y="4737"/>
                  <a:pt x="9429" y="5789"/>
                  <a:pt x="9285" y="7895"/>
                </a:cubicBezTo>
                <a:cubicBezTo>
                  <a:pt x="9285" y="7895"/>
                  <a:pt x="9143" y="10000"/>
                  <a:pt x="8786" y="10000"/>
                </a:cubicBezTo>
                <a:cubicBezTo>
                  <a:pt x="8786" y="10000"/>
                  <a:pt x="8429" y="10000"/>
                  <a:pt x="8571" y="8947"/>
                </a:cubicBezTo>
                <a:cubicBezTo>
                  <a:pt x="8571" y="8947"/>
                  <a:pt x="9285" y="6842"/>
                  <a:pt x="8714" y="5526"/>
                </a:cubicBezTo>
                <a:cubicBezTo>
                  <a:pt x="8714" y="5526"/>
                  <a:pt x="8143" y="4737"/>
                  <a:pt x="7929" y="7105"/>
                </a:cubicBezTo>
                <a:cubicBezTo>
                  <a:pt x="7929" y="7105"/>
                  <a:pt x="8083" y="8595"/>
                  <a:pt x="8214" y="8421"/>
                </a:cubicBezTo>
                <a:cubicBezTo>
                  <a:pt x="8345" y="8247"/>
                  <a:pt x="8357" y="10263"/>
                  <a:pt x="7929" y="9211"/>
                </a:cubicBezTo>
                <a:cubicBezTo>
                  <a:pt x="7929" y="9211"/>
                  <a:pt x="7643" y="8684"/>
                  <a:pt x="7643" y="7105"/>
                </a:cubicBezTo>
                <a:lnTo>
                  <a:pt x="6786" y="7632"/>
                </a:lnTo>
                <a:cubicBezTo>
                  <a:pt x="6762" y="7193"/>
                  <a:pt x="6737" y="6431"/>
                  <a:pt x="6714" y="5992"/>
                </a:cubicBezTo>
                <a:lnTo>
                  <a:pt x="9" y="6053"/>
                </a:lnTo>
                <a:lnTo>
                  <a:pt x="0" y="1316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148"/>
          <p:cNvGrpSpPr/>
          <p:nvPr/>
        </p:nvGrpSpPr>
        <p:grpSpPr>
          <a:xfrm>
            <a:off x="2085840" y="3098880"/>
            <a:ext cx="646200" cy="646200"/>
            <a:chOff x="2085840" y="3098880"/>
            <a:chExt cx="646200" cy="646200"/>
          </a:xfrm>
        </p:grpSpPr>
        <p:sp>
          <p:nvSpPr>
            <p:cNvPr id="383" name="椭圆 149"/>
            <p:cNvSpPr/>
            <p:nvPr/>
          </p:nvSpPr>
          <p:spPr>
            <a:xfrm>
              <a:off x="2085840" y="3098880"/>
              <a:ext cx="646200" cy="646200"/>
            </a:xfrm>
            <a:prstGeom prst="ellipse">
              <a:avLst/>
            </a:pr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150"/>
            <p:cNvSpPr/>
            <p:nvPr/>
          </p:nvSpPr>
          <p:spPr>
            <a:xfrm>
              <a:off x="2225520" y="3169800"/>
              <a:ext cx="50436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任意多边形 2"/>
          <p:cNvSpPr/>
          <p:nvPr/>
        </p:nvSpPr>
        <p:spPr>
          <a:xfrm>
            <a:off x="2003400" y="1765440"/>
            <a:ext cx="5253120" cy="2473200"/>
          </a:xfrm>
          <a:custGeom>
            <a:avLst/>
            <a:gdLst>
              <a:gd name="textAreaLeft" fmla="*/ 0 w 5253120"/>
              <a:gd name="textAreaRight" fmla="*/ 5253480 w 52531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w="3952875" h="1495425">
                <a:moveTo>
                  <a:pt x="0" y="1495425"/>
                </a:moveTo>
                <a:lnTo>
                  <a:pt x="0" y="1228725"/>
                </a:lnTo>
                <a:lnTo>
                  <a:pt x="647700" y="1228725"/>
                </a:lnTo>
                <a:lnTo>
                  <a:pt x="647700" y="1000125"/>
                </a:lnTo>
                <a:lnTo>
                  <a:pt x="1314450" y="1000125"/>
                </a:lnTo>
                <a:lnTo>
                  <a:pt x="1314450" y="733425"/>
                </a:lnTo>
                <a:lnTo>
                  <a:pt x="1962150" y="733425"/>
                </a:lnTo>
                <a:lnTo>
                  <a:pt x="1962150" y="485775"/>
                </a:lnTo>
                <a:lnTo>
                  <a:pt x="2619375" y="485775"/>
                </a:lnTo>
                <a:lnTo>
                  <a:pt x="2619375" y="238125"/>
                </a:lnTo>
                <a:lnTo>
                  <a:pt x="3286125" y="238125"/>
                </a:lnTo>
                <a:lnTo>
                  <a:pt x="3286125" y="0"/>
                </a:lnTo>
                <a:lnTo>
                  <a:pt x="3952875" y="0"/>
                </a:ln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93"/>
          <p:cNvGrpSpPr/>
          <p:nvPr/>
        </p:nvGrpSpPr>
        <p:grpSpPr>
          <a:xfrm>
            <a:off x="2962440" y="2679840"/>
            <a:ext cx="645840" cy="645840"/>
            <a:chOff x="2962440" y="2679840"/>
            <a:chExt cx="645840" cy="645840"/>
          </a:xfrm>
        </p:grpSpPr>
        <p:sp>
          <p:nvSpPr>
            <p:cNvPr id="387" name="椭圆 95"/>
            <p:cNvSpPr/>
            <p:nvPr/>
          </p:nvSpPr>
          <p:spPr>
            <a:xfrm>
              <a:off x="2962440" y="2679840"/>
              <a:ext cx="645840" cy="645840"/>
            </a:xfrm>
            <a:prstGeom prst="ellipse">
              <a:avLst/>
            </a:pr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椭圆 96"/>
            <p:cNvSpPr/>
            <p:nvPr/>
          </p:nvSpPr>
          <p:spPr>
            <a:xfrm>
              <a:off x="3102120" y="2750760"/>
              <a:ext cx="504000" cy="50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98"/>
          <p:cNvGrpSpPr/>
          <p:nvPr/>
        </p:nvGrpSpPr>
        <p:grpSpPr>
          <a:xfrm>
            <a:off x="3844800" y="2255760"/>
            <a:ext cx="646200" cy="646200"/>
            <a:chOff x="3844800" y="2255760"/>
            <a:chExt cx="646200" cy="646200"/>
          </a:xfrm>
        </p:grpSpPr>
        <p:sp>
          <p:nvSpPr>
            <p:cNvPr id="390" name="椭圆 105"/>
            <p:cNvSpPr/>
            <p:nvPr/>
          </p:nvSpPr>
          <p:spPr>
            <a:xfrm>
              <a:off x="3844800" y="2255760"/>
              <a:ext cx="646200" cy="646200"/>
            </a:xfrm>
            <a:prstGeom prst="ellipse">
              <a:avLst/>
            </a:pr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106"/>
            <p:cNvSpPr/>
            <p:nvPr/>
          </p:nvSpPr>
          <p:spPr>
            <a:xfrm>
              <a:off x="3984480" y="2326680"/>
              <a:ext cx="50436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114"/>
          <p:cNvGrpSpPr/>
          <p:nvPr/>
        </p:nvGrpSpPr>
        <p:grpSpPr>
          <a:xfrm>
            <a:off x="4633920" y="1844640"/>
            <a:ext cx="646200" cy="646200"/>
            <a:chOff x="4633920" y="1844640"/>
            <a:chExt cx="646200" cy="646200"/>
          </a:xfrm>
        </p:grpSpPr>
        <p:sp>
          <p:nvSpPr>
            <p:cNvPr id="393" name="椭圆 116"/>
            <p:cNvSpPr/>
            <p:nvPr/>
          </p:nvSpPr>
          <p:spPr>
            <a:xfrm>
              <a:off x="4633920" y="1844640"/>
              <a:ext cx="646200" cy="646200"/>
            </a:xfrm>
            <a:prstGeom prst="ellipse">
              <a:avLst/>
            </a:pr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117"/>
            <p:cNvSpPr/>
            <p:nvPr/>
          </p:nvSpPr>
          <p:spPr>
            <a:xfrm>
              <a:off x="4773600" y="1915560"/>
              <a:ext cx="50436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24"/>
          <p:cNvGrpSpPr/>
          <p:nvPr/>
        </p:nvGrpSpPr>
        <p:grpSpPr>
          <a:xfrm>
            <a:off x="5599080" y="1420920"/>
            <a:ext cx="646200" cy="645840"/>
            <a:chOff x="5599080" y="1420920"/>
            <a:chExt cx="646200" cy="645840"/>
          </a:xfrm>
        </p:grpSpPr>
        <p:sp>
          <p:nvSpPr>
            <p:cNvPr id="396" name="椭圆 126"/>
            <p:cNvSpPr/>
            <p:nvPr/>
          </p:nvSpPr>
          <p:spPr>
            <a:xfrm>
              <a:off x="5599080" y="1420920"/>
              <a:ext cx="646200" cy="6458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127"/>
            <p:cNvSpPr/>
            <p:nvPr/>
          </p:nvSpPr>
          <p:spPr>
            <a:xfrm>
              <a:off x="5738760" y="1491840"/>
              <a:ext cx="504360" cy="50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矩形 128"/>
          <p:cNvSpPr/>
          <p:nvPr/>
        </p:nvSpPr>
        <p:spPr>
          <a:xfrm>
            <a:off x="1978200" y="38257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29"/>
          <p:cNvSpPr/>
          <p:nvPr/>
        </p:nvSpPr>
        <p:spPr>
          <a:xfrm>
            <a:off x="2852640" y="344160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30"/>
          <p:cNvSpPr/>
          <p:nvPr/>
        </p:nvSpPr>
        <p:spPr>
          <a:xfrm>
            <a:off x="3728880" y="3009960"/>
            <a:ext cx="87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32"/>
          <p:cNvSpPr/>
          <p:nvPr/>
        </p:nvSpPr>
        <p:spPr>
          <a:xfrm>
            <a:off x="4591080" y="25923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33"/>
          <p:cNvSpPr/>
          <p:nvPr/>
        </p:nvSpPr>
        <p:spPr>
          <a:xfrm>
            <a:off x="5419800" y="218448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43"/>
          <p:cNvSpPr/>
          <p:nvPr/>
        </p:nvSpPr>
        <p:spPr>
          <a:xfrm>
            <a:off x="4814280" y="1959120"/>
            <a:ext cx="42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1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亿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42"/>
          <p:cNvSpPr/>
          <p:nvPr/>
        </p:nvSpPr>
        <p:spPr>
          <a:xfrm>
            <a:off x="4062600" y="2346480"/>
            <a:ext cx="34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亿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34"/>
          <p:cNvSpPr/>
          <p:nvPr/>
        </p:nvSpPr>
        <p:spPr>
          <a:xfrm>
            <a:off x="3123000" y="2771640"/>
            <a:ext cx="462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9.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亿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35"/>
          <p:cNvSpPr/>
          <p:nvPr/>
        </p:nvSpPr>
        <p:spPr>
          <a:xfrm>
            <a:off x="2294280" y="3203640"/>
            <a:ext cx="34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亿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36"/>
          <p:cNvSpPr/>
          <p:nvPr/>
        </p:nvSpPr>
        <p:spPr>
          <a:xfrm>
            <a:off x="5805000" y="147960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任意多边形 3"/>
          <p:cNvSpPr/>
          <p:nvPr/>
        </p:nvSpPr>
        <p:spPr>
          <a:xfrm>
            <a:off x="1663560" y="444600"/>
            <a:ext cx="5816880" cy="4724280"/>
          </a:xfrm>
          <a:custGeom>
            <a:avLst/>
            <a:gdLst>
              <a:gd name="textAreaLeft" fmla="*/ 0 w 5816880"/>
              <a:gd name="textAreaRight" fmla="*/ 5817240 w 5816880"/>
              <a:gd name="textAreaTop" fmla="*/ 0 h 4724280"/>
              <a:gd name="textAreaBottom" fmla="*/ 4724640 h 4724280"/>
            </a:gdLst>
            <a:ahLst/>
            <a:rect l="textAreaLeft" t="textAreaTop" r="textAreaRight" b="textAreaBottom"/>
            <a:pathLst>
              <a:path w="5816600" h="4724400">
                <a:moveTo>
                  <a:pt x="0" y="0"/>
                </a:moveTo>
                <a:lnTo>
                  <a:pt x="0" y="3987800"/>
                </a:lnTo>
                <a:lnTo>
                  <a:pt x="5816600" y="3987800"/>
                </a:lnTo>
                <a:lnTo>
                  <a:pt x="5816600" y="4724400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39"/>
          <p:cNvGrpSpPr/>
          <p:nvPr/>
        </p:nvGrpSpPr>
        <p:grpSpPr>
          <a:xfrm>
            <a:off x="1481040" y="4243320"/>
            <a:ext cx="371520" cy="371520"/>
            <a:chOff x="1481040" y="4243320"/>
            <a:chExt cx="371520" cy="371520"/>
          </a:xfrm>
        </p:grpSpPr>
        <p:sp>
          <p:nvSpPr>
            <p:cNvPr id="410" name="椭圆 40"/>
            <p:cNvSpPr/>
            <p:nvPr/>
          </p:nvSpPr>
          <p:spPr>
            <a:xfrm>
              <a:off x="1481040" y="4243320"/>
              <a:ext cx="371520" cy="371520"/>
            </a:xfrm>
            <a:prstGeom prst="ellipse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组合 41"/>
            <p:cNvGrpSpPr/>
            <p:nvPr/>
          </p:nvGrpSpPr>
          <p:grpSpPr>
            <a:xfrm>
              <a:off x="1526400" y="4288320"/>
              <a:ext cx="280800" cy="281160"/>
              <a:chOff x="1526400" y="4288320"/>
              <a:chExt cx="280800" cy="281160"/>
            </a:xfrm>
          </p:grpSpPr>
          <p:sp>
            <p:nvSpPr>
              <p:cNvPr id="412" name="Oval 6"/>
              <p:cNvSpPr/>
              <p:nvPr/>
            </p:nvSpPr>
            <p:spPr>
              <a:xfrm rot="10200">
                <a:off x="1526400" y="4288680"/>
                <a:ext cx="280080" cy="28044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3" name="组合 43"/>
              <p:cNvGrpSpPr/>
              <p:nvPr/>
            </p:nvGrpSpPr>
            <p:grpSpPr>
              <a:xfrm>
                <a:off x="1559520" y="4321800"/>
                <a:ext cx="214200" cy="213480"/>
                <a:chOff x="1559520" y="4321800"/>
                <a:chExt cx="214200" cy="213480"/>
              </a:xfrm>
            </p:grpSpPr>
            <p:sp>
              <p:nvSpPr>
                <p:cNvPr id="414" name="Freeform 8"/>
                <p:cNvSpPr/>
                <p:nvPr/>
              </p:nvSpPr>
              <p:spPr>
                <a:xfrm rot="10200">
                  <a:off x="1637640" y="432180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9"/>
                <p:cNvSpPr/>
                <p:nvPr/>
              </p:nvSpPr>
              <p:spPr>
                <a:xfrm rot="10200">
                  <a:off x="1559880" y="437976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0"/>
                <p:cNvSpPr/>
                <p:nvPr/>
              </p:nvSpPr>
              <p:spPr>
                <a:xfrm rot="10200">
                  <a:off x="1587960" y="432972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1"/>
                <p:cNvSpPr/>
                <p:nvPr/>
              </p:nvSpPr>
              <p:spPr>
                <a:xfrm rot="10200">
                  <a:off x="1680120" y="432216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2"/>
                <p:cNvSpPr/>
                <p:nvPr/>
              </p:nvSpPr>
              <p:spPr>
                <a:xfrm rot="10200">
                  <a:off x="1728360" y="438048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3"/>
                <p:cNvSpPr/>
                <p:nvPr/>
              </p:nvSpPr>
              <p:spPr>
                <a:xfrm rot="10200">
                  <a:off x="1711080" y="4330080"/>
                  <a:ext cx="39240" cy="291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4"/>
                <p:cNvSpPr/>
                <p:nvPr/>
              </p:nvSpPr>
              <p:spPr>
                <a:xfrm rot="10200">
                  <a:off x="1634040" y="449820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5"/>
                <p:cNvSpPr/>
                <p:nvPr/>
              </p:nvSpPr>
              <p:spPr>
                <a:xfrm rot="10200">
                  <a:off x="1559160" y="443880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6"/>
                <p:cNvSpPr/>
                <p:nvPr/>
              </p:nvSpPr>
              <p:spPr>
                <a:xfrm rot="10200">
                  <a:off x="1584360" y="4498200"/>
                  <a:ext cx="39600" cy="288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7"/>
                <p:cNvSpPr/>
                <p:nvPr/>
              </p:nvSpPr>
              <p:spPr>
                <a:xfrm rot="10200">
                  <a:off x="1676160" y="449856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8"/>
                <p:cNvSpPr/>
                <p:nvPr/>
              </p:nvSpPr>
              <p:spPr>
                <a:xfrm rot="10200">
                  <a:off x="1727640" y="443952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19"/>
                <p:cNvSpPr/>
                <p:nvPr/>
              </p:nvSpPr>
              <p:spPr>
                <a:xfrm rot="10200">
                  <a:off x="1707840" y="4498560"/>
                  <a:ext cx="39240" cy="288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1"/>
                <p:cNvSpPr/>
                <p:nvPr/>
              </p:nvSpPr>
              <p:spPr>
                <a:xfrm rot="10200">
                  <a:off x="1617120" y="4379760"/>
                  <a:ext cx="103680" cy="9612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7" name="组合 57"/>
          <p:cNvGrpSpPr/>
          <p:nvPr/>
        </p:nvGrpSpPr>
        <p:grpSpPr>
          <a:xfrm>
            <a:off x="1878120" y="4156200"/>
            <a:ext cx="5559480" cy="522000"/>
            <a:chOff x="1878120" y="4156200"/>
            <a:chExt cx="5559480" cy="522000"/>
          </a:xfrm>
        </p:grpSpPr>
        <p:sp>
          <p:nvSpPr>
            <p:cNvPr id="428" name="圆角矩形 58"/>
            <p:cNvSpPr/>
            <p:nvPr/>
          </p:nvSpPr>
          <p:spPr>
            <a:xfrm>
              <a:off x="1878120" y="4156200"/>
              <a:ext cx="5559480" cy="522000"/>
            </a:xfrm>
            <a:prstGeom prst="roundRect">
              <a:avLst>
                <a:gd name="adj" fmla="val 4028"/>
              </a:avLst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圆角矩形 60"/>
            <p:cNvSpPr/>
            <p:nvPr/>
          </p:nvSpPr>
          <p:spPr>
            <a:xfrm>
              <a:off x="1945800" y="4209120"/>
              <a:ext cx="5423760" cy="416160"/>
            </a:xfrm>
            <a:prstGeom prst="roundRect">
              <a:avLst>
                <a:gd name="adj" fmla="val 4028"/>
              </a:avLst>
            </a:prstGeom>
            <a:noFill/>
            <a:ln w="3240">
              <a:solidFill>
                <a:srgbClr val="93895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46"/>
          <p:cNvSpPr/>
          <p:nvPr/>
        </p:nvSpPr>
        <p:spPr>
          <a:xfrm flipH="1" rot="16200000">
            <a:off x="3726000" y="3449160"/>
            <a:ext cx="492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双十一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微软雅黑"/>
              </a:rPr>
              <a:t>”</a:t>
            </a:r>
            <a:r>
              <a:rPr b="1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当日支付宝交易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433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465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组合 7"/>
          <p:cNvGrpSpPr/>
          <p:nvPr/>
        </p:nvGrpSpPr>
        <p:grpSpPr>
          <a:xfrm>
            <a:off x="2584440" y="1414440"/>
            <a:ext cx="3228840" cy="2859120"/>
            <a:chOff x="2584440" y="1414440"/>
            <a:chExt cx="3228840" cy="2859120"/>
          </a:xfrm>
        </p:grpSpPr>
        <p:grpSp>
          <p:nvGrpSpPr>
            <p:cNvPr id="480" name="组合 18"/>
            <p:cNvGrpSpPr/>
            <p:nvPr/>
          </p:nvGrpSpPr>
          <p:grpSpPr>
            <a:xfrm>
              <a:off x="2584440" y="1414440"/>
              <a:ext cx="3228840" cy="2859120"/>
              <a:chOff x="2584440" y="1414440"/>
              <a:chExt cx="3228840" cy="2859120"/>
            </a:xfrm>
          </p:grpSpPr>
          <p:sp>
            <p:nvSpPr>
              <p:cNvPr id="481" name="圆角矩形 20"/>
              <p:cNvSpPr/>
              <p:nvPr/>
            </p:nvSpPr>
            <p:spPr>
              <a:xfrm>
                <a:off x="2584440" y="1414440"/>
                <a:ext cx="3228840" cy="2161080"/>
              </a:xfrm>
              <a:prstGeom prst="roundRect">
                <a:avLst>
                  <a:gd name="adj" fmla="val 7361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矩形 21"/>
              <p:cNvSpPr/>
              <p:nvPr/>
            </p:nvSpPr>
            <p:spPr>
              <a:xfrm>
                <a:off x="2769120" y="1564560"/>
                <a:ext cx="2859480" cy="1710000"/>
              </a:xfrm>
              <a:prstGeom prst="rect">
                <a:avLst/>
              </a:prstGeom>
              <a:solidFill>
                <a:srgbClr val="ffb8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矩形 22"/>
              <p:cNvSpPr/>
              <p:nvPr/>
            </p:nvSpPr>
            <p:spPr>
              <a:xfrm>
                <a:off x="3785040" y="3575520"/>
                <a:ext cx="827640" cy="4093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任意多边形 23"/>
              <p:cNvSpPr/>
              <p:nvPr/>
            </p:nvSpPr>
            <p:spPr>
              <a:xfrm>
                <a:off x="3347640" y="3984840"/>
                <a:ext cx="1702080" cy="288720"/>
              </a:xfrm>
              <a:custGeom>
                <a:avLst/>
                <a:gdLst>
                  <a:gd name="textAreaLeft" fmla="*/ 0 w 1702080"/>
                  <a:gd name="textAreaRight" fmla="*/ 1702440 w 1702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645319" h="109537">
                    <a:moveTo>
                      <a:pt x="90488" y="0"/>
                    </a:moveTo>
                    <a:lnTo>
                      <a:pt x="535782" y="0"/>
                    </a:lnTo>
                    <a:lnTo>
                      <a:pt x="645319" y="109537"/>
                    </a:lnTo>
                    <a:lnTo>
                      <a:pt x="0" y="109537"/>
                    </a:lnTo>
                    <a:lnTo>
                      <a:pt x="90488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5" name="Picture 2" descr="C:\Users\Administrator\Desktop\shutterstock_109722986.png"/>
            <p:cNvPicPr/>
            <p:nvPr/>
          </p:nvPicPr>
          <p:blipFill>
            <a:blip r:embed="rId1"/>
            <a:srcRect l="0" t="0" r="0" b="-198"/>
            <a:stretch/>
          </p:blipFill>
          <p:spPr>
            <a:xfrm>
              <a:off x="3321360" y="1656360"/>
              <a:ext cx="1754640" cy="79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6" name="组合 9"/>
            <p:cNvGrpSpPr/>
            <p:nvPr/>
          </p:nvGrpSpPr>
          <p:grpSpPr>
            <a:xfrm>
              <a:off x="3106800" y="2446560"/>
              <a:ext cx="2226960" cy="648000"/>
              <a:chOff x="3106800" y="2446560"/>
              <a:chExt cx="2226960" cy="648000"/>
            </a:xfrm>
          </p:grpSpPr>
          <p:sp>
            <p:nvSpPr>
              <p:cNvPr id="487" name="矩形 6"/>
              <p:cNvSpPr/>
              <p:nvPr/>
            </p:nvSpPr>
            <p:spPr>
              <a:xfrm>
                <a:off x="3106800" y="2447280"/>
                <a:ext cx="22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秘籍核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直接连接符 8"/>
              <p:cNvSpPr/>
              <p:nvPr/>
            </p:nvSpPr>
            <p:spPr>
              <a:xfrm>
                <a:off x="3106800" y="2446560"/>
                <a:ext cx="2226960" cy="0"/>
              </a:xfrm>
              <a:prstGeom prst="line">
                <a:avLst/>
              </a:prstGeom>
              <a:ln w="9360">
                <a:solidFill>
                  <a:srgbClr val="ee50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直接连接符 102"/>
              <p:cNvSpPr/>
              <p:nvPr/>
            </p:nvSpPr>
            <p:spPr>
              <a:xfrm>
                <a:off x="3106800" y="3094560"/>
                <a:ext cx="2226960" cy="0"/>
              </a:xfrm>
              <a:prstGeom prst="line">
                <a:avLst/>
              </a:prstGeom>
              <a:ln w="9360">
                <a:solidFill>
                  <a:srgbClr val="ee50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椭圆 2"/>
            <p:cNvSpPr/>
            <p:nvPr/>
          </p:nvSpPr>
          <p:spPr>
            <a:xfrm>
              <a:off x="3708360" y="2353320"/>
              <a:ext cx="935640" cy="45720"/>
            </a:xfrm>
            <a:prstGeom prst="ellipse">
              <a:avLst/>
            </a:prstGeom>
            <a:solidFill>
              <a:srgbClr val="0c0c0c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任意多边形 56"/>
          <p:cNvSpPr/>
          <p:nvPr/>
        </p:nvSpPr>
        <p:spPr>
          <a:xfrm>
            <a:off x="1666800" y="414360"/>
            <a:ext cx="5813640" cy="4724280"/>
          </a:xfrm>
          <a:custGeom>
            <a:avLst/>
            <a:gdLst>
              <a:gd name="textAreaLeft" fmla="*/ 0 w 5813640"/>
              <a:gd name="textAreaRight" fmla="*/ 5814000 w 5813640"/>
              <a:gd name="textAreaTop" fmla="*/ 0 h 4724280"/>
              <a:gd name="textAreaBottom" fmla="*/ 4724640 h 4724280"/>
            </a:gdLst>
            <a:ahLst/>
            <a:rect l="textAreaLeft" t="textAreaTop" r="textAreaRight" b="textAreaBottom"/>
            <a:pathLst>
              <a:path w="5829300" h="3816749">
                <a:moveTo>
                  <a:pt x="0" y="0"/>
                </a:moveTo>
                <a:lnTo>
                  <a:pt x="0" y="3581400"/>
                </a:lnTo>
                <a:lnTo>
                  <a:pt x="5829300" y="3581400"/>
                </a:lnTo>
                <a:lnTo>
                  <a:pt x="5829300" y="3816749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13"/>
          <p:cNvGrpSpPr/>
          <p:nvPr/>
        </p:nvGrpSpPr>
        <p:grpSpPr>
          <a:xfrm>
            <a:off x="1341360" y="241200"/>
            <a:ext cx="6348600" cy="947160"/>
            <a:chOff x="1341360" y="241200"/>
            <a:chExt cx="6348600" cy="947160"/>
          </a:xfrm>
        </p:grpSpPr>
        <p:sp>
          <p:nvSpPr>
            <p:cNvPr id="493" name="等腰三角形 36"/>
            <p:cNvSpPr/>
            <p:nvPr/>
          </p:nvSpPr>
          <p:spPr>
            <a:xfrm>
              <a:off x="1341360" y="261360"/>
              <a:ext cx="327960" cy="185760"/>
            </a:xfrm>
            <a:prstGeom prst="triangle">
              <a:avLst>
                <a:gd name="adj" fmla="val 50000"/>
              </a:avLst>
            </a:prstGeom>
            <a:solidFill>
              <a:srgbClr val="953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组合 31"/>
            <p:cNvGrpSpPr/>
            <p:nvPr/>
          </p:nvGrpSpPr>
          <p:grpSpPr>
            <a:xfrm>
              <a:off x="1487160" y="241200"/>
              <a:ext cx="6202800" cy="947160"/>
              <a:chOff x="1487160" y="241200"/>
              <a:chExt cx="6202800" cy="947160"/>
            </a:xfrm>
          </p:grpSpPr>
          <p:sp>
            <p:nvSpPr>
              <p:cNvPr id="495" name="等腰三角形 33"/>
              <p:cNvSpPr/>
              <p:nvPr/>
            </p:nvSpPr>
            <p:spPr>
              <a:xfrm>
                <a:off x="7321680" y="257040"/>
                <a:ext cx="368280" cy="185760"/>
              </a:xfrm>
              <a:prstGeom prst="triangle">
                <a:avLst>
                  <a:gd name="adj" fmla="val 50000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任意多边形 34"/>
              <p:cNvSpPr/>
              <p:nvPr/>
            </p:nvSpPr>
            <p:spPr>
              <a:xfrm>
                <a:off x="1487160" y="256680"/>
                <a:ext cx="6020640" cy="540360"/>
              </a:xfrm>
              <a:custGeom>
                <a:avLst/>
                <a:gdLst>
                  <a:gd name="textAreaLeft" fmla="*/ 0 w 6020640"/>
                  <a:gd name="textAreaRight" fmla="*/ 6021000 w 6020640"/>
                  <a:gd name="textAreaTop" fmla="*/ 0 h 540360"/>
                  <a:gd name="textAreaBottom" fmla="*/ 540720 h 540360"/>
                </a:gdLst>
                <a:ahLst/>
                <a:rect l="textAreaLeft" t="textAreaTop" r="textAreaRight" b="textAreaBottom"/>
                <a:pathLst>
                  <a:path w="2910840" h="457200">
                    <a:moveTo>
                      <a:pt x="0" y="0"/>
                    </a:moveTo>
                    <a:lnTo>
                      <a:pt x="251460" y="457200"/>
                    </a:lnTo>
                    <a:lnTo>
                      <a:pt x="2659380" y="449580"/>
                    </a:lnTo>
                    <a:lnTo>
                      <a:pt x="29108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1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矩形 35"/>
              <p:cNvSpPr/>
              <p:nvPr/>
            </p:nvSpPr>
            <p:spPr>
              <a:xfrm>
                <a:off x="3094920" y="241200"/>
                <a:ext cx="280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re you ready 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组合 4"/>
          <p:cNvGrpSpPr/>
          <p:nvPr/>
        </p:nvGrpSpPr>
        <p:grpSpPr>
          <a:xfrm>
            <a:off x="5213160" y="792000"/>
            <a:ext cx="2314800" cy="2051280"/>
            <a:chOff x="5213160" y="792000"/>
            <a:chExt cx="2314800" cy="2051280"/>
          </a:xfrm>
        </p:grpSpPr>
        <p:sp>
          <p:nvSpPr>
            <p:cNvPr id="499" name="椭圆 2"/>
            <p:cNvSpPr/>
            <p:nvPr/>
          </p:nvSpPr>
          <p:spPr>
            <a:xfrm rot="9942000">
              <a:off x="5381280" y="1010880"/>
              <a:ext cx="1977840" cy="1612800"/>
            </a:xfrm>
            <a:custGeom>
              <a:avLst/>
              <a:gdLst>
                <a:gd name="textAreaLeft" fmla="*/ 0 w 1977840"/>
                <a:gd name="textAreaRight" fmla="*/ 1977840 w 197784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1281095" h="1045028">
                  <a:moveTo>
                    <a:pt x="522514" y="0"/>
                  </a:moveTo>
                  <a:cubicBezTo>
                    <a:pt x="778529" y="0"/>
                    <a:pt x="991539" y="184122"/>
                    <a:pt x="1035434" y="427341"/>
                  </a:cubicBezTo>
                  <a:lnTo>
                    <a:pt x="1281095" y="530977"/>
                  </a:lnTo>
                  <a:lnTo>
                    <a:pt x="1036611" y="606006"/>
                  </a:lnTo>
                  <a:cubicBezTo>
                    <a:pt x="998262" y="855039"/>
                    <a:pt x="782576" y="1045028"/>
                    <a:pt x="522514" y="1045028"/>
                  </a:cubicBezTo>
                  <a:cubicBezTo>
                    <a:pt x="233937" y="1045028"/>
                    <a:pt x="0" y="811091"/>
                    <a:pt x="0" y="522514"/>
                  </a:cubicBezTo>
                  <a:cubicBezTo>
                    <a:pt x="0" y="233937"/>
                    <a:pt x="233937" y="0"/>
                    <a:pt x="522514" y="0"/>
                  </a:cubicBezTo>
                  <a:close/>
                </a:path>
              </a:pathLst>
            </a:custGeom>
            <a:solidFill>
              <a:srgbClr val="ef5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3"/>
            <p:cNvSpPr/>
            <p:nvPr/>
          </p:nvSpPr>
          <p:spPr>
            <a:xfrm>
              <a:off x="6170400" y="115704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省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矩形 1"/>
          <p:cNvSpPr/>
          <p:nvPr/>
        </p:nvSpPr>
        <p:spPr>
          <a:xfrm>
            <a:off x="2273400" y="4376880"/>
            <a:ext cx="438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429"/>
                </a:solidFill>
                <a:latin typeface="微软雅黑"/>
                <a:ea typeface="微软雅黑"/>
              </a:rPr>
              <a:t>血战的过程中，始终不能忘记</a:t>
            </a:r>
            <a:r>
              <a:rPr b="0" lang="zh-CN" sz="1800" spc="-1" strike="noStrike">
                <a:solidFill>
                  <a:srgbClr val="494429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494429"/>
                </a:solidFill>
                <a:latin typeface="微软雅黑"/>
                <a:ea typeface="微软雅黑"/>
              </a:rPr>
              <a:t>省</a:t>
            </a:r>
            <a:r>
              <a:rPr b="0" lang="zh-CN" sz="1800" spc="-1" strike="noStrike">
                <a:solidFill>
                  <a:srgbClr val="494429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494429"/>
                </a:solidFill>
                <a:latin typeface="微软雅黑"/>
                <a:ea typeface="微软雅黑"/>
              </a:rPr>
              <a:t>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38"/>
          <p:cNvGrpSpPr/>
          <p:nvPr/>
        </p:nvGrpSpPr>
        <p:grpSpPr>
          <a:xfrm>
            <a:off x="7269120" y="4653000"/>
            <a:ext cx="371520" cy="371520"/>
            <a:chOff x="7269120" y="4653000"/>
            <a:chExt cx="371520" cy="371520"/>
          </a:xfrm>
        </p:grpSpPr>
        <p:sp>
          <p:nvSpPr>
            <p:cNvPr id="503" name="椭圆 39"/>
            <p:cNvSpPr/>
            <p:nvPr/>
          </p:nvSpPr>
          <p:spPr>
            <a:xfrm>
              <a:off x="7269120" y="4653000"/>
              <a:ext cx="371520" cy="371520"/>
            </a:xfrm>
            <a:prstGeom prst="ellipse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组合 40"/>
            <p:cNvGrpSpPr/>
            <p:nvPr/>
          </p:nvGrpSpPr>
          <p:grpSpPr>
            <a:xfrm>
              <a:off x="7314480" y="4698000"/>
              <a:ext cx="280800" cy="281160"/>
              <a:chOff x="7314480" y="4698000"/>
              <a:chExt cx="280800" cy="281160"/>
            </a:xfrm>
          </p:grpSpPr>
          <p:sp>
            <p:nvSpPr>
              <p:cNvPr id="505" name="Oval 6"/>
              <p:cNvSpPr/>
              <p:nvPr/>
            </p:nvSpPr>
            <p:spPr>
              <a:xfrm rot="10200">
                <a:off x="7314480" y="4698360"/>
                <a:ext cx="280080" cy="28044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组合 42"/>
              <p:cNvGrpSpPr/>
              <p:nvPr/>
            </p:nvGrpSpPr>
            <p:grpSpPr>
              <a:xfrm>
                <a:off x="7347600" y="4731480"/>
                <a:ext cx="214200" cy="213480"/>
                <a:chOff x="7347600" y="4731480"/>
                <a:chExt cx="214200" cy="213480"/>
              </a:xfrm>
            </p:grpSpPr>
            <p:sp>
              <p:nvSpPr>
                <p:cNvPr id="507" name="Freeform 8"/>
                <p:cNvSpPr/>
                <p:nvPr/>
              </p:nvSpPr>
              <p:spPr>
                <a:xfrm rot="10200">
                  <a:off x="7425720" y="473148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9"/>
                <p:cNvSpPr/>
                <p:nvPr/>
              </p:nvSpPr>
              <p:spPr>
                <a:xfrm rot="10200">
                  <a:off x="7347960" y="478944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10"/>
                <p:cNvSpPr/>
                <p:nvPr/>
              </p:nvSpPr>
              <p:spPr>
                <a:xfrm rot="10200">
                  <a:off x="7376040" y="473940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11"/>
                <p:cNvSpPr/>
                <p:nvPr/>
              </p:nvSpPr>
              <p:spPr>
                <a:xfrm rot="10200">
                  <a:off x="7468200" y="473184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12"/>
                <p:cNvSpPr/>
                <p:nvPr/>
              </p:nvSpPr>
              <p:spPr>
                <a:xfrm rot="10200">
                  <a:off x="7516440" y="479016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13"/>
                <p:cNvSpPr/>
                <p:nvPr/>
              </p:nvSpPr>
              <p:spPr>
                <a:xfrm rot="10200">
                  <a:off x="7499160" y="4739760"/>
                  <a:ext cx="39240" cy="291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4"/>
                <p:cNvSpPr/>
                <p:nvPr/>
              </p:nvSpPr>
              <p:spPr>
                <a:xfrm rot="10200">
                  <a:off x="7422120" y="490788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15"/>
                <p:cNvSpPr/>
                <p:nvPr/>
              </p:nvSpPr>
              <p:spPr>
                <a:xfrm rot="10200">
                  <a:off x="7347240" y="484848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6"/>
                <p:cNvSpPr/>
                <p:nvPr/>
              </p:nvSpPr>
              <p:spPr>
                <a:xfrm rot="10200">
                  <a:off x="7372440" y="4907880"/>
                  <a:ext cx="39600" cy="288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17"/>
                <p:cNvSpPr/>
                <p:nvPr/>
              </p:nvSpPr>
              <p:spPr>
                <a:xfrm rot="10200">
                  <a:off x="7464240" y="490824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18"/>
                <p:cNvSpPr/>
                <p:nvPr/>
              </p:nvSpPr>
              <p:spPr>
                <a:xfrm rot="10200">
                  <a:off x="7515720" y="484920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19"/>
                <p:cNvSpPr/>
                <p:nvPr/>
              </p:nvSpPr>
              <p:spPr>
                <a:xfrm rot="10200">
                  <a:off x="7495920" y="4908240"/>
                  <a:ext cx="39240" cy="288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21"/>
                <p:cNvSpPr/>
                <p:nvPr/>
              </p:nvSpPr>
              <p:spPr>
                <a:xfrm rot="10200">
                  <a:off x="7405200" y="4789440"/>
                  <a:ext cx="103680" cy="9612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0" name="组合 57"/>
          <p:cNvGrpSpPr/>
          <p:nvPr/>
        </p:nvGrpSpPr>
        <p:grpSpPr>
          <a:xfrm>
            <a:off x="2097720" y="4448880"/>
            <a:ext cx="147960" cy="147960"/>
            <a:chOff x="2097720" y="4448880"/>
            <a:chExt cx="147960" cy="147960"/>
          </a:xfrm>
        </p:grpSpPr>
        <p:sp>
          <p:nvSpPr>
            <p:cNvPr id="521" name="椭圆 58"/>
            <p:cNvSpPr/>
            <p:nvPr/>
          </p:nvSpPr>
          <p:spPr>
            <a:xfrm rot="21300000">
              <a:off x="2103120" y="4454280"/>
              <a:ext cx="136440" cy="136440"/>
            </a:xfrm>
            <a:prstGeom prst="ellipse">
              <a:avLst/>
            </a:prstGeom>
            <a:solidFill>
              <a:srgbClr val="cd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59"/>
            <p:cNvSpPr/>
            <p:nvPr/>
          </p:nvSpPr>
          <p:spPr>
            <a:xfrm rot="21300000">
              <a:off x="2155320" y="4493160"/>
              <a:ext cx="32040" cy="58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57250" h="1571625">
                  <a:moveTo>
                    <a:pt x="66675" y="0"/>
                  </a:moveTo>
                  <a:lnTo>
                    <a:pt x="857250" y="790575"/>
                  </a:lnTo>
                  <a:lnTo>
                    <a:pt x="0" y="15716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Freeform 6"/>
          <p:cNvSpPr/>
          <p:nvPr/>
        </p:nvSpPr>
        <p:spPr>
          <a:xfrm>
            <a:off x="-4680" y="-11160"/>
            <a:ext cx="1689120" cy="4399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0004" h="10000">
                <a:moveTo>
                  <a:pt x="0" y="1316"/>
                </a:moveTo>
                <a:lnTo>
                  <a:pt x="6570" y="1316"/>
                </a:lnTo>
                <a:cubicBezTo>
                  <a:pt x="6595" y="877"/>
                  <a:pt x="6619" y="439"/>
                  <a:pt x="6643" y="0"/>
                </a:cubicBezTo>
                <a:lnTo>
                  <a:pt x="7643" y="526"/>
                </a:lnTo>
                <a:lnTo>
                  <a:pt x="7643" y="1053"/>
                </a:lnTo>
                <a:cubicBezTo>
                  <a:pt x="7643" y="1053"/>
                  <a:pt x="8857" y="-263"/>
                  <a:pt x="9857" y="1316"/>
                </a:cubicBezTo>
                <a:cubicBezTo>
                  <a:pt x="9857" y="1316"/>
                  <a:pt x="10000" y="2368"/>
                  <a:pt x="9643" y="2105"/>
                </a:cubicBezTo>
                <a:cubicBezTo>
                  <a:pt x="9643" y="2105"/>
                  <a:pt x="8989" y="1550"/>
                  <a:pt x="8929" y="1579"/>
                </a:cubicBezTo>
                <a:cubicBezTo>
                  <a:pt x="8869" y="1608"/>
                  <a:pt x="8801" y="1708"/>
                  <a:pt x="9285" y="2279"/>
                </a:cubicBezTo>
                <a:cubicBezTo>
                  <a:pt x="9285" y="2279"/>
                  <a:pt x="10073" y="2868"/>
                  <a:pt x="10000" y="3684"/>
                </a:cubicBezTo>
                <a:cubicBezTo>
                  <a:pt x="9979" y="3920"/>
                  <a:pt x="10000" y="4211"/>
                  <a:pt x="9500" y="3684"/>
                </a:cubicBezTo>
                <a:cubicBezTo>
                  <a:pt x="9500" y="3684"/>
                  <a:pt x="9143" y="2895"/>
                  <a:pt x="9000" y="3158"/>
                </a:cubicBezTo>
                <a:cubicBezTo>
                  <a:pt x="8857" y="3421"/>
                  <a:pt x="9222" y="3706"/>
                  <a:pt x="9357" y="3947"/>
                </a:cubicBezTo>
                <a:cubicBezTo>
                  <a:pt x="9492" y="4188"/>
                  <a:pt x="10038" y="4591"/>
                  <a:pt x="10000" y="5789"/>
                </a:cubicBezTo>
                <a:cubicBezTo>
                  <a:pt x="10000" y="5789"/>
                  <a:pt x="9931" y="6853"/>
                  <a:pt x="9643" y="6053"/>
                </a:cubicBezTo>
                <a:cubicBezTo>
                  <a:pt x="9355" y="5253"/>
                  <a:pt x="9071" y="4211"/>
                  <a:pt x="9000" y="4737"/>
                </a:cubicBezTo>
                <a:cubicBezTo>
                  <a:pt x="9000" y="4737"/>
                  <a:pt x="9429" y="5789"/>
                  <a:pt x="9285" y="7895"/>
                </a:cubicBezTo>
                <a:cubicBezTo>
                  <a:pt x="9285" y="7895"/>
                  <a:pt x="9143" y="10000"/>
                  <a:pt x="8786" y="10000"/>
                </a:cubicBezTo>
                <a:cubicBezTo>
                  <a:pt x="8786" y="10000"/>
                  <a:pt x="8429" y="10000"/>
                  <a:pt x="8571" y="8947"/>
                </a:cubicBezTo>
                <a:cubicBezTo>
                  <a:pt x="8571" y="8947"/>
                  <a:pt x="9285" y="6842"/>
                  <a:pt x="8714" y="5526"/>
                </a:cubicBezTo>
                <a:cubicBezTo>
                  <a:pt x="8714" y="5526"/>
                  <a:pt x="8143" y="4737"/>
                  <a:pt x="7929" y="7105"/>
                </a:cubicBezTo>
                <a:cubicBezTo>
                  <a:pt x="7929" y="7105"/>
                  <a:pt x="8083" y="8595"/>
                  <a:pt x="8214" y="8421"/>
                </a:cubicBezTo>
                <a:cubicBezTo>
                  <a:pt x="8345" y="8247"/>
                  <a:pt x="8357" y="10263"/>
                  <a:pt x="7929" y="9211"/>
                </a:cubicBezTo>
                <a:cubicBezTo>
                  <a:pt x="7929" y="9211"/>
                  <a:pt x="7643" y="8684"/>
                  <a:pt x="7643" y="7105"/>
                </a:cubicBezTo>
                <a:lnTo>
                  <a:pt x="6786" y="7632"/>
                </a:lnTo>
                <a:cubicBezTo>
                  <a:pt x="6762" y="7193"/>
                  <a:pt x="6737" y="6431"/>
                  <a:pt x="6714" y="5992"/>
                </a:cubicBezTo>
                <a:lnTo>
                  <a:pt x="9" y="6053"/>
                </a:lnTo>
                <a:lnTo>
                  <a:pt x="0" y="1316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直接连接符 10"/>
          <p:cNvSpPr/>
          <p:nvPr/>
        </p:nvSpPr>
        <p:spPr>
          <a:xfrm>
            <a:off x="7478640" y="0"/>
            <a:ext cx="0" cy="254160"/>
          </a:xfrm>
          <a:prstGeom prst="line">
            <a:avLst/>
          </a:prstGeom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527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559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椭圆 2"/>
          <p:cNvSpPr/>
          <p:nvPr/>
        </p:nvSpPr>
        <p:spPr>
          <a:xfrm rot="10800000">
            <a:off x="6945480" y="2928600"/>
            <a:ext cx="922320" cy="754200"/>
          </a:xfrm>
          <a:custGeom>
            <a:avLst/>
            <a:gdLst>
              <a:gd name="textAreaLeft" fmla="*/ 0 w 922320"/>
              <a:gd name="textAreaRight" fmla="*/ 922680 w 9223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1"/>
          <p:cNvSpPr/>
          <p:nvPr/>
        </p:nvSpPr>
        <p:spPr>
          <a:xfrm>
            <a:off x="7280280" y="3067200"/>
            <a:ext cx="455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圆角矩形 65"/>
          <p:cNvSpPr/>
          <p:nvPr/>
        </p:nvSpPr>
        <p:spPr>
          <a:xfrm rot="10800000">
            <a:off x="4135320" y="3085920"/>
            <a:ext cx="2756160" cy="471240"/>
          </a:xfrm>
          <a:custGeom>
            <a:avLst/>
            <a:gdLst>
              <a:gd name="textAreaLeft" fmla="*/ 0 w 2756160"/>
              <a:gd name="textAreaRight" fmla="*/ 2756520 w 275616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2880223" h="492200">
                <a:moveTo>
                  <a:pt x="2880223" y="492200"/>
                </a:moveTo>
                <a:lnTo>
                  <a:pt x="1621044" y="492200"/>
                </a:lnTo>
                <a:lnTo>
                  <a:pt x="104742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4" y="0"/>
                </a:lnTo>
                <a:lnTo>
                  <a:pt x="1621044" y="0"/>
                </a:lnTo>
                <a:lnTo>
                  <a:pt x="2880223" y="0"/>
                </a:lnTo>
                <a:lnTo>
                  <a:pt x="2880223" y="492200"/>
                </a:lnTo>
                <a:close/>
              </a:path>
            </a:pathLst>
          </a:cu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4091040" y="3098880"/>
            <a:ext cx="252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避免关键时刻网银系统繁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时哭晕都没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"/>
          <p:cNvSpPr/>
          <p:nvPr/>
        </p:nvSpPr>
        <p:spPr>
          <a:xfrm>
            <a:off x="1333440" y="1281240"/>
            <a:ext cx="924120" cy="753840"/>
          </a:xfrm>
          <a:custGeom>
            <a:avLst/>
            <a:gdLst>
              <a:gd name="textAreaLeft" fmla="*/ 0 w 924120"/>
              <a:gd name="textAreaRight" fmla="*/ 924480 w 92412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3"/>
          <p:cNvSpPr/>
          <p:nvPr/>
        </p:nvSpPr>
        <p:spPr>
          <a:xfrm>
            <a:off x="1479600" y="15192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清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4"/>
          <p:cNvSpPr/>
          <p:nvPr/>
        </p:nvSpPr>
        <p:spPr>
          <a:xfrm>
            <a:off x="1945440" y="105408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防被坑是终身的命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15"/>
          <p:cNvSpPr/>
          <p:nvPr/>
        </p:nvSpPr>
        <p:spPr>
          <a:xfrm>
            <a:off x="2322360" y="1414440"/>
            <a:ext cx="3530880" cy="471600"/>
          </a:xfrm>
          <a:custGeom>
            <a:avLst/>
            <a:gdLst>
              <a:gd name="textAreaLeft" fmla="*/ 0 w 3530880"/>
              <a:gd name="textAreaRight" fmla="*/ 3531240 w 35308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688747" h="492200">
                <a:moveTo>
                  <a:pt x="246100" y="0"/>
                </a:moveTo>
                <a:lnTo>
                  <a:pt x="1568164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56816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8"/>
          <p:cNvSpPr/>
          <p:nvPr/>
        </p:nvSpPr>
        <p:spPr>
          <a:xfrm>
            <a:off x="2583000" y="1419120"/>
            <a:ext cx="340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想入手的东西的价格提前用笔记下来，看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真便宜还是商家先提价了再降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"/>
          <p:cNvSpPr/>
          <p:nvPr/>
        </p:nvSpPr>
        <p:spPr>
          <a:xfrm>
            <a:off x="1333440" y="2398680"/>
            <a:ext cx="924120" cy="754200"/>
          </a:xfrm>
          <a:custGeom>
            <a:avLst/>
            <a:gdLst>
              <a:gd name="textAreaLeft" fmla="*/ 0 w 924120"/>
              <a:gd name="textAreaRight" fmla="*/ 924480 w 9241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25"/>
          <p:cNvSpPr/>
          <p:nvPr/>
        </p:nvSpPr>
        <p:spPr>
          <a:xfrm>
            <a:off x="1525320" y="2533680"/>
            <a:ext cx="363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扫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6"/>
          <p:cNvSpPr/>
          <p:nvPr/>
        </p:nvSpPr>
        <p:spPr>
          <a:xfrm>
            <a:off x="1917000" y="22003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早起的鸟儿有虫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圆角矩形 29"/>
          <p:cNvSpPr/>
          <p:nvPr/>
        </p:nvSpPr>
        <p:spPr>
          <a:xfrm>
            <a:off x="2314440" y="2529000"/>
            <a:ext cx="3529080" cy="4712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3688747" h="492200">
                <a:moveTo>
                  <a:pt x="246100" y="0"/>
                </a:moveTo>
                <a:lnTo>
                  <a:pt x="1047422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047422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8"/>
          <p:cNvSpPr/>
          <p:nvPr/>
        </p:nvSpPr>
        <p:spPr>
          <a:xfrm>
            <a:off x="2575080" y="255096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前收藏，提前加入购物车；避免看中的宝贝被抢购一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2"/>
          <p:cNvSpPr/>
          <p:nvPr/>
        </p:nvSpPr>
        <p:spPr>
          <a:xfrm>
            <a:off x="1333440" y="3516480"/>
            <a:ext cx="924120" cy="753840"/>
          </a:xfrm>
          <a:custGeom>
            <a:avLst/>
            <a:gdLst>
              <a:gd name="textAreaLeft" fmla="*/ 0 w 924120"/>
              <a:gd name="textAreaRight" fmla="*/ 924480 w 92412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4"/>
          <p:cNvSpPr/>
          <p:nvPr/>
        </p:nvSpPr>
        <p:spPr>
          <a:xfrm>
            <a:off x="1525320" y="3662280"/>
            <a:ext cx="363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5"/>
          <p:cNvSpPr/>
          <p:nvPr/>
        </p:nvSpPr>
        <p:spPr>
          <a:xfrm>
            <a:off x="2062800" y="33051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先拍省得多的，再拍省得少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圆角矩形 38"/>
          <p:cNvSpPr/>
          <p:nvPr/>
        </p:nvSpPr>
        <p:spPr>
          <a:xfrm>
            <a:off x="2301840" y="3643200"/>
            <a:ext cx="3529080" cy="47160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688747" h="492200">
                <a:moveTo>
                  <a:pt x="246100" y="0"/>
                </a:moveTo>
                <a:lnTo>
                  <a:pt x="1047422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047422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37"/>
          <p:cNvSpPr/>
          <p:nvPr/>
        </p:nvSpPr>
        <p:spPr>
          <a:xfrm>
            <a:off x="2562120" y="3646440"/>
            <a:ext cx="366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拍急需的，再拍备用的；先拍库存少的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拍库存多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2"/>
          <p:cNvSpPr/>
          <p:nvPr/>
        </p:nvSpPr>
        <p:spPr>
          <a:xfrm rot="10800000">
            <a:off x="6945480" y="1814040"/>
            <a:ext cx="922320" cy="752760"/>
          </a:xfrm>
          <a:custGeom>
            <a:avLst/>
            <a:gdLst>
              <a:gd name="textAreaLeft" fmla="*/ 0 w 922320"/>
              <a:gd name="textAreaRight" fmla="*/ 922680 w 922320"/>
              <a:gd name="textAreaTop" fmla="*/ 0 h 752760"/>
              <a:gd name="textAreaBottom" fmla="*/ 753120 h 75276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52"/>
          <p:cNvSpPr/>
          <p:nvPr/>
        </p:nvSpPr>
        <p:spPr>
          <a:xfrm>
            <a:off x="7326000" y="1959120"/>
            <a:ext cx="363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囤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惠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53"/>
          <p:cNvSpPr/>
          <p:nvPr/>
        </p:nvSpPr>
        <p:spPr>
          <a:xfrm>
            <a:off x="6203160" y="1405080"/>
            <a:ext cx="10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面值大，面值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甭管有用没用，囤了再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圆角矩形 56"/>
          <p:cNvSpPr/>
          <p:nvPr/>
        </p:nvSpPr>
        <p:spPr>
          <a:xfrm rot="10800000">
            <a:off x="4135320" y="1971720"/>
            <a:ext cx="2756160" cy="471600"/>
          </a:xfrm>
          <a:custGeom>
            <a:avLst/>
            <a:gdLst>
              <a:gd name="textAreaLeft" fmla="*/ 0 w 2756160"/>
              <a:gd name="textAreaRight" fmla="*/ 2756520 w 27561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880222" h="492200">
                <a:moveTo>
                  <a:pt x="2880222" y="492200"/>
                </a:moveTo>
                <a:lnTo>
                  <a:pt x="1621044" y="492200"/>
                </a:lnTo>
                <a:lnTo>
                  <a:pt x="104742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4" y="0"/>
                </a:lnTo>
                <a:lnTo>
                  <a:pt x="1621044" y="0"/>
                </a:lnTo>
                <a:lnTo>
                  <a:pt x="2880222" y="0"/>
                </a:lnTo>
                <a:lnTo>
                  <a:pt x="2880222" y="492200"/>
                </a:lnTo>
                <a:close/>
              </a:path>
            </a:pathLst>
          </a:cu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55"/>
          <p:cNvSpPr/>
          <p:nvPr/>
        </p:nvSpPr>
        <p:spPr>
          <a:xfrm>
            <a:off x="4251240" y="20480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是提前弄清如何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2"/>
          <p:cNvSpPr/>
          <p:nvPr/>
        </p:nvSpPr>
        <p:spPr>
          <a:xfrm rot="10800000">
            <a:off x="6945480" y="4044960"/>
            <a:ext cx="922320" cy="752400"/>
          </a:xfrm>
          <a:custGeom>
            <a:avLst/>
            <a:gdLst>
              <a:gd name="textAreaLeft" fmla="*/ 0 w 922320"/>
              <a:gd name="textAreaRight" fmla="*/ 922680 w 9223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ef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70"/>
          <p:cNvSpPr/>
          <p:nvPr/>
        </p:nvSpPr>
        <p:spPr>
          <a:xfrm>
            <a:off x="7326000" y="4191120"/>
            <a:ext cx="363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71"/>
          <p:cNvSpPr/>
          <p:nvPr/>
        </p:nvSpPr>
        <p:spPr>
          <a:xfrm>
            <a:off x="6624720" y="36878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充分利用男朋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94429"/>
                </a:solidFill>
                <a:latin typeface="微软雅黑"/>
                <a:ea typeface="微软雅黑"/>
              </a:rPr>
              <a:t>跟老公等资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圆角矩形 74"/>
          <p:cNvSpPr/>
          <p:nvPr/>
        </p:nvSpPr>
        <p:spPr>
          <a:xfrm rot="10800000">
            <a:off x="4135320" y="4200480"/>
            <a:ext cx="2756160" cy="471600"/>
          </a:xfrm>
          <a:custGeom>
            <a:avLst/>
            <a:gdLst>
              <a:gd name="textAreaLeft" fmla="*/ 0 w 2756160"/>
              <a:gd name="textAreaRight" fmla="*/ 2756520 w 27561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880223" h="492200">
                <a:moveTo>
                  <a:pt x="2880223" y="492200"/>
                </a:moveTo>
                <a:lnTo>
                  <a:pt x="1621043" y="492200"/>
                </a:lnTo>
                <a:lnTo>
                  <a:pt x="1047423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3" y="0"/>
                </a:lnTo>
                <a:lnTo>
                  <a:pt x="1621043" y="0"/>
                </a:lnTo>
                <a:lnTo>
                  <a:pt x="2880223" y="0"/>
                </a:lnTo>
                <a:lnTo>
                  <a:pt x="2880223" y="492200"/>
                </a:lnTo>
                <a:close/>
              </a:path>
            </a:pathLst>
          </a:cu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73"/>
          <p:cNvSpPr/>
          <p:nvPr/>
        </p:nvSpPr>
        <p:spPr>
          <a:xfrm>
            <a:off x="3832200" y="4214880"/>
            <a:ext cx="27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当合理的撒娇卖萌比限时抢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靠谱得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78"/>
          <p:cNvSpPr/>
          <p:nvPr/>
        </p:nvSpPr>
        <p:spPr>
          <a:xfrm>
            <a:off x="900360" y="1454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79"/>
          <p:cNvSpPr/>
          <p:nvPr/>
        </p:nvSpPr>
        <p:spPr>
          <a:xfrm>
            <a:off x="900360" y="263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80"/>
          <p:cNvSpPr/>
          <p:nvPr/>
        </p:nvSpPr>
        <p:spPr>
          <a:xfrm>
            <a:off x="900360" y="3703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81"/>
          <p:cNvSpPr/>
          <p:nvPr/>
        </p:nvSpPr>
        <p:spPr>
          <a:xfrm>
            <a:off x="8031600" y="1992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82"/>
          <p:cNvSpPr/>
          <p:nvPr/>
        </p:nvSpPr>
        <p:spPr>
          <a:xfrm>
            <a:off x="8031600" y="3168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83"/>
          <p:cNvSpPr/>
          <p:nvPr/>
        </p:nvSpPr>
        <p:spPr>
          <a:xfrm>
            <a:off x="8031600" y="4241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2070"/>
          <p:cNvGrpSpPr/>
          <p:nvPr/>
        </p:nvGrpSpPr>
        <p:grpSpPr>
          <a:xfrm>
            <a:off x="1225440" y="1182240"/>
            <a:ext cx="947880" cy="3187800"/>
            <a:chOff x="1225440" y="1182240"/>
            <a:chExt cx="947880" cy="3187800"/>
          </a:xfrm>
        </p:grpSpPr>
        <p:sp>
          <p:nvSpPr>
            <p:cNvPr id="609" name="空心弧 12"/>
            <p:cNvSpPr/>
            <p:nvPr/>
          </p:nvSpPr>
          <p:spPr>
            <a:xfrm rot="16200000">
              <a:off x="1225800" y="1181880"/>
              <a:ext cx="947160" cy="94788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947880"/>
                <a:gd name="textAreaBottom" fmla="*/ 338400 h 9478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0" y="10800"/>
                  </a:moveTo>
                  <a:cubicBezTo>
                    <a:pt x="1000" y="5387"/>
                    <a:pt x="5387" y="1000"/>
                    <a:pt x="10800" y="1000"/>
                  </a:cubicBezTo>
                  <a:cubicBezTo>
                    <a:pt x="16212" y="1000"/>
                    <a:pt x="20600" y="5387"/>
                    <a:pt x="206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0" y="10800"/>
                  </a:lnTo>
                  <a:close/>
                </a:path>
              </a:pathLst>
            </a:cu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空心弧 116"/>
            <p:cNvSpPr/>
            <p:nvPr/>
          </p:nvSpPr>
          <p:spPr>
            <a:xfrm rot="16200000">
              <a:off x="1225800" y="2299320"/>
              <a:ext cx="947160" cy="94788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947880"/>
                <a:gd name="textAreaBottom" fmla="*/ 338400 h 9478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0" y="10800"/>
                  </a:moveTo>
                  <a:cubicBezTo>
                    <a:pt x="1000" y="5387"/>
                    <a:pt x="5387" y="1000"/>
                    <a:pt x="10800" y="1000"/>
                  </a:cubicBezTo>
                  <a:cubicBezTo>
                    <a:pt x="16212" y="1000"/>
                    <a:pt x="20600" y="5387"/>
                    <a:pt x="206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0" y="10800"/>
                  </a:lnTo>
                  <a:close/>
                </a:path>
              </a:pathLst>
            </a:cu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空心弧 118"/>
            <p:cNvSpPr/>
            <p:nvPr/>
          </p:nvSpPr>
          <p:spPr>
            <a:xfrm rot="16200000">
              <a:off x="1225800" y="3422520"/>
              <a:ext cx="947160" cy="94788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947880"/>
                <a:gd name="textAreaBottom" fmla="*/ 338400 h 9478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0" y="10800"/>
                  </a:moveTo>
                  <a:cubicBezTo>
                    <a:pt x="1000" y="5387"/>
                    <a:pt x="5387" y="1000"/>
                    <a:pt x="10800" y="1000"/>
                  </a:cubicBezTo>
                  <a:cubicBezTo>
                    <a:pt x="16212" y="1000"/>
                    <a:pt x="20600" y="5387"/>
                    <a:pt x="206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0" y="10800"/>
                  </a:lnTo>
                  <a:close/>
                </a:path>
              </a:pathLst>
            </a:cu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124"/>
          <p:cNvGrpSpPr/>
          <p:nvPr/>
        </p:nvGrpSpPr>
        <p:grpSpPr>
          <a:xfrm>
            <a:off x="7033680" y="1729080"/>
            <a:ext cx="947880" cy="3175200"/>
            <a:chOff x="7033680" y="1729080"/>
            <a:chExt cx="947880" cy="3175200"/>
          </a:xfrm>
        </p:grpSpPr>
        <p:sp>
          <p:nvSpPr>
            <p:cNvPr id="613" name="空心弧 125"/>
            <p:cNvSpPr/>
            <p:nvPr/>
          </p:nvSpPr>
          <p:spPr>
            <a:xfrm rot="5400000">
              <a:off x="7034040" y="3956760"/>
              <a:ext cx="947160" cy="94788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947880"/>
                <a:gd name="textAreaBottom" fmla="*/ 338400 h 9478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0" y="10800"/>
                  </a:moveTo>
                  <a:cubicBezTo>
                    <a:pt x="1000" y="5387"/>
                    <a:pt x="5387" y="1000"/>
                    <a:pt x="10800" y="1000"/>
                  </a:cubicBezTo>
                  <a:cubicBezTo>
                    <a:pt x="16212" y="1000"/>
                    <a:pt x="20600" y="5387"/>
                    <a:pt x="206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0" y="10800"/>
                  </a:lnTo>
                  <a:close/>
                </a:path>
              </a:pathLst>
            </a:cu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空心弧 126"/>
            <p:cNvSpPr/>
            <p:nvPr/>
          </p:nvSpPr>
          <p:spPr>
            <a:xfrm rot="5400000">
              <a:off x="7034040" y="2833560"/>
              <a:ext cx="947160" cy="94788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947880"/>
                <a:gd name="textAreaBottom" fmla="*/ 338400 h 9478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0" y="10800"/>
                  </a:moveTo>
                  <a:cubicBezTo>
                    <a:pt x="1000" y="5387"/>
                    <a:pt x="5387" y="1000"/>
                    <a:pt x="10800" y="1000"/>
                  </a:cubicBezTo>
                  <a:cubicBezTo>
                    <a:pt x="16212" y="1000"/>
                    <a:pt x="20600" y="5387"/>
                    <a:pt x="206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0" y="10800"/>
                  </a:lnTo>
                  <a:close/>
                </a:path>
              </a:pathLst>
            </a:cu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空心弧 127"/>
            <p:cNvSpPr/>
            <p:nvPr/>
          </p:nvSpPr>
          <p:spPr>
            <a:xfrm rot="5400000">
              <a:off x="7034040" y="1728720"/>
              <a:ext cx="947160" cy="94788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947880"/>
                <a:gd name="textAreaBottom" fmla="*/ 338400 h 94788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0" y="10800"/>
                  </a:moveTo>
                  <a:cubicBezTo>
                    <a:pt x="1000" y="5387"/>
                    <a:pt x="5387" y="1000"/>
                    <a:pt x="10800" y="1000"/>
                  </a:cubicBezTo>
                  <a:cubicBezTo>
                    <a:pt x="16212" y="1000"/>
                    <a:pt x="20600" y="5387"/>
                    <a:pt x="206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0" y="10800"/>
                  </a:lnTo>
                  <a:close/>
                </a:path>
              </a:pathLst>
            </a:custGeom>
            <a:solidFill>
              <a:srgbClr val="93895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140"/>
          <p:cNvGrpSpPr/>
          <p:nvPr/>
        </p:nvGrpSpPr>
        <p:grpSpPr>
          <a:xfrm>
            <a:off x="1341360" y="257040"/>
            <a:ext cx="6505560" cy="540000"/>
            <a:chOff x="1341360" y="257040"/>
            <a:chExt cx="6505560" cy="540000"/>
          </a:xfrm>
        </p:grpSpPr>
        <p:sp>
          <p:nvSpPr>
            <p:cNvPr id="617" name="等腰三角形 141"/>
            <p:cNvSpPr/>
            <p:nvPr/>
          </p:nvSpPr>
          <p:spPr>
            <a:xfrm>
              <a:off x="1341360" y="261720"/>
              <a:ext cx="335880" cy="185760"/>
            </a:xfrm>
            <a:prstGeom prst="triangle">
              <a:avLst>
                <a:gd name="adj" fmla="val 50000"/>
              </a:avLst>
            </a:prstGeom>
            <a:solidFill>
              <a:srgbClr val="953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组合 142"/>
            <p:cNvGrpSpPr/>
            <p:nvPr/>
          </p:nvGrpSpPr>
          <p:grpSpPr>
            <a:xfrm>
              <a:off x="1490400" y="257040"/>
              <a:ext cx="6356520" cy="540000"/>
              <a:chOff x="1490400" y="257040"/>
              <a:chExt cx="6356520" cy="540000"/>
            </a:xfrm>
          </p:grpSpPr>
          <p:sp>
            <p:nvSpPr>
              <p:cNvPr id="619" name="等腰三角形 143"/>
              <p:cNvSpPr/>
              <p:nvPr/>
            </p:nvSpPr>
            <p:spPr>
              <a:xfrm>
                <a:off x="7459200" y="257040"/>
                <a:ext cx="387720" cy="185760"/>
              </a:xfrm>
              <a:prstGeom prst="triangle">
                <a:avLst>
                  <a:gd name="adj" fmla="val 50000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 144"/>
              <p:cNvSpPr/>
              <p:nvPr/>
            </p:nvSpPr>
            <p:spPr>
              <a:xfrm>
                <a:off x="1490400" y="257040"/>
                <a:ext cx="6164280" cy="540000"/>
              </a:xfrm>
              <a:custGeom>
                <a:avLst/>
                <a:gdLst>
                  <a:gd name="textAreaLeft" fmla="*/ 0 w 6164280"/>
                  <a:gd name="textAreaRight" fmla="*/ 6164640 w 616428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2910840" h="457200">
                    <a:moveTo>
                      <a:pt x="0" y="0"/>
                    </a:moveTo>
                    <a:lnTo>
                      <a:pt x="251460" y="457200"/>
                    </a:lnTo>
                    <a:lnTo>
                      <a:pt x="2659380" y="449580"/>
                    </a:lnTo>
                    <a:lnTo>
                      <a:pt x="29108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1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1" name="任意多边形 2072"/>
          <p:cNvSpPr/>
          <p:nvPr/>
        </p:nvSpPr>
        <p:spPr>
          <a:xfrm>
            <a:off x="571680" y="441360"/>
            <a:ext cx="6591240" cy="4714920"/>
          </a:xfrm>
          <a:custGeom>
            <a:avLst/>
            <a:gdLst>
              <a:gd name="textAreaLeft" fmla="*/ 0 w 6591240"/>
              <a:gd name="textAreaRight" fmla="*/ 6591600 w 6591240"/>
              <a:gd name="textAreaTop" fmla="*/ 0 h 4714920"/>
              <a:gd name="textAreaBottom" fmla="*/ 4715280 h 4714920"/>
            </a:gdLst>
            <a:ahLst/>
            <a:rect l="textAreaLeft" t="textAreaTop" r="textAreaRight" b="textAreaBottom"/>
            <a:pathLst>
              <a:path w="6591300" h="4711700">
                <a:moveTo>
                  <a:pt x="787400" y="0"/>
                </a:moveTo>
                <a:lnTo>
                  <a:pt x="0" y="0"/>
                </a:lnTo>
                <a:lnTo>
                  <a:pt x="0" y="4038600"/>
                </a:lnTo>
                <a:lnTo>
                  <a:pt x="3479800" y="4038600"/>
                </a:lnTo>
                <a:lnTo>
                  <a:pt x="3479800" y="4330700"/>
                </a:lnTo>
                <a:lnTo>
                  <a:pt x="6083300" y="4330700"/>
                </a:lnTo>
                <a:lnTo>
                  <a:pt x="6591300" y="4330700"/>
                </a:lnTo>
                <a:lnTo>
                  <a:pt x="6591300" y="4711700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149"/>
          <p:cNvSpPr/>
          <p:nvPr/>
        </p:nvSpPr>
        <p:spPr>
          <a:xfrm>
            <a:off x="2432160" y="2602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十一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购六大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3"/>
          <p:cNvGrpSpPr/>
          <p:nvPr/>
        </p:nvGrpSpPr>
        <p:grpSpPr>
          <a:xfrm>
            <a:off x="2378160" y="1539720"/>
            <a:ext cx="180720" cy="2428920"/>
            <a:chOff x="2378160" y="1539720"/>
            <a:chExt cx="180720" cy="2428920"/>
          </a:xfrm>
        </p:grpSpPr>
        <p:grpSp>
          <p:nvGrpSpPr>
            <p:cNvPr id="624" name="组合 54"/>
            <p:cNvGrpSpPr/>
            <p:nvPr/>
          </p:nvGrpSpPr>
          <p:grpSpPr>
            <a:xfrm>
              <a:off x="2378160" y="1539720"/>
              <a:ext cx="180720" cy="180360"/>
              <a:chOff x="2378160" y="1539720"/>
              <a:chExt cx="180720" cy="180360"/>
            </a:xfrm>
          </p:grpSpPr>
          <p:sp>
            <p:nvSpPr>
              <p:cNvPr id="625" name="椭圆 57"/>
              <p:cNvSpPr/>
              <p:nvPr/>
            </p:nvSpPr>
            <p:spPr>
              <a:xfrm>
                <a:off x="2378160" y="1539720"/>
                <a:ext cx="180720" cy="18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 58"/>
              <p:cNvSpPr/>
              <p:nvPr/>
            </p:nvSpPr>
            <p:spPr>
              <a:xfrm>
                <a:off x="2447280" y="1590840"/>
                <a:ext cx="42480" cy="77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7250" h="1571625">
                    <a:moveTo>
                      <a:pt x="66675" y="0"/>
                    </a:moveTo>
                    <a:lnTo>
                      <a:pt x="857250" y="790575"/>
                    </a:lnTo>
                    <a:lnTo>
                      <a:pt x="0" y="1571625"/>
                    </a:lnTo>
                  </a:path>
                </a:pathLst>
              </a:custGeom>
              <a:solidFill>
                <a:srgbClr val="ef5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组合 60"/>
            <p:cNvGrpSpPr/>
            <p:nvPr/>
          </p:nvGrpSpPr>
          <p:grpSpPr>
            <a:xfrm>
              <a:off x="2378160" y="2669760"/>
              <a:ext cx="180720" cy="180360"/>
              <a:chOff x="2378160" y="2669760"/>
              <a:chExt cx="180720" cy="180360"/>
            </a:xfrm>
          </p:grpSpPr>
          <p:sp>
            <p:nvSpPr>
              <p:cNvPr id="628" name="椭圆 62"/>
              <p:cNvSpPr/>
              <p:nvPr/>
            </p:nvSpPr>
            <p:spPr>
              <a:xfrm>
                <a:off x="2378160" y="2669760"/>
                <a:ext cx="180720" cy="18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 63"/>
              <p:cNvSpPr/>
              <p:nvPr/>
            </p:nvSpPr>
            <p:spPr>
              <a:xfrm>
                <a:off x="2447280" y="2720880"/>
                <a:ext cx="42480" cy="77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7250" h="1571625">
                    <a:moveTo>
                      <a:pt x="66675" y="0"/>
                    </a:moveTo>
                    <a:lnTo>
                      <a:pt x="857250" y="790575"/>
                    </a:lnTo>
                    <a:lnTo>
                      <a:pt x="0" y="1571625"/>
                    </a:lnTo>
                  </a:path>
                </a:pathLst>
              </a:custGeom>
              <a:solidFill>
                <a:srgbClr val="ef5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组合 66"/>
            <p:cNvGrpSpPr/>
            <p:nvPr/>
          </p:nvGrpSpPr>
          <p:grpSpPr>
            <a:xfrm>
              <a:off x="2378160" y="3788280"/>
              <a:ext cx="180720" cy="180360"/>
              <a:chOff x="2378160" y="3788280"/>
              <a:chExt cx="180720" cy="180360"/>
            </a:xfrm>
          </p:grpSpPr>
          <p:sp>
            <p:nvSpPr>
              <p:cNvPr id="631" name="椭圆 67"/>
              <p:cNvSpPr/>
              <p:nvPr/>
            </p:nvSpPr>
            <p:spPr>
              <a:xfrm>
                <a:off x="2378160" y="3788280"/>
                <a:ext cx="180720" cy="18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69"/>
              <p:cNvSpPr/>
              <p:nvPr/>
            </p:nvSpPr>
            <p:spPr>
              <a:xfrm>
                <a:off x="2447280" y="3839400"/>
                <a:ext cx="42480" cy="77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7250" h="1571625">
                    <a:moveTo>
                      <a:pt x="66675" y="0"/>
                    </a:moveTo>
                    <a:lnTo>
                      <a:pt x="857250" y="790575"/>
                    </a:lnTo>
                    <a:lnTo>
                      <a:pt x="0" y="1571625"/>
                    </a:lnTo>
                  </a:path>
                </a:pathLst>
              </a:custGeom>
              <a:solidFill>
                <a:srgbClr val="ef5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组合 72"/>
          <p:cNvGrpSpPr/>
          <p:nvPr/>
        </p:nvGrpSpPr>
        <p:grpSpPr>
          <a:xfrm>
            <a:off x="6608880" y="2091960"/>
            <a:ext cx="179280" cy="2428920"/>
            <a:chOff x="6608880" y="2091960"/>
            <a:chExt cx="179280" cy="2428920"/>
          </a:xfrm>
        </p:grpSpPr>
        <p:grpSp>
          <p:nvGrpSpPr>
            <p:cNvPr id="634" name="组合 75"/>
            <p:cNvGrpSpPr/>
            <p:nvPr/>
          </p:nvGrpSpPr>
          <p:grpSpPr>
            <a:xfrm>
              <a:off x="6608880" y="4340520"/>
              <a:ext cx="179280" cy="180360"/>
              <a:chOff x="6608880" y="4340520"/>
              <a:chExt cx="179280" cy="180360"/>
            </a:xfrm>
          </p:grpSpPr>
          <p:sp>
            <p:nvSpPr>
              <p:cNvPr id="635" name="椭圆 88"/>
              <p:cNvSpPr/>
              <p:nvPr/>
            </p:nvSpPr>
            <p:spPr>
              <a:xfrm rot="10800000">
                <a:off x="6608880" y="4340520"/>
                <a:ext cx="179280" cy="18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 89"/>
              <p:cNvSpPr/>
              <p:nvPr/>
            </p:nvSpPr>
            <p:spPr>
              <a:xfrm rot="10800000">
                <a:off x="6677640" y="4392000"/>
                <a:ext cx="42120" cy="77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7250" h="1571625">
                    <a:moveTo>
                      <a:pt x="66675" y="0"/>
                    </a:moveTo>
                    <a:lnTo>
                      <a:pt x="857250" y="790575"/>
                    </a:lnTo>
                    <a:lnTo>
                      <a:pt x="0" y="1571625"/>
                    </a:lnTo>
                  </a:path>
                </a:pathLst>
              </a:custGeom>
              <a:solidFill>
                <a:srgbClr val="ef5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组合 76"/>
            <p:cNvGrpSpPr/>
            <p:nvPr/>
          </p:nvGrpSpPr>
          <p:grpSpPr>
            <a:xfrm>
              <a:off x="6608880" y="3210480"/>
              <a:ext cx="179280" cy="180360"/>
              <a:chOff x="6608880" y="3210480"/>
              <a:chExt cx="179280" cy="180360"/>
            </a:xfrm>
          </p:grpSpPr>
          <p:sp>
            <p:nvSpPr>
              <p:cNvPr id="638" name="椭圆 86"/>
              <p:cNvSpPr/>
              <p:nvPr/>
            </p:nvSpPr>
            <p:spPr>
              <a:xfrm rot="10800000">
                <a:off x="6608880" y="3210480"/>
                <a:ext cx="179280" cy="18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 87"/>
              <p:cNvSpPr/>
              <p:nvPr/>
            </p:nvSpPr>
            <p:spPr>
              <a:xfrm rot="10800000">
                <a:off x="6677640" y="3261960"/>
                <a:ext cx="42120" cy="77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7250" h="1571625">
                    <a:moveTo>
                      <a:pt x="66675" y="0"/>
                    </a:moveTo>
                    <a:lnTo>
                      <a:pt x="857250" y="790575"/>
                    </a:lnTo>
                    <a:lnTo>
                      <a:pt x="0" y="1571625"/>
                    </a:lnTo>
                  </a:path>
                </a:pathLst>
              </a:custGeom>
              <a:solidFill>
                <a:srgbClr val="ef5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77"/>
            <p:cNvGrpSpPr/>
            <p:nvPr/>
          </p:nvGrpSpPr>
          <p:grpSpPr>
            <a:xfrm>
              <a:off x="6608880" y="2091960"/>
              <a:ext cx="179280" cy="180360"/>
              <a:chOff x="6608880" y="2091960"/>
              <a:chExt cx="179280" cy="180360"/>
            </a:xfrm>
          </p:grpSpPr>
          <p:sp>
            <p:nvSpPr>
              <p:cNvPr id="641" name="椭圆 84"/>
              <p:cNvSpPr/>
              <p:nvPr/>
            </p:nvSpPr>
            <p:spPr>
              <a:xfrm rot="10800000">
                <a:off x="6608880" y="2091960"/>
                <a:ext cx="179280" cy="18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 85"/>
              <p:cNvSpPr/>
              <p:nvPr/>
            </p:nvSpPr>
            <p:spPr>
              <a:xfrm rot="10800000">
                <a:off x="6677640" y="2143440"/>
                <a:ext cx="42120" cy="777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7250" h="1571625">
                    <a:moveTo>
                      <a:pt x="66675" y="0"/>
                    </a:moveTo>
                    <a:lnTo>
                      <a:pt x="857250" y="790575"/>
                    </a:lnTo>
                    <a:lnTo>
                      <a:pt x="0" y="1571625"/>
                    </a:lnTo>
                  </a:path>
                </a:pathLst>
              </a:custGeom>
              <a:solidFill>
                <a:srgbClr val="ef5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" name="组合 91"/>
          <p:cNvGrpSpPr/>
          <p:nvPr/>
        </p:nvGrpSpPr>
        <p:grpSpPr>
          <a:xfrm>
            <a:off x="385920" y="4259160"/>
            <a:ext cx="371160" cy="371520"/>
            <a:chOff x="385920" y="4259160"/>
            <a:chExt cx="371160" cy="371520"/>
          </a:xfrm>
        </p:grpSpPr>
        <p:sp>
          <p:nvSpPr>
            <p:cNvPr id="644" name="椭圆 92"/>
            <p:cNvSpPr/>
            <p:nvPr/>
          </p:nvSpPr>
          <p:spPr>
            <a:xfrm>
              <a:off x="385920" y="4259160"/>
              <a:ext cx="371160" cy="371520"/>
            </a:xfrm>
            <a:prstGeom prst="ellipse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组合 93"/>
            <p:cNvGrpSpPr/>
            <p:nvPr/>
          </p:nvGrpSpPr>
          <p:grpSpPr>
            <a:xfrm>
              <a:off x="431280" y="4304160"/>
              <a:ext cx="280440" cy="281160"/>
              <a:chOff x="431280" y="4304160"/>
              <a:chExt cx="280440" cy="281160"/>
            </a:xfrm>
          </p:grpSpPr>
          <p:sp>
            <p:nvSpPr>
              <p:cNvPr id="646" name="Oval 6"/>
              <p:cNvSpPr/>
              <p:nvPr/>
            </p:nvSpPr>
            <p:spPr>
              <a:xfrm rot="10200">
                <a:off x="431280" y="4304520"/>
                <a:ext cx="279720" cy="28044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组合 95"/>
              <p:cNvGrpSpPr/>
              <p:nvPr/>
            </p:nvGrpSpPr>
            <p:grpSpPr>
              <a:xfrm>
                <a:off x="464400" y="4338000"/>
                <a:ext cx="214200" cy="213120"/>
                <a:chOff x="464400" y="4338000"/>
                <a:chExt cx="214200" cy="213120"/>
              </a:xfrm>
            </p:grpSpPr>
            <p:sp>
              <p:nvSpPr>
                <p:cNvPr id="648" name="Freeform 8"/>
                <p:cNvSpPr/>
                <p:nvPr/>
              </p:nvSpPr>
              <p:spPr>
                <a:xfrm rot="10200">
                  <a:off x="542520" y="433800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9"/>
                <p:cNvSpPr/>
                <p:nvPr/>
              </p:nvSpPr>
              <p:spPr>
                <a:xfrm rot="10200">
                  <a:off x="464760" y="439560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0"/>
                <p:cNvSpPr/>
                <p:nvPr/>
              </p:nvSpPr>
              <p:spPr>
                <a:xfrm rot="10200">
                  <a:off x="492840" y="434556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"/>
                <p:cNvSpPr/>
                <p:nvPr/>
              </p:nvSpPr>
              <p:spPr>
                <a:xfrm rot="10200">
                  <a:off x="585000" y="433800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"/>
                <p:cNvSpPr/>
                <p:nvPr/>
              </p:nvSpPr>
              <p:spPr>
                <a:xfrm rot="10200">
                  <a:off x="633240" y="439632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3"/>
                <p:cNvSpPr/>
                <p:nvPr/>
              </p:nvSpPr>
              <p:spPr>
                <a:xfrm rot="10200">
                  <a:off x="615960" y="4345920"/>
                  <a:ext cx="39240" cy="291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4"/>
                <p:cNvSpPr/>
                <p:nvPr/>
              </p:nvSpPr>
              <p:spPr>
                <a:xfrm rot="10200">
                  <a:off x="538920" y="451404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5"/>
                <p:cNvSpPr/>
                <p:nvPr/>
              </p:nvSpPr>
              <p:spPr>
                <a:xfrm rot="10200">
                  <a:off x="464040" y="445464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6"/>
                <p:cNvSpPr/>
                <p:nvPr/>
              </p:nvSpPr>
              <p:spPr>
                <a:xfrm rot="10200">
                  <a:off x="489240" y="4514040"/>
                  <a:ext cx="39600" cy="288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7"/>
                <p:cNvSpPr/>
                <p:nvPr/>
              </p:nvSpPr>
              <p:spPr>
                <a:xfrm rot="10200">
                  <a:off x="581040" y="451440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18"/>
                <p:cNvSpPr/>
                <p:nvPr/>
              </p:nvSpPr>
              <p:spPr>
                <a:xfrm rot="10200">
                  <a:off x="632520" y="445536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9"/>
                <p:cNvSpPr/>
                <p:nvPr/>
              </p:nvSpPr>
              <p:spPr>
                <a:xfrm rot="10200">
                  <a:off x="612720" y="4514400"/>
                  <a:ext cx="39240" cy="288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21"/>
                <p:cNvSpPr/>
                <p:nvPr/>
              </p:nvSpPr>
              <p:spPr>
                <a:xfrm rot="10200">
                  <a:off x="522000" y="4395960"/>
                  <a:ext cx="103680" cy="9612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1" name="Freeform 6"/>
          <p:cNvSpPr/>
          <p:nvPr/>
        </p:nvSpPr>
        <p:spPr>
          <a:xfrm>
            <a:off x="-4680" y="-11160"/>
            <a:ext cx="1689120" cy="4399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0004" h="10000">
                <a:moveTo>
                  <a:pt x="0" y="1316"/>
                </a:moveTo>
                <a:lnTo>
                  <a:pt x="6570" y="1316"/>
                </a:lnTo>
                <a:cubicBezTo>
                  <a:pt x="6595" y="877"/>
                  <a:pt x="6619" y="439"/>
                  <a:pt x="6643" y="0"/>
                </a:cubicBezTo>
                <a:lnTo>
                  <a:pt x="7643" y="526"/>
                </a:lnTo>
                <a:lnTo>
                  <a:pt x="7643" y="1053"/>
                </a:lnTo>
                <a:cubicBezTo>
                  <a:pt x="7643" y="1053"/>
                  <a:pt x="8857" y="-263"/>
                  <a:pt x="9857" y="1316"/>
                </a:cubicBezTo>
                <a:cubicBezTo>
                  <a:pt x="9857" y="1316"/>
                  <a:pt x="10000" y="2368"/>
                  <a:pt x="9643" y="2105"/>
                </a:cubicBezTo>
                <a:cubicBezTo>
                  <a:pt x="9643" y="2105"/>
                  <a:pt x="8989" y="1550"/>
                  <a:pt x="8929" y="1579"/>
                </a:cubicBezTo>
                <a:cubicBezTo>
                  <a:pt x="8869" y="1608"/>
                  <a:pt x="8801" y="1708"/>
                  <a:pt x="9285" y="2279"/>
                </a:cubicBezTo>
                <a:cubicBezTo>
                  <a:pt x="9285" y="2279"/>
                  <a:pt x="10073" y="2868"/>
                  <a:pt x="10000" y="3684"/>
                </a:cubicBezTo>
                <a:cubicBezTo>
                  <a:pt x="9979" y="3920"/>
                  <a:pt x="10000" y="4211"/>
                  <a:pt x="9500" y="3684"/>
                </a:cubicBezTo>
                <a:cubicBezTo>
                  <a:pt x="9500" y="3684"/>
                  <a:pt x="9143" y="2895"/>
                  <a:pt x="9000" y="3158"/>
                </a:cubicBezTo>
                <a:cubicBezTo>
                  <a:pt x="8857" y="3421"/>
                  <a:pt x="9222" y="3706"/>
                  <a:pt x="9357" y="3947"/>
                </a:cubicBezTo>
                <a:cubicBezTo>
                  <a:pt x="9492" y="4188"/>
                  <a:pt x="10038" y="4591"/>
                  <a:pt x="10000" y="5789"/>
                </a:cubicBezTo>
                <a:cubicBezTo>
                  <a:pt x="10000" y="5789"/>
                  <a:pt x="9931" y="6853"/>
                  <a:pt x="9643" y="6053"/>
                </a:cubicBezTo>
                <a:cubicBezTo>
                  <a:pt x="9355" y="5253"/>
                  <a:pt x="9071" y="4211"/>
                  <a:pt x="9000" y="4737"/>
                </a:cubicBezTo>
                <a:cubicBezTo>
                  <a:pt x="9000" y="4737"/>
                  <a:pt x="9429" y="5789"/>
                  <a:pt x="9285" y="7895"/>
                </a:cubicBezTo>
                <a:cubicBezTo>
                  <a:pt x="9285" y="7895"/>
                  <a:pt x="9143" y="10000"/>
                  <a:pt x="8786" y="10000"/>
                </a:cubicBezTo>
                <a:cubicBezTo>
                  <a:pt x="8786" y="10000"/>
                  <a:pt x="8429" y="10000"/>
                  <a:pt x="8571" y="8947"/>
                </a:cubicBezTo>
                <a:cubicBezTo>
                  <a:pt x="8571" y="8947"/>
                  <a:pt x="9285" y="6842"/>
                  <a:pt x="8714" y="5526"/>
                </a:cubicBezTo>
                <a:cubicBezTo>
                  <a:pt x="8714" y="5526"/>
                  <a:pt x="8143" y="4737"/>
                  <a:pt x="7929" y="7105"/>
                </a:cubicBezTo>
                <a:cubicBezTo>
                  <a:pt x="7929" y="7105"/>
                  <a:pt x="8083" y="8595"/>
                  <a:pt x="8214" y="8421"/>
                </a:cubicBezTo>
                <a:cubicBezTo>
                  <a:pt x="8345" y="8247"/>
                  <a:pt x="8357" y="10263"/>
                  <a:pt x="7929" y="9211"/>
                </a:cubicBezTo>
                <a:cubicBezTo>
                  <a:pt x="7929" y="9211"/>
                  <a:pt x="7643" y="8684"/>
                  <a:pt x="7643" y="7105"/>
                </a:cubicBezTo>
                <a:lnTo>
                  <a:pt x="6786" y="7632"/>
                </a:lnTo>
                <a:cubicBezTo>
                  <a:pt x="6762" y="7193"/>
                  <a:pt x="6737" y="6431"/>
                  <a:pt x="6714" y="5992"/>
                </a:cubicBezTo>
                <a:lnTo>
                  <a:pt x="9" y="6053"/>
                </a:lnTo>
                <a:lnTo>
                  <a:pt x="0" y="1316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4"/>
          <p:cNvSpPr/>
          <p:nvPr/>
        </p:nvSpPr>
        <p:spPr>
          <a:xfrm>
            <a:off x="7480440" y="3240"/>
            <a:ext cx="0" cy="253800"/>
          </a:xfrm>
          <a:prstGeom prst="line">
            <a:avLst/>
          </a:prstGeom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665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697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1" name="组合 112"/>
          <p:cNvGrpSpPr/>
          <p:nvPr/>
        </p:nvGrpSpPr>
        <p:grpSpPr>
          <a:xfrm>
            <a:off x="2009880" y="1130400"/>
            <a:ext cx="5124240" cy="3539880"/>
            <a:chOff x="2009880" y="1130400"/>
            <a:chExt cx="5124240" cy="3539880"/>
          </a:xfrm>
        </p:grpSpPr>
        <p:grpSp>
          <p:nvGrpSpPr>
            <p:cNvPr id="712" name="组合 109"/>
            <p:cNvGrpSpPr/>
            <p:nvPr/>
          </p:nvGrpSpPr>
          <p:grpSpPr>
            <a:xfrm>
              <a:off x="2017440" y="1130400"/>
              <a:ext cx="5116680" cy="1786680"/>
              <a:chOff x="2017440" y="1130400"/>
              <a:chExt cx="5116680" cy="1786680"/>
            </a:xfrm>
          </p:grpSpPr>
          <p:sp>
            <p:nvSpPr>
              <p:cNvPr id="713" name="任意多边形 105"/>
              <p:cNvSpPr/>
              <p:nvPr/>
            </p:nvSpPr>
            <p:spPr>
              <a:xfrm>
                <a:off x="2032560" y="1130400"/>
                <a:ext cx="5101560" cy="1445760"/>
              </a:xfrm>
              <a:custGeom>
                <a:avLst/>
                <a:gdLst>
                  <a:gd name="textAreaLeft" fmla="*/ 0 w 5101560"/>
                  <a:gd name="textAreaRight" fmla="*/ 5101920 w 5101560"/>
                  <a:gd name="textAreaTop" fmla="*/ 0 h 1445760"/>
                  <a:gd name="textAreaBottom" fmla="*/ 1446120 h 1445760"/>
                </a:gdLst>
                <a:ahLst/>
                <a:rect l="textAreaLeft" t="textAreaTop" r="textAreaRight" b="textAreaBottom"/>
                <a:pathLst>
                  <a:path w="3468914" h="1465943">
                    <a:moveTo>
                      <a:pt x="0" y="0"/>
                    </a:moveTo>
                    <a:lnTo>
                      <a:pt x="3468914" y="0"/>
                    </a:lnTo>
                    <a:lnTo>
                      <a:pt x="3251200" y="1465943"/>
                    </a:lnTo>
                    <a:lnTo>
                      <a:pt x="188685" y="14659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任意多边形 107"/>
              <p:cNvSpPr/>
              <p:nvPr/>
            </p:nvSpPr>
            <p:spPr>
              <a:xfrm>
                <a:off x="2017440" y="2562120"/>
                <a:ext cx="5110560" cy="354960"/>
              </a:xfrm>
              <a:custGeom>
                <a:avLst/>
                <a:gdLst>
                  <a:gd name="textAreaLeft" fmla="*/ 0 w 5110560"/>
                  <a:gd name="textAreaRight" fmla="*/ 5110920 w 51105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3459480" h="259080">
                    <a:moveTo>
                      <a:pt x="205740" y="7620"/>
                    </a:moveTo>
                    <a:lnTo>
                      <a:pt x="0" y="259080"/>
                    </a:lnTo>
                    <a:lnTo>
                      <a:pt x="3459480" y="259080"/>
                    </a:lnTo>
                    <a:lnTo>
                      <a:pt x="3238500" y="0"/>
                    </a:lnTo>
                    <a:lnTo>
                      <a:pt x="205740" y="7620"/>
                    </a:lnTo>
                    <a:close/>
                  </a:path>
                </a:pathLst>
              </a:custGeom>
              <a:solidFill>
                <a:srgbClr val="c4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任意多边形 168"/>
            <p:cNvSpPr/>
            <p:nvPr/>
          </p:nvSpPr>
          <p:spPr>
            <a:xfrm>
              <a:off x="2009880" y="2917080"/>
              <a:ext cx="5111640" cy="1393920"/>
            </a:xfrm>
            <a:custGeom>
              <a:avLst/>
              <a:gdLst>
                <a:gd name="textAreaLeft" fmla="*/ 0 w 5111640"/>
                <a:gd name="textAreaRight" fmla="*/ 5112000 w 5111640"/>
                <a:gd name="textAreaTop" fmla="*/ 0 h 1393920"/>
                <a:gd name="textAreaBottom" fmla="*/ 1393920 h 1393920"/>
              </a:gdLst>
              <a:ahLst/>
              <a:rect l="textAreaLeft" t="textAreaTop" r="textAreaRight" b="textAreaBottom"/>
              <a:pathLst>
                <a:path w="3468914" h="1465943">
                  <a:moveTo>
                    <a:pt x="0" y="0"/>
                  </a:moveTo>
                  <a:lnTo>
                    <a:pt x="3468914" y="0"/>
                  </a:lnTo>
                  <a:lnTo>
                    <a:pt x="3251200" y="1465943"/>
                  </a:lnTo>
                  <a:lnTo>
                    <a:pt x="188685" y="14659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169"/>
            <p:cNvSpPr/>
            <p:nvPr/>
          </p:nvSpPr>
          <p:spPr>
            <a:xfrm>
              <a:off x="2031120" y="4296960"/>
              <a:ext cx="5039640" cy="373320"/>
            </a:xfrm>
            <a:custGeom>
              <a:avLst/>
              <a:gdLst>
                <a:gd name="textAreaLeft" fmla="*/ 0 w 5039640"/>
                <a:gd name="textAreaRight" fmla="*/ 5040000 w 50396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5010567" h="408129">
                  <a:moveTo>
                    <a:pt x="4738178" y="0"/>
                  </a:moveTo>
                  <a:lnTo>
                    <a:pt x="5010567" y="408129"/>
                  </a:lnTo>
                  <a:lnTo>
                    <a:pt x="0" y="408129"/>
                  </a:lnTo>
                  <a:lnTo>
                    <a:pt x="252066" y="14405"/>
                  </a:lnTo>
                  <a:lnTo>
                    <a:pt x="4738178" y="0"/>
                  </a:lnTo>
                  <a:close/>
                </a:path>
              </a:pathLst>
            </a:cu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矩形 171"/>
          <p:cNvSpPr/>
          <p:nvPr/>
        </p:nvSpPr>
        <p:spPr>
          <a:xfrm>
            <a:off x="3716280" y="3354480"/>
            <a:ext cx="19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3d26"/>
                </a:solidFill>
                <a:latin typeface="微软雅黑"/>
                <a:ea typeface="微软雅黑"/>
              </a:rPr>
              <a:t>准备凌晨秒货的战士们，可以提前吃</a:t>
            </a: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夜宵</a:t>
            </a:r>
            <a:r>
              <a:rPr b="0" lang="zh-CN" sz="1200" spc="-1" strike="noStrike">
                <a:solidFill>
                  <a:srgbClr val="494429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3d26"/>
                </a:solidFill>
                <a:latin typeface="微软雅黑"/>
                <a:ea typeface="微软雅黑"/>
              </a:rPr>
              <a:t>体力会大大影响效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55"/>
          <p:cNvGrpSpPr/>
          <p:nvPr/>
        </p:nvGrpSpPr>
        <p:grpSpPr>
          <a:xfrm>
            <a:off x="1341360" y="627120"/>
            <a:ext cx="6467400" cy="554040"/>
            <a:chOff x="1341360" y="627120"/>
            <a:chExt cx="6467400" cy="554040"/>
          </a:xfrm>
        </p:grpSpPr>
        <p:sp>
          <p:nvSpPr>
            <p:cNvPr id="719" name="等腰三角形 156"/>
            <p:cNvSpPr/>
            <p:nvPr/>
          </p:nvSpPr>
          <p:spPr>
            <a:xfrm>
              <a:off x="1341360" y="647280"/>
              <a:ext cx="335880" cy="185040"/>
            </a:xfrm>
            <a:prstGeom prst="triangle">
              <a:avLst>
                <a:gd name="adj" fmla="val 50000"/>
              </a:avLst>
            </a:prstGeom>
            <a:solidFill>
              <a:srgbClr val="953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组合 157"/>
            <p:cNvGrpSpPr/>
            <p:nvPr/>
          </p:nvGrpSpPr>
          <p:grpSpPr>
            <a:xfrm>
              <a:off x="1490400" y="627120"/>
              <a:ext cx="6318360" cy="554040"/>
              <a:chOff x="1490400" y="627120"/>
              <a:chExt cx="6318360" cy="554040"/>
            </a:xfrm>
          </p:grpSpPr>
          <p:sp>
            <p:nvSpPr>
              <p:cNvPr id="721" name="等腰三角形 158"/>
              <p:cNvSpPr/>
              <p:nvPr/>
            </p:nvSpPr>
            <p:spPr>
              <a:xfrm>
                <a:off x="7472880" y="637920"/>
                <a:ext cx="335880" cy="185040"/>
              </a:xfrm>
              <a:prstGeom prst="triangle">
                <a:avLst>
                  <a:gd name="adj" fmla="val 50000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任意多边形 159"/>
              <p:cNvSpPr/>
              <p:nvPr/>
            </p:nvSpPr>
            <p:spPr>
              <a:xfrm>
                <a:off x="1490400" y="642600"/>
                <a:ext cx="6163560" cy="538560"/>
              </a:xfrm>
              <a:custGeom>
                <a:avLst/>
                <a:gdLst>
                  <a:gd name="textAreaLeft" fmla="*/ 0 w 6163560"/>
                  <a:gd name="textAreaRight" fmla="*/ 6163920 w 61635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2910840" h="457200">
                    <a:moveTo>
                      <a:pt x="0" y="0"/>
                    </a:moveTo>
                    <a:lnTo>
                      <a:pt x="251460" y="457200"/>
                    </a:lnTo>
                    <a:lnTo>
                      <a:pt x="2659380" y="449580"/>
                    </a:lnTo>
                    <a:lnTo>
                      <a:pt x="29108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1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160"/>
              <p:cNvSpPr/>
              <p:nvPr/>
            </p:nvSpPr>
            <p:spPr>
              <a:xfrm>
                <a:off x="3136320" y="627120"/>
                <a:ext cx="2871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血拼注意事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组合 95"/>
          <p:cNvGrpSpPr/>
          <p:nvPr/>
        </p:nvGrpSpPr>
        <p:grpSpPr>
          <a:xfrm>
            <a:off x="2340000" y="1608120"/>
            <a:ext cx="1251000" cy="1106640"/>
            <a:chOff x="2340000" y="1608120"/>
            <a:chExt cx="1251000" cy="1106640"/>
          </a:xfrm>
        </p:grpSpPr>
        <p:sp>
          <p:nvSpPr>
            <p:cNvPr id="725" name="圆角矩形 97"/>
            <p:cNvSpPr/>
            <p:nvPr/>
          </p:nvSpPr>
          <p:spPr>
            <a:xfrm>
              <a:off x="2340000" y="1608120"/>
              <a:ext cx="1251000" cy="836640"/>
            </a:xfrm>
            <a:prstGeom prst="roundRect">
              <a:avLst>
                <a:gd name="adj" fmla="val 7361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98"/>
            <p:cNvSpPr/>
            <p:nvPr/>
          </p:nvSpPr>
          <p:spPr>
            <a:xfrm>
              <a:off x="2411280" y="1666080"/>
              <a:ext cx="1108080" cy="661680"/>
            </a:xfrm>
            <a:prstGeom prst="rect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矩形 99"/>
            <p:cNvSpPr/>
            <p:nvPr/>
          </p:nvSpPr>
          <p:spPr>
            <a:xfrm>
              <a:off x="2805120" y="2444760"/>
              <a:ext cx="320760" cy="1584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任意多边形 100"/>
            <p:cNvSpPr/>
            <p:nvPr/>
          </p:nvSpPr>
          <p:spPr>
            <a:xfrm>
              <a:off x="2635560" y="2603160"/>
              <a:ext cx="659520" cy="111600"/>
            </a:xfrm>
            <a:custGeom>
              <a:avLst/>
              <a:gdLst>
                <a:gd name="textAreaLeft" fmla="*/ 0 w 659520"/>
                <a:gd name="textAreaRight" fmla="*/ 659880 w 6595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45319" h="109537">
                  <a:moveTo>
                    <a:pt x="90488" y="0"/>
                  </a:moveTo>
                  <a:lnTo>
                    <a:pt x="535782" y="0"/>
                  </a:lnTo>
                  <a:lnTo>
                    <a:pt x="645319" y="109537"/>
                  </a:lnTo>
                  <a:lnTo>
                    <a:pt x="0" y="109537"/>
                  </a:lnTo>
                  <a:lnTo>
                    <a:pt x="9048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3634200" y="3408840"/>
            <a:ext cx="148320" cy="148320"/>
            <a:chOff x="3634200" y="3408840"/>
            <a:chExt cx="148320" cy="148320"/>
          </a:xfrm>
        </p:grpSpPr>
        <p:sp>
          <p:nvSpPr>
            <p:cNvPr id="730" name="椭圆 102"/>
            <p:cNvSpPr/>
            <p:nvPr/>
          </p:nvSpPr>
          <p:spPr>
            <a:xfrm rot="21300000">
              <a:off x="3639600" y="3414240"/>
              <a:ext cx="136800" cy="136800"/>
            </a:xfrm>
            <a:prstGeom prst="ellipse">
              <a:avLst/>
            </a:prstGeom>
            <a:solidFill>
              <a:srgbClr val="cd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103"/>
            <p:cNvSpPr/>
            <p:nvPr/>
          </p:nvSpPr>
          <p:spPr>
            <a:xfrm rot="21300000">
              <a:off x="3691800" y="3453120"/>
              <a:ext cx="32040" cy="590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7250" h="1571625">
                  <a:moveTo>
                    <a:pt x="66675" y="0"/>
                  </a:moveTo>
                  <a:lnTo>
                    <a:pt x="857250" y="790575"/>
                  </a:lnTo>
                  <a:lnTo>
                    <a:pt x="0" y="15716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6" descr="C:\Users\Administrator\Desktop\shutterstock_89768530 [转换].png"/>
          <p:cNvPicPr/>
          <p:nvPr/>
        </p:nvPicPr>
        <p:blipFill>
          <a:blip r:embed="rId1"/>
          <a:stretch/>
        </p:blipFill>
        <p:spPr>
          <a:xfrm>
            <a:off x="2387520" y="3409920"/>
            <a:ext cx="1203480" cy="1141560"/>
          </a:xfrm>
          <a:prstGeom prst="rect">
            <a:avLst/>
          </a:prstGeom>
          <a:ln w="0">
            <a:noFill/>
          </a:ln>
        </p:spPr>
      </p:pic>
      <p:grpSp>
        <p:nvGrpSpPr>
          <p:cNvPr id="733" name="组合 48"/>
          <p:cNvGrpSpPr/>
          <p:nvPr/>
        </p:nvGrpSpPr>
        <p:grpSpPr>
          <a:xfrm>
            <a:off x="3634200" y="1681920"/>
            <a:ext cx="148320" cy="147960"/>
            <a:chOff x="3634200" y="1681920"/>
            <a:chExt cx="148320" cy="147960"/>
          </a:xfrm>
        </p:grpSpPr>
        <p:sp>
          <p:nvSpPr>
            <p:cNvPr id="734" name="椭圆 49"/>
            <p:cNvSpPr/>
            <p:nvPr/>
          </p:nvSpPr>
          <p:spPr>
            <a:xfrm rot="21300000">
              <a:off x="3639600" y="1687320"/>
              <a:ext cx="136800" cy="136440"/>
            </a:xfrm>
            <a:prstGeom prst="ellipse">
              <a:avLst/>
            </a:prstGeom>
            <a:solidFill>
              <a:srgbClr val="cd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50"/>
            <p:cNvSpPr/>
            <p:nvPr/>
          </p:nvSpPr>
          <p:spPr>
            <a:xfrm rot="21300000">
              <a:off x="3691800" y="1726200"/>
              <a:ext cx="32040" cy="58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57250" h="1571625">
                  <a:moveTo>
                    <a:pt x="66675" y="0"/>
                  </a:moveTo>
                  <a:lnTo>
                    <a:pt x="857250" y="790575"/>
                  </a:lnTo>
                  <a:lnTo>
                    <a:pt x="0" y="15716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6" name="Picture 2" descr="C:\Users\Administrator\Desktop\5 [转换].png"/>
          <p:cNvPicPr/>
          <p:nvPr/>
        </p:nvPicPr>
        <p:blipFill>
          <a:blip r:embed="rId2"/>
          <a:srcRect l="0" t="0" r="-157" b="344"/>
          <a:stretch/>
        </p:blipFill>
        <p:spPr>
          <a:xfrm rot="19927200">
            <a:off x="4736880" y="4127400"/>
            <a:ext cx="298440" cy="409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" descr="C:\Users\Administrator\Desktop\5 [转换].png"/>
          <p:cNvPicPr/>
          <p:nvPr/>
        </p:nvPicPr>
        <p:blipFill>
          <a:blip r:embed="rId3"/>
          <a:srcRect l="0" t="0" r="-312" b="-9626"/>
          <a:stretch/>
        </p:blipFill>
        <p:spPr>
          <a:xfrm>
            <a:off x="4202280" y="4127400"/>
            <a:ext cx="455400" cy="4431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" descr="C:\Users\Administrator\Desktop\5 [转换].png"/>
          <p:cNvPicPr/>
          <p:nvPr/>
        </p:nvPicPr>
        <p:blipFill>
          <a:blip r:embed="rId4"/>
          <a:srcRect l="0" t="-14560" r="-288" b="620"/>
          <a:stretch/>
        </p:blipFill>
        <p:spPr>
          <a:xfrm>
            <a:off x="3699000" y="4229280"/>
            <a:ext cx="382320" cy="290160"/>
          </a:xfrm>
          <a:prstGeom prst="rect">
            <a:avLst/>
          </a:prstGeom>
          <a:ln w="0">
            <a:noFill/>
          </a:ln>
        </p:spPr>
      </p:pic>
      <p:sp>
        <p:nvSpPr>
          <p:cNvPr id="739" name="直接连接符 11"/>
          <p:cNvSpPr/>
          <p:nvPr/>
        </p:nvSpPr>
        <p:spPr>
          <a:xfrm>
            <a:off x="7164360" y="-4680"/>
            <a:ext cx="1440" cy="642960"/>
          </a:xfrm>
          <a:prstGeom prst="line">
            <a:avLst/>
          </a:prstGeom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任意多边形 18"/>
          <p:cNvSpPr/>
          <p:nvPr/>
        </p:nvSpPr>
        <p:spPr>
          <a:xfrm>
            <a:off x="1352520" y="828720"/>
            <a:ext cx="6058080" cy="4324320"/>
          </a:xfrm>
          <a:custGeom>
            <a:avLst/>
            <a:gdLst>
              <a:gd name="textAreaLeft" fmla="*/ 0 w 6058080"/>
              <a:gd name="textAreaRight" fmla="*/ 6058440 w 6058080"/>
              <a:gd name="textAreaTop" fmla="*/ 0 h 4324320"/>
              <a:gd name="textAreaBottom" fmla="*/ 4324680 h 4324320"/>
            </a:gdLst>
            <a:ahLst/>
            <a:rect l="textAreaLeft" t="textAreaTop" r="textAreaRight" b="textAreaBottom"/>
            <a:pathLst>
              <a:path w="6057900" h="4324350">
                <a:moveTo>
                  <a:pt x="0" y="0"/>
                </a:moveTo>
                <a:lnTo>
                  <a:pt x="447675" y="419100"/>
                </a:lnTo>
                <a:lnTo>
                  <a:pt x="704850" y="1733550"/>
                </a:lnTo>
                <a:lnTo>
                  <a:pt x="390525" y="2085975"/>
                </a:lnTo>
                <a:lnTo>
                  <a:pt x="695325" y="3486150"/>
                </a:lnTo>
                <a:lnTo>
                  <a:pt x="323850" y="3952875"/>
                </a:lnTo>
                <a:lnTo>
                  <a:pt x="6057900" y="3952875"/>
                </a:lnTo>
                <a:lnTo>
                  <a:pt x="6057900" y="4324350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55"/>
          <p:cNvGrpSpPr/>
          <p:nvPr/>
        </p:nvGrpSpPr>
        <p:grpSpPr>
          <a:xfrm>
            <a:off x="7162920" y="4564080"/>
            <a:ext cx="371520" cy="371520"/>
            <a:chOff x="7162920" y="4564080"/>
            <a:chExt cx="371520" cy="371520"/>
          </a:xfrm>
        </p:grpSpPr>
        <p:sp>
          <p:nvSpPr>
            <p:cNvPr id="742" name="椭圆 56"/>
            <p:cNvSpPr/>
            <p:nvPr/>
          </p:nvSpPr>
          <p:spPr>
            <a:xfrm>
              <a:off x="7162920" y="4564080"/>
              <a:ext cx="371520" cy="371520"/>
            </a:xfrm>
            <a:prstGeom prst="ellipse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组合 57"/>
            <p:cNvGrpSpPr/>
            <p:nvPr/>
          </p:nvGrpSpPr>
          <p:grpSpPr>
            <a:xfrm>
              <a:off x="7208280" y="4609080"/>
              <a:ext cx="280800" cy="281160"/>
              <a:chOff x="7208280" y="4609080"/>
              <a:chExt cx="280800" cy="281160"/>
            </a:xfrm>
          </p:grpSpPr>
          <p:sp>
            <p:nvSpPr>
              <p:cNvPr id="744" name="Oval 6"/>
              <p:cNvSpPr/>
              <p:nvPr/>
            </p:nvSpPr>
            <p:spPr>
              <a:xfrm rot="10200">
                <a:off x="7208280" y="4609440"/>
                <a:ext cx="280080" cy="28044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组合 59"/>
              <p:cNvGrpSpPr/>
              <p:nvPr/>
            </p:nvGrpSpPr>
            <p:grpSpPr>
              <a:xfrm>
                <a:off x="7241400" y="4642560"/>
                <a:ext cx="214200" cy="213480"/>
                <a:chOff x="7241400" y="4642560"/>
                <a:chExt cx="214200" cy="213480"/>
              </a:xfrm>
            </p:grpSpPr>
            <p:sp>
              <p:nvSpPr>
                <p:cNvPr id="746" name="Freeform 8"/>
                <p:cNvSpPr/>
                <p:nvPr/>
              </p:nvSpPr>
              <p:spPr>
                <a:xfrm rot="10200">
                  <a:off x="7319520" y="464256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9"/>
                <p:cNvSpPr/>
                <p:nvPr/>
              </p:nvSpPr>
              <p:spPr>
                <a:xfrm rot="10200">
                  <a:off x="7241760" y="470052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0"/>
                <p:cNvSpPr/>
                <p:nvPr/>
              </p:nvSpPr>
              <p:spPr>
                <a:xfrm rot="10200">
                  <a:off x="7269840" y="465048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1"/>
                <p:cNvSpPr/>
                <p:nvPr/>
              </p:nvSpPr>
              <p:spPr>
                <a:xfrm rot="10200">
                  <a:off x="7362000" y="464292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2"/>
                <p:cNvSpPr/>
                <p:nvPr/>
              </p:nvSpPr>
              <p:spPr>
                <a:xfrm rot="10200">
                  <a:off x="7410240" y="470124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13"/>
                <p:cNvSpPr/>
                <p:nvPr/>
              </p:nvSpPr>
              <p:spPr>
                <a:xfrm rot="10200">
                  <a:off x="7392960" y="4650840"/>
                  <a:ext cx="39240" cy="291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4"/>
                <p:cNvSpPr/>
                <p:nvPr/>
              </p:nvSpPr>
              <p:spPr>
                <a:xfrm rot="10200">
                  <a:off x="7315920" y="481896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15"/>
                <p:cNvSpPr/>
                <p:nvPr/>
              </p:nvSpPr>
              <p:spPr>
                <a:xfrm rot="10200">
                  <a:off x="7241040" y="475956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6"/>
                <p:cNvSpPr/>
                <p:nvPr/>
              </p:nvSpPr>
              <p:spPr>
                <a:xfrm rot="10200">
                  <a:off x="7266240" y="4818960"/>
                  <a:ext cx="39600" cy="288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17"/>
                <p:cNvSpPr/>
                <p:nvPr/>
              </p:nvSpPr>
              <p:spPr>
                <a:xfrm rot="10200">
                  <a:off x="7358040" y="481932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8"/>
                <p:cNvSpPr/>
                <p:nvPr/>
              </p:nvSpPr>
              <p:spPr>
                <a:xfrm rot="10200">
                  <a:off x="7409520" y="476028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9"/>
                <p:cNvSpPr/>
                <p:nvPr/>
              </p:nvSpPr>
              <p:spPr>
                <a:xfrm rot="10200">
                  <a:off x="7389720" y="4819320"/>
                  <a:ext cx="39240" cy="288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21"/>
                <p:cNvSpPr/>
                <p:nvPr/>
              </p:nvSpPr>
              <p:spPr>
                <a:xfrm rot="10200">
                  <a:off x="7299000" y="4700520"/>
                  <a:ext cx="103680" cy="9612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9" name="矩形 172"/>
          <p:cNvSpPr/>
          <p:nvPr/>
        </p:nvSpPr>
        <p:spPr>
          <a:xfrm>
            <a:off x="3716280" y="1647720"/>
            <a:ext cx="24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3d26"/>
                </a:solidFill>
                <a:latin typeface="微软雅黑"/>
                <a:ea typeface="微软雅黑"/>
              </a:rPr>
              <a:t>关掉软件和页面，刷不出页面时最让人崩溃；必要时，手机关机，</a:t>
            </a: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拒绝杂事，避免分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19"/>
          <p:cNvSpPr/>
          <p:nvPr/>
        </p:nvSpPr>
        <p:spPr>
          <a:xfrm>
            <a:off x="2628720" y="17240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电脑调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网速要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104"/>
          <p:cNvSpPr/>
          <p:nvPr/>
        </p:nvSpPr>
        <p:spPr>
          <a:xfrm>
            <a:off x="3978360" y="3038400"/>
            <a:ext cx="102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准备夜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0"/>
          <p:cNvSpPr/>
          <p:nvPr/>
        </p:nvSpPr>
        <p:spPr>
          <a:xfrm>
            <a:off x="2031840" y="4665600"/>
            <a:ext cx="5038920" cy="46080"/>
          </a:xfrm>
          <a:prstGeom prst="rect">
            <a:avLst/>
          </a:pr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9" descr="C:\Users\Administrator\Desktop\演世界\shutterstock_76792108 [转换].png"/>
          <p:cNvPicPr/>
          <p:nvPr/>
        </p:nvPicPr>
        <p:blipFill>
          <a:blip r:embed="rId5"/>
          <a:stretch/>
        </p:blipFill>
        <p:spPr>
          <a:xfrm>
            <a:off x="5910120" y="1386000"/>
            <a:ext cx="1101960" cy="2228760"/>
          </a:xfrm>
          <a:prstGeom prst="rect">
            <a:avLst/>
          </a:prstGeom>
          <a:ln w="0">
            <a:noFill/>
          </a:ln>
        </p:spPr>
      </p:pic>
      <p:grpSp>
        <p:nvGrpSpPr>
          <p:cNvPr id="764" name="组合 21"/>
          <p:cNvGrpSpPr/>
          <p:nvPr/>
        </p:nvGrpSpPr>
        <p:grpSpPr>
          <a:xfrm>
            <a:off x="4966200" y="2351160"/>
            <a:ext cx="678960" cy="467280"/>
            <a:chOff x="4966200" y="2351160"/>
            <a:chExt cx="678960" cy="467280"/>
          </a:xfrm>
        </p:grpSpPr>
        <p:pic>
          <p:nvPicPr>
            <p:cNvPr id="765" name="Picture 10" descr="C:\Users\Administrator\Desktop\shutterstock_139339712 [转换].png"/>
            <p:cNvPicPr/>
            <p:nvPr/>
          </p:nvPicPr>
          <p:blipFill>
            <a:blip r:embed="rId6"/>
            <a:srcRect l="0" t="0" r="-451" b="145"/>
            <a:stretch/>
          </p:blipFill>
          <p:spPr>
            <a:xfrm>
              <a:off x="5364720" y="2351160"/>
              <a:ext cx="280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10" descr="C:\Users\Administrator\Desktop\shutterstock_139339712 [转换].png"/>
            <p:cNvPicPr/>
            <p:nvPr/>
          </p:nvPicPr>
          <p:blipFill>
            <a:blip r:embed="rId7"/>
            <a:srcRect l="0" t="0" r="0" b="521"/>
            <a:stretch/>
          </p:blipFill>
          <p:spPr>
            <a:xfrm rot="1966200">
              <a:off x="5044680" y="2423880"/>
              <a:ext cx="23292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矩形 111"/>
            <p:cNvSpPr/>
            <p:nvPr/>
          </p:nvSpPr>
          <p:spPr>
            <a:xfrm rot="1844400">
              <a:off x="5077800" y="2424600"/>
              <a:ext cx="188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机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113"/>
            <p:cNvSpPr/>
            <p:nvPr/>
          </p:nvSpPr>
          <p:spPr>
            <a:xfrm>
              <a:off x="5373000" y="2372760"/>
              <a:ext cx="188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机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Freeform 6"/>
          <p:cNvSpPr/>
          <p:nvPr/>
        </p:nvSpPr>
        <p:spPr>
          <a:xfrm>
            <a:off x="-4680" y="372960"/>
            <a:ext cx="1689120" cy="44136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0004" h="10000">
                <a:moveTo>
                  <a:pt x="0" y="1316"/>
                </a:moveTo>
                <a:lnTo>
                  <a:pt x="6570" y="1316"/>
                </a:lnTo>
                <a:cubicBezTo>
                  <a:pt x="6595" y="877"/>
                  <a:pt x="6619" y="439"/>
                  <a:pt x="6643" y="0"/>
                </a:cubicBezTo>
                <a:lnTo>
                  <a:pt x="7643" y="526"/>
                </a:lnTo>
                <a:lnTo>
                  <a:pt x="7643" y="1053"/>
                </a:lnTo>
                <a:cubicBezTo>
                  <a:pt x="7643" y="1053"/>
                  <a:pt x="8857" y="-263"/>
                  <a:pt x="9857" y="1316"/>
                </a:cubicBezTo>
                <a:cubicBezTo>
                  <a:pt x="9857" y="1316"/>
                  <a:pt x="10000" y="2368"/>
                  <a:pt x="9643" y="2105"/>
                </a:cubicBezTo>
                <a:cubicBezTo>
                  <a:pt x="9643" y="2105"/>
                  <a:pt x="8989" y="1550"/>
                  <a:pt x="8929" y="1579"/>
                </a:cubicBezTo>
                <a:cubicBezTo>
                  <a:pt x="8869" y="1608"/>
                  <a:pt x="8801" y="1708"/>
                  <a:pt x="9285" y="2279"/>
                </a:cubicBezTo>
                <a:cubicBezTo>
                  <a:pt x="9285" y="2279"/>
                  <a:pt x="10073" y="2868"/>
                  <a:pt x="10000" y="3684"/>
                </a:cubicBezTo>
                <a:cubicBezTo>
                  <a:pt x="9979" y="3920"/>
                  <a:pt x="10000" y="4211"/>
                  <a:pt x="9500" y="3684"/>
                </a:cubicBezTo>
                <a:cubicBezTo>
                  <a:pt x="9500" y="3684"/>
                  <a:pt x="9143" y="2895"/>
                  <a:pt x="9000" y="3158"/>
                </a:cubicBezTo>
                <a:cubicBezTo>
                  <a:pt x="8857" y="3421"/>
                  <a:pt x="9222" y="3706"/>
                  <a:pt x="9357" y="3947"/>
                </a:cubicBezTo>
                <a:cubicBezTo>
                  <a:pt x="9492" y="4188"/>
                  <a:pt x="10038" y="4591"/>
                  <a:pt x="10000" y="5789"/>
                </a:cubicBezTo>
                <a:cubicBezTo>
                  <a:pt x="10000" y="5789"/>
                  <a:pt x="9931" y="6853"/>
                  <a:pt x="9643" y="6053"/>
                </a:cubicBezTo>
                <a:cubicBezTo>
                  <a:pt x="9355" y="5253"/>
                  <a:pt x="9071" y="4211"/>
                  <a:pt x="9000" y="4737"/>
                </a:cubicBezTo>
                <a:cubicBezTo>
                  <a:pt x="9000" y="4737"/>
                  <a:pt x="9429" y="5789"/>
                  <a:pt x="9285" y="7895"/>
                </a:cubicBezTo>
                <a:cubicBezTo>
                  <a:pt x="9285" y="7895"/>
                  <a:pt x="9143" y="10000"/>
                  <a:pt x="8786" y="10000"/>
                </a:cubicBezTo>
                <a:cubicBezTo>
                  <a:pt x="8786" y="10000"/>
                  <a:pt x="8429" y="10000"/>
                  <a:pt x="8571" y="8947"/>
                </a:cubicBezTo>
                <a:cubicBezTo>
                  <a:pt x="8571" y="8947"/>
                  <a:pt x="9285" y="6842"/>
                  <a:pt x="8714" y="5526"/>
                </a:cubicBezTo>
                <a:cubicBezTo>
                  <a:pt x="8714" y="5526"/>
                  <a:pt x="8143" y="4737"/>
                  <a:pt x="7929" y="7105"/>
                </a:cubicBezTo>
                <a:cubicBezTo>
                  <a:pt x="7929" y="7105"/>
                  <a:pt x="8083" y="8595"/>
                  <a:pt x="8214" y="8421"/>
                </a:cubicBezTo>
                <a:cubicBezTo>
                  <a:pt x="8345" y="8247"/>
                  <a:pt x="8357" y="10263"/>
                  <a:pt x="7929" y="9211"/>
                </a:cubicBezTo>
                <a:cubicBezTo>
                  <a:pt x="7929" y="9211"/>
                  <a:pt x="7643" y="8684"/>
                  <a:pt x="7643" y="7105"/>
                </a:cubicBezTo>
                <a:lnTo>
                  <a:pt x="6786" y="7632"/>
                </a:lnTo>
                <a:cubicBezTo>
                  <a:pt x="6762" y="7193"/>
                  <a:pt x="6737" y="6431"/>
                  <a:pt x="6714" y="5992"/>
                </a:cubicBezTo>
                <a:lnTo>
                  <a:pt x="9" y="6053"/>
                </a:lnTo>
                <a:lnTo>
                  <a:pt x="0" y="1316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469C-AC80-43F8-8D98-03D4D713E1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组合 33"/>
          <p:cNvGrpSpPr/>
          <p:nvPr/>
        </p:nvGrpSpPr>
        <p:grpSpPr>
          <a:xfrm>
            <a:off x="-2766600" y="-1175400"/>
            <a:ext cx="15196320" cy="8457840"/>
            <a:chOff x="-2766600" y="-1175400"/>
            <a:chExt cx="15196320" cy="8457840"/>
          </a:xfrm>
        </p:grpSpPr>
        <p:sp>
          <p:nvSpPr>
            <p:cNvPr id="773" name="矩形 81"/>
            <p:cNvSpPr/>
            <p:nvPr/>
          </p:nvSpPr>
          <p:spPr>
            <a:xfrm rot="19149000">
              <a:off x="9712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81"/>
            <p:cNvSpPr/>
            <p:nvPr/>
          </p:nvSpPr>
          <p:spPr>
            <a:xfrm rot="19149000">
              <a:off x="82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81"/>
            <p:cNvSpPr/>
            <p:nvPr/>
          </p:nvSpPr>
          <p:spPr>
            <a:xfrm rot="19149000">
              <a:off x="378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81"/>
            <p:cNvSpPr/>
            <p:nvPr/>
          </p:nvSpPr>
          <p:spPr>
            <a:xfrm rot="19149000">
              <a:off x="6750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81"/>
            <p:cNvSpPr/>
            <p:nvPr/>
          </p:nvSpPr>
          <p:spPr>
            <a:xfrm rot="19149000">
              <a:off x="-213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81"/>
            <p:cNvSpPr/>
            <p:nvPr/>
          </p:nvSpPr>
          <p:spPr>
            <a:xfrm rot="19149000">
              <a:off x="21564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矩形 81"/>
            <p:cNvSpPr/>
            <p:nvPr/>
          </p:nvSpPr>
          <p:spPr>
            <a:xfrm rot="19149000">
              <a:off x="12675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81"/>
            <p:cNvSpPr/>
            <p:nvPr/>
          </p:nvSpPr>
          <p:spPr>
            <a:xfrm rot="19149000">
              <a:off x="15638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81"/>
            <p:cNvSpPr/>
            <p:nvPr/>
          </p:nvSpPr>
          <p:spPr>
            <a:xfrm rot="19149000">
              <a:off x="18601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矩形 81"/>
            <p:cNvSpPr/>
            <p:nvPr/>
          </p:nvSpPr>
          <p:spPr>
            <a:xfrm rot="19149000">
              <a:off x="33418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矩形 81"/>
            <p:cNvSpPr/>
            <p:nvPr/>
          </p:nvSpPr>
          <p:spPr>
            <a:xfrm rot="19149000">
              <a:off x="2453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81"/>
            <p:cNvSpPr/>
            <p:nvPr/>
          </p:nvSpPr>
          <p:spPr>
            <a:xfrm rot="19149000">
              <a:off x="27493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矩形 81"/>
            <p:cNvSpPr/>
            <p:nvPr/>
          </p:nvSpPr>
          <p:spPr>
            <a:xfrm rot="19149000">
              <a:off x="30456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矩形 81"/>
            <p:cNvSpPr/>
            <p:nvPr/>
          </p:nvSpPr>
          <p:spPr>
            <a:xfrm rot="19149000">
              <a:off x="4527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81"/>
            <p:cNvSpPr/>
            <p:nvPr/>
          </p:nvSpPr>
          <p:spPr>
            <a:xfrm rot="19149000">
              <a:off x="36381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矩形 81"/>
            <p:cNvSpPr/>
            <p:nvPr/>
          </p:nvSpPr>
          <p:spPr>
            <a:xfrm rot="19149000">
              <a:off x="39344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矩形 81"/>
            <p:cNvSpPr/>
            <p:nvPr/>
          </p:nvSpPr>
          <p:spPr>
            <a:xfrm rot="19149000">
              <a:off x="42307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81"/>
            <p:cNvSpPr/>
            <p:nvPr/>
          </p:nvSpPr>
          <p:spPr>
            <a:xfrm rot="19149000">
              <a:off x="57124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81"/>
            <p:cNvSpPr/>
            <p:nvPr/>
          </p:nvSpPr>
          <p:spPr>
            <a:xfrm rot="19149000">
              <a:off x="4823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81"/>
            <p:cNvSpPr/>
            <p:nvPr/>
          </p:nvSpPr>
          <p:spPr>
            <a:xfrm rot="19149000">
              <a:off x="51199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81"/>
            <p:cNvSpPr/>
            <p:nvPr/>
          </p:nvSpPr>
          <p:spPr>
            <a:xfrm rot="19149000">
              <a:off x="54162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矩形 81"/>
            <p:cNvSpPr/>
            <p:nvPr/>
          </p:nvSpPr>
          <p:spPr>
            <a:xfrm rot="19149000">
              <a:off x="71942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矩形 81"/>
            <p:cNvSpPr/>
            <p:nvPr/>
          </p:nvSpPr>
          <p:spPr>
            <a:xfrm rot="19149000">
              <a:off x="68979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矩形 81"/>
            <p:cNvSpPr/>
            <p:nvPr/>
          </p:nvSpPr>
          <p:spPr>
            <a:xfrm rot="19149000">
              <a:off x="60087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矩形 81"/>
            <p:cNvSpPr/>
            <p:nvPr/>
          </p:nvSpPr>
          <p:spPr>
            <a:xfrm rot="19149000">
              <a:off x="63050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矩形 81"/>
            <p:cNvSpPr/>
            <p:nvPr/>
          </p:nvSpPr>
          <p:spPr>
            <a:xfrm rot="19149000">
              <a:off x="66016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矩形 81"/>
            <p:cNvSpPr/>
            <p:nvPr/>
          </p:nvSpPr>
          <p:spPr>
            <a:xfrm rot="19149000">
              <a:off x="837936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矩形 81"/>
            <p:cNvSpPr/>
            <p:nvPr/>
          </p:nvSpPr>
          <p:spPr>
            <a:xfrm rot="19149000">
              <a:off x="749052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81"/>
            <p:cNvSpPr/>
            <p:nvPr/>
          </p:nvSpPr>
          <p:spPr>
            <a:xfrm rot="19149000">
              <a:off x="778680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81"/>
            <p:cNvSpPr/>
            <p:nvPr/>
          </p:nvSpPr>
          <p:spPr>
            <a:xfrm rot="19149000">
              <a:off x="808308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矩形 81"/>
            <p:cNvSpPr/>
            <p:nvPr/>
          </p:nvSpPr>
          <p:spPr>
            <a:xfrm rot="19149000">
              <a:off x="8675640" y="-1196280"/>
              <a:ext cx="38160" cy="7148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148520"/>
                <a:gd name="textAreaBottom" fmla="*/ 7148880 h 7148520"/>
              </a:gdLst>
              <a:ahLst/>
              <a:rect l="textAreaLeft" t="textAreaTop" r="textAreaRight" b="textAreaBottom"/>
              <a:pathLst>
                <a:path w="45719" h="1345044">
                  <a:moveTo>
                    <a:pt x="45719" y="39528"/>
                  </a:moveTo>
                  <a:lnTo>
                    <a:pt x="45719" y="1345044"/>
                  </a:lnTo>
                  <a:lnTo>
                    <a:pt x="0" y="1305515"/>
                  </a:lnTo>
                  <a:lnTo>
                    <a:pt x="0" y="0"/>
                  </a:lnTo>
                  <a:lnTo>
                    <a:pt x="45719" y="39528"/>
                  </a:lnTo>
                  <a:close/>
                </a:path>
              </a:pathLst>
            </a:cu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组合 65"/>
            <p:cNvGrpSpPr/>
            <p:nvPr/>
          </p:nvGrpSpPr>
          <p:grpSpPr>
            <a:xfrm>
              <a:off x="-2766600" y="-1175400"/>
              <a:ext cx="15196320" cy="8457840"/>
              <a:chOff x="-2766600" y="-1175400"/>
              <a:chExt cx="15196320" cy="8457840"/>
            </a:xfrm>
          </p:grpSpPr>
          <p:sp>
            <p:nvSpPr>
              <p:cNvPr id="805" name="矩形 81"/>
              <p:cNvSpPr/>
              <p:nvPr/>
            </p:nvSpPr>
            <p:spPr>
              <a:xfrm rot="19149000">
                <a:off x="85766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矩形 81"/>
              <p:cNvSpPr/>
              <p:nvPr/>
            </p:nvSpPr>
            <p:spPr>
              <a:xfrm rot="19149000">
                <a:off x="828036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矩形 81"/>
              <p:cNvSpPr/>
              <p:nvPr/>
            </p:nvSpPr>
            <p:spPr>
              <a:xfrm rot="19149000">
                <a:off x="97621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矩形 81"/>
              <p:cNvSpPr/>
              <p:nvPr/>
            </p:nvSpPr>
            <p:spPr>
              <a:xfrm rot="19149000">
                <a:off x="887292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矩形 81"/>
              <p:cNvSpPr/>
              <p:nvPr/>
            </p:nvSpPr>
            <p:spPr>
              <a:xfrm rot="19149000">
                <a:off x="91692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矩形 81"/>
              <p:cNvSpPr/>
              <p:nvPr/>
            </p:nvSpPr>
            <p:spPr>
              <a:xfrm rot="19149000">
                <a:off x="946584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矩形 81"/>
              <p:cNvSpPr/>
              <p:nvPr/>
            </p:nvSpPr>
            <p:spPr>
              <a:xfrm rot="19149000">
                <a:off x="10058400" y="-203364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矩形 81"/>
              <p:cNvSpPr/>
              <p:nvPr/>
            </p:nvSpPr>
            <p:spPr>
              <a:xfrm rot="19149000">
                <a:off x="-1364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矩形 81"/>
              <p:cNvSpPr/>
              <p:nvPr/>
            </p:nvSpPr>
            <p:spPr>
              <a:xfrm rot="19149000">
                <a:off x="-4330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矩形 81"/>
              <p:cNvSpPr/>
              <p:nvPr/>
            </p:nvSpPr>
            <p:spPr>
              <a:xfrm rot="19149000">
                <a:off x="104796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矩形 81"/>
              <p:cNvSpPr/>
              <p:nvPr/>
            </p:nvSpPr>
            <p:spPr>
              <a:xfrm rot="19149000">
                <a:off x="15912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矩形 81"/>
              <p:cNvSpPr/>
              <p:nvPr/>
            </p:nvSpPr>
            <p:spPr>
              <a:xfrm rot="19149000">
                <a:off x="45540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矩形 81"/>
              <p:cNvSpPr/>
              <p:nvPr/>
            </p:nvSpPr>
            <p:spPr>
              <a:xfrm rot="19149000">
                <a:off x="75168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矩形 81"/>
              <p:cNvSpPr/>
              <p:nvPr/>
            </p:nvSpPr>
            <p:spPr>
              <a:xfrm rot="19149000">
                <a:off x="1344240" y="991800"/>
                <a:ext cx="38160" cy="7148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148520"/>
                  <a:gd name="textAreaBottom" fmla="*/ 7148880 h 7148520"/>
                </a:gdLst>
                <a:ahLst/>
                <a:rect l="textAreaLeft" t="textAreaTop" r="textAreaRight" b="textAreaBottom"/>
                <a:pathLst>
                  <a:path w="45719" h="1345044">
                    <a:moveTo>
                      <a:pt x="45719" y="39528"/>
                    </a:moveTo>
                    <a:lnTo>
                      <a:pt x="45719" y="1345044"/>
                    </a:lnTo>
                    <a:lnTo>
                      <a:pt x="0" y="1305515"/>
                    </a:lnTo>
                    <a:lnTo>
                      <a:pt x="0" y="0"/>
                    </a:lnTo>
                    <a:lnTo>
                      <a:pt x="45719" y="39528"/>
                    </a:lnTo>
                    <a:close/>
                  </a:path>
                </a:pathLst>
              </a:cu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9" name="Freeform 6"/>
          <p:cNvSpPr/>
          <p:nvPr/>
        </p:nvSpPr>
        <p:spPr>
          <a:xfrm>
            <a:off x="4560840" y="1060560"/>
            <a:ext cx="284040" cy="145800"/>
          </a:xfrm>
          <a:custGeom>
            <a:avLst/>
            <a:gdLst>
              <a:gd name="textAreaLeft" fmla="*/ 0 w 284040"/>
              <a:gd name="textAreaRight" fmla="*/ 284400 w 2840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38002" h="121187">
                <a:moveTo>
                  <a:pt x="0" y="0"/>
                </a:moveTo>
                <a:cubicBezTo>
                  <a:pt x="73460" y="1599"/>
                  <a:pt x="147402" y="31034"/>
                  <a:pt x="199952" y="95897"/>
                </a:cubicBezTo>
                <a:cubicBezTo>
                  <a:pt x="202879" y="100112"/>
                  <a:pt x="205806" y="102220"/>
                  <a:pt x="211660" y="104327"/>
                </a:cubicBezTo>
                <a:cubicBezTo>
                  <a:pt x="214587" y="106435"/>
                  <a:pt x="223367" y="106435"/>
                  <a:pt x="232148" y="104327"/>
                </a:cubicBezTo>
                <a:lnTo>
                  <a:pt x="238002" y="121187"/>
                </a:lnTo>
                <a:cubicBezTo>
                  <a:pt x="223367" y="125402"/>
                  <a:pt x="211660" y="125402"/>
                  <a:pt x="199952" y="121187"/>
                </a:cubicBezTo>
                <a:cubicBezTo>
                  <a:pt x="191171" y="119080"/>
                  <a:pt x="182390" y="112757"/>
                  <a:pt x="176536" y="106435"/>
                </a:cubicBezTo>
                <a:cubicBezTo>
                  <a:pt x="131697" y="47244"/>
                  <a:pt x="65655" y="20111"/>
                  <a:pt x="0" y="18741"/>
                </a:cubicBezTo>
                <a:lnTo>
                  <a:pt x="0" y="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83"/>
          <p:cNvSpPr/>
          <p:nvPr/>
        </p:nvSpPr>
        <p:spPr>
          <a:xfrm>
            <a:off x="1793880" y="2475000"/>
            <a:ext cx="5464080" cy="1896840"/>
          </a:xfrm>
          <a:prstGeom prst="rect">
            <a:avLst/>
          </a:prstGeom>
          <a:solidFill>
            <a:srgbClr val="938953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"/>
          <p:cNvSpPr/>
          <p:nvPr/>
        </p:nvSpPr>
        <p:spPr>
          <a:xfrm>
            <a:off x="1908000" y="3292560"/>
            <a:ext cx="52470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友情提醒战友们注意时间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位战友们血战当晚一定要记得第二天还有上班这回事呐，生活必需品、欲望、省钱，这些都很重要，当然也包括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度消费，理性对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102"/>
          <p:cNvGrpSpPr/>
          <p:nvPr/>
        </p:nvGrpSpPr>
        <p:grpSpPr>
          <a:xfrm>
            <a:off x="1979640" y="2571840"/>
            <a:ext cx="1784160" cy="666720"/>
            <a:chOff x="1979640" y="2571840"/>
            <a:chExt cx="1784160" cy="666720"/>
          </a:xfrm>
        </p:grpSpPr>
        <p:sp>
          <p:nvSpPr>
            <p:cNvPr id="823" name="圆角矩形 85"/>
            <p:cNvSpPr/>
            <p:nvPr/>
          </p:nvSpPr>
          <p:spPr>
            <a:xfrm>
              <a:off x="1979640" y="2571840"/>
              <a:ext cx="1784160" cy="66672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94"/>
            <p:cNvSpPr/>
            <p:nvPr/>
          </p:nvSpPr>
          <p:spPr>
            <a:xfrm>
              <a:off x="2118960" y="2696760"/>
              <a:ext cx="284400" cy="2872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4521" h="286856">
                  <a:moveTo>
                    <a:pt x="237101" y="0"/>
                  </a:moveTo>
                  <a:lnTo>
                    <a:pt x="284521" y="0"/>
                  </a:lnTo>
                  <a:lnTo>
                    <a:pt x="284521" y="286856"/>
                  </a:lnTo>
                  <a:lnTo>
                    <a:pt x="237101" y="286856"/>
                  </a:lnTo>
                  <a:lnTo>
                    <a:pt x="0" y="286856"/>
                  </a:lnTo>
                  <a:lnTo>
                    <a:pt x="0" y="236156"/>
                  </a:lnTo>
                  <a:lnTo>
                    <a:pt x="206982" y="236156"/>
                  </a:lnTo>
                  <a:lnTo>
                    <a:pt x="42129" y="62333"/>
                  </a:lnTo>
                  <a:lnTo>
                    <a:pt x="76800" y="29451"/>
                  </a:lnTo>
                  <a:lnTo>
                    <a:pt x="237101" y="198474"/>
                  </a:lnTo>
                  <a:lnTo>
                    <a:pt x="23710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89"/>
            <p:cNvSpPr/>
            <p:nvPr/>
          </p:nvSpPr>
          <p:spPr>
            <a:xfrm>
              <a:off x="2118960" y="3124800"/>
              <a:ext cx="1503360" cy="0"/>
            </a:xfrm>
            <a:prstGeom prst="line">
              <a:avLst/>
            </a:prstGeom>
            <a:ln w="6480">
              <a:solidFill>
                <a:srgbClr val="cd1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84"/>
          <p:cNvGrpSpPr/>
          <p:nvPr/>
        </p:nvGrpSpPr>
        <p:grpSpPr>
          <a:xfrm>
            <a:off x="1355760" y="627120"/>
            <a:ext cx="6453000" cy="554040"/>
            <a:chOff x="1355760" y="627120"/>
            <a:chExt cx="6453000" cy="554040"/>
          </a:xfrm>
        </p:grpSpPr>
        <p:sp>
          <p:nvSpPr>
            <p:cNvPr id="827" name="等腰三角形 86"/>
            <p:cNvSpPr/>
            <p:nvPr/>
          </p:nvSpPr>
          <p:spPr>
            <a:xfrm>
              <a:off x="1355760" y="637920"/>
              <a:ext cx="330480" cy="185040"/>
            </a:xfrm>
            <a:prstGeom prst="triangle">
              <a:avLst>
                <a:gd name="adj" fmla="val 50000"/>
              </a:avLst>
            </a:prstGeom>
            <a:solidFill>
              <a:srgbClr val="953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组合 87"/>
            <p:cNvGrpSpPr/>
            <p:nvPr/>
          </p:nvGrpSpPr>
          <p:grpSpPr>
            <a:xfrm>
              <a:off x="1510560" y="627120"/>
              <a:ext cx="6298200" cy="554040"/>
              <a:chOff x="1510560" y="627120"/>
              <a:chExt cx="6298200" cy="554040"/>
            </a:xfrm>
          </p:grpSpPr>
          <p:sp>
            <p:nvSpPr>
              <p:cNvPr id="829" name="等腰三角形 88"/>
              <p:cNvSpPr/>
              <p:nvPr/>
            </p:nvSpPr>
            <p:spPr>
              <a:xfrm>
                <a:off x="7478280" y="637920"/>
                <a:ext cx="330480" cy="185040"/>
              </a:xfrm>
              <a:prstGeom prst="triangle">
                <a:avLst>
                  <a:gd name="adj" fmla="val 50000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任意多边形 91"/>
              <p:cNvSpPr/>
              <p:nvPr/>
            </p:nvSpPr>
            <p:spPr>
              <a:xfrm>
                <a:off x="1510560" y="642600"/>
                <a:ext cx="6145920" cy="538560"/>
              </a:xfrm>
              <a:custGeom>
                <a:avLst/>
                <a:gdLst>
                  <a:gd name="textAreaLeft" fmla="*/ 0 w 6145920"/>
                  <a:gd name="textAreaRight" fmla="*/ 6146280 w 614592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2910840" h="457200">
                    <a:moveTo>
                      <a:pt x="0" y="0"/>
                    </a:moveTo>
                    <a:lnTo>
                      <a:pt x="251460" y="457200"/>
                    </a:lnTo>
                    <a:lnTo>
                      <a:pt x="2659380" y="449580"/>
                    </a:lnTo>
                    <a:lnTo>
                      <a:pt x="29108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1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矩形 92"/>
              <p:cNvSpPr/>
              <p:nvPr/>
            </p:nvSpPr>
            <p:spPr>
              <a:xfrm>
                <a:off x="3727440" y="627120"/>
                <a:ext cx="179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锐普视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任意多边形 2"/>
          <p:cNvSpPr/>
          <p:nvPr/>
        </p:nvSpPr>
        <p:spPr>
          <a:xfrm>
            <a:off x="7410600" y="-7920"/>
            <a:ext cx="360" cy="646200"/>
          </a:xfrm>
          <a:custGeom>
            <a:avLst/>
            <a:gdLst/>
            <a:ahLst/>
            <a:rect l="l" t="t" r="r" b="b"/>
            <a:pathLst>
              <a:path w="635" h="647700">
                <a:moveTo>
                  <a:pt x="0" y="0"/>
                </a:moveTo>
                <a:lnTo>
                  <a:pt x="0" y="647700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5"/>
          <p:cNvSpPr/>
          <p:nvPr/>
        </p:nvSpPr>
        <p:spPr>
          <a:xfrm>
            <a:off x="1457280" y="828720"/>
            <a:ext cx="5810400" cy="4324320"/>
          </a:xfrm>
          <a:custGeom>
            <a:avLst/>
            <a:gdLst>
              <a:gd name="textAreaLeft" fmla="*/ 0 w 5810400"/>
              <a:gd name="textAreaRight" fmla="*/ 5810760 w 5810400"/>
              <a:gd name="textAreaTop" fmla="*/ 0 h 4324320"/>
              <a:gd name="textAreaBottom" fmla="*/ 4324680 h 4324320"/>
            </a:gdLst>
            <a:ahLst/>
            <a:rect l="textAreaLeft" t="textAreaTop" r="textAreaRight" b="textAreaBottom"/>
            <a:pathLst>
              <a:path w="5810250" h="4324350">
                <a:moveTo>
                  <a:pt x="0" y="0"/>
                </a:moveTo>
                <a:lnTo>
                  <a:pt x="0" y="3829050"/>
                </a:lnTo>
                <a:lnTo>
                  <a:pt x="5810250" y="3829050"/>
                </a:lnTo>
                <a:lnTo>
                  <a:pt x="5810250" y="4324350"/>
                </a:lnTo>
              </a:path>
            </a:pathLst>
          </a:custGeom>
          <a:noFill/>
          <a:ln w="3240">
            <a:solidFill>
              <a:srgbClr val="97480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组合 95"/>
          <p:cNvGrpSpPr/>
          <p:nvPr/>
        </p:nvGrpSpPr>
        <p:grpSpPr>
          <a:xfrm>
            <a:off x="7091280" y="4476600"/>
            <a:ext cx="371520" cy="371520"/>
            <a:chOff x="7091280" y="4476600"/>
            <a:chExt cx="371520" cy="371520"/>
          </a:xfrm>
        </p:grpSpPr>
        <p:sp>
          <p:nvSpPr>
            <p:cNvPr id="835" name="椭圆 96"/>
            <p:cNvSpPr/>
            <p:nvPr/>
          </p:nvSpPr>
          <p:spPr>
            <a:xfrm>
              <a:off x="7091280" y="4476600"/>
              <a:ext cx="371520" cy="371520"/>
            </a:xfrm>
            <a:prstGeom prst="ellipse">
              <a:avLst/>
            </a:prstGeom>
            <a:solidFill>
              <a:srgbClr val="ff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组合 97"/>
            <p:cNvGrpSpPr/>
            <p:nvPr/>
          </p:nvGrpSpPr>
          <p:grpSpPr>
            <a:xfrm>
              <a:off x="7136640" y="4521600"/>
              <a:ext cx="280800" cy="281160"/>
              <a:chOff x="7136640" y="4521600"/>
              <a:chExt cx="280800" cy="281160"/>
            </a:xfrm>
          </p:grpSpPr>
          <p:sp>
            <p:nvSpPr>
              <p:cNvPr id="837" name="Oval 6"/>
              <p:cNvSpPr/>
              <p:nvPr/>
            </p:nvSpPr>
            <p:spPr>
              <a:xfrm rot="10200">
                <a:off x="7136640" y="4521960"/>
                <a:ext cx="280080" cy="280440"/>
              </a:xfrm>
              <a:prstGeom prst="ellipse">
                <a:avLst/>
              </a:prstGeom>
              <a:noFill/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8" name="组合 99"/>
              <p:cNvGrpSpPr/>
              <p:nvPr/>
            </p:nvGrpSpPr>
            <p:grpSpPr>
              <a:xfrm>
                <a:off x="7169760" y="4555080"/>
                <a:ext cx="214200" cy="213480"/>
                <a:chOff x="7169760" y="4555080"/>
                <a:chExt cx="214200" cy="213480"/>
              </a:xfrm>
            </p:grpSpPr>
            <p:sp>
              <p:nvSpPr>
                <p:cNvPr id="839" name="Freeform 8"/>
                <p:cNvSpPr/>
                <p:nvPr/>
              </p:nvSpPr>
              <p:spPr>
                <a:xfrm rot="10200">
                  <a:off x="7247880" y="455508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9"/>
                <p:cNvSpPr/>
                <p:nvPr/>
              </p:nvSpPr>
              <p:spPr>
                <a:xfrm rot="10200">
                  <a:off x="7170120" y="461304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0"/>
                <p:cNvSpPr/>
                <p:nvPr/>
              </p:nvSpPr>
              <p:spPr>
                <a:xfrm rot="10200">
                  <a:off x="7198200" y="4563000"/>
                  <a:ext cx="39600" cy="29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1"/>
                <p:cNvSpPr/>
                <p:nvPr/>
              </p:nvSpPr>
              <p:spPr>
                <a:xfrm rot="10200">
                  <a:off x="7290360" y="4555440"/>
                  <a:ext cx="20880" cy="3708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2"/>
                <p:cNvSpPr/>
                <p:nvPr/>
              </p:nvSpPr>
              <p:spPr>
                <a:xfrm rot="10200">
                  <a:off x="7338600" y="4613760"/>
                  <a:ext cx="45000" cy="3744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3"/>
                <p:cNvSpPr/>
                <p:nvPr/>
              </p:nvSpPr>
              <p:spPr>
                <a:xfrm rot="10200">
                  <a:off x="7321320" y="4563360"/>
                  <a:ext cx="39240" cy="291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4"/>
                <p:cNvSpPr/>
                <p:nvPr/>
              </p:nvSpPr>
              <p:spPr>
                <a:xfrm rot="10200">
                  <a:off x="7244280" y="473148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5"/>
                <p:cNvSpPr/>
                <p:nvPr/>
              </p:nvSpPr>
              <p:spPr>
                <a:xfrm rot="10200">
                  <a:off x="7169400" y="467208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6"/>
                <p:cNvSpPr/>
                <p:nvPr/>
              </p:nvSpPr>
              <p:spPr>
                <a:xfrm rot="10200">
                  <a:off x="7194600" y="4731480"/>
                  <a:ext cx="39600" cy="288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7"/>
                <p:cNvSpPr/>
                <p:nvPr/>
              </p:nvSpPr>
              <p:spPr>
                <a:xfrm rot="10200">
                  <a:off x="7286400" y="4731840"/>
                  <a:ext cx="20880" cy="367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8"/>
                <p:cNvSpPr/>
                <p:nvPr/>
              </p:nvSpPr>
              <p:spPr>
                <a:xfrm rot="10200">
                  <a:off x="7337880" y="4672800"/>
                  <a:ext cx="45000" cy="38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19"/>
                <p:cNvSpPr/>
                <p:nvPr/>
              </p:nvSpPr>
              <p:spPr>
                <a:xfrm rot="10200">
                  <a:off x="7318080" y="4731840"/>
                  <a:ext cx="39240" cy="288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21"/>
                <p:cNvSpPr/>
                <p:nvPr/>
              </p:nvSpPr>
              <p:spPr>
                <a:xfrm rot="10200">
                  <a:off x="7227360" y="4613040"/>
                  <a:ext cx="103680" cy="9612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2" name="Freeform 6"/>
          <p:cNvSpPr/>
          <p:nvPr/>
        </p:nvSpPr>
        <p:spPr>
          <a:xfrm>
            <a:off x="-4680" y="372960"/>
            <a:ext cx="1689120" cy="44136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0004" h="10000">
                <a:moveTo>
                  <a:pt x="0" y="1316"/>
                </a:moveTo>
                <a:lnTo>
                  <a:pt x="6570" y="1316"/>
                </a:lnTo>
                <a:cubicBezTo>
                  <a:pt x="6595" y="877"/>
                  <a:pt x="6619" y="439"/>
                  <a:pt x="6643" y="0"/>
                </a:cubicBezTo>
                <a:lnTo>
                  <a:pt x="7643" y="526"/>
                </a:lnTo>
                <a:lnTo>
                  <a:pt x="7643" y="1053"/>
                </a:lnTo>
                <a:cubicBezTo>
                  <a:pt x="7643" y="1053"/>
                  <a:pt x="8857" y="-263"/>
                  <a:pt x="9857" y="1316"/>
                </a:cubicBezTo>
                <a:cubicBezTo>
                  <a:pt x="9857" y="1316"/>
                  <a:pt x="10000" y="2368"/>
                  <a:pt x="9643" y="2105"/>
                </a:cubicBezTo>
                <a:cubicBezTo>
                  <a:pt x="9643" y="2105"/>
                  <a:pt x="8989" y="1550"/>
                  <a:pt x="8929" y="1579"/>
                </a:cubicBezTo>
                <a:cubicBezTo>
                  <a:pt x="8869" y="1608"/>
                  <a:pt x="8801" y="1708"/>
                  <a:pt x="9285" y="2279"/>
                </a:cubicBezTo>
                <a:cubicBezTo>
                  <a:pt x="9285" y="2279"/>
                  <a:pt x="10073" y="2868"/>
                  <a:pt x="10000" y="3684"/>
                </a:cubicBezTo>
                <a:cubicBezTo>
                  <a:pt x="9979" y="3920"/>
                  <a:pt x="10000" y="4211"/>
                  <a:pt x="9500" y="3684"/>
                </a:cubicBezTo>
                <a:cubicBezTo>
                  <a:pt x="9500" y="3684"/>
                  <a:pt x="9143" y="2895"/>
                  <a:pt x="9000" y="3158"/>
                </a:cubicBezTo>
                <a:cubicBezTo>
                  <a:pt x="8857" y="3421"/>
                  <a:pt x="9222" y="3706"/>
                  <a:pt x="9357" y="3947"/>
                </a:cubicBezTo>
                <a:cubicBezTo>
                  <a:pt x="9492" y="4188"/>
                  <a:pt x="10038" y="4591"/>
                  <a:pt x="10000" y="5789"/>
                </a:cubicBezTo>
                <a:cubicBezTo>
                  <a:pt x="10000" y="5789"/>
                  <a:pt x="9931" y="6853"/>
                  <a:pt x="9643" y="6053"/>
                </a:cubicBezTo>
                <a:cubicBezTo>
                  <a:pt x="9355" y="5253"/>
                  <a:pt x="9071" y="4211"/>
                  <a:pt x="9000" y="4737"/>
                </a:cubicBezTo>
                <a:cubicBezTo>
                  <a:pt x="9000" y="4737"/>
                  <a:pt x="9429" y="5789"/>
                  <a:pt x="9285" y="7895"/>
                </a:cubicBezTo>
                <a:cubicBezTo>
                  <a:pt x="9285" y="7895"/>
                  <a:pt x="9143" y="10000"/>
                  <a:pt x="8786" y="10000"/>
                </a:cubicBezTo>
                <a:cubicBezTo>
                  <a:pt x="8786" y="10000"/>
                  <a:pt x="8429" y="10000"/>
                  <a:pt x="8571" y="8947"/>
                </a:cubicBezTo>
                <a:cubicBezTo>
                  <a:pt x="8571" y="8947"/>
                  <a:pt x="9285" y="6842"/>
                  <a:pt x="8714" y="5526"/>
                </a:cubicBezTo>
                <a:cubicBezTo>
                  <a:pt x="8714" y="5526"/>
                  <a:pt x="8143" y="4737"/>
                  <a:pt x="7929" y="7105"/>
                </a:cubicBezTo>
                <a:cubicBezTo>
                  <a:pt x="7929" y="7105"/>
                  <a:pt x="8083" y="8595"/>
                  <a:pt x="8214" y="8421"/>
                </a:cubicBezTo>
                <a:cubicBezTo>
                  <a:pt x="8345" y="8247"/>
                  <a:pt x="8357" y="10263"/>
                  <a:pt x="7929" y="9211"/>
                </a:cubicBezTo>
                <a:cubicBezTo>
                  <a:pt x="7929" y="9211"/>
                  <a:pt x="7643" y="8684"/>
                  <a:pt x="7643" y="7105"/>
                </a:cubicBezTo>
                <a:lnTo>
                  <a:pt x="6786" y="7632"/>
                </a:lnTo>
                <a:cubicBezTo>
                  <a:pt x="6762" y="7193"/>
                  <a:pt x="6737" y="6431"/>
                  <a:pt x="6714" y="5992"/>
                </a:cubicBezTo>
                <a:lnTo>
                  <a:pt x="9" y="6053"/>
                </a:lnTo>
                <a:lnTo>
                  <a:pt x="0" y="1316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116"/>
          <p:cNvSpPr/>
          <p:nvPr/>
        </p:nvSpPr>
        <p:spPr>
          <a:xfrm>
            <a:off x="2471760" y="25844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429"/>
                </a:solidFill>
                <a:latin typeface="Arial Unicode MS"/>
                <a:ea typeface="Arial Unicode MS"/>
              </a:rPr>
              <a:t>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6"/>
          <p:cNvSpPr/>
          <p:nvPr/>
        </p:nvSpPr>
        <p:spPr>
          <a:xfrm>
            <a:off x="4411800" y="1066680"/>
            <a:ext cx="250560" cy="495360"/>
          </a:xfrm>
          <a:custGeom>
            <a:avLst/>
            <a:gdLst>
              <a:gd name="textAreaLeft" fmla="*/ 0 w 250560"/>
              <a:gd name="textAreaRight" fmla="*/ 250920 w 250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50417" h="495260">
                <a:moveTo>
                  <a:pt x="211121" y="0"/>
                </a:moveTo>
                <a:lnTo>
                  <a:pt x="250417" y="145"/>
                </a:lnTo>
                <a:lnTo>
                  <a:pt x="250417" y="21145"/>
                </a:lnTo>
                <a:cubicBezTo>
                  <a:pt x="238348" y="17756"/>
                  <a:pt x="226125" y="17964"/>
                  <a:pt x="214048" y="18967"/>
                </a:cubicBezTo>
                <a:cubicBezTo>
                  <a:pt x="170143" y="23182"/>
                  <a:pt x="126239" y="35827"/>
                  <a:pt x="94043" y="56902"/>
                </a:cubicBezTo>
                <a:cubicBezTo>
                  <a:pt x="61846" y="75869"/>
                  <a:pt x="38430" y="103267"/>
                  <a:pt x="29650" y="132772"/>
                </a:cubicBezTo>
                <a:cubicBezTo>
                  <a:pt x="15015" y="183351"/>
                  <a:pt x="44284" y="244469"/>
                  <a:pt x="152582" y="303478"/>
                </a:cubicBezTo>
                <a:cubicBezTo>
                  <a:pt x="155509" y="307693"/>
                  <a:pt x="158436" y="309801"/>
                  <a:pt x="161362" y="309801"/>
                </a:cubicBezTo>
                <a:cubicBezTo>
                  <a:pt x="184778" y="326661"/>
                  <a:pt x="208194" y="341413"/>
                  <a:pt x="211121" y="373026"/>
                </a:cubicBezTo>
                <a:cubicBezTo>
                  <a:pt x="208194" y="495260"/>
                  <a:pt x="208194" y="495260"/>
                  <a:pt x="208194" y="495260"/>
                </a:cubicBezTo>
                <a:cubicBezTo>
                  <a:pt x="181851" y="495260"/>
                  <a:pt x="181851" y="495260"/>
                  <a:pt x="181851" y="495260"/>
                </a:cubicBezTo>
                <a:cubicBezTo>
                  <a:pt x="184778" y="373026"/>
                  <a:pt x="184778" y="373026"/>
                  <a:pt x="184778" y="373026"/>
                </a:cubicBezTo>
                <a:cubicBezTo>
                  <a:pt x="181851" y="349843"/>
                  <a:pt x="164289" y="337198"/>
                  <a:pt x="143801" y="324553"/>
                </a:cubicBezTo>
                <a:cubicBezTo>
                  <a:pt x="140874" y="322446"/>
                  <a:pt x="137947" y="320338"/>
                  <a:pt x="135020" y="318231"/>
                </a:cubicBezTo>
                <a:cubicBezTo>
                  <a:pt x="20869" y="255006"/>
                  <a:pt x="-11328" y="185459"/>
                  <a:pt x="3307" y="128557"/>
                </a:cubicBezTo>
                <a:cubicBezTo>
                  <a:pt x="12088" y="94837"/>
                  <a:pt x="41357" y="63224"/>
                  <a:pt x="76481" y="42149"/>
                </a:cubicBezTo>
                <a:cubicBezTo>
                  <a:pt x="114531" y="18967"/>
                  <a:pt x="161362" y="4215"/>
                  <a:pt x="211121" y="0"/>
                </a:cubicBez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"/>
          <p:cNvSpPr/>
          <p:nvPr/>
        </p:nvSpPr>
        <p:spPr>
          <a:xfrm>
            <a:off x="3083040" y="1536840"/>
            <a:ext cx="2977920" cy="755640"/>
          </a:xfrm>
          <a:custGeom>
            <a:avLst/>
            <a:gdLst>
              <a:gd name="textAreaLeft" fmla="*/ 0 w 2977920"/>
              <a:gd name="textAreaRight" fmla="*/ 2978280 w 297792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1272" h="437">
                <a:moveTo>
                  <a:pt x="628" y="111"/>
                </a:moveTo>
                <a:cubicBezTo>
                  <a:pt x="1272" y="437"/>
                  <a:pt x="1272" y="437"/>
                  <a:pt x="1272" y="437"/>
                </a:cubicBezTo>
                <a:cubicBezTo>
                  <a:pt x="1270" y="395"/>
                  <a:pt x="1270" y="395"/>
                  <a:pt x="1270" y="395"/>
                </a:cubicBezTo>
                <a:cubicBezTo>
                  <a:pt x="1271" y="376"/>
                  <a:pt x="1248" y="354"/>
                  <a:pt x="1216" y="335"/>
                </a:cubicBezTo>
                <a:cubicBezTo>
                  <a:pt x="1213" y="340"/>
                  <a:pt x="1207" y="344"/>
                  <a:pt x="1200" y="344"/>
                </a:cubicBezTo>
                <a:cubicBezTo>
                  <a:pt x="1190" y="344"/>
                  <a:pt x="1181" y="335"/>
                  <a:pt x="1181" y="325"/>
                </a:cubicBezTo>
                <a:cubicBezTo>
                  <a:pt x="1181" y="322"/>
                  <a:pt x="1182" y="320"/>
                  <a:pt x="1182" y="317"/>
                </a:cubicBezTo>
                <a:cubicBezTo>
                  <a:pt x="1182" y="317"/>
                  <a:pt x="1181" y="317"/>
                  <a:pt x="1180" y="316"/>
                </a:cubicBezTo>
                <a:cubicBezTo>
                  <a:pt x="1061" y="257"/>
                  <a:pt x="1004" y="248"/>
                  <a:pt x="927" y="213"/>
                </a:cubicBezTo>
                <a:cubicBezTo>
                  <a:pt x="907" y="201"/>
                  <a:pt x="823" y="157"/>
                  <a:pt x="779" y="79"/>
                </a:cubicBezTo>
                <a:cubicBezTo>
                  <a:pt x="753" y="34"/>
                  <a:pt x="710" y="5"/>
                  <a:pt x="633" y="0"/>
                </a:cubicBezTo>
                <a:cubicBezTo>
                  <a:pt x="566" y="3"/>
                  <a:pt x="524" y="24"/>
                  <a:pt x="501" y="59"/>
                </a:cubicBezTo>
                <a:cubicBezTo>
                  <a:pt x="449" y="141"/>
                  <a:pt x="400" y="181"/>
                  <a:pt x="331" y="211"/>
                </a:cubicBezTo>
                <a:cubicBezTo>
                  <a:pt x="92" y="315"/>
                  <a:pt x="92" y="315"/>
                  <a:pt x="92" y="315"/>
                </a:cubicBezTo>
                <a:cubicBezTo>
                  <a:pt x="91" y="316"/>
                  <a:pt x="91" y="316"/>
                  <a:pt x="91" y="316"/>
                </a:cubicBezTo>
                <a:cubicBezTo>
                  <a:pt x="92" y="318"/>
                  <a:pt x="93" y="321"/>
                  <a:pt x="93" y="325"/>
                </a:cubicBezTo>
                <a:cubicBezTo>
                  <a:pt x="93" y="335"/>
                  <a:pt x="84" y="344"/>
                  <a:pt x="74" y="344"/>
                </a:cubicBezTo>
                <a:cubicBezTo>
                  <a:pt x="67" y="344"/>
                  <a:pt x="61" y="340"/>
                  <a:pt x="57" y="334"/>
                </a:cubicBezTo>
                <a:cubicBezTo>
                  <a:pt x="27" y="353"/>
                  <a:pt x="1" y="377"/>
                  <a:pt x="1" y="403"/>
                </a:cubicBezTo>
                <a:cubicBezTo>
                  <a:pt x="0" y="436"/>
                  <a:pt x="0" y="436"/>
                  <a:pt x="0" y="436"/>
                </a:cubicBezTo>
                <a:lnTo>
                  <a:pt x="628" y="111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8"/>
          <p:cNvSpPr/>
          <p:nvPr/>
        </p:nvSpPr>
        <p:spPr>
          <a:xfrm>
            <a:off x="3313080" y="2139840"/>
            <a:ext cx="2519280" cy="3985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076" h="230">
                <a:moveTo>
                  <a:pt x="815" y="102"/>
                </a:moveTo>
                <a:cubicBezTo>
                  <a:pt x="823" y="102"/>
                  <a:pt x="823" y="102"/>
                  <a:pt x="823" y="102"/>
                </a:cubicBezTo>
                <a:cubicBezTo>
                  <a:pt x="823" y="143"/>
                  <a:pt x="823" y="143"/>
                  <a:pt x="823" y="143"/>
                </a:cubicBezTo>
                <a:cubicBezTo>
                  <a:pt x="1046" y="143"/>
                  <a:pt x="1046" y="143"/>
                  <a:pt x="1046" y="143"/>
                </a:cubicBezTo>
                <a:cubicBezTo>
                  <a:pt x="1046" y="143"/>
                  <a:pt x="1046" y="143"/>
                  <a:pt x="1046" y="143"/>
                </a:cubicBezTo>
                <a:cubicBezTo>
                  <a:pt x="1046" y="143"/>
                  <a:pt x="1046" y="143"/>
                  <a:pt x="1046" y="143"/>
                </a:cubicBezTo>
                <a:cubicBezTo>
                  <a:pt x="1052" y="143"/>
                  <a:pt x="1057" y="140"/>
                  <a:pt x="1061" y="136"/>
                </a:cubicBezTo>
                <a:cubicBezTo>
                  <a:pt x="1065" y="132"/>
                  <a:pt x="1067" y="127"/>
                  <a:pt x="1067" y="121"/>
                </a:cubicBezTo>
                <a:cubicBezTo>
                  <a:pt x="1067" y="121"/>
                  <a:pt x="1067" y="121"/>
                  <a:pt x="1067" y="121"/>
                </a:cubicBezTo>
                <a:cubicBezTo>
                  <a:pt x="1067" y="121"/>
                  <a:pt x="1067" y="121"/>
                  <a:pt x="1067" y="121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76" y="0"/>
                  <a:pt x="1076" y="0"/>
                  <a:pt x="1076" y="0"/>
                </a:cubicBezTo>
                <a:cubicBezTo>
                  <a:pt x="1076" y="121"/>
                  <a:pt x="1076" y="121"/>
                  <a:pt x="1076" y="121"/>
                </a:cubicBezTo>
                <a:cubicBezTo>
                  <a:pt x="1076" y="121"/>
                  <a:pt x="1076" y="121"/>
                  <a:pt x="1076" y="121"/>
                </a:cubicBezTo>
                <a:cubicBezTo>
                  <a:pt x="1076" y="121"/>
                  <a:pt x="1076" y="121"/>
                  <a:pt x="1076" y="121"/>
                </a:cubicBezTo>
                <a:cubicBezTo>
                  <a:pt x="1076" y="129"/>
                  <a:pt x="1073" y="137"/>
                  <a:pt x="1067" y="143"/>
                </a:cubicBezTo>
                <a:cubicBezTo>
                  <a:pt x="1062" y="148"/>
                  <a:pt x="1054" y="152"/>
                  <a:pt x="1046" y="152"/>
                </a:cubicBezTo>
                <a:cubicBezTo>
                  <a:pt x="1046" y="152"/>
                  <a:pt x="1046" y="152"/>
                  <a:pt x="1046" y="152"/>
                </a:cubicBezTo>
                <a:cubicBezTo>
                  <a:pt x="1046" y="152"/>
                  <a:pt x="1046" y="152"/>
                  <a:pt x="1046" y="152"/>
                </a:cubicBezTo>
                <a:cubicBezTo>
                  <a:pt x="823" y="152"/>
                  <a:pt x="823" y="152"/>
                  <a:pt x="823" y="152"/>
                </a:cubicBezTo>
                <a:cubicBezTo>
                  <a:pt x="823" y="230"/>
                  <a:pt x="823" y="230"/>
                  <a:pt x="823" y="230"/>
                </a:cubicBezTo>
                <a:cubicBezTo>
                  <a:pt x="815" y="230"/>
                  <a:pt x="815" y="230"/>
                  <a:pt x="815" y="230"/>
                </a:cubicBezTo>
                <a:cubicBezTo>
                  <a:pt x="815" y="227"/>
                  <a:pt x="815" y="227"/>
                  <a:pt x="815" y="227"/>
                </a:cubicBezTo>
                <a:cubicBezTo>
                  <a:pt x="818" y="227"/>
                  <a:pt x="818" y="227"/>
                  <a:pt x="818" y="227"/>
                </a:cubicBezTo>
                <a:cubicBezTo>
                  <a:pt x="818" y="156"/>
                  <a:pt x="818" y="156"/>
                  <a:pt x="818" y="156"/>
                </a:cubicBezTo>
                <a:cubicBezTo>
                  <a:pt x="815" y="156"/>
                  <a:pt x="815" y="156"/>
                  <a:pt x="815" y="156"/>
                </a:cubicBezTo>
                <a:cubicBezTo>
                  <a:pt x="815" y="151"/>
                  <a:pt x="815" y="151"/>
                  <a:pt x="815" y="151"/>
                </a:cubicBezTo>
                <a:cubicBezTo>
                  <a:pt x="819" y="151"/>
                  <a:pt x="819" y="151"/>
                  <a:pt x="819" y="151"/>
                </a:cubicBezTo>
                <a:cubicBezTo>
                  <a:pt x="819" y="144"/>
                  <a:pt x="819" y="144"/>
                  <a:pt x="819" y="144"/>
                </a:cubicBezTo>
                <a:cubicBezTo>
                  <a:pt x="815" y="144"/>
                  <a:pt x="815" y="144"/>
                  <a:pt x="815" y="144"/>
                </a:cubicBezTo>
                <a:cubicBezTo>
                  <a:pt x="815" y="141"/>
                  <a:pt x="815" y="141"/>
                  <a:pt x="815" y="141"/>
                </a:cubicBezTo>
                <a:cubicBezTo>
                  <a:pt x="819" y="141"/>
                  <a:pt x="819" y="141"/>
                  <a:pt x="819" y="141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5" y="135"/>
                  <a:pt x="815" y="135"/>
                  <a:pt x="815" y="135"/>
                </a:cubicBezTo>
                <a:cubicBezTo>
                  <a:pt x="815" y="132"/>
                  <a:pt x="815" y="132"/>
                  <a:pt x="815" y="132"/>
                </a:cubicBezTo>
                <a:cubicBezTo>
                  <a:pt x="819" y="132"/>
                  <a:pt x="819" y="132"/>
                  <a:pt x="819" y="132"/>
                </a:cubicBezTo>
                <a:cubicBezTo>
                  <a:pt x="819" y="125"/>
                  <a:pt x="819" y="125"/>
                  <a:pt x="819" y="125"/>
                </a:cubicBezTo>
                <a:cubicBezTo>
                  <a:pt x="815" y="125"/>
                  <a:pt x="815" y="125"/>
                  <a:pt x="815" y="125"/>
                </a:cubicBezTo>
                <a:cubicBezTo>
                  <a:pt x="815" y="122"/>
                  <a:pt x="815" y="122"/>
                  <a:pt x="815" y="122"/>
                </a:cubicBezTo>
                <a:cubicBezTo>
                  <a:pt x="819" y="122"/>
                  <a:pt x="819" y="122"/>
                  <a:pt x="819" y="122"/>
                </a:cubicBezTo>
                <a:cubicBezTo>
                  <a:pt x="819" y="116"/>
                  <a:pt x="819" y="116"/>
                  <a:pt x="819" y="116"/>
                </a:cubicBezTo>
                <a:cubicBezTo>
                  <a:pt x="815" y="116"/>
                  <a:pt x="815" y="116"/>
                  <a:pt x="815" y="116"/>
                </a:cubicBezTo>
                <a:cubicBezTo>
                  <a:pt x="815" y="113"/>
                  <a:pt x="815" y="113"/>
                  <a:pt x="815" y="113"/>
                </a:cubicBezTo>
                <a:cubicBezTo>
                  <a:pt x="819" y="113"/>
                  <a:pt x="819" y="113"/>
                  <a:pt x="819" y="113"/>
                </a:cubicBezTo>
                <a:cubicBezTo>
                  <a:pt x="819" y="106"/>
                  <a:pt x="819" y="106"/>
                  <a:pt x="819" y="106"/>
                </a:cubicBezTo>
                <a:cubicBezTo>
                  <a:pt x="815" y="106"/>
                  <a:pt x="815" y="106"/>
                  <a:pt x="815" y="106"/>
                </a:cubicBezTo>
                <a:lnTo>
                  <a:pt x="815" y="102"/>
                </a:lnTo>
                <a:close/>
                <a:moveTo>
                  <a:pt x="804" y="102"/>
                </a:moveTo>
                <a:cubicBezTo>
                  <a:pt x="815" y="102"/>
                  <a:pt x="815" y="102"/>
                  <a:pt x="815" y="102"/>
                </a:cubicBezTo>
                <a:cubicBezTo>
                  <a:pt x="815" y="106"/>
                  <a:pt x="815" y="106"/>
                  <a:pt x="815" y="106"/>
                </a:cubicBezTo>
                <a:cubicBezTo>
                  <a:pt x="804" y="106"/>
                  <a:pt x="804" y="106"/>
                  <a:pt x="804" y="106"/>
                </a:cubicBezTo>
                <a:cubicBezTo>
                  <a:pt x="804" y="102"/>
                  <a:pt x="804" y="102"/>
                  <a:pt x="804" y="102"/>
                </a:cubicBezTo>
                <a:close/>
                <a:moveTo>
                  <a:pt x="815" y="230"/>
                </a:moveTo>
                <a:cubicBezTo>
                  <a:pt x="804" y="230"/>
                  <a:pt x="804" y="230"/>
                  <a:pt x="804" y="230"/>
                </a:cubicBezTo>
                <a:cubicBezTo>
                  <a:pt x="804" y="227"/>
                  <a:pt x="804" y="227"/>
                  <a:pt x="804" y="227"/>
                </a:cubicBezTo>
                <a:cubicBezTo>
                  <a:pt x="808" y="227"/>
                  <a:pt x="808" y="227"/>
                  <a:pt x="808" y="227"/>
                </a:cubicBezTo>
                <a:cubicBezTo>
                  <a:pt x="808" y="156"/>
                  <a:pt x="808" y="156"/>
                  <a:pt x="808" y="156"/>
                </a:cubicBezTo>
                <a:cubicBezTo>
                  <a:pt x="804" y="156"/>
                  <a:pt x="804" y="156"/>
                  <a:pt x="804" y="156"/>
                </a:cubicBezTo>
                <a:cubicBezTo>
                  <a:pt x="804" y="151"/>
                  <a:pt x="804" y="151"/>
                  <a:pt x="804" y="151"/>
                </a:cubicBezTo>
                <a:cubicBezTo>
                  <a:pt x="815" y="151"/>
                  <a:pt x="815" y="151"/>
                  <a:pt x="815" y="151"/>
                </a:cubicBezTo>
                <a:cubicBezTo>
                  <a:pt x="815" y="156"/>
                  <a:pt x="815" y="156"/>
                  <a:pt x="815" y="156"/>
                </a:cubicBezTo>
                <a:cubicBezTo>
                  <a:pt x="812" y="156"/>
                  <a:pt x="812" y="156"/>
                  <a:pt x="812" y="156"/>
                </a:cubicBezTo>
                <a:cubicBezTo>
                  <a:pt x="812" y="227"/>
                  <a:pt x="812" y="227"/>
                  <a:pt x="812" y="227"/>
                </a:cubicBezTo>
                <a:cubicBezTo>
                  <a:pt x="815" y="227"/>
                  <a:pt x="815" y="227"/>
                  <a:pt x="815" y="227"/>
                </a:cubicBezTo>
                <a:cubicBezTo>
                  <a:pt x="815" y="230"/>
                  <a:pt x="815" y="230"/>
                  <a:pt x="815" y="230"/>
                </a:cubicBezTo>
                <a:close/>
                <a:moveTo>
                  <a:pt x="815" y="113"/>
                </a:moveTo>
                <a:cubicBezTo>
                  <a:pt x="815" y="116"/>
                  <a:pt x="815" y="116"/>
                  <a:pt x="815" y="116"/>
                </a:cubicBezTo>
                <a:cubicBezTo>
                  <a:pt x="804" y="116"/>
                  <a:pt x="804" y="116"/>
                  <a:pt x="804" y="116"/>
                </a:cubicBezTo>
                <a:cubicBezTo>
                  <a:pt x="804" y="113"/>
                  <a:pt x="804" y="113"/>
                  <a:pt x="804" y="113"/>
                </a:cubicBezTo>
                <a:cubicBezTo>
                  <a:pt x="815" y="113"/>
                  <a:pt x="815" y="113"/>
                  <a:pt x="815" y="113"/>
                </a:cubicBezTo>
                <a:close/>
                <a:moveTo>
                  <a:pt x="815" y="122"/>
                </a:moveTo>
                <a:cubicBezTo>
                  <a:pt x="815" y="125"/>
                  <a:pt x="815" y="125"/>
                  <a:pt x="815" y="125"/>
                </a:cubicBezTo>
                <a:cubicBezTo>
                  <a:pt x="804" y="125"/>
                  <a:pt x="804" y="125"/>
                  <a:pt x="804" y="125"/>
                </a:cubicBezTo>
                <a:cubicBezTo>
                  <a:pt x="804" y="122"/>
                  <a:pt x="804" y="122"/>
                  <a:pt x="804" y="122"/>
                </a:cubicBezTo>
                <a:cubicBezTo>
                  <a:pt x="815" y="122"/>
                  <a:pt x="815" y="122"/>
                  <a:pt x="815" y="122"/>
                </a:cubicBezTo>
                <a:close/>
                <a:moveTo>
                  <a:pt x="815" y="132"/>
                </a:moveTo>
                <a:cubicBezTo>
                  <a:pt x="815" y="135"/>
                  <a:pt x="815" y="135"/>
                  <a:pt x="815" y="135"/>
                </a:cubicBezTo>
                <a:cubicBezTo>
                  <a:pt x="804" y="135"/>
                  <a:pt x="804" y="135"/>
                  <a:pt x="804" y="135"/>
                </a:cubicBezTo>
                <a:cubicBezTo>
                  <a:pt x="804" y="132"/>
                  <a:pt x="804" y="132"/>
                  <a:pt x="804" y="132"/>
                </a:cubicBezTo>
                <a:cubicBezTo>
                  <a:pt x="815" y="132"/>
                  <a:pt x="815" y="132"/>
                  <a:pt x="815" y="132"/>
                </a:cubicBezTo>
                <a:close/>
                <a:moveTo>
                  <a:pt x="815" y="141"/>
                </a:moveTo>
                <a:cubicBezTo>
                  <a:pt x="815" y="144"/>
                  <a:pt x="815" y="144"/>
                  <a:pt x="815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1"/>
                  <a:pt x="804" y="141"/>
                  <a:pt x="804" y="141"/>
                </a:cubicBezTo>
                <a:lnTo>
                  <a:pt x="815" y="141"/>
                </a:lnTo>
                <a:close/>
                <a:moveTo>
                  <a:pt x="799" y="102"/>
                </a:moveTo>
                <a:cubicBezTo>
                  <a:pt x="804" y="102"/>
                  <a:pt x="804" y="102"/>
                  <a:pt x="804" y="102"/>
                </a:cubicBezTo>
                <a:cubicBezTo>
                  <a:pt x="804" y="106"/>
                  <a:pt x="804" y="106"/>
                  <a:pt x="804" y="106"/>
                </a:cubicBezTo>
                <a:cubicBezTo>
                  <a:pt x="799" y="106"/>
                  <a:pt x="799" y="106"/>
                  <a:pt x="799" y="106"/>
                </a:cubicBezTo>
                <a:cubicBezTo>
                  <a:pt x="799" y="102"/>
                  <a:pt x="799" y="102"/>
                  <a:pt x="799" y="102"/>
                </a:cubicBezTo>
                <a:close/>
                <a:moveTo>
                  <a:pt x="804" y="230"/>
                </a:moveTo>
                <a:cubicBezTo>
                  <a:pt x="799" y="230"/>
                  <a:pt x="799" y="230"/>
                  <a:pt x="799" y="230"/>
                </a:cubicBezTo>
                <a:cubicBezTo>
                  <a:pt x="799" y="151"/>
                  <a:pt x="799" y="151"/>
                  <a:pt x="799" y="151"/>
                </a:cubicBezTo>
                <a:cubicBezTo>
                  <a:pt x="804" y="151"/>
                  <a:pt x="804" y="151"/>
                  <a:pt x="804" y="151"/>
                </a:cubicBezTo>
                <a:cubicBezTo>
                  <a:pt x="804" y="156"/>
                  <a:pt x="804" y="156"/>
                  <a:pt x="804" y="156"/>
                </a:cubicBezTo>
                <a:cubicBezTo>
                  <a:pt x="801" y="156"/>
                  <a:pt x="801" y="156"/>
                  <a:pt x="801" y="156"/>
                </a:cubicBezTo>
                <a:cubicBezTo>
                  <a:pt x="801" y="227"/>
                  <a:pt x="801" y="227"/>
                  <a:pt x="801" y="227"/>
                </a:cubicBezTo>
                <a:cubicBezTo>
                  <a:pt x="804" y="227"/>
                  <a:pt x="804" y="227"/>
                  <a:pt x="804" y="227"/>
                </a:cubicBezTo>
                <a:cubicBezTo>
                  <a:pt x="804" y="230"/>
                  <a:pt x="804" y="230"/>
                  <a:pt x="804" y="230"/>
                </a:cubicBezTo>
                <a:close/>
                <a:moveTo>
                  <a:pt x="804" y="113"/>
                </a:moveTo>
                <a:cubicBezTo>
                  <a:pt x="804" y="116"/>
                  <a:pt x="804" y="116"/>
                  <a:pt x="804" y="116"/>
                </a:cubicBezTo>
                <a:cubicBezTo>
                  <a:pt x="799" y="116"/>
                  <a:pt x="799" y="116"/>
                  <a:pt x="799" y="116"/>
                </a:cubicBezTo>
                <a:cubicBezTo>
                  <a:pt x="799" y="113"/>
                  <a:pt x="799" y="113"/>
                  <a:pt x="799" y="113"/>
                </a:cubicBezTo>
                <a:cubicBezTo>
                  <a:pt x="804" y="113"/>
                  <a:pt x="804" y="113"/>
                  <a:pt x="804" y="113"/>
                </a:cubicBezTo>
                <a:close/>
                <a:moveTo>
                  <a:pt x="804" y="122"/>
                </a:moveTo>
                <a:cubicBezTo>
                  <a:pt x="804" y="125"/>
                  <a:pt x="804" y="125"/>
                  <a:pt x="804" y="125"/>
                </a:cubicBezTo>
                <a:cubicBezTo>
                  <a:pt x="799" y="125"/>
                  <a:pt x="799" y="125"/>
                  <a:pt x="799" y="125"/>
                </a:cubicBezTo>
                <a:cubicBezTo>
                  <a:pt x="799" y="122"/>
                  <a:pt x="799" y="122"/>
                  <a:pt x="799" y="122"/>
                </a:cubicBezTo>
                <a:cubicBezTo>
                  <a:pt x="804" y="122"/>
                  <a:pt x="804" y="122"/>
                  <a:pt x="804" y="122"/>
                </a:cubicBezTo>
                <a:close/>
                <a:moveTo>
                  <a:pt x="804" y="132"/>
                </a:moveTo>
                <a:cubicBezTo>
                  <a:pt x="804" y="135"/>
                  <a:pt x="804" y="135"/>
                  <a:pt x="804" y="135"/>
                </a:cubicBezTo>
                <a:cubicBezTo>
                  <a:pt x="799" y="135"/>
                  <a:pt x="799" y="135"/>
                  <a:pt x="799" y="135"/>
                </a:cubicBezTo>
                <a:cubicBezTo>
                  <a:pt x="799" y="132"/>
                  <a:pt x="799" y="132"/>
                  <a:pt x="799" y="132"/>
                </a:cubicBezTo>
                <a:cubicBezTo>
                  <a:pt x="804" y="132"/>
                  <a:pt x="804" y="132"/>
                  <a:pt x="804" y="132"/>
                </a:cubicBezTo>
                <a:close/>
                <a:moveTo>
                  <a:pt x="804" y="141"/>
                </a:moveTo>
                <a:cubicBezTo>
                  <a:pt x="804" y="144"/>
                  <a:pt x="804" y="144"/>
                  <a:pt x="804" y="144"/>
                </a:cubicBezTo>
                <a:cubicBezTo>
                  <a:pt x="799" y="144"/>
                  <a:pt x="799" y="144"/>
                  <a:pt x="799" y="144"/>
                </a:cubicBezTo>
                <a:cubicBezTo>
                  <a:pt x="799" y="141"/>
                  <a:pt x="799" y="141"/>
                  <a:pt x="799" y="141"/>
                </a:cubicBezTo>
                <a:lnTo>
                  <a:pt x="804" y="141"/>
                </a:lnTo>
                <a:close/>
                <a:moveTo>
                  <a:pt x="794" y="102"/>
                </a:moveTo>
                <a:cubicBezTo>
                  <a:pt x="799" y="102"/>
                  <a:pt x="799" y="102"/>
                  <a:pt x="799" y="102"/>
                </a:cubicBezTo>
                <a:cubicBezTo>
                  <a:pt x="799" y="106"/>
                  <a:pt x="799" y="106"/>
                  <a:pt x="799" y="106"/>
                </a:cubicBezTo>
                <a:cubicBezTo>
                  <a:pt x="794" y="106"/>
                  <a:pt x="794" y="106"/>
                  <a:pt x="794" y="106"/>
                </a:cubicBezTo>
                <a:cubicBezTo>
                  <a:pt x="794" y="102"/>
                  <a:pt x="794" y="102"/>
                  <a:pt x="794" y="102"/>
                </a:cubicBezTo>
                <a:close/>
                <a:moveTo>
                  <a:pt x="799" y="230"/>
                </a:moveTo>
                <a:cubicBezTo>
                  <a:pt x="794" y="230"/>
                  <a:pt x="794" y="230"/>
                  <a:pt x="794" y="230"/>
                </a:cubicBezTo>
                <a:cubicBezTo>
                  <a:pt x="794" y="227"/>
                  <a:pt x="794" y="227"/>
                  <a:pt x="794" y="227"/>
                </a:cubicBezTo>
                <a:cubicBezTo>
                  <a:pt x="797" y="227"/>
                  <a:pt x="797" y="227"/>
                  <a:pt x="797" y="227"/>
                </a:cubicBezTo>
                <a:cubicBezTo>
                  <a:pt x="797" y="156"/>
                  <a:pt x="797" y="156"/>
                  <a:pt x="797" y="156"/>
                </a:cubicBezTo>
                <a:cubicBezTo>
                  <a:pt x="794" y="156"/>
                  <a:pt x="794" y="156"/>
                  <a:pt x="794" y="156"/>
                </a:cubicBezTo>
                <a:cubicBezTo>
                  <a:pt x="794" y="151"/>
                  <a:pt x="794" y="151"/>
                  <a:pt x="794" y="151"/>
                </a:cubicBezTo>
                <a:cubicBezTo>
                  <a:pt x="799" y="151"/>
                  <a:pt x="799" y="151"/>
                  <a:pt x="799" y="151"/>
                </a:cubicBezTo>
                <a:cubicBezTo>
                  <a:pt x="799" y="230"/>
                  <a:pt x="799" y="230"/>
                  <a:pt x="799" y="230"/>
                </a:cubicBezTo>
                <a:close/>
                <a:moveTo>
                  <a:pt x="799" y="113"/>
                </a:moveTo>
                <a:cubicBezTo>
                  <a:pt x="799" y="116"/>
                  <a:pt x="799" y="116"/>
                  <a:pt x="799" y="116"/>
                </a:cubicBezTo>
                <a:cubicBezTo>
                  <a:pt x="794" y="116"/>
                  <a:pt x="794" y="116"/>
                  <a:pt x="794" y="116"/>
                </a:cubicBezTo>
                <a:cubicBezTo>
                  <a:pt x="794" y="113"/>
                  <a:pt x="794" y="113"/>
                  <a:pt x="794" y="113"/>
                </a:cubicBezTo>
                <a:cubicBezTo>
                  <a:pt x="799" y="113"/>
                  <a:pt x="799" y="113"/>
                  <a:pt x="799" y="113"/>
                </a:cubicBezTo>
                <a:close/>
                <a:moveTo>
                  <a:pt x="799" y="122"/>
                </a:moveTo>
                <a:cubicBezTo>
                  <a:pt x="799" y="125"/>
                  <a:pt x="799" y="125"/>
                  <a:pt x="799" y="125"/>
                </a:cubicBezTo>
                <a:cubicBezTo>
                  <a:pt x="794" y="125"/>
                  <a:pt x="794" y="125"/>
                  <a:pt x="794" y="125"/>
                </a:cubicBezTo>
                <a:cubicBezTo>
                  <a:pt x="794" y="122"/>
                  <a:pt x="794" y="122"/>
                  <a:pt x="794" y="122"/>
                </a:cubicBezTo>
                <a:cubicBezTo>
                  <a:pt x="799" y="122"/>
                  <a:pt x="799" y="122"/>
                  <a:pt x="799" y="122"/>
                </a:cubicBezTo>
                <a:close/>
                <a:moveTo>
                  <a:pt x="799" y="132"/>
                </a:moveTo>
                <a:cubicBezTo>
                  <a:pt x="799" y="135"/>
                  <a:pt x="799" y="135"/>
                  <a:pt x="799" y="135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4" y="132"/>
                  <a:pt x="794" y="132"/>
                  <a:pt x="794" y="132"/>
                </a:cubicBezTo>
                <a:cubicBezTo>
                  <a:pt x="799" y="132"/>
                  <a:pt x="799" y="132"/>
                  <a:pt x="799" y="132"/>
                </a:cubicBezTo>
                <a:close/>
                <a:moveTo>
                  <a:pt x="799" y="141"/>
                </a:moveTo>
                <a:cubicBezTo>
                  <a:pt x="799" y="144"/>
                  <a:pt x="799" y="144"/>
                  <a:pt x="799" y="144"/>
                </a:cubicBezTo>
                <a:cubicBezTo>
                  <a:pt x="794" y="144"/>
                  <a:pt x="794" y="144"/>
                  <a:pt x="794" y="144"/>
                </a:cubicBezTo>
                <a:cubicBezTo>
                  <a:pt x="794" y="141"/>
                  <a:pt x="794" y="141"/>
                  <a:pt x="794" y="141"/>
                </a:cubicBezTo>
                <a:lnTo>
                  <a:pt x="799" y="141"/>
                </a:lnTo>
                <a:close/>
                <a:moveTo>
                  <a:pt x="783" y="102"/>
                </a:moveTo>
                <a:cubicBezTo>
                  <a:pt x="794" y="102"/>
                  <a:pt x="794" y="102"/>
                  <a:pt x="794" y="102"/>
                </a:cubicBezTo>
                <a:cubicBezTo>
                  <a:pt x="794" y="106"/>
                  <a:pt x="794" y="106"/>
                  <a:pt x="794" y="106"/>
                </a:cubicBezTo>
                <a:cubicBezTo>
                  <a:pt x="783" y="106"/>
                  <a:pt x="783" y="106"/>
                  <a:pt x="783" y="106"/>
                </a:cubicBezTo>
                <a:cubicBezTo>
                  <a:pt x="783" y="102"/>
                  <a:pt x="783" y="102"/>
                  <a:pt x="783" y="102"/>
                </a:cubicBezTo>
                <a:close/>
                <a:moveTo>
                  <a:pt x="794" y="230"/>
                </a:moveTo>
                <a:cubicBezTo>
                  <a:pt x="783" y="230"/>
                  <a:pt x="783" y="230"/>
                  <a:pt x="783" y="230"/>
                </a:cubicBezTo>
                <a:cubicBezTo>
                  <a:pt x="783" y="227"/>
                  <a:pt x="783" y="227"/>
                  <a:pt x="783" y="227"/>
                </a:cubicBezTo>
                <a:cubicBezTo>
                  <a:pt x="786" y="227"/>
                  <a:pt x="786" y="227"/>
                  <a:pt x="786" y="227"/>
                </a:cubicBezTo>
                <a:cubicBezTo>
                  <a:pt x="786" y="156"/>
                  <a:pt x="786" y="156"/>
                  <a:pt x="786" y="156"/>
                </a:cubicBezTo>
                <a:cubicBezTo>
                  <a:pt x="783" y="156"/>
                  <a:pt x="783" y="156"/>
                  <a:pt x="783" y="156"/>
                </a:cubicBezTo>
                <a:cubicBezTo>
                  <a:pt x="783" y="151"/>
                  <a:pt x="783" y="151"/>
                  <a:pt x="783" y="151"/>
                </a:cubicBezTo>
                <a:cubicBezTo>
                  <a:pt x="794" y="151"/>
                  <a:pt x="794" y="151"/>
                  <a:pt x="794" y="151"/>
                </a:cubicBezTo>
                <a:cubicBezTo>
                  <a:pt x="794" y="156"/>
                  <a:pt x="794" y="156"/>
                  <a:pt x="794" y="156"/>
                </a:cubicBezTo>
                <a:cubicBezTo>
                  <a:pt x="790" y="156"/>
                  <a:pt x="790" y="156"/>
                  <a:pt x="790" y="156"/>
                </a:cubicBezTo>
                <a:cubicBezTo>
                  <a:pt x="790" y="227"/>
                  <a:pt x="790" y="227"/>
                  <a:pt x="790" y="227"/>
                </a:cubicBezTo>
                <a:cubicBezTo>
                  <a:pt x="794" y="227"/>
                  <a:pt x="794" y="227"/>
                  <a:pt x="794" y="227"/>
                </a:cubicBezTo>
                <a:cubicBezTo>
                  <a:pt x="794" y="230"/>
                  <a:pt x="794" y="230"/>
                  <a:pt x="794" y="230"/>
                </a:cubicBezTo>
                <a:close/>
                <a:moveTo>
                  <a:pt x="794" y="113"/>
                </a:moveTo>
                <a:cubicBezTo>
                  <a:pt x="794" y="116"/>
                  <a:pt x="794" y="116"/>
                  <a:pt x="794" y="116"/>
                </a:cubicBezTo>
                <a:cubicBezTo>
                  <a:pt x="783" y="116"/>
                  <a:pt x="783" y="116"/>
                  <a:pt x="783" y="116"/>
                </a:cubicBezTo>
                <a:cubicBezTo>
                  <a:pt x="783" y="113"/>
                  <a:pt x="783" y="113"/>
                  <a:pt x="783" y="113"/>
                </a:cubicBezTo>
                <a:cubicBezTo>
                  <a:pt x="794" y="113"/>
                  <a:pt x="794" y="113"/>
                  <a:pt x="794" y="113"/>
                </a:cubicBezTo>
                <a:close/>
                <a:moveTo>
                  <a:pt x="794" y="122"/>
                </a:moveTo>
                <a:cubicBezTo>
                  <a:pt x="794" y="125"/>
                  <a:pt x="794" y="125"/>
                  <a:pt x="794" y="125"/>
                </a:cubicBezTo>
                <a:cubicBezTo>
                  <a:pt x="783" y="125"/>
                  <a:pt x="783" y="125"/>
                  <a:pt x="783" y="125"/>
                </a:cubicBezTo>
                <a:cubicBezTo>
                  <a:pt x="783" y="122"/>
                  <a:pt x="783" y="122"/>
                  <a:pt x="783" y="122"/>
                </a:cubicBezTo>
                <a:cubicBezTo>
                  <a:pt x="794" y="122"/>
                  <a:pt x="794" y="122"/>
                  <a:pt x="794" y="122"/>
                </a:cubicBezTo>
                <a:close/>
                <a:moveTo>
                  <a:pt x="794" y="132"/>
                </a:moveTo>
                <a:cubicBezTo>
                  <a:pt x="794" y="135"/>
                  <a:pt x="794" y="135"/>
                  <a:pt x="794" y="135"/>
                </a:cubicBezTo>
                <a:cubicBezTo>
                  <a:pt x="783" y="135"/>
                  <a:pt x="783" y="135"/>
                  <a:pt x="783" y="135"/>
                </a:cubicBezTo>
                <a:cubicBezTo>
                  <a:pt x="783" y="132"/>
                  <a:pt x="783" y="132"/>
                  <a:pt x="783" y="132"/>
                </a:cubicBezTo>
                <a:cubicBezTo>
                  <a:pt x="794" y="132"/>
                  <a:pt x="794" y="132"/>
                  <a:pt x="794" y="132"/>
                </a:cubicBezTo>
                <a:close/>
                <a:moveTo>
                  <a:pt x="794" y="141"/>
                </a:moveTo>
                <a:cubicBezTo>
                  <a:pt x="794" y="144"/>
                  <a:pt x="794" y="144"/>
                  <a:pt x="794" y="144"/>
                </a:cubicBezTo>
                <a:cubicBezTo>
                  <a:pt x="783" y="144"/>
                  <a:pt x="783" y="144"/>
                  <a:pt x="783" y="144"/>
                </a:cubicBezTo>
                <a:cubicBezTo>
                  <a:pt x="783" y="141"/>
                  <a:pt x="783" y="141"/>
                  <a:pt x="783" y="141"/>
                </a:cubicBezTo>
                <a:lnTo>
                  <a:pt x="794" y="141"/>
                </a:lnTo>
                <a:close/>
                <a:moveTo>
                  <a:pt x="293" y="102"/>
                </a:moveTo>
                <a:cubicBezTo>
                  <a:pt x="300" y="102"/>
                  <a:pt x="300" y="102"/>
                  <a:pt x="300" y="102"/>
                </a:cubicBezTo>
                <a:cubicBezTo>
                  <a:pt x="300" y="143"/>
                  <a:pt x="300" y="143"/>
                  <a:pt x="300" y="143"/>
                </a:cubicBezTo>
                <a:cubicBezTo>
                  <a:pt x="776" y="143"/>
                  <a:pt x="776" y="143"/>
                  <a:pt x="776" y="143"/>
                </a:cubicBezTo>
                <a:cubicBezTo>
                  <a:pt x="776" y="102"/>
                  <a:pt x="776" y="102"/>
                  <a:pt x="776" y="102"/>
                </a:cubicBezTo>
                <a:cubicBezTo>
                  <a:pt x="783" y="102"/>
                  <a:pt x="783" y="102"/>
                  <a:pt x="783" y="102"/>
                </a:cubicBezTo>
                <a:cubicBezTo>
                  <a:pt x="783" y="106"/>
                  <a:pt x="783" y="106"/>
                  <a:pt x="783" y="106"/>
                </a:cubicBezTo>
                <a:cubicBezTo>
                  <a:pt x="780" y="106"/>
                  <a:pt x="780" y="106"/>
                  <a:pt x="780" y="106"/>
                </a:cubicBezTo>
                <a:cubicBezTo>
                  <a:pt x="780" y="113"/>
                  <a:pt x="780" y="113"/>
                  <a:pt x="780" y="113"/>
                </a:cubicBezTo>
                <a:cubicBezTo>
                  <a:pt x="783" y="113"/>
                  <a:pt x="783" y="113"/>
                  <a:pt x="783" y="113"/>
                </a:cubicBezTo>
                <a:cubicBezTo>
                  <a:pt x="783" y="116"/>
                  <a:pt x="783" y="116"/>
                  <a:pt x="783" y="116"/>
                </a:cubicBezTo>
                <a:cubicBezTo>
                  <a:pt x="780" y="116"/>
                  <a:pt x="780" y="116"/>
                  <a:pt x="780" y="116"/>
                </a:cubicBezTo>
                <a:cubicBezTo>
                  <a:pt x="780" y="122"/>
                  <a:pt x="780" y="122"/>
                  <a:pt x="780" y="122"/>
                </a:cubicBezTo>
                <a:cubicBezTo>
                  <a:pt x="783" y="122"/>
                  <a:pt x="783" y="122"/>
                  <a:pt x="783" y="122"/>
                </a:cubicBezTo>
                <a:cubicBezTo>
                  <a:pt x="783" y="125"/>
                  <a:pt x="783" y="125"/>
                  <a:pt x="783" y="125"/>
                </a:cubicBezTo>
                <a:cubicBezTo>
                  <a:pt x="780" y="125"/>
                  <a:pt x="780" y="125"/>
                  <a:pt x="780" y="125"/>
                </a:cubicBezTo>
                <a:cubicBezTo>
                  <a:pt x="780" y="132"/>
                  <a:pt x="780" y="132"/>
                  <a:pt x="780" y="132"/>
                </a:cubicBezTo>
                <a:cubicBezTo>
                  <a:pt x="783" y="132"/>
                  <a:pt x="783" y="132"/>
                  <a:pt x="783" y="132"/>
                </a:cubicBezTo>
                <a:cubicBezTo>
                  <a:pt x="783" y="135"/>
                  <a:pt x="783" y="135"/>
                  <a:pt x="783" y="135"/>
                </a:cubicBezTo>
                <a:cubicBezTo>
                  <a:pt x="780" y="135"/>
                  <a:pt x="780" y="135"/>
                  <a:pt x="780" y="135"/>
                </a:cubicBezTo>
                <a:cubicBezTo>
                  <a:pt x="780" y="141"/>
                  <a:pt x="780" y="141"/>
                  <a:pt x="780" y="141"/>
                </a:cubicBezTo>
                <a:cubicBezTo>
                  <a:pt x="783" y="141"/>
                  <a:pt x="783" y="141"/>
                  <a:pt x="783" y="141"/>
                </a:cubicBezTo>
                <a:cubicBezTo>
                  <a:pt x="783" y="144"/>
                  <a:pt x="783" y="144"/>
                  <a:pt x="783" y="144"/>
                </a:cubicBezTo>
                <a:cubicBezTo>
                  <a:pt x="780" y="144"/>
                  <a:pt x="780" y="144"/>
                  <a:pt x="780" y="144"/>
                </a:cubicBezTo>
                <a:cubicBezTo>
                  <a:pt x="780" y="151"/>
                  <a:pt x="780" y="151"/>
                  <a:pt x="780" y="151"/>
                </a:cubicBezTo>
                <a:cubicBezTo>
                  <a:pt x="783" y="151"/>
                  <a:pt x="783" y="151"/>
                  <a:pt x="783" y="151"/>
                </a:cubicBezTo>
                <a:cubicBezTo>
                  <a:pt x="783" y="156"/>
                  <a:pt x="783" y="156"/>
                  <a:pt x="783" y="156"/>
                </a:cubicBezTo>
                <a:cubicBezTo>
                  <a:pt x="780" y="156"/>
                  <a:pt x="780" y="156"/>
                  <a:pt x="780" y="156"/>
                </a:cubicBezTo>
                <a:cubicBezTo>
                  <a:pt x="780" y="227"/>
                  <a:pt x="780" y="227"/>
                  <a:pt x="780" y="227"/>
                </a:cubicBezTo>
                <a:cubicBezTo>
                  <a:pt x="783" y="227"/>
                  <a:pt x="783" y="227"/>
                  <a:pt x="783" y="227"/>
                </a:cubicBezTo>
                <a:cubicBezTo>
                  <a:pt x="783" y="230"/>
                  <a:pt x="783" y="230"/>
                  <a:pt x="783" y="230"/>
                </a:cubicBezTo>
                <a:cubicBezTo>
                  <a:pt x="776" y="230"/>
                  <a:pt x="776" y="230"/>
                  <a:pt x="776" y="230"/>
                </a:cubicBezTo>
                <a:cubicBezTo>
                  <a:pt x="776" y="152"/>
                  <a:pt x="776" y="152"/>
                  <a:pt x="776" y="152"/>
                </a:cubicBezTo>
                <a:cubicBezTo>
                  <a:pt x="300" y="152"/>
                  <a:pt x="300" y="152"/>
                  <a:pt x="300" y="152"/>
                </a:cubicBezTo>
                <a:cubicBezTo>
                  <a:pt x="300" y="230"/>
                  <a:pt x="300" y="230"/>
                  <a:pt x="300" y="230"/>
                </a:cubicBezTo>
                <a:cubicBezTo>
                  <a:pt x="293" y="230"/>
                  <a:pt x="293" y="230"/>
                  <a:pt x="293" y="230"/>
                </a:cubicBezTo>
                <a:cubicBezTo>
                  <a:pt x="293" y="227"/>
                  <a:pt x="293" y="227"/>
                  <a:pt x="293" y="227"/>
                </a:cubicBezTo>
                <a:cubicBezTo>
                  <a:pt x="296" y="227"/>
                  <a:pt x="296" y="227"/>
                  <a:pt x="296" y="227"/>
                </a:cubicBezTo>
                <a:cubicBezTo>
                  <a:pt x="296" y="156"/>
                  <a:pt x="296" y="156"/>
                  <a:pt x="296" y="156"/>
                </a:cubicBezTo>
                <a:cubicBezTo>
                  <a:pt x="293" y="156"/>
                  <a:pt x="293" y="156"/>
                  <a:pt x="293" y="156"/>
                </a:cubicBezTo>
                <a:cubicBezTo>
                  <a:pt x="293" y="151"/>
                  <a:pt x="293" y="151"/>
                  <a:pt x="293" y="151"/>
                </a:cubicBezTo>
                <a:cubicBezTo>
                  <a:pt x="296" y="151"/>
                  <a:pt x="296" y="151"/>
                  <a:pt x="296" y="151"/>
                </a:cubicBezTo>
                <a:cubicBezTo>
                  <a:pt x="296" y="144"/>
                  <a:pt x="296" y="144"/>
                  <a:pt x="296" y="144"/>
                </a:cubicBezTo>
                <a:cubicBezTo>
                  <a:pt x="293" y="144"/>
                  <a:pt x="293" y="144"/>
                  <a:pt x="293" y="144"/>
                </a:cubicBezTo>
                <a:cubicBezTo>
                  <a:pt x="293" y="141"/>
                  <a:pt x="293" y="141"/>
                  <a:pt x="293" y="141"/>
                </a:cubicBezTo>
                <a:cubicBezTo>
                  <a:pt x="296" y="141"/>
                  <a:pt x="296" y="141"/>
                  <a:pt x="296" y="141"/>
                </a:cubicBezTo>
                <a:cubicBezTo>
                  <a:pt x="296" y="135"/>
                  <a:pt x="296" y="135"/>
                  <a:pt x="296" y="135"/>
                </a:cubicBezTo>
                <a:cubicBezTo>
                  <a:pt x="293" y="135"/>
                  <a:pt x="293" y="135"/>
                  <a:pt x="293" y="135"/>
                </a:cubicBezTo>
                <a:cubicBezTo>
                  <a:pt x="293" y="132"/>
                  <a:pt x="293" y="132"/>
                  <a:pt x="293" y="132"/>
                </a:cubicBezTo>
                <a:cubicBezTo>
                  <a:pt x="296" y="132"/>
                  <a:pt x="296" y="132"/>
                  <a:pt x="296" y="132"/>
                </a:cubicBezTo>
                <a:cubicBezTo>
                  <a:pt x="296" y="125"/>
                  <a:pt x="296" y="125"/>
                  <a:pt x="296" y="125"/>
                </a:cubicBezTo>
                <a:cubicBezTo>
                  <a:pt x="293" y="125"/>
                  <a:pt x="293" y="125"/>
                  <a:pt x="293" y="125"/>
                </a:cubicBezTo>
                <a:cubicBezTo>
                  <a:pt x="293" y="122"/>
                  <a:pt x="293" y="122"/>
                  <a:pt x="293" y="122"/>
                </a:cubicBezTo>
                <a:cubicBezTo>
                  <a:pt x="296" y="122"/>
                  <a:pt x="296" y="122"/>
                  <a:pt x="296" y="122"/>
                </a:cubicBezTo>
                <a:cubicBezTo>
                  <a:pt x="296" y="116"/>
                  <a:pt x="296" y="116"/>
                  <a:pt x="296" y="116"/>
                </a:cubicBezTo>
                <a:cubicBezTo>
                  <a:pt x="293" y="116"/>
                  <a:pt x="293" y="116"/>
                  <a:pt x="293" y="116"/>
                </a:cubicBezTo>
                <a:cubicBezTo>
                  <a:pt x="293" y="113"/>
                  <a:pt x="293" y="113"/>
                  <a:pt x="293" y="113"/>
                </a:cubicBezTo>
                <a:cubicBezTo>
                  <a:pt x="296" y="113"/>
                  <a:pt x="296" y="113"/>
                  <a:pt x="296" y="113"/>
                </a:cubicBezTo>
                <a:cubicBezTo>
                  <a:pt x="296" y="106"/>
                  <a:pt x="296" y="106"/>
                  <a:pt x="296" y="106"/>
                </a:cubicBezTo>
                <a:cubicBezTo>
                  <a:pt x="293" y="106"/>
                  <a:pt x="293" y="106"/>
                  <a:pt x="293" y="106"/>
                </a:cubicBezTo>
                <a:lnTo>
                  <a:pt x="293" y="102"/>
                </a:lnTo>
                <a:close/>
                <a:moveTo>
                  <a:pt x="282" y="102"/>
                </a:moveTo>
                <a:cubicBezTo>
                  <a:pt x="293" y="102"/>
                  <a:pt x="293" y="102"/>
                  <a:pt x="293" y="102"/>
                </a:cubicBezTo>
                <a:cubicBezTo>
                  <a:pt x="293" y="106"/>
                  <a:pt x="293" y="106"/>
                  <a:pt x="293" y="106"/>
                </a:cubicBezTo>
                <a:cubicBezTo>
                  <a:pt x="282" y="106"/>
                  <a:pt x="282" y="106"/>
                  <a:pt x="282" y="106"/>
                </a:cubicBezTo>
                <a:cubicBezTo>
                  <a:pt x="282" y="102"/>
                  <a:pt x="282" y="102"/>
                  <a:pt x="282" y="102"/>
                </a:cubicBezTo>
                <a:close/>
                <a:moveTo>
                  <a:pt x="293" y="230"/>
                </a:moveTo>
                <a:cubicBezTo>
                  <a:pt x="282" y="230"/>
                  <a:pt x="282" y="230"/>
                  <a:pt x="282" y="230"/>
                </a:cubicBezTo>
                <a:cubicBezTo>
                  <a:pt x="282" y="227"/>
                  <a:pt x="282" y="227"/>
                  <a:pt x="282" y="227"/>
                </a:cubicBezTo>
                <a:cubicBezTo>
                  <a:pt x="285" y="227"/>
                  <a:pt x="285" y="227"/>
                  <a:pt x="285" y="227"/>
                </a:cubicBezTo>
                <a:cubicBezTo>
                  <a:pt x="285" y="156"/>
                  <a:pt x="285" y="156"/>
                  <a:pt x="285" y="156"/>
                </a:cubicBezTo>
                <a:cubicBezTo>
                  <a:pt x="282" y="156"/>
                  <a:pt x="282" y="156"/>
                  <a:pt x="282" y="156"/>
                </a:cubicBezTo>
                <a:cubicBezTo>
                  <a:pt x="282" y="151"/>
                  <a:pt x="282" y="151"/>
                  <a:pt x="282" y="151"/>
                </a:cubicBezTo>
                <a:cubicBezTo>
                  <a:pt x="293" y="151"/>
                  <a:pt x="293" y="151"/>
                  <a:pt x="293" y="151"/>
                </a:cubicBezTo>
                <a:cubicBezTo>
                  <a:pt x="293" y="156"/>
                  <a:pt x="293" y="156"/>
                  <a:pt x="293" y="156"/>
                </a:cubicBezTo>
                <a:cubicBezTo>
                  <a:pt x="289" y="156"/>
                  <a:pt x="289" y="156"/>
                  <a:pt x="289" y="156"/>
                </a:cubicBezTo>
                <a:cubicBezTo>
                  <a:pt x="289" y="227"/>
                  <a:pt x="289" y="227"/>
                  <a:pt x="289" y="227"/>
                </a:cubicBezTo>
                <a:cubicBezTo>
                  <a:pt x="293" y="227"/>
                  <a:pt x="293" y="227"/>
                  <a:pt x="293" y="227"/>
                </a:cubicBezTo>
                <a:cubicBezTo>
                  <a:pt x="293" y="230"/>
                  <a:pt x="293" y="230"/>
                  <a:pt x="293" y="230"/>
                </a:cubicBezTo>
                <a:close/>
                <a:moveTo>
                  <a:pt x="293" y="113"/>
                </a:moveTo>
                <a:cubicBezTo>
                  <a:pt x="293" y="116"/>
                  <a:pt x="293" y="116"/>
                  <a:pt x="293" y="116"/>
                </a:cubicBezTo>
                <a:cubicBezTo>
                  <a:pt x="282" y="116"/>
                  <a:pt x="282" y="116"/>
                  <a:pt x="282" y="116"/>
                </a:cubicBezTo>
                <a:cubicBezTo>
                  <a:pt x="282" y="113"/>
                  <a:pt x="282" y="113"/>
                  <a:pt x="282" y="113"/>
                </a:cubicBezTo>
                <a:cubicBezTo>
                  <a:pt x="293" y="113"/>
                  <a:pt x="293" y="113"/>
                  <a:pt x="293" y="113"/>
                </a:cubicBezTo>
                <a:close/>
                <a:moveTo>
                  <a:pt x="293" y="122"/>
                </a:moveTo>
                <a:cubicBezTo>
                  <a:pt x="293" y="125"/>
                  <a:pt x="293" y="125"/>
                  <a:pt x="293" y="125"/>
                </a:cubicBezTo>
                <a:cubicBezTo>
                  <a:pt x="282" y="125"/>
                  <a:pt x="282" y="125"/>
                  <a:pt x="282" y="125"/>
                </a:cubicBezTo>
                <a:cubicBezTo>
                  <a:pt x="282" y="122"/>
                  <a:pt x="282" y="122"/>
                  <a:pt x="282" y="122"/>
                </a:cubicBezTo>
                <a:cubicBezTo>
                  <a:pt x="293" y="122"/>
                  <a:pt x="293" y="122"/>
                  <a:pt x="293" y="122"/>
                </a:cubicBezTo>
                <a:close/>
                <a:moveTo>
                  <a:pt x="293" y="132"/>
                </a:moveTo>
                <a:cubicBezTo>
                  <a:pt x="293" y="135"/>
                  <a:pt x="293" y="135"/>
                  <a:pt x="293" y="135"/>
                </a:cubicBezTo>
                <a:cubicBezTo>
                  <a:pt x="282" y="135"/>
                  <a:pt x="282" y="135"/>
                  <a:pt x="282" y="135"/>
                </a:cubicBezTo>
                <a:cubicBezTo>
                  <a:pt x="282" y="132"/>
                  <a:pt x="282" y="132"/>
                  <a:pt x="282" y="132"/>
                </a:cubicBezTo>
                <a:cubicBezTo>
                  <a:pt x="293" y="132"/>
                  <a:pt x="293" y="132"/>
                  <a:pt x="293" y="132"/>
                </a:cubicBezTo>
                <a:close/>
                <a:moveTo>
                  <a:pt x="293" y="141"/>
                </a:moveTo>
                <a:cubicBezTo>
                  <a:pt x="293" y="144"/>
                  <a:pt x="293" y="144"/>
                  <a:pt x="293" y="144"/>
                </a:cubicBezTo>
                <a:cubicBezTo>
                  <a:pt x="282" y="144"/>
                  <a:pt x="282" y="144"/>
                  <a:pt x="282" y="144"/>
                </a:cubicBezTo>
                <a:cubicBezTo>
                  <a:pt x="282" y="141"/>
                  <a:pt x="282" y="141"/>
                  <a:pt x="282" y="141"/>
                </a:cubicBezTo>
                <a:lnTo>
                  <a:pt x="293" y="141"/>
                </a:lnTo>
                <a:close/>
                <a:moveTo>
                  <a:pt x="277" y="102"/>
                </a:moveTo>
                <a:cubicBezTo>
                  <a:pt x="282" y="102"/>
                  <a:pt x="282" y="102"/>
                  <a:pt x="282" y="102"/>
                </a:cubicBezTo>
                <a:cubicBezTo>
                  <a:pt x="282" y="106"/>
                  <a:pt x="282" y="106"/>
                  <a:pt x="282" y="106"/>
                </a:cubicBezTo>
                <a:cubicBezTo>
                  <a:pt x="277" y="106"/>
                  <a:pt x="277" y="106"/>
                  <a:pt x="277" y="106"/>
                </a:cubicBezTo>
                <a:cubicBezTo>
                  <a:pt x="277" y="102"/>
                  <a:pt x="277" y="102"/>
                  <a:pt x="277" y="102"/>
                </a:cubicBezTo>
                <a:close/>
                <a:moveTo>
                  <a:pt x="282" y="230"/>
                </a:moveTo>
                <a:cubicBezTo>
                  <a:pt x="277" y="230"/>
                  <a:pt x="277" y="230"/>
                  <a:pt x="277" y="230"/>
                </a:cubicBezTo>
                <a:cubicBezTo>
                  <a:pt x="277" y="151"/>
                  <a:pt x="277" y="151"/>
                  <a:pt x="277" y="151"/>
                </a:cubicBezTo>
                <a:cubicBezTo>
                  <a:pt x="282" y="151"/>
                  <a:pt x="282" y="151"/>
                  <a:pt x="282" y="151"/>
                </a:cubicBezTo>
                <a:cubicBezTo>
                  <a:pt x="282" y="156"/>
                  <a:pt x="282" y="156"/>
                  <a:pt x="282" y="156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9" y="227"/>
                  <a:pt x="279" y="227"/>
                  <a:pt x="279" y="227"/>
                </a:cubicBezTo>
                <a:cubicBezTo>
                  <a:pt x="282" y="227"/>
                  <a:pt x="282" y="227"/>
                  <a:pt x="282" y="227"/>
                </a:cubicBezTo>
                <a:cubicBezTo>
                  <a:pt x="282" y="230"/>
                  <a:pt x="282" y="230"/>
                  <a:pt x="282" y="230"/>
                </a:cubicBezTo>
                <a:close/>
                <a:moveTo>
                  <a:pt x="282" y="113"/>
                </a:moveTo>
                <a:cubicBezTo>
                  <a:pt x="282" y="116"/>
                  <a:pt x="282" y="116"/>
                  <a:pt x="282" y="116"/>
                </a:cubicBezTo>
                <a:cubicBezTo>
                  <a:pt x="277" y="116"/>
                  <a:pt x="277" y="116"/>
                  <a:pt x="277" y="116"/>
                </a:cubicBezTo>
                <a:cubicBezTo>
                  <a:pt x="277" y="113"/>
                  <a:pt x="277" y="113"/>
                  <a:pt x="277" y="113"/>
                </a:cubicBezTo>
                <a:cubicBezTo>
                  <a:pt x="282" y="113"/>
                  <a:pt x="282" y="113"/>
                  <a:pt x="282" y="113"/>
                </a:cubicBezTo>
                <a:close/>
                <a:moveTo>
                  <a:pt x="282" y="122"/>
                </a:moveTo>
                <a:cubicBezTo>
                  <a:pt x="282" y="125"/>
                  <a:pt x="282" y="125"/>
                  <a:pt x="282" y="125"/>
                </a:cubicBezTo>
                <a:cubicBezTo>
                  <a:pt x="277" y="125"/>
                  <a:pt x="277" y="125"/>
                  <a:pt x="277" y="125"/>
                </a:cubicBezTo>
                <a:cubicBezTo>
                  <a:pt x="277" y="122"/>
                  <a:pt x="277" y="122"/>
                  <a:pt x="277" y="122"/>
                </a:cubicBezTo>
                <a:cubicBezTo>
                  <a:pt x="282" y="122"/>
                  <a:pt x="282" y="122"/>
                  <a:pt x="282" y="122"/>
                </a:cubicBezTo>
                <a:close/>
                <a:moveTo>
                  <a:pt x="282" y="132"/>
                </a:moveTo>
                <a:cubicBezTo>
                  <a:pt x="282" y="135"/>
                  <a:pt x="282" y="135"/>
                  <a:pt x="282" y="135"/>
                </a:cubicBezTo>
                <a:cubicBezTo>
                  <a:pt x="277" y="135"/>
                  <a:pt x="277" y="135"/>
                  <a:pt x="277" y="135"/>
                </a:cubicBezTo>
                <a:cubicBezTo>
                  <a:pt x="277" y="132"/>
                  <a:pt x="277" y="132"/>
                  <a:pt x="277" y="132"/>
                </a:cubicBezTo>
                <a:cubicBezTo>
                  <a:pt x="282" y="132"/>
                  <a:pt x="282" y="132"/>
                  <a:pt x="282" y="132"/>
                </a:cubicBezTo>
                <a:close/>
                <a:moveTo>
                  <a:pt x="282" y="141"/>
                </a:moveTo>
                <a:cubicBezTo>
                  <a:pt x="282" y="144"/>
                  <a:pt x="282" y="144"/>
                  <a:pt x="282" y="144"/>
                </a:cubicBezTo>
                <a:cubicBezTo>
                  <a:pt x="277" y="144"/>
                  <a:pt x="277" y="144"/>
                  <a:pt x="277" y="144"/>
                </a:cubicBezTo>
                <a:cubicBezTo>
                  <a:pt x="277" y="141"/>
                  <a:pt x="277" y="141"/>
                  <a:pt x="277" y="141"/>
                </a:cubicBezTo>
                <a:lnTo>
                  <a:pt x="282" y="141"/>
                </a:lnTo>
                <a:close/>
                <a:moveTo>
                  <a:pt x="271" y="102"/>
                </a:moveTo>
                <a:cubicBezTo>
                  <a:pt x="277" y="102"/>
                  <a:pt x="277" y="102"/>
                  <a:pt x="277" y="102"/>
                </a:cubicBezTo>
                <a:cubicBezTo>
                  <a:pt x="277" y="106"/>
                  <a:pt x="277" y="106"/>
                  <a:pt x="277" y="106"/>
                </a:cubicBezTo>
                <a:cubicBezTo>
                  <a:pt x="271" y="106"/>
                  <a:pt x="271" y="106"/>
                  <a:pt x="271" y="106"/>
                </a:cubicBezTo>
                <a:cubicBezTo>
                  <a:pt x="271" y="102"/>
                  <a:pt x="271" y="102"/>
                  <a:pt x="271" y="102"/>
                </a:cubicBezTo>
                <a:close/>
                <a:moveTo>
                  <a:pt x="277" y="230"/>
                </a:moveTo>
                <a:cubicBezTo>
                  <a:pt x="271" y="230"/>
                  <a:pt x="271" y="230"/>
                  <a:pt x="271" y="230"/>
                </a:cubicBezTo>
                <a:cubicBezTo>
                  <a:pt x="271" y="227"/>
                  <a:pt x="271" y="227"/>
                  <a:pt x="271" y="227"/>
                </a:cubicBezTo>
                <a:cubicBezTo>
                  <a:pt x="275" y="227"/>
                  <a:pt x="275" y="227"/>
                  <a:pt x="275" y="227"/>
                </a:cubicBezTo>
                <a:cubicBezTo>
                  <a:pt x="275" y="156"/>
                  <a:pt x="275" y="156"/>
                  <a:pt x="275" y="156"/>
                </a:cubicBezTo>
                <a:cubicBezTo>
                  <a:pt x="271" y="156"/>
                  <a:pt x="271" y="156"/>
                  <a:pt x="271" y="156"/>
                </a:cubicBezTo>
                <a:cubicBezTo>
                  <a:pt x="271" y="151"/>
                  <a:pt x="271" y="151"/>
                  <a:pt x="271" y="151"/>
                </a:cubicBezTo>
                <a:cubicBezTo>
                  <a:pt x="277" y="151"/>
                  <a:pt x="277" y="151"/>
                  <a:pt x="277" y="151"/>
                </a:cubicBezTo>
                <a:cubicBezTo>
                  <a:pt x="277" y="230"/>
                  <a:pt x="277" y="230"/>
                  <a:pt x="277" y="230"/>
                </a:cubicBezTo>
                <a:close/>
                <a:moveTo>
                  <a:pt x="277" y="113"/>
                </a:moveTo>
                <a:cubicBezTo>
                  <a:pt x="277" y="116"/>
                  <a:pt x="277" y="116"/>
                  <a:pt x="277" y="116"/>
                </a:cubicBezTo>
                <a:cubicBezTo>
                  <a:pt x="271" y="116"/>
                  <a:pt x="271" y="116"/>
                  <a:pt x="271" y="116"/>
                </a:cubicBezTo>
                <a:cubicBezTo>
                  <a:pt x="271" y="113"/>
                  <a:pt x="271" y="113"/>
                  <a:pt x="271" y="113"/>
                </a:cubicBezTo>
                <a:cubicBezTo>
                  <a:pt x="277" y="113"/>
                  <a:pt x="277" y="113"/>
                  <a:pt x="277" y="113"/>
                </a:cubicBezTo>
                <a:close/>
                <a:moveTo>
                  <a:pt x="277" y="122"/>
                </a:moveTo>
                <a:cubicBezTo>
                  <a:pt x="277" y="125"/>
                  <a:pt x="277" y="125"/>
                  <a:pt x="277" y="125"/>
                </a:cubicBezTo>
                <a:cubicBezTo>
                  <a:pt x="271" y="125"/>
                  <a:pt x="271" y="125"/>
                  <a:pt x="271" y="125"/>
                </a:cubicBezTo>
                <a:cubicBezTo>
                  <a:pt x="271" y="122"/>
                  <a:pt x="271" y="122"/>
                  <a:pt x="271" y="122"/>
                </a:cubicBezTo>
                <a:cubicBezTo>
                  <a:pt x="277" y="122"/>
                  <a:pt x="277" y="122"/>
                  <a:pt x="277" y="122"/>
                </a:cubicBezTo>
                <a:close/>
                <a:moveTo>
                  <a:pt x="277" y="132"/>
                </a:moveTo>
                <a:cubicBezTo>
                  <a:pt x="277" y="135"/>
                  <a:pt x="277" y="135"/>
                  <a:pt x="277" y="135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1" y="132"/>
                  <a:pt x="271" y="132"/>
                  <a:pt x="271" y="132"/>
                </a:cubicBezTo>
                <a:cubicBezTo>
                  <a:pt x="277" y="132"/>
                  <a:pt x="277" y="132"/>
                  <a:pt x="277" y="132"/>
                </a:cubicBezTo>
                <a:close/>
                <a:moveTo>
                  <a:pt x="277" y="141"/>
                </a:moveTo>
                <a:cubicBezTo>
                  <a:pt x="277" y="144"/>
                  <a:pt x="277" y="144"/>
                  <a:pt x="277" y="144"/>
                </a:cubicBezTo>
                <a:cubicBezTo>
                  <a:pt x="271" y="144"/>
                  <a:pt x="271" y="144"/>
                  <a:pt x="271" y="144"/>
                </a:cubicBezTo>
                <a:cubicBezTo>
                  <a:pt x="271" y="141"/>
                  <a:pt x="271" y="141"/>
                  <a:pt x="271" y="141"/>
                </a:cubicBezTo>
                <a:lnTo>
                  <a:pt x="277" y="141"/>
                </a:lnTo>
                <a:close/>
                <a:moveTo>
                  <a:pt x="261" y="102"/>
                </a:moveTo>
                <a:cubicBezTo>
                  <a:pt x="271" y="102"/>
                  <a:pt x="271" y="102"/>
                  <a:pt x="271" y="102"/>
                </a:cubicBezTo>
                <a:cubicBezTo>
                  <a:pt x="271" y="106"/>
                  <a:pt x="271" y="106"/>
                  <a:pt x="271" y="106"/>
                </a:cubicBezTo>
                <a:cubicBezTo>
                  <a:pt x="261" y="106"/>
                  <a:pt x="261" y="106"/>
                  <a:pt x="261" y="106"/>
                </a:cubicBezTo>
                <a:cubicBezTo>
                  <a:pt x="261" y="102"/>
                  <a:pt x="261" y="102"/>
                  <a:pt x="261" y="102"/>
                </a:cubicBezTo>
                <a:close/>
                <a:moveTo>
                  <a:pt x="271" y="230"/>
                </a:moveTo>
                <a:cubicBezTo>
                  <a:pt x="261" y="230"/>
                  <a:pt x="261" y="230"/>
                  <a:pt x="261" y="230"/>
                </a:cubicBezTo>
                <a:cubicBezTo>
                  <a:pt x="261" y="227"/>
                  <a:pt x="261" y="227"/>
                  <a:pt x="261" y="227"/>
                </a:cubicBezTo>
                <a:cubicBezTo>
                  <a:pt x="264" y="227"/>
                  <a:pt x="264" y="227"/>
                  <a:pt x="264" y="227"/>
                </a:cubicBezTo>
                <a:cubicBezTo>
                  <a:pt x="264" y="156"/>
                  <a:pt x="264" y="156"/>
                  <a:pt x="264" y="156"/>
                </a:cubicBezTo>
                <a:cubicBezTo>
                  <a:pt x="261" y="156"/>
                  <a:pt x="261" y="156"/>
                  <a:pt x="261" y="156"/>
                </a:cubicBezTo>
                <a:cubicBezTo>
                  <a:pt x="261" y="151"/>
                  <a:pt x="261" y="151"/>
                  <a:pt x="261" y="151"/>
                </a:cubicBezTo>
                <a:cubicBezTo>
                  <a:pt x="271" y="151"/>
                  <a:pt x="271" y="151"/>
                  <a:pt x="271" y="151"/>
                </a:cubicBezTo>
                <a:cubicBezTo>
                  <a:pt x="271" y="156"/>
                  <a:pt x="271" y="156"/>
                  <a:pt x="271" y="156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68" y="227"/>
                  <a:pt x="268" y="227"/>
                  <a:pt x="268" y="227"/>
                </a:cubicBezTo>
                <a:cubicBezTo>
                  <a:pt x="271" y="227"/>
                  <a:pt x="271" y="227"/>
                  <a:pt x="271" y="227"/>
                </a:cubicBezTo>
                <a:cubicBezTo>
                  <a:pt x="271" y="230"/>
                  <a:pt x="271" y="230"/>
                  <a:pt x="271" y="230"/>
                </a:cubicBezTo>
                <a:close/>
                <a:moveTo>
                  <a:pt x="271" y="113"/>
                </a:moveTo>
                <a:cubicBezTo>
                  <a:pt x="271" y="116"/>
                  <a:pt x="271" y="116"/>
                  <a:pt x="271" y="116"/>
                </a:cubicBezTo>
                <a:cubicBezTo>
                  <a:pt x="261" y="116"/>
                  <a:pt x="261" y="116"/>
                  <a:pt x="261" y="116"/>
                </a:cubicBezTo>
                <a:cubicBezTo>
                  <a:pt x="261" y="113"/>
                  <a:pt x="261" y="113"/>
                  <a:pt x="261" y="113"/>
                </a:cubicBezTo>
                <a:cubicBezTo>
                  <a:pt x="271" y="113"/>
                  <a:pt x="271" y="113"/>
                  <a:pt x="271" y="113"/>
                </a:cubicBezTo>
                <a:close/>
                <a:moveTo>
                  <a:pt x="271" y="122"/>
                </a:moveTo>
                <a:cubicBezTo>
                  <a:pt x="271" y="125"/>
                  <a:pt x="271" y="125"/>
                  <a:pt x="271" y="125"/>
                </a:cubicBezTo>
                <a:cubicBezTo>
                  <a:pt x="261" y="125"/>
                  <a:pt x="261" y="125"/>
                  <a:pt x="261" y="125"/>
                </a:cubicBezTo>
                <a:cubicBezTo>
                  <a:pt x="261" y="122"/>
                  <a:pt x="261" y="122"/>
                  <a:pt x="261" y="122"/>
                </a:cubicBezTo>
                <a:cubicBezTo>
                  <a:pt x="271" y="122"/>
                  <a:pt x="271" y="122"/>
                  <a:pt x="271" y="122"/>
                </a:cubicBezTo>
                <a:close/>
                <a:moveTo>
                  <a:pt x="271" y="132"/>
                </a:moveTo>
                <a:cubicBezTo>
                  <a:pt x="271" y="135"/>
                  <a:pt x="271" y="135"/>
                  <a:pt x="271" y="135"/>
                </a:cubicBezTo>
                <a:cubicBezTo>
                  <a:pt x="261" y="135"/>
                  <a:pt x="261" y="135"/>
                  <a:pt x="261" y="135"/>
                </a:cubicBezTo>
                <a:cubicBezTo>
                  <a:pt x="261" y="132"/>
                  <a:pt x="261" y="132"/>
                  <a:pt x="261" y="132"/>
                </a:cubicBezTo>
                <a:cubicBezTo>
                  <a:pt x="271" y="132"/>
                  <a:pt x="271" y="132"/>
                  <a:pt x="271" y="132"/>
                </a:cubicBezTo>
                <a:close/>
                <a:moveTo>
                  <a:pt x="271" y="141"/>
                </a:moveTo>
                <a:cubicBezTo>
                  <a:pt x="271" y="144"/>
                  <a:pt x="271" y="144"/>
                  <a:pt x="271" y="144"/>
                </a:cubicBezTo>
                <a:cubicBezTo>
                  <a:pt x="261" y="144"/>
                  <a:pt x="261" y="144"/>
                  <a:pt x="261" y="144"/>
                </a:cubicBezTo>
                <a:cubicBezTo>
                  <a:pt x="261" y="141"/>
                  <a:pt x="261" y="141"/>
                  <a:pt x="261" y="141"/>
                </a:cubicBezTo>
                <a:lnTo>
                  <a:pt x="271" y="141"/>
                </a:lnTo>
                <a:close/>
                <a:moveTo>
                  <a:pt x="253" y="102"/>
                </a:moveTo>
                <a:cubicBezTo>
                  <a:pt x="261" y="102"/>
                  <a:pt x="261" y="102"/>
                  <a:pt x="261" y="102"/>
                </a:cubicBezTo>
                <a:cubicBezTo>
                  <a:pt x="261" y="106"/>
                  <a:pt x="261" y="106"/>
                  <a:pt x="261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58" y="113"/>
                  <a:pt x="258" y="113"/>
                  <a:pt x="258" y="113"/>
                </a:cubicBezTo>
                <a:cubicBezTo>
                  <a:pt x="261" y="113"/>
                  <a:pt x="261" y="113"/>
                  <a:pt x="261" y="113"/>
                </a:cubicBezTo>
                <a:cubicBezTo>
                  <a:pt x="261" y="116"/>
                  <a:pt x="261" y="116"/>
                  <a:pt x="261" y="116"/>
                </a:cubicBezTo>
                <a:cubicBezTo>
                  <a:pt x="258" y="116"/>
                  <a:pt x="258" y="116"/>
                  <a:pt x="258" y="116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61" y="122"/>
                  <a:pt x="261" y="122"/>
                  <a:pt x="261" y="122"/>
                </a:cubicBezTo>
                <a:cubicBezTo>
                  <a:pt x="261" y="125"/>
                  <a:pt x="261" y="125"/>
                  <a:pt x="261" y="125"/>
                </a:cubicBezTo>
                <a:cubicBezTo>
                  <a:pt x="258" y="125"/>
                  <a:pt x="258" y="125"/>
                  <a:pt x="258" y="125"/>
                </a:cubicBezTo>
                <a:cubicBezTo>
                  <a:pt x="258" y="132"/>
                  <a:pt x="258" y="132"/>
                  <a:pt x="258" y="132"/>
                </a:cubicBezTo>
                <a:cubicBezTo>
                  <a:pt x="261" y="132"/>
                  <a:pt x="261" y="132"/>
                  <a:pt x="261" y="132"/>
                </a:cubicBezTo>
                <a:cubicBezTo>
                  <a:pt x="261" y="135"/>
                  <a:pt x="261" y="135"/>
                  <a:pt x="261" y="135"/>
                </a:cubicBezTo>
                <a:cubicBezTo>
                  <a:pt x="258" y="135"/>
                  <a:pt x="258" y="135"/>
                  <a:pt x="258" y="135"/>
                </a:cubicBezTo>
                <a:cubicBezTo>
                  <a:pt x="258" y="141"/>
                  <a:pt x="258" y="141"/>
                  <a:pt x="258" y="141"/>
                </a:cubicBezTo>
                <a:cubicBezTo>
                  <a:pt x="261" y="141"/>
                  <a:pt x="261" y="141"/>
                  <a:pt x="261" y="141"/>
                </a:cubicBezTo>
                <a:cubicBezTo>
                  <a:pt x="261" y="144"/>
                  <a:pt x="261" y="144"/>
                  <a:pt x="261" y="144"/>
                </a:cubicBezTo>
                <a:cubicBezTo>
                  <a:pt x="258" y="144"/>
                  <a:pt x="258" y="144"/>
                  <a:pt x="258" y="144"/>
                </a:cubicBezTo>
                <a:cubicBezTo>
                  <a:pt x="258" y="151"/>
                  <a:pt x="258" y="151"/>
                  <a:pt x="258" y="151"/>
                </a:cubicBezTo>
                <a:cubicBezTo>
                  <a:pt x="261" y="151"/>
                  <a:pt x="261" y="151"/>
                  <a:pt x="261" y="151"/>
                </a:cubicBezTo>
                <a:cubicBezTo>
                  <a:pt x="261" y="156"/>
                  <a:pt x="261" y="156"/>
                  <a:pt x="261" y="156"/>
                </a:cubicBezTo>
                <a:cubicBezTo>
                  <a:pt x="258" y="156"/>
                  <a:pt x="258" y="156"/>
                  <a:pt x="258" y="156"/>
                </a:cubicBezTo>
                <a:cubicBezTo>
                  <a:pt x="258" y="227"/>
                  <a:pt x="258" y="227"/>
                  <a:pt x="258" y="227"/>
                </a:cubicBezTo>
                <a:cubicBezTo>
                  <a:pt x="261" y="227"/>
                  <a:pt x="261" y="227"/>
                  <a:pt x="261" y="227"/>
                </a:cubicBezTo>
                <a:cubicBezTo>
                  <a:pt x="261" y="230"/>
                  <a:pt x="261" y="230"/>
                  <a:pt x="261" y="230"/>
                </a:cubicBezTo>
                <a:cubicBezTo>
                  <a:pt x="253" y="230"/>
                  <a:pt x="253" y="230"/>
                  <a:pt x="253" y="230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31" y="152"/>
                  <a:pt x="31" y="152"/>
                  <a:pt x="31" y="152"/>
                </a:cubicBezTo>
                <a:cubicBezTo>
                  <a:pt x="31" y="152"/>
                  <a:pt x="31" y="152"/>
                  <a:pt x="31" y="152"/>
                </a:cubicBezTo>
                <a:cubicBezTo>
                  <a:pt x="31" y="152"/>
                  <a:pt x="31" y="152"/>
                  <a:pt x="31" y="152"/>
                </a:cubicBezTo>
                <a:cubicBezTo>
                  <a:pt x="22" y="152"/>
                  <a:pt x="14" y="148"/>
                  <a:pt x="9" y="143"/>
                </a:cubicBezTo>
                <a:cubicBezTo>
                  <a:pt x="3" y="137"/>
                  <a:pt x="0" y="129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9" y="0"/>
                  <a:pt x="9" y="0"/>
                </a:cubicBezTo>
                <a:cubicBezTo>
                  <a:pt x="9" y="121"/>
                  <a:pt x="9" y="121"/>
                  <a:pt x="9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9" y="127"/>
                  <a:pt x="11" y="132"/>
                  <a:pt x="15" y="136"/>
                </a:cubicBezTo>
                <a:cubicBezTo>
                  <a:pt x="19" y="140"/>
                  <a:pt x="25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253" y="143"/>
                  <a:pt x="253" y="143"/>
                  <a:pt x="253" y="143"/>
                </a:cubicBezTo>
                <a:lnTo>
                  <a:pt x="253" y="102"/>
                </a:lnTo>
                <a:close/>
              </a:path>
            </a:pathLst>
          </a:custGeom>
          <a:solidFill>
            <a:srgbClr val="cd1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06:32:47Z</dcterms:created>
  <dc:creator>Administrator</dc:creator>
  <dc:description/>
  <dc:language>en-US</dc:language>
  <cp:lastModifiedBy>DELL</cp:lastModifiedBy>
  <dcterms:modified xsi:type="dcterms:W3CDTF">2015-10-26T06:43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72150000000000010261100207f7000400038000</vt:lpwstr>
  </property>
  <property fmtid="{D5CDD505-2E9C-101B-9397-08002B2CF9AE}" pid="4" name="fileid">
    <vt:lpwstr>524061</vt:lpwstr>
  </property>
  <property fmtid="{D5CDD505-2E9C-101B-9397-08002B2CF9AE}" pid="5" name="name">
    <vt:lpwstr>A000120140912ALIKOFW.ppt</vt:lpwstr>
  </property>
  <property fmtid="{D5CDD505-2E9C-101B-9397-08002B2CF9AE}" pid="6" name="关键字">
    <vt:lpwstr>PPT PowerPoint 范文 其他用途 科普知识 剁手党 扫货 女人 淘宝 双十一 扫货 网购 血拼 红 红色 宽屏 v2003 #P8</vt:lpwstr>
  </property>
  <property fmtid="{D5CDD505-2E9C-101B-9397-08002B2CF9AE}" pid="7" name="标题">
    <vt:lpwstr>“剁手党”扫货秘籍_A000120140912ALIKOFW</vt:lpwstr>
  </property>
  <property fmtid="{D5CDD505-2E9C-101B-9397-08002B2CF9AE}" pid="8" name="模板文件">
    <vt:lpwstr>A000120140912ALIKOFW.ppt</vt:lpwstr>
  </property>
</Properties>
</file>