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F40-591D-44F5-8B7A-3494F7D4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7120" y="3723840"/>
            <a:ext cx="83296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DCF-B04A-4561-8B67-673118C1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7120" y="372384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5640" y="372384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150-091C-43CF-90CF-6E09CDCE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760" y="100008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0040" y="100008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7120" y="372384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760" y="372384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0040" y="372384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A22-9B72-4A96-8B8B-1DAD0AC4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545E-903B-48D8-A562-E78D7DAF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A469-7521-449B-B25C-5AEA8A7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CB12-C6F8-463B-94AF-8E2846AB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58DD-9EB4-4892-8933-0E99C8DE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08FA-2040-4BE3-811A-F0DEB24D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7120" y="2026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9E9D-9F91-48A0-9A0E-E7B718DA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7120" y="372384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C4A8-4A02-4009-BA56-D5A5C55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5E9-6262-42C1-95F6-047AA43D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5640" y="372384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38E-8357-4A93-99C9-F09D466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7120" y="3723840"/>
            <a:ext cx="83296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7FAF-9F30-4614-907F-BAAE38F5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7120" y="3723840"/>
            <a:ext cx="83296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8D03-1FDE-4F06-B939-EE4B3AC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7120" y="372384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5640" y="372384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4D4F-3A0A-4C89-AE00-201E97AB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00008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0040" y="100008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7120" y="372384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372384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0040" y="3723840"/>
            <a:ext cx="2682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806F-FFCA-448F-800D-B59150B0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137-CE56-4304-BE0E-A9DE2A6E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472-EE08-4A8A-AD20-DB08C541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DC2-A0CD-4084-9E07-C4230F28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7120" y="2026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EF4-A3CB-4732-8169-BE089FDA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7120" y="372384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D18-36A0-400E-9AA2-1BF36130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5640" y="372384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9DB-6702-4F87-99A3-FA19803F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5640" y="1000080"/>
            <a:ext cx="40647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7120" y="3723840"/>
            <a:ext cx="83296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B4C-36FE-4867-A7A9-C1832F2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38A-6575-4D11-9387-6C19CCFDE5FB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E187-8E4D-4ED1-A03D-1A0F5FF962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720" y="3717720"/>
            <a:ext cx="7128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车间管理人员培训第一部分</a:t>
            </a:r>
            <a:endParaRPr b="0" lang="en-US" sz="4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4920" y="4745160"/>
            <a:ext cx="4398840" cy="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四。员工出勤如何管理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时间管理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状态管理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五。员工技能如何管理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六。人员后备如何管理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七。如何做好补员与员工轮岗工作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补员管理：告知  指导  监督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员工轮岗：人员  时间 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八。工位顶替怎么管理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顶替时机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管理方法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培训工作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052640"/>
          <a:ext cx="7023240" cy="1798560"/>
        </p:xfrm>
        <a:graphic>
          <a:graphicData uri="http://schemas.openxmlformats.org/drawingml/2006/table">
            <a:tbl>
              <a:tblPr/>
              <a:tblGrid>
                <a:gridCol w="3733920"/>
                <a:gridCol w="3289320"/>
              </a:tblGrid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9900"/>
                          </a:solidFill>
                          <a:latin typeface="华文细黑"/>
                          <a:ea typeface="方正准圆简体"/>
                        </a:rPr>
                        <a:t>何时需要培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3399"/>
                          </a:solidFill>
                          <a:latin typeface="华文细黑"/>
                          <a:ea typeface="方正准圆简体"/>
                        </a:rPr>
                        <a:t>新员工初次上岗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66ff"/>
                          </a:solidFill>
                          <a:latin typeface="华文细黑"/>
                          <a:ea typeface="方正准圆简体"/>
                        </a:rPr>
                        <a:t>岗位变换的时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方正准圆简体"/>
                        </a:rPr>
                        <a:t>改变作业方法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66ff"/>
                          </a:solidFill>
                          <a:latin typeface="华文细黑"/>
                          <a:ea typeface="方正准圆简体"/>
                        </a:rPr>
                        <a:t>新产品上线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cc0099"/>
                          </a:solidFill>
                          <a:latin typeface="华文细黑"/>
                          <a:ea typeface="方正准圆简体"/>
                        </a:rPr>
                        <a:t>存在安全隐患时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9900"/>
                          </a:solidFill>
                          <a:latin typeface="华文细黑"/>
                          <a:ea typeface="方正准圆简体"/>
                        </a:rPr>
                        <a:t>谁担任指导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3600" indent="-1843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dbf5f9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华文细黑"/>
                          <a:ea typeface="方正准圆简体"/>
                        </a:rPr>
                        <a:t>现场班组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3600" indent="-1843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dbf5f9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cc0099"/>
                          </a:solidFill>
                          <a:latin typeface="华文细黑"/>
                          <a:ea typeface="方正准圆简体"/>
                        </a:rPr>
                        <a:t>技术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3600" indent="-1843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dbf5f9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华文细黑"/>
                          <a:ea typeface="方正准圆简体"/>
                        </a:rPr>
                        <a:t>工程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3600" indent="-1843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dbf5f9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cc0099"/>
                          </a:solidFill>
                          <a:latin typeface="华文细黑"/>
                          <a:ea typeface="方正准圆简体"/>
                        </a:rPr>
                        <a:t>有经验被认证的同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如何开展现场内的培训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一 现场培训的理由和目的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二 实施步骤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确定受教育者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准备教材（即作业指导书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作业名称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做什么？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作业时间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什么时候做。在哪道工序前或后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作业者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谁去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作业地点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在哪儿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E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作业目的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为什么要这么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作业方式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所用工具及作业方法 （关键要点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41440" y="1000080"/>
            <a:ext cx="79596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进行实际作业指导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说给她听，做给他看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说给你听，做给你看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新员工教育方法及内容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方法：培训公司制度，组织。 有错误立刻纠正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内容：时间  着装  理解  措辞  动作  报告 理解  品质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多面手的培养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57120" y="1000080"/>
          <a:ext cx="8329680" cy="3003480"/>
        </p:xfrm>
        <a:graphic>
          <a:graphicData uri="http://schemas.openxmlformats.org/drawingml/2006/table">
            <a:tbl>
              <a:tblPr/>
              <a:tblGrid>
                <a:gridCol w="1665360"/>
                <a:gridCol w="1666800"/>
                <a:gridCol w="1665360"/>
                <a:gridCol w="1666800"/>
                <a:gridCol w="1665360"/>
              </a:tblGrid>
              <a:tr h="412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剪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焊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波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成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王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李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刘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怎么样与下属有效沟通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1000080"/>
          <a:ext cx="8329680" cy="2749680"/>
        </p:xfrm>
        <a:graphic>
          <a:graphicData uri="http://schemas.openxmlformats.org/drawingml/2006/table">
            <a:tbl>
              <a:tblPr/>
              <a:tblGrid>
                <a:gridCol w="1665360"/>
                <a:gridCol w="1666800"/>
                <a:gridCol w="1819440"/>
                <a:gridCol w="3178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管理人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某员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车间其他员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处理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我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你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都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我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你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大家都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我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你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大家都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我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你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大家都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我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你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大家都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我不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你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大家都知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沟通技巧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一。指令下达一定要具体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平时在工作上是否经常如此下达工作指令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做完以后一定要自己检验一下，看看有没有质量问题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小心检查来料，看有没有不良，要是有，都给我拣出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凡是有异常，一个都不要放过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二。让生产现场充满生气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三。适时关注下属的情绪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各类员工的管理方法举例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有个性的员工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天生不合群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不要放弃对他们的希望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宽宏大量最为重要，不要以势压人故意给下马威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试着争取他们的信任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切忌过分热情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尊重他们的选择是创造良好交往氛围的前提条件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过于敏感的员工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对任何批评耿耿于怀 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表扬他们工作中做得好的部分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建议他们将你不满意的部分做得更好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鼓励他们自己做决定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章  优秀车间管理人员任职要求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6760" y="1000080"/>
            <a:ext cx="6086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第一节  车间管理人员扮演哪些角色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是生产车间负责人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监督，管理的职责范围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向其他部门或上级呈报意见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是现场的指挥塔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00000" y="3213000"/>
          <a:ext cx="7488360" cy="2583000"/>
        </p:xfrm>
        <a:graphic>
          <a:graphicData uri="http://schemas.openxmlformats.org/drawingml/2006/table">
            <a:tbl>
              <a:tblPr/>
              <a:tblGrid>
                <a:gridCol w="1817640"/>
                <a:gridCol w="567072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生产准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确认在生产中所必须的材料，物料，设备的准备工作和当日的生产计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生产中的巡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在生产过程中巡视现场，观察生产情况是否正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发现异常及时处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当发现生产异常时，应及时停止生产，调查原因，采取适当的方法解决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生产结束后的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收集生产日报和相关数据，确认第二天的生产计划及准备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功高盖主的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让他们享有功劳，甚至将功劳让给他们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不要吝啬你的夸奖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用更高的标准激励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分派需要团队合作的任务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追求完美的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实践你的诺言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遵循规章制度办事情，不要突发奇想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从正反两个方面分析工作计划的优劣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表现出务实精神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缺勤的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弄清楚他们缺勤的原因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加强关于考勤方面的规定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坚持惩罚制度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设立适当奖励全勤的制度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业绩平平的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重视他们的意见，超出他们的想象范围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加强一些感情上的交流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小礼品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为他们制定个人发展计划，让其感到公司的需要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定期总结，让他们看到自己的进步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年轻与老年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了解年轻员工的特点，对症下药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雇佣一些老年员工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给老年员工足够的尊重和理解，并关心他们的健康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有靠山的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让他们的自信更多地展现在工作岗位上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深入谈话，不要回避有关其身份的问题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表扬要适度，批评要公正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发扬团队精神，相互关心荣辱与共来吸引他们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消极悲观的员工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持否定态度的人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事先与其商量，并参与工作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沟通时多用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咱们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开诚布公地请他们发表反对意见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谈一谈，给他们一个倾诉的机会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直接指出他们的否定态度已经影响到其他员工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不受欢迎的有能力的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不要生气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指出其引起不良影响的行为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表示出愿意帮助他们，意识到他们的需要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难以交流的员工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没有反应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开始时多问一些简单的问题，引导其参与进来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直接接触法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预防式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警告式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处罚式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间接法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挑剔的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看优点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强调队伍的整体利益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行动前征得大家一致意见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运用同事间的压力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不能接受时，充分表达你的感受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不要妥协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女性员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多安于现状，没有强烈的革新心理，上进心相对弱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关心更多获得自由支配的时间胜于对工资的要求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倾向于更优越的工作环境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喜欢用感情判断问题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喜欢做重复性工作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较有耐心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缺乏主动性和创造性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较强的虚荣心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小人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杀鸡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分而治之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以其人之道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化敌为友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每天的工作安排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每天的作息时间为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为午饭时间。实际工作时间为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660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分钟，那么管理人员每天的最基本安排应该如下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7991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329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329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现场工作注意细节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57120" y="1000080"/>
          <a:ext cx="8329680" cy="5214960"/>
        </p:xfrm>
        <a:graphic>
          <a:graphicData uri="http://schemas.openxmlformats.org/drawingml/2006/table">
            <a:tbl>
              <a:tblPr/>
              <a:tblGrid>
                <a:gridCol w="517680"/>
                <a:gridCol w="2139840"/>
                <a:gridCol w="5672160"/>
              </a:tblGrid>
              <a:tr h="7952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方正准圆简体"/>
                          <a:ea typeface="方正准圆简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ff"/>
                          </a:solidFill>
                          <a:latin typeface="方正准圆简体"/>
                          <a:ea typeface="方正准圆简体"/>
                        </a:rPr>
                        <a:t>首件产品确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333ff"/>
                          </a:solidFill>
                          <a:latin typeface="方正准圆简体"/>
                          <a:ea typeface="方正准圆简体"/>
                        </a:rPr>
                        <a:t>是品质预防的重要手段之一，前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方正准圆简体"/>
                          <a:ea typeface="方正准圆简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3333ff"/>
                          </a:solidFill>
                          <a:latin typeface="方正准圆简体"/>
                          <a:ea typeface="方正准圆简体"/>
                        </a:rPr>
                        <a:t>个产品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方正准圆简体"/>
                          <a:ea typeface="方正准圆简体"/>
                        </a:rPr>
                        <a:t>QC</a:t>
                      </a:r>
                      <a:r>
                        <a:rPr b="0" lang="zh-CN" sz="1400" spc="-1" strike="noStrike">
                          <a:solidFill>
                            <a:srgbClr val="3333ff"/>
                          </a:solidFill>
                          <a:latin typeface="方正准圆简体"/>
                          <a:ea typeface="方正准圆简体"/>
                        </a:rPr>
                        <a:t>检查合格后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3333ff"/>
                          </a:solidFill>
                          <a:latin typeface="方正准圆简体"/>
                          <a:ea typeface="方正准圆简体"/>
                        </a:rPr>
                        <a:t>连同首件卡置于现场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样板管理法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是现场质检的依据，分</a:t>
                      </a:r>
                      <a:r>
                        <a:rPr b="0" lang="en-US" sz="14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good</a:t>
                      </a:r>
                      <a:r>
                        <a:rPr b="0" lang="zh-CN" sz="14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板</a:t>
                      </a:r>
                      <a:r>
                        <a:rPr b="0" lang="en-US" sz="14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、</a:t>
                      </a:r>
                      <a:r>
                        <a:rPr b="0" lang="en-US" sz="14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bad</a:t>
                      </a:r>
                      <a:r>
                        <a:rPr b="0" lang="zh-CN" sz="14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板、限度板，需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cc0099"/>
                          </a:solidFill>
                          <a:latin typeface="方正准圆简体"/>
                          <a:ea typeface="方正准圆简体"/>
                        </a:rPr>
                        <a:t>程技术部认可，可妥善保管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方正准圆简体"/>
                          <a:ea typeface="方正准圆简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方正准圆简体"/>
                          <a:ea typeface="方正准圆简体"/>
                        </a:rPr>
                        <a:t>管好两头时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3300"/>
                          </a:solidFill>
                          <a:latin typeface="方正准圆简体"/>
                          <a:ea typeface="方正准圆简体"/>
                        </a:rPr>
                        <a:t>两头时段需重点管理好人员（含换线换模时段），班组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3300"/>
                          </a:solidFill>
                          <a:latin typeface="方正准圆简体"/>
                          <a:ea typeface="方正准圆简体"/>
                        </a:rPr>
                        <a:t>需以身作则，针对问题建立对策，形成制度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方正准圆简体"/>
                          <a:ea typeface="方正准圆简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方正准圆简体"/>
                          <a:ea typeface="方正准圆简体"/>
                        </a:rPr>
                        <a:t>重点关注新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8000"/>
                          </a:solidFill>
                          <a:latin typeface="方正准圆简体"/>
                          <a:ea typeface="方正准圆简体"/>
                        </a:rPr>
                        <a:t>用标志或工衣识别新手，巡查注意观察，指导专职指导的人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方正准圆简体"/>
                          <a:ea typeface="方正准圆简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a50021"/>
                          </a:solidFill>
                          <a:latin typeface="方正准圆简体"/>
                          <a:ea typeface="方正准圆简体"/>
                        </a:rPr>
                        <a:t>控制特殊工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a50021"/>
                          </a:solidFill>
                          <a:latin typeface="方正准圆简体"/>
                          <a:ea typeface="方正准圆简体"/>
                        </a:rPr>
                        <a:t>由资格认证的人员执行：实施监控的方法，随时检查，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a50021"/>
                          </a:solidFill>
                          <a:latin typeface="方正准圆简体"/>
                          <a:ea typeface="方正准圆简体"/>
                        </a:rPr>
                        <a:t>保工序条件及操作符合要求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cc"/>
                          </a:solidFill>
                          <a:latin typeface="方正准圆简体"/>
                          <a:ea typeface="方正准圆简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cc00cc"/>
                          </a:solidFill>
                          <a:latin typeface="方正准圆简体"/>
                          <a:ea typeface="方正准圆简体"/>
                        </a:rPr>
                        <a:t>不良品的管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cc00cc"/>
                          </a:solidFill>
                          <a:latin typeface="方正准圆简体"/>
                          <a:ea typeface="方正准圆简体"/>
                        </a:rPr>
                        <a:t>隔离</a:t>
                      </a:r>
                      <a:r>
                        <a:rPr b="0" lang="en-US" sz="1400" spc="-1" strike="noStrike">
                          <a:solidFill>
                            <a:srgbClr val="cc00cc"/>
                          </a:solidFill>
                          <a:latin typeface="方正准圆简体"/>
                          <a:ea typeface="方正准圆简体"/>
                        </a:rPr>
                        <a:t>、</a:t>
                      </a:r>
                      <a:r>
                        <a:rPr b="0" lang="zh-CN" sz="1400" spc="-1" strike="noStrike">
                          <a:solidFill>
                            <a:srgbClr val="cc00cc"/>
                          </a:solidFill>
                          <a:latin typeface="方正准圆简体"/>
                          <a:ea typeface="方正准圆简体"/>
                        </a:rPr>
                        <a:t> 标示</a:t>
                      </a:r>
                      <a:r>
                        <a:rPr b="0" lang="en-US" sz="1400" spc="-1" strike="noStrike">
                          <a:solidFill>
                            <a:srgbClr val="cc00cc"/>
                          </a:solidFill>
                          <a:latin typeface="方正准圆简体"/>
                          <a:ea typeface="方正准圆简体"/>
                        </a:rPr>
                        <a:t>、</a:t>
                      </a:r>
                      <a:r>
                        <a:rPr b="0" lang="zh-CN" sz="1400" spc="-1" strike="noStrike">
                          <a:solidFill>
                            <a:srgbClr val="cc00cc"/>
                          </a:solidFill>
                          <a:latin typeface="方正准圆简体"/>
                          <a:ea typeface="方正准圆简体"/>
                        </a:rPr>
                        <a:t> 处理，立即追查原因，采取措施，再进行预防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方正准圆简体"/>
                          <a:ea typeface="方正准圆简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99"/>
                          </a:solidFill>
                          <a:latin typeface="方正准圆简体"/>
                          <a:ea typeface="方正准圆简体"/>
                        </a:rPr>
                        <a:t>工程变更管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3399"/>
                          </a:solidFill>
                          <a:latin typeface="方正准圆简体"/>
                          <a:ea typeface="方正准圆简体"/>
                        </a:rPr>
                        <a:t>记录变更产品编号</a:t>
                      </a: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方正准圆简体"/>
                          <a:ea typeface="方正准圆简体"/>
                        </a:rPr>
                        <a:t>、</a:t>
                      </a:r>
                      <a:r>
                        <a:rPr b="0" lang="zh-CN" sz="1400" spc="-1" strike="noStrike">
                          <a:solidFill>
                            <a:srgbClr val="ff3399"/>
                          </a:solidFill>
                          <a:latin typeface="方正准圆简体"/>
                          <a:ea typeface="方正准圆简体"/>
                        </a:rPr>
                        <a:t>内容，准备传达变更信息，确认实施的产品 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3333ff"/>
                      </a:solidFill>
                    </a:lnL>
                    <a:lnR w="13680">
                      <a:solidFill>
                        <a:srgbClr val="3333ff"/>
                      </a:solidFill>
                    </a:lnR>
                    <a:lnT w="13680">
                      <a:solidFill>
                        <a:srgbClr val="3333ff"/>
                      </a:solidFill>
                    </a:lnT>
                    <a:lnB w="13680">
                      <a:solidFill>
                        <a:srgbClr val="3333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是中间管理者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中间管理者的位置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。在企业内部与上司之间的关系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。在工作现场与员工之间的关系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。在组织上的行动方法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。成为夹心饼时开展工作的方法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是生产任务的达成者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120" y="3571560"/>
            <a:ext cx="428796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感谢您的关注！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第二节  车间管理人员每日工作事项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一。班前要做的事项有哪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提前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分钟到岗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检查区域环境卫生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确认当天工作准备情况是否完善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当天的生产目标再度确认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二。上班后要做的事项有哪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三。班中要做的事项有哪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追踪查看是否所有员工都按标准作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随时查看工序安排是否平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随时追踪不良品并立刻查处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随时准备后续所需物料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四。下班前要做的事项有哪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检查区域内卫生及安全事项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检查当日生产进度是否达标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检查次日工作的生产准备情况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回顾当日的一切工作安排及决策是否正确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班组长工作中须注意的细节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7120" y="1000080"/>
          <a:ext cx="8329680" cy="5214960"/>
        </p:xfrm>
        <a:graphic>
          <a:graphicData uri="http://schemas.openxmlformats.org/drawingml/2006/table">
            <a:tbl>
              <a:tblPr/>
              <a:tblGrid>
                <a:gridCol w="517680"/>
                <a:gridCol w="1876320"/>
                <a:gridCol w="3646440"/>
                <a:gridCol w="2289240"/>
              </a:tblGrid>
              <a:tr h="10429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方正准圆简体"/>
                          <a:ea typeface="方正准圆简体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cc3399"/>
                          </a:solidFill>
                          <a:latin typeface="方正准圆简体"/>
                          <a:ea typeface="方正准圆简体"/>
                        </a:rPr>
                        <a:t>员工的技术能力、熟练度、配合度、思想意识等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0000"/>
                          </a:solidFill>
                          <a:latin typeface="方正准圆简体"/>
                          <a:ea typeface="方正准圆简体"/>
                        </a:rPr>
                        <a:t>是否需培训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方正准圆简体"/>
                          <a:ea typeface="方正准圆简体"/>
                        </a:rPr>
                        <a:t>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MAC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机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cc3399"/>
                          </a:solidFill>
                          <a:latin typeface="方正准圆简体"/>
                          <a:ea typeface="方正准圆简体"/>
                        </a:rPr>
                        <a:t>即机器、工装夹具、量具功能、状况、准确度等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0000"/>
                          </a:solidFill>
                          <a:latin typeface="方正准圆简体"/>
                          <a:ea typeface="方正准圆简体"/>
                        </a:rPr>
                        <a:t>是否需维修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方正准圆简体"/>
                          <a:ea typeface="方正准圆简体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cc3399"/>
                          </a:solidFill>
                          <a:latin typeface="方正准圆简体"/>
                          <a:ea typeface="方正准圆简体"/>
                        </a:rPr>
                        <a:t>材料是否能及时供应、品质是否符合要求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0000"/>
                          </a:solidFill>
                          <a:latin typeface="方正准圆简体"/>
                          <a:ea typeface="方正准圆简体"/>
                        </a:rPr>
                        <a:t>是否需追料？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方正准圆简体"/>
                          <a:ea typeface="方正准圆简体"/>
                        </a:rPr>
                        <a:t>4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技术和方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cc3399"/>
                          </a:solidFill>
                          <a:latin typeface="方正准圆简体"/>
                          <a:ea typeface="方正准圆简体"/>
                        </a:rPr>
                        <a:t>是否备齐作业指导书、检验标准、图纸、确认样等资料，是否正确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0000"/>
                          </a:solidFill>
                          <a:latin typeface="方正准圆简体"/>
                          <a:ea typeface="方正准圆简体"/>
                        </a:rPr>
                        <a:t>是否需编制、修改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方正准圆简体"/>
                          <a:ea typeface="方正准圆简体"/>
                        </a:rPr>
                        <a:t>1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cc00"/>
                          </a:solidFill>
                          <a:latin typeface="方正准圆简体"/>
                          <a:ea typeface="方正准圆简体"/>
                        </a:rPr>
                        <a:t>环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cc3399"/>
                          </a:solidFill>
                          <a:latin typeface="方正准圆简体"/>
                          <a:ea typeface="方正准圆简体"/>
                        </a:rPr>
                        <a:t>工作现场的清洁、秩序、噪音、温湿度等是否达到标准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0000"/>
                          </a:solidFill>
                          <a:latin typeface="方正准圆简体"/>
                          <a:ea typeface="方正准圆简体"/>
                        </a:rPr>
                        <a:t>是否需整顿清扫等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问题的解决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cap="rnd" w="50760">
            <a:solidFill>
              <a:srgbClr val="80008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17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简单问题处理方法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三现主义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现场、现品、现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个为什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马上在场采取应急措施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追查原因时连续问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个为什么？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直到找到最直接的根本原因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在问题根源处予以解决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制定措施，预防再发生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1746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00080"/>
          <a:ext cx="5510160" cy="3370320"/>
        </p:xfrm>
        <a:graphic>
          <a:graphicData uri="http://schemas.openxmlformats.org/drawingml/2006/table">
            <a:tbl>
              <a:tblPr/>
              <a:tblGrid>
                <a:gridCol w="2108160"/>
                <a:gridCol w="3402000"/>
              </a:tblGrid>
              <a:tr h="62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方正准圆简体"/>
                          <a:ea typeface="方正准圆简体"/>
                        </a:rPr>
                        <a:t>问题：杰弗逊大厦墙壁开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为什么墙壁开裂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喷清洁剂腐蚀墙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为什么喷清洁剂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墙壁上有鸟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为何墙壁上有鸟屎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房子里有燕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为何房子里有燕子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房子里有虫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为何房子里有虫子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窗户没关</a:t>
                      </a:r>
                      <a:r>
                        <a:rPr b="0" lang="en-US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房内阳光充满</a:t>
                      </a:r>
                      <a:r>
                        <a:rPr b="0" lang="en-US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适合虫子生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581360"/>
          <a:ext cx="2243160" cy="989280"/>
        </p:xfrm>
        <a:graphic>
          <a:graphicData uri="http://schemas.openxmlformats.org/drawingml/2006/table">
            <a:tbl>
              <a:tblPr/>
              <a:tblGrid>
                <a:gridCol w="224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解决方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d60093"/>
                          </a:solidFill>
                          <a:latin typeface="方正准圆简体"/>
                          <a:ea typeface="方正准圆简体"/>
                        </a:rPr>
                        <a:t>关掉窗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第二章  班组长人员怎么管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第一节  班组长如何配备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一。班组如何定岗管理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根据工艺确定生产岗位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按需设置职能管理岗位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二。班组如何定员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三。员工如何定岗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定岗原则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适所适才   适材适所   强度均匀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定岗好处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未定岗危害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9:50:20Z</dcterms:created>
  <dc:creator/>
  <dc:description/>
  <cp:keywords/>
  <dc:language>en-US</dc:language>
  <cp:lastModifiedBy>Administrator</cp:lastModifiedBy>
  <cp:lastPrinted>1899-12-30T00:00:00Z</cp:lastPrinted>
  <dcterms:modified xsi:type="dcterms:W3CDTF">2015-08-25T02:36:21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