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AA9-8D9B-40EE-A142-5EB5B5DB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BF4-D248-4E82-9A5E-794791D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93E-9E12-464D-8C4F-B5328D9C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6E2-6271-4918-967D-9278ABE0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48B-5291-4AE6-88CC-C3C10FD3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06D-3B6A-48BA-8D9C-FCB93C7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CA7-8236-49EC-B84F-19DAA8F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1F3-5AC5-438C-8888-B943F854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A64-F5D5-4949-B04C-5A4324C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123-6691-4DF7-9080-8196A89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DFD-C4EB-4F4B-8D25-840687D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C5E-4662-4419-B43D-2CD3F16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170-12F3-45CD-9145-B05477ED9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307188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35719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9"/>
          <p:cNvSpPr/>
          <p:nvPr/>
        </p:nvSpPr>
        <p:spPr>
          <a:xfrm>
            <a:off x="3214800" y="1785960"/>
            <a:ext cx="3071880" cy="642960"/>
          </a:xfrm>
          <a:prstGeom prst="roundRect">
            <a:avLst>
              <a:gd name="adj" fmla="val 48352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0"/>
          <p:cNvSpPr/>
          <p:nvPr/>
        </p:nvSpPr>
        <p:spPr>
          <a:xfrm>
            <a:off x="3429000" y="1785960"/>
            <a:ext cx="2662200" cy="642960"/>
          </a:xfrm>
          <a:prstGeom prst="roundRect">
            <a:avLst>
              <a:gd name="adj" fmla="val 48352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1"/>
          <p:cNvSpPr/>
          <p:nvPr/>
        </p:nvSpPr>
        <p:spPr>
          <a:xfrm>
            <a:off x="3214800" y="2500200"/>
            <a:ext cx="3071880" cy="642960"/>
          </a:xfrm>
          <a:prstGeom prst="roundRect">
            <a:avLst>
              <a:gd name="adj" fmla="val 48352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2"/>
          <p:cNvSpPr/>
          <p:nvPr/>
        </p:nvSpPr>
        <p:spPr>
          <a:xfrm>
            <a:off x="3429000" y="2500200"/>
            <a:ext cx="2662200" cy="642960"/>
          </a:xfrm>
          <a:prstGeom prst="roundRect">
            <a:avLst>
              <a:gd name="adj" fmla="val 48352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3"/>
          <p:cNvSpPr/>
          <p:nvPr/>
        </p:nvSpPr>
        <p:spPr>
          <a:xfrm>
            <a:off x="3214800" y="3214800"/>
            <a:ext cx="3071880" cy="642960"/>
          </a:xfrm>
          <a:prstGeom prst="roundRect">
            <a:avLst>
              <a:gd name="adj" fmla="val 48352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4"/>
          <p:cNvSpPr/>
          <p:nvPr/>
        </p:nvSpPr>
        <p:spPr>
          <a:xfrm>
            <a:off x="3429000" y="3214800"/>
            <a:ext cx="2662200" cy="642960"/>
          </a:xfrm>
          <a:prstGeom prst="roundRect">
            <a:avLst>
              <a:gd name="adj" fmla="val 48352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3214800" y="3929040"/>
            <a:ext cx="3071880" cy="642960"/>
          </a:xfrm>
          <a:prstGeom prst="roundRect">
            <a:avLst>
              <a:gd name="adj" fmla="val 48352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6"/>
          <p:cNvSpPr/>
          <p:nvPr/>
        </p:nvSpPr>
        <p:spPr>
          <a:xfrm>
            <a:off x="3429000" y="3929040"/>
            <a:ext cx="2662200" cy="642960"/>
          </a:xfrm>
          <a:prstGeom prst="roundRect">
            <a:avLst>
              <a:gd name="adj" fmla="val 48352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28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428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28364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上下箭头 10"/>
          <p:cNvSpPr/>
          <p:nvPr/>
        </p:nvSpPr>
        <p:spPr>
          <a:xfrm>
            <a:off x="1000080" y="1643040"/>
            <a:ext cx="1785960" cy="3500640"/>
          </a:xfrm>
          <a:prstGeom prst="upDownArrow">
            <a:avLst>
              <a:gd name="adj1" fmla="val 82444"/>
              <a:gd name="adj2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上下箭头 11"/>
          <p:cNvSpPr/>
          <p:nvPr/>
        </p:nvSpPr>
        <p:spPr>
          <a:xfrm>
            <a:off x="2857680" y="1643040"/>
            <a:ext cx="1785600" cy="3500640"/>
          </a:xfrm>
          <a:prstGeom prst="upDownArrow">
            <a:avLst>
              <a:gd name="adj1" fmla="val 82444"/>
              <a:gd name="adj2" fmla="val 50010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上下箭头 12"/>
          <p:cNvSpPr/>
          <p:nvPr/>
        </p:nvSpPr>
        <p:spPr>
          <a:xfrm>
            <a:off x="4714920" y="1643040"/>
            <a:ext cx="1785960" cy="3500640"/>
          </a:xfrm>
          <a:prstGeom prst="upDownArrow">
            <a:avLst>
              <a:gd name="adj1" fmla="val 82444"/>
              <a:gd name="adj2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上下箭头 13"/>
          <p:cNvSpPr/>
          <p:nvPr/>
        </p:nvSpPr>
        <p:spPr>
          <a:xfrm>
            <a:off x="6572160" y="1643040"/>
            <a:ext cx="1785960" cy="3500640"/>
          </a:xfrm>
          <a:prstGeom prst="upDownArrow">
            <a:avLst>
              <a:gd name="adj1" fmla="val 82444"/>
              <a:gd name="adj2" fmla="val 50000"/>
            </a:avLst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211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1408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0"/>
          <p:cNvGrpSpPr/>
          <p:nvPr/>
        </p:nvGrpSpPr>
        <p:grpSpPr>
          <a:xfrm>
            <a:off x="2948400" y="1220760"/>
            <a:ext cx="3753720" cy="3914640"/>
            <a:chOff x="2948400" y="1220760"/>
            <a:chExt cx="3753720" cy="3914640"/>
          </a:xfrm>
        </p:grpSpPr>
        <p:sp>
          <p:nvSpPr>
            <p:cNvPr id="80" name="橢圓 12"/>
            <p:cNvSpPr/>
            <p:nvPr/>
          </p:nvSpPr>
          <p:spPr>
            <a:xfrm>
              <a:off x="2951280" y="1288800"/>
              <a:ext cx="3749400" cy="3846600"/>
            </a:xfrm>
            <a:prstGeom prst="ellipse">
              <a:avLst/>
            </a:prstGeom>
            <a:noFill/>
            <a:ln w="19080">
              <a:solidFill>
                <a:srgbClr val="00a6cc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rot="5400000">
              <a:off x="4740480" y="1242000"/>
              <a:ext cx="17280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00a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等腰三角形 14"/>
            <p:cNvSpPr/>
            <p:nvPr/>
          </p:nvSpPr>
          <p:spPr>
            <a:xfrm rot="9120000">
              <a:off x="6517440" y="248832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00a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等腰三角形 15"/>
            <p:cNvSpPr/>
            <p:nvPr/>
          </p:nvSpPr>
          <p:spPr>
            <a:xfrm rot="13080000">
              <a:off x="6010200" y="4550760"/>
              <a:ext cx="16488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00a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等腰三角形 16"/>
            <p:cNvSpPr/>
            <p:nvPr/>
          </p:nvSpPr>
          <p:spPr>
            <a:xfrm rot="18240000">
              <a:off x="3740040" y="4768920"/>
              <a:ext cx="17136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00a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等腰三角形 17"/>
            <p:cNvSpPr/>
            <p:nvPr/>
          </p:nvSpPr>
          <p:spPr>
            <a:xfrm rot="1500000">
              <a:off x="2970000" y="256320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00a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一般五邊形 4"/>
          <p:cNvSpPr/>
          <p:nvPr/>
        </p:nvSpPr>
        <p:spPr>
          <a:xfrm>
            <a:off x="3730680" y="2112840"/>
            <a:ext cx="2179440" cy="2075040"/>
          </a:xfrm>
          <a:prstGeom prst="pentagon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5"/>
          <p:cNvSpPr/>
          <p:nvPr/>
        </p:nvSpPr>
        <p:spPr>
          <a:xfrm rot="2160000">
            <a:off x="5151240" y="1207800"/>
            <a:ext cx="1341360" cy="1350720"/>
          </a:xfrm>
          <a:prstGeom prst="triangle">
            <a:avLst>
              <a:gd name="adj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6"/>
          <p:cNvSpPr/>
          <p:nvPr/>
        </p:nvSpPr>
        <p:spPr>
          <a:xfrm rot="6480000">
            <a:off x="5766120" y="3088440"/>
            <a:ext cx="1339560" cy="1351080"/>
          </a:xfrm>
          <a:prstGeom prst="triangle">
            <a:avLst>
              <a:gd name="adj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7"/>
          <p:cNvSpPr/>
          <p:nvPr/>
        </p:nvSpPr>
        <p:spPr>
          <a:xfrm rot="10800000">
            <a:off x="4156200" y="4271760"/>
            <a:ext cx="1341360" cy="1352520"/>
          </a:xfrm>
          <a:prstGeom prst="triangle">
            <a:avLst>
              <a:gd name="adj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等腰三角形 8"/>
          <p:cNvSpPr/>
          <p:nvPr/>
        </p:nvSpPr>
        <p:spPr>
          <a:xfrm rot="15118800">
            <a:off x="2527920" y="314388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9"/>
          <p:cNvSpPr/>
          <p:nvPr/>
        </p:nvSpPr>
        <p:spPr>
          <a:xfrm rot="19500000">
            <a:off x="3133800" y="119052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784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999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4356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33562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283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1571760" y="1285920"/>
            <a:ext cx="3214440" cy="2286000"/>
          </a:xfrm>
          <a:prstGeom prst="ellips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4786200" y="1285920"/>
            <a:ext cx="3214800" cy="2286000"/>
          </a:xfrm>
          <a:prstGeom prst="ellipse">
            <a:avLst/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8"/>
          <p:cNvSpPr/>
          <p:nvPr/>
        </p:nvSpPr>
        <p:spPr>
          <a:xfrm>
            <a:off x="4786200" y="3143160"/>
            <a:ext cx="3214800" cy="2286000"/>
          </a:xfrm>
          <a:prstGeom prst="ellips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9"/>
          <p:cNvSpPr/>
          <p:nvPr/>
        </p:nvSpPr>
        <p:spPr>
          <a:xfrm>
            <a:off x="1571760" y="3143160"/>
            <a:ext cx="3214440" cy="2286000"/>
          </a:xfrm>
          <a:prstGeom prst="ellipse">
            <a:avLst/>
          </a:prstGeom>
          <a:solidFill>
            <a:srgbClr val="78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2640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空心弧 2"/>
          <p:cNvSpPr/>
          <p:nvPr/>
        </p:nvSpPr>
        <p:spPr>
          <a:xfrm flipH="1" flipV="1" rot="5400000">
            <a:off x="4822920" y="1528560"/>
            <a:ext cx="4003920" cy="3645000"/>
          </a:xfrm>
          <a:custGeom>
            <a:avLst/>
            <a:gdLst>
              <a:gd name="textAreaLeft" fmla="*/ 574200 w 4003920"/>
              <a:gd name="textAreaRight" fmla="*/ 3449880 w 4003920"/>
              <a:gd name="textAreaTop" fmla="*/ -360 h 3645000"/>
              <a:gd name="textAreaBottom" fmla="*/ 1143720 h 3645000"/>
            </a:gdLst>
            <a:ahLst/>
            <a:rect l="textAreaLeft" t="textAreaTop" r="textAreaRight" b="textAreaBottom"/>
            <a:pathLst>
              <a:path w="4003675" h="3644900">
                <a:moveTo>
                  <a:pt x="574152" y="544962"/>
                </a:moveTo>
                <a:lnTo>
                  <a:pt x="574152" y="544962"/>
                </a:lnTo>
                <a:arcTo wR="2001838" hR="1822450" stAng="-8290675" swAng="5830811"/>
                <a:lnTo>
                  <a:pt x="2782312" y="1144048"/>
                </a:lnTo>
                <a:lnTo>
                  <a:pt x="2782312" y="1144048"/>
                </a:lnTo>
                <a:arcTo wR="1122943" hR="943555" stAng="-2459865" swAng="-5830811"/>
                <a:close/>
              </a:path>
            </a:pathLst>
          </a:custGeom>
          <a:solidFill>
            <a:srgbClr val="00a6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空心弧 25"/>
          <p:cNvSpPr/>
          <p:nvPr/>
        </p:nvSpPr>
        <p:spPr>
          <a:xfrm flipV="1" rot="16200000">
            <a:off x="749160" y="1513800"/>
            <a:ext cx="4003560" cy="3644640"/>
          </a:xfrm>
          <a:custGeom>
            <a:avLst/>
            <a:gdLst>
              <a:gd name="textAreaLeft" fmla="*/ 556560 w 4003560"/>
              <a:gd name="textAreaRight" fmla="*/ 3449880 w 4003560"/>
              <a:gd name="textAreaTop" fmla="*/ 360 h 3644640"/>
              <a:gd name="textAreaBottom" fmla="*/ 1144080 h 3644640"/>
            </a:gdLst>
            <a:ahLst/>
            <a:rect l="textAreaLeft" t="textAreaTop" r="textAreaRight" b="textAreaBottom"/>
            <a:pathLst>
              <a:path w="4003675" h="3644900">
                <a:moveTo>
                  <a:pt x="556645" y="561382"/>
                </a:moveTo>
                <a:lnTo>
                  <a:pt x="556645" y="561382"/>
                </a:lnTo>
                <a:arcTo wR="2001838" hR="1822450" stAng="-8333533" swAng="5873669"/>
                <a:lnTo>
                  <a:pt x="2782312" y="1144048"/>
                </a:lnTo>
                <a:lnTo>
                  <a:pt x="2782312" y="1144048"/>
                </a:lnTo>
                <a:arcTo wR="1122943" hR="943555" stAng="-2459865" swAng="-5873665"/>
                <a:close/>
              </a:path>
            </a:pathLst>
          </a:custGeom>
          <a:solidFill>
            <a:srgbClr val="00a6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空心弧 26"/>
          <p:cNvSpPr/>
          <p:nvPr/>
        </p:nvSpPr>
        <p:spPr>
          <a:xfrm flipH="1" flipV="1">
            <a:off x="2800800" y="-597960"/>
            <a:ext cx="4003560" cy="3644640"/>
          </a:xfrm>
          <a:custGeom>
            <a:avLst/>
            <a:gdLst>
              <a:gd name="textAreaLeft" fmla="*/ 560880 w 4003560"/>
              <a:gd name="textAreaRight" fmla="*/ 3449520 w 4003560"/>
              <a:gd name="textAreaTop" fmla="*/ 0 h 3644640"/>
              <a:gd name="textAreaBottom" fmla="*/ 1144080 h 3644640"/>
            </a:gdLst>
            <a:ahLst/>
            <a:rect l="textAreaLeft" t="textAreaTop" r="textAreaRight" b="textAreaBottom"/>
            <a:pathLst>
              <a:path w="4003675" h="3644901">
                <a:moveTo>
                  <a:pt x="561222" y="557049"/>
                </a:moveTo>
                <a:lnTo>
                  <a:pt x="561222" y="557049"/>
                </a:lnTo>
                <a:arcTo wR="2001838" hR="1822451" stAng="-8322284" swAng="5862420"/>
                <a:lnTo>
                  <a:pt x="2782312" y="1144049"/>
                </a:lnTo>
                <a:lnTo>
                  <a:pt x="2782312" y="1144049"/>
                </a:lnTo>
                <a:arcTo wR="1122943" hR="943556" stAng="-2459863" swAng="-5862419"/>
                <a:close/>
              </a:path>
            </a:pathLst>
          </a:custGeom>
          <a:solidFill>
            <a:srgbClr val="78dee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空心弧 27"/>
          <p:cNvSpPr/>
          <p:nvPr/>
        </p:nvSpPr>
        <p:spPr>
          <a:xfrm>
            <a:off x="2774880" y="3641760"/>
            <a:ext cx="4005360" cy="3645000"/>
          </a:xfrm>
          <a:custGeom>
            <a:avLst/>
            <a:gdLst>
              <a:gd name="textAreaLeft" fmla="*/ 561600 w 4005360"/>
              <a:gd name="textAreaRight" fmla="*/ 3450960 w 4005360"/>
              <a:gd name="textAreaTop" fmla="*/ 0 h 3645000"/>
              <a:gd name="textAreaBottom" fmla="*/ 1143720 h 3645000"/>
            </a:gdLst>
            <a:ahLst/>
            <a:rect l="textAreaLeft" t="textAreaTop" r="textAreaRight" b="textAreaBottom"/>
            <a:pathLst>
              <a:path w="4005263" h="3644900">
                <a:moveTo>
                  <a:pt x="561720" y="556789"/>
                </a:moveTo>
                <a:lnTo>
                  <a:pt x="561720" y="556789"/>
                </a:lnTo>
                <a:arcTo wR="2002632" hR="1822450" stAng="-8322284" swAng="5862420"/>
                <a:lnTo>
                  <a:pt x="2783372" y="1143817"/>
                </a:lnTo>
                <a:lnTo>
                  <a:pt x="2783372" y="1143817"/>
                </a:lnTo>
                <a:arcTo wR="1123737" hR="943555" stAng="-2459863" swAng="-5862423"/>
                <a:close/>
              </a:path>
            </a:pathLst>
          </a:custGeom>
          <a:solidFill>
            <a:srgbClr val="78dee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 rot="19142400">
            <a:off x="2602080" y="2023560"/>
            <a:ext cx="19684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5092200" y="1570320"/>
            <a:ext cx="1419120" cy="1280520"/>
            <a:chOff x="5092200" y="1570320"/>
            <a:chExt cx="1419120" cy="1280520"/>
          </a:xfrm>
        </p:grpSpPr>
        <p:pic>
          <p:nvPicPr>
            <p:cNvPr id="121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861080" y="219528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矩形 17"/>
            <p:cNvGrpSpPr/>
            <p:nvPr/>
          </p:nvGrpSpPr>
          <p:grpSpPr>
            <a:xfrm>
              <a:off x="5374440" y="1814040"/>
              <a:ext cx="900360" cy="789840"/>
              <a:chOff x="5374440" y="1814040"/>
              <a:chExt cx="900360" cy="789840"/>
            </a:xfrm>
          </p:grpSpPr>
          <p:pic>
            <p:nvPicPr>
              <p:cNvPr id="123" name="矩形 17" descr=""/>
              <p:cNvPicPr/>
              <p:nvPr/>
            </p:nvPicPr>
            <p:blipFill>
              <a:blip r:embed="rId2"/>
              <a:stretch/>
            </p:blipFill>
            <p:spPr>
              <a:xfrm rot="21598800">
                <a:off x="5374440" y="2115720"/>
                <a:ext cx="900360" cy="1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 rot="13317600">
                <a:off x="5235840" y="2206800"/>
                <a:ext cx="1176840" cy="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18"/>
          <p:cNvGrpSpPr/>
          <p:nvPr/>
        </p:nvGrpSpPr>
        <p:grpSpPr>
          <a:xfrm>
            <a:off x="3090960" y="1553040"/>
            <a:ext cx="1419120" cy="1280520"/>
            <a:chOff x="3090960" y="1553040"/>
            <a:chExt cx="1419120" cy="128052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59840" y="21780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矩形 34"/>
            <p:cNvGrpSpPr/>
            <p:nvPr/>
          </p:nvGrpSpPr>
          <p:grpSpPr>
            <a:xfrm>
              <a:off x="3334320" y="1797840"/>
              <a:ext cx="891000" cy="785520"/>
              <a:chOff x="3334320" y="1797840"/>
              <a:chExt cx="891000" cy="785520"/>
            </a:xfrm>
          </p:grpSpPr>
          <p:pic>
            <p:nvPicPr>
              <p:cNvPr id="128" name="矩形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3334320" y="2097720"/>
                <a:ext cx="891000" cy="18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 rot="8281200">
                <a:off x="3193560" y="218844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组合 21"/>
          <p:cNvGrpSpPr/>
          <p:nvPr/>
        </p:nvGrpSpPr>
        <p:grpSpPr>
          <a:xfrm>
            <a:off x="5119200" y="3805200"/>
            <a:ext cx="1419120" cy="1280520"/>
            <a:chOff x="5119200" y="3805200"/>
            <a:chExt cx="1419120" cy="1280520"/>
          </a:xfrm>
        </p:grpSpPr>
        <p:pic>
          <p:nvPicPr>
            <p:cNvPr id="131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887720" y="443016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矩形 37"/>
            <p:cNvGrpSpPr/>
            <p:nvPr/>
          </p:nvGrpSpPr>
          <p:grpSpPr>
            <a:xfrm>
              <a:off x="5406480" y="4053960"/>
              <a:ext cx="891000" cy="785520"/>
              <a:chOff x="5406480" y="4053960"/>
              <a:chExt cx="891000" cy="785520"/>
            </a:xfrm>
          </p:grpSpPr>
          <p:pic>
            <p:nvPicPr>
              <p:cNvPr id="133" name="矩形 37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406480" y="4352760"/>
                <a:ext cx="89100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19081200">
                <a:off x="5266440" y="444492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组合 24"/>
          <p:cNvGrpSpPr/>
          <p:nvPr/>
        </p:nvGrpSpPr>
        <p:grpSpPr>
          <a:xfrm>
            <a:off x="3024360" y="3781440"/>
            <a:ext cx="1419120" cy="1280520"/>
            <a:chOff x="3024360" y="3781440"/>
            <a:chExt cx="1419120" cy="1280520"/>
          </a:xfrm>
        </p:grpSpPr>
        <p:pic>
          <p:nvPicPr>
            <p:cNvPr id="136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792880" y="44064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矩形 40"/>
            <p:cNvGrpSpPr/>
            <p:nvPr/>
          </p:nvGrpSpPr>
          <p:grpSpPr>
            <a:xfrm>
              <a:off x="3267000" y="4030560"/>
              <a:ext cx="891000" cy="785520"/>
              <a:chOff x="3267000" y="4030560"/>
              <a:chExt cx="891000" cy="785520"/>
            </a:xfrm>
          </p:grpSpPr>
          <p:pic>
            <p:nvPicPr>
              <p:cNvPr id="138" name="矩形 40" descr=""/>
              <p:cNvPicPr/>
              <p:nvPr/>
            </p:nvPicPr>
            <p:blipFill>
              <a:blip r:embed="rId8"/>
              <a:stretch/>
            </p:blipFill>
            <p:spPr>
              <a:xfrm>
                <a:off x="3267000" y="4329720"/>
                <a:ext cx="89100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 rot="2518200">
                <a:off x="3126240" y="442116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矩形 12"/>
          <p:cNvSpPr/>
          <p:nvPr/>
        </p:nvSpPr>
        <p:spPr>
          <a:xfrm>
            <a:off x="6140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2211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283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角三角形 7"/>
          <p:cNvSpPr/>
          <p:nvPr/>
        </p:nvSpPr>
        <p:spPr>
          <a:xfrm flipH="1">
            <a:off x="403920" y="1862280"/>
            <a:ext cx="32724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 rot="5400000">
            <a:off x="411480" y="2178720"/>
            <a:ext cx="2749680" cy="2106720"/>
          </a:xfrm>
          <a:prstGeom prst="rect">
            <a:avLst/>
          </a:prstGeom>
          <a:solidFill>
            <a:srgbClr val="78dee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9"/>
          <p:cNvSpPr/>
          <p:nvPr/>
        </p:nvSpPr>
        <p:spPr>
          <a:xfrm flipH="1" flipV="1">
            <a:off x="403920" y="4286160"/>
            <a:ext cx="32724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角三角形 10"/>
          <p:cNvSpPr/>
          <p:nvPr/>
        </p:nvSpPr>
        <p:spPr>
          <a:xfrm>
            <a:off x="2840040" y="1862280"/>
            <a:ext cx="32688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角三角形 11"/>
          <p:cNvSpPr/>
          <p:nvPr/>
        </p:nvSpPr>
        <p:spPr>
          <a:xfrm flipV="1">
            <a:off x="2840040" y="4286160"/>
            <a:ext cx="32688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角三角形 13"/>
          <p:cNvSpPr/>
          <p:nvPr/>
        </p:nvSpPr>
        <p:spPr>
          <a:xfrm flipH="1">
            <a:off x="3166200" y="1862280"/>
            <a:ext cx="32724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 rot="5400000">
            <a:off x="3174120" y="2178720"/>
            <a:ext cx="2749680" cy="2106720"/>
          </a:xfrm>
          <a:prstGeom prst="rect">
            <a:avLst/>
          </a:prstGeom>
          <a:solidFill>
            <a:srgbClr val="78dee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角三角形 15"/>
          <p:cNvSpPr/>
          <p:nvPr/>
        </p:nvSpPr>
        <p:spPr>
          <a:xfrm flipH="1" flipV="1">
            <a:off x="3166200" y="4286160"/>
            <a:ext cx="32724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角三角形 16"/>
          <p:cNvSpPr/>
          <p:nvPr/>
        </p:nvSpPr>
        <p:spPr>
          <a:xfrm>
            <a:off x="5602320" y="1862280"/>
            <a:ext cx="32688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角三角形 17"/>
          <p:cNvSpPr/>
          <p:nvPr/>
        </p:nvSpPr>
        <p:spPr>
          <a:xfrm flipV="1">
            <a:off x="5602320" y="4286160"/>
            <a:ext cx="32688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角三角形 19"/>
          <p:cNvSpPr/>
          <p:nvPr/>
        </p:nvSpPr>
        <p:spPr>
          <a:xfrm flipH="1">
            <a:off x="5881680" y="1862280"/>
            <a:ext cx="32688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0"/>
          <p:cNvSpPr/>
          <p:nvPr/>
        </p:nvSpPr>
        <p:spPr>
          <a:xfrm rot="5400000">
            <a:off x="5888880" y="2178720"/>
            <a:ext cx="2749680" cy="2106720"/>
          </a:xfrm>
          <a:prstGeom prst="rect">
            <a:avLst/>
          </a:prstGeom>
          <a:solidFill>
            <a:srgbClr val="78dee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角三角形 21"/>
          <p:cNvSpPr/>
          <p:nvPr/>
        </p:nvSpPr>
        <p:spPr>
          <a:xfrm flipH="1" flipV="1">
            <a:off x="5881680" y="4286160"/>
            <a:ext cx="32688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角三角形 22"/>
          <p:cNvSpPr/>
          <p:nvPr/>
        </p:nvSpPr>
        <p:spPr>
          <a:xfrm>
            <a:off x="8317080" y="1862280"/>
            <a:ext cx="326880" cy="31572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角三角形 23"/>
          <p:cNvSpPr/>
          <p:nvPr/>
        </p:nvSpPr>
        <p:spPr>
          <a:xfrm flipV="1">
            <a:off x="8317080" y="4286160"/>
            <a:ext cx="326880" cy="316080"/>
          </a:xfrm>
          <a:prstGeom prst="rtTriangle">
            <a:avLst/>
          </a:prstGeom>
          <a:solidFill>
            <a:srgbClr val="00a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1:55:17Z</dcterms:modified>
  <cp:revision>285</cp:revision>
  <dc:subject/>
  <dc:title>幻灯片 1</dc:title>
</cp:coreProperties>
</file>