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714D-300D-4056-9A0E-0ED75412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0F64-6C0E-49B3-9374-67A8440F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C42B-5C8E-44FC-ADEC-2C7DC24F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F3DC-1AF5-49CC-BE23-FEC285F8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CAD-AAAE-4AF8-BCA3-632CD4B7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7813-CB00-4432-A647-60DED4B7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2981-120C-4A75-95CE-5B46032A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4CA-7D58-4838-8AB0-653EA623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7128-7C1D-4DD5-BA34-7A57A793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CC3C-CBEE-4F39-818A-2476191F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7C1B-6DD9-4615-9EAB-280E0B41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0718-05DF-45C5-A351-18DBE0F7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F5E9-E7BD-4A34-99B6-4CC04428A4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union.dangdang.com/transfer/transfer.aspx?from=P-266450&amp;amp;backurl=http://product.dangdang.com/product.aspx?product_id=20687559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42920" y="28440"/>
            <a:ext cx="691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运费正版特价购买本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0" y="11592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8:26:43Z</dcterms:created>
  <dc:creator>yanglin</dc:creator>
  <dc:description/>
  <cp:keywords/>
  <dc:language>en-US</dc:language>
  <cp:lastModifiedBy>微软用户</cp:lastModifiedBy>
  <cp:lastPrinted>1899-12-30T00:00:00Z</cp:lastPrinted>
  <dcterms:modified xsi:type="dcterms:W3CDTF">2013-09-09T03:01:28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