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567-12ED-443F-A7DF-6A1924A2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7C1-81CF-4F69-BCAE-09AB201C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B95-487B-4C61-BCE8-48C2232E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F86-50CF-4FD8-80A9-6510A0DB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963-2A09-4834-A6E7-A8C0153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9BA-BE59-4290-9A84-97FFA785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097-9681-42BF-B679-B7DA615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23D-C86B-4BCB-B981-491EC131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890-DAD7-4790-AE35-4F4F23FA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2C6-A0D9-44EA-B773-7B3F18A7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8A9-2598-43F8-A2CF-0F9C39A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0B3-2DFE-4542-8F13-F216ECF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4A4F-5565-49B5-B7B0-2F9070239D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1411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4786200" y="462456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4857840" y="51246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流程图: 终止 9"/>
          <p:cNvSpPr/>
          <p:nvPr/>
        </p:nvSpPr>
        <p:spPr>
          <a:xfrm>
            <a:off x="3786120" y="2500200"/>
            <a:ext cx="2000160" cy="660600"/>
          </a:xfrm>
          <a:prstGeom prst="flowChartTerminator">
            <a:avLst/>
          </a:pr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流程图: 终止 10"/>
          <p:cNvSpPr/>
          <p:nvPr/>
        </p:nvSpPr>
        <p:spPr>
          <a:xfrm>
            <a:off x="3786120" y="1714680"/>
            <a:ext cx="2000160" cy="660240"/>
          </a:xfrm>
          <a:prstGeom prst="flowChartTerminator">
            <a:avLst/>
          </a:pr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流程图: 终止 11"/>
          <p:cNvSpPr/>
          <p:nvPr/>
        </p:nvSpPr>
        <p:spPr>
          <a:xfrm>
            <a:off x="3786120" y="3268800"/>
            <a:ext cx="2000160" cy="660240"/>
          </a:xfrm>
          <a:prstGeom prst="flowChartTerminator">
            <a:avLst/>
          </a:pr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283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流程图: 终止 15"/>
          <p:cNvSpPr/>
          <p:nvPr/>
        </p:nvSpPr>
        <p:spPr>
          <a:xfrm>
            <a:off x="3786120" y="4054320"/>
            <a:ext cx="2000160" cy="660600"/>
          </a:xfrm>
          <a:prstGeom prst="flowChartTerminator">
            <a:avLst/>
          </a:pr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283640" y="419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对角圆角矩形 18"/>
          <p:cNvSpPr/>
          <p:nvPr/>
        </p:nvSpPr>
        <p:spPr>
          <a:xfrm>
            <a:off x="2313000" y="928800"/>
            <a:ext cx="2473200" cy="2473200"/>
          </a:xfrm>
          <a:custGeom>
            <a:avLst/>
            <a:gdLst>
              <a:gd name="textAreaLeft" fmla="*/ 362160 w 2473200"/>
              <a:gd name="textAreaRight" fmla="*/ 2111040 w 2473200"/>
              <a:gd name="textAreaTop" fmla="*/ 362160 h 2473200"/>
              <a:gd name="textAreaBottom" fmla="*/ 2111040 h 2473200"/>
            </a:gdLst>
            <a:ahLst/>
            <a:rect l="textAreaLeft" t="textAreaTop" r="textAreaRight" b="textAreaBottom"/>
            <a:pathLst>
              <a:path w="2473325" h="2473325">
                <a:moveTo>
                  <a:pt x="1236663" y="0"/>
                </a:moveTo>
                <a:lnTo>
                  <a:pt x="2473325" y="0"/>
                </a:lnTo>
                <a:lnTo>
                  <a:pt x="2473325" y="1236663"/>
                </a:lnTo>
                <a:lnTo>
                  <a:pt x="2473325" y="1236663"/>
                </a:lnTo>
                <a:arcTo wR="1236663" hR="1236663" stAng="0" swAng="5400003"/>
                <a:lnTo>
                  <a:pt x="0" y="2473325"/>
                </a:lnTo>
                <a:lnTo>
                  <a:pt x="0" y="1236663"/>
                </a:lnTo>
                <a:lnTo>
                  <a:pt x="0" y="1236663"/>
                </a:lnTo>
                <a:arcTo wR="1236663" hR="1236663" stAng="-10799997" swAng="5400003"/>
                <a:close/>
              </a:path>
            </a:pathLst>
          </a:cu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对角圆角矩形 19"/>
          <p:cNvSpPr/>
          <p:nvPr/>
        </p:nvSpPr>
        <p:spPr>
          <a:xfrm flipV="1">
            <a:off x="4813200" y="928440"/>
            <a:ext cx="2473560" cy="2473200"/>
          </a:xfrm>
          <a:custGeom>
            <a:avLst/>
            <a:gdLst>
              <a:gd name="textAreaLeft" fmla="*/ 362160 w 2473560"/>
              <a:gd name="textAreaRight" fmla="*/ 2111400 w 2473560"/>
              <a:gd name="textAreaTop" fmla="*/ 362160 h 2473200"/>
              <a:gd name="textAreaBottom" fmla="*/ 2111040 h 2473200"/>
            </a:gdLst>
            <a:ahLst/>
            <a:rect l="textAreaLeft" t="textAreaTop" r="textAreaRight" b="textAreaBottom"/>
            <a:pathLst>
              <a:path w="2473325" h="2473325">
                <a:moveTo>
                  <a:pt x="1236663" y="0"/>
                </a:moveTo>
                <a:lnTo>
                  <a:pt x="2473325" y="0"/>
                </a:lnTo>
                <a:lnTo>
                  <a:pt x="2473325" y="1236663"/>
                </a:lnTo>
                <a:lnTo>
                  <a:pt x="2473325" y="1236663"/>
                </a:lnTo>
                <a:arcTo wR="1236663" hR="1236663" stAng="0" swAng="5400003"/>
                <a:lnTo>
                  <a:pt x="0" y="2473325"/>
                </a:lnTo>
                <a:lnTo>
                  <a:pt x="0" y="1236663"/>
                </a:lnTo>
                <a:lnTo>
                  <a:pt x="0" y="1236663"/>
                </a:lnTo>
                <a:arcTo wR="1236663" hR="1236663" stAng="-10799997" swAng="5400003"/>
                <a:close/>
              </a:path>
            </a:pathLst>
          </a:cu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对角圆角矩形 20"/>
          <p:cNvSpPr/>
          <p:nvPr/>
        </p:nvSpPr>
        <p:spPr>
          <a:xfrm flipH="1" flipV="1">
            <a:off x="4812480" y="3429000"/>
            <a:ext cx="2473560" cy="2473200"/>
          </a:xfrm>
          <a:custGeom>
            <a:avLst/>
            <a:gdLst>
              <a:gd name="textAreaLeft" fmla="*/ 362160 w 2473560"/>
              <a:gd name="textAreaRight" fmla="*/ 2111400 w 2473560"/>
              <a:gd name="textAreaTop" fmla="*/ 362160 h 2473200"/>
              <a:gd name="textAreaBottom" fmla="*/ 2111040 h 2473200"/>
            </a:gdLst>
            <a:ahLst/>
            <a:rect l="textAreaLeft" t="textAreaTop" r="textAreaRight" b="textAreaBottom"/>
            <a:pathLst>
              <a:path w="2473325" h="2473325">
                <a:moveTo>
                  <a:pt x="1236663" y="0"/>
                </a:moveTo>
                <a:lnTo>
                  <a:pt x="2473325" y="0"/>
                </a:lnTo>
                <a:lnTo>
                  <a:pt x="2473325" y="1236663"/>
                </a:lnTo>
                <a:lnTo>
                  <a:pt x="2473325" y="1236663"/>
                </a:lnTo>
                <a:arcTo wR="1236663" hR="1236663" stAng="0" swAng="5400003"/>
                <a:lnTo>
                  <a:pt x="0" y="2473325"/>
                </a:lnTo>
                <a:lnTo>
                  <a:pt x="0" y="1236663"/>
                </a:lnTo>
                <a:lnTo>
                  <a:pt x="0" y="1236663"/>
                </a:lnTo>
                <a:arcTo wR="1236663" hR="1236663" stAng="-10799997" swAng="5400003"/>
                <a:close/>
              </a:path>
            </a:pathLst>
          </a:cu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对角圆角矩形 21"/>
          <p:cNvSpPr/>
          <p:nvPr/>
        </p:nvSpPr>
        <p:spPr>
          <a:xfrm flipH="1">
            <a:off x="2313000" y="3429000"/>
            <a:ext cx="2473200" cy="2473200"/>
          </a:xfrm>
          <a:custGeom>
            <a:avLst/>
            <a:gdLst>
              <a:gd name="textAreaLeft" fmla="*/ 362160 w 2473200"/>
              <a:gd name="textAreaRight" fmla="*/ 2111040 w 2473200"/>
              <a:gd name="textAreaTop" fmla="*/ 362160 h 2473200"/>
              <a:gd name="textAreaBottom" fmla="*/ 2111040 h 2473200"/>
            </a:gdLst>
            <a:ahLst/>
            <a:rect l="textAreaLeft" t="textAreaTop" r="textAreaRight" b="textAreaBottom"/>
            <a:pathLst>
              <a:path w="2473325" h="2473325">
                <a:moveTo>
                  <a:pt x="1236663" y="0"/>
                </a:moveTo>
                <a:lnTo>
                  <a:pt x="2473325" y="0"/>
                </a:lnTo>
                <a:lnTo>
                  <a:pt x="2473325" y="1236663"/>
                </a:lnTo>
                <a:lnTo>
                  <a:pt x="2473325" y="1236663"/>
                </a:lnTo>
                <a:arcTo wR="1236663" hR="1236663" stAng="0" swAng="5400003"/>
                <a:lnTo>
                  <a:pt x="0" y="2473325"/>
                </a:lnTo>
                <a:lnTo>
                  <a:pt x="0" y="1236663"/>
                </a:lnTo>
                <a:lnTo>
                  <a:pt x="0" y="1236663"/>
                </a:lnTo>
                <a:arcTo wR="1236663" hR="1236663" stAng="-10799997" swAng="5400003"/>
                <a:close/>
              </a:path>
            </a:pathLst>
          </a:cu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3024720" y="211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5667840" y="45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3167640" y="46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56678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流程图: 文档 18"/>
          <p:cNvSpPr/>
          <p:nvPr/>
        </p:nvSpPr>
        <p:spPr>
          <a:xfrm flipV="1" rot="5400000">
            <a:off x="6648480" y="2208960"/>
            <a:ext cx="2143080" cy="1866600"/>
          </a:xfrm>
          <a:prstGeom prst="flowChartDocument">
            <a:avLst/>
          </a:pr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流程图: 文档 19"/>
          <p:cNvSpPr/>
          <p:nvPr/>
        </p:nvSpPr>
        <p:spPr>
          <a:xfrm flipH="1" rot="5400000">
            <a:off x="4781520" y="2209320"/>
            <a:ext cx="2143080" cy="1866960"/>
          </a:xfrm>
          <a:prstGeom prst="flowChartDocument">
            <a:avLst/>
          </a:pr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流程图: 文档 20"/>
          <p:cNvSpPr/>
          <p:nvPr/>
        </p:nvSpPr>
        <p:spPr>
          <a:xfrm flipV="1" rot="5400000">
            <a:off x="2361960" y="2208600"/>
            <a:ext cx="2143080" cy="1866960"/>
          </a:xfrm>
          <a:prstGeom prst="flowChartDocument">
            <a:avLst/>
          </a:pr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流程图: 文档 21"/>
          <p:cNvSpPr/>
          <p:nvPr/>
        </p:nvSpPr>
        <p:spPr>
          <a:xfrm flipH="1" rot="5400000">
            <a:off x="504720" y="2209320"/>
            <a:ext cx="2143080" cy="1866960"/>
          </a:xfrm>
          <a:prstGeom prst="flowChartDocument">
            <a:avLst/>
          </a:pr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864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7150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5364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1221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下箭头标注 10"/>
          <p:cNvSpPr/>
          <p:nvPr/>
        </p:nvSpPr>
        <p:spPr>
          <a:xfrm>
            <a:off x="1428840" y="1785960"/>
            <a:ext cx="1571400" cy="314316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下箭头标注 11"/>
          <p:cNvSpPr/>
          <p:nvPr/>
        </p:nvSpPr>
        <p:spPr>
          <a:xfrm>
            <a:off x="3071880" y="1785960"/>
            <a:ext cx="1571400" cy="314316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下箭头标注 12"/>
          <p:cNvSpPr/>
          <p:nvPr/>
        </p:nvSpPr>
        <p:spPr>
          <a:xfrm>
            <a:off x="4714920" y="1785960"/>
            <a:ext cx="1571760" cy="314316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下箭头标注 13"/>
          <p:cNvSpPr/>
          <p:nvPr/>
        </p:nvSpPr>
        <p:spPr>
          <a:xfrm>
            <a:off x="6357960" y="1785960"/>
            <a:ext cx="1571760" cy="314316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4997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784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剪去对角的矩形 10"/>
          <p:cNvSpPr/>
          <p:nvPr/>
        </p:nvSpPr>
        <p:spPr>
          <a:xfrm>
            <a:off x="2857680" y="1214280"/>
            <a:ext cx="2071440" cy="2071800"/>
          </a:xfrm>
          <a:custGeom>
            <a:avLst/>
            <a:gdLst>
              <a:gd name="textAreaLeft" fmla="*/ 517680 w 2071440"/>
              <a:gd name="textAreaRight" fmla="*/ 1553760 w 2071440"/>
              <a:gd name="textAreaTop" fmla="*/ 518040 h 2071800"/>
              <a:gd name="textAreaBottom" fmla="*/ 1553760 h 2071800"/>
            </a:gdLst>
            <a:ahLst/>
            <a:rect l="textAreaLeft" t="textAreaTop" r="textAreaRight" b="textAreaBottom"/>
            <a:pathLst>
              <a:path w="2071688" h="2071687">
                <a:moveTo>
                  <a:pt x="1035844" y="0"/>
                </a:moveTo>
                <a:lnTo>
                  <a:pt x="1726400" y="0"/>
                </a:lnTo>
                <a:lnTo>
                  <a:pt x="2071688" y="345288"/>
                </a:lnTo>
                <a:lnTo>
                  <a:pt x="2071688" y="1035844"/>
                </a:lnTo>
                <a:lnTo>
                  <a:pt x="1035845" y="2071687"/>
                </a:lnTo>
                <a:lnTo>
                  <a:pt x="345288" y="2071687"/>
                </a:lnTo>
                <a:lnTo>
                  <a:pt x="0" y="1726399"/>
                </a:lnTo>
                <a:lnTo>
                  <a:pt x="0" y="1035844"/>
                </a:lnTo>
                <a:close/>
              </a:path>
            </a:pathLst>
          </a:cu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剪去对角的矩形 11"/>
          <p:cNvSpPr/>
          <p:nvPr/>
        </p:nvSpPr>
        <p:spPr>
          <a:xfrm flipV="1">
            <a:off x="2857680" y="3285360"/>
            <a:ext cx="2071440" cy="2071800"/>
          </a:xfrm>
          <a:custGeom>
            <a:avLst/>
            <a:gdLst>
              <a:gd name="textAreaLeft" fmla="*/ 517680 w 2071440"/>
              <a:gd name="textAreaRight" fmla="*/ 1553760 w 2071440"/>
              <a:gd name="textAreaTop" fmla="*/ 517680 h 2071800"/>
              <a:gd name="textAreaBottom" fmla="*/ 1553760 h 2071800"/>
            </a:gdLst>
            <a:ahLst/>
            <a:rect l="textAreaLeft" t="textAreaTop" r="textAreaRight" b="textAreaBottom"/>
            <a:pathLst>
              <a:path w="2071688" h="2071688">
                <a:moveTo>
                  <a:pt x="1035844" y="0"/>
                </a:moveTo>
                <a:lnTo>
                  <a:pt x="1726400" y="0"/>
                </a:lnTo>
                <a:lnTo>
                  <a:pt x="2071688" y="345288"/>
                </a:lnTo>
                <a:lnTo>
                  <a:pt x="2071688" y="1035844"/>
                </a:lnTo>
                <a:lnTo>
                  <a:pt x="1035844" y="2071688"/>
                </a:lnTo>
                <a:lnTo>
                  <a:pt x="345288" y="2071688"/>
                </a:lnTo>
                <a:lnTo>
                  <a:pt x="0" y="1726400"/>
                </a:lnTo>
                <a:lnTo>
                  <a:pt x="0" y="1035844"/>
                </a:lnTo>
                <a:close/>
              </a:path>
            </a:pathLst>
          </a:cu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剪去对角的矩形 12"/>
          <p:cNvSpPr/>
          <p:nvPr/>
        </p:nvSpPr>
        <p:spPr>
          <a:xfrm flipV="1" rot="5400000">
            <a:off x="4929120" y="3285000"/>
            <a:ext cx="2071800" cy="2071800"/>
          </a:xfrm>
          <a:custGeom>
            <a:avLst/>
            <a:gdLst>
              <a:gd name="textAreaLeft" fmla="*/ 518040 w 2071800"/>
              <a:gd name="textAreaRight" fmla="*/ 1554120 w 2071800"/>
              <a:gd name="textAreaTop" fmla="*/ 518040 h 2071800"/>
              <a:gd name="textAreaBottom" fmla="*/ 1553760 h 2071800"/>
            </a:gdLst>
            <a:ahLst/>
            <a:rect l="textAreaLeft" t="textAreaTop" r="textAreaRight" b="textAreaBottom"/>
            <a:pathLst>
              <a:path w="2071688" h="2071687">
                <a:moveTo>
                  <a:pt x="1035844" y="0"/>
                </a:moveTo>
                <a:lnTo>
                  <a:pt x="1726400" y="0"/>
                </a:lnTo>
                <a:lnTo>
                  <a:pt x="2071688" y="345288"/>
                </a:lnTo>
                <a:lnTo>
                  <a:pt x="2071688" y="1035844"/>
                </a:lnTo>
                <a:lnTo>
                  <a:pt x="1035845" y="2071687"/>
                </a:lnTo>
                <a:lnTo>
                  <a:pt x="345288" y="2071687"/>
                </a:lnTo>
                <a:lnTo>
                  <a:pt x="0" y="1726399"/>
                </a:lnTo>
                <a:lnTo>
                  <a:pt x="0" y="1035844"/>
                </a:lnTo>
                <a:close/>
              </a:path>
            </a:pathLst>
          </a:cu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剪去对角的矩形 13"/>
          <p:cNvSpPr/>
          <p:nvPr/>
        </p:nvSpPr>
        <p:spPr>
          <a:xfrm rot="5400000">
            <a:off x="4928760" y="1213920"/>
            <a:ext cx="2071800" cy="2071800"/>
          </a:xfrm>
          <a:custGeom>
            <a:avLst/>
            <a:gdLst>
              <a:gd name="textAreaLeft" fmla="*/ 518040 w 2071800"/>
              <a:gd name="textAreaRight" fmla="*/ 1553760 w 2071800"/>
              <a:gd name="textAreaTop" fmla="*/ 518040 h 2071800"/>
              <a:gd name="textAreaBottom" fmla="*/ 1553760 h 2071800"/>
            </a:gdLst>
            <a:ahLst/>
            <a:rect l="textAreaLeft" t="textAreaTop" r="textAreaRight" b="textAreaBottom"/>
            <a:pathLst>
              <a:path w="2071687" h="2071687">
                <a:moveTo>
                  <a:pt x="1035844" y="0"/>
                </a:moveTo>
                <a:lnTo>
                  <a:pt x="1726399" y="0"/>
                </a:lnTo>
                <a:lnTo>
                  <a:pt x="2071687" y="345288"/>
                </a:lnTo>
                <a:lnTo>
                  <a:pt x="2071687" y="1035844"/>
                </a:lnTo>
                <a:lnTo>
                  <a:pt x="1035844" y="2071687"/>
                </a:lnTo>
                <a:lnTo>
                  <a:pt x="345288" y="2071687"/>
                </a:lnTo>
                <a:lnTo>
                  <a:pt x="0" y="1726399"/>
                </a:lnTo>
                <a:lnTo>
                  <a:pt x="0" y="1035844"/>
                </a:lnTo>
                <a:close/>
              </a:path>
            </a:pathLst>
          </a:cu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3283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5497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3140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流程图: 可选过程 11"/>
          <p:cNvSpPr/>
          <p:nvPr/>
        </p:nvSpPr>
        <p:spPr>
          <a:xfrm>
            <a:off x="1494000" y="4968720"/>
            <a:ext cx="6321240" cy="1032120"/>
          </a:xfrm>
          <a:prstGeom prst="flowChartAlternateProcess">
            <a:avLst/>
          </a:pr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流程图: 可选过程 12"/>
          <p:cNvSpPr/>
          <p:nvPr/>
        </p:nvSpPr>
        <p:spPr>
          <a:xfrm>
            <a:off x="1494000" y="2065320"/>
            <a:ext cx="6321240" cy="903240"/>
          </a:xfrm>
          <a:prstGeom prst="flowChartAlternateProcess">
            <a:avLst/>
          </a:prstGeom>
          <a:solidFill>
            <a:srgbClr val="5f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流程图: 可选过程 13"/>
          <p:cNvSpPr/>
          <p:nvPr/>
        </p:nvSpPr>
        <p:spPr>
          <a:xfrm>
            <a:off x="1428840" y="3484440"/>
            <a:ext cx="6321240" cy="968400"/>
          </a:xfrm>
          <a:prstGeom prst="flowChartAlternateProcess">
            <a:avLst/>
          </a:pr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流程图: 可选过程 14"/>
          <p:cNvSpPr/>
          <p:nvPr/>
        </p:nvSpPr>
        <p:spPr>
          <a:xfrm>
            <a:off x="3041640" y="1162080"/>
            <a:ext cx="3476520" cy="390600"/>
          </a:xfrm>
          <a:prstGeom prst="flowChartAlternateProcess">
            <a:avLst/>
          </a:prstGeom>
          <a:solidFill>
            <a:srgbClr val="2e4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箭头 15"/>
          <p:cNvSpPr/>
          <p:nvPr/>
        </p:nvSpPr>
        <p:spPr>
          <a:xfrm>
            <a:off x="4460760" y="1614600"/>
            <a:ext cx="40032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下箭头 16"/>
          <p:cNvSpPr/>
          <p:nvPr/>
        </p:nvSpPr>
        <p:spPr>
          <a:xfrm>
            <a:off x="4460760" y="3033720"/>
            <a:ext cx="40032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下箭头 17"/>
          <p:cNvSpPr/>
          <p:nvPr/>
        </p:nvSpPr>
        <p:spPr>
          <a:xfrm>
            <a:off x="4460760" y="4516560"/>
            <a:ext cx="40032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4140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4140720" y="1201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24T07:06:05Z</dcterms:modified>
  <cp:revision>285</cp:revision>
  <dc:subject/>
  <dc:title>幻灯片 1</dc:title>
</cp:coreProperties>
</file>