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992-D045-43AC-87C6-22BFC7F4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FE8-14E7-4921-91DB-B6620EDE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3E9-9292-4476-8D75-2222B6FD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90A-397C-49FF-8FC5-C557C6A3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403-A4F8-4739-BCD1-1C449363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A27-FE3B-49D3-9B25-189A59AF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869-BA4A-4644-9EE9-39FBCEB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614-F80B-4383-A9EC-8CA31DCD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5C9-4CEC-4DF7-AB45-2730FED6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9BF-D594-4629-8D31-705A21F4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318-9334-46F7-8116-6DAB08D8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713-D441-4A34-97F3-7830A19D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DF21-9D75-4E1D-8F5E-B8CFA516BC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7128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303920" y="907920"/>
            <a:ext cx="14742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蔬菜种植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2281320" y="1000080"/>
            <a:ext cx="144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147600" y="2143080"/>
            <a:ext cx="8782200" cy="3057480"/>
          </a:xfrm>
          <a:prstGeom prst="rect">
            <a:avLst/>
          </a:pr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19"/>
          <p:cNvSpPr/>
          <p:nvPr/>
        </p:nvSpPr>
        <p:spPr>
          <a:xfrm>
            <a:off x="357120" y="2355840"/>
            <a:ext cx="2597040" cy="1987560"/>
          </a:xfrm>
          <a:prstGeom prst="roundRect">
            <a:avLst>
              <a:gd name="adj" fmla="val 0"/>
            </a:avLst>
          </a:pr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19"/>
          <p:cNvSpPr/>
          <p:nvPr/>
        </p:nvSpPr>
        <p:spPr>
          <a:xfrm>
            <a:off x="3189240" y="2370240"/>
            <a:ext cx="2597040" cy="1987560"/>
          </a:xfrm>
          <a:prstGeom prst="roundRect">
            <a:avLst>
              <a:gd name="adj" fmla="val 0"/>
            </a:avLst>
          </a:pr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19"/>
          <p:cNvSpPr/>
          <p:nvPr/>
        </p:nvSpPr>
        <p:spPr>
          <a:xfrm>
            <a:off x="6046920" y="2354400"/>
            <a:ext cx="2597040" cy="1987560"/>
          </a:xfrm>
          <a:prstGeom prst="roundRect">
            <a:avLst>
              <a:gd name="adj" fmla="val 0"/>
            </a:avLst>
          </a:pr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2"/>
          <p:cNvSpPr/>
          <p:nvPr/>
        </p:nvSpPr>
        <p:spPr>
          <a:xfrm>
            <a:off x="106884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4"/>
          <p:cNvSpPr/>
          <p:nvPr/>
        </p:nvSpPr>
        <p:spPr>
          <a:xfrm>
            <a:off x="3926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47"/>
          <p:cNvSpPr/>
          <p:nvPr/>
        </p:nvSpPr>
        <p:spPr>
          <a:xfrm>
            <a:off x="3295800" y="1785960"/>
            <a:ext cx="3062160" cy="549360"/>
          </a:xfrm>
          <a:prstGeom prst="roundRect">
            <a:avLst>
              <a:gd name="adj" fmla="val 3278"/>
            </a:avLst>
          </a:prstGeom>
          <a:noFill/>
          <a:ln w="25560">
            <a:solidFill>
              <a:srgbClr val="428b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组合 41" descr=""/>
          <p:cNvPicPr/>
          <p:nvPr/>
        </p:nvPicPr>
        <p:blipFill>
          <a:blip r:embed="rId2"/>
          <a:stretch/>
        </p:blipFill>
        <p:spPr>
          <a:xfrm>
            <a:off x="3322800" y="1798560"/>
            <a:ext cx="596880" cy="590760"/>
          </a:xfrm>
          <a:prstGeom prst="rect">
            <a:avLst/>
          </a:prstGeom>
          <a:ln w="0">
            <a:noFill/>
          </a:ln>
        </p:spPr>
      </p:pic>
      <p:sp>
        <p:nvSpPr>
          <p:cNvPr id="46" name="圆角矩形 47"/>
          <p:cNvSpPr/>
          <p:nvPr/>
        </p:nvSpPr>
        <p:spPr>
          <a:xfrm>
            <a:off x="3286080" y="2571840"/>
            <a:ext cx="3062160" cy="549360"/>
          </a:xfrm>
          <a:prstGeom prst="roundRect">
            <a:avLst>
              <a:gd name="adj" fmla="val 3278"/>
            </a:avLst>
          </a:prstGeom>
          <a:noFill/>
          <a:ln w="25560">
            <a:solidFill>
              <a:srgbClr val="428b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组合 41" descr=""/>
          <p:cNvPicPr/>
          <p:nvPr/>
        </p:nvPicPr>
        <p:blipFill>
          <a:blip r:embed="rId3"/>
          <a:stretch/>
        </p:blipFill>
        <p:spPr>
          <a:xfrm>
            <a:off x="3316320" y="2584440"/>
            <a:ext cx="596880" cy="592200"/>
          </a:xfrm>
          <a:prstGeom prst="rect">
            <a:avLst/>
          </a:prstGeom>
          <a:ln w="0">
            <a:noFill/>
          </a:ln>
        </p:spPr>
      </p:pic>
      <p:sp>
        <p:nvSpPr>
          <p:cNvPr id="48" name="圆角矩形 47"/>
          <p:cNvSpPr/>
          <p:nvPr/>
        </p:nvSpPr>
        <p:spPr>
          <a:xfrm>
            <a:off x="3295800" y="3379680"/>
            <a:ext cx="3062160" cy="549360"/>
          </a:xfrm>
          <a:prstGeom prst="roundRect">
            <a:avLst>
              <a:gd name="adj" fmla="val 3278"/>
            </a:avLst>
          </a:prstGeom>
          <a:noFill/>
          <a:ln w="25560">
            <a:solidFill>
              <a:srgbClr val="428b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组合 41" descr=""/>
          <p:cNvPicPr/>
          <p:nvPr/>
        </p:nvPicPr>
        <p:blipFill>
          <a:blip r:embed="rId4"/>
          <a:stretch/>
        </p:blipFill>
        <p:spPr>
          <a:xfrm>
            <a:off x="3322800" y="3395520"/>
            <a:ext cx="596880" cy="586080"/>
          </a:xfrm>
          <a:prstGeom prst="rect">
            <a:avLst/>
          </a:prstGeom>
          <a:ln w="0">
            <a:noFill/>
          </a:ln>
        </p:spPr>
      </p:pic>
      <p:sp>
        <p:nvSpPr>
          <p:cNvPr id="50" name="圆角矩形 47"/>
          <p:cNvSpPr/>
          <p:nvPr/>
        </p:nvSpPr>
        <p:spPr>
          <a:xfrm>
            <a:off x="3286080" y="4165560"/>
            <a:ext cx="3062160" cy="549360"/>
          </a:xfrm>
          <a:prstGeom prst="roundRect">
            <a:avLst>
              <a:gd name="adj" fmla="val 3278"/>
            </a:avLst>
          </a:prstGeom>
          <a:noFill/>
          <a:ln w="25560">
            <a:solidFill>
              <a:srgbClr val="428b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组合 41" descr=""/>
          <p:cNvPicPr/>
          <p:nvPr/>
        </p:nvPicPr>
        <p:blipFill>
          <a:blip r:embed="rId5"/>
          <a:stretch/>
        </p:blipFill>
        <p:spPr>
          <a:xfrm>
            <a:off x="3316320" y="4175280"/>
            <a:ext cx="596880" cy="591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4499280" y="270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497840" y="348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449784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49784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35"/>
          <p:cNvSpPr/>
          <p:nvPr/>
        </p:nvSpPr>
        <p:spPr>
          <a:xfrm flipV="1">
            <a:off x="3525840" y="2384280"/>
            <a:ext cx="1096920" cy="633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7"/>
          <p:cNvSpPr/>
          <p:nvPr/>
        </p:nvSpPr>
        <p:spPr>
          <a:xfrm>
            <a:off x="4622760" y="2360520"/>
            <a:ext cx="3384720" cy="46080"/>
          </a:xfrm>
          <a:prstGeom prst="rect">
            <a:avLst/>
          </a:pr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3"/>
          <p:cNvSpPr/>
          <p:nvPr/>
        </p:nvSpPr>
        <p:spPr>
          <a:xfrm>
            <a:off x="4622760" y="4162320"/>
            <a:ext cx="3384720" cy="44640"/>
          </a:xfrm>
          <a:prstGeom prst="rect">
            <a:avLst/>
          </a:pr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4"/>
          <p:cNvSpPr/>
          <p:nvPr/>
        </p:nvSpPr>
        <p:spPr>
          <a:xfrm>
            <a:off x="4556160" y="346860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7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8"/>
          <p:cNvSpPr/>
          <p:nvPr/>
        </p:nvSpPr>
        <p:spPr>
          <a:xfrm flipV="1">
            <a:off x="3467160" y="4184640"/>
            <a:ext cx="1155600" cy="5097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oup 19" descr=""/>
          <p:cNvPicPr/>
          <p:nvPr/>
        </p:nvPicPr>
        <p:blipFill>
          <a:blip r:embed="rId1"/>
          <a:stretch/>
        </p:blipFill>
        <p:spPr>
          <a:xfrm>
            <a:off x="1219320" y="2706840"/>
            <a:ext cx="2371680" cy="2371680"/>
          </a:xfrm>
          <a:prstGeom prst="rect">
            <a:avLst/>
          </a:prstGeom>
          <a:ln w="0">
            <a:noFill/>
          </a:ln>
        </p:spPr>
      </p:pic>
      <p:sp>
        <p:nvSpPr>
          <p:cNvPr id="72" name="椭圆 56"/>
          <p:cNvSpPr/>
          <p:nvPr/>
        </p:nvSpPr>
        <p:spPr>
          <a:xfrm>
            <a:off x="1071720" y="2550960"/>
            <a:ext cx="2663640" cy="2664000"/>
          </a:xfrm>
          <a:prstGeom prst="ellipse">
            <a:avLst/>
          </a:prstGeom>
          <a:noFill/>
          <a:ln w="76320">
            <a:solidFill>
              <a:srgbClr val="428b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60"/>
          <p:cNvSpPr/>
          <p:nvPr/>
        </p:nvSpPr>
        <p:spPr>
          <a:xfrm>
            <a:off x="2170080" y="1995480"/>
            <a:ext cx="466920" cy="468360"/>
          </a:xfrm>
          <a:prstGeom prst="ellipse">
            <a:avLst/>
          </a:prstGeom>
          <a:noFill/>
          <a:ln w="57240">
            <a:solidFill>
              <a:srgbClr val="428b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组合 29" descr=""/>
          <p:cNvPicPr/>
          <p:nvPr/>
        </p:nvPicPr>
        <p:blipFill>
          <a:blip r:embed="rId2"/>
          <a:stretch/>
        </p:blipFill>
        <p:spPr>
          <a:xfrm>
            <a:off x="2273400" y="2182680"/>
            <a:ext cx="261720" cy="384480"/>
          </a:xfrm>
          <a:prstGeom prst="rect">
            <a:avLst/>
          </a:prstGeom>
          <a:ln w="0">
            <a:noFill/>
          </a:ln>
        </p:spPr>
      </p:pic>
      <p:sp>
        <p:nvSpPr>
          <p:cNvPr id="75" name="椭圆 51"/>
          <p:cNvSpPr/>
          <p:nvPr/>
        </p:nvSpPr>
        <p:spPr>
          <a:xfrm>
            <a:off x="3378240" y="2990880"/>
            <a:ext cx="173160" cy="173160"/>
          </a:xfrm>
          <a:prstGeom prst="ellipse">
            <a:avLst/>
          </a:prstGeom>
          <a:solidFill>
            <a:srgbClr val="74afbd"/>
          </a:solidFill>
          <a:ln w="57240">
            <a:solidFill>
              <a:srgbClr val="74a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52"/>
          <p:cNvSpPr/>
          <p:nvPr/>
        </p:nvSpPr>
        <p:spPr>
          <a:xfrm>
            <a:off x="3319560" y="4668840"/>
            <a:ext cx="172800" cy="173160"/>
          </a:xfrm>
          <a:prstGeom prst="ellipse">
            <a:avLst/>
          </a:prstGeom>
          <a:solidFill>
            <a:srgbClr val="74afbd"/>
          </a:solidFill>
          <a:ln w="57240">
            <a:solidFill>
              <a:srgbClr val="74a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4"/>
          <p:cNvSpPr/>
          <p:nvPr/>
        </p:nvSpPr>
        <p:spPr>
          <a:xfrm>
            <a:off x="4606920" y="164304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3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4854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6640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6640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00200" y="2583000"/>
            <a:ext cx="7651800" cy="1060200"/>
          </a:xfrm>
          <a:custGeom>
            <a:avLst/>
            <a:gdLst>
              <a:gd name="textAreaLeft" fmla="*/ 0 w 7651800"/>
              <a:gd name="textAreaRight" fmla="*/ 7652160 w 7651800"/>
              <a:gd name="textAreaTop" fmla="*/ 0 h 1060200"/>
              <a:gd name="textAreaBottom" fmla="*/ 1060560 h 10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2" y="0"/>
                </a:lnTo>
                <a:lnTo>
                  <a:pt x="21600" y="10800"/>
                </a:lnTo>
                <a:lnTo>
                  <a:pt x="204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4afb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5878440" y="2597040"/>
            <a:ext cx="649440" cy="10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3835440" y="2597040"/>
            <a:ext cx="649080" cy="10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1790640" y="2597040"/>
            <a:ext cx="649440" cy="10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921800" y="2597040"/>
            <a:ext cx="650880" cy="1044720"/>
          </a:xfrm>
          <a:custGeom>
            <a:avLst/>
            <a:gdLst>
              <a:gd name="textAreaLeft" fmla="*/ 0 w 650880"/>
              <a:gd name="textAreaRight" fmla="*/ 651240 w 6508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4827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69012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2684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90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617400" y="2000160"/>
            <a:ext cx="1925640" cy="3000600"/>
          </a:xfrm>
          <a:prstGeom prst="rect">
            <a:avLst/>
          </a:pr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矩形 8"/>
          <p:cNvGrpSpPr/>
          <p:nvPr/>
        </p:nvGrpSpPr>
        <p:grpSpPr>
          <a:xfrm>
            <a:off x="255600" y="1816200"/>
            <a:ext cx="2475000" cy="1006200"/>
            <a:chOff x="255600" y="1816200"/>
            <a:chExt cx="2475000" cy="1006200"/>
          </a:xfrm>
        </p:grpSpPr>
        <p:pic>
          <p:nvPicPr>
            <p:cNvPr id="103" name="矩形 8" descr=""/>
            <p:cNvPicPr/>
            <p:nvPr/>
          </p:nvPicPr>
          <p:blipFill>
            <a:blip r:embed="rId1"/>
            <a:stretch/>
          </p:blipFill>
          <p:spPr>
            <a:xfrm>
              <a:off x="255600" y="1816200"/>
              <a:ext cx="247500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17400" y="2000160"/>
              <a:ext cx="19335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9"/>
          <p:cNvSpPr/>
          <p:nvPr/>
        </p:nvSpPr>
        <p:spPr>
          <a:xfrm>
            <a:off x="2630520" y="2000160"/>
            <a:ext cx="1925640" cy="3000600"/>
          </a:xfrm>
          <a:prstGeom prst="rect">
            <a:avLst/>
          </a:pr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矩形 10"/>
          <p:cNvGrpSpPr/>
          <p:nvPr/>
        </p:nvGrpSpPr>
        <p:grpSpPr>
          <a:xfrm>
            <a:off x="2266920" y="1816200"/>
            <a:ext cx="2476440" cy="1006200"/>
            <a:chOff x="2266920" y="1816200"/>
            <a:chExt cx="2476440" cy="1006200"/>
          </a:xfrm>
        </p:grpSpPr>
        <p:pic>
          <p:nvPicPr>
            <p:cNvPr id="107" name="矩形 10" descr=""/>
            <p:cNvPicPr/>
            <p:nvPr/>
          </p:nvPicPr>
          <p:blipFill>
            <a:blip r:embed="rId2"/>
            <a:stretch/>
          </p:blipFill>
          <p:spPr>
            <a:xfrm>
              <a:off x="2266920" y="1816200"/>
              <a:ext cx="247644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630520" y="2000160"/>
              <a:ext cx="19335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11"/>
          <p:cNvSpPr/>
          <p:nvPr/>
        </p:nvSpPr>
        <p:spPr>
          <a:xfrm>
            <a:off x="4626000" y="2000160"/>
            <a:ext cx="1925640" cy="3000600"/>
          </a:xfrm>
          <a:prstGeom prst="rect">
            <a:avLst/>
          </a:pr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矩形 12"/>
          <p:cNvGrpSpPr/>
          <p:nvPr/>
        </p:nvGrpSpPr>
        <p:grpSpPr>
          <a:xfrm>
            <a:off x="4267080" y="1816200"/>
            <a:ext cx="2468520" cy="1006200"/>
            <a:chOff x="4267080" y="1816200"/>
            <a:chExt cx="2468520" cy="1006200"/>
          </a:xfrm>
        </p:grpSpPr>
        <p:pic>
          <p:nvPicPr>
            <p:cNvPr id="111" name="矩形 12" descr=""/>
            <p:cNvPicPr/>
            <p:nvPr/>
          </p:nvPicPr>
          <p:blipFill>
            <a:blip r:embed="rId3"/>
            <a:stretch/>
          </p:blipFill>
          <p:spPr>
            <a:xfrm>
              <a:off x="4267080" y="1816200"/>
              <a:ext cx="2468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626000" y="2000160"/>
              <a:ext cx="19335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13"/>
          <p:cNvSpPr/>
          <p:nvPr/>
        </p:nvSpPr>
        <p:spPr>
          <a:xfrm>
            <a:off x="6638760" y="2000160"/>
            <a:ext cx="1925640" cy="3000600"/>
          </a:xfrm>
          <a:prstGeom prst="rect">
            <a:avLst/>
          </a:pr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矩形 14"/>
          <p:cNvGrpSpPr/>
          <p:nvPr/>
        </p:nvGrpSpPr>
        <p:grpSpPr>
          <a:xfrm>
            <a:off x="6278400" y="1816200"/>
            <a:ext cx="2468880" cy="1006200"/>
            <a:chOff x="6278400" y="1816200"/>
            <a:chExt cx="2468880" cy="1006200"/>
          </a:xfrm>
        </p:grpSpPr>
        <p:pic>
          <p:nvPicPr>
            <p:cNvPr id="115" name="矩形 14" descr=""/>
            <p:cNvPicPr/>
            <p:nvPr/>
          </p:nvPicPr>
          <p:blipFill>
            <a:blip r:embed="rId4"/>
            <a:stretch/>
          </p:blipFill>
          <p:spPr>
            <a:xfrm>
              <a:off x="6278400" y="1816200"/>
              <a:ext cx="246888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38760" y="2000160"/>
              <a:ext cx="19339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矩形 14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3140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7069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泪滴形 6"/>
          <p:cNvSpPr/>
          <p:nvPr/>
        </p:nvSpPr>
        <p:spPr>
          <a:xfrm>
            <a:off x="4881600" y="1214280"/>
            <a:ext cx="2160720" cy="2160720"/>
          </a:xfrm>
          <a:custGeom>
            <a:avLst/>
            <a:gdLst>
              <a:gd name="textAreaLeft" fmla="*/ 316440 w 2160720"/>
              <a:gd name="textAreaRight" fmla="*/ 1844280 w 2160720"/>
              <a:gd name="textAreaTop" fmla="*/ 316440 h 2160720"/>
              <a:gd name="textAreaBottom" fmla="*/ 1844280 h 2160720"/>
            </a:gdLst>
            <a:ahLst/>
            <a:rect l="textAreaLeft" t="textAreaTop" r="textAreaRight" b="textAreaBottom"/>
            <a:pathLst>
              <a:path w="2160587" h="2160587">
                <a:moveTo>
                  <a:pt x="0" y="1080294"/>
                </a:moveTo>
                <a:lnTo>
                  <a:pt x="0" y="1080294"/>
                </a:lnTo>
                <a:arcTo wR="1080294" hR="1080294" stAng="-10799997" swAng="5400003"/>
                <a:lnTo>
                  <a:pt x="1620439" y="0"/>
                </a:lnTo>
                <a:lnTo>
                  <a:pt x="2160586" y="0"/>
                </a:lnTo>
                <a:lnTo>
                  <a:pt x="2160587" y="810220"/>
                </a:lnTo>
                <a:arcTo wR="0" hR="270074" stAng="0" swAng="0"/>
                <a:lnTo>
                  <a:pt x="2002381" y="2002383"/>
                </a:lnTo>
                <a:arcTo wR="-540148" hR="540147" stAng="2700001" swAng="10799998"/>
                <a:close/>
              </a:path>
            </a:pathLst>
          </a:custGeom>
          <a:solidFill>
            <a:srgbClr val="428b08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泪滴形 7"/>
          <p:cNvSpPr/>
          <p:nvPr/>
        </p:nvSpPr>
        <p:spPr>
          <a:xfrm flipH="1">
            <a:off x="2428920" y="1214280"/>
            <a:ext cx="2160720" cy="2160720"/>
          </a:xfrm>
          <a:custGeom>
            <a:avLst/>
            <a:gdLst>
              <a:gd name="textAreaLeft" fmla="*/ 316440 w 2160720"/>
              <a:gd name="textAreaRight" fmla="*/ 1844280 w 2160720"/>
              <a:gd name="textAreaTop" fmla="*/ 316440 h 2160720"/>
              <a:gd name="textAreaBottom" fmla="*/ 1844280 h 2160720"/>
            </a:gdLst>
            <a:ahLst/>
            <a:rect l="textAreaLeft" t="textAreaTop" r="textAreaRight" b="textAreaBottom"/>
            <a:pathLst>
              <a:path w="2160588" h="2160587">
                <a:moveTo>
                  <a:pt x="0" y="1080294"/>
                </a:moveTo>
                <a:lnTo>
                  <a:pt x="0" y="1080294"/>
                </a:lnTo>
                <a:arcTo wR="1080294" hR="1080294" stAng="-10799997" swAng="5400003"/>
                <a:lnTo>
                  <a:pt x="1620440" y="0"/>
                </a:lnTo>
                <a:lnTo>
                  <a:pt x="2160587" y="0"/>
                </a:lnTo>
                <a:lnTo>
                  <a:pt x="2160588" y="810220"/>
                </a:lnTo>
                <a:arcTo wR="0" hR="270074" stAng="0" swAng="0"/>
                <a:lnTo>
                  <a:pt x="2002382" y="2002383"/>
                </a:lnTo>
                <a:arcTo wR="-540148" hR="540147" stAng="2700001" swAng="10799998"/>
                <a:close/>
              </a:path>
            </a:pathLst>
          </a:custGeom>
          <a:solidFill>
            <a:srgbClr val="74afbd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泪滴形 8"/>
          <p:cNvSpPr/>
          <p:nvPr/>
        </p:nvSpPr>
        <p:spPr>
          <a:xfrm flipV="1">
            <a:off x="4881600" y="3645720"/>
            <a:ext cx="2160720" cy="2158920"/>
          </a:xfrm>
          <a:custGeom>
            <a:avLst/>
            <a:gdLst>
              <a:gd name="textAreaLeft" fmla="*/ 316440 w 2160720"/>
              <a:gd name="textAreaRight" fmla="*/ 1844280 w 2160720"/>
              <a:gd name="textAreaTop" fmla="*/ 316080 h 2158920"/>
              <a:gd name="textAreaBottom" fmla="*/ 1842840 h 2158920"/>
            </a:gdLst>
            <a:ahLst/>
            <a:rect l="textAreaLeft" t="textAreaTop" r="textAreaRight" b="textAreaBottom"/>
            <a:pathLst>
              <a:path w="2160587" h="2159000">
                <a:moveTo>
                  <a:pt x="0" y="1079500"/>
                </a:moveTo>
                <a:lnTo>
                  <a:pt x="0" y="1079500"/>
                </a:lnTo>
                <a:arcTo wR="1080294" hR="1079500" stAng="-10799997" swAng="5400003"/>
                <a:lnTo>
                  <a:pt x="1620439" y="0"/>
                </a:lnTo>
                <a:lnTo>
                  <a:pt x="2160586" y="0"/>
                </a:lnTo>
                <a:lnTo>
                  <a:pt x="2160587" y="809625"/>
                </a:lnTo>
                <a:arcTo wR="0" hR="269875" stAng="0" swAng="0"/>
                <a:lnTo>
                  <a:pt x="2002381" y="2000911"/>
                </a:lnTo>
                <a:arcTo wR="-540148" hR="539750" stAng="2698737" swAng="10799998"/>
                <a:close/>
              </a:path>
            </a:pathLst>
          </a:custGeom>
          <a:solidFill>
            <a:srgbClr val="74afbd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泪滴形 9"/>
          <p:cNvSpPr/>
          <p:nvPr/>
        </p:nvSpPr>
        <p:spPr>
          <a:xfrm flipH="1" flipV="1">
            <a:off x="2428920" y="3645720"/>
            <a:ext cx="2160720" cy="2158920"/>
          </a:xfrm>
          <a:custGeom>
            <a:avLst/>
            <a:gdLst>
              <a:gd name="textAreaLeft" fmla="*/ 316440 w 2160720"/>
              <a:gd name="textAreaRight" fmla="*/ 1844280 w 2160720"/>
              <a:gd name="textAreaTop" fmla="*/ 316080 h 2158920"/>
              <a:gd name="textAreaBottom" fmla="*/ 1842840 h 2158920"/>
            </a:gdLst>
            <a:ahLst/>
            <a:rect l="textAreaLeft" t="textAreaTop" r="textAreaRight" b="textAreaBottom"/>
            <a:pathLst>
              <a:path w="2160588" h="2159000">
                <a:moveTo>
                  <a:pt x="0" y="1079500"/>
                </a:moveTo>
                <a:lnTo>
                  <a:pt x="0" y="1079500"/>
                </a:lnTo>
                <a:arcTo wR="1080294" hR="1079500" stAng="-10799997" swAng="5400003"/>
                <a:lnTo>
                  <a:pt x="1620440" y="0"/>
                </a:lnTo>
                <a:lnTo>
                  <a:pt x="2160587" y="0"/>
                </a:lnTo>
                <a:lnTo>
                  <a:pt x="2160588" y="809625"/>
                </a:lnTo>
                <a:arcTo wR="0" hR="269875" stAng="0" swAng="0"/>
                <a:lnTo>
                  <a:pt x="2002382" y="2000911"/>
                </a:lnTo>
                <a:arcTo wR="-540148" hR="539750" stAng="2698737" swAng="10799998"/>
                <a:close/>
              </a:path>
            </a:pathLst>
          </a:custGeom>
          <a:solidFill>
            <a:srgbClr val="428b08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997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2854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1136520" y="1539720"/>
            <a:ext cx="2232000" cy="4032360"/>
          </a:xfrm>
          <a:custGeom>
            <a:avLst/>
            <a:gdLst/>
            <a:ahLst/>
            <a:rect l="l" t="t" r="r" b="b"/>
            <a:pathLst>
              <a:path w="2232248" h="4032448">
                <a:moveTo>
                  <a:pt x="0" y="0"/>
                </a:moveTo>
                <a:lnTo>
                  <a:pt x="1365862" y="0"/>
                </a:lnTo>
                <a:lnTo>
                  <a:pt x="2232248" y="1121503"/>
                </a:lnTo>
                <a:lnTo>
                  <a:pt x="2232248" y="4032448"/>
                </a:lnTo>
                <a:lnTo>
                  <a:pt x="0" y="4032448"/>
                </a:lnTo>
                <a:close/>
              </a:path>
            </a:pathLst>
          </a:cu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1195560" y="1647720"/>
            <a:ext cx="2112840" cy="3816360"/>
          </a:xfrm>
          <a:custGeom>
            <a:avLst/>
            <a:gdLst/>
            <a:ahLst/>
            <a:rect l="l" t="t" r="r" b="b"/>
            <a:pathLst>
              <a:path w="2232248" h="4032448">
                <a:moveTo>
                  <a:pt x="0" y="0"/>
                </a:moveTo>
                <a:lnTo>
                  <a:pt x="1365862" y="0"/>
                </a:lnTo>
                <a:lnTo>
                  <a:pt x="2232248" y="1121503"/>
                </a:lnTo>
                <a:lnTo>
                  <a:pt x="2232248" y="4032448"/>
                </a:lnTo>
                <a:lnTo>
                  <a:pt x="0" y="4032448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3500000"/>
          </a:gradFill>
          <a:ln w="381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矩形 8"/>
          <p:cNvGrpSpPr/>
          <p:nvPr/>
        </p:nvGrpSpPr>
        <p:grpSpPr>
          <a:xfrm>
            <a:off x="1487520" y="1657440"/>
            <a:ext cx="1805040" cy="1811160"/>
            <a:chOff x="1487520" y="1657440"/>
            <a:chExt cx="1805040" cy="1811160"/>
          </a:xfrm>
        </p:grpSpPr>
        <p:pic>
          <p:nvPicPr>
            <p:cNvPr id="142" name="矩形 8" descr=""/>
            <p:cNvPicPr/>
            <p:nvPr/>
          </p:nvPicPr>
          <p:blipFill>
            <a:blip r:embed="rId1"/>
            <a:stretch/>
          </p:blipFill>
          <p:spPr>
            <a:xfrm>
              <a:off x="1487520" y="1657440"/>
              <a:ext cx="180504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rot="3129000">
              <a:off x="1745280" y="1951560"/>
              <a:ext cx="130032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14"/>
          <p:cNvSpPr/>
          <p:nvPr/>
        </p:nvSpPr>
        <p:spPr>
          <a:xfrm>
            <a:off x="1833480" y="240336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3554280" y="1539720"/>
            <a:ext cx="2232000" cy="4032360"/>
          </a:xfrm>
          <a:custGeom>
            <a:avLst/>
            <a:gdLst/>
            <a:ahLst/>
            <a:rect l="l" t="t" r="r" b="b"/>
            <a:pathLst>
              <a:path w="2232248" h="4032448">
                <a:moveTo>
                  <a:pt x="0" y="0"/>
                </a:moveTo>
                <a:lnTo>
                  <a:pt x="1365862" y="0"/>
                </a:lnTo>
                <a:lnTo>
                  <a:pt x="2232248" y="1121503"/>
                </a:lnTo>
                <a:lnTo>
                  <a:pt x="2232248" y="4032448"/>
                </a:lnTo>
                <a:lnTo>
                  <a:pt x="0" y="4032448"/>
                </a:lnTo>
                <a:close/>
              </a:path>
            </a:pathLst>
          </a:cu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/>
          <p:cNvSpPr/>
          <p:nvPr/>
        </p:nvSpPr>
        <p:spPr>
          <a:xfrm>
            <a:off x="3614760" y="1647720"/>
            <a:ext cx="2111400" cy="3816360"/>
          </a:xfrm>
          <a:custGeom>
            <a:avLst/>
            <a:gdLst/>
            <a:ahLst/>
            <a:rect l="l" t="t" r="r" b="b"/>
            <a:pathLst>
              <a:path w="2232248" h="4032448">
                <a:moveTo>
                  <a:pt x="0" y="0"/>
                </a:moveTo>
                <a:lnTo>
                  <a:pt x="1365862" y="0"/>
                </a:lnTo>
                <a:lnTo>
                  <a:pt x="2232248" y="1121503"/>
                </a:lnTo>
                <a:lnTo>
                  <a:pt x="2232248" y="4032448"/>
                </a:lnTo>
                <a:lnTo>
                  <a:pt x="0" y="4032448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3500000"/>
          </a:gradFill>
          <a:ln w="381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矩形 12"/>
          <p:cNvGrpSpPr/>
          <p:nvPr/>
        </p:nvGrpSpPr>
        <p:grpSpPr>
          <a:xfrm>
            <a:off x="3906720" y="1657440"/>
            <a:ext cx="1805040" cy="1811160"/>
            <a:chOff x="3906720" y="1657440"/>
            <a:chExt cx="1805040" cy="1811160"/>
          </a:xfrm>
        </p:grpSpPr>
        <p:pic>
          <p:nvPicPr>
            <p:cNvPr id="148" name="矩形 12" descr=""/>
            <p:cNvPicPr/>
            <p:nvPr/>
          </p:nvPicPr>
          <p:blipFill>
            <a:blip r:embed="rId2"/>
            <a:stretch/>
          </p:blipFill>
          <p:spPr>
            <a:xfrm>
              <a:off x="3906720" y="1657440"/>
              <a:ext cx="180504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3129000">
              <a:off x="4163040" y="1951560"/>
              <a:ext cx="130032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32"/>
          <p:cNvSpPr/>
          <p:nvPr/>
        </p:nvSpPr>
        <p:spPr>
          <a:xfrm>
            <a:off x="4251240" y="240336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6054840" y="1539720"/>
            <a:ext cx="2232000" cy="4032360"/>
          </a:xfrm>
          <a:custGeom>
            <a:avLst/>
            <a:gdLst/>
            <a:ahLst/>
            <a:rect l="l" t="t" r="r" b="b"/>
            <a:pathLst>
              <a:path w="2232248" h="4032448">
                <a:moveTo>
                  <a:pt x="0" y="0"/>
                </a:moveTo>
                <a:lnTo>
                  <a:pt x="1365862" y="0"/>
                </a:lnTo>
                <a:lnTo>
                  <a:pt x="2232248" y="1121503"/>
                </a:lnTo>
                <a:lnTo>
                  <a:pt x="2232248" y="4032448"/>
                </a:lnTo>
                <a:lnTo>
                  <a:pt x="0" y="4032448"/>
                </a:lnTo>
                <a:close/>
              </a:path>
            </a:pathLst>
          </a:cu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/>
          <p:cNvSpPr/>
          <p:nvPr/>
        </p:nvSpPr>
        <p:spPr>
          <a:xfrm>
            <a:off x="6114960" y="1647720"/>
            <a:ext cx="2111400" cy="3816360"/>
          </a:xfrm>
          <a:custGeom>
            <a:avLst/>
            <a:gdLst/>
            <a:ahLst/>
            <a:rect l="l" t="t" r="r" b="b"/>
            <a:pathLst>
              <a:path w="2232248" h="4032448">
                <a:moveTo>
                  <a:pt x="0" y="0"/>
                </a:moveTo>
                <a:lnTo>
                  <a:pt x="1365862" y="0"/>
                </a:lnTo>
                <a:lnTo>
                  <a:pt x="2232248" y="1121503"/>
                </a:lnTo>
                <a:lnTo>
                  <a:pt x="2232248" y="4032448"/>
                </a:lnTo>
                <a:lnTo>
                  <a:pt x="0" y="4032448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3500000"/>
          </a:gradFill>
          <a:ln w="381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矩形 16"/>
          <p:cNvGrpSpPr/>
          <p:nvPr/>
        </p:nvGrpSpPr>
        <p:grpSpPr>
          <a:xfrm>
            <a:off x="6407280" y="1657440"/>
            <a:ext cx="1803240" cy="1811160"/>
            <a:chOff x="6407280" y="1657440"/>
            <a:chExt cx="1803240" cy="1811160"/>
          </a:xfrm>
        </p:grpSpPr>
        <p:pic>
          <p:nvPicPr>
            <p:cNvPr id="154" name="矩形 16" descr=""/>
            <p:cNvPicPr/>
            <p:nvPr/>
          </p:nvPicPr>
          <p:blipFill>
            <a:blip r:embed="rId3"/>
            <a:stretch/>
          </p:blipFill>
          <p:spPr>
            <a:xfrm>
              <a:off x="6407280" y="1657440"/>
              <a:ext cx="180324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3129000">
              <a:off x="6663600" y="1951560"/>
              <a:ext cx="130032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36"/>
          <p:cNvSpPr/>
          <p:nvPr/>
        </p:nvSpPr>
        <p:spPr>
          <a:xfrm>
            <a:off x="6751800" y="240336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1711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67852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4140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2808360" y="1557360"/>
            <a:ext cx="1441440" cy="1143000"/>
          </a:xfrm>
          <a:prstGeom prst="rect">
            <a:avLst/>
          </a:prstGeom>
          <a:solidFill>
            <a:srgbClr val="74afbd"/>
          </a:solidFill>
          <a:ln w="0">
            <a:noFill/>
          </a:ln>
          <a:effectLst>
            <a:outerShdw dist="89095" dir="2700000" blurRad="0" rotWithShape="0">
              <a:srgbClr val="59595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组合 11" descr=""/>
          <p:cNvPicPr/>
          <p:nvPr/>
        </p:nvPicPr>
        <p:blipFill>
          <a:blip r:embed="rId1"/>
          <a:stretch/>
        </p:blipFill>
        <p:spPr>
          <a:xfrm>
            <a:off x="4114800" y="1322280"/>
            <a:ext cx="3236760" cy="1725840"/>
          </a:xfrm>
          <a:prstGeom prst="rect">
            <a:avLst/>
          </a:prstGeom>
          <a:ln w="0">
            <a:noFill/>
          </a:ln>
        </p:spPr>
      </p:pic>
      <p:sp>
        <p:nvSpPr>
          <p:cNvPr id="167" name="矩形 11"/>
          <p:cNvSpPr/>
          <p:nvPr/>
        </p:nvSpPr>
        <p:spPr>
          <a:xfrm>
            <a:off x="2808360" y="3914640"/>
            <a:ext cx="1441440" cy="1143000"/>
          </a:xfrm>
          <a:prstGeom prst="rect">
            <a:avLst/>
          </a:prstGeom>
          <a:solidFill>
            <a:srgbClr val="74afbd"/>
          </a:solidFill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组合 13" descr=""/>
          <p:cNvPicPr/>
          <p:nvPr/>
        </p:nvPicPr>
        <p:blipFill>
          <a:blip r:embed="rId2"/>
          <a:stretch/>
        </p:blipFill>
        <p:spPr>
          <a:xfrm>
            <a:off x="4114800" y="3681360"/>
            <a:ext cx="3236760" cy="17258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6"/>
          <p:cNvSpPr/>
          <p:nvPr/>
        </p:nvSpPr>
        <p:spPr>
          <a:xfrm flipH="1">
            <a:off x="4896000" y="2741760"/>
            <a:ext cx="1442880" cy="1139760"/>
          </a:xfrm>
          <a:prstGeom prst="rect">
            <a:avLst/>
          </a:prstGeom>
          <a:solidFill>
            <a:srgbClr val="74afbd"/>
          </a:solidFill>
          <a:ln w="0">
            <a:noFill/>
          </a:ln>
          <a:effectLst>
            <a:outerShdw dist="89095" dir="8100000" blurRad="0" rotWithShape="0">
              <a:srgbClr val="7f7f7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组合 12" descr=""/>
          <p:cNvPicPr/>
          <p:nvPr/>
        </p:nvPicPr>
        <p:blipFill>
          <a:blip r:embed="rId3"/>
          <a:stretch/>
        </p:blipFill>
        <p:spPr>
          <a:xfrm>
            <a:off x="1792440" y="2498760"/>
            <a:ext cx="3236760" cy="1731960"/>
          </a:xfrm>
          <a:prstGeom prst="rect">
            <a:avLst/>
          </a:prstGeom>
          <a:ln w="0">
            <a:noFill/>
          </a:ln>
        </p:spPr>
      </p:pic>
      <p:sp>
        <p:nvSpPr>
          <p:cNvPr id="171" name="矩形 12"/>
          <p:cNvSpPr/>
          <p:nvPr/>
        </p:nvSpPr>
        <p:spPr>
          <a:xfrm>
            <a:off x="49978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997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3140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2"/>
          <p:cNvSpPr/>
          <p:nvPr/>
        </p:nvSpPr>
        <p:spPr>
          <a:xfrm>
            <a:off x="1590840" y="2900520"/>
            <a:ext cx="919080" cy="101916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2"/>
          <p:cNvSpPr/>
          <p:nvPr/>
        </p:nvSpPr>
        <p:spPr>
          <a:xfrm>
            <a:off x="2013120" y="2479680"/>
            <a:ext cx="1019160" cy="917640"/>
          </a:xfrm>
          <a:custGeom>
            <a:avLst/>
            <a:gdLst/>
            <a:ahLst/>
            <a:rect l="l" t="t" r="r" b="b"/>
            <a:pathLst>
              <a:path w="1018507" h="918258">
                <a:moveTo>
                  <a:pt x="1018347" y="0"/>
                </a:moveTo>
                <a:lnTo>
                  <a:pt x="1018507" y="8"/>
                </a:lnTo>
                <a:lnTo>
                  <a:pt x="1018507" y="702086"/>
                </a:lnTo>
                <a:cubicBezTo>
                  <a:pt x="1018454" y="702078"/>
                  <a:pt x="1018401" y="702078"/>
                  <a:pt x="1018347" y="702078"/>
                </a:cubicBezTo>
                <a:cubicBezTo>
                  <a:pt x="814532" y="702078"/>
                  <a:pt x="630011" y="784691"/>
                  <a:pt x="496445" y="918258"/>
                </a:cubicBezTo>
                <a:lnTo>
                  <a:pt x="0" y="421813"/>
                </a:lnTo>
                <a:cubicBezTo>
                  <a:pt x="260618" y="161196"/>
                  <a:pt x="620658" y="0"/>
                  <a:pt x="1018347" y="0"/>
                </a:cubicBezTo>
                <a:close/>
              </a:path>
            </a:pathLst>
          </a:cu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2"/>
          <p:cNvSpPr/>
          <p:nvPr/>
        </p:nvSpPr>
        <p:spPr>
          <a:xfrm rot="5400000">
            <a:off x="3084120" y="2428920"/>
            <a:ext cx="917640" cy="101916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"/>
          <p:cNvSpPr/>
          <p:nvPr/>
        </p:nvSpPr>
        <p:spPr>
          <a:xfrm flipV="1">
            <a:off x="3556080" y="2901240"/>
            <a:ext cx="1017360" cy="919080"/>
          </a:xfrm>
          <a:custGeom>
            <a:avLst/>
            <a:gdLst/>
            <a:ahLst/>
            <a:rect l="l" t="t" r="r" b="b"/>
            <a:pathLst>
              <a:path w="1018507" h="918258">
                <a:moveTo>
                  <a:pt x="1018347" y="0"/>
                </a:moveTo>
                <a:lnTo>
                  <a:pt x="1018507" y="8"/>
                </a:lnTo>
                <a:lnTo>
                  <a:pt x="1018507" y="702086"/>
                </a:lnTo>
                <a:cubicBezTo>
                  <a:pt x="1018454" y="702078"/>
                  <a:pt x="1018401" y="702078"/>
                  <a:pt x="1018347" y="702078"/>
                </a:cubicBezTo>
                <a:cubicBezTo>
                  <a:pt x="814532" y="702078"/>
                  <a:pt x="630011" y="784691"/>
                  <a:pt x="496445" y="918258"/>
                </a:cubicBezTo>
                <a:lnTo>
                  <a:pt x="0" y="421813"/>
                </a:lnTo>
                <a:cubicBezTo>
                  <a:pt x="260618" y="161196"/>
                  <a:pt x="620658" y="0"/>
                  <a:pt x="1018347" y="0"/>
                </a:cubicBezTo>
                <a:close/>
              </a:path>
            </a:pathLst>
          </a:cu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2"/>
          <p:cNvSpPr/>
          <p:nvPr/>
        </p:nvSpPr>
        <p:spPr>
          <a:xfrm flipV="1" rot="16200000">
            <a:off x="4625640" y="2851920"/>
            <a:ext cx="919080" cy="101772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2"/>
          <p:cNvSpPr/>
          <p:nvPr/>
        </p:nvSpPr>
        <p:spPr>
          <a:xfrm>
            <a:off x="5097600" y="2479680"/>
            <a:ext cx="1019160" cy="917640"/>
          </a:xfrm>
          <a:custGeom>
            <a:avLst/>
            <a:gdLst/>
            <a:ahLst/>
            <a:rect l="l" t="t" r="r" b="b"/>
            <a:pathLst>
              <a:path w="1018507" h="918258">
                <a:moveTo>
                  <a:pt x="1018347" y="0"/>
                </a:moveTo>
                <a:lnTo>
                  <a:pt x="1018507" y="8"/>
                </a:lnTo>
                <a:lnTo>
                  <a:pt x="1018507" y="702086"/>
                </a:lnTo>
                <a:cubicBezTo>
                  <a:pt x="1018454" y="702078"/>
                  <a:pt x="1018401" y="702078"/>
                  <a:pt x="1018347" y="702078"/>
                </a:cubicBezTo>
                <a:cubicBezTo>
                  <a:pt x="814532" y="702078"/>
                  <a:pt x="630011" y="784691"/>
                  <a:pt x="496445" y="918258"/>
                </a:cubicBezTo>
                <a:lnTo>
                  <a:pt x="0" y="421813"/>
                </a:lnTo>
                <a:cubicBezTo>
                  <a:pt x="260618" y="161196"/>
                  <a:pt x="620658" y="0"/>
                  <a:pt x="1018347" y="0"/>
                </a:cubicBezTo>
                <a:close/>
              </a:path>
            </a:pathLst>
          </a:cu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2"/>
          <p:cNvSpPr/>
          <p:nvPr/>
        </p:nvSpPr>
        <p:spPr>
          <a:xfrm rot="5400000">
            <a:off x="6168600" y="2428920"/>
            <a:ext cx="917640" cy="101916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428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2"/>
          <p:cNvSpPr/>
          <p:nvPr/>
        </p:nvSpPr>
        <p:spPr>
          <a:xfrm flipH="1">
            <a:off x="6639840" y="2900520"/>
            <a:ext cx="917640" cy="101916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74a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rcRect l="7204" t="0" r="2774" b="57823"/>
          <a:stretch/>
        </p:blipFill>
        <p:spPr>
          <a:xfrm>
            <a:off x="826920" y="3844800"/>
            <a:ext cx="2446560" cy="8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rcRect l="7204" t="0" r="2774" b="57823"/>
          <a:stretch/>
        </p:blipFill>
        <p:spPr>
          <a:xfrm>
            <a:off x="5875200" y="3835440"/>
            <a:ext cx="2446560" cy="84240"/>
          </a:xfrm>
          <a:prstGeom prst="rect">
            <a:avLst/>
          </a:prstGeom>
          <a:ln w="0">
            <a:noFill/>
          </a:ln>
        </p:spPr>
      </p:pic>
      <p:sp>
        <p:nvSpPr>
          <p:cNvPr id="189" name="矩形 12"/>
          <p:cNvSpPr/>
          <p:nvPr/>
        </p:nvSpPr>
        <p:spPr>
          <a:xfrm>
            <a:off x="7212600" y="334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3"/>
          <p:cNvSpPr/>
          <p:nvPr/>
        </p:nvSpPr>
        <p:spPr>
          <a:xfrm>
            <a:off x="4640760" y="2482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1568880" y="2482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5"/>
          <p:cNvSpPr/>
          <p:nvPr/>
        </p:nvSpPr>
        <p:spPr>
          <a:xfrm>
            <a:off x="925920" y="334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1:07:44Z</dcterms:modified>
  <cp:revision>290</cp:revision>
  <dc:subject/>
  <dc:title>幻灯片 1</dc:title>
</cp:coreProperties>
</file>