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3520" y="1295280"/>
            <a:ext cx="43812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658880"/>
            <a:ext cx="8380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1600" y="1523880"/>
            <a:ext cx="636480" cy="533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828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247840" y="0"/>
            <a:ext cx="3772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《山市》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248520" y="75888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——</a:t>
            </a: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蒲松龄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3200400" y="6553080"/>
            <a:ext cx="582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执教：重庆市江津德感中学校     柯 兵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143000" y="6481800"/>
            <a:ext cx="8001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666880"/>
            <a:ext cx="9144000" cy="3429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124080"/>
            <a:ext cx="350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浏览全文，了解全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识记生字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断清句层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朗读按标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难句标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143160"/>
            <a:ext cx="350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逐词逐句，弄懂其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分析理解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省略补出翻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精读分析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画批圈点小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71800" y="2209680"/>
            <a:ext cx="327672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阅读指导</a:t>
            </a:r>
            <a:endParaRPr b="0" lang="en-US" sz="6000" spc="-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9250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600200"/>
            <a:ext cx="9144000" cy="4572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66400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注意古汉语顺序与现代汉语顺序的不同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楼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者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不一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状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987720"/>
            <a:ext cx="2743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专用表示时间的词语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无何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未几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既而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逾时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87680"/>
            <a:ext cx="3962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通假字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一切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有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数至八层，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星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925800"/>
            <a:ext cx="20574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见宫殿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十所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至八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恒不一见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居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城郭矣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441972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51814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976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一词多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04812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49568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32004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027240"/>
            <a:ext cx="2895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像楼的景物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形状不一，即各有各的形状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587680"/>
            <a:ext cx="2133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乌”通“无”，没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裁”通“才”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267080"/>
            <a:ext cx="3581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几，几个，表示不确定的数目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计数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但，表示转折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竟然，词尾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343400"/>
            <a:ext cx="2057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不久，不一会儿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很快，不久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过了一会儿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过了一会儿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1676520"/>
            <a:ext cx="3505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讨论质疑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8288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想像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孤塔的底部在什么地方？周围有哪些事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城上有楼吗？你看见城中的街道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危楼上有多少人？都在干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505320"/>
            <a:ext cx="8991720" cy="2895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73392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为什么那时候的人把“山市”称为“鬼市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外阅读自然小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外阅读蒲松龄的其它文章，了解其创作风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743200" y="2514600"/>
            <a:ext cx="32767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新魏"/>
              </a:rPr>
              <a:t>拓展延伸</a:t>
            </a:r>
            <a:endParaRPr b="0" lang="en-US" sz="24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05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4582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3-7-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大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6400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003-7-20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太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001-4-6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蓬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1932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002-7-4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青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5032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002-7-4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青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0574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一、情境导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480" y="310824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二、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098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三、阅读指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117880"/>
            <a:ext cx="35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五、想像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108240"/>
            <a:ext cx="406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六、拓展延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41148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七、欣赏奇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6172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952880"/>
            <a:ext cx="35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四、讨论质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5867280"/>
            <a:ext cx="8001000" cy="37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18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6477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001-5-24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青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476360"/>
            <a:ext cx="8458200" cy="5000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6400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001-5-24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青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839080" cy="5114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6400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002-7-19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天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Unicode MS"/>
              </a:rPr>
              <a:t>蒲松龄：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40—171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：字留仙，别号柳泉居士，世称聊斋先生，山东淄川（今淄博）人，清朝著名文学家。他一生抑郁不得志，当过幕客，做过几十年私塾先生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蒲松龄出身在一个没落的地主家庭。蒲家号称“累代书香”，祖上虽然没有出过显赫人物，在当地却是大族，但在明末清初的动乱中衰微下来。蒲松龄的父亲蒲槃原是读书人，由于家境困难，不得不弃儒经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181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67760" y="3886200"/>
            <a:ext cx="172368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391520" y="1600200"/>
            <a:ext cx="1676160" cy="2209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蒲松龄一生刻苦好学，但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“弁冕童科”之后，屡试不第，直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高龄，才援例成为贡生。康熙五十四年农历正月二十二日，也就是在他的夫人去世的两年之后，依窗危坐逝世。他的代表作《聊斋志异》是一部浪漫主义色彩浓厚的短篇文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69252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61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362320"/>
            <a:ext cx="8915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学习积累文言词语，理解课文大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体会“山市”的形成及神奇、壮丽的幻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探究“山市形成的科学道理”，培养同学们主动探究的科学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514600"/>
            <a:ext cx="914400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73720" y="3733920"/>
            <a:ext cx="812880" cy="21333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初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宝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2280" y="4267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886200"/>
            <a:ext cx="76320" cy="1981080"/>
          </a:xfrm>
          <a:custGeom>
            <a:avLst/>
            <a:gdLst>
              <a:gd name="textAreaLeft" fmla="*/ 48960 w 76320"/>
              <a:gd name="textAreaRight" fmla="*/ 76320 w 763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宫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发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出现城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3048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高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危楼出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200000">
            <a:off x="5825160" y="4722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结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危楼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59436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248520"/>
            <a:ext cx="2819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429000" y="4876920"/>
            <a:ext cx="762120" cy="129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3429000"/>
            <a:ext cx="60012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372096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鬼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124080"/>
            <a:ext cx="304560" cy="2819520"/>
          </a:xfrm>
          <a:custGeom>
            <a:avLst/>
            <a:gdLst>
              <a:gd name="textAreaLeft" fmla="*/ 0 w 304560"/>
              <a:gd name="textAreaRight" fmla="*/ 109800 w 3045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32840" y="441972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补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514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05120" y="2362320"/>
            <a:ext cx="5790960" cy="25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整体感知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22:00Z</dcterms:created>
  <dc:creator>邹亮</dc:creator>
  <dc:description/>
  <dc:language>en-US</dc:language>
  <cp:lastModifiedBy>Billgates</cp:lastModifiedBy>
  <dcterms:modified xsi:type="dcterms:W3CDTF">2015-09-08T09:51:5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