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36.gif" ContentType="image/gif"/>
  <Override PartName="/ppt/media/image28.jpeg" ContentType="image/jpeg"/>
  <Override PartName="/ppt/media/image24.gif" ContentType="image/gif"/>
  <Override PartName="/ppt/media/image18.jpeg" ContentType="image/jpeg"/>
  <Override PartName="/ppt/media/image22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1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8.gif" ContentType="image/gif"/>
  <Override PartName="/ppt/media/image43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5.jpeg" ContentType="image/jpeg"/>
  <Override PartName="/ppt/media/image46.jpeg" ContentType="image/jpeg"/>
  <Override PartName="/ppt/media/image19.jpeg" ContentType="image/jpeg"/>
  <Override PartName="/ppt/media/image42.jpeg" ContentType="image/jpeg"/>
  <Override PartName="/ppt/media/image32.gif" ContentType="image/gif"/>
  <Override PartName="/ppt/media/image5.jpeg" ContentType="image/jpeg"/>
  <Override PartName="/ppt/media/image26.jpeg" ContentType="image/jpeg"/>
  <Override PartName="/ppt/media/image8.png" ContentType="image/png"/>
  <Override PartName="/ppt/media/image30.jpeg" ContentType="image/jpeg"/>
  <Override PartName="/ppt/media/image7.wmf" ContentType="image/x-wmf"/>
  <Override PartName="/ppt/media/image20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3484-6D06-4032-800A-2B40B0E0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DEF-B26A-48A8-8D87-08A98FF6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604D9-7E7E-4D70-BCBB-4062C276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9FE03-3C8F-432F-AB6C-A48B0FDF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9B881-53CD-4F12-80E2-C3B7C122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32A70-ABB8-4AF9-98D0-13155B31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97B2C-253D-470C-B901-8B25D03D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BBFD7-26DA-45F1-9780-298A8721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B34E1-6892-4CBD-89D8-895CE013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D3113-198F-4FD6-996B-F0004644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CAED3-2704-485E-A062-6A82CDA8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81E26-AB91-4FB9-8EDB-60D6159F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44E-7F65-4831-8B3E-CCC125FB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D735D-3748-419F-8896-A83F39BE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F9512-9DE7-443D-9D9D-1F494685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B8A66-4EFE-44EE-BB17-A08B27CA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D69B7-B1E3-4190-B0F0-A4244CDE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E5175-CB7F-4652-BC60-05A51C27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EB871-FBA6-4A1E-B0B7-42F5338F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ECD4F-7161-44FC-A1D9-03A90D64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C0974-5614-4D41-8EB6-69E19BB9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3F468-37B0-492B-B815-AD391BBD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F4D93-D424-4DD0-A72D-EEF629F0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B49-097D-4077-9079-3A56582B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0DB37-72F5-4701-85AF-67B3CF2A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9D6FC-B1D1-48C0-855F-E1F8945E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020A4-3AE2-4193-8C08-A43BF366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27AD8-FE9C-4543-B6F7-258E1873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07428-78A3-4315-91D7-4C4B5937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CA2AE-5D3C-4D09-BCA9-007CD03F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C2474-2E88-4F61-8F11-AEFED02C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0AE0D-8532-493B-BEE3-E170B58F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26845-E9C7-4039-8251-F2B2C047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44280-883E-4DEB-926D-8A58F6F6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2F81-C137-4940-8BC2-AB2B3C24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D3C99-5DE4-4AA8-8C3B-554CC7EE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F8A37-C4DE-45A9-9A72-740CCAC4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A0987-1247-465C-BCF5-7921D1B6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94E6F-B475-4B8B-99B4-1EBC744F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5B26A-8652-420F-A4BE-87A536DD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1EF1A-C6D2-48F1-A713-8253AEC8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D9D6E-0E31-42EC-87E4-F50C0018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8F27C-FFAA-411D-9F38-E622294C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24132-7748-4435-BFA5-60B46EA3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B5E21-E122-4335-A9ED-6FE8437C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5D29-E15F-4275-82E2-80A37314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95B6F-BA0B-4D88-9416-00A45B1C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C8242-CF80-46CE-AC2A-840025FE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47745-3C91-40BB-AE49-26946717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4FB74-6163-4271-928A-1C79689B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FDF89-BC4B-4D9E-B59A-75EF7865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82172-EC01-43D9-BD2B-43C0C672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FE8C0F-4AAF-4A40-B3A5-E845985F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9268B-2613-4C6E-AF27-82A9AF25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F32A6-8124-4D2B-BF6C-DA426AE1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58D66-E507-4E58-993C-72943637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E12D-1572-4029-B574-49C8EDE4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C19165-FFF4-4347-914E-217D10E3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05F6F-3877-47BE-AF53-92FFC157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B1550-F103-4294-800B-56F4EB8B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57474-70D8-4630-8877-358053A8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C10BF-047C-45DD-84AF-7103913D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09BC8-FDFB-4155-8E56-A2B238FC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8A420-5C05-486A-B75E-B64C6F7E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25C65-D37E-4DB6-A3C5-007C4E97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B5942-4AF8-4451-9CFE-C63E95BE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4C591-D2A3-461C-87A0-5BD38D14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F939-270A-4B75-890A-44205FFD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A82E7C-4470-475F-B336-6C468BE7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57BA8E-7A72-43C0-AA06-12CB3027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9A05F-208E-4E18-96BF-4A5FBBF6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03D7E-1B1C-4726-A45A-B5DD3984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2B1D6A-8686-434C-BF29-E62FB4A7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63A4C8-0F03-4678-A0D5-80186C51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7C61E5-ADDA-4571-BB38-ADCB35E3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62B7E2-8F19-4E27-829F-E36554D7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055C05-E96C-482E-A0B2-02A16AB8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459A7E-5CFE-411D-B72B-26654DDF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8525-6D02-444D-AADE-086DA480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7BBB82-8E5C-43D6-89B6-C58DC610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BE5384-C79E-4A86-908B-74E28355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A01D3E-68E6-4073-9522-3ACB1C74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8F0AA8-5BFA-43AA-9E9D-3C26D459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6B0980-6DDB-4BDD-AC25-69CA4F38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7CD112-5DCA-4FD2-9879-D6C32AC5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BF1233-DC0E-4C11-B850-290B4002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B1B648-23E0-43F0-830A-9B24CBAB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2A512B-1CCF-49BD-8BB6-A08D7E2C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97A105-B73E-41FF-B61E-A54C0F7B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7190-3FA9-4D4C-AABB-EB106A24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1BD53E-14E7-4855-89C3-30741291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D57B1-F20E-49E5-9665-AB634443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556200-4D59-40BE-ADE4-BC095348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BAD9C8-F625-403E-BAFD-A3B74E65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64C256-5066-4334-9CA4-6D51B4BC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1C24E4-181F-48EC-9A04-65F99DFB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55F180-ACCA-4D60-A6BB-A344A1F5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21232-F5A2-41ED-9AF6-07DE8851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B2DD48-C2D1-44A4-AFBD-CDC67F9D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AE7BAE-4461-44B8-ADC6-844565DE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416F-7662-4429-A480-79DA2580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D23BEC-1577-4F7F-98E5-A74B9912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AA9C0C-14CB-4093-9A44-524CFF3E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739B19-A23F-4701-B7D3-0A5144C2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2B9659-C64C-4436-8008-415B52B0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7F5DD5-266F-440D-B0FF-5DF35D29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339C8F-6584-4A04-820A-42FB599B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AAC341-9782-45CD-923D-86E3C2C9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1A8CAA-EF39-4382-956B-8D60E87C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75447B-87C5-4922-90C6-90218FD0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F2661C-3D32-4936-8593-1F6E6BFE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3050-A6B9-418E-AE01-F295B47F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BE31-B48F-45B4-956C-805B21A3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D8BA38-3E19-4CB8-A6A5-6E4799DD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183071-2F5C-4866-B121-AFD4C67B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518FC2-ED12-4310-8818-D28D5DC1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025430-3C19-45D6-870C-7273001A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3A6E8E-5765-4D2B-9F2A-D198D0C9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5C30-2185-4276-9DA3-50DB98A6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ED08-46D1-499B-8D47-0320A204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9168-E560-4C29-9B65-CC71207D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E7FB-30E1-40A7-814D-FF0CB3B3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6F162-24F4-4BD7-9681-FE912263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2D048-EF14-4BA9-B502-B83081D7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D6F1C-3C92-4769-82CC-D80B05E8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D8244-9620-4674-9639-4044A6C8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3C8AB-09A1-48B5-AB90-893748D7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BEB-BA65-488C-8D3A-760355DE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3FBA7-87E3-4F29-A17E-BF49C7AA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945D7-87F8-487D-96D5-2183B25A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7A9D5-1D38-4CC9-958C-021B95C7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F1BB1-1052-427C-806F-6476803F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12A2A-AD53-45B3-8C15-598D37C9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27B8-804F-431F-A51F-FD04BD82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4AC1-CFDA-4269-8DE9-31B580E1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6BB4A-E9D9-4455-AE10-21AE3ABE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3D44F-7C93-49D8-9FA2-B96B48BF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804C1-30E8-46F9-8072-C25DBDEA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8C8-6AB0-4082-B49D-5770F4A7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01008-392F-4596-9A07-188E2535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7E852-5148-4645-A7F5-6B995C87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2D2E4-BA09-4756-B1DB-708B7B28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1F69A-2476-4315-8CF8-8EBA55A9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65CDD-559B-4786-8597-F3460461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9B3EC-EA3F-46F1-81AD-C4D9AB97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CF538-2BF8-4445-9429-7CF12EE7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DD913-3953-4A4E-B28E-839C59C6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5CB76-AFD3-4C0F-AF2E-BD71BE56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6C900-4722-4B06-A520-0C743CB8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2DB5-91DA-4C4C-8ACE-49D697F3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A7C25-6938-44F1-B862-D36CF2FC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B486C-241A-4762-A327-1C5E6588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DD881-01B9-40C2-AE93-91FD8DB1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1630B-3BD0-40C8-8073-F2C8DAE1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63A7A-7A7F-4A69-ADB4-318DB997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5C475-3999-4A9A-95E6-0C6B83BB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24E31-DF29-48D3-9709-DE2AC849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488D1-7605-4919-BCF9-CC103F69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50DFF-9E72-4EF1-B681-8C609B41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E83F2-2A28-4A32-9810-6051E063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8B7-0DE9-42A0-A760-FF21E5BD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F44E2-C7BC-43AB-A16B-05EB2CE9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A2ED1-0F44-423F-B212-7A468E47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EB215-C502-4958-AF1C-D81578C9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75131-DB04-467F-954B-8D289F2D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5A39D-576F-44D3-B749-909867C3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93BE2-3107-441F-9D62-D7F0F3D3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7CEDB-1BDB-459D-AC4D-1F25BC54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E024B-D5D0-4923-AA3B-10827BC8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49C76-1F16-4AFB-8C0C-297F958A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5E89C-ACE4-4AC1-AD7C-685DE540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981-7378-4737-AB6F-C89DA327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A0059-AEDB-4562-81C0-DA32734C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11A8F-11AE-4165-A7BD-955874B5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C6FFB-009D-4A6C-861E-34706BDF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207D5-27B7-45DB-BBCA-8001E62C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A9E15-CEDD-4261-A443-86ABA8B2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8CC8A-0AB5-49CB-8620-3C3B77F2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5058F-3E99-4D6F-8D76-16A881EE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F84B8-9551-4B6C-9EF2-F5C8099F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8D9DB-7046-43F5-A9A8-71939448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62EAC-8DEA-4AD9-9810-2E56542B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BF1-CBDE-4D16-85C8-152AF40A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7885F-C24C-4983-8F6E-9EA7EC36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6D3A1-00FE-46BE-98E6-96D42C3E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D17DF-F3A4-4D23-9709-0A44CADA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91A29-2218-447C-8A9D-AC67A071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6E495-35D7-4F89-9E13-B3391837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08340-3545-4543-A607-A23B2FD5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99F2F-067A-4FEC-B815-196034DB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BE6EC-C0DC-4499-A7F4-FC9F0089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C7A7B-84E4-45D8-BBEA-0E7BA495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6AF86-A07B-4390-8449-23FE1A15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F2E4-4A9D-4F83-A053-77F8A8D0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5A99F-0D32-4DC1-891A-AFC1274D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E465C-906E-4B1A-AB5B-FF141D04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AE020-D67D-40BC-B417-16B1B11B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91704-1B1D-470B-8B91-5E69D820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B14F0-4E02-42FE-9180-ED3CCECA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2571D-EA24-48E2-9576-3B600E2D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93F15-DAAB-43F0-80A1-26EAA58C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A6656-17E5-466D-AEB8-2ABA054B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4813A-6B45-4F33-8240-0B5166CB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F086B-C7FD-4927-9622-24BA2A26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0BF0-3261-4693-BF52-082302A021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7942-7C96-4B82-92E4-3BD6BBB6CA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9AAE-6A01-411D-BBD8-0B34FC300BA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3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F383-B47A-4132-8F93-FAA6F307F73D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0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3A44-CE5D-4C84-AC1B-F67A4B0286F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8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PlaceHolder 1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9FF8-8905-4C90-BAD1-63638317C35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5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6766-F1FB-47C7-840D-EF9EE6C7EF92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1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9FF0-F304-43F2-88EC-5795DD5313DD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0484-DDF2-48F8-A4F7-3C416965A9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973F-1DFC-4E82-A88B-778835E33A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F862-CAB7-4FA9-B105-83174DBF49D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031B-5B62-40F0-8943-F27CC29F3C3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69A8-D1EA-4789-BF2A-0C545EF4F7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26D2-8572-474C-AE4B-7687B83F52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6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7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9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8187-0717-4F72-8CF5-11CE6B32D5D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4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5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6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B4E1-6D00-47F1-BFA2-CDC6E37D78A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7EB0-1E80-4813-A180-3B19213239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4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7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9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8153280" cy="525780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 txBox="1"/>
          <p:nvPr/>
        </p:nvSpPr>
        <p:spPr>
          <a:xfrm>
            <a:off x="1219320" y="2819520"/>
            <a:ext cx="4114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26</a:t>
            </a: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少年闰土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923" name=""/>
          <p:cNvSpPr/>
          <p:nvPr/>
        </p:nvSpPr>
        <p:spPr>
          <a:xfrm>
            <a:off x="1550520" y="4572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版五年级下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828440" y="14479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问题探讨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914400" y="3297240"/>
            <a:ext cx="731664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、闰土这个名字是怎样来的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、“我”和闰土初次见面是怎样的情景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、闰土给“我”讲了好多“希奇的事”。他给“我”讲了哪些希奇的事呢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４、你觉得闰土是个怎样的孩子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"/>
          <p:cNvSpPr/>
          <p:nvPr/>
        </p:nvSpPr>
        <p:spPr>
          <a:xfrm>
            <a:off x="3048120" y="2209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你能回答这些问题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12574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8153280" cy="5181480"/>
          </a:xfrm>
          <a:prstGeom prst="rect">
            <a:avLst/>
          </a:prstGeom>
          <a:ln w="0">
            <a:noFill/>
          </a:ln>
        </p:spPr>
      </p:pic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120" y="4419720"/>
            <a:ext cx="5410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１、“闰土”名字的由来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8280" y="2130120"/>
            <a:ext cx="427212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他和我仿佛年纪，闰月生的，五行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（五行指水、金、火、木、土。）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缺土，所以他的父亲叫他闰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981080" y="11426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Garamond"/>
              </a:rPr>
              <a:t>２、初次见面的情景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9" name=""/>
          <p:cNvSpPr/>
          <p:nvPr/>
        </p:nvSpPr>
        <p:spPr>
          <a:xfrm>
            <a:off x="838080" y="19810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课文在写“我”与闰土初次见面的情景时主要是对人物的什么方面进行描写呢？在这里闰土给你留下了怎样的印象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429000" y="350532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华文中宋"/>
              </a:rPr>
              <a:t>外貌描写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华文中宋"/>
              <a:ea typeface="华文中宋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9880" y="4346640"/>
            <a:ext cx="7542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Arial"/>
                <a:ea typeface="华文仿宋"/>
              </a:rPr>
              <a:t>他正在厨房里，紫色的圆脸，头戴一顶小毡帽，颈上套一个明晃晃的银项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00400" y="54100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健康、可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77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4" dur="770" fill="hold"/>
                                        <p:tgtEl>
                                          <p:spTgt spid="9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8" dur="77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9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2133720" cy="2743200"/>
          </a:xfrm>
          <a:prstGeom prst="rect">
            <a:avLst/>
          </a:prstGeom>
          <a:ln w="0">
            <a:noFill/>
          </a:ln>
        </p:spPr>
      </p:pic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闰土给“我”讲了好多“稀奇的事”。他给“我”讲了哪些稀奇的事？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3070080" y="3038040"/>
            <a:ext cx="5615280" cy="29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闰土给“我”讲了四件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雪地捕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海边拾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看瓜刺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看跳鱼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3"/>
          <a:stretch/>
        </p:blipFill>
        <p:spPr>
          <a:xfrm>
            <a:off x="6705720" y="4495680"/>
            <a:ext cx="1619280" cy="15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华文中宋"/>
              </a:rPr>
              <a:t>在这几件稀奇事中，你对哪件事最感兴趣？为什么？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华文中宋"/>
              </a:rPr>
              <a:t>       请说出你最感兴趣的那件事，然后有声有色地朗读你喜欢的段落，读出你的感悟。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1219320" y="1523880"/>
            <a:ext cx="5638680" cy="1390680"/>
            <a:chOff x="1219320" y="1523880"/>
            <a:chExt cx="5638680" cy="1390680"/>
          </a:xfrm>
        </p:grpSpPr>
        <p:sp>
          <p:nvSpPr>
            <p:cNvPr id="999" name=""/>
            <p:cNvSpPr txBox="1"/>
            <p:nvPr/>
          </p:nvSpPr>
          <p:spPr>
            <a:xfrm>
              <a:off x="2971800" y="1600200"/>
              <a:ext cx="388620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黑体"/>
                </a:rPr>
                <a:t>读一读，说一说</a:t>
              </a:r>
              <a:endPara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pic>
          <p:nvPicPr>
            <p:cNvPr id="1000" name="" descr=""/>
            <p:cNvPicPr/>
            <p:nvPr/>
          </p:nvPicPr>
          <p:blipFill>
            <a:blip r:embed="rId2"/>
            <a:stretch/>
          </p:blipFill>
          <p:spPr>
            <a:xfrm>
              <a:off x="1219320" y="1523880"/>
              <a:ext cx="1542960" cy="1390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难句理解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们都和我一样，只看见院子里高墙上的四角的天空。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914400" y="3430080"/>
            <a:ext cx="6934320" cy="23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仿宋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仿宋"/>
              </a:rPr>
              <a:t>我”和“往常的朋友”是些“少爷”，整天生活在大院里，不能广泛地接触大自然，像井底之蛙，眼界狭窄。这句话表达了“我”对自己所处环境的不满，流露了对农村丰富多彩生活的向往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28600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8153280" cy="5181480"/>
          </a:xfrm>
          <a:prstGeom prst="rect">
            <a:avLst/>
          </a:prstGeom>
          <a:ln w="0">
            <a:noFill/>
          </a:ln>
        </p:spPr>
      </p:pic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447560" y="2285640"/>
            <a:ext cx="6476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6600"/>
                </a:solidFill>
                <a:latin typeface="Arial"/>
              </a:rPr>
              <a:t>你觉得闰土是个怎样的人？请结合课文中具体内容进行分析，完成下面这个的填空题吧。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1523880"/>
            <a:ext cx="320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闰土的形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752480" y="403848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闰土是一个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__________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的孩子，我从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__________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可以看出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3"/>
          <a:stretch/>
        </p:blipFill>
        <p:spPr>
          <a:xfrm>
            <a:off x="3581280" y="5410080"/>
            <a:ext cx="4953240" cy="71460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4"/>
          <a:stretch/>
        </p:blipFill>
        <p:spPr>
          <a:xfrm>
            <a:off x="609480" y="10666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4800600" y="2439720"/>
            <a:ext cx="2666880" cy="35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健康可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热情友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见识丰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机智勇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聪明能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"/>
          <p:cNvSpPr/>
          <p:nvPr/>
        </p:nvSpPr>
        <p:spPr>
          <a:xfrm>
            <a:off x="2590920" y="13716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ahoma"/>
                <a:ea typeface="黑体"/>
              </a:rPr>
              <a:t>闰土的形象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3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500"/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8" dur="500"/>
                                        <p:tgtEl>
                                          <p:spTgt spid="1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8077320" cy="5105520"/>
          </a:xfrm>
          <a:prstGeom prst="rect">
            <a:avLst/>
          </a:prstGeom>
          <a:ln w="0">
            <a:noFill/>
          </a:ln>
        </p:spPr>
      </p:pic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6477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闰土是个活泼可爱的少年，作者是从哪些方面去写闰土的？请同学们画出有关句子，读一读。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4648320" y="4038480"/>
            <a:ext cx="35049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三读课文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8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中宋"/>
              </a:rPr>
              <a:t>外貌描写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171080" y="2433600"/>
            <a:ext cx="66438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仿宋"/>
              </a:rPr>
              <a:t>其间有一个十一二岁的少年，项带银圈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仿宋"/>
              </a:rPr>
              <a:t>他正在厨房里，紫色的圆脸，头戴一顶小毡帽，颈上套一个明晃晃的银项圈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1523880" cy="120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1981440" cy="228600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2819520" cy="297180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6553080" y="3505320"/>
            <a:ext cx="1981440" cy="259056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4"/>
          <a:stretch/>
        </p:blipFill>
        <p:spPr>
          <a:xfrm>
            <a:off x="3657600" y="1143000"/>
            <a:ext cx="2743200" cy="213372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5"/>
          <a:stretch/>
        </p:blipFill>
        <p:spPr>
          <a:xfrm>
            <a:off x="3657600" y="33526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6"/>
          <a:stretch/>
        </p:blipFill>
        <p:spPr>
          <a:xfrm>
            <a:off x="685800" y="4191120"/>
            <a:ext cx="2857680" cy="188568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4038480" y="525780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鲁 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218960" y="1295280"/>
            <a:ext cx="2819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中宋"/>
              </a:rPr>
              <a:t>动作描写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776160" y="2660400"/>
            <a:ext cx="790920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手捏一柄钢叉，向一匹猹尽力地刺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他也躲到厨房里，哭着不肯出门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4343400" y="1143000"/>
            <a:ext cx="4191120" cy="1306440"/>
            <a:chOff x="4343400" y="1143000"/>
            <a:chExt cx="4191120" cy="1306440"/>
          </a:xfrm>
        </p:grpSpPr>
        <p:pic>
          <p:nvPicPr>
            <p:cNvPr id="1022" name="" descr=""/>
            <p:cNvPicPr/>
            <p:nvPr/>
          </p:nvPicPr>
          <p:blipFill>
            <a:blip r:embed="rId2"/>
            <a:stretch/>
          </p:blipFill>
          <p:spPr>
            <a:xfrm flipH="1">
              <a:off x="5790960" y="1143000"/>
              <a:ext cx="126972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" descr=""/>
            <p:cNvPicPr/>
            <p:nvPr/>
          </p:nvPicPr>
          <p:blipFill>
            <a:blip r:embed="rId3"/>
            <a:stretch/>
          </p:blipFill>
          <p:spPr>
            <a:xfrm flipH="1">
              <a:off x="7162920" y="114300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" descr=""/>
            <p:cNvPicPr/>
            <p:nvPr/>
          </p:nvPicPr>
          <p:blipFill>
            <a:blip r:embed="rId4"/>
            <a:stretch/>
          </p:blipFill>
          <p:spPr>
            <a:xfrm flipH="1">
              <a:off x="4343400" y="1143000"/>
              <a:ext cx="1371600" cy="1306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9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9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8153280" cy="525780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895120" y="1218960"/>
            <a:ext cx="3505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语言描写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50640" y="2433600"/>
            <a:ext cx="751356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他说：“这不能。须大雪下了才好，我们沙地上，下了雪，我扫出一块空地来，用短棒支起一个大竹匾，撒下秕谷，看鸟雀来吃时，我远远地将缚在棒上的绳子只一拉，那鸟雀就罩在竹匾下了。什么都有：稻鸡，角鸡，鹁鸪，蓝背…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8" name="" descr=""/>
          <p:cNvPicPr/>
          <p:nvPr/>
        </p:nvPicPr>
        <p:blipFill>
          <a:blip r:embed="rId3"/>
          <a:stretch/>
        </p:blipFill>
        <p:spPr>
          <a:xfrm>
            <a:off x="7315200" y="114300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8153280" cy="5181480"/>
          </a:xfrm>
          <a:prstGeom prst="rect">
            <a:avLst/>
          </a:prstGeom>
          <a:ln w="0">
            <a:noFill/>
          </a:ln>
        </p:spPr>
      </p:pic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闰土又对我说：“现在太冷，你夏天到我们这里来。我们日里到海边捡贝壳去，红的绿的都有，鬼见怕也有，观音手也有。晚上我和爹管西瓜去，你也去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是。走路的人口渴了摘一个瓜吃，我们这里是不算偷的。要管的是獾猪，刺猬，猹。月亮地下，你听，啦啦地响了，猹在咬瓜了。你便捏了胡叉，轻轻地走去…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1" name="" descr=""/>
          <p:cNvPicPr/>
          <p:nvPr/>
        </p:nvPicPr>
        <p:blipFill>
          <a:blip r:embed="rId3"/>
          <a:stretch/>
        </p:blipFill>
        <p:spPr>
          <a:xfrm>
            <a:off x="5867280" y="5334120"/>
            <a:ext cx="129564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153280" cy="5181480"/>
          </a:xfrm>
          <a:prstGeom prst="rect">
            <a:avLst/>
          </a:prstGeom>
          <a:ln w="0">
            <a:noFill/>
          </a:ln>
        </p:spPr>
      </p:pic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胡叉呢。走到了，看见猹了，你便刺。这畜生很伶俐，倒向你奔来，反从胯下窜了。它的皮毛是油一般的滑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们沙地里，潮汛要来的时候，就有许多跳鱼儿只是跳，都有青蛙似的两个脚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4648320" y="5029200"/>
            <a:ext cx="3886200" cy="1101600"/>
            <a:chOff x="4648320" y="5029200"/>
            <a:chExt cx="3886200" cy="1101600"/>
          </a:xfrm>
        </p:grpSpPr>
        <p:pic>
          <p:nvPicPr>
            <p:cNvPr id="1035" name="" descr=""/>
            <p:cNvPicPr/>
            <p:nvPr/>
          </p:nvPicPr>
          <p:blipFill>
            <a:blip r:embed="rId2"/>
            <a:stretch/>
          </p:blipFill>
          <p:spPr>
            <a:xfrm>
              <a:off x="4648320" y="5029200"/>
              <a:ext cx="190476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" descr=""/>
            <p:cNvPicPr/>
            <p:nvPr/>
          </p:nvPicPr>
          <p:blipFill>
            <a:blip r:embed="rId3"/>
            <a:stretch/>
          </p:blipFill>
          <p:spPr>
            <a:xfrm>
              <a:off x="6705720" y="5029200"/>
              <a:ext cx="1828800" cy="1098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9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900" fill="hold"/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8077320" cy="525780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209320" y="1600200"/>
            <a:ext cx="3124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拓展阅读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407600" y="2584440"/>
            <a:ext cx="5931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课文最后说他们从此没有再见面，其实三十年后，他们俩又见面了，不过三十年后的闰土改变太大了，究竟是什么原因使他发生改变的呢？有兴趣知道的同学，请去找找鲁迅的小说——《故乡》来读读吧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3"/>
          <a:stretch/>
        </p:blipFill>
        <p:spPr>
          <a:xfrm>
            <a:off x="6934320" y="4495680"/>
            <a:ext cx="1695240" cy="16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772400" cy="381024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1066680" y="1295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齐读课后《资料袋》中关于鲁迅的资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1066680" y="990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17680" y="228600"/>
            <a:ext cx="8245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闰 （闰年）        捏 （捏着）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柄 （把柄）        胯 （胯下）           匾（门匾）         缚 （束缚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稻（水稻）         猬 （刺猬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谓（所谓）         汛 （潮汛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" descr=""/>
          <p:cNvPicPr/>
          <p:nvPr/>
        </p:nvPicPr>
        <p:blipFill>
          <a:blip r:embed="rId2"/>
          <a:stretch/>
        </p:blipFill>
        <p:spPr>
          <a:xfrm>
            <a:off x="609480" y="48006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 txBox="1"/>
          <p:nvPr/>
        </p:nvSpPr>
        <p:spPr>
          <a:xfrm>
            <a:off x="4267080" y="5029200"/>
            <a:ext cx="2895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多音字积累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7" name=""/>
          <p:cNvSpPr/>
          <p:nvPr/>
        </p:nvSpPr>
        <p:spPr>
          <a:xfrm>
            <a:off x="1295280" y="19051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029200" y="19051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371600" y="35053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029200" y="35053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981080" y="175248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715000" y="175248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57400" y="335268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791320" y="327672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286000" y="1523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正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zhèng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286000" y="2438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正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zhēng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019920" y="1523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仿佛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f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286000" y="3124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供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gòng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286000" y="40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提供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g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ō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ng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019920" y="31240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畜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ch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019920" y="40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畜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x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牧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019920" y="248904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神佛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/>
          </p:nvPr>
        </p:nvSpPr>
        <p:spPr>
          <a:xfrm>
            <a:off x="990720" y="1523520"/>
            <a:ext cx="2590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其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无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素不知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如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希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单知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1066680" y="5257800"/>
            <a:ext cx="1781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小游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955" name=""/>
          <p:cNvSpPr/>
          <p:nvPr/>
        </p:nvSpPr>
        <p:spPr>
          <a:xfrm>
            <a:off x="2971800" y="54100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给上面的词语与正确的解释连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486400" y="1447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只知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562720" y="2057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稀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56272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如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562720" y="3200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从来不知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56272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其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562720" y="44197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无缘无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276720" y="3048120"/>
            <a:ext cx="23619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2895480" y="2971440"/>
            <a:ext cx="2743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895480" y="2438280"/>
            <a:ext cx="2743200" cy="221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2819520" y="2438280"/>
            <a:ext cx="281916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3124080" y="1828440"/>
            <a:ext cx="251460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895480" y="1905120"/>
            <a:ext cx="274320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2"/>
          <a:stretch/>
        </p:blipFill>
        <p:spPr>
          <a:xfrm>
            <a:off x="7238880" y="1143000"/>
            <a:ext cx="121932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8153280" cy="525780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 txBox="1"/>
          <p:nvPr/>
        </p:nvSpPr>
        <p:spPr>
          <a:xfrm>
            <a:off x="1981080" y="2133720"/>
            <a:ext cx="4953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朗读课文，了解课文内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971" name=""/>
          <p:cNvSpPr/>
          <p:nvPr/>
        </p:nvSpPr>
        <p:spPr>
          <a:xfrm>
            <a:off x="1676520" y="41148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华文中宋"/>
              </a:rPr>
              <a:t>课文主要写了哪些关于闰土的事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828800" y="1447920"/>
            <a:ext cx="2819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主要内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083960" y="2431800"/>
            <a:ext cx="560844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　　</a:t>
            </a:r>
            <a:r>
              <a:rPr b="1" lang="zh-CN" sz="3200" spc="-1" strike="noStrike">
                <a:solidFill>
                  <a:srgbClr val="310f0f"/>
                </a:solidFill>
                <a:latin typeface="华文仿宋"/>
                <a:ea typeface="华文仿宋"/>
              </a:rPr>
              <a:t>　课文先描绘了“我”记忆中看瓜刺猹的闰土，接着写与闰土相识、相处的过程，最后写两人的分别和友谊。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762120" y="4800600"/>
            <a:ext cx="7772400" cy="1306440"/>
            <a:chOff x="762120" y="4800600"/>
            <a:chExt cx="7772400" cy="1306440"/>
          </a:xfrm>
        </p:grpSpPr>
        <p:pic>
          <p:nvPicPr>
            <p:cNvPr id="975" name="" descr=""/>
            <p:cNvPicPr/>
            <p:nvPr/>
          </p:nvPicPr>
          <p:blipFill>
            <a:blip r:embed="rId1"/>
            <a:stretch/>
          </p:blipFill>
          <p:spPr>
            <a:xfrm>
              <a:off x="3429000" y="4800600"/>
              <a:ext cx="26668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2"/>
            <a:stretch/>
          </p:blipFill>
          <p:spPr>
            <a:xfrm>
              <a:off x="6248520" y="4800600"/>
              <a:ext cx="2286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3"/>
            <a:stretch/>
          </p:blipFill>
          <p:spPr>
            <a:xfrm>
              <a:off x="762120" y="4800600"/>
              <a:ext cx="2514600" cy="1306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8001000" cy="5105520"/>
          </a:xfrm>
          <a:prstGeom prst="rect">
            <a:avLst/>
          </a:prstGeom>
          <a:ln w="0">
            <a:noFill/>
          </a:ln>
        </p:spPr>
      </p:pic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133360" y="2362320"/>
            <a:ext cx="601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黑体"/>
              </a:rPr>
              <a:t>再读课文，提出问题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2120760" y="3795840"/>
            <a:ext cx="601056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你还有哪些不理解的句子或不明白的问题？先在小组内交流，解决不了的提出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5-07T12:13:52Z</dcterms:modified>
  <cp:revision>6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