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E4F0-B168-47F9-BD5B-788B700DC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8C6A-5200-407A-926A-76296872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112B-B051-48BA-AB23-43BE1061D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B142-7AB7-4738-AE97-1BD96A600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E1C6-56D5-4A20-B09E-B198044B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4EB0-3314-44F0-8F5B-6DE17F47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B5A0-1C50-4739-B5D9-03787D9A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EED8-F04B-4F7C-9B06-522E1A05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A71B-F3EF-4A0A-8DF8-40A632D8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0E6F-67F6-4548-8727-DA0D376C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3933-EEA5-4340-813A-F007D844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B4C6-3F13-43B0-AF3D-C89D65A9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5E7E-64D8-4D43-A98D-DC6C77E2B3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000680" y="414324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572000" y="492912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清新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571680" y="425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149760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42836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62125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87696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62125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22831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42836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94860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27835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62125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42836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449784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94860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6500880" y="38577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16405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4"/>
          <p:cNvSpPr/>
          <p:nvPr/>
        </p:nvSpPr>
        <p:spPr>
          <a:xfrm>
            <a:off x="44978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5643720" y="4500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25689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54266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34261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948600" y="568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66409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4283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27835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05-29T08:16:34Z</dcterms:modified>
  <cp:revision>44</cp:revision>
  <dc:subject/>
  <dc:title>幻灯片 1</dc:title>
</cp:coreProperties>
</file>