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2E1-E4D1-45BF-912C-F6F19C60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E18-D5A2-4D74-AE6B-D09B0252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1FA-67E2-4201-A100-F640E5E1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D07-F7A2-4BE2-A47F-33F342DD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F7A-BC5F-419D-9ACB-B71AC032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068-FEDE-4A9D-A940-2C75BB6F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372-377C-4DFD-BA26-98B9D2B8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540-6A3C-4DA0-9E7B-9372040B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C8F-F1BC-4031-8D77-809F394C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AE5-F303-47B7-ABCB-11BE9B2A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DDA-C92A-45AE-96FC-14CC6F15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A83-41AF-497A-8D2C-688E0BD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B46E-844F-40A7-8676-A2A8A81950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221940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307188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唯美浪漫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85840" y="142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426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35492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140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734040" y="210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685800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997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5640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02360" y="210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4978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711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139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783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1283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7364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35796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711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87696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568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99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7140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7835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4-17T07:51:42Z</dcterms:modified>
  <cp:revision>41</cp:revision>
  <dc:subject/>
  <dc:title>幻灯片 1</dc:title>
</cp:coreProperties>
</file>