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1B2-62BC-4BEC-8AA9-49E06731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2A5-E3B2-4AD5-B267-D08744B6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D94-4EE4-427E-B137-E6C42F4E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FA9-B648-4CDC-8AEF-5EF7652A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26C-A6B0-4695-BCF0-4272AD6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6AD-6547-43F1-9FA8-32430834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63E-FF96-42DE-AB39-34791D9A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468-6BEC-49B4-A40F-24075CE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F9D-DAEC-4D01-8A71-5AFCAC64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D7C-6BFF-4D0A-AC11-87B715B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EF2-3BBF-4089-9BEB-23A8E9C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8C6-BC91-4F01-B221-1F5B4F9A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74F4-57F5-4DB8-8BB0-CF95E3FE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0851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4280" y="1262160"/>
            <a:ext cx="6715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44:52Z</dcterms:created>
  <dc:creator>Administrator</dc:creator>
  <dc:description/>
  <dc:language>en-US</dc:language>
  <cp:lastModifiedBy/>
  <dcterms:modified xsi:type="dcterms:W3CDTF">2015-07-22T02:51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