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A7745-1FE9-4957-96B1-1FA4C37D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FBDC5-7963-44A7-BCF6-5A30837ECF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0083BB-D020-4A86-BE92-2C6009ABC3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F58-0905-4BE0-B7F7-FC572E7F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8560" y="399240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D86-033C-4932-AC3B-157EE0F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2580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90C-C4CF-4E55-8504-0D26B8E5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804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2856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9804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A23-3383-4923-A122-7B31FA5B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0F71-CB45-4731-87FA-181F68C4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95F-DBE3-4E1A-9F43-D96E0F9E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750-2C5A-49EB-8A05-2102F5E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3A1-7FC8-442E-B62C-8C9126D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629-9C90-4848-B0DE-33D5B43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785240" y="176040"/>
            <a:ext cx="6861960" cy="27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4FC-C1FD-4573-A855-B28FD76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782-913B-4632-83A6-B830D8B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1B4-62C0-41AC-BB81-AB5C5F7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580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51AD-E5AC-4730-9C04-8FB89D3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4920-1035-47BF-B313-4B925A5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8560" y="399240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F3D-B597-416B-9623-7C925989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580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7B71-C513-48C6-869F-B3225AA1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9804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67880" y="142884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2856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9804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67880" y="3992400"/>
            <a:ext cx="2637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C470-6A01-4840-B439-9762E5DC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136-0207-48F5-99F9-000B134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E44-5133-4EC6-9D96-5D9D993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088-2E6F-45AF-8543-27E285B5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785240" y="176040"/>
            <a:ext cx="6861960" cy="27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E9C-31B7-4227-A2A2-E49A288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BBA-65D2-4712-9126-AF1A500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49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25800" y="399240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74F-4C6E-439B-AC9A-3ADD312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5800" y="1428840"/>
            <a:ext cx="399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560" y="3992400"/>
            <a:ext cx="8191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8CF-731B-44B1-8904-E5FE686D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1" name="Rectangle 16" hidden="1"/>
          <p:cNvSpPr/>
          <p:nvPr/>
        </p:nvSpPr>
        <p:spPr>
          <a:xfrm>
            <a:off x="0" y="888480"/>
            <a:ext cx="1402920" cy="35892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2" name="Rectangle 18" hidden="1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3" name="Rectangle 19" hidden="1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4" name="Rectangle 22" hidden="1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pic>
        <p:nvPicPr>
          <p:cNvPr id="5" name="Picture 32" descr="021123"/>
          <p:cNvPicPr/>
          <p:nvPr/>
        </p:nvPicPr>
        <p:blipFill>
          <a:blip r:embed="rId2"/>
          <a:srcRect l="6173" t="6934" r="0" b="0"/>
          <a:stretch/>
        </p:blipFill>
        <p:spPr>
          <a:xfrm>
            <a:off x="-17280" y="-17280"/>
            <a:ext cx="2167920" cy="1317960"/>
          </a:xfrm>
          <a:prstGeom prst="rect">
            <a:avLst/>
          </a:prstGeom>
          <a:ln w="0">
            <a:noFill/>
          </a:ln>
        </p:spPr>
      </p:pic>
      <p:sp>
        <p:nvSpPr>
          <p:cNvPr id="6" name="矩形 6"/>
          <p:cNvSpPr/>
          <p:nvPr/>
        </p:nvSpPr>
        <p:spPr>
          <a:xfrm>
            <a:off x="-1440" y="0"/>
            <a:ext cx="9145080" cy="4933440"/>
          </a:xfrm>
          <a:prstGeom prst="rect">
            <a:avLst/>
          </a:prstGeom>
          <a:pattFill prst="wdUpDiag">
            <a:fgClr>
              <a:srgbClr val="ebe7cd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-1440" y="5157720"/>
            <a:ext cx="9145080" cy="170784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1270080" y="4933800"/>
            <a:ext cx="7873560" cy="223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3240" y="4935600"/>
            <a:ext cx="1282320" cy="22176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10" name="Rectangle 24"/>
          <p:cNvSpPr/>
          <p:nvPr/>
        </p:nvSpPr>
        <p:spPr>
          <a:xfrm flipH="1">
            <a:off x="8221680" y="0"/>
            <a:ext cx="95040" cy="206028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250920" y="260280"/>
            <a:ext cx="8569080" cy="439236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pic>
        <p:nvPicPr>
          <p:cNvPr id="12" name="Picture 33" descr="2006112805939354"/>
          <p:cNvPicPr/>
          <p:nvPr/>
        </p:nvPicPr>
        <p:blipFill>
          <a:blip r:embed="rId3"/>
          <a:stretch/>
        </p:blipFill>
        <p:spPr>
          <a:xfrm>
            <a:off x="0" y="3519360"/>
            <a:ext cx="1618920" cy="1406160"/>
          </a:xfrm>
          <a:prstGeom prst="rect">
            <a:avLst/>
          </a:prstGeom>
          <a:ln w="0">
            <a:noFill/>
          </a:ln>
        </p:spPr>
      </p:pic>
      <p:sp>
        <p:nvSpPr>
          <p:cNvPr id="13" name="Rectangle 26"/>
          <p:cNvSpPr/>
          <p:nvPr/>
        </p:nvSpPr>
        <p:spPr>
          <a:xfrm>
            <a:off x="7775640" y="907920"/>
            <a:ext cx="1368000" cy="143964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pic>
        <p:nvPicPr>
          <p:cNvPr id="14" name="Picture 32" descr="021123"/>
          <p:cNvPicPr/>
          <p:nvPr/>
        </p:nvPicPr>
        <p:blipFill>
          <a:blip r:embed="rId4"/>
          <a:stretch/>
        </p:blipFill>
        <p:spPr>
          <a:xfrm>
            <a:off x="971640" y="4221000"/>
            <a:ext cx="3526920" cy="216180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442ACB-9F8B-4544-BC66-165F18F36E5E}" type="slidenum"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1428120" y="2060640"/>
            <a:ext cx="628992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</a:pPr>
            <a:r>
              <a:rPr b="1" lang="zh-CN" sz="3600" spc="-1" strike="noStrike">
                <a:solidFill>
                  <a:schemeClr val="accent1"/>
                </a:solidFill>
                <a:latin typeface="Broadway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5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0" y="888480"/>
            <a:ext cx="1402920" cy="35892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Arial"/>
              <a:ea typeface="宋体"/>
            </a:endParaRPr>
          </a:p>
        </p:txBody>
      </p:sp>
      <p:pic>
        <p:nvPicPr>
          <p:cNvPr id="61" name="Picture 32" descr="021123"/>
          <p:cNvPicPr/>
          <p:nvPr/>
        </p:nvPicPr>
        <p:blipFill>
          <a:blip r:embed="rId2"/>
          <a:srcRect l="6173" t="6934" r="0" b="0"/>
          <a:stretch/>
        </p:blipFill>
        <p:spPr>
          <a:xfrm>
            <a:off x="-17280" y="-17280"/>
            <a:ext cx="2167920" cy="1317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800" spc="-1" strike="noStrike">
                <a:solidFill>
                  <a:schemeClr val="accent1"/>
                </a:solidFill>
                <a:latin typeface="Broadway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dcab48"/>
              </a:buClr>
              <a:buSzPct val="70000"/>
              <a:buFont typeface="Webdings" charset="2"/>
              <a:buChar char=""/>
            </a:pPr>
            <a:r>
              <a:rPr b="0" lang="zh-CN" sz="2000" spc="-1" strike="noStrike">
                <a:solidFill>
                  <a:schemeClr val="accent2">
                    <a:lumMod val="75000"/>
                  </a:schemeClr>
                </a:solidFill>
                <a:latin typeface="Calibri"/>
                <a:ea typeface="幼圆"/>
              </a:rPr>
              <a:t>单击此处编辑母版文本样式</a:t>
            </a: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</a:endParaRPr>
          </a:p>
          <a:p>
            <a:pPr lvl="1" marL="357120" indent="-357120">
              <a:lnSpc>
                <a:spcPct val="130000"/>
              </a:lnSpc>
              <a:spcBef>
                <a:spcPts val="499"/>
              </a:spcBef>
              <a:buClr>
                <a:srgbClr val="808080"/>
              </a:buClr>
              <a:buFont typeface="Calibri"/>
              <a:buChar char=" "/>
            </a:pPr>
            <a:r>
              <a:rPr b="0" lang="zh-CN" sz="1400" spc="-1" strike="noStrike">
                <a:solidFill>
                  <a:srgbClr val="808080"/>
                </a:solidFill>
                <a:latin typeface="Calibri"/>
                <a:ea typeface="幼圆"/>
              </a:rPr>
              <a:t>第二级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16700F-68C3-4F8A-9C3D-4A22948A426B}" type="slidenum"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120" y="2060640"/>
            <a:ext cx="628992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>
              <a:buNone/>
            </a:pPr>
            <a:endParaRPr b="1" lang="en-US" sz="3600" spc="-1" strike="noStrike">
              <a:solidFill>
                <a:schemeClr val="accent1"/>
              </a:solidFill>
              <a:latin typeface="Broadway"/>
              <a:ea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8120" y="2917440"/>
            <a:ext cx="62899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808080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5240" y="176040"/>
            <a:ext cx="6861960" cy="59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800" spc="-1" strike="noStrike">
              <a:solidFill>
                <a:schemeClr val="accent1"/>
              </a:solidFill>
              <a:latin typeface="Broadway"/>
              <a:ea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428840"/>
            <a:ext cx="8191080" cy="49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chemeClr val="accent2">
                  <a:lumMod val="75000"/>
                </a:schemeClr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000120141119A14PPBG">
  <a:themeElements>
    <a:clrScheme name="自定义 33">
      <a:dk1>
        <a:srgbClr val="5f5f5f"/>
      </a:dk1>
      <a:lt1>
        <a:srgbClr val="ffffff"/>
      </a:lt1>
      <a:dk2>
        <a:srgbClr val="4d4d4d"/>
      </a:dk2>
      <a:lt2>
        <a:srgbClr val="ffffff"/>
      </a:lt2>
      <a:accent1>
        <a:srgbClr val="e37621"/>
      </a:accent1>
      <a:accent2>
        <a:srgbClr val="bcbf3b"/>
      </a:accent2>
      <a:accent3>
        <a:srgbClr val="dcab48"/>
      </a:accent3>
      <a:accent4>
        <a:srgbClr val="367268"/>
      </a:accent4>
      <a:accent5>
        <a:srgbClr val="00b0f0"/>
      </a:accent5>
      <a:accent6>
        <a:srgbClr val="b84d30"/>
      </a:accent6>
      <a:hlink>
        <a:srgbClr val="f3f1ec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000120141119A14PPBG">
  <a:themeElements>
    <a:clrScheme name="自定义 33">
      <a:dk1>
        <a:srgbClr val="5f5f5f"/>
      </a:dk1>
      <a:lt1>
        <a:srgbClr val="ffffff"/>
      </a:lt1>
      <a:dk2>
        <a:srgbClr val="4d4d4d"/>
      </a:dk2>
      <a:lt2>
        <a:srgbClr val="ffffff"/>
      </a:lt2>
      <a:accent1>
        <a:srgbClr val="e37621"/>
      </a:accent1>
      <a:accent2>
        <a:srgbClr val="bcbf3b"/>
      </a:accent2>
      <a:accent3>
        <a:srgbClr val="dcab48"/>
      </a:accent3>
      <a:accent4>
        <a:srgbClr val="367268"/>
      </a:accent4>
      <a:accent5>
        <a:srgbClr val="00b0f0"/>
      </a:accent5>
      <a:accent6>
        <a:srgbClr val="b84d30"/>
      </a:accent6>
      <a:hlink>
        <a:srgbClr val="f3f1ec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fffff"/>
      </a:lt2>
      <a:accent1>
        <a:srgbClr val="e37621"/>
      </a:accent1>
      <a:accent2>
        <a:srgbClr val="bcbf3b"/>
      </a:accent2>
      <a:accent3>
        <a:srgbClr val="dcab48"/>
      </a:accent3>
      <a:accent4>
        <a:srgbClr val="367268"/>
      </a:accent4>
      <a:accent5>
        <a:srgbClr val="00b0f0"/>
      </a:accent5>
      <a:accent6>
        <a:srgbClr val="b84d30"/>
      </a:accent6>
      <a:hlink>
        <a:srgbClr val="f3f1ec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000120141119A14PPBG</Template>
  <TotalTime>278</TotalTime>
  <Application>LibreOffice/7.4.7.2$Linux_X86_64 LibreOffice_project/40$Build-2</Application>
  <AppVersion>15.0000</AppVersion>
  <Words>2</Words>
  <Paragraphs>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lichun zhou</cp:lastModifiedBy>
  <dcterms:modified xsi:type="dcterms:W3CDTF">2014-12-09T06:34:51Z</dcterms:modified>
  <cp:revision>117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  <property fmtid="{D5CDD505-2E9C-101B-9397-08002B2CF9AE}" pid="5" name="fileid">
    <vt:lpwstr>520037</vt:lpwstr>
  </property>
  <property fmtid="{D5CDD505-2E9C-101B-9397-08002B2CF9AE}" pid="6" name="name">
    <vt:lpwstr>A000120141119A14PPBG.pptx</vt:lpwstr>
  </property>
  <property fmtid="{D5CDD505-2E9C-101B-9397-08002B2CF9AE}" pid="7" name="关键字">
    <vt:lpwstr>PPT背景模板 V2007 标屏 炫丽多彩 多色 红 红色 礼品 礼物 节日 公仔 娃娃</vt:lpwstr>
  </property>
  <property fmtid="{D5CDD505-2E9C-101B-9397-08002B2CF9AE}" pid="8" name="标题">
    <vt:lpwstr>节日礼品_A000120141119A14PPBG</vt:lpwstr>
  </property>
  <property fmtid="{D5CDD505-2E9C-101B-9397-08002B2CF9AE}" pid="9" name="模板文件">
    <vt:lpwstr>A000120141119A14PPBG.pptx</vt:lpwstr>
  </property>
</Properties>
</file>