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D927-961F-47A9-B6EE-96E1F55B5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1676-F9FA-4EB1-8952-546DEC9D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5FE7-04EF-43AE-B46B-FDB9F8A1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7A6F-F514-45B9-A493-537009186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6715-DFA9-49ED-B35A-78287F14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821C-5789-4771-B531-35B108CC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E4FE-963E-4C60-A05F-4FE7BA5E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C8A0-2265-42E3-BC54-38FE3DD1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A2F3-AB56-4BF1-952D-B1E2F677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C79A-7A6F-42DD-A3D9-4864F491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D7AB-5EA7-40D3-A25B-61A5CF13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C294-0E43-498A-A0C1-C2E6527F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16CF-2D6C-4FB6-ABBB-E9DED1A93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5.png"/><Relationship Id="rId21" Type="http://schemas.openxmlformats.org/officeDocument/2006/relationships/image" Target="../media/image19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image" Target="../media/image22.png"/><Relationship Id="rId25" Type="http://schemas.openxmlformats.org/officeDocument/2006/relationships/image" Target="../media/image23.png"/><Relationship Id="rId26" Type="http://schemas.openxmlformats.org/officeDocument/2006/relationships/image" Target="../media/image24.png"/><Relationship Id="rId27" Type="http://schemas.openxmlformats.org/officeDocument/2006/relationships/image" Target="../media/image25.png"/><Relationship Id="rId28" Type="http://schemas.openxmlformats.org/officeDocument/2006/relationships/image" Target="../media/image26.png"/><Relationship Id="rId29" Type="http://schemas.openxmlformats.org/officeDocument/2006/relationships/image" Target="../media/image27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1.png"/><Relationship Id="rId5" Type="http://schemas.openxmlformats.org/officeDocument/2006/relationships/image" Target="../media/image2.png"/><Relationship Id="rId6" Type="http://schemas.openxmlformats.org/officeDocument/2006/relationships/image" Target="../media/image41.png"/><Relationship Id="rId7" Type="http://schemas.openxmlformats.org/officeDocument/2006/relationships/image" Target="../media/image2.png"/><Relationship Id="rId8" Type="http://schemas.openxmlformats.org/officeDocument/2006/relationships/image" Target="../media/image41.png"/><Relationship Id="rId9" Type="http://schemas.openxmlformats.org/officeDocument/2006/relationships/image" Target="../media/image2.png"/><Relationship Id="rId10" Type="http://schemas.openxmlformats.org/officeDocument/2006/relationships/image" Target="../media/image41.png"/><Relationship Id="rId11" Type="http://schemas.openxmlformats.org/officeDocument/2006/relationships/image" Target="../media/image2.png"/><Relationship Id="rId12" Type="http://schemas.openxmlformats.org/officeDocument/2006/relationships/image" Target="../media/image41.png"/><Relationship Id="rId13" Type="http://schemas.openxmlformats.org/officeDocument/2006/relationships/image" Target="../media/image2.png"/><Relationship Id="rId14" Type="http://schemas.openxmlformats.org/officeDocument/2006/relationships/image" Target="../media/image41.png"/><Relationship Id="rId15" Type="http://schemas.openxmlformats.org/officeDocument/2006/relationships/image" Target="../media/image2.png"/><Relationship Id="rId16" Type="http://schemas.openxmlformats.org/officeDocument/2006/relationships/image" Target="../media/image41.png"/><Relationship Id="rId17" Type="http://schemas.openxmlformats.org/officeDocument/2006/relationships/image" Target="../media/image2.png"/><Relationship Id="rId18" Type="http://schemas.openxmlformats.org/officeDocument/2006/relationships/image" Target="../media/image41.png"/><Relationship Id="rId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9.jpeg"/><Relationship Id="rId4" Type="http://schemas.openxmlformats.org/officeDocument/2006/relationships/image" Target="../media/image39.jpe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1279440" y="1764360"/>
            <a:ext cx="4415400" cy="4817520"/>
            <a:chOff x="-1279440" y="1764360"/>
            <a:chExt cx="4415400" cy="4817520"/>
          </a:xfrm>
        </p:grpSpPr>
        <p:pic>
          <p:nvPicPr>
            <p:cNvPr id="42" name="Picture 64" descr="88副本"/>
            <p:cNvPicPr/>
            <p:nvPr/>
          </p:nvPicPr>
          <p:blipFill>
            <a:blip r:embed="rId2"/>
            <a:stretch/>
          </p:blipFill>
          <p:spPr>
            <a:xfrm rot="7338600">
              <a:off x="-1010880" y="2757960"/>
              <a:ext cx="3878280" cy="27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Freeform 65"/>
            <p:cNvSpPr/>
            <p:nvPr/>
          </p:nvSpPr>
          <p:spPr>
            <a:xfrm>
              <a:off x="366120" y="3778200"/>
              <a:ext cx="538920" cy="754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66"/>
            <p:cNvSpPr/>
            <p:nvPr/>
          </p:nvSpPr>
          <p:spPr>
            <a:xfrm>
              <a:off x="260280" y="3692520"/>
              <a:ext cx="142200" cy="1681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7"/>
            <p:cNvSpPr/>
            <p:nvPr/>
          </p:nvSpPr>
          <p:spPr>
            <a:xfrm>
              <a:off x="390240" y="3620880"/>
              <a:ext cx="97560" cy="1684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68"/>
            <p:cNvSpPr/>
            <p:nvPr/>
          </p:nvSpPr>
          <p:spPr>
            <a:xfrm>
              <a:off x="1109520" y="4138560"/>
              <a:ext cx="1182600" cy="298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69"/>
            <p:cNvSpPr/>
            <p:nvPr/>
          </p:nvSpPr>
          <p:spPr>
            <a:xfrm>
              <a:off x="834480" y="5516640"/>
              <a:ext cx="251280" cy="10652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70"/>
            <p:cNvSpPr/>
            <p:nvPr/>
          </p:nvSpPr>
          <p:spPr>
            <a:xfrm>
              <a:off x="940320" y="5589720"/>
              <a:ext cx="513720" cy="8632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71"/>
            <p:cNvSpPr/>
            <p:nvPr/>
          </p:nvSpPr>
          <p:spPr>
            <a:xfrm>
              <a:off x="690480" y="3500280"/>
              <a:ext cx="537480" cy="4809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2"/>
            <p:cNvSpPr/>
            <p:nvPr/>
          </p:nvSpPr>
          <p:spPr>
            <a:xfrm>
              <a:off x="834480" y="3692520"/>
              <a:ext cx="357120" cy="16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73"/>
            <p:cNvSpPr/>
            <p:nvPr/>
          </p:nvSpPr>
          <p:spPr>
            <a:xfrm>
              <a:off x="690480" y="3005280"/>
              <a:ext cx="358560" cy="2887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74"/>
            <p:cNvSpPr/>
            <p:nvPr/>
          </p:nvSpPr>
          <p:spPr>
            <a:xfrm>
              <a:off x="1081080" y="2997000"/>
              <a:ext cx="358560" cy="2890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75"/>
            <p:cNvSpPr/>
            <p:nvPr/>
          </p:nvSpPr>
          <p:spPr>
            <a:xfrm>
              <a:off x="816840" y="2349360"/>
              <a:ext cx="126360" cy="5209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76"/>
            <p:cNvSpPr/>
            <p:nvPr/>
          </p:nvSpPr>
          <p:spPr>
            <a:xfrm>
              <a:off x="1043280" y="2279520"/>
              <a:ext cx="177120" cy="5335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7"/>
            <p:cNvSpPr/>
            <p:nvPr/>
          </p:nvSpPr>
          <p:spPr>
            <a:xfrm>
              <a:off x="1049400" y="2373120"/>
              <a:ext cx="343080" cy="565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78840" y="1690200"/>
            <a:ext cx="4424760" cy="4819680"/>
            <a:chOff x="78840" y="1690200"/>
            <a:chExt cx="4424760" cy="4819680"/>
          </a:xfrm>
        </p:grpSpPr>
        <p:pic>
          <p:nvPicPr>
            <p:cNvPr id="57" name="Picture 49" descr="88副本"/>
            <p:cNvPicPr/>
            <p:nvPr/>
          </p:nvPicPr>
          <p:blipFill>
            <a:blip r:embed="rId3"/>
            <a:stretch/>
          </p:blipFill>
          <p:spPr>
            <a:xfrm rot="7338600">
              <a:off x="352080" y="2681280"/>
              <a:ext cx="3877920" cy="27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Freeform 50"/>
            <p:cNvSpPr/>
            <p:nvPr/>
          </p:nvSpPr>
          <p:spPr>
            <a:xfrm>
              <a:off x="1726920" y="3706560"/>
              <a:ext cx="541440" cy="7538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51"/>
            <p:cNvSpPr/>
            <p:nvPr/>
          </p:nvSpPr>
          <p:spPr>
            <a:xfrm>
              <a:off x="1620720" y="3620880"/>
              <a:ext cx="142920" cy="167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52"/>
            <p:cNvSpPr/>
            <p:nvPr/>
          </p:nvSpPr>
          <p:spPr>
            <a:xfrm>
              <a:off x="1751040" y="3549240"/>
              <a:ext cx="98280" cy="1681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53"/>
            <p:cNvSpPr/>
            <p:nvPr/>
          </p:nvSpPr>
          <p:spPr>
            <a:xfrm>
              <a:off x="2473200" y="4066920"/>
              <a:ext cx="1187640" cy="298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54"/>
            <p:cNvSpPr/>
            <p:nvPr/>
          </p:nvSpPr>
          <p:spPr>
            <a:xfrm>
              <a:off x="2197080" y="5445000"/>
              <a:ext cx="252360" cy="10648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55"/>
            <p:cNvSpPr/>
            <p:nvPr/>
          </p:nvSpPr>
          <p:spPr>
            <a:xfrm>
              <a:off x="2303280" y="5518080"/>
              <a:ext cx="515880" cy="8629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56"/>
            <p:cNvSpPr/>
            <p:nvPr/>
          </p:nvSpPr>
          <p:spPr>
            <a:xfrm>
              <a:off x="2052360" y="3428640"/>
              <a:ext cx="540000" cy="480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57"/>
            <p:cNvSpPr/>
            <p:nvPr/>
          </p:nvSpPr>
          <p:spPr>
            <a:xfrm>
              <a:off x="2197080" y="3620880"/>
              <a:ext cx="358560" cy="167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58"/>
            <p:cNvSpPr/>
            <p:nvPr/>
          </p:nvSpPr>
          <p:spPr>
            <a:xfrm>
              <a:off x="2052360" y="2933640"/>
              <a:ext cx="360360" cy="28836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59"/>
            <p:cNvSpPr/>
            <p:nvPr/>
          </p:nvSpPr>
          <p:spPr>
            <a:xfrm>
              <a:off x="2444760" y="2925360"/>
              <a:ext cx="360360" cy="2887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60"/>
            <p:cNvSpPr/>
            <p:nvPr/>
          </p:nvSpPr>
          <p:spPr>
            <a:xfrm>
              <a:off x="2179440" y="2277720"/>
              <a:ext cx="127080" cy="520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61"/>
            <p:cNvSpPr/>
            <p:nvPr/>
          </p:nvSpPr>
          <p:spPr>
            <a:xfrm>
              <a:off x="2406600" y="2207880"/>
              <a:ext cx="177840" cy="533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62"/>
            <p:cNvSpPr/>
            <p:nvPr/>
          </p:nvSpPr>
          <p:spPr>
            <a:xfrm>
              <a:off x="2412720" y="2301480"/>
              <a:ext cx="344520" cy="5648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" name="Picture 2" descr="2"/>
          <p:cNvPicPr/>
          <p:nvPr/>
        </p:nvPicPr>
        <p:blipFill>
          <a:blip r:embed="rId4"/>
          <a:stretch/>
        </p:blipFill>
        <p:spPr>
          <a:xfrm>
            <a:off x="324000" y="433440"/>
            <a:ext cx="1403280" cy="1130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1"/>
          <p:cNvPicPr/>
          <p:nvPr/>
        </p:nvPicPr>
        <p:blipFill>
          <a:blip r:embed="rId5"/>
          <a:stretch/>
        </p:blipFill>
        <p:spPr>
          <a:xfrm>
            <a:off x="0" y="433440"/>
            <a:ext cx="744480" cy="1439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3"/>
          <p:cNvPicPr/>
          <p:nvPr/>
        </p:nvPicPr>
        <p:blipFill>
          <a:blip r:embed="rId6"/>
          <a:stretch/>
        </p:blipFill>
        <p:spPr>
          <a:xfrm>
            <a:off x="179280" y="1198440"/>
            <a:ext cx="1008000" cy="625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4"/>
          <p:cNvPicPr/>
          <p:nvPr/>
        </p:nvPicPr>
        <p:blipFill>
          <a:blip r:embed="rId7"/>
          <a:stretch/>
        </p:blipFill>
        <p:spPr>
          <a:xfrm>
            <a:off x="755640" y="622440"/>
            <a:ext cx="576360" cy="312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5"/>
          <p:cNvPicPr/>
          <p:nvPr/>
        </p:nvPicPr>
        <p:blipFill>
          <a:blip r:embed="rId8"/>
          <a:stretch/>
        </p:blipFill>
        <p:spPr>
          <a:xfrm>
            <a:off x="1403280" y="1628640"/>
            <a:ext cx="1562040" cy="675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6"/>
          <p:cNvPicPr/>
          <p:nvPr/>
        </p:nvPicPr>
        <p:blipFill>
          <a:blip r:embed="rId9"/>
          <a:stretch/>
        </p:blipFill>
        <p:spPr>
          <a:xfrm>
            <a:off x="1476360" y="1413000"/>
            <a:ext cx="1368360" cy="250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7"/>
          <p:cNvPicPr/>
          <p:nvPr/>
        </p:nvPicPr>
        <p:blipFill>
          <a:blip r:embed="rId10"/>
          <a:stretch/>
        </p:blipFill>
        <p:spPr>
          <a:xfrm>
            <a:off x="2195640" y="1773360"/>
            <a:ext cx="379440" cy="369720"/>
          </a:xfrm>
          <a:prstGeom prst="rect">
            <a:avLst/>
          </a:prstGeom>
          <a:ln w="0">
            <a:noFill/>
          </a:ln>
        </p:spPr>
      </p:pic>
      <p:sp>
        <p:nvSpPr>
          <p:cNvPr id="78" name="Line 9"/>
          <p:cNvSpPr/>
          <p:nvPr/>
        </p:nvSpPr>
        <p:spPr>
          <a:xfrm flipV="1">
            <a:off x="2700360" y="2060640"/>
            <a:ext cx="15408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10"/>
          <p:cNvPicPr/>
          <p:nvPr/>
        </p:nvPicPr>
        <p:blipFill>
          <a:blip r:embed="rId11"/>
          <a:stretch/>
        </p:blipFill>
        <p:spPr>
          <a:xfrm>
            <a:off x="2698920" y="1127160"/>
            <a:ext cx="288720" cy="208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8"/>
          <p:cNvPicPr/>
          <p:nvPr/>
        </p:nvPicPr>
        <p:blipFill>
          <a:blip r:embed="rId12"/>
          <a:stretch/>
        </p:blipFill>
        <p:spPr>
          <a:xfrm>
            <a:off x="2266920" y="909720"/>
            <a:ext cx="360360" cy="384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9"/>
          <p:cNvPicPr/>
          <p:nvPr/>
        </p:nvPicPr>
        <p:blipFill>
          <a:blip r:embed="rId13"/>
          <a:stretch/>
        </p:blipFill>
        <p:spPr>
          <a:xfrm>
            <a:off x="2411280" y="838080"/>
            <a:ext cx="792360" cy="568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19"/>
          <p:cNvPicPr/>
          <p:nvPr/>
        </p:nvPicPr>
        <p:blipFill>
          <a:blip r:embed="rId14"/>
          <a:stretch/>
        </p:blipFill>
        <p:spPr>
          <a:xfrm>
            <a:off x="3490920" y="1701720"/>
            <a:ext cx="2016000" cy="933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16"/>
          <p:cNvPicPr/>
          <p:nvPr/>
        </p:nvPicPr>
        <p:blipFill>
          <a:blip r:embed="rId15"/>
          <a:stretch/>
        </p:blipFill>
        <p:spPr>
          <a:xfrm>
            <a:off x="3994200" y="879480"/>
            <a:ext cx="1141200" cy="779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5" descr="17"/>
          <p:cNvPicPr/>
          <p:nvPr/>
        </p:nvPicPr>
        <p:blipFill>
          <a:blip r:embed="rId16"/>
          <a:stretch/>
        </p:blipFill>
        <p:spPr>
          <a:xfrm>
            <a:off x="3635280" y="838080"/>
            <a:ext cx="1008000" cy="774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6" descr="18"/>
          <p:cNvPicPr/>
          <p:nvPr/>
        </p:nvPicPr>
        <p:blipFill>
          <a:blip r:embed="rId17"/>
          <a:stretch/>
        </p:blipFill>
        <p:spPr>
          <a:xfrm>
            <a:off x="3490920" y="1571760"/>
            <a:ext cx="1728720" cy="444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22"/>
          <p:cNvPicPr/>
          <p:nvPr/>
        </p:nvPicPr>
        <p:blipFill>
          <a:blip r:embed="rId18"/>
          <a:stretch/>
        </p:blipFill>
        <p:spPr>
          <a:xfrm>
            <a:off x="4282920" y="1125360"/>
            <a:ext cx="432000" cy="262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23"/>
          <p:cNvPicPr/>
          <p:nvPr/>
        </p:nvPicPr>
        <p:blipFill>
          <a:blip r:embed="rId19"/>
          <a:stretch/>
        </p:blipFill>
        <p:spPr>
          <a:xfrm>
            <a:off x="4498920" y="1341360"/>
            <a:ext cx="209520" cy="123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9" descr="3"/>
          <p:cNvPicPr/>
          <p:nvPr/>
        </p:nvPicPr>
        <p:blipFill>
          <a:blip r:embed="rId20"/>
          <a:stretch/>
        </p:blipFill>
        <p:spPr>
          <a:xfrm rot="8181600">
            <a:off x="3634920" y="1846080"/>
            <a:ext cx="997200" cy="618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0" descr="25"/>
          <p:cNvPicPr/>
          <p:nvPr/>
        </p:nvPicPr>
        <p:blipFill>
          <a:blip r:embed="rId21"/>
          <a:stretch/>
        </p:blipFill>
        <p:spPr>
          <a:xfrm>
            <a:off x="5940360" y="622440"/>
            <a:ext cx="865080" cy="614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1" descr="15"/>
          <p:cNvPicPr/>
          <p:nvPr/>
        </p:nvPicPr>
        <p:blipFill>
          <a:blip r:embed="rId22"/>
          <a:stretch/>
        </p:blipFill>
        <p:spPr>
          <a:xfrm>
            <a:off x="6516720" y="1486080"/>
            <a:ext cx="772920" cy="568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2" descr="21"/>
          <p:cNvPicPr/>
          <p:nvPr/>
        </p:nvPicPr>
        <p:blipFill>
          <a:blip r:embed="rId23"/>
          <a:stretch/>
        </p:blipFill>
        <p:spPr>
          <a:xfrm>
            <a:off x="6372360" y="1774800"/>
            <a:ext cx="217440" cy="96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3" descr="20"/>
          <p:cNvPicPr/>
          <p:nvPr/>
        </p:nvPicPr>
        <p:blipFill>
          <a:blip r:embed="rId24"/>
          <a:stretch/>
        </p:blipFill>
        <p:spPr>
          <a:xfrm>
            <a:off x="7307280" y="1701720"/>
            <a:ext cx="216000" cy="93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4" descr="27"/>
          <p:cNvPicPr/>
          <p:nvPr/>
        </p:nvPicPr>
        <p:blipFill>
          <a:blip r:embed="rId25"/>
          <a:stretch/>
        </p:blipFill>
        <p:spPr>
          <a:xfrm>
            <a:off x="5567400" y="1774800"/>
            <a:ext cx="3576600" cy="1158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5" descr="28"/>
          <p:cNvPicPr/>
          <p:nvPr/>
        </p:nvPicPr>
        <p:blipFill>
          <a:blip r:embed="rId26"/>
          <a:stretch/>
        </p:blipFill>
        <p:spPr>
          <a:xfrm>
            <a:off x="5292720" y="2062080"/>
            <a:ext cx="1440000" cy="970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6" descr="29"/>
          <p:cNvPicPr/>
          <p:nvPr/>
        </p:nvPicPr>
        <p:blipFill>
          <a:blip r:embed="rId27"/>
          <a:stretch/>
        </p:blipFill>
        <p:spPr>
          <a:xfrm>
            <a:off x="7524720" y="1198440"/>
            <a:ext cx="1619280" cy="1060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7" descr="30"/>
          <p:cNvPicPr/>
          <p:nvPr/>
        </p:nvPicPr>
        <p:blipFill>
          <a:blip r:embed="rId28"/>
          <a:stretch/>
        </p:blipFill>
        <p:spPr>
          <a:xfrm>
            <a:off x="6084720" y="1270080"/>
            <a:ext cx="1513080" cy="1165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8" descr="31"/>
          <p:cNvPicPr/>
          <p:nvPr/>
        </p:nvPicPr>
        <p:blipFill>
          <a:blip r:embed="rId29"/>
          <a:stretch/>
        </p:blipFill>
        <p:spPr>
          <a:xfrm>
            <a:off x="5508720" y="433440"/>
            <a:ext cx="2016000" cy="1165320"/>
          </a:xfrm>
          <a:prstGeom prst="rect">
            <a:avLst/>
          </a:prstGeom>
          <a:ln w="0">
            <a:noFill/>
          </a:ln>
        </p:spPr>
      </p:pic>
      <p:sp>
        <p:nvSpPr>
          <p:cNvPr id="98" name="Oval 29"/>
          <p:cNvSpPr/>
          <p:nvPr/>
        </p:nvSpPr>
        <p:spPr>
          <a:xfrm>
            <a:off x="8278920" y="-952560"/>
            <a:ext cx="865080" cy="863640"/>
          </a:xfrm>
          <a:prstGeom prst="ellipse">
            <a:avLst/>
          </a:prstGeom>
          <a:noFill/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30"/>
          <p:cNvSpPr/>
          <p:nvPr/>
        </p:nvSpPr>
        <p:spPr>
          <a:xfrm rot="20165400">
            <a:off x="9813960" y="7015320"/>
            <a:ext cx="196920" cy="36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2" descr="88副本"/>
          <p:cNvPicPr/>
          <p:nvPr/>
        </p:nvPicPr>
        <p:blipFill>
          <a:blip r:embed="rId30"/>
          <a:stretch/>
        </p:blipFill>
        <p:spPr>
          <a:xfrm rot="7338600">
            <a:off x="-368640" y="2752200"/>
            <a:ext cx="3878280" cy="2783160"/>
          </a:xfrm>
          <a:prstGeom prst="rect">
            <a:avLst/>
          </a:prstGeom>
          <a:ln w="0">
            <a:noFill/>
          </a:ln>
        </p:spPr>
      </p:pic>
      <p:sp>
        <p:nvSpPr>
          <p:cNvPr id="101" name="Freeform 33"/>
          <p:cNvSpPr/>
          <p:nvPr/>
        </p:nvSpPr>
        <p:spPr>
          <a:xfrm>
            <a:off x="1006560" y="3778200"/>
            <a:ext cx="541080" cy="75420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4"/>
          <p:cNvSpPr/>
          <p:nvPr/>
        </p:nvSpPr>
        <p:spPr>
          <a:xfrm>
            <a:off x="900000" y="3692520"/>
            <a:ext cx="142920" cy="16812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5"/>
          <p:cNvSpPr/>
          <p:nvPr/>
        </p:nvSpPr>
        <p:spPr>
          <a:xfrm>
            <a:off x="1030320" y="3621240"/>
            <a:ext cx="98280" cy="16812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36"/>
          <p:cNvSpPr/>
          <p:nvPr/>
        </p:nvSpPr>
        <p:spPr>
          <a:xfrm>
            <a:off x="1752480" y="4138560"/>
            <a:ext cx="1187640" cy="29844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37"/>
          <p:cNvSpPr/>
          <p:nvPr/>
        </p:nvSpPr>
        <p:spPr>
          <a:xfrm>
            <a:off x="1476360" y="5516640"/>
            <a:ext cx="252360" cy="106524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38"/>
          <p:cNvSpPr/>
          <p:nvPr/>
        </p:nvSpPr>
        <p:spPr>
          <a:xfrm>
            <a:off x="1582560" y="5589720"/>
            <a:ext cx="516240" cy="86364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9"/>
          <p:cNvSpPr/>
          <p:nvPr/>
        </p:nvSpPr>
        <p:spPr>
          <a:xfrm>
            <a:off x="1332000" y="3500280"/>
            <a:ext cx="539640" cy="48132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40"/>
          <p:cNvSpPr/>
          <p:nvPr/>
        </p:nvSpPr>
        <p:spPr>
          <a:xfrm>
            <a:off x="1476360" y="3692520"/>
            <a:ext cx="358920" cy="1681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1"/>
          <p:cNvSpPr/>
          <p:nvPr/>
        </p:nvSpPr>
        <p:spPr>
          <a:xfrm>
            <a:off x="1332000" y="3005280"/>
            <a:ext cx="360360" cy="288720"/>
          </a:xfrm>
          <a:prstGeom prst="pie">
            <a:avLst/>
          </a:prstGeom>
          <a:solidFill>
            <a:srgbClr val="ff000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2"/>
          <p:cNvSpPr/>
          <p:nvPr/>
        </p:nvSpPr>
        <p:spPr>
          <a:xfrm>
            <a:off x="1724040" y="2997360"/>
            <a:ext cx="360360" cy="288720"/>
          </a:xfrm>
          <a:prstGeom prst="pie">
            <a:avLst/>
          </a:prstGeom>
          <a:solidFill>
            <a:srgbClr val="ff000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43"/>
          <p:cNvSpPr/>
          <p:nvPr/>
        </p:nvSpPr>
        <p:spPr>
          <a:xfrm>
            <a:off x="1459080" y="2349360"/>
            <a:ext cx="126720" cy="52092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44"/>
          <p:cNvSpPr/>
          <p:nvPr/>
        </p:nvSpPr>
        <p:spPr>
          <a:xfrm>
            <a:off x="1685880" y="2279520"/>
            <a:ext cx="177840" cy="53352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45"/>
          <p:cNvSpPr/>
          <p:nvPr/>
        </p:nvSpPr>
        <p:spPr>
          <a:xfrm>
            <a:off x="1692360" y="2373480"/>
            <a:ext cx="344520" cy="56484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95640" y="3213000"/>
            <a:ext cx="514836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ff66"/>
                </a:solidFill>
                <a:latin typeface="Arial"/>
                <a:ea typeface="黑体"/>
              </a:rPr>
              <a:t>文化创意学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580000" y="5013360"/>
            <a:ext cx="185760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楷体"/>
              </a:rPr>
              <a:t>生活部</a:t>
            </a:r>
            <a:endParaRPr b="1" lang="en-US" sz="4800" spc="-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楷体"/>
              <a:ea typeface="楷体"/>
            </a:endParaRPr>
          </a:p>
        </p:txBody>
      </p:sp>
    </p:spTree>
  </p:cSld>
  <p:transition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2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2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2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2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2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3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207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08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210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1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39">
                                      <p:cBhvr>
                                        <p:cTn id="212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09 -0.06291 C -0.002389 -0.05782 -0.005519 -0.05388 -0.006729 -0.04856 C -0.007949 -0.0437 -0.008119 -0.03838 -0.010029 -0.03421 C -0.013849 -0.02518 -0.012289 -0.03004 -0.014719 -0.02032 C -0.013499 0.01625 -0.012289 0.05121 -0.008469 0.08686 C -0.009339 0.14311 0.005591 0.17621 -0.016279 0.20862 C -0.021659 0.2313 -0.022709 0.25862 -0.012979 0.27852 C -0.010899 0.31209 -0.011769 0.34588 -0.008469 0.37945 C -0.007429 0.38662 -0.003609 0.39311 -0.001869 0.40028 C -0.002219 0.41093 -0.003779 0.47737 -0.005169 0.49658 C -0.005859 0.50537 -0.014719 0.51787 -0.017839 0.52436 C -0.018889 0.52667 -0.021139 0.53153 -0.021139 0.53176 C -0.023749 0.54774 -0.040239 0.59449 -0.051349 0.59936 C -0.076869 0.61093 -0.104479 0.60399 -0.130859 0.60445 C -0.136769 0.60537 -0.142669 0.60491 -0.148399 0.60699 C -0.152049 0.60792 -0.159679 0.61579 -0.164199 0.61787 C -0.169229 0.62922 -0.172359 0.62621 -0.180169 0.63014 C -0.189549 0.65028 -0.176519 0.62343 -0.188159 0.64426 C -0.191629 0.65074 -0.193019 0.65862 -0.196139 0.6651 C -0.200659 0.68593 -0.193539 0.65237 -0.199269 0.68662 C -0.200139 0.69125 -0.202389 0.70074 -0.202389 0.70098 C -0.203429 0.73315 -0.204819 0.76602 -0.205859 0.79866 C -0.206729 0.83061 -0.206559 0.86255 -0.207429 0.89473 C -0.207769 0.90584 -0.215239 0.92528 -0.215239 0.92551 C -0.216799 0.96024 -0.210209 0.96533 -0.229479 0.97019 C -0.247179 0.96787 -0.264549 0.96625 -0.282079 0.96487 C -0.298569 0.96324 -0.331389 0.96024 -0.331389 0.9607 C -0.332949 0.95931 -0.334859 0.95977 -0.336069 0.95792 C -0.339019 0.95399 -0.342499 0.94357 -0.342499 0.9438 C -0.345269 0.920189 -0.347009 0.87644 -0.361589 0.86232 C -0.363849 0.85213 -0.367499 0.85213 -0.371319 0.84542 C -0.385029 0.82019 -0.404819 0.82459 -0.423569 0.8151 C -0.462109 0.8188 -0.502909 0.8276 -0.539889 0.8107 C -0.545099 0.80514 -0.551519 0.79681 -0.557249 0.7938 C -0.558299 0.79264 -0.559159 0.79056 -0.560729 0.78963 C -0.562109 0.78801 -0.565239 0.78963 -0.565409 0.78686 C -0.567319 0.76672 -0.565589 0.74635 -0.566979 0.72598 C -0.567149 0.72343 -0.569409 0.72181 -0.570099 0.71926 C -0.571319 0.71463 -0.572179 0.70931 -0.573229 0.70514 C -0.575479 0.69658 -0.584859 0.685 -0.586069 0.67459 C -0.586589 0.66787 -0.566629 0.63084 -0.566629 0.62436 E">
                                      <p:cBhvr>
                                        <p:cTn id="232" dur="5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48148E-006 C -0.00191 -0.02083 2.2222200000005E-006 -0.04259 -0.0125 -0.05463 C -0.01528 -0.06759 -0.02674 -0.07477 -0.03507 -0.08171 C -0.06111 -0.10371 -0.11702 -0.09746 -0.15018 -0.09977 C -0.16077 -0.10324 -0.17222 -0.10278 -0.18299 -0.10579 C -0.18941 -0.10741 -0.20139 -0.11482 -0.20139 -0.11458 C -0.21823 -0.13449 -0.24184 -0.14908 -0.26094 -0.1632 C -0.27049 -0.16991 -0.26528 -0.16991 -0.27535 -0.18102 C -0.27778 -0.18403 -0.28108 -0.18472 -0.28351 -0.18727 C -0.28802 -0.19167 -0.29549 -0.20648 -0.29792 -0.21134 C -0.30122 -0.23079 -0.30903 -0.24607 -0.3165 -0.2625 C -0.32205 -0.2956 -0.34479 -0.3125 -0.36163 -0.33171 C -0.379 -0.35139 -0.36441 -0.34306 -0.38212 -0.35579 C -0.44514 -0.40208 -0.51111 -0.39028 -0.58143 -0.3919 C -0.59271 -0.39607 -0.60625 -0.39537 -0.6165 -0.40417 C -0.62726 -0.41389 -0.6349 -0.42847 -0.64722 -0.43449 C -0.65469 -0.45046 -0.65834 -0.46829 -0.66979 -0.4794 C -0.67448 -0.49005 -0.67552 -0.49861 -0.68212 -0.50648 C -0.68507 -0.50996 -0.69427 -0.51366 -0.69427 -0.51829 E">
                                      <p:cBhvr>
                                        <p:cTn id="234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21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20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167 -0.094815 C -0.014167 -0.096389 -0.013276 -0.10071 -0.014167 -0.104259 C -0.015058 -0.107809 -0.018032 -0.112546 -0.019514 -0.116111 C -0.020995 -0.119676 -0.021863 -0.122485 -0.023056 -0.125648 C -0.024248 -0.128812 -0.025475 -0.131543 -0.026667 -0.135093 C -0.027859 -0.138642 -0.029028 -0.143395 -0.030208 -0.146944 C -0.031389 -0.150494 -0.032269 -0.153225 -0.03375 -0.156389 C -0.035232 -0.159552 -0.036725 -0.162762 -0.039097 -0.165926 C -0.04147 -0.16909 -0.045023 -0.172207 -0.047986 -0.17537 C -0.050949 -0.178534 -0.053912 -0.181744 -0.056875 -0.184907 C -0.059838 -0.188071 -0.063102 -0.191991 -0.065764 -0.194352 C -0.068426 -0.196713 -0.069294 -0.196713 -0.072847 -0.199074 C -0.0764 -0.201435 -0.08294 -0.206142 -0.087083 -0.208519 C -0.091227 -0.210895 -0.094745 -0.212145 -0.097708 -0.213333 C -0.100671 -0.214522 -0.102188 -0.214475 -0.104861 -0.215648 C -0.107535 -0.216821 -0.109907 -0.218395 -0.11375 -0.22037 C -0.117593 -0.222346 -0.123773 -0.225525 -0.127917 -0.2275 C -0.13206 -0.229475 -0.135347 -0.231435 -0.138611 -0.232222 C -0.141875 -0.233009 -0.144248 -0.232222 -0.1475 -0.232222 C -0.150752 -0.232222 -0.154873 -0.232222 -0.158125 -0.232222 C -0.161377 -0.232222 -0.164051 -0.231821 -0.167014 -0.232222 C -0.169977 -0.232623 -0.172338 -0.233827 -0.175903 -0.23463 C -0.179468 -0.235432 -0.185139 -0.236636 -0.188403 -0.237037 C -0.191667 -0.237438 -0.193125 -0.236651 -0.195486 -0.237037 C -0.197847 -0.237423 -0.200197 -0.238565 -0.202569 -0.239352 C -0.204942 -0.240139 -0.20735 -0.240972 -0.209722 -0.241759 C -0.212095 -0.242546 -0.214445 -0.2425 -0.216806 -0.244074 C -0.219167 -0.245648 -0.220926 -0.248426 -0.223889 -0.251204 C -0.226852 -0.253981 -0.23132 -0.257978 -0.234583 -0.260741 C -0.237847 -0.263503 -0.240509 -0.26463 -0.243472 -0.267778 C -0.246435 -0.270926 -0.249398 -0.275679 -0.252361 -0.27963 C -0.255324 -0.28358 -0.257998 -0.28713 -0.26125 -0.291481 C -0.264502 -0.295833 -0.268912 -0.301003 -0.271875 -0.305741 C -0.274838 -0.310478 -0.276655 -0.316358 -0.279028 -0.319907 C -0.2814 -0.323457 -0.28375 -0.323873 -0.286111 -0.327037 C -0.288472 -0.330201 -0.290822 -0.335725 -0.293194 -0.338889 C -0.295567 -0.342052 -0.297674 -0.343256 -0.300347 -0.346019 C -0.303021 -0.348781 -0.306273 -0.352701 -0.309236 -0.355463 C -0.312199 -0.358225 -0.315162 -0.361003 -0.318125 -0.362593 C -0.321088 -0.364182 -0.324051 -0.363812 -0.327014 -0.365 C -0.329977 -0.366188 -0.33265 -0.368549 -0.335903 -0.369722 C -0.339155 -0.370895 -0.342975 -0.370463 -0.346528 -0.372037 C -0.350081 -0.373611 -0.353669 -0.377577 -0.357222 -0.379167 C -0.360775 -0.380756 -0.364884 -0.381173 -0.367847 -0.381574 C -0.37081 -0.381975 -0.371736 -0.380787 -0.375 -0.381574 C -0.378264 -0.382361 -0.383588 -0.385108 -0.387431 -0.386296 C -0.391273 -0.387485 -0.394803 -0.387917 -0.398056 -0.388704 C -0.401308 -0.389491 -0.404271 -0.390633 -0.406944 -0.391019 C -0.409618 -0.391404 -0.411725 -0.390617 -0.414097 -0.391019 C -0.41647 -0.39142 -0.418519 -0.393025 -0.421181 -0.393426 C -0.423843 -0.393827 -0.427407 -0.393426 -0.430069 -0.393426 C -0.432732 -0.393426 -0.43478 -0.393426 -0.437153 -0.393426 C -0.439525 -0.393426 -0.441632 -0.393426 -0.444306 -0.393426 C -0.446979 -0.393426 -0.450232 -0.393426 -0.453194 -0.393426 C -0.456157 -0.393426 -0.45912 -0.393426 -0.462083 -0.393426 C -0.465046 -0.393426 -0.46831 -0.393426 -0.470972 -0.393426 C -0.473634 -0.393426 -0.475695 -0.393426 -0.478056 -0.393426 C -0.480417 -0.393426 -0.482477 -0.393426 -0.485139 -0.393426 C -0.487801 -0.393426 -0.491354 -0.393426 -0.494028 -0.393426 C -0.496701 -0.393426 -0.498808 -0.393426 -0.501181 -0.393426 C -0.503553 -0.393426 -0.505891 -0.393426 -0.508264 -0.393426 C -0.510637 -0.393426 -0.512755 -0.393426 -0.515417 -0.393426 C -0.518079 -0.393426 -0.521285 -0.393426 -0.524236 -0.393426 C -0.527188 -0.393426 -0.530162 -0.393426 -0.533125 -0.393426 C -0.536088 -0.393426 -0.53934 -0.393426 -0.542014 -0.393426 C -0.544688 -0.393426 -0.546204 -0.393426 -0.549167 -0.393426 C -0.55213 -0.393426 -0.556829 -0.393827 -0.559792 -0.393426 C -0.562755 -0.393025 -0.564271 -0.391806 -0.566944 -0.391019 C -0.569618 -0.390232 -0.572581 -0.38909 -0.575833 -0.388704 C -0.579086 -0.388318 -0.583495 -0.389105 -0.586458 -0.388704 C -0.589421 -0.388303 -0.590648 -0.387099 -0.593611 -0.386296 C -0.596574 -0.385494 -0.600984 -0.385077 -0.604236 -0.383889 C -0.607488 -0.382701 -0.609861 -0.381142 -0.613125 -0.379167 C -0.616389 -0.377191 -0.620856 -0.374398 -0.623819 -0.372037 C -0.626782 -0.369676 -0.628542 -0.366975 -0.630903 -0.365 C -0.633264 -0.363025 -0.635324 -0.362963 -0.637986 -0.360185 C -0.640648 -0.357407 -0.644502 -0.353071 -0.646875 -0.348333 C -0.649248 -0.343596 -0.65044 -0.336883 -0.652222 -0.331759 C -0.654005 -0.326636 -0.656678 -0.32233 -0.657569 -0.317593 C -0.658461 -0.312855 -0.657269 -0.308472 -0.657569 -0.303333 C -0.65787 -0.298194 -0.659074 -0.293472 -0.659375 -0.286759 C -0.659676 -0.280046 -0.659676 -0.271343 -0.659375 -0.263056 C -0.659074 -0.254769 -0.658762 -0.245324 -0.657569 -0.237037 C -0.656377 -0.22875 -0.654595 -0.222022 -0.652222 -0.213333 C -0.64985 -0.204645 -0.646586 -0.194784 -0.643333 -0.184907 C -0.640081 -0.175031 -0.635671 -0.162762 -0.632708 -0.154074 C -0.629745 -0.145386 -0.627928 -0.140278 -0.625556 -0.132778 C -0.623183 -0.125278 -0.621435 -0.115802 -0.618472 -0.109074 C -0.615509 -0.102346 -0.611042 -0.097546 -0.607778 -0.092407 C -0.604514 -0.087269 -0.602141 -0.082978 -0.598889 -0.078241 C -0.595637 -0.073503 -0.592708 -0.067932 -0.588264 -0.063981 C -0.58382 -0.060031 -0.577558 -0.057685 -0.572222 -0.054537 C -0.566887 -0.051389 -0.561574 -0.048256 -0.55625 -0.045093 C -0.550926 -0.041929 -0.545903 -0.038333 -0.540278 -0.035556 C -0.534653 -0.032778 -0.528125 -0.030401 -0.5225 -0.028426 C -0.516875 -0.026451 -0.512153 -0.024877 -0.506528 -0.023704 C -0.500903 -0.022531 -0.493495 -0.021775 -0.48875 -0.021389 C -0.484005 -0.021003 -0.48309 -0.02179 -0.478056 -0.021389 C -0.473021 -0.020988 -0.465058 -0.019383 -0.458542 -0.018981 C -0.452025 -0.01858 -0.445185 -0.018981 -0.438958 -0.018981 C -0.432732 -0.018981 -0.427107 -0.018981 -0.421181 -0.018981 C -0.415255 -0.018981 -0.408437 -0.01858 -0.403403 -0.018981 C -0.398368 -0.019383 -0.394225 -0.020201 -0.390972 -0.021389 C -0.38772 -0.022577 -0.386852 -0.024938 -0.383889 -0.026111 C -0.380926 -0.027284 -0.375868 -0.026451 -0.373194 -0.028426 C -0.370521 -0.030401 -0.369028 -0.034799 -0.367847 -0.037963 C -0.366667 -0.041127 -0.366991 -0.043858 -0.366111 -0.047407 C -0.365232 -0.050957 -0.363461 -0.055695 -0.362569 -0.059259 C -0.361678 -0.062824 -0.361065 -0.065247 -0.360764 -0.068796 C -0.360463 -0.072346 -0.360764 -0.077006 -0.360764 -0.080556 C -0.360764 -0.084105 -0.360463 -0.086929 -0.360764 -0.090093 C -0.361065 -0.093256 -0.361979 -0.096373 -0.362569 -0.099537 C -0.36316 -0.102701 -0.363715 -0.105911 -0.364306 -0.109074 C -0.364896 -0.112238 -0.36522 -0.11537 -0.366111 -0.118519 C -0.367002 -0.121667 -0.368762 -0.124799 -0.369653 -0.127963 C -0.370544 -0.131127 -0.370567 -0.134336 -0.371458 -0.1375 C -0.37235 -0.140664 -0.372928 -0.14537 -0.375 -0.146944 C -0.377072 -0.148519 -0.380336 -0.147346 -0.383889 -0.146944 C -0.387442 -0.146543 -0.392477 -0.145324 -0.396319 -0.144537 C -0.400162 -0.14375 -0.403391 -0.143796 -0.406944 -0.142222 C -0.410498 -0.140648 -0.414375 -0.136667 -0.417639 -0.135093 C -0.420903 -0.133519 -0.423275 -0.133565 -0.426528 -0.132778 C -0.42978 -0.131991 -0.433009 -0.131559 -0.437153 -0.13037 C -0.441296 -0.129182 -0.447824 -0.127222 -0.451389 -0.125648 C -0.454954 -0.124074 -0.455868 -0.122515 -0.458542 -0.120926 C -0.461215 -0.119336 -0.463877 -0.118086 -0.467431 -0.116111 C -0.470984 -0.114136 -0.476019 -0.111836 -0.479861 -0.109074 C -0.483704 -0.106312 -0.488414 -0.102701 -0.490486 -0.099537 C -0.492558 -0.096373 -0.49081 -0.093642 -0.492292 -0.090093 C -0.493773 -0.086543 -0.496713 -0.083765 -0.499375 -0.078241 C -0.502037 -0.072716 -0.505891 -0.062469 -0.508264 -0.056944 C -0.510637 -0.05142 -0.51213 -0.049846 -0.513611 -0.045093 C -0.515093 -0.04034 -0.515972 -0.033565 -0.517153 -0.028426 C -0.518333 -0.023287 -0.519803 -0.018997 -0.520694 -0.014259 C -0.521586 -0.009522 -0.52191 -0.005525 -0.5225 0 C -0.52309 0.005525 -0.523646 0.012963 -0.524236 0.018889 C -0.524826 0.024815 -0.52544 0.02963 -0.526042 0.035556 C -0.526644 0.041481 -0.527546 0.047731 -0.527847 0.054444 C -0.528148 0.061157 -0.527847 0.069907 -0.527847 0.075833 C -0.527847 0.081759 -0.527847 0.084876 -0.527847 0.09 C -0.527847 0.095123 -0.527847 0.100247 -0.527847 0.106574 C -0.527847 0.112901 -0.527847 0.121636 -0.527847 0.127963 C -0.527847 0.13429 -0.527847 0.139414 -0.527847 0.144537 C -0.527847 0.14966 -0.528449 0.153179 -0.527847 0.158704 C -0.527245 0.164228 -0.525127 0.171759 -0.524236 0.177685 C -0.523345 0.183611 -0.52309 0.188735 -0.5225 0.194259 C -0.52191 0.199784 -0.521586 0.205694 -0.520694 0.210833 C -0.519803 0.215972 -0.518634 0.221142 -0.517153 0.225093 C -0.515671 0.229043 -0.513287 0.230586 -0.511806 0.234537 C -0.510324 0.238488 -0.510035 0.243657 -0.508264 0.248796 C -0.506493 0.253935 -0.503252 0.260231 -0.501181 0.26537 C -0.499109 0.270509 -0.497905 0.275679 -0.495833 0.27963 C -0.493762 0.28358 -0.490822 0.285525 -0.48875 0.289074 C -0.486678 0.292623 -0.485185 0.296589 -0.483403 0.300926 C -0.48162 0.305262 -0.480127 0.311142 -0.478056 0.315093 C -0.475984 0.319043 -0.473044 0.321466 -0.470972 0.32463 C -0.4689 0.327793 -0.467697 0.331713 -0.465625 0.334074 C -0.463553 0.336435 -0.460914 0.336034 -0.458542 0.338796 C -0.456169 0.341559 -0.454062 0.347083 -0.451389 0.350648 C -0.448715 0.354213 -0.445463 0.357022 -0.4425 0.360185 C -0.439537 0.363349 -0.436574 0.366481 -0.433611 0.36963 C -0.430648 0.372778 -0.427975 0.37591 -0.424722 0.379074 C -0.42147 0.382238 -0.41765 0.385448 -0.414097 0.388611 C -0.410544 0.391775 -0.407257 0.393719 -0.403403 0.398056 C -0.399549 0.402392 -0.395417 0.410278 -0.390972 0.41463 C -0.386528 0.418981 -0.381181 0.421404 -0.376736 0.424167 C -0.372292 0.426929 -0.36875 0.428441 -0.364306 0.431204 C -0.359861 0.433966 -0.354803 0.437577 -0.350069 0.440741 C -0.345336 0.443904 -0.340937 0.447423 -0.335903 0.450185 C -0.330868 0.452947 -0.324896 0.455339 -0.319861 0.457315 C -0.314826 0.45929 -0.310139 0.460463 -0.305694 0.462037 C -0.30125 0.463611 -0.297639 0.465571 -0.293194 0.466759 C -0.28875 0.467948 -0.283762 0.468364 -0.279028 0.469167 C -0.274294 0.469969 -0.269826 0.471173 -0.264792 0.471574 C -0.259757 0.471975 -0.254155 0.471188 -0.248819 0.471574 C -0.243484 0.47196 -0.238113 0.473503 -0.232778 0.473889 C -0.227442 0.474275 -0.222431 0.473889 -0.216806 0.473889 C -0.211181 0.473889 -0.205243 0.473889 -0.199028 0.473889 C -0.192813 0.473889 -0.185139 0.474676 -0.179514 0.473889 C -0.173889 0.473102 -0.170324 0.470741 -0.165278 0.469167 C -0.160232 0.467593 -0.154271 0.466018 -0.149236 0.464444 C -0.144201 0.46287 -0.140104 0.46091 -0.135069 0.459722 C -0.130035 0.458534 -0.123773 0.458904 -0.119028 0.457315 C -0.114282 0.455725 -0.110741 0.45216 -0.106597 0.450185 C -0.102454 0.44821 -0.098009 0.447824 -0.094167 0.445463 C -0.090324 0.443102 -0.087685 0.438781 -0.083542 0.436019 C -0.079398 0.433256 -0.073461 0.431265 -0.069306 0.428889 C -0.06515 0.426512 -0.062755 0.424923 -0.058611 0.421759 C -0.054468 0.418596 -0.048889 0.414244 -0.044444 0.409907 C -0.04 0.405571 -0.035799 0.400077 -0.031944 0.395741 C -0.02809 0.391404 -0.024282 0.388642 -0.021319 0.383889 C -0.018357 0.379136 -0.015949 0.371574 -0.014167 0.367222 C -0.012384 0.36287 -0.011806 0.361327 -0.010625 0.357778 C -0.009445 0.354228 -0.008264 0.349876 -0.007083 0.345926 C -0.005903 0.341975 -0.004722 0.337623 -0.003542 0.334074 C -0.002361 0.330525 -0.001181 0.328179 0 0.32463 C 0.00118 0.32108 0.00265 0.317917 0.003542 0.312778 C 0.004433 0.307639 0.004745 0.299722 0.005347 0.293796 C 0.005949 0.28787 0.006852 0.282747 0.007153 0.277222 C 0.007454 0.271697 0.007153 0.265 0.007153 0.260648 C 0.007153 0.256296 0.007153 0.255463 0.007153 0.251111 C 0.007153 0.246759 0.007153 0.239275 0.007153 0.234537 C 0.007153 0.229799 0.007153 0.226235 0.007153 0.222685 C 0.007153 0.219136 0.007153 0.216389 0.007153 0.213241 C 0.007153 0.210093 0.007153 0.207747 0.007153 0.203796 C 0.007153 0.199846 0.007755 0.195077 0.007153 0.189537 C 0.006551 0.183997 0.004143 0.175694 0.003542 0.170556 C 0.00294 0.165417 0.003831 0.162654 0.003542 0.158704 C 0.003252 0.154753 0.002396 0.150401 0.001806 0.146852 C 0.001215 0.143302 0.000891 0.141744 0 0.137407 C -0.000891 0.133071 -0.002651 0.125571 -0.003542 0.120833 C -0.004433 0.116096 -0.004757 0.112531 -0.005347 0.108981 C -0.005937 0.105432 -0.006204 0.102701 -0.007083 0.099537 C -0.007963 0.096373 -0.010035 0.093164 -0.010625 0.09 C -0.011215 0.086836 -0.010625 0.083719 -0.010625 0.080556 C -0.010625 0.077392 -0.010324 0.074583 -0.010625 0.071019 C -0.010926 0.067454 -0.01213 0.063117 -0.012431 0.059167 C -0.012732 0.055216 -0.012431 0.05125 -0.012431 0.047315 C -0.012431 0.04338 -0.012431 0.039105 -0.012431 0.035556 C -0.012431 0.032006 -0.012431 0.029182 -0.012431 0.026019 C -0.012431 0.022855 -0.013611 0.019336 -0.012431 0.016574 C -0.01125 0.013812 -0.007419 0.012207 -0.005347 0.009444 C -0.003276 0.006682 -0.000891 0.001574 0 0 E">
                                      <p:cBhvr>
                                        <p:cTn id="242" dur="3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2"/>
          <p:cNvSpPr/>
          <p:nvPr/>
        </p:nvSpPr>
        <p:spPr>
          <a:xfrm>
            <a:off x="8597880" y="836640"/>
            <a:ext cx="54612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距离并不可怕，可怕的是心越来越远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3" descr="88副本"/>
          <p:cNvPicPr/>
          <p:nvPr/>
        </p:nvPicPr>
        <p:blipFill>
          <a:blip r:embed="rId2"/>
          <a:stretch/>
        </p:blipFill>
        <p:spPr>
          <a:xfrm rot="7602000">
            <a:off x="22680" y="2059920"/>
            <a:ext cx="4160880" cy="2984400"/>
          </a:xfrm>
          <a:prstGeom prst="rect">
            <a:avLst/>
          </a:prstGeom>
          <a:ln w="0">
            <a:noFill/>
          </a:ln>
        </p:spPr>
      </p:pic>
      <p:sp>
        <p:nvSpPr>
          <p:cNvPr id="473" name="Freeform 4"/>
          <p:cNvSpPr/>
          <p:nvPr/>
        </p:nvSpPr>
        <p:spPr>
          <a:xfrm>
            <a:off x="1749600" y="3714840"/>
            <a:ext cx="242640" cy="99684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5"/>
          <p:cNvSpPr/>
          <p:nvPr/>
        </p:nvSpPr>
        <p:spPr>
          <a:xfrm>
            <a:off x="2266920" y="2887560"/>
            <a:ext cx="444600" cy="81612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6"/>
          <p:cNvSpPr/>
          <p:nvPr/>
        </p:nvSpPr>
        <p:spPr>
          <a:xfrm>
            <a:off x="2243160" y="5288040"/>
            <a:ext cx="250920" cy="90000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7"/>
          <p:cNvSpPr/>
          <p:nvPr/>
        </p:nvSpPr>
        <p:spPr>
          <a:xfrm>
            <a:off x="1822320" y="5288040"/>
            <a:ext cx="239760" cy="93672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8"/>
          <p:cNvSpPr/>
          <p:nvPr/>
        </p:nvSpPr>
        <p:spPr>
          <a:xfrm>
            <a:off x="1979640" y="2550960"/>
            <a:ext cx="216000" cy="180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9"/>
          <p:cNvSpPr/>
          <p:nvPr/>
        </p:nvSpPr>
        <p:spPr>
          <a:xfrm>
            <a:off x="2411280" y="2550960"/>
            <a:ext cx="216000" cy="180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0"/>
          <p:cNvSpPr/>
          <p:nvPr/>
        </p:nvSpPr>
        <p:spPr>
          <a:xfrm>
            <a:off x="2122560" y="2911320"/>
            <a:ext cx="360360" cy="7308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11"/>
          <p:cNvSpPr/>
          <p:nvPr/>
        </p:nvSpPr>
        <p:spPr>
          <a:xfrm>
            <a:off x="2212920" y="1413000"/>
            <a:ext cx="141480" cy="78732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12"/>
          <p:cNvSpPr/>
          <p:nvPr/>
        </p:nvSpPr>
        <p:spPr>
          <a:xfrm>
            <a:off x="2352600" y="1463760"/>
            <a:ext cx="231840" cy="68580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13"/>
          <p:cNvSpPr/>
          <p:nvPr/>
        </p:nvSpPr>
        <p:spPr>
          <a:xfrm>
            <a:off x="2492280" y="1692360"/>
            <a:ext cx="330120" cy="52056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4"/>
          <p:cNvSpPr/>
          <p:nvPr/>
        </p:nvSpPr>
        <p:spPr>
          <a:xfrm>
            <a:off x="2122560" y="3703680"/>
            <a:ext cx="503280" cy="360360"/>
          </a:xfrm>
          <a:prstGeom prst="pie">
            <a:avLst/>
          </a:prstGeom>
          <a:gradFill rotWithShape="0">
            <a:gsLst>
              <a:gs pos="0">
                <a:srgbClr val="ff3300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5"/>
          <p:cNvSpPr/>
          <p:nvPr/>
        </p:nvSpPr>
        <p:spPr>
          <a:xfrm>
            <a:off x="1979640" y="25509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16"/>
          <p:cNvSpPr/>
          <p:nvPr/>
        </p:nvSpPr>
        <p:spPr>
          <a:xfrm>
            <a:off x="2411280" y="25509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17" descr="9999"/>
          <p:cNvPicPr/>
          <p:nvPr/>
        </p:nvPicPr>
        <p:blipFill>
          <a:blip r:embed="rId3"/>
          <a:stretch/>
        </p:blipFill>
        <p:spPr>
          <a:xfrm>
            <a:off x="4356000" y="765000"/>
            <a:ext cx="7129440" cy="5346720"/>
          </a:xfrm>
          <a:prstGeom prst="rect">
            <a:avLst/>
          </a:prstGeom>
          <a:ln w="0">
            <a:noFill/>
          </a:ln>
        </p:spPr>
      </p:pic>
      <p:sp>
        <p:nvSpPr>
          <p:cNvPr id="487" name="Freeform 18"/>
          <p:cNvSpPr/>
          <p:nvPr/>
        </p:nvSpPr>
        <p:spPr>
          <a:xfrm>
            <a:off x="6300720" y="4886280"/>
            <a:ext cx="336600" cy="111600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19"/>
          <p:cNvSpPr/>
          <p:nvPr/>
        </p:nvSpPr>
        <p:spPr>
          <a:xfrm>
            <a:off x="6661080" y="4957920"/>
            <a:ext cx="216000" cy="92376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20"/>
          <p:cNvSpPr/>
          <p:nvPr/>
        </p:nvSpPr>
        <p:spPr>
          <a:xfrm>
            <a:off x="5808600" y="3805200"/>
            <a:ext cx="563760" cy="64944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21"/>
          <p:cNvSpPr/>
          <p:nvPr/>
        </p:nvSpPr>
        <p:spPr>
          <a:xfrm>
            <a:off x="6661080" y="3805200"/>
            <a:ext cx="371520" cy="73332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22"/>
          <p:cNvSpPr/>
          <p:nvPr/>
        </p:nvSpPr>
        <p:spPr>
          <a:xfrm>
            <a:off x="6300720" y="3086280"/>
            <a:ext cx="144360" cy="1080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23"/>
          <p:cNvSpPr/>
          <p:nvPr/>
        </p:nvSpPr>
        <p:spPr>
          <a:xfrm>
            <a:off x="6588000" y="3086280"/>
            <a:ext cx="144720" cy="1080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24"/>
          <p:cNvSpPr/>
          <p:nvPr/>
        </p:nvSpPr>
        <p:spPr>
          <a:xfrm>
            <a:off x="6372360" y="3301920"/>
            <a:ext cx="215640" cy="7452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25"/>
          <p:cNvSpPr/>
          <p:nvPr/>
        </p:nvSpPr>
        <p:spPr>
          <a:xfrm>
            <a:off x="6443640" y="3878280"/>
            <a:ext cx="503280" cy="360360"/>
          </a:xfrm>
          <a:prstGeom prst="pie">
            <a:avLst/>
          </a:prstGeom>
          <a:gradFill rotWithShape="0">
            <a:gsLst>
              <a:gs pos="0">
                <a:srgbClr val="ff3300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26"/>
          <p:cNvSpPr/>
          <p:nvPr/>
        </p:nvSpPr>
        <p:spPr>
          <a:xfrm flipH="1">
            <a:off x="6660360" y="3086280"/>
            <a:ext cx="7164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27"/>
          <p:cNvSpPr/>
          <p:nvPr/>
        </p:nvSpPr>
        <p:spPr>
          <a:xfrm>
            <a:off x="6372360" y="3086280"/>
            <a:ext cx="712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588000" y="2725560"/>
            <a:ext cx="374760" cy="217440"/>
            <a:chOff x="6588000" y="2725560"/>
            <a:chExt cx="374760" cy="217440"/>
          </a:xfrm>
        </p:grpSpPr>
        <p:sp>
          <p:nvSpPr>
            <p:cNvPr id="498" name="Freeform 29"/>
            <p:cNvSpPr/>
            <p:nvPr/>
          </p:nvSpPr>
          <p:spPr>
            <a:xfrm>
              <a:off x="6588000" y="2725560"/>
              <a:ext cx="168120" cy="16812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6745320" y="2798640"/>
              <a:ext cx="82440" cy="8244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 flipH="1">
              <a:off x="6794280" y="2774880"/>
              <a:ext cx="168480" cy="16812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6643440" y="2790720"/>
              <a:ext cx="95400" cy="28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6649920" y="2768400"/>
              <a:ext cx="76320" cy="28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6808680" y="2844720"/>
              <a:ext cx="95400" cy="48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6837120" y="2844720"/>
              <a:ext cx="63720" cy="7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34920" y="549360"/>
            <a:ext cx="2521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生活让我们紧密相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27760" y="692280"/>
            <a:ext cx="546120" cy="396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Arial"/>
              </a:rPr>
              <a:t>生活部更是让我们的大学生活更是然我们多姿多彩，请加入我们吧。一起为我们的大学生活画上浓重的一笔色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26920" y="5229360"/>
            <a:ext cx="7705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/>
  </p:transition>
  <p:timing>
    <p:tnLst>
      <p:par>
        <p:cTn id="1443" dur="indefinite" restart="never" nodeType="tmRoot">
          <p:childTnLst>
            <p:seq>
              <p:cTn id="1444" dur="indefinite" nodeType="mainSeq">
                <p:childTnLst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3.7037E-006 C 0.0026 -0.00902 0.00555 -0.01875 0.00052 -0.02847 C -0.00191 -0.0331 -0.01059 -0.03402 -0.01059 -0.03379 C -0.01875 -0.0331 -0.02674 -0.03264 -0.0349 -0.03125 C -0.0441 -0.02939 -0.05816 -0.01713 -0.06649 -0.00856 C -0.07031 -0.00949 -0.07431 -0.00879 -0.07761 -0.01134 C -0.07986 -0.01296 -0.07986 -0.01759 -0.08142 -0.0199 C -0.08299 -0.02222 -0.08507 -0.02361 -0.08698 -0.02569 C -0.0882 -0.03125 -0.09167 -0.03657 -0.0908 -0.04259 C -0.0882 -0.05787 -0.0842 -0.06851 -0.07396 -0.07361 C -0.07274 -0.07662 -0.07049 -0.07893 -0.07031 -0.08217 C -0.06997 -0.08495 -0.0717 -0.08796 -0.07205 -0.09074 C -0.075 -0.10879 -0.07083 -0.10185 -0.07952 -0.11041 C -0.08021 -0.11342 -0.08004 -0.11689 -0.08142 -0.11898 C -0.08281 -0.12106 -0.08524 -0.12037 -0.08698 -0.12176 C -0.08906 -0.12314 -0.09063 -0.12615 -0.09254 -0.12754 C -0.09948 -0.13217 -0.10764 -0.13495 -0.11493 -0.13889 C -0.11858 -0.14074 -0.1224 -0.14259 -0.12604 -0.14444 C -0.12795 -0.14537 -0.1316 -0.14722 -0.1316 -0.14699 C -0.13611 -0.16805 -0.13264 -0.15995 -0.14097 -0.17268 C -0.14618 -0.19606 -0.14636 -0.19004 -0.14288 -0.22083 C -0.14219 -0.22685 -0.14219 -0.23426 -0.13906 -0.23796 C -0.13663 -0.24074 -0.13455 -0.24421 -0.1316 -0.24652 C -0.12813 -0.24884 -0.12049 -0.25208 -0.12049 -0.25185 C -0.11441 -0.27939 -0.12222 -0.28865 -0.1316 -0.30601 C -0.1382 -0.31759 -0.13177 -0.3125 -0.14097 -0.31713 C -0.14583 -0.32453 -0.14931 -0.33518 -0.1559 -0.33981 C -0.17396 -0.35208 -0.1875 -0.34814 -0.19497 -0.38217 C -0.19288 -0.43981 -0.19132 -0.45046 -0.19497 -0.51805 C -0.19497 -0.51782 -0.19965 -0.53935 -0.20052 -0.54375 C -0.20243 -0.55231 -0.20382 -0.56342 -0.20608 -0.57152 C -0.21146 -0.59051 -0.22257 -0.60787 -0.23212 -0.62268 E">
                                      <p:cBhvr>
                                        <p:cTn id="1448" dur="30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7 -0.00023 C 0.01632 -0.00116 0.03385 0.00069 0.05087 -0.00324 C 0.0566 -0.0044 0.06562 -0.01505 0.06562 -0.01482 C 0.07673 -0.03542 0.07569 -0.06667 0.05816 -0.08102 C 0.05746 -0.08403 0.05694 -0.08727 0.05573 -0.09005 C 0.05451 -0.09329 0.05208 -0.09584 0.05087 -0.09908 C 0.04878 -0.10463 0.04583 -0.1169 0.04583 -0.11667 C 0.06545 -0.15255 0.07118 -0.13542 0.12239 -0.13797 C 0.12812 -0.13889 0.13437 -0.13773 0.13958 -0.14098 C 0.14184 -0.14236 0.14201 -0.14653 0.14201 -0.14977 C 0.14201 -0.17176 0.14844 -0.19861 0.13715 -0.21574 C 0.13524 -0.21852 0.13194 -0.21945 0.12969 -0.22176 C 0.12708 -0.22477 0.12535 -0.22871 0.12239 -0.23079 C 0.11788 -0.23357 0.10746 -0.23658 0.10746 -0.23635 C 0.10451 -0.24769 0.10521 -0.27732 0.11007 -0.2875 C 0.11059 -0.28889 0.1243 -0.2926 0.12726 -0.29352 C 0.14149 -0.29861 0.15416 -0.3007 0.1691 -0.30255 C 0.1868 -0.30973 0.17969 -0.3051 0.19132 -0.31459 C 0.20087 -0.33148 0.19687 -0.32084 0.19375 -0.35348 C 0.1934 -0.35834 0.19219 -0.37639 0.18889 -0.38334 C 0.18055 -0.40186 0.16736 -0.41713 0.1618 -0.43727 C 0.1651 -0.44028 0.16788 -0.44422 0.1717 -0.4463 C 0.18437 -0.45417 0.17795 -0.44491 0.18889 -0.45232 C 0.1941 -0.45579 0.19878 -0.46019 0.20364 -0.46412 C 0.21041 -0.46991 0.2191 -0.47061 0.22587 -0.47616 C 0.23177 -0.49769 0.22795 -0.48889 0.23576 -0.50301 C 0.24271 -0.53704 0.23993 -0.54028 0.24305 -0.59028 C 0.2441 -0.60486 0.25399 -0.6176 0.25798 -0.63172 C 0.26041 -0.66412 0.2592 -0.65857 0.26788 -0.67963 E">
                                      <p:cBhvr>
                                        <p:cTn id="1450" dur="3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8" dur="1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580">
                                      <p:cBhvr>
                                        <p:cTn id="146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580">
                                      <p:cBhvr>
                                        <p:cTn id="1463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64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65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66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67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68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469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0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4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699">
                                      <p:cBhvr>
                                        <p:cTn id="14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5" nodeType="with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66 0.008 -0.115 0.028 -0.115 0.044 C -0.115 0.05867 -0.067 0.06933 -0.003 0.06933 C 0.061 0.06933 0.115 0.05867 0.115 0.044 C 0.115 0.028 0.059 0.024 -0.005 0.03467 C -0.068 0.04667 -0.115 0.06667 -0.115 0.08133 C -0.115 0.096 -0.066 0.108 -0.003 0.108 C 0.061 0.108 0.115 0.096 0.115 0.08133 C 0.115 0.06667 0.059 0.06267 -0.004 0.07333 C -0.068 0.084 -0.115 0.104 -0.115 0.11867 C -0.115 0.13467 -0.066 0.14667 -0.002 0.14667 C 0.061 0.14667 0.115 0.13467 0.115 0.11867 C 0.115 0.10533 0.059 0.10133 -0.004 0.11067 C -0.067 0.12133 -0.115 0.14267 -0.115 0.15733 C -0.115 0.172 -0.065 0.184 -0.002 0.184 C 0.063 0.184 0.115 0.172 0.115 0.15733 C 0.115 0.14267 0.06 0.13867 -0.003 0.14933 C -0.066 0.16 -0.115 0.18 -0.115 0.19467 C -0.115 0.21067 -0.065 0.22133 -0.001 0.22133 C 0.063 0.22133 0.115 0.20933 0.115 0.19467 C 0.115 0.18 0.06 0.176 -0.003 0.18667 C -0.066 0.19733 -0.115 0.21867 -0.115 0.232 C -0.115 0.24667 -0.064 0.25867 -0.001 0.25867 C 0.063 0.25867 0.115 0.24667 0.115 0.232 C 0.115 0.21867 0.061 0.21467 -0.003 0.224 C -0.066 0.23467 -0.115 0.256 -0.115 0.27067 C -0.115 0.284 -0.064 0.29733 0 0.29733 C 0.064 0.29733 0.115 0.28533 0.115 0.27067 C 0.115 0.256 0.061 0.252 -0.002 0.26267 C -0.065 0.27333 -0.116 0.29333 -0.115 0.308 C -0.114 0.32267 -0.064 0.33333 0 0.33333 C 0.064 0.33333 0.115 0.32133 0.115 0.30667 C 0.115 0.29333 0.063 0.28933 0 0.30133 E">
                                      <p:cBhvr>
                                        <p:cTn id="1476" dur="50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88副本"/>
          <p:cNvPicPr/>
          <p:nvPr/>
        </p:nvPicPr>
        <p:blipFill>
          <a:blip r:embed="rId2"/>
          <a:stretch/>
        </p:blipFill>
        <p:spPr>
          <a:xfrm rot="7143000">
            <a:off x="4874760" y="3558960"/>
            <a:ext cx="2955960" cy="2120760"/>
          </a:xfrm>
          <a:prstGeom prst="rect">
            <a:avLst/>
          </a:prstGeom>
          <a:ln w="0">
            <a:noFill/>
          </a:ln>
        </p:spPr>
      </p:pic>
      <p:grpSp>
        <p:nvGrpSpPr>
          <p:cNvPr id="509" name=""/>
          <p:cNvGrpSpPr/>
          <p:nvPr/>
        </p:nvGrpSpPr>
        <p:grpSpPr>
          <a:xfrm>
            <a:off x="-336960" y="1432440"/>
            <a:ext cx="3629160" cy="4156920"/>
            <a:chOff x="-336960" y="1432440"/>
            <a:chExt cx="3629160" cy="4156920"/>
          </a:xfrm>
        </p:grpSpPr>
        <p:pic>
          <p:nvPicPr>
            <p:cNvPr id="510" name="Picture 4" descr="88副本"/>
            <p:cNvPicPr/>
            <p:nvPr/>
          </p:nvPicPr>
          <p:blipFill>
            <a:blip r:embed="rId3"/>
            <a:stretch/>
          </p:blipFill>
          <p:spPr>
            <a:xfrm rot="8418600">
              <a:off x="0" y="2131560"/>
              <a:ext cx="2955960" cy="21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Freeform 5"/>
            <p:cNvSpPr/>
            <p:nvPr/>
          </p:nvSpPr>
          <p:spPr>
            <a:xfrm>
              <a:off x="792000" y="4221000"/>
              <a:ext cx="408240" cy="1355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6"/>
            <p:cNvSpPr/>
            <p:nvPr/>
          </p:nvSpPr>
          <p:spPr>
            <a:xfrm>
              <a:off x="1152360" y="4221000"/>
              <a:ext cx="250920" cy="13683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7"/>
            <p:cNvSpPr/>
            <p:nvPr/>
          </p:nvSpPr>
          <p:spPr>
            <a:xfrm>
              <a:off x="1655640" y="2779560"/>
              <a:ext cx="179640" cy="982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8"/>
            <p:cNvSpPr/>
            <p:nvPr/>
          </p:nvSpPr>
          <p:spPr>
            <a:xfrm flipV="1">
              <a:off x="1584360" y="2419920"/>
              <a:ext cx="144360" cy="71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9"/>
            <p:cNvSpPr/>
            <p:nvPr/>
          </p:nvSpPr>
          <p:spPr>
            <a:xfrm>
              <a:off x="1871640" y="2492280"/>
              <a:ext cx="144360" cy="1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0"/>
            <p:cNvSpPr/>
            <p:nvPr/>
          </p:nvSpPr>
          <p:spPr>
            <a:xfrm>
              <a:off x="1798560" y="2060280"/>
              <a:ext cx="505080" cy="214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1"/>
            <p:cNvSpPr/>
            <p:nvPr/>
          </p:nvSpPr>
          <p:spPr>
            <a:xfrm>
              <a:off x="1871640" y="2131920"/>
              <a:ext cx="432000" cy="216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2"/>
            <p:cNvSpPr/>
            <p:nvPr/>
          </p:nvSpPr>
          <p:spPr>
            <a:xfrm>
              <a:off x="2016000" y="2276280"/>
              <a:ext cx="360360" cy="71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3"/>
            <p:cNvSpPr/>
            <p:nvPr/>
          </p:nvSpPr>
          <p:spPr>
            <a:xfrm>
              <a:off x="504720" y="1699920"/>
              <a:ext cx="936720" cy="1657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0" name="Picture 14" descr="100100"/>
            <p:cNvPicPr/>
            <p:nvPr/>
          </p:nvPicPr>
          <p:blipFill>
            <a:blip r:embed="rId4"/>
            <a:stretch/>
          </p:blipFill>
          <p:spPr>
            <a:xfrm>
              <a:off x="576360" y="1628640"/>
              <a:ext cx="52704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Freeform 15"/>
            <p:cNvSpPr/>
            <p:nvPr/>
          </p:nvSpPr>
          <p:spPr>
            <a:xfrm rot="394800">
              <a:off x="1657440" y="3355920"/>
              <a:ext cx="1044360" cy="82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AutoShape 16"/>
          <p:cNvSpPr/>
          <p:nvPr/>
        </p:nvSpPr>
        <p:spPr>
          <a:xfrm rot="7473000">
            <a:off x="4874760" y="3485880"/>
            <a:ext cx="295596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788000" y="2781360"/>
            <a:ext cx="3600360" cy="934920"/>
            <a:chOff x="4788000" y="2781360"/>
            <a:chExt cx="3600360" cy="934920"/>
          </a:xfrm>
        </p:grpSpPr>
        <p:sp>
          <p:nvSpPr>
            <p:cNvPr id="524" name="Freeform 18"/>
            <p:cNvSpPr/>
            <p:nvPr/>
          </p:nvSpPr>
          <p:spPr>
            <a:xfrm>
              <a:off x="5004000" y="2852640"/>
              <a:ext cx="3251160" cy="471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9"/>
            <p:cNvSpPr/>
            <p:nvPr/>
          </p:nvSpPr>
          <p:spPr>
            <a:xfrm>
              <a:off x="4788000" y="2781360"/>
              <a:ext cx="360360" cy="863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20"/>
            <p:cNvSpPr/>
            <p:nvPr/>
          </p:nvSpPr>
          <p:spPr>
            <a:xfrm>
              <a:off x="8028000" y="2852640"/>
              <a:ext cx="360360" cy="863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21"/>
            <p:cNvSpPr/>
            <p:nvPr/>
          </p:nvSpPr>
          <p:spPr>
            <a:xfrm>
              <a:off x="4932360" y="3141720"/>
              <a:ext cx="88920" cy="235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Freeform 22"/>
          <p:cNvSpPr/>
          <p:nvPr/>
        </p:nvSpPr>
        <p:spPr>
          <a:xfrm>
            <a:off x="5340240" y="2876400"/>
            <a:ext cx="887400" cy="163224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23"/>
          <p:cNvSpPr/>
          <p:nvPr/>
        </p:nvSpPr>
        <p:spPr>
          <a:xfrm>
            <a:off x="6588000" y="2938320"/>
            <a:ext cx="1079640" cy="157032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reeform 24"/>
          <p:cNvSpPr/>
          <p:nvPr/>
        </p:nvSpPr>
        <p:spPr>
          <a:xfrm>
            <a:off x="5748480" y="4149720"/>
            <a:ext cx="384120" cy="28728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25"/>
          <p:cNvSpPr/>
          <p:nvPr/>
        </p:nvSpPr>
        <p:spPr>
          <a:xfrm flipH="1" rot="879000">
            <a:off x="6586920" y="4220640"/>
            <a:ext cx="384480" cy="28764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26"/>
          <p:cNvSpPr/>
          <p:nvPr/>
        </p:nvSpPr>
        <p:spPr>
          <a:xfrm>
            <a:off x="6588000" y="5481720"/>
            <a:ext cx="731880" cy="95868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27"/>
          <p:cNvSpPr/>
          <p:nvPr/>
        </p:nvSpPr>
        <p:spPr>
          <a:xfrm>
            <a:off x="5508720" y="5661000"/>
            <a:ext cx="900000" cy="74448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28"/>
          <p:cNvSpPr/>
          <p:nvPr/>
        </p:nvSpPr>
        <p:spPr>
          <a:xfrm rot="1070400">
            <a:off x="6227640" y="3573360"/>
            <a:ext cx="144720" cy="82800"/>
          </a:xfrm>
          <a:prstGeom prst="pi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29"/>
          <p:cNvSpPr/>
          <p:nvPr/>
        </p:nvSpPr>
        <p:spPr>
          <a:xfrm rot="20695800">
            <a:off x="6516720" y="3573000"/>
            <a:ext cx="142920" cy="82800"/>
          </a:xfrm>
          <a:prstGeom prst="pi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30"/>
          <p:cNvSpPr/>
          <p:nvPr/>
        </p:nvSpPr>
        <p:spPr>
          <a:xfrm>
            <a:off x="6300720" y="3992400"/>
            <a:ext cx="239760" cy="15732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31"/>
          <p:cNvSpPr/>
          <p:nvPr/>
        </p:nvSpPr>
        <p:spPr>
          <a:xfrm>
            <a:off x="6375240" y="4032360"/>
            <a:ext cx="1800" cy="11412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32"/>
          <p:cNvSpPr/>
          <p:nvPr/>
        </p:nvSpPr>
        <p:spPr>
          <a:xfrm>
            <a:off x="6419880" y="4044960"/>
            <a:ext cx="38160" cy="14616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33"/>
          <p:cNvSpPr/>
          <p:nvPr/>
        </p:nvSpPr>
        <p:spPr>
          <a:xfrm>
            <a:off x="6343560" y="3753000"/>
            <a:ext cx="19080" cy="12600"/>
          </a:xfrm>
          <a:prstGeom prst="pi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34"/>
          <p:cNvSpPr/>
          <p:nvPr/>
        </p:nvSpPr>
        <p:spPr>
          <a:xfrm>
            <a:off x="6227640" y="3789360"/>
            <a:ext cx="144720" cy="7128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35"/>
          <p:cNvSpPr/>
          <p:nvPr/>
        </p:nvSpPr>
        <p:spPr>
          <a:xfrm>
            <a:off x="6516720" y="3789360"/>
            <a:ext cx="142920" cy="7128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36"/>
          <p:cNvSpPr/>
          <p:nvPr/>
        </p:nvSpPr>
        <p:spPr>
          <a:xfrm flipV="1">
            <a:off x="6300720" y="314136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37"/>
          <p:cNvSpPr/>
          <p:nvPr/>
        </p:nvSpPr>
        <p:spPr>
          <a:xfrm flipV="1">
            <a:off x="6443640" y="314136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38"/>
          <p:cNvSpPr/>
          <p:nvPr/>
        </p:nvSpPr>
        <p:spPr>
          <a:xfrm flipV="1">
            <a:off x="6516720" y="3213000"/>
            <a:ext cx="7128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-157680" y="1288080"/>
            <a:ext cx="3629160" cy="4156920"/>
            <a:chOff x="-157680" y="1288080"/>
            <a:chExt cx="3629160" cy="4156920"/>
          </a:xfrm>
        </p:grpSpPr>
        <p:pic>
          <p:nvPicPr>
            <p:cNvPr id="546" name="Picture 41" descr="88副本"/>
            <p:cNvPicPr/>
            <p:nvPr/>
          </p:nvPicPr>
          <p:blipFill>
            <a:blip r:embed="rId5"/>
            <a:stretch/>
          </p:blipFill>
          <p:spPr>
            <a:xfrm rot="8418600">
              <a:off x="178920" y="1987200"/>
              <a:ext cx="2955960" cy="21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Freeform 42"/>
            <p:cNvSpPr/>
            <p:nvPr/>
          </p:nvSpPr>
          <p:spPr>
            <a:xfrm>
              <a:off x="971280" y="4076640"/>
              <a:ext cx="408240" cy="1355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43"/>
            <p:cNvSpPr/>
            <p:nvPr/>
          </p:nvSpPr>
          <p:spPr>
            <a:xfrm>
              <a:off x="1331640" y="4076640"/>
              <a:ext cx="250920" cy="13683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44"/>
            <p:cNvSpPr/>
            <p:nvPr/>
          </p:nvSpPr>
          <p:spPr>
            <a:xfrm>
              <a:off x="1834920" y="2635200"/>
              <a:ext cx="179640" cy="982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45"/>
            <p:cNvSpPr/>
            <p:nvPr/>
          </p:nvSpPr>
          <p:spPr>
            <a:xfrm flipV="1">
              <a:off x="1763640" y="2275560"/>
              <a:ext cx="144360" cy="71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46"/>
            <p:cNvSpPr/>
            <p:nvPr/>
          </p:nvSpPr>
          <p:spPr>
            <a:xfrm>
              <a:off x="2050920" y="2347920"/>
              <a:ext cx="144360" cy="1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47"/>
            <p:cNvSpPr/>
            <p:nvPr/>
          </p:nvSpPr>
          <p:spPr>
            <a:xfrm>
              <a:off x="1977840" y="1915920"/>
              <a:ext cx="505080" cy="214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48"/>
            <p:cNvSpPr/>
            <p:nvPr/>
          </p:nvSpPr>
          <p:spPr>
            <a:xfrm>
              <a:off x="2050920" y="1987560"/>
              <a:ext cx="432000" cy="216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49"/>
            <p:cNvSpPr/>
            <p:nvPr/>
          </p:nvSpPr>
          <p:spPr>
            <a:xfrm>
              <a:off x="2195280" y="2131920"/>
              <a:ext cx="360360" cy="71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50"/>
            <p:cNvSpPr/>
            <p:nvPr/>
          </p:nvSpPr>
          <p:spPr>
            <a:xfrm>
              <a:off x="684000" y="1555560"/>
              <a:ext cx="936720" cy="1657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6" name="Picture 51" descr="100100"/>
            <p:cNvPicPr/>
            <p:nvPr/>
          </p:nvPicPr>
          <p:blipFill>
            <a:blip r:embed="rId6"/>
            <a:stretch/>
          </p:blipFill>
          <p:spPr>
            <a:xfrm>
              <a:off x="755640" y="1484280"/>
              <a:ext cx="52704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Freeform 52"/>
            <p:cNvSpPr/>
            <p:nvPr/>
          </p:nvSpPr>
          <p:spPr>
            <a:xfrm rot="394800">
              <a:off x="1836720" y="3211560"/>
              <a:ext cx="1044360" cy="82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58320" y="929160"/>
            <a:ext cx="3629160" cy="4156920"/>
            <a:chOff x="58320" y="929160"/>
            <a:chExt cx="3629160" cy="4156920"/>
          </a:xfrm>
        </p:grpSpPr>
        <p:pic>
          <p:nvPicPr>
            <p:cNvPr id="559" name="Picture 54" descr="88副本"/>
            <p:cNvPicPr/>
            <p:nvPr/>
          </p:nvPicPr>
          <p:blipFill>
            <a:blip r:embed="rId7"/>
            <a:stretch/>
          </p:blipFill>
          <p:spPr>
            <a:xfrm rot="8418600">
              <a:off x="394920" y="1628280"/>
              <a:ext cx="2955960" cy="21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Freeform 55"/>
            <p:cNvSpPr/>
            <p:nvPr/>
          </p:nvSpPr>
          <p:spPr>
            <a:xfrm>
              <a:off x="1187280" y="3717720"/>
              <a:ext cx="408240" cy="1355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56"/>
            <p:cNvSpPr/>
            <p:nvPr/>
          </p:nvSpPr>
          <p:spPr>
            <a:xfrm>
              <a:off x="1547640" y="3717720"/>
              <a:ext cx="250920" cy="13683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57"/>
            <p:cNvSpPr/>
            <p:nvPr/>
          </p:nvSpPr>
          <p:spPr>
            <a:xfrm>
              <a:off x="2050920" y="2276280"/>
              <a:ext cx="179640" cy="982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58"/>
            <p:cNvSpPr/>
            <p:nvPr/>
          </p:nvSpPr>
          <p:spPr>
            <a:xfrm flipV="1">
              <a:off x="1979640" y="1916640"/>
              <a:ext cx="144360" cy="71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59"/>
            <p:cNvSpPr/>
            <p:nvPr/>
          </p:nvSpPr>
          <p:spPr>
            <a:xfrm>
              <a:off x="2266920" y="1989000"/>
              <a:ext cx="144360" cy="1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60"/>
            <p:cNvSpPr/>
            <p:nvPr/>
          </p:nvSpPr>
          <p:spPr>
            <a:xfrm>
              <a:off x="2193840" y="1557000"/>
              <a:ext cx="505080" cy="214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61"/>
            <p:cNvSpPr/>
            <p:nvPr/>
          </p:nvSpPr>
          <p:spPr>
            <a:xfrm>
              <a:off x="2266920" y="1628640"/>
              <a:ext cx="432000" cy="216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62"/>
            <p:cNvSpPr/>
            <p:nvPr/>
          </p:nvSpPr>
          <p:spPr>
            <a:xfrm>
              <a:off x="2411280" y="1773000"/>
              <a:ext cx="360360" cy="71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63"/>
            <p:cNvSpPr/>
            <p:nvPr/>
          </p:nvSpPr>
          <p:spPr>
            <a:xfrm>
              <a:off x="900000" y="1196640"/>
              <a:ext cx="936720" cy="1657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9" name="Picture 64" descr="100100"/>
            <p:cNvPicPr/>
            <p:nvPr/>
          </p:nvPicPr>
          <p:blipFill>
            <a:blip r:embed="rId8"/>
            <a:stretch/>
          </p:blipFill>
          <p:spPr>
            <a:xfrm>
              <a:off x="971640" y="1125360"/>
              <a:ext cx="52704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Freeform 65"/>
            <p:cNvSpPr/>
            <p:nvPr/>
          </p:nvSpPr>
          <p:spPr>
            <a:xfrm rot="394800">
              <a:off x="2052720" y="2852640"/>
              <a:ext cx="1044360" cy="82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202680" y="424440"/>
            <a:ext cx="3629160" cy="4156920"/>
            <a:chOff x="202680" y="424440"/>
            <a:chExt cx="3629160" cy="4156920"/>
          </a:xfrm>
        </p:grpSpPr>
        <p:pic>
          <p:nvPicPr>
            <p:cNvPr id="572" name="Picture 67" descr="88副本"/>
            <p:cNvPicPr/>
            <p:nvPr/>
          </p:nvPicPr>
          <p:blipFill>
            <a:blip r:embed="rId9"/>
            <a:stretch/>
          </p:blipFill>
          <p:spPr>
            <a:xfrm rot="8418600">
              <a:off x="539280" y="1123560"/>
              <a:ext cx="2955960" cy="21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Freeform 68"/>
            <p:cNvSpPr/>
            <p:nvPr/>
          </p:nvSpPr>
          <p:spPr>
            <a:xfrm>
              <a:off x="1331640" y="3213000"/>
              <a:ext cx="408240" cy="1355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9"/>
            <p:cNvSpPr/>
            <p:nvPr/>
          </p:nvSpPr>
          <p:spPr>
            <a:xfrm>
              <a:off x="1692000" y="3213000"/>
              <a:ext cx="250920" cy="13683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70"/>
            <p:cNvSpPr/>
            <p:nvPr/>
          </p:nvSpPr>
          <p:spPr>
            <a:xfrm>
              <a:off x="2195280" y="1771560"/>
              <a:ext cx="179640" cy="982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71"/>
            <p:cNvSpPr/>
            <p:nvPr/>
          </p:nvSpPr>
          <p:spPr>
            <a:xfrm flipV="1">
              <a:off x="2124000" y="1411920"/>
              <a:ext cx="144360" cy="71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72"/>
            <p:cNvSpPr/>
            <p:nvPr/>
          </p:nvSpPr>
          <p:spPr>
            <a:xfrm>
              <a:off x="2411280" y="1484280"/>
              <a:ext cx="144360" cy="1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3"/>
            <p:cNvSpPr/>
            <p:nvPr/>
          </p:nvSpPr>
          <p:spPr>
            <a:xfrm>
              <a:off x="2338200" y="1052280"/>
              <a:ext cx="505080" cy="214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74"/>
            <p:cNvSpPr/>
            <p:nvPr/>
          </p:nvSpPr>
          <p:spPr>
            <a:xfrm>
              <a:off x="2411280" y="1123920"/>
              <a:ext cx="432000" cy="216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75"/>
            <p:cNvSpPr/>
            <p:nvPr/>
          </p:nvSpPr>
          <p:spPr>
            <a:xfrm>
              <a:off x="2555640" y="1268280"/>
              <a:ext cx="360360" cy="71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76"/>
            <p:cNvSpPr/>
            <p:nvPr/>
          </p:nvSpPr>
          <p:spPr>
            <a:xfrm>
              <a:off x="1044360" y="691920"/>
              <a:ext cx="936720" cy="1657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Picture 77" descr="100100"/>
            <p:cNvPicPr/>
            <p:nvPr/>
          </p:nvPicPr>
          <p:blipFill>
            <a:blip r:embed="rId10"/>
            <a:stretch/>
          </p:blipFill>
          <p:spPr>
            <a:xfrm>
              <a:off x="1116000" y="620640"/>
              <a:ext cx="52704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Freeform 78"/>
            <p:cNvSpPr/>
            <p:nvPr/>
          </p:nvSpPr>
          <p:spPr>
            <a:xfrm rot="394800">
              <a:off x="2197080" y="2347920"/>
              <a:ext cx="1044360" cy="82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347760" y="-196200"/>
            <a:ext cx="3628800" cy="4156920"/>
            <a:chOff x="347760" y="-196200"/>
            <a:chExt cx="3628800" cy="4156920"/>
          </a:xfrm>
        </p:grpSpPr>
        <p:pic>
          <p:nvPicPr>
            <p:cNvPr id="585" name="Picture 80" descr="88副本"/>
            <p:cNvPicPr/>
            <p:nvPr/>
          </p:nvPicPr>
          <p:blipFill>
            <a:blip r:embed="rId11"/>
            <a:stretch/>
          </p:blipFill>
          <p:spPr>
            <a:xfrm rot="8418600">
              <a:off x="684360" y="502920"/>
              <a:ext cx="2955600" cy="21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Freeform 81"/>
            <p:cNvSpPr/>
            <p:nvPr/>
          </p:nvSpPr>
          <p:spPr>
            <a:xfrm>
              <a:off x="1476000" y="2592360"/>
              <a:ext cx="407880" cy="1355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82"/>
            <p:cNvSpPr/>
            <p:nvPr/>
          </p:nvSpPr>
          <p:spPr>
            <a:xfrm>
              <a:off x="1836360" y="2592360"/>
              <a:ext cx="250560" cy="13683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83"/>
            <p:cNvSpPr/>
            <p:nvPr/>
          </p:nvSpPr>
          <p:spPr>
            <a:xfrm>
              <a:off x="2339640" y="1150920"/>
              <a:ext cx="179280" cy="982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84"/>
            <p:cNvSpPr/>
            <p:nvPr/>
          </p:nvSpPr>
          <p:spPr>
            <a:xfrm flipV="1">
              <a:off x="2268360" y="791280"/>
              <a:ext cx="144000" cy="71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85"/>
            <p:cNvSpPr/>
            <p:nvPr/>
          </p:nvSpPr>
          <p:spPr>
            <a:xfrm>
              <a:off x="2555640" y="863640"/>
              <a:ext cx="144000" cy="1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86"/>
            <p:cNvSpPr/>
            <p:nvPr/>
          </p:nvSpPr>
          <p:spPr>
            <a:xfrm>
              <a:off x="2482560" y="431640"/>
              <a:ext cx="504720" cy="2145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87"/>
            <p:cNvSpPr/>
            <p:nvPr/>
          </p:nvSpPr>
          <p:spPr>
            <a:xfrm>
              <a:off x="2555640" y="503280"/>
              <a:ext cx="431640" cy="216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88"/>
            <p:cNvSpPr/>
            <p:nvPr/>
          </p:nvSpPr>
          <p:spPr>
            <a:xfrm>
              <a:off x="2700000" y="647640"/>
              <a:ext cx="360000" cy="71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89"/>
            <p:cNvSpPr/>
            <p:nvPr/>
          </p:nvSpPr>
          <p:spPr>
            <a:xfrm>
              <a:off x="1188720" y="71280"/>
              <a:ext cx="936360" cy="1657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5" name="Picture 90" descr="100100"/>
            <p:cNvPicPr/>
            <p:nvPr/>
          </p:nvPicPr>
          <p:blipFill>
            <a:blip r:embed="rId12"/>
            <a:stretch/>
          </p:blipFill>
          <p:spPr>
            <a:xfrm>
              <a:off x="1260360" y="0"/>
              <a:ext cx="52668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Freeform 91"/>
            <p:cNvSpPr/>
            <p:nvPr/>
          </p:nvSpPr>
          <p:spPr>
            <a:xfrm rot="394800">
              <a:off x="2341440" y="1727280"/>
              <a:ext cx="1044000" cy="82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781200" y="-1006200"/>
            <a:ext cx="3625200" cy="4147560"/>
            <a:chOff x="781200" y="-1006200"/>
            <a:chExt cx="3625200" cy="4147560"/>
          </a:xfrm>
        </p:grpSpPr>
        <p:pic>
          <p:nvPicPr>
            <p:cNvPr id="598" name="Picture 93" descr="88副本"/>
            <p:cNvPicPr/>
            <p:nvPr/>
          </p:nvPicPr>
          <p:blipFill>
            <a:blip r:embed="rId13"/>
            <a:stretch/>
          </p:blipFill>
          <p:spPr>
            <a:xfrm rot="8418600">
              <a:off x="1115640" y="-306000"/>
              <a:ext cx="295596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Freeform 94"/>
            <p:cNvSpPr/>
            <p:nvPr/>
          </p:nvSpPr>
          <p:spPr>
            <a:xfrm>
              <a:off x="1908000" y="1776960"/>
              <a:ext cx="408240" cy="1351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95"/>
            <p:cNvSpPr/>
            <p:nvPr/>
          </p:nvSpPr>
          <p:spPr>
            <a:xfrm>
              <a:off x="2268360" y="1776960"/>
              <a:ext cx="250920" cy="13644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96"/>
            <p:cNvSpPr/>
            <p:nvPr/>
          </p:nvSpPr>
          <p:spPr>
            <a:xfrm>
              <a:off x="2771640" y="339480"/>
              <a:ext cx="179640" cy="979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97"/>
            <p:cNvSpPr/>
            <p:nvPr/>
          </p:nvSpPr>
          <p:spPr>
            <a:xfrm flipV="1">
              <a:off x="2700360" y="-18000"/>
              <a:ext cx="144360" cy="712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98"/>
            <p:cNvSpPr/>
            <p:nvPr/>
          </p:nvSpPr>
          <p:spPr>
            <a:xfrm>
              <a:off x="2987640" y="52920"/>
              <a:ext cx="144360" cy="1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99"/>
            <p:cNvSpPr/>
            <p:nvPr/>
          </p:nvSpPr>
          <p:spPr>
            <a:xfrm>
              <a:off x="2914560" y="-377640"/>
              <a:ext cx="505080" cy="2138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00"/>
            <p:cNvSpPr/>
            <p:nvPr/>
          </p:nvSpPr>
          <p:spPr>
            <a:xfrm>
              <a:off x="2987640" y="-306000"/>
              <a:ext cx="432000" cy="2152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01"/>
            <p:cNvSpPr/>
            <p:nvPr/>
          </p:nvSpPr>
          <p:spPr>
            <a:xfrm>
              <a:off x="3132000" y="-162000"/>
              <a:ext cx="360360" cy="712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02"/>
            <p:cNvSpPr/>
            <p:nvPr/>
          </p:nvSpPr>
          <p:spPr>
            <a:xfrm>
              <a:off x="1620720" y="-736920"/>
              <a:ext cx="936720" cy="1652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8" name="Picture 103" descr="100100"/>
            <p:cNvPicPr/>
            <p:nvPr/>
          </p:nvPicPr>
          <p:blipFill>
            <a:blip r:embed="rId14"/>
            <a:stretch/>
          </p:blipFill>
          <p:spPr>
            <a:xfrm>
              <a:off x="1692360" y="-808200"/>
              <a:ext cx="527040" cy="5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Freeform 104"/>
            <p:cNvSpPr/>
            <p:nvPr/>
          </p:nvSpPr>
          <p:spPr>
            <a:xfrm rot="394800">
              <a:off x="2773440" y="914040"/>
              <a:ext cx="1044360" cy="82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1600200" y="662400"/>
            <a:ext cx="3346200" cy="4194360"/>
            <a:chOff x="1600200" y="662400"/>
            <a:chExt cx="3346200" cy="4194360"/>
          </a:xfrm>
        </p:grpSpPr>
        <p:sp>
          <p:nvSpPr>
            <p:cNvPr id="611" name="Freeform 106"/>
            <p:cNvSpPr/>
            <p:nvPr/>
          </p:nvSpPr>
          <p:spPr>
            <a:xfrm rot="2905200">
              <a:off x="3004200" y="719280"/>
              <a:ext cx="961560" cy="18608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2" name="Picture 107" descr="88副本"/>
            <p:cNvPicPr/>
            <p:nvPr/>
          </p:nvPicPr>
          <p:blipFill>
            <a:blip r:embed="rId15"/>
            <a:stretch/>
          </p:blipFill>
          <p:spPr>
            <a:xfrm rot="6396600">
              <a:off x="1561320" y="1615680"/>
              <a:ext cx="296460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Freeform 108"/>
            <p:cNvSpPr/>
            <p:nvPr/>
          </p:nvSpPr>
          <p:spPr>
            <a:xfrm rot="17894400">
              <a:off x="3814200" y="3559320"/>
              <a:ext cx="408960" cy="15166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09"/>
            <p:cNvSpPr/>
            <p:nvPr/>
          </p:nvSpPr>
          <p:spPr>
            <a:xfrm rot="16816800">
              <a:off x="4043160" y="3094560"/>
              <a:ext cx="259560" cy="1524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10"/>
            <p:cNvSpPr/>
            <p:nvPr/>
          </p:nvSpPr>
          <p:spPr>
            <a:xfrm rot="19577400">
              <a:off x="2924280" y="2136960"/>
              <a:ext cx="211680" cy="698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11"/>
            <p:cNvSpPr/>
            <p:nvPr/>
          </p:nvSpPr>
          <p:spPr>
            <a:xfrm flipV="1" rot="19578000">
              <a:off x="2702520" y="1919520"/>
              <a:ext cx="144720" cy="71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12"/>
            <p:cNvSpPr/>
            <p:nvPr/>
          </p:nvSpPr>
          <p:spPr>
            <a:xfrm rot="19577400">
              <a:off x="2919600" y="1848960"/>
              <a:ext cx="144720" cy="1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13"/>
            <p:cNvSpPr/>
            <p:nvPr/>
          </p:nvSpPr>
          <p:spPr>
            <a:xfrm rot="16983600">
              <a:off x="2547720" y="1258920"/>
              <a:ext cx="506160" cy="2149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14"/>
            <p:cNvSpPr/>
            <p:nvPr/>
          </p:nvSpPr>
          <p:spPr>
            <a:xfrm rot="19577400">
              <a:off x="2774520" y="1298160"/>
              <a:ext cx="433440" cy="2163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15"/>
            <p:cNvSpPr/>
            <p:nvPr/>
          </p:nvSpPr>
          <p:spPr>
            <a:xfrm rot="19577400">
              <a:off x="2919240" y="1442880"/>
              <a:ext cx="361440" cy="712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1" name="Picture 116" descr="100100"/>
            <p:cNvPicPr/>
            <p:nvPr/>
          </p:nvPicPr>
          <p:blipFill>
            <a:blip r:embed="rId16"/>
            <a:stretch/>
          </p:blipFill>
          <p:spPr>
            <a:xfrm rot="19577400">
              <a:off x="3641400" y="764640"/>
              <a:ext cx="528840" cy="5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Freeform 117"/>
            <p:cNvSpPr/>
            <p:nvPr/>
          </p:nvSpPr>
          <p:spPr>
            <a:xfrm rot="1128600">
              <a:off x="3352680" y="764640"/>
              <a:ext cx="361440" cy="18784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1141560" y="-503280"/>
            <a:ext cx="3625200" cy="4147920"/>
            <a:chOff x="1141560" y="-503280"/>
            <a:chExt cx="3625200" cy="4147920"/>
          </a:xfrm>
        </p:grpSpPr>
        <p:pic>
          <p:nvPicPr>
            <p:cNvPr id="624" name="Picture 119" descr="88副本"/>
            <p:cNvPicPr/>
            <p:nvPr/>
          </p:nvPicPr>
          <p:blipFill>
            <a:blip r:embed="rId17"/>
            <a:stretch/>
          </p:blipFill>
          <p:spPr>
            <a:xfrm rot="8418600">
              <a:off x="1476000" y="196560"/>
              <a:ext cx="295596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Freeform 120"/>
            <p:cNvSpPr/>
            <p:nvPr/>
          </p:nvSpPr>
          <p:spPr>
            <a:xfrm>
              <a:off x="2268360" y="2280240"/>
              <a:ext cx="408240" cy="1351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21"/>
            <p:cNvSpPr/>
            <p:nvPr/>
          </p:nvSpPr>
          <p:spPr>
            <a:xfrm>
              <a:off x="2628720" y="2280240"/>
              <a:ext cx="250920" cy="13644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22"/>
            <p:cNvSpPr/>
            <p:nvPr/>
          </p:nvSpPr>
          <p:spPr>
            <a:xfrm>
              <a:off x="3132000" y="842760"/>
              <a:ext cx="179640" cy="979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23"/>
            <p:cNvSpPr/>
            <p:nvPr/>
          </p:nvSpPr>
          <p:spPr>
            <a:xfrm flipV="1">
              <a:off x="3060720" y="484920"/>
              <a:ext cx="144360" cy="712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24"/>
            <p:cNvSpPr/>
            <p:nvPr/>
          </p:nvSpPr>
          <p:spPr>
            <a:xfrm>
              <a:off x="3348000" y="556200"/>
              <a:ext cx="144360" cy="1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25"/>
            <p:cNvSpPr/>
            <p:nvPr/>
          </p:nvSpPr>
          <p:spPr>
            <a:xfrm>
              <a:off x="3274920" y="125280"/>
              <a:ext cx="505080" cy="2138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26"/>
            <p:cNvSpPr/>
            <p:nvPr/>
          </p:nvSpPr>
          <p:spPr>
            <a:xfrm>
              <a:off x="3348000" y="196920"/>
              <a:ext cx="432000" cy="2152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27"/>
            <p:cNvSpPr/>
            <p:nvPr/>
          </p:nvSpPr>
          <p:spPr>
            <a:xfrm>
              <a:off x="3492360" y="340920"/>
              <a:ext cx="360360" cy="712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28"/>
            <p:cNvSpPr/>
            <p:nvPr/>
          </p:nvSpPr>
          <p:spPr>
            <a:xfrm>
              <a:off x="1981080" y="-233640"/>
              <a:ext cx="936720" cy="1652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4" name="Picture 129" descr="100100"/>
            <p:cNvPicPr/>
            <p:nvPr/>
          </p:nvPicPr>
          <p:blipFill>
            <a:blip r:embed="rId18"/>
            <a:stretch/>
          </p:blipFill>
          <p:spPr>
            <a:xfrm>
              <a:off x="2052720" y="-304920"/>
              <a:ext cx="527040" cy="5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Freeform 130"/>
            <p:cNvSpPr/>
            <p:nvPr/>
          </p:nvSpPr>
          <p:spPr>
            <a:xfrm rot="394800">
              <a:off x="3133800" y="1417320"/>
              <a:ext cx="1044360" cy="82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Oval 131"/>
          <p:cNvSpPr/>
          <p:nvPr/>
        </p:nvSpPr>
        <p:spPr>
          <a:xfrm>
            <a:off x="3419640" y="692280"/>
            <a:ext cx="936360" cy="6490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132"/>
          <p:cNvSpPr/>
          <p:nvPr/>
        </p:nvSpPr>
        <p:spPr>
          <a:xfrm>
            <a:off x="3419640" y="1125360"/>
            <a:ext cx="358560" cy="115272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133"/>
          <p:cNvSpPr/>
          <p:nvPr/>
        </p:nvSpPr>
        <p:spPr>
          <a:xfrm>
            <a:off x="3924360" y="981000"/>
            <a:ext cx="433440" cy="115272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134"/>
          <p:cNvSpPr/>
          <p:nvPr/>
        </p:nvSpPr>
        <p:spPr>
          <a:xfrm>
            <a:off x="4140360" y="476280"/>
            <a:ext cx="144360" cy="144360"/>
          </a:xfrm>
          <a:custGeom>
            <a:avLst/>
            <a:gdLst>
              <a:gd name="textAreaLeft" fmla="*/ 59400 w 144360"/>
              <a:gd name="textAreaRight" fmla="*/ 84960 w 144360"/>
              <a:gd name="textAreaTop" fmla="*/ 59400 h 144360"/>
              <a:gd name="textAreaBottom" fmla="*/ 849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135"/>
          <p:cNvSpPr/>
          <p:nvPr/>
        </p:nvSpPr>
        <p:spPr>
          <a:xfrm>
            <a:off x="3419640" y="404640"/>
            <a:ext cx="287280" cy="433440"/>
          </a:xfrm>
          <a:custGeom>
            <a:avLst/>
            <a:gdLst>
              <a:gd name="textAreaLeft" fmla="*/ 118440 w 287280"/>
              <a:gd name="textAreaRight" fmla="*/ 168840 w 287280"/>
              <a:gd name="textAreaTop" fmla="*/ 178560 h 433440"/>
              <a:gd name="textAreaBottom" fmla="*/ 2548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136"/>
          <p:cNvSpPr/>
          <p:nvPr/>
        </p:nvSpPr>
        <p:spPr>
          <a:xfrm>
            <a:off x="4067280" y="765000"/>
            <a:ext cx="242640" cy="195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AutoShape 137"/>
          <p:cNvSpPr/>
          <p:nvPr/>
        </p:nvSpPr>
        <p:spPr>
          <a:xfrm>
            <a:off x="3492360" y="907920"/>
            <a:ext cx="243000" cy="195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reeform 138"/>
          <p:cNvSpPr/>
          <p:nvPr/>
        </p:nvSpPr>
        <p:spPr>
          <a:xfrm>
            <a:off x="5808600" y="4227480"/>
            <a:ext cx="324000" cy="200160"/>
          </a:xfrm>
          <a:prstGeom prst="pie">
            <a:avLst/>
          </a:prstGeom>
          <a:solidFill>
            <a:srgbClr val="a07f0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reeform 139"/>
          <p:cNvSpPr/>
          <p:nvPr/>
        </p:nvSpPr>
        <p:spPr>
          <a:xfrm>
            <a:off x="6516720" y="4292640"/>
            <a:ext cx="431640" cy="177840"/>
          </a:xfrm>
          <a:prstGeom prst="pie">
            <a:avLst/>
          </a:prstGeom>
          <a:solidFill>
            <a:srgbClr val="a07f0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40"/>
          <p:cNvSpPr/>
          <p:nvPr/>
        </p:nvSpPr>
        <p:spPr>
          <a:xfrm>
            <a:off x="-1538280" y="4437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558880" y="5157720"/>
            <a:ext cx="1003320" cy="43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充满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708360" y="2708280"/>
            <a:ext cx="1581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533840" y="5183280"/>
            <a:ext cx="1479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美好的回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435640" y="-449280"/>
            <a:ext cx="25542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没错，这就是我们生活部这个大家庭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3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500"/>
                            </p:stCondLst>
                            <p:childTnLst>
                              <p:par>
                                <p:cTn id="14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6" dur="1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9" dur="5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5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6" dur="5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8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9" dur="5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8.67052E-007 L 0.08923 -0.16093 E">
                                      <p:cBhvr>
                                        <p:cTn id="1544" dur="2000" fill="hold"/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546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6185E-006 L -0.07622 -0.20278 E">
                                      <p:cBhvr>
                                        <p:cTn id="1550" dur="20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552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5" dur="250" autoRev="1" fill="hold"/>
                                        <p:tgtEl>
                                          <p:spTgt spid="6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7" dur="5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0" dur="5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3" dur="5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056 -0.063334 C -0.011285 -0.064923 -0.006285 -0.070494 -0.002431 -0.072871 C 0.001423 -0.075247 0.006215 -0.076019 0.010069 -0.077593 C 0.013923 -0.079167 0.017141 -0.080741 0.020694 -0.082315 C 0.024247 -0.083889 0.028125 -0.085448 0.031389 -0.087037 C 0.034652 -0.088626 0.037025 -0.089876 0.040278 -0.091852 C 0.04353 -0.093828 0.047349 -0.097315 0.050903 -0.098889 C 0.054456 -0.100463 0.058634 -0.100108 0.061597 -0.101297 C 0.06456 -0.102485 0.066018 -0.104831 0.06868 -0.106019 C 0.071342 -0.107207 0.074907 -0.107639 0.077569 -0.108426 C 0.080231 -0.109213 0.08199 -0.110355 0.084653 -0.110741 C 0.087315 -0.111127 0.090578 -0.11034 0.093541 -0.110741 C 0.096504 -0.111142 0.099467 -0.112747 0.10243 -0.113149 C 0.105393 -0.11355 0.108646 -0.113149 0.111319 -0.113149 C 0.113993 -0.113149 0.116099 -0.114336 0.118472 -0.113149 C 0.120845 -0.11196 0.123194 -0.107993 0.125555 -0.106019 C 0.127916 -0.104044 0.129676 -0.102871 0.132639 -0.101297 C 0.135602 -0.099723 0.14037 -0.097362 0.143333 -0.096574 C 0.146296 -0.095788 0.148044 -0.096976 0.150416 -0.096574 C 0.152789 -0.096172 0.154606 -0.094954 0.157569 -0.094167 C 0.160532 -0.09338 0.164641 -0.092639 0.168194 -0.091852 C 0.171747 -0.091065 0.175335 -0.090247 0.178889 -0.089445 C 0.182442 -0.088642 0.186261 -0.087824 0.189514 -0.087037 C 0.192766 -0.08625 0.19544 -0.085108 0.198403 -0.084723 C 0.201365 -0.084337 0.204028 -0.085124 0.207291 -0.084723 C 0.210555 -0.084321 0.215023 -0.083102 0.217986 -0.082315 C 0.220949 -0.081528 0.221817 -0.080787 0.225069 -0.08 C 0.228322 -0.079213 0.234236 -0.078396 0.2375 -0.077593 C 0.240764 -0.07679 0.241979 -0.075586 0.244653 -0.075186 C 0.247326 -0.074784 0.250578 -0.075186 0.253541 -0.075186 C 0.256504 -0.075186 0.259178 -0.075186 0.26243 -0.075186 C 0.265683 -0.075186 0.269213 -0.075186 0.273055 -0.075186 C 0.276898 -0.075186 0.281331 -0.075186 0.285486 -0.075186 C 0.289641 -0.075186 0.294132 -0.075186 0.297986 -0.075186 C 0.30184 -0.075186 0.305359 -0.075186 0.308611 -0.075186 C 0.311863 -0.075186 0.314838 -0.074784 0.3175 -0.075186 C 0.320162 -0.075586 0.321921 -0.07679 0.324583 -0.077593 C 0.327245 -0.078396 0.330798 -0.078812 0.333472 -0.08 C 0.336145 -0.081189 0.337951 -0.08355 0.340625 -0.084723 C 0.343298 -0.085896 0.346852 -0.08625 0.349514 -0.087037 C 0.352176 -0.087824 0.353345 -0.087855 0.356597 -0.089445 C 0.359849 -0.091034 0.365173 -0.094599 0.369028 -0.096574 C 0.372882 -0.09855 0.376458 -0.100108 0.379722 -0.101297 C 0.382986 -0.102485 0.385648 -0.102917 0.388611 -0.103704 C 0.391574 -0.104491 0.394247 -0.105231 0.3975 -0.106019 C 0.400752 -0.106806 0.404872 -0.107238 0.408125 -0.108426 C 0.411377 -0.109615 0.41375 -0.111575 0.417014 -0.113149 C 0.420277 -0.114723 0.423854 -0.116297 0.427708 -0.11787 C 0.431562 -0.119445 0.436886 -0.121405 0.440139 -0.122593 C 0.443391 -0.123781 0.44456 -0.123812 0.447222 -0.125 C 0.449884 -0.126189 0.453437 -0.128149 0.456111 -0.129723 C 0.458784 -0.131296 0.46059 -0.132871 0.463264 -0.134445 C 0.465937 -0.136019 0.46949 -0.137191 0.472153 -0.139167 C 0.474814 -0.141142 0.476574 -0.14392 0.479236 -0.146297 C 0.481898 -0.148673 0.485463 -0.151451 0.488125 -0.153426 C 0.490787 -0.155402 0.492835 -0.155772 0.495208 -0.158148 C 0.497581 -0.160525 0.499988 -0.163735 0.502361 -0.167686 C 0.504734 -0.171635 0.507372 -0.177916 0.509444 -0.181852 C 0.511516 -0.185787 0.51331 -0.188132 0.514791 -0.191298 C 0.516273 -0.19446 0.517153 -0.197268 0.518333 -0.200834 C 0.519514 -0.204399 0.520393 -0.208735 0.521875 -0.212685 C 0.523356 -0.216635 0.52603 -0.220988 0.527222 -0.224536 C 0.528414 -0.228087 0.528727 -0.230833 0.529028 -0.233983 C 0.529328 -0.23713 0.529028 -0.240262 0.529028 -0.243426 C 0.529028 -0.246591 0.529028 -0.2498 0.529028 -0.252963 C 0.529028 -0.256127 0.529028 -0.259245 0.529028 -0.262408 C 0.529028 -0.265572 0.529028 -0.268781 0.529028 -0.271946 C 0.529028 -0.275108 0.529028 -0.278241 0.529028 -0.281388 C 0.529028 -0.284537 0.529028 -0.28767 0.529028 -0.290833 C 0.529028 -0.293997 0.529028 -0.297206 0.529028 -0.300371 C 0.529028 -0.303533 0.529028 -0.306666 0.529028 -0.309815 C 0.529028 -0.312963 0.529028 -0.316096 0.529028 -0.31926 C 0.529028 -0.322421 0.529028 -0.325633 0.529028 -0.328796 C 0.529028 -0.33196 0.529028 -0.335078 0.529028 -0.338241 C 0.529028 -0.341404 0.529028 -0.344615 0.529028 -0.347778 C 0.529028 -0.350942 0.528738 -0.354075 0.529028 -0.357222 C 0.529317 -0.360371 0.530474 -0.363504 0.530764 -0.366666 C 0.531053 -0.369831 0.530764 -0.373041 0.530764 -0.376203 C 0.530764 -0.379368 0.530764 -0.3825 0.530764 -0.38565 C 0.530764 -0.388796 0.531053 -0.391929 0.530764 -0.395094 C 0.530474 -0.398255 0.529317 -0.401465 0.529028 -0.40463 C 0.528738 -0.407793 0.529328 -0.410927 0.529028 -0.414073 C 0.528727 -0.417223 0.527824 -0.420355 0.527222 -0.423518 C 0.52662 -0.426683 0.526007 -0.429891 0.525416 -0.433056 C 0.524826 -0.43622 0.52427 -0.43895 0.52368 -0.442501 C 0.52309 -0.44605 0.522176 -0.450787 0.521875 -0.454352 C 0.521574 -0.457918 0.521875 -0.460323 0.521875 -0.463888 C 0.521875 -0.467453 0.521875 -0.471806 0.521875 -0.475742 C 0.521875 -0.479674 0.521875 -0.483565 0.521875 -0.4875 C 0.521875 -0.491435 0.522164 -0.495787 0.521875 -0.499352 C 0.521585 -0.502917 0.520729 -0.505727 0.520139 -0.508888 C 0.519548 -0.512053 0.518935 -0.51517 0.518333 -0.518335 C 0.517731 -0.521498 0.517419 -0.524707 0.516528 -0.52787 C 0.515636 -0.531035 0.514467 -0.534167 0.512986 -0.537315 C 0.511504 -0.540464 0.50971 -0.543596 0.507639 -0.54676 C 0.505567 -0.549923 0.502916 -0.553535 0.500555 -0.556296 C 0.498194 -0.559059 0.495845 -0.561357 0.493472 -0.563333 C 0.491099 -0.565307 0.488993 -0.566558 0.486319 -0.56815 C 0.483646 -0.569738 0.480393 -0.571298 0.47743 -0.57287 C 0.474467 -0.574445 0.471794 -0.576018 0.468541 -0.577592 C 0.465289 -0.579168 0.461169 -0.581128 0.457916 -0.582316 C 0.454664 -0.583505 0.45169 -0.583936 0.449028 -0.584723 C 0.446365 -0.58551 0.444606 -0.585847 0.441944 -0.587038 C 0.439282 -0.588226 0.436319 -0.591051 0.433055 -0.591852 C 0.429791 -0.592654 0.425926 -0.591852 0.422361 -0.591852 C 0.418796 -0.591852 0.414629 -0.591852 0.411666 -0.591852 C 0.408703 -0.591852 0.406944 -0.591852 0.404583 -0.591852 C 0.402222 -0.591852 0.401643 -0.591852 0.3975 -0.591852 C 0.393356 -0.591852 0.384757 -0.591466 0.379722 -0.591852 C 0.374687 -0.592238 0.371736 -0.59378 0.367291 -0.594168 C 0.362847 -0.594552 0.357801 -0.594168 0.353055 -0.594168 C 0.34831 -0.594168 0.344155 -0.594168 0.338819 -0.594168 C 0.333484 -0.594168 0.327257 -0.593765 0.321041 -0.594168 C 0.314826 -0.594568 0.308333 -0.596173 0.301528 -0.596573 C 0.294722 -0.596976 0.287315 -0.596573 0.280208 -0.596573 C 0.273102 -0.596573 0.265706 -0.596573 0.258889 -0.596573 C 0.252072 -0.596573 0.245532 -0.596573 0.239305 -0.596573 C 0.233078 -0.596573 0.227743 -0.596976 0.221528 -0.596573 C 0.215312 -0.596173 0.208229 -0.594954 0.202014 -0.594168 C 0.195798 -0.593381 0.188981 -0.592238 0.184236 -0.591852 C 0.17949 -0.591466 0.177095 -0.591852 0.173541 -0.591852 C 0.169988 -0.591852 0.16647 -0.592252 0.162916 -0.591852 C 0.159363 -0.591452 0.155185 -0.590248 0.152222 -0.589445 C 0.149259 -0.588643 0.147511 -0.587438 0.145139 -0.587038 C 0.142766 -0.586635 0.140659 -0.587424 0.137986 -0.587038 C 0.135312 -0.586653 0.13206 -0.58551 0.129097 -0.584723 C 0.126134 -0.583936 0.12346 -0.583505 0.120208 -0.582316 C 0.116956 -0.581128 0.112245 -0.579953 0.109583 -0.577592 C 0.106921 -0.575233 0.106609 -0.570525 0.104236 -0.56815 C 0.101863 -0.565772 0.098009 -0.565307 0.095347 -0.563333 C 0.092685 -0.561357 0.090046 -0.559059 0.088264 -0.556296 C 0.086481 -0.553535 0.085544 -0.549923 0.084653 -0.54676 C 0.083761 -0.543596 0.083507 -0.540865 0.082916 -0.537315 C 0.082326 -0.533765 0.081412 -0.529013 0.081111 -0.525464 C 0.08081 -0.521913 0.081111 -0.519183 0.081111 -0.516018 C 0.081111 -0.512854 0.081111 -0.510433 0.081111 -0.506483 C 0.081111 -0.502531 0.081111 -0.496265 0.081111 -0.492314 C 0.081111 -0.488365 0.081111 -0.486343 0.081111 -0.482777 C 0.081111 -0.479214 0.081111 -0.474877 0.081111 -0.470927 C 0.081111 -0.466976 0.08081 -0.462623 0.081111 -0.459074 C 0.081412 -0.455525 0.082326 -0.452778 0.082916 -0.44963 C 0.083507 -0.446482 0.084363 -0.443349 0.084653 -0.440187 C 0.084942 -0.437021 0.084352 -0.43065 0.084653 -0.43065 C 0.084953 -0.43065 0.086157 -0.43662 0.086458 -0.440187 C 0.086759 -0.44375 0.086458 -0.447702 0.086458 -0.452037 C 0.086458 -0.456374 0.086458 -0.462252 0.086458 -0.466204 C 0.086458 -0.470154 0.086759 -0.471005 0.086458 -0.475742 C 0.086157 -0.480479 0.085544 -0.489105 0.084653 -0.49463 C 0.083761 -0.500155 0.082291 -0.504152 0.081111 -0.508888 C 0.07993 -0.513626 0.079051 -0.51872 0.077569 -0.523057 C 0.076088 -0.527391 0.073703 -0.530955 0.072222 -0.534908 C 0.07074 -0.538856 0.070451 -0.542408 0.06868 -0.54676 C 0.066909 -0.551112 0.063368 -0.557069 0.061597 -0.561018 C 0.059826 -0.56497 0.059838 -0.5673 0.058055 -0.570463 C 0.056273 -0.573628 0.053865 -0.576836 0.050903 -0.580001 C 0.04794 -0.583163 0.04324 -0.58747 0.040278 -0.589445 C 0.037315 -0.59142 0.036678 -0.590278 0.033125 -0.591852 C 0.029572 -0.593427 0.022511 -0.597715 0.018958 -0.59889 C 0.015405 -0.600062 0.014479 -0.598488 0.011805 -0.59889 C 0.009132 -0.599291 0.00647 -0.600495 0.002916 -0.601297 C -0.000637 -0.602098 -0.005371 -0.602918 -0.009514 -0.603703 C -0.013658 -0.604489 -0.018091 -0.605233 -0.021945 -0.606019 C -0.025799 -0.606804 -0.028496 -0.607638 -0.032639 -0.608426 C -0.036783 -0.609213 -0.042072 -0.610355 -0.046806 -0.610741 C -0.05154 -0.611127 -0.056297 -0.610741 -0.061042 -0.610741 C -0.065787 -0.610741 -0.069942 -0.610741 -0.075278 -0.610741 C -0.080614 -0.610741 -0.08772 -0.610741 -0.093056 -0.610741 C -0.098391 -0.610741 -0.101968 -0.610741 -0.107292 -0.610741 C -0.112616 -0.610741 -0.119676 -0.610741 -0.125 -0.610741 C -0.130324 -0.610741 -0.134792 -0.610741 -0.139236 -0.610741 C -0.143681 -0.610741 -0.147223 -0.611127 -0.151667 -0.610741 C -0.156111 -0.610355 -0.161459 -0.609213 -0.165903 -0.608426 C -0.170347 -0.607638 -0.17419 -0.606804 -0.178334 -0.606019 C -0.182477 -0.605233 -0.18691 -0.604489 -0.190764 -0.603703 C -0.194618 -0.602918 -0.197604 -0.602098 -0.201459 -0.601297 C -0.205313 -0.600495 -0.210336 -0.600078 -0.213889 -0.59889 C -0.217442 -0.5977 -0.219514 -0.595742 -0.222778 -0.594168 C -0.226042 -0.592592 -0.23051 -0.590632 -0.233472 -0.589445 C -0.236435 -0.588256 -0.237894 -0.588226 -0.240556 -0.587038 C -0.243218 -0.585847 -0.246783 -0.583488 -0.249445 -0.582316 C -0.252107 -0.581141 -0.254155 -0.58119 -0.256528 -0.580001 C -0.258901 -0.578812 -0.260718 -0.57716 -0.263681 -0.575184 C -0.266644 -0.57321 -0.271053 -0.570123 -0.274306 -0.56815 C -0.277558 -0.566172 -0.280232 -0.565709 -0.283195 -0.563333 C -0.286158 -0.560955 -0.290012 -0.557037 -0.292084 -0.553888 C -0.294155 -0.55074 -0.294433 -0.548395 -0.295625 -0.544445 C -0.296817 -0.540495 -0.298634 -0.534536 -0.299236 -0.530186 C -0.299838 -0.525833 -0.298646 -0.52267 -0.299236 -0.518335 C -0.299827 -0.513997 -0.302188 -0.508119 -0.302778 -0.504167 C -0.303368 -0.500214 -0.302489 -0.498195 -0.302778 -0.49463 C -0.303067 -0.491065 -0.304225 -0.486729 -0.304514 -0.482777 C -0.304803 -0.478828 -0.304514 -0.474877 -0.304514 -0.470927 C -0.304514 -0.466976 -0.304514 -0.463025 -0.304514 -0.459074 C -0.304514 -0.455123 -0.304514 -0.452345 -0.304514 -0.447223 C -0.304514 -0.442098 -0.304514 -0.433456 -0.304514 -0.428333 C -0.304514 -0.42321 -0.304514 -0.42122 -0.304514 -0.416481 C -0.304514 -0.411744 -0.304514 -0.405046 -0.304514 -0.399907 C -0.304514 -0.394768 -0.304803 -0.390402 -0.304514 -0.38565 C -0.304225 -0.380896 -0.303368 -0.375742 -0.302778 -0.371388 C -0.302188 -0.367036 -0.301864 -0.363088 -0.300972 -0.359537 C -0.300081 -0.355987 -0.298322 -0.353641 -0.297431 -0.350091 C -0.29654 -0.346545 -0.296216 -0.341791 -0.295625 -0.338241 C -0.295035 -0.334693 -0.29507 -0.332747 -0.293889 -0.328796 C -0.292709 -0.324846 -0.289734 -0.318487 -0.288542 -0.314537 C -0.28735 -0.310587 -0.287917 -0.309045 -0.286736 -0.305093 C -0.285556 -0.301142 -0.282639 -0.295186 -0.281459 -0.290833 C -0.280278 -0.286483 -0.280845 -0.283316 -0.279653 -0.278982 C -0.278461 -0.274646 -0.276088 -0.268766 -0.274306 -0.264813 C -0.272523 -0.260864 -0.270729 -0.258843 -0.268959 -0.255278 C -0.267188 -0.251713 -0.265452 -0.247361 -0.263681 -0.243426 C -0.26191 -0.239491 -0.260405 -0.235602 -0.258334 -0.231668 C -0.256262 -0.227732 -0.253623 -0.223766 -0.25125 -0.219814 C -0.248878 -0.215864 -0.24647 -0.211914 -0.244097 -0.207963 C -0.241725 -0.204013 -0.239387 -0.199676 -0.237014 -0.196112 C -0.234641 -0.192547 -0.231933 -0.189738 -0.229861 -0.186574 C -0.22779 -0.18341 -0.226655 -0.180278 -0.224584 -0.17713 C -0.222512 -0.173981 -0.219803 -0.171235 -0.217431 -0.167686 C -0.215058 -0.164136 -0.212118 -0.159398 -0.210347 -0.155834 C -0.208577 -0.152268 -0.208588 -0.14946 -0.206806 -0.146297 C -0.205023 -0.143133 -0.201725 -0.140016 -0.199653 -0.136852 C -0.197581 -0.133689 -0.196146 -0.13088 -0.194375 -0.127315 C -0.192604 -0.12375 -0.191111 -0.118611 -0.189028 -0.115463 C -0.186945 -0.112315 -0.185139 -0.111976 -0.181875 -0.108426 C -0.178611 -0.104876 -0.173878 -0.098519 -0.169445 -0.094167 C -0.165012 -0.089815 -0.159121 -0.085865 -0.155278 -0.082315 C -0.151435 -0.078766 -0.149352 -0.075232 -0.146389 -0.072871 C -0.143426 -0.07051 -0.140463 -0.069738 -0.1375 -0.068149 C -0.134537 -0.066559 -0.131285 -0.064522 -0.128611 -0.063334 C -0.125938 -0.062144 -0.123831 -0.062192 -0.121459 -0.061019 C -0.119086 -0.059846 -0.117338 -0.057485 -0.114375 -0.056297 C -0.111412 -0.055108 -0.107234 -0.055078 -0.103681 -0.053889 C -0.100128 -0.052701 -0.096019 -0.049954 -0.093056 -0.049167 C -0.090093 -0.04838 -0.088577 -0.049568 -0.085903 -0.049167 C -0.083229 -0.048766 -0.080567 -0.047547 -0.077014 -0.04676 C -0.073461 -0.045973 -0.068426 -0.04483 -0.064584 -0.044445 C -0.060741 -0.044059 -0.057211 -0.044846 -0.053959 -0.044445 C -0.050706 -0.044044 -0.047743 -0.042439 -0.04507 -0.042037 C -0.042396 -0.041636 -0.04029 -0.042037 -0.037917 -0.042037 C -0.035544 -0.042037 -0.032315 -0.043612 -0.030834 -0.042037 C -0.029352 -0.040463 -0.029329 -0.034167 -0.029028 -0.032593 E">
                                      <p:cBhvr>
                                        <p:cTn id="1566" dur="5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3704 0.018966 0.091574 0.119321 0.142222 0.113796 C 0.19287 0.108272 0.259468 -0.01142 0.303889 -0.033148 C 0.34831 -0.054877 0.391273 -0.019336 0.40875 -0.016574 E">
                                      <p:cBhvr>
                                        <p:cTn id="1568" dur="20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9" nodeType="with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4236 -0.232593 C -0.041764 -0.224593 -0.090764 -0.204593 -0.090764 -0.188593 C -0.090764 -0.173923 -0.042764 -0.163263 0.021236 -0.163263 C 0.085236 -0.163263 0.139236 -0.173923 0.139236 -0.188593 C 0.139236 -0.204593 0.083236 -0.208593 0.019236 -0.197923 C -0.043764 -0.185923 -0.090764 -0.165923 -0.090764 -0.151263 C -0.090764 -0.136593 -0.041764 -0.124593 0.021236 -0.124593 C 0.085236 -0.124593 0.139236 -0.136593 0.139236 -0.151263 C 0.139236 -0.165923 0.083236 -0.169923 0.020236 -0.159263 C -0.043764 -0.148593 -0.090764 -0.128593 -0.090764 -0.113923 C -0.090764 -0.097923 -0.041764 -0.085923 0.022236 -0.085923 C 0.085236 -0.085923 0.139236 -0.097923 0.139236 -0.113923 C 0.139236 -0.127263 0.083236 -0.131263 0.020236 -0.121923 C -0.042764 -0.111263 -0.090764 -0.089923 -0.090764 -0.075263 C -0.090764 -0.060593 -0.040764 -0.048593 0.022236 -0.048593 C 0.087236 -0.048593 0.139236 -0.060593 0.139236 -0.075263 C 0.139236 -0.089923 0.084236 -0.093923 0.021236 -0.083263 C -0.041764 -0.072593 -0.090764 -0.052593 -0.090764 -0.037923 C -0.090764 -0.021923 -0.040764 -0.011263 0.023236 -0.011263 C 0.087236 -0.011263 0.139236 -0.023263 0.139236 -0.037923 C 0.139236 -0.052593 0.084236 -0.056593 0.021236 -0.045923 C -0.041764 -0.035263 -0.090764 -0.013923 -0.090764 -0.000593 C -0.090764 0.014077 -0.039764 0.026077 0.023236 0.026077 C 0.087236 0.026077 0.139236 0.014077 0.139236 -0.000593 C 0.139236 -0.013923 0.085236 -0.017923 0.021236 -0.008593 C -0.041764 0.002077 -0.090764 0.023407 -0.090764 0.038077 C -0.090764 0.051407 -0.039764 0.064737 0.024236 0.064737 C 0.088236 0.064737 0.139236 0.052737 0.139236 0.038077 C 0.139236 0.023407 0.085236 0.019407 0.022236 0.030077 C -0.040764 0.040737 -0.091764 0.060737 -0.090764 0.075407 C -0.089764 0.090077 -0.039764 0.100737 0.024236 0.100737 C 0.088236 0.100737 0.139236 0.088737 0.139236 0.074077 C 0.139236 0.060737 0.087236 0.056737 0.024236 0.068737 E">
                                      <p:cBhvr>
                                        <p:cTn id="1570" dur="50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1" nodeType="with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9028 0.043056 C -0.090028 0.076386 -0.029028 0.105726 0.047972 0.107056 C 0.108972 0.109726 0.158972 0.093726 0.159972 0.073726 C 0.159972 0.053726 0.110972 0.035056 0.048972 0.033726 C 0.017972 0.033726 -0.010028 0.036386 -0.030028 0.043056 C -0.059028 0.052386 -0.076028 0.067056 -0.076028 0.084386 C -0.076028 0.093726 -0.071028 0.103056 -0.062028 0.111056 C -0.041028 0.128386 -2.80000000000002E-005 0.140386 0.046972 0.141726 C 0.101972 0.144386 0.146972 0.129726 0.146972 0.112386 C 0.147972 0.093726 0.102972 0.077726 0.047972 0.075056 C 0.019972 0.075056 -0.005028 0.077726 -0.024028 0.083056 C -0.049028 0.092386 -0.065028 0.107056 -0.065028 0.121726 C -0.065028 0.129726 -0.060028 0.137726 -0.052028 0.145726 C -0.033028 0.160386 0.002972 0.172386 0.045972 0.173726 C 0.095972 0.175056 0.135972 0.161726 0.135972 0.145726 C 0.136972 0.129726 0.096972 0.115056 0.046972 0.113726 C 0.021972 0.112386 -0.001028 0.115056 -0.018028 0.120386 C -0.041028 0.128386 -0.054028 0.140386 -0.054028 0.155056 C -0.054028 0.161726 -0.050028 0.169726 -0.043028 0.176386 C -0.026028 0.189726 0.006972 0.200385 0.044972 0.201726 C 0.089972 0.201726 0.125972 0.191056 0.125972 0.176386 C 0.125972 0.161726 0.090972 0.148386 0.045972 0.147056 C 0.023972 0.147056 0.002972 0.149726 -0.012028 0.153726 C -0.033028 0.160386 -0.045028 0.172386 -0.046028 0.184386 C -0.046028 0.191056 -0.041028 0.197726 -0.035028 0.203056 C -0.020028 0.216386 0.009972 0.225726 0.043972 0.225726 C 0.083972 0.227056 0.116972 0.217726 0.116972 0.204385 C 0.117972 0.191056 0.084972 0.179056 0.044972 0.177726 C 0.024972 0.177726 0.005972 0.179056 -0.007028 0.184386 C -0.026028 0.189726 -0.037028 0.200385 -0.037028 0.211056 C -0.037028 0.217726 -0.034028 0.223056 -0.028028 0.228386 C -0.014028 0.240385 0.011972 0.248385 0.042972 0.249726 C 0.079972 0.249726 0.108972 0.241726 0.108972 0.229726 C 0.109972 0.217726 0.080972 0.207056 0.043972 0.205726 C 0.025972 0.205726 0.009972 0.207056 -0.002028 0.211056 C -0.019028 0.216386 -0.029028 0.225726 -0.029028 0.236385 C -0.029028 0.241726 -0.026028 0.245725 -0.021028 0.251056 C -0.009028 0.261725 0.014972 0.268385 0.042972 0.269726 C 0.075972 0.271055 0.101972 0.263056 0.101972 0.251056 C 0.101972 0.241726 0.076972 0.231055 0.043972 0.231055 C 0.026972 0.229726 0.011972 0.232386 0.000972 0.235055 C -0.014028 0.240385 -0.023028 0.248385 -0.023028 0.257725 C -0.023028 0.263056 -0.020028 0.267056 -0.015028 0.271055 C -0.004028 0.280386 0.017972 0.287055 0.041972 0.288386 C 0.071972 0.289726 0.095972 0.281725 0.095972 0.272386 C 0.095972 0.261725 0.071972 0.253725 0.042972 0.252385 C 0.028972 0.252385 0.014972 0.253725 0.004972 0.257725 C -0.009028 0.261725 -0.017028 0.268385 -0.017028 0.277725 C -0.017028 0.281725 -0.014028 0.285725 -0.010028 0.289726 C -2.80000000000002E-005 0.297725 0.018972 0.304386 0.041972 0.304386 C 0.067972 0.305726 0.089972 0.299056 0.089972 0.289726 C 0.089972 0.281725 0.068972 0.273726 0.041972 0.273726 C 0.029972 0.272386 0.016972 0.273726 0.007972 0.276385 C -0.004028 0.281725 -0.011028 0.288386 -0.011028 0.295056 C -0.011028 0.299056 -0.009028 0.303056 -0.005028 0.305726 C 0.003972 0.313726 0.020972 0.319056 0.041972 0.320386 C 0.065972 0.320386 0.084972 0.313726 0.084972 0.307056 C 0.084972 0.299056 0.065972 0.291056 0.041972 0.291056 C 0.029972 0.291056 0.018972 0.292386 0.011972 0.295056 C -2.80000000000002E-005 0.297725 -0.006028 0.304386 -0.006028 0.311056 C -0.006028 0.313726 -0.004028 0.317725 -0.001028 0.320386 C 0.006972 0.328386 0.022972 0.332386 0.040972 0.333725 C 0.062972 0.333725 0.079972 0.328386 0.079972 0.321726 C 0.079972 0.313726 0.062972 0.308386 0.041972 0.307056 C 0.030972 0.307056 0.020972 0.308386 0.013972 0.311056 C 0.003972 0.313726 -0.002028 0.319056 -0.002028 0.325725 C -0.002028 0.328386 -2.79999999999998E-005 0.331055 0.002972 0.333725 E">
                                      <p:cBhvr>
                                        <p:cTn id="1572" dur="50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106 0.027639 0.059826 0.113704 0.042639 0.165833 C 0.025451 0.217963 -0.110232 0.251559 -0.103125 0.312778 C -0.096019 0.373997 0.084676 0.469954 0.085278 0.533148 C 0.08588 0.596343 -0.104549 0.635463 -0.099514 0.691944 C -0.094479 0.748426 0.158148 0.836497 0.115486 0.872037 C 0.072824 0.907577 -0.276991 0.89966 -0.355486 0.905185 E">
                                      <p:cBhvr>
                                        <p:cTn id="1574" dur="50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9000"/>
                            </p:stCondLst>
                            <p:childTnLst>
                              <p:par>
                                <p:cTn id="15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7" dur="2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578" dur="2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0" dur="1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81" dur="1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82" dur="1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5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5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9" dur="2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590" dur="2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50" descr="1000000"/>
          <p:cNvPicPr/>
          <p:nvPr/>
        </p:nvPicPr>
        <p:blipFill>
          <a:blip r:embed="rId2"/>
          <a:stretch/>
        </p:blipFill>
        <p:spPr>
          <a:xfrm flipH="1" rot="18114600">
            <a:off x="998280" y="1971000"/>
            <a:ext cx="4327560" cy="3105360"/>
          </a:xfrm>
          <a:prstGeom prst="rect">
            <a:avLst/>
          </a:prstGeom>
          <a:ln w="0">
            <a:noFill/>
          </a:ln>
        </p:spPr>
      </p:pic>
      <p:sp>
        <p:nvSpPr>
          <p:cNvPr id="651" name="Freeform 4"/>
          <p:cNvSpPr/>
          <p:nvPr/>
        </p:nvSpPr>
        <p:spPr>
          <a:xfrm>
            <a:off x="2340000" y="2781360"/>
            <a:ext cx="1944720" cy="122400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5"/>
          <p:cNvSpPr/>
          <p:nvPr/>
        </p:nvSpPr>
        <p:spPr>
          <a:xfrm>
            <a:off x="2340000" y="2565360"/>
            <a:ext cx="719280" cy="79236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reeform 6"/>
          <p:cNvSpPr/>
          <p:nvPr/>
        </p:nvSpPr>
        <p:spPr>
          <a:xfrm>
            <a:off x="1066680" y="2852640"/>
            <a:ext cx="3073680" cy="324036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reeform 11"/>
          <p:cNvSpPr/>
          <p:nvPr/>
        </p:nvSpPr>
        <p:spPr>
          <a:xfrm>
            <a:off x="1547640" y="4437000"/>
            <a:ext cx="1749600" cy="101592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12"/>
          <p:cNvSpPr/>
          <p:nvPr/>
        </p:nvSpPr>
        <p:spPr>
          <a:xfrm>
            <a:off x="2195640" y="3573360"/>
            <a:ext cx="623880" cy="34128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reeform 13"/>
          <p:cNvSpPr/>
          <p:nvPr/>
        </p:nvSpPr>
        <p:spPr>
          <a:xfrm>
            <a:off x="3132000" y="4076640"/>
            <a:ext cx="646200" cy="38268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15"/>
          <p:cNvSpPr/>
          <p:nvPr/>
        </p:nvSpPr>
        <p:spPr>
          <a:xfrm flipH="1" rot="18090000">
            <a:off x="1102680" y="2009880"/>
            <a:ext cx="4169160" cy="29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16"/>
          <p:cNvSpPr/>
          <p:nvPr/>
        </p:nvSpPr>
        <p:spPr>
          <a:xfrm>
            <a:off x="3564000" y="1916280"/>
            <a:ext cx="792000" cy="57600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reeform 17"/>
          <p:cNvSpPr/>
          <p:nvPr/>
        </p:nvSpPr>
        <p:spPr>
          <a:xfrm>
            <a:off x="3408480" y="2205000"/>
            <a:ext cx="299880" cy="57636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19"/>
          <p:cNvSpPr/>
          <p:nvPr/>
        </p:nvSpPr>
        <p:spPr>
          <a:xfrm>
            <a:off x="4067280" y="2781360"/>
            <a:ext cx="1069920" cy="116352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23"/>
          <p:cNvSpPr/>
          <p:nvPr/>
        </p:nvSpPr>
        <p:spPr>
          <a:xfrm>
            <a:off x="3924360" y="2203560"/>
            <a:ext cx="90360" cy="41256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24"/>
          <p:cNvSpPr/>
          <p:nvPr/>
        </p:nvSpPr>
        <p:spPr>
          <a:xfrm>
            <a:off x="4253040" y="3241800"/>
            <a:ext cx="515880" cy="23004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25"/>
          <p:cNvSpPr/>
          <p:nvPr/>
        </p:nvSpPr>
        <p:spPr>
          <a:xfrm>
            <a:off x="4456080" y="3102120"/>
            <a:ext cx="162000" cy="1267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26"/>
          <p:cNvSpPr/>
          <p:nvPr/>
        </p:nvSpPr>
        <p:spPr>
          <a:xfrm>
            <a:off x="4027320" y="2001960"/>
            <a:ext cx="46080" cy="15084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27"/>
          <p:cNvSpPr/>
          <p:nvPr/>
        </p:nvSpPr>
        <p:spPr>
          <a:xfrm>
            <a:off x="4386240" y="3692520"/>
            <a:ext cx="34920" cy="17316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0"/>
          <p:cNvSpPr/>
          <p:nvPr/>
        </p:nvSpPr>
        <p:spPr>
          <a:xfrm>
            <a:off x="3995640" y="2637000"/>
            <a:ext cx="144720" cy="21564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1"/>
          <p:cNvSpPr/>
          <p:nvPr/>
        </p:nvSpPr>
        <p:spPr>
          <a:xfrm>
            <a:off x="4211640" y="2852640"/>
            <a:ext cx="144360" cy="21600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2"/>
          <p:cNvSpPr/>
          <p:nvPr/>
        </p:nvSpPr>
        <p:spPr>
          <a:xfrm>
            <a:off x="3648240" y="2852640"/>
            <a:ext cx="419040" cy="43200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36" descr="5"/>
          <p:cNvPicPr/>
          <p:nvPr/>
        </p:nvPicPr>
        <p:blipFill>
          <a:blip r:embed="rId3"/>
          <a:stretch/>
        </p:blipFill>
        <p:spPr>
          <a:xfrm>
            <a:off x="-96840" y="968400"/>
            <a:ext cx="2724120" cy="118116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37" descr="6"/>
          <p:cNvPicPr/>
          <p:nvPr/>
        </p:nvPicPr>
        <p:blipFill>
          <a:blip r:embed="rId4"/>
          <a:stretch/>
        </p:blipFill>
        <p:spPr>
          <a:xfrm>
            <a:off x="-25560" y="476280"/>
            <a:ext cx="2365560" cy="63324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38" descr="7"/>
          <p:cNvPicPr/>
          <p:nvPr/>
        </p:nvPicPr>
        <p:blipFill>
          <a:blip r:embed="rId5"/>
          <a:stretch/>
        </p:blipFill>
        <p:spPr>
          <a:xfrm>
            <a:off x="1928880" y="1266840"/>
            <a:ext cx="777960" cy="758880"/>
          </a:xfrm>
          <a:prstGeom prst="rect">
            <a:avLst/>
          </a:prstGeom>
          <a:ln w="0">
            <a:noFill/>
          </a:ln>
        </p:spPr>
      </p:pic>
      <p:sp>
        <p:nvSpPr>
          <p:cNvPr id="672" name="Line 39"/>
          <p:cNvSpPr/>
          <p:nvPr/>
        </p:nvSpPr>
        <p:spPr>
          <a:xfrm flipV="1">
            <a:off x="2743200" y="2058480"/>
            <a:ext cx="66600" cy="1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40"/>
          <p:cNvSpPr/>
          <p:nvPr/>
        </p:nvSpPr>
        <p:spPr>
          <a:xfrm flipV="1">
            <a:off x="2708280" y="1865160"/>
            <a:ext cx="20484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41"/>
          <p:cNvSpPr/>
          <p:nvPr/>
        </p:nvSpPr>
        <p:spPr>
          <a:xfrm>
            <a:off x="108000" y="83664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47"/>
          <p:cNvSpPr/>
          <p:nvPr/>
        </p:nvSpPr>
        <p:spPr>
          <a:xfrm>
            <a:off x="4356000" y="2540160"/>
            <a:ext cx="609840" cy="11736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48"/>
          <p:cNvSpPr/>
          <p:nvPr/>
        </p:nvSpPr>
        <p:spPr>
          <a:xfrm>
            <a:off x="4432320" y="2654280"/>
            <a:ext cx="444600" cy="15228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49"/>
          <p:cNvSpPr/>
          <p:nvPr/>
        </p:nvSpPr>
        <p:spPr>
          <a:xfrm>
            <a:off x="4483080" y="2793960"/>
            <a:ext cx="457200" cy="15084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56"/>
          <p:cNvSpPr/>
          <p:nvPr/>
        </p:nvSpPr>
        <p:spPr>
          <a:xfrm>
            <a:off x="4356000" y="1557360"/>
            <a:ext cx="223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祈祷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明天会更好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57"/>
          <p:cNvSpPr/>
          <p:nvPr/>
        </p:nvSpPr>
        <p:spPr>
          <a:xfrm>
            <a:off x="3780000" y="476280"/>
            <a:ext cx="51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当一天结束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要祈祷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the end of the day... PRA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58"/>
          <p:cNvSpPr/>
          <p:nvPr/>
        </p:nvSpPr>
        <p:spPr>
          <a:xfrm>
            <a:off x="4859280" y="3933720"/>
            <a:ext cx="381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还有闭上你的双眼，每天至少一次微笑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59"/>
          <p:cNvSpPr/>
          <p:nvPr/>
        </p:nvSpPr>
        <p:spPr>
          <a:xfrm rot="1204200">
            <a:off x="5003280" y="213336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65"/>
          <p:cNvSpPr/>
          <p:nvPr/>
        </p:nvSpPr>
        <p:spPr>
          <a:xfrm>
            <a:off x="4859280" y="486900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...... And close your ey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smile at least once a d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/>
  </p:transition>
  <p:timing>
    <p:tnLst>
      <p:par>
        <p:cTn id="1591" dur="indefinite" restart="never" nodeType="tmRoot">
          <p:childTnLst>
            <p:seq>
              <p:cTn id="1592" dur="indefinite" nodeType="mainSeq">
                <p:childTnLst>
                  <p:par>
                    <p:cTn id="1593" fill="hold">
                      <p:stCondLst>
                        <p:cond delay="0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7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0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3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6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9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2" dur="250" autoRev="1" fill="hold"/>
                                        <p:tgtEl>
                                          <p:spTgt spid="6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13" nodeType="withEffect" fill="hold" presetClass="emph" presetID="26" repeatCount="200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4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5" dur="500" autoRev="1" fill="hold"/>
                                        <p:tgtEl>
                                          <p:spTgt spid="6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16" nodeType="withEffect" fill="hold" presetClass="emph" presetID="26" repeatCount="200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7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8" dur="250" autoRev="1" fill="hold"/>
                                        <p:tgtEl>
                                          <p:spTgt spid="6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19" nodeType="withEffect" fill="hold" presetClass="emph" presetID="26" repeatCount="200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1" dur="250" autoRev="1" fill="hold"/>
                                        <p:tgtEl>
                                          <p:spTgt spid="6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2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4" dur="250" autoRev="1" fill="hold"/>
                                        <p:tgtEl>
                                          <p:spTgt spid="6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2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6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7" dur="250" autoRev="1" fill="hold"/>
                                        <p:tgtEl>
                                          <p:spTgt spid="6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1" dur="20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4" dur="2000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39306E-006 L -0.43108 -0.09619 E">
                                      <p:cBhvr>
                                        <p:cTn id="1637" dur="20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4.39306E-006 L -0.43299 -0.09225 E">
                                      <p:cBhvr>
                                        <p:cTn id="1639" dur="20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7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50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7" dur="5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fill="hold">
                            <p:stCondLst>
                              <p:cond delay="14500"/>
                            </p:stCondLst>
                            <p:childTnLst>
                              <p:par>
                                <p:cTn id="1659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60" dur="2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61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62" dur="2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9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0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71" dur="20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fill="hold">
                            <p:stCondLst>
                              <p:cond delay="17800"/>
                            </p:stCondLst>
                            <p:childTnLst>
                              <p:par>
                                <p:cTn id="1673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5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6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48148E-006 C 0.03055 -0.01991 0.02795 -0.01806 0.06875 -0.02176 C 0.08108 -0.02708 0.0941 -0.03357 0.10677 -0.03727 C 0.11146 -0.03843 0.11632 -0.03889 0.12101 -0.04028 C 0.12587 -0.0419 0.13524 -0.04653 0.13524 -0.0463 C 0.13837 -0.05903 0.14566 -0.08565 0.15417 -0.09283 C 0.16146 -0.09908 0.16736 -0.1088 0.17569 -0.11134 C 0.19635 -0.11806 0.21597 -0.12685 0.23733 -0.13009 C 0.25469 -0.13264 0.28958 -0.13611 0.28958 -0.13588 C 0.30382 -0.14074 0.32101 -0.14375 0.33472 -0.15162 C 0.34114 -0.15556 0.34705 -0.16111 0.35364 -0.16412 C 0.35851 -0.16621 0.36788 -0.17014 0.36788 -0.16991 C 0.37031 -0.17338 0.37205 -0.17755 0.375 -0.1794 C 0.37934 -0.18241 0.39774 -0.18704 0.40364 -0.18889 C 0.41701 -0.20625 0.4033 -0.1919 0.42014 -0.20116 C 0.42274 -0.20278 0.42465 -0.20579 0.42726 -0.20741 C 0.44549 -0.21783 0.44844 -0.2132 0.46285 -0.23218 C 0.46701 -0.24838 0.4625 -0.23519 0.47239 -0.2507 C 0.47413 -0.25347 0.47483 -0.2581 0.47708 -0.25996 C 0.47917 -0.26134 0.48194 -0.25996 0.48437 -0.25996 E">
                                      <p:cBhvr>
                                        <p:cTn id="1677" dur="2000" fill="hold"/>
                                        <p:tgtEl>
                                          <p:spTgt spid="6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8" nodeType="with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9" dur="2000" fill="hold"/>
                                        <p:tgtEl>
                                          <p:spTgt spid="681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 Box 4"/>
          <p:cNvSpPr/>
          <p:nvPr/>
        </p:nvSpPr>
        <p:spPr>
          <a:xfrm>
            <a:off x="1117440" y="7029360"/>
            <a:ext cx="7128000" cy="60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生活本身就是一种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有人说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用一分钟找到生活的入口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用一个小时去观察他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用一天去了解他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然后用一辈子去填充他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这就是我们对生活的阐释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/>
  </p:transition>
  <p:timing>
    <p:tnLst>
      <p:par>
        <p:cTn id="1680" dur="indefinite" restart="never" nodeType="tmRoot">
          <p:childTnLst>
            <p:seq>
              <p:cTn id="1681" dur="indefinite" nodeType="mainSeq">
                <p:childTnLst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158 -0.94491 E">
                                      <p:cBhvr>
                                        <p:cTn id="1685" dur="100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"/>
          <p:cNvGrpSpPr/>
          <p:nvPr/>
        </p:nvGrpSpPr>
        <p:grpSpPr>
          <a:xfrm>
            <a:off x="-98280" y="7174080"/>
            <a:ext cx="9421200" cy="7313760"/>
            <a:chOff x="-98280" y="7174080"/>
            <a:chExt cx="9421200" cy="7313760"/>
          </a:xfrm>
        </p:grpSpPr>
        <p:sp>
          <p:nvSpPr>
            <p:cNvPr id="685" name="Text Box 9"/>
            <p:cNvSpPr/>
            <p:nvPr/>
          </p:nvSpPr>
          <p:spPr>
            <a:xfrm>
              <a:off x="188640" y="11782440"/>
              <a:ext cx="2516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Text Box 10"/>
            <p:cNvSpPr/>
            <p:nvPr/>
          </p:nvSpPr>
          <p:spPr>
            <a:xfrm>
              <a:off x="4935600" y="12285720"/>
              <a:ext cx="2589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Text Box 4"/>
            <p:cNvSpPr/>
            <p:nvPr/>
          </p:nvSpPr>
          <p:spPr>
            <a:xfrm>
              <a:off x="837000" y="7174080"/>
              <a:ext cx="6760800" cy="1323000"/>
            </a:xfrm>
            <a:prstGeom prst="rect">
              <a:avLst/>
            </a:prstGeom>
            <a:noFill/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0" lang="zh-CN" sz="3200" spc="-1" strike="noStrike">
                  <a:solidFill>
                    <a:srgbClr val="ffffff"/>
                  </a:solidFill>
                  <a:latin typeface="Arial"/>
                </a:rPr>
                <a:t>其实，生活中到处都是美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              </a:t>
              </a:r>
              <a:r>
                <a:rPr b="0" lang="zh-CN" sz="3200" spc="-1" strike="noStrike">
                  <a:solidFill>
                    <a:srgbClr val="ffffff"/>
                  </a:solidFill>
                  <a:latin typeface="Arial"/>
                </a:rPr>
                <a:t>只要我们敢去去创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6"/>
            <p:cNvSpPr/>
            <p:nvPr/>
          </p:nvSpPr>
          <p:spPr>
            <a:xfrm>
              <a:off x="-98280" y="9047160"/>
              <a:ext cx="5320800" cy="26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</a:rPr>
                <a:t>技术：       小小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</a:rPr>
                <a:t>美术编辑： 小小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7"/>
            <p:cNvSpPr/>
            <p:nvPr/>
          </p:nvSpPr>
          <p:spPr>
            <a:xfrm>
              <a:off x="-98280" y="10198440"/>
              <a:ext cx="589644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    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8"/>
            <p:cNvSpPr/>
            <p:nvPr/>
          </p:nvSpPr>
          <p:spPr>
            <a:xfrm>
              <a:off x="-25200" y="10774440"/>
              <a:ext cx="53208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</a:rPr>
                <a:t>主角：        汤勺  叉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</a:rPr>
                <a:t>         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11"/>
            <p:cNvSpPr/>
            <p:nvPr/>
          </p:nvSpPr>
          <p:spPr>
            <a:xfrm>
              <a:off x="5511240" y="12230280"/>
              <a:ext cx="3811680" cy="15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</a:rPr>
                <a:t>文化创意学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</a:rPr>
                <a:t>生活部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小小小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2" name="Picture 19" descr="9999"/>
            <p:cNvPicPr/>
            <p:nvPr/>
          </p:nvPicPr>
          <p:blipFill>
            <a:blip r:embed="rId1"/>
            <a:stretch/>
          </p:blipFill>
          <p:spPr>
            <a:xfrm>
              <a:off x="1987920" y="11206440"/>
              <a:ext cx="4363560" cy="32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Picture 20" descr="88副本"/>
            <p:cNvPicPr/>
            <p:nvPr/>
          </p:nvPicPr>
          <p:blipFill>
            <a:blip r:embed="rId2"/>
            <a:stretch/>
          </p:blipFill>
          <p:spPr>
            <a:xfrm rot="7063200">
              <a:off x="707040" y="12128040"/>
              <a:ext cx="2438640" cy="174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4" name=""/>
          <p:cNvSpPr txBox="1"/>
          <p:nvPr/>
        </p:nvSpPr>
        <p:spPr>
          <a:xfrm>
            <a:off x="4500720" y="9406080"/>
            <a:ext cx="3700440" cy="13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Segoe Script"/>
              </a:rPr>
              <a:t>The end</a:t>
            </a:r>
            <a:endParaRPr b="1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Segoe Script"/>
              <a:ea typeface="Segoe Script"/>
            </a:endParaRPr>
          </a:p>
        </p:txBody>
      </p:sp>
    </p:spTree>
  </p:cSld>
  <p:transition advTm="5000">
    <p:fade/>
  </p:transition>
  <p:timing>
    <p:tnLst>
      <p:par>
        <p:cTn id="1686" dur="indefinite" restart="never" nodeType="tmRoot">
          <p:childTnLst>
            <p:seq>
              <p:cTn id="1687" dur="indefinite" nodeType="mainSeq">
                <p:childTnLst>
                  <p:par>
                    <p:cTn id="1688" fill="hold">
                      <p:stCondLst>
                        <p:cond delay="0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98844E-006 L -0.00382 -1.0252 E">
                                      <p:cBhvr>
                                        <p:cTn id="1691" dur="10000" fill="hold"/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486 -0.173333 C -0.004005 -0.173719 0.000151 -0.173673 0.003403 -0.175648 C 0.006655 -0.177623 0.010776 -0.182808 0.014028 -0.185185 C 0.01728 -0.187562 0.020544 -0.187546 0.022917 -0.189907 C 0.025289 -0.192268 0.026192 -0.196589 0.028264 -0.199352 C 0.030336 -0.202114 0.032975 -0.204892 0.035347 -0.206481 C 0.03772 -0.208071 0.040127 -0.2077 0.0425 -0.208889 C 0.044873 -0.210077 0.047211 -0.212438 0.049583 -0.213611 C 0.051956 -0.214784 0.054063 -0.214352 0.056736 -0.215926 C 0.05941 -0.2175 0.062373 -0.221466 0.065625 -0.223055 C 0.068877 -0.224645 0.072998 -0.223889 0.07625 -0.225463 C 0.079502 -0.227037 0.081875 -0.230524 0.085139 -0.2325 C 0.088403 -0.234475 0.09287 -0.235725 0.095833 -0.237314 C 0.098796 -0.238904 0.099954 -0.240463 0.102917 -0.242037 C 0.10588 -0.243611 0.110347 -0.244784 0.113611 -0.246759 C 0.116875 -0.248734 0.119838 -0.251913 0.1225 -0.253889 C 0.125162 -0.255864 0.127222 -0.25625 0.129583 -0.258611 C 0.131944 -0.260972 0.134896 -0.264105 0.136667 -0.268055 C 0.138437 -0.272006 0.139016 -0.277577 0.140208 -0.282314 C 0.141401 -0.287052 0.142928 -0.291342 0.14382 -0.296481 C 0.144711 -0.30162 0.145266 -0.308395 0.145556 -0.313148 C 0.145845 -0.317901 0.145556 -0.321049 0.145556 -0.325 C 0.145556 -0.32895 0.146447 -0.332901 0.145556 -0.336852 C 0.144664 -0.340802 0.142581 -0.345941 0.140208 -0.348703 C 0.137836 -0.351466 0.134271 -0.351466 0.13132 -0.353426 C 0.128368 -0.355385 0.125752 -0.358889 0.1225 -0.360463 C 0.119248 -0.362037 0.11566 -0.362469 0.111806 -0.36287 C 0.107952 -0.363271 0.103519 -0.36287 0.099375 -0.36287 C 0.095231 -0.36287 0.090498 -0.36287 0.086945 -0.36287 C 0.083391 -0.36287 0.081319 -0.36287 0.078056 -0.36287 C 0.074792 -0.36287 0.070914 -0.36287 0.067361 -0.36287 C 0.063808 -0.36287 0.060289 -0.363271 0.056736 -0.36287 C 0.053183 -0.362469 0.049306 -0.36125 0.046042 -0.360463 C 0.042778 -0.359676 0.040405 -0.358534 0.037153 -0.358148 C 0.033901 -0.357762 0.030382 -0.358549 0.026528 -0.358148 C 0.022674 -0.357747 0.017882 -0.356929 0.014028 -0.35574 C 0.010174 -0.354552 0.007245 -0.352191 0.003403 -0.351018 C -0.00044 -0.349845 -0.005174 -0.34949 -0.009028 -0.348703 C -0.012882 -0.347916 -0.016759 -0.347098 -0.019722 -0.346296 C -0.022685 -0.345494 -0.023843 -0.345077 -0.026805 -0.343889 C -0.029768 -0.3427 -0.033947 -0.34074 -0.0375 -0.339166 C -0.041053 -0.337592 -0.045162 -0.335632 -0.048125 -0.334444 C -0.051088 -0.333256 -0.052604 -0.332824 -0.055278 -0.332037 C -0.057951 -0.33125 -0.061505 -0.330509 -0.064167 -0.329722 C -0.066829 -0.328935 -0.068588 -0.328102 -0.07125 -0.327314 C -0.073912 -0.326528 -0.077176 -0.326188 -0.080139 -0.325 C -0.083102 -0.323811 -0.085764 -0.321373 -0.089028 -0.320185 C -0.092292 -0.318997 -0.09647 -0.319043 -0.099722 -0.31787 C -0.102974 -0.316697 -0.10588 -0.314737 -0.108542 -0.313148 C -0.111204 -0.311558 -0.114213 -0.31071 -0.115694 -0.308333 C -0.117176 -0.305957 -0.118322 -0.302037 -0.11743 -0.298889 C -0.116539 -0.29574 -0.113009 -0.292608 -0.110347 -0.289444 C -0.107685 -0.286281 -0.105903 -0.282284 -0.101458 -0.279907 C -0.097014 -0.277531 -0.089606 -0.277947 -0.08368 -0.275185 C -0.077755 -0.272423 -0.072708 -0.266095 -0.065903 -0.263333 C -0.059097 -0.260571 -0.050845 -0.260185 -0.042847 -0.258611 C -0.034849 -0.257037 -0.025324 -0.255864 -0.017917 -0.253889 C -0.010509 -0.251913 -0.004919 -0.248734 0.001597 -0.246759 C 0.008113 -0.244784 0.015845 -0.242824 0.021181 -0.242037 C 0.026516 -0.24125 0.029769 -0.242037 0.033611 -0.242037 C 0.037454 -0.242037 0.041273 -0.242037 0.044236 -0.242037 C 0.047199 -0.242037 0.049016 -0.242037 0.051389 -0.242037 C 0.053762 -0.242037 0.0561 -0.242037 0.058472 -0.242037 C 0.060845 -0.242037 0.062952 -0.24125 0.065625 -0.242037 C 0.068299 -0.242824 0.071852 -0.245185 0.074514 -0.246759 C 0.077176 -0.248333 0.079236 -0.250293 0.081597 -0.251481 C 0.083958 -0.252669 0.086019 -0.253102 0.088681 -0.253889 C 0.091343 -0.254676 0.094896 -0.255015 0.09757 -0.256203 C 0.100243 -0.257392 0.101458 -0.259429 0.104722 -0.261018 C 0.107986 -0.262608 0.113009 -0.264167 0.117153 -0.26574 C 0.121296 -0.267314 0.12485 -0.268889 0.129583 -0.270463 C 0.134317 -0.272037 0.140521 -0.273611 0.145556 -0.275185 C 0.15059 -0.276759 0.155637 -0.278318 0.159792 -0.279907 C 0.163947 -0.281497 0.167234 -0.283132 0.170486 -0.284722 C 0.173738 -0.286311 0.176354 -0.28787 0.179306 -0.289444 C 0.182257 -0.291018 0.184931 -0.292191 0.188195 -0.294166 C 0.191458 -0.296142 0.196215 -0.298534 0.198889 -0.301296 C 0.201562 -0.304058 0.203056 -0.30679 0.204236 -0.31074 C 0.205417 -0.314691 0.205683 -0.320262 0.205972 -0.325 C 0.206262 -0.329737 0.205972 -0.335216 0.205972 -0.339166 C 0.205972 -0.343117 0.205972 -0.34554 0.205972 -0.348703 C 0.205972 -0.351867 0.206562 -0.354598 0.205972 -0.358148 C 0.205382 -0.361697 0.203611 -0.364861 0.202431 -0.37 C 0.20125 -0.375139 0.201262 -0.383055 0.198889 -0.388981 C 0.196516 -0.394907 0.191157 -0.400031 0.188195 -0.405555 C 0.185232 -0.41108 0.183472 -0.418179 0.181111 -0.422129 C 0.17875 -0.42608 0.176401 -0.426898 0.174028 -0.429259 C 0.171655 -0.43162 0.169549 -0.433534 0.166875 -0.436296 C 0.164201 -0.439058 0.160949 -0.443055 0.157986 -0.445833 C 0.155023 -0.448611 0.15294 -0.4502 0.149097 -0.452963 C 0.145255 -0.455725 0.139074 -0.459645 0.134931 -0.462407 C 0.130787 -0.465169 0.1275 -0.467561 0.124236 -0.469537 C 0.120972 -0.471512 0.1186 -0.472685 0.115347 -0.474259 C 0.112095 -0.475833 0.107975 -0.477407 0.104722 -0.478981 C 0.10147 -0.480555 0.098796 -0.482129 0.095833 -0.483703 C 0.09287 -0.485277 0.090498 -0.486836 0.086945 -0.488426 C 0.083391 -0.490015 0.077778 -0.492438 0.074514 -0.49324 C 0.07125 -0.494043 0.070035 -0.49324 0.067361 -0.49324 C 0.064688 -0.49324 0.061134 -0.49324 0.058472 -0.49324 C 0.05581 -0.49324 0.053762 -0.49324 0.051389 -0.49324 C 0.049016 -0.49324 0.04691 -0.493642 0.044236 -0.49324 C 0.041563 -0.492839 0.0386 -0.492021 0.035347 -0.490833 C 0.032095 -0.489645 0.028565 -0.487685 0.024722 -0.486111 C 0.02088 -0.484537 0.016146 -0.482978 0.012292 -0.481389 C 0.008438 -0.479799 0.005741 -0.478163 0.001597 -0.476574 C -0.002546 -0.474984 -0.007245 -0.473811 -0.012569 -0.471852 C -0.017893 -0.469892 -0.025011 -0.466389 -0.030347 -0.464814 C -0.035683 -0.46324 -0.039838 -0.463595 -0.044583 -0.462407 C -0.049329 -0.461219 -0.054074 -0.458873 -0.058819 -0.457685 C -0.063565 -0.456497 -0.068322 -0.456466 -0.073055 -0.455277 C -0.077789 -0.454089 -0.083079 -0.451744 -0.087222 -0.450555 C -0.091366 -0.449367 -0.094062 -0.449722 -0.097917 -0.448148 C -0.101771 -0.446574 -0.106204 -0.443472 -0.110347 -0.441111 C -0.114491 -0.43875 -0.118924 -0.436358 -0.122778 -0.433981 C -0.126632 -0.431605 -0.130509 -0.429228 -0.133472 -0.426852 C -0.136435 -0.424475 -0.137893 -0.422083 -0.140555 -0.419722 C -0.143218 -0.417361 -0.146481 -0.41466 -0.149444 -0.412685 C -0.152407 -0.41071 -0.155069 -0.410247 -0.158333 -0.40787 C -0.161597 -0.405494 -0.166065 -0.401574 -0.169028 -0.398426 C -0.171991 -0.395278 -0.173449 -0.392531 -0.176111 -0.388981 C -0.178773 -0.385432 -0.182928 -0.380694 -0.185 -0.377129 C -0.187072 -0.373565 -0.187951 -0.370756 -0.188542 -0.367592 C -0.189132 -0.364429 -0.189132 -0.361697 -0.188542 -0.358148 C -0.187951 -0.354598 -0.187373 -0.350247 -0.185 -0.346296 C -0.182627 -0.342345 -0.177859 -0.337608 -0.174305 -0.334444 C -0.170752 -0.331281 -0.167523 -0.329691 -0.16368 -0.327314 C -0.159838 -0.324938 -0.155995 -0.32216 -0.15125 -0.320185 C -0.146505 -0.31821 -0.141134 -0.317037 -0.135208 -0.315463 C -0.129282 -0.313889 -0.122211 -0.312716 -0.115694 -0.31074 C -0.109178 -0.308765 -0.102928 -0.305185 -0.096111 -0.303611 C -0.089294 -0.302037 -0.082488 -0.302083 -0.074792 -0.301296 C -0.067095 -0.300509 -0.058218 -0.299691 -0.04993 -0.298889 C -0.041643 -0.298086 -0.031586 -0.296882 -0.025069 -0.296481 C -0.018553 -0.29608 -0.015278 -0.296867 -0.010833 -0.296481 C -0.006389 -0.296095 -0.002257 -0.294552 0.001597 -0.294166 C 0.005451 -0.293781 0.008738 -0.294166 0.012292 -0.294166 C 0.015845 -0.294166 0.019954 -0.293781 0.022917 -0.294166 C 0.02588 -0.294552 0.026215 -0.295293 0.03007 -0.296481 C 0.033924 -0.297669 0.042199 -0.300494 0.046042 -0.301296 C 0.049884 -0.302098 0.049572 -0.300509 0.053125 -0.301296 C 0.056678 -0.302083 0.063206 -0.304444 0.067361 -0.306018 C 0.071516 -0.307592 0.073021 -0.308379 0.078056 -0.31074 C 0.08309 -0.313102 0.092245 -0.317808 0.09757 -0.320185 C 0.102894 -0.322561 0.106146 -0.32341 0.11 -0.325 C 0.113854 -0.326589 0.11684 -0.328148 0.120695 -0.329722 C 0.124549 -0.331296 0.129572 -0.33287 0.133125 -0.334444 C 0.136678 -0.336018 0.139352 -0.337592 0.142014 -0.339166 C 0.144676 -0.34074 0.146725 -0.342299 0.149097 -0.343889 C 0.15147 -0.345478 0.153877 -0.346728 0.15625 -0.348703 C 0.158623 -0.350679 0.161262 -0.352592 0.163333 -0.35574 C 0.165405 -0.358889 0.166609 -0.36324 0.168681 -0.367592 C 0.170752 -0.371944 0.173391 -0.376713 0.175764 -0.381852 C 0.178137 -0.38699 0.181134 -0.394089 0.182917 -0.398426 C 0.184699 -0.402762 0.184688 -0.404707 0.186458 -0.40787 C 0.188229 -0.411034 0.191169 -0.413457 0.193542 -0.417407 C 0.195914 -0.421358 0.198021 -0.42645 0.200695 -0.431574 C 0.203368 -0.436697 0.207222 -0.443009 0.209583 -0.448148 C 0.211944 -0.453287 0.213681 -0.458055 0.214861 -0.462407 C 0.216042 -0.466759 0.215776 -0.469521 0.216667 -0.474259 C 0.217558 -0.478997 0.219317 -0.486497 0.220208 -0.490833 C 0.2211 -0.495169 0.221424 -0.497114 0.222014 -0.500277 C 0.222604 -0.503441 0.223461 -0.506651 0.22375 -0.509814 C 0.224039 -0.512978 0.22375 -0.514923 0.22375 -0.519259 C 0.22375 -0.523595 0.22375 -0.531095 0.22375 -0.535833 C 0.22375 -0.540571 0.22375 -0.54412 0.22375 -0.547685 C 0.22375 -0.55125 0.22375 -0.554058 0.22375 -0.557222 C 0.22375 -0.560386 0.224039 -0.563518 0.22375 -0.566666 C 0.223461 -0.569814 0.222894 -0.572947 0.222014 -0.576111 C 0.221134 -0.579274 0.219664 -0.582484 0.218472 -0.585648 C 0.21728 -0.588811 0.216053 -0.591543 0.214861 -0.595092 C 0.213669 -0.598642 0.21309 -0.603395 0.21132 -0.606944 C 0.209549 -0.610494 0.206609 -0.613626 0.204236 -0.616389 C 0.201863 -0.619151 0.200046 -0.62074 0.197083 -0.623518 C 0.19412 -0.626296 0.189421 -0.63108 0.186458 -0.633055 C 0.183495 -0.635031 0.181678 -0.633796 0.179306 -0.63537 C 0.176933 -0.636944 0.175475 -0.640524 0.172222 -0.6425 C 0.16897 -0.644475 0.163646 -0.645247 0.159792 -0.647222 C 0.155938 -0.649197 0.152951 -0.652376 0.149097 -0.654352 C 0.145243 -0.656327 0.140509 -0.6575 0.136667 -0.659074 C 0.132824 -0.660648 0.129595 -0.662222 0.126042 -0.663796 C 0.122488 -0.66537 0.119201 -0.666929 0.115347 -0.668518 C 0.111493 -0.670108 0.106771 -0.672145 0.102917 -0.673333 C 0.099063 -0.674521 0.095185 -0.675262 0.092222 -0.675648 C 0.089259 -0.676034 0.08809 -0.675247 0.085139 -0.675648 C 0.082188 -0.676049 0.077477 -0.677268 0.074514 -0.678055 C 0.071551 -0.678842 0.070324 -0.679984 0.067361 -0.68037 C 0.064398 -0.680756 0.060289 -0.68037 0.056736 -0.68037 C 0.053183 -0.68037 0.049607 -0.68037 0.046042 -0.68037 C 0.042477 -0.68037 0.039792 -0.68037 0.035347 -0.68037 C 0.030903 -0.68037 0.024109 -0.680756 0.019375 -0.68037 C 0.014641 -0.679984 0.011389 -0.679228 0.006945 -0.678055 C 0.0025 -0.676882 -0.002847 -0.674521 -0.007292 -0.673333 C -0.011736 -0.672145 -0.014988 -0.672114 -0.019722 -0.670926 C -0.024456 -0.669737 -0.030069 -0.668179 -0.035694 -0.666203 C -0.041319 -0.664228 -0.048136 -0.660648 -0.053472 -0.659074 C -0.058808 -0.6575 -0.062674 -0.657947 -0.067708 -0.656759 C -0.072743 -0.655571 -0.078947 -0.653534 -0.08368 -0.651944 C -0.088414 -0.650355 -0.091968 -0.648796 -0.096111 -0.647222 C -0.100255 -0.645648 -0.104687 -0.644074 -0.108542 -0.6425 C -0.112396 -0.640926 -0.115671 -0.639753 -0.119236 -0.637777 C -0.122801 -0.635802 -0.126377 -0.632623 -0.12993 -0.630648 C -0.133484 -0.628673 -0.137002 -0.627901 -0.140555 -0.625926 C -0.144109 -0.62395 -0.147396 -0.621173 -0.15125 -0.618796 C -0.155104 -0.616419 -0.159838 -0.614043 -0.16368 -0.611666 C -0.167523 -0.60929 -0.171053 -0.606898 -0.174305 -0.604537 C -0.177558 -0.602176 -0.179931 -0.599861 -0.183194 -0.5975 C -0.186458 -0.595139 -0.190336 -0.592747 -0.193889 -0.59037 C -0.197442 -0.587994 -0.200961 -0.585617 -0.204514 -0.58324 C -0.208067 -0.580864 -0.211643 -0.578472 -0.215208 -0.576111 C -0.218773 -0.57375 -0.222639 -0.571836 -0.225903 -0.569074 C -0.229167 -0.566311 -0.231829 -0.5627 -0.234792 -0.559537 C -0.237755 -0.556373 -0.241018 -0.552453 -0.24368 -0.550092 C -0.246343 -0.547731 -0.248102 -0.548534 -0.250764 -0.54537 C -0.253426 -0.542207 -0.257581 -0.535848 -0.259653 -0.531111 C -0.261724 -0.526373 -0.262303 -0.520895 -0.263194 -0.516944 C -0.264086 -0.512994 -0.264699 -0.510571 -0.265 -0.507407 C -0.265301 -0.504244 -0.265301 -0.501913 -0.265 -0.497963 C -0.264699 -0.494012 -0.264086 -0.487654 -0.263194 -0.483703 C -0.262303 -0.479753 -0.261134 -0.477407 -0.259653 -0.474259 C -0.258171 -0.471111 -0.256377 -0.468364 -0.254305 -0.464814 C -0.252234 -0.461265 -0.249294 -0.456527 -0.247222 -0.452963 C -0.24515 -0.449398 -0.243356 -0.446589 -0.241875 -0.443426 C -0.240393 -0.440262 -0.240405 -0.437531 -0.238333 -0.433981 C -0.236261 -0.430432 -0.232118 -0.425293 -0.229444 -0.422129 C -0.226771 -0.418966 -0.224965 -0.417376 -0.222292 -0.415 C -0.219618 -0.412623 -0.216065 -0.410231 -0.213403 -0.40787 C -0.210741 -0.405509 -0.208981 -0.403194 -0.206319 -0.400833 C -0.203657 -0.398472 -0.200393 -0.39608 -0.19743 -0.393703 C -0.194468 -0.391327 -0.191794 -0.38895 -0.188542 -0.386574 C -0.185289 -0.384197 -0.181169 -0.381419 -0.177917 -0.379444 C -0.174664 -0.377469 -0.172292 -0.376296 -0.169028 -0.374722 C -0.165764 -0.373148 -0.161597 -0.371975 -0.158333 -0.37 C -0.155069 -0.368024 -0.152106 -0.36446 -0.149444 -0.36287 C -0.146782 -0.361281 -0.144734 -0.36125 -0.142361 -0.360463 C -0.139988 -0.359676 -0.138761 -0.359722 -0.135208 -0.358148 C -0.131655 -0.356574 -0.126366 -0.352592 -0.121042 -0.351018 C -0.115718 -0.349444 -0.10978 -0.349089 -0.103264 -0.348703 C -0.096748 -0.348318 -0.088761 -0.349105 -0.081944 -0.348703 C -0.075127 -0.348302 -0.069178 -0.346697 -0.062361 -0.346296 C -0.055544 -0.345895 -0.047558 -0.346296 -0.041042 -0.346296 C -0.034525 -0.346296 -0.02919 -0.346697 -0.023264 -0.346296 C -0.017338 -0.345895 -0.010822 -0.34429 -0.005486 -0.343889 C -0.00015 -0.343487 0.003715 -0.343889 0.00875 -0.343889 C 0.013785 -0.343889 0.019988 -0.343889 0.024722 -0.343889 C 0.029456 -0.343889 0.032419 -0.343889 0.037153 -0.343889 C 0.041887 -0.343889 0.04809 -0.343889 0.053125 -0.343889 C 0.05816 -0.343889 0.063507 -0.343889 0.067361 -0.343889 C 0.071215 -0.343889 0.073287 -0.343487 0.07625 -0.343889 C 0.079213 -0.34429 0.081875 -0.345494 0.085139 -0.346296 C 0.088403 -0.347098 0.091979 -0.348302 0.095833 -0.348703 C 0.099687 -0.349105 0.105012 -0.348318 0.108264 -0.348703 C 0.111516 -0.349089 0.112975 -0.350632 0.115347 -0.351018 C 0.11772 -0.351404 0.119838 -0.351018 0.1225 -0.351018 C 0.125162 -0.351018 0.128368 -0.350617 0.13132 -0.351018 C 0.134271 -0.351419 0.137535 -0.352237 0.140208 -0.353426 C 0.142882 -0.354614 0.144988 -0.356975 0.147361 -0.358148 C 0.149734 -0.359321 0.152072 -0.359274 0.154445 -0.360463 C 0.156817 -0.361651 0.159225 -0.363688 0.161597 -0.365277 C 0.16397 -0.366867 0.166019 -0.367639 0.168681 -0.37 C 0.171343 -0.372361 0.174907 -0.376281 0.17757 -0.379444 C 0.180232 -0.382608 0.182581 -0.385416 0.184653 -0.388981 C 0.186725 -0.392546 0.188519 -0.397284 0.19 -0.400833 C 0.191481 -0.404382 0.192361 -0.407129 0.193542 -0.410277 C 0.194722 -0.413426 0.195891 -0.416558 0.197083 -0.419722 C 0.198276 -0.422886 0.199502 -0.425694 0.200695 -0.429259 C 0.201887 -0.432824 0.202465 -0.435987 0.204236 -0.441111 C 0.206007 -0.446234 0.209549 -0.454089 0.21132 -0.46 C 0.21309 -0.46591 0.21397 -0.471435 0.214861 -0.476574 C 0.215752 -0.481713 0.215776 -0.48608 0.216667 -0.490833 C 0.217558 -0.495586 0.219028 -0.499568 0.220208 -0.505092 C 0.221389 -0.510617 0.222859 -0.518071 0.22375 -0.523981 C 0.224641 -0.529892 0.225255 -0.535015 0.225556 -0.540555 C 0.225857 -0.546095 0.225266 -0.55287 0.225556 -0.557222 C 0.225845 -0.561574 0.227002 -0.56233 0.227292 -0.566666 C 0.227581 -0.571003 0.227292 -0.578102 0.227292 -0.58324 C 0.227292 -0.588379 0.227292 -0.592361 0.227292 -0.5975 C 0.227292 -0.602639 0.227292 -0.609737 0.227292 -0.614074 C 0.227292 -0.61841 0.227581 -0.619182 0.227292 -0.623518 C 0.227002 -0.627855 0.226146 -0.635355 0.225556 -0.640092 C 0.224965 -0.64483 0.22434 -0.648379 0.22375 -0.651944 C 0.22316 -0.655509 0.222604 -0.658318 0.222014 -0.661481 C 0.221424 -0.664645 0.220799 -0.667778 0.220208 -0.670926 C 0.219618 -0.674074 0.219653 -0.67642 0.218472 -0.68037 C 0.217292 -0.684321 0.214907 -0.690278 0.213125 -0.694629 C 0.211343 -0.698981 0.20956 -0.702932 0.207778 -0.706481 C 0.205995 -0.710031 0.204502 -0.712762 0.202431 -0.715926 C 0.200359 -0.719089 0.198009 -0.7227 0.195347 -0.725463 C 0.192685 -0.728225 0.189421 -0.730139 0.186458 -0.7325 C 0.183495 -0.734861 0.180532 -0.73804 0.17757 -0.739629 C 0.174606 -0.741219 0.171343 -0.740848 0.168681 -0.742037 C 0.166019 -0.743225 0.16456 -0.745571 0.161597 -0.746759 C 0.158634 -0.747947 0.154468 -0.748379 0.150903 -0.749166 C 0.147338 -0.749953 0.144062 -0.750694 0.140208 -0.751481 C 0.136354 -0.752268 0.132211 -0.753102 0.127778 -0.753889 C 0.123345 -0.754676 0.118345 -0.755818 0.113611 -0.756203 C 0.108877 -0.756589 0.104421 -0.756203 0.099375 -0.756203 C 0.094329 -0.756203 0.088669 -0.756203 0.083333 -0.756203 C 0.077998 -0.756203 0.073276 -0.756203 0.067361 -0.756203 C 0.061447 -0.756203 0.054062 -0.756203 0.047847 -0.756203 C 0.041632 -0.756203 0.035995 -0.756203 0.03007 -0.756203 C 0.024144 -0.756203 0.018519 -0.756203 0.012292 -0.756203 C 0.006065 -0.756203 -0.000775 -0.756589 -0.007292 -0.756203 C -0.013808 -0.755818 -0.02088 -0.754274 -0.026805 -0.753889 C -0.032731 -0.753503 -0.037511 -0.75429 -0.042847 -0.753889 C -0.048183 -0.753487 -0.053194 -0.752268 -0.058819 -0.751481 C -0.064444 -0.750694 -0.070671 -0.749953 -0.076597 -0.749166 C -0.082523 -0.748379 -0.089051 -0.747947 -0.094375 -0.746759 C -0.099699 -0.745571 -0.103808 -0.742824 -0.108542 -0.742037 C -0.113275 -0.74125 -0.118032 -0.742824 -0.122778 -0.742037 C -0.127523 -0.74125 -0.132569 -0.738904 -0.137014 -0.737314 C -0.141458 -0.735725 -0.145 -0.734089 -0.149444 -0.7325 C -0.153889 -0.73091 -0.159236 -0.729352 -0.16368 -0.727777 C -0.168125 -0.726203 -0.172257 -0.724629 -0.176111 -0.723055 C -0.179965 -0.721481 -0.183252 -0.719907 -0.186805 -0.718333 C -0.190359 -0.716759 -0.194178 -0.715185 -0.19743 -0.713611 C -0.200683 -0.712037 -0.203356 -0.710478 -0.206319 -0.708889 C -0.209282 -0.707299 -0.211944 -0.706851 -0.215208 -0.704074 C -0.218472 -0.701296 -0.22294 -0.695771 -0.225903 -0.692222 C -0.228866 -0.688673 -0.231215 -0.685926 -0.232986 -0.682777 C -0.234757 -0.679629 -0.235937 -0.676497 -0.236528 -0.673333 C -0.237118 -0.670169 -0.236528 -0.667747 -0.236528 -0.663796 C -0.236528 -0.659845 -0.237419 -0.653966 -0.236528 -0.649629 C -0.235636 -0.645293 -0.232662 -0.641342 -0.23118 -0.637777 C -0.229699 -0.634213 -0.230602 -0.632978 -0.227639 -0.62824 C -0.224676 -0.623503 -0.216956 -0.614475 -0.213403 -0.609352 C -0.209849 -0.604228 -0.209271 -0.60145 -0.206319 -0.5975 C -0.203368 -0.593549 -0.199248 -0.589213 -0.195694 -0.585648 C -0.192141 -0.582083 -0.188264 -0.579274 -0.185 -0.576111 C -0.181736 -0.572947 -0.179074 -0.569429 -0.176111 -0.566666 C -0.173148 -0.563904 -0.170185 -0.562299 -0.167222 -0.559537 C -0.164259 -0.556774 -0.160995 -0.552855 -0.158333 -0.550092 C -0.155671 -0.54733 -0.154502 -0.545725 -0.15125 -0.542963 C -0.147998 -0.5402 -0.142673 -0.536281 -0.138819 -0.533518 C -0.134965 -0.530756 -0.13169 -0.528765 -0.128125 -0.526389 C -0.12456 -0.524012 -0.121285 -0.522021 -0.11743 -0.519259 C -0.113576 -0.516497 -0.108843 -0.512978 -0.105 -0.509814 C -0.101157 -0.506651 -0.097627 -0.50304 -0.094375 -0.500277 C -0.091123 -0.497515 -0.08816 -0.494814 -0.085486 -0.49324 C -0.082812 -0.491666 -0.080706 -0.491636 -0.078333 -0.490833 C -0.075961 -0.490031 -0.075093 -0.49 -0.07125 -0.488426 C -0.067407 -0.486852 -0.059132 -0.482561 -0.055278 -0.481389 C -0.051424 -0.480216 -0.050799 -0.482191 -0.048125 -0.481389 C -0.045451 -0.480586 -0.042488 -0.477762 -0.039236 -0.476574 C -0.035984 -0.475385 -0.031574 -0.475046 -0.028611 -0.474259 C -0.025648 -0.473472 -0.023831 -0.472253 -0.021458 -0.471852 C -0.019086 -0.47145 -0.016736 -0.472237 -0.014375 -0.471852 C -0.012014 -0.471466 -0.010845 -0.470324 -0.007292 -0.469537 C -0.003738 -0.46875 0.003391 -0.467531 0.006945 -0.467129 C 0.010498 -0.466728 0.011366 -0.467129 0.014028 -0.467129 C 0.01669 -0.467129 0.019954 -0.467129 0.022917 -0.467129 C 0.02588 -0.467129 0.028542 -0.467129 0.031806 -0.467129 C 0.035069 -0.467129 0.038947 -0.467129 0.0425 -0.467129 C 0.046053 -0.467129 0.049271 -0.466728 0.053125 -0.467129 C 0.056979 -0.467531 0.06206 -0.46875 0.065625 -0.469537 C 0.06919 -0.470324 0.071563 -0.471065 0.074514 -0.471852 C 0.077465 -0.472639 0.080081 -0.473071 0.083333 -0.474259 C 0.086586 -0.475447 0.090764 -0.477407 0.094028 -0.478981 C 0.097292 -0.480555 0.100255 -0.482515 0.102917 -0.483703 C 0.105579 -0.484892 0.107338 -0.484923 0.11 -0.486111 C 0.112662 -0.487299 0.115336 -0.488472 0.118889 -0.490833 C 0.122442 -0.493194 0.127164 -0.497114 0.13132 -0.500277 C 0.135475 -0.503441 0.140255 -0.507037 0.14382 -0.509814 C 0.147384 -0.512592 0.150347 -0.514182 0.152708 -0.516944 C 0.155069 -0.519707 0.155914 -0.524028 0.157986 -0.526389 C 0.160058 -0.52875 0.162465 -0.52875 0.165139 -0.531111 C 0.167812 -0.533472 0.171065 -0.535818 0.174028 -0.540555 C 0.176991 -0.545293 0.180556 -0.554784 0.182917 -0.559537 C 0.185278 -0.56429 0.186424 -0.565509 0.188195 -0.569074 C 0.189965 -0.572639 0.19206 -0.576589 0.193542 -0.580926 C 0.195023 -0.585262 0.195891 -0.590355 0.197083 -0.595092 C 0.198276 -0.59983 0.199213 -0.604614 0.200695 -0.609352 C 0.202176 -0.614089 0.204491 -0.618781 0.205972 -0.623518 C 0.207454 -0.628256 0.208391 -0.63304 0.209583 -0.637777 C 0.210776 -0.642515 0.211945 -0.647207 0.213125 -0.651944 C 0.214306 -0.656682 0.216077 -0.661852 0.216667 -0.666203 C 0.217257 -0.670555 0.216366 -0.673719 0.216667 -0.678055 C 0.216968 -0.682392 0.217882 -0.687083 0.218472 -0.692222 C 0.219062 -0.697361 0.219919 -0.70375 0.220208 -0.708889 C 0.220498 -0.714027 0.220208 -0.71912 0.220208 -0.723055 C 0.220208 -0.72699 0.220208 -0.72895 0.220208 -0.7325 C 0.220208 -0.736049 0.220208 -0.740401 0.220208 -0.744352 C 0.220208 -0.748302 0.220208 -0.75145 0.220208 -0.756203 C 0.220208 -0.760957 0.220498 -0.767731 0.220208 -0.77287 C 0.219919 -0.778009 0.219363 -0.7827 0.218472 -0.787037 C 0.217581 -0.791373 0.216053 -0.795339 0.214861 -0.798889 C 0.213669 -0.802438 0.2125 -0.804784 0.21132 -0.808333 C 0.210139 -0.811882 0.208669 -0.816234 0.207778 -0.820185 C 0.206887 -0.824135 0.208044 -0.826898 0.205972 -0.832037 C 0.203901 -0.837176 0.198009 -0.845092 0.195347 -0.851018 C 0.192685 -0.856944 0.192072 -0.863642 0.19 -0.867592 C 0.187928 -0.871543 0.185289 -0.872747 0.182917 -0.874722 C 0.180544 -0.876697 0.178437 -0.876281 0.175764 -0.879444 C 0.17309 -0.882608 0.169838 -0.889352 0.166875 -0.893703 C 0.163912 -0.898055 0.160949 -0.903194 0.157986 -0.905555 C 0.155023 -0.907916 0.15294 -0.905895 0.149097 -0.90787 C 0.145255 -0.909845 0.139074 -0.915031 0.134931 -0.917407 C 0.130787 -0.919784 0.127789 -0.920555 0.124236 -0.922129 C 0.120683 -0.923703 0.117164 -0.925278 0.113611 -0.926852 C 0.110058 -0.928426 0.106771 -0.930385 0.102917 -0.931574 C 0.099063 -0.932762 0.09463 -0.932793 0.090486 -0.933981 C 0.086343 -0.935169 0.082199 -0.937515 0.078056 -0.938703 C 0.073912 -0.939892 0.070069 -0.940324 0.065625 -0.941111 C 0.061181 -0.941898 0.056725 -0.942639 0.051389 -0.943426 C 0.046053 -0.944213 0.038947 -0.945046 0.033611 -0.945833 C 0.028276 -0.94662 0.024711 -0.947762 0.019375 -0.948148 C 0.014039 -0.948534 0.007222 -0.948148 0.001597 -0.948148 C -0.004028 -0.948148 -0.009641 -0.948148 -0.014375 -0.948148 C -0.019109 -0.948148 -0.022662 -0.948148 -0.026805 -0.948148 C -0.030949 -0.948148 -0.035081 -0.948148 -0.039236 -0.948148 C -0.043391 -0.948148 -0.047882 -0.948148 -0.051736 -0.948148 C -0.05559 -0.948148 -0.058808 -0.948534 -0.062361 -0.948148 C -0.065914 -0.947762 -0.070093 -0.94662 -0.073055 -0.945833 C -0.076018 -0.945046 -0.076886 -0.944213 -0.080139 -0.943426 C -0.083391 -0.942639 -0.088715 -0.941497 -0.092569 -0.941111 C -0.096424 -0.940725 -0.099711 -0.941913 -0.103264 -0.941111 C -0.106817 -0.940308 -0.110046 -0.938271 -0.113889 -0.936296 C -0.117731 -0.934321 -0.122164 -0.931234 -0.126319 -0.929259 C -0.130474 -0.927284 -0.134965 -0.926034 -0.138819 -0.924444 C -0.142673 -0.922855 -0.146192 -0.920895 -0.149444 -0.919722 C -0.152697 -0.918549 -0.155671 -0.91858 -0.158333 -0.917407 C -0.160995 -0.916234 -0.162755 -0.914274 -0.165417 -0.912685 C -0.168079 -0.911095 -0.171632 -0.90946 -0.174305 -0.90787 C -0.176979 -0.906281 -0.178785 -0.905123 -0.181458 -0.903148 C -0.184132 -0.901173 -0.188576 -0.898781 -0.190347 -0.896018 C -0.192118 -0.893256 -0.191192 -0.889722 -0.192083 -0.886574 C -0.192974 -0.883426 -0.194502 -0.880293 -0.195694 -0.877129 C -0.196886 -0.873966 -0.198356 -0.870756 -0.199236 -0.867592 C -0.200116 -0.864429 -0.200683 -0.861697 -0.200972 -0.858148 C -0.201261 -0.854598 -0.200972 -0.849845 -0.200972 -0.846296 C -0.200972 -0.842747 -0.200972 -0.840802 -0.200972 -0.836852 C -0.200972 -0.832901 -0.200972 -0.826944 -0.200972 -0.822592 C -0.200972 -0.81824 -0.201562 -0.815092 -0.200972 -0.81074 C -0.200382 -0.806389 -0.19831 -0.800432 -0.19743 -0.796481 C -0.196551 -0.792531 -0.197176 -0.790972 -0.195694 -0.787037 C -0.194213 -0.783102 -0.190023 -0.776821 -0.188542 -0.77287 C -0.18706 -0.768919 -0.188576 -0.767685 -0.186805 -0.763333 C -0.185035 -0.758981 -0.18118 -0.752284 -0.177917 -0.746759 C -0.174653 -0.741234 -0.170787 -0.734521 -0.167222 -0.730185 C -0.163657 -0.725848 -0.159491 -0.723904 -0.156528 -0.72074 C -0.153565 -0.717577 -0.151805 -0.71358 -0.149444 -0.711203 C -0.147083 -0.708827 -0.145023 -0.70767 -0.142361 -0.706481 C -0.139699 -0.705293 -0.136435 -0.705648 -0.133472 -0.704074 C -0.130509 -0.7025 -0.127847 -0.699398 -0.124583 -0.697037 C -0.121319 -0.694676 -0.117442 -0.692284 -0.113889 -0.689907 C -0.110336 -0.687531 -0.106817 -0.684753 -0.103264 -0.682777 C -0.099711 -0.680802 -0.095532 -0.679629 -0.092569 -0.678055 C -0.089606 -0.676481 -0.088449 -0.675308 -0.085486 -0.673333 C -0.082523 -0.671358 -0.078947 -0.668179 -0.074792 -0.666203 C -0.070636 -0.664228 -0.064699 -0.663055 -0.060555 -0.661481 C -0.056412 -0.659907 -0.053183 -0.657546 -0.04993 -0.656759 C -0.046678 -0.655972 -0.044005 -0.65716 -0.041042 -0.656759 C -0.038079 -0.656358 -0.035116 -0.655154 -0.032153 -0.654352 C -0.02919 -0.653549 -0.026528 -0.652731 -0.023264 -0.651944 C -0.02 -0.651157 -0.016423 -0.650015 -0.012569 -0.649629 C -0.008715 -0.649244 -0.004572 -0.649629 -0.000139 -0.649629 C 0.004294 -0.649629 0.009294 -0.649629 0.014028 -0.649629 C 0.018762 -0.649629 0.02382 -0.649629 0.028264 -0.649629 C 0.032708 -0.649629 0.036551 -0.649629 0.040695 -0.649629 C 0.044838 -0.649629 0.04897 -0.649629 0.053125 -0.649629 C 0.05728 -0.649629 0.061771 -0.649629 0.065625 -0.649629 C 0.069479 -0.649629 0.072998 -0.649244 0.07625 -0.649629 C 0.079502 -0.650015 0.082176 -0.651157 0.085139 -0.651944 C 0.088102 -0.652731 0.091366 -0.65395 0.094028 -0.654352 C 0.09669 -0.654753 0.098738 -0.653163 0.101111 -0.654352 C 0.103484 -0.65554 0.105891 -0.660293 0.108264 -0.661481 C 0.110637 -0.662669 0.112685 -0.660694 0.115347 -0.661481 C 0.118009 -0.662268 0.120972 -0.664228 0.124236 -0.666203 C 0.1275 -0.668179 0.131968 -0.670571 0.134931 -0.673333 C 0.137894 -0.676095 0.139653 -0.679228 0.142014 -0.682777 C 0.144375 -0.686327 0.147026 -0.69108 0.149097 -0.694629 C 0.151169 -0.698179 0.152662 -0.700123 0.154445 -0.704074 C 0.156227 -0.708024 0.158009 -0.713595 0.159792 -0.718333 C 0.161574 -0.723071 0.163357 -0.726975 0.165139 -0.7325 C 0.166921 -0.738024 0.169005 -0.745555 0.170486 -0.751481 C 0.171968 -0.757407 0.172558 -0.762916 0.174028 -0.768055 C 0.175498 -0.773194 0.178125 -0.777176 0.179306 -0.782314 C 0.180486 -0.787453 0.180509 -0.79375 0.181111 -0.798889 C 0.181713 -0.804027 0.182327 -0.808796 0.182917 -0.813148 C 0.183507 -0.8175 0.184063 -0.821049 0.184653 -0.825 C 0.185243 -0.82895 0.186157 -0.832515 0.186458 -0.836852 C 0.186759 -0.841188 0.186458 -0.847083 0.186458 -0.851018 C 0.186458 -0.854953 0.186458 -0.857299 0.186458 -0.860463 C 0.186458 -0.863626 0.186458 -0.866836 0.186458 -0.87 C 0.186458 -0.873163 0.186759 -0.876281 0.186458 -0.879444 C 0.186157 -0.882608 0.185243 -0.885818 0.184653 -0.888981 C 0.184063 -0.892145 0.183808 -0.895278 0.182917 -0.898426 C 0.182026 -0.901574 0.180498 -0.904706 0.179306 -0.90787 C 0.178113 -0.911034 0.177234 -0.914244 0.175764 -0.917407 C 0.174294 -0.920571 0.172558 -0.924089 0.170486 -0.926852 C 0.168414 -0.929614 0.165706 -0.931605 0.163333 -0.933981 C 0.160961 -0.936358 0.158623 -0.939136 0.15625 -0.941111 C 0.153877 -0.943086 0.15147 -0.944259 0.149097 -0.945833 C 0.146725 -0.947407 0.144375 -0.949367 0.142014 -0.950555 C 0.139653 -0.951744 0.137593 -0.952176 0.134931 -0.952963 C 0.132269 -0.95375 0.128715 -0.954105 0.126042 -0.955277 C 0.123368 -0.95645 0.121262 -0.959213 0.118889 -0.96 C 0.116516 -0.960787 0.114167 -0.96 0.111806 -0.96 C 0.109445 -0.96 0.107095 -0.959598 0.104722 -0.96 C 0.10235 -0.960401 0.099942 -0.962006 0.09757 -0.962407 C 0.095197 -0.962808 0.092859 -0.962407 0.090486 -0.962407 C 0.088113 -0.962407 0.085706 -0.96162 0.083333 -0.962407 C 0.080961 -0.963194 0.078611 -0.965154 0.07625 -0.967129 C 0.073889 -0.969105 0.071539 -0.972685 0.069167 -0.974259 C 0.066794 -0.975833 0.064387 -0.975787 0.062014 -0.976574 C 0.059641 -0.977361 0.057292 -0.97858 0.054931 -0.978981 C 0.05257 -0.979382 0.05022 -0.97858 0.047847 -0.978981 C 0.045475 -0.979382 0.043368 -0.980987 0.040695 -0.981389 C 0.038021 -0.98179 0.034769 -0.981003 0.031806 -0.981389 C 0.028843 -0.981774 0.02588 -0.983318 0.022917 -0.983703 C 0.019954 -0.984089 0.01728 -0.983703 0.014028 -0.983703 C 0.010776 -0.983703 0.006366 -0.983703 0.003403 -0.983703 C 0.00044 -0.983703 -0.001088 -0.983703 -0.00375 -0.983703 C -0.006412 -0.983703 -0.009317 -0.983703 -0.012569 -0.983703 C -0.015822 -0.983703 -0.02 -0.983302 -0.023264 -0.983703 C -0.026528 -0.984105 -0.029491 -0.98571 -0.032153 -0.986111 C -0.034815 -0.986512 -0.036863 -0.986111 -0.039236 -0.986111 C -0.041609 -0.986111 -0.044016 -0.986111 -0.046389 -0.986111 C -0.048761 -0.986111 -0.051111 -0.985725 -0.053472 -0.986111 C -0.055833 -0.986497 -0.058183 -0.98804 -0.060555 -0.988426 C -0.062928 -0.988811 -0.065336 -0.988426 -0.067708 -0.988426 C -0.070081 -0.988426 -0.072419 -0.988426 -0.074792 -0.988426 C -0.077164 -0.988426 -0.079572 -0.988426 -0.081944 -0.988426 C -0.084317 -0.988426 -0.086667 -0.988426 -0.089028 -0.988426 C -0.091389 -0.988426 -0.093449 -0.988426 -0.096111 -0.988426 C -0.098773 -0.988426 -0.102326 -0.988426 -0.105 -0.988426 C -0.107673 -0.988426 -0.10978 -0.988426 -0.112153 -0.988426 C -0.114525 -0.988426 -0.116875 -0.989213 -0.119236 -0.988426 C -0.121597 -0.987639 -0.123947 -0.984876 -0.126319 -0.983703 C -0.128692 -0.982531 -0.131099 -0.983364 -0.133472 -0.981389 C -0.135845 -0.979413 -0.139375 -0.975015 -0.140555 -0.971852 C -0.141736 -0.968688 -0.140555 -0.965957 -0.140555 -0.962407 C -0.140555 -0.958858 -0.140555 -0.955293 -0.140555 -0.950555 C -0.140555 -0.945818 -0.140845 -0.938719 -0.140555 -0.933981 C -0.140266 -0.929244 -0.139711 -0.926481 -0.138819 -0.922129 C -0.137928 -0.917778 -0.1364 -0.911821 -0.135208 -0.90787 C -0.134016 -0.903919 -0.133148 -0.901574 -0.131667 -0.898426 C -0.130185 -0.895278 -0.128391 -0.892531 -0.126319 -0.888981 C -0.124248 -0.885432 -0.122199 -0.880694 -0.119236 -0.877129 C -0.116273 -0.873565 -0.111505 -0.87037 -0.108542 -0.867592 C -0.105579 -0.864815 -0.103819 -0.862438 -0.101458 -0.860463 C -0.099097 -0.858487 -0.097338 -0.857314 -0.094375 -0.85574 C -0.091412 -0.854166 -0.086944 -0.852592 -0.08368 -0.851018 C -0.080417 -0.849444 -0.077454 -0.847484 -0.074792 -0.846296 C -0.07213 -0.845108 -0.070671 -0.84429 -0.067708 -0.843889 C -0.064745 -0.843487 -0.060868 -0.844274 -0.057014 -0.843889 C -0.05316 -0.843503 -0.048727 -0.84196 -0.044583 -0.841574 C -0.04044 -0.841188 -0.036597 -0.841574 -0.032153 -0.841574 C -0.027708 -0.841574 -0.02206 -0.841574 -0.017917 -0.841574 C -0.013773 -0.841574 -0.010845 -0.841574 -0.007292 -0.841574 C -0.003738 -0.841574 -0.00015 -0.841574 0.003403 -0.841574 C 0.006956 -0.841574 0.010174 -0.841574 0.014028 -0.841574 C 0.017882 -0.841574 0.022975 -0.840787 0.026528 -0.841574 C 0.030081 -0.842361 0.032685 -0.843935 0.035347 -0.846296 C 0.038009 -0.848657 0.041308 -0.854166 0.0425 -0.85574 E">
                                      <p:cBhvr>
                                        <p:cTn id="1694" dur="2000" fill="hold"/>
                                        <p:tgtEl>
                                          <p:spTgt spid="6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1187280" y="1844640"/>
            <a:ext cx="33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花名：游园生活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24000" y="465300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nice day......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愿你拥有美好的一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643280" y="1125360"/>
            <a:ext cx="26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什么的大道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只是对生活的阐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-925560" y="3789360"/>
            <a:ext cx="925560" cy="568440"/>
            <a:chOff x="-925560" y="3789360"/>
            <a:chExt cx="925560" cy="568440"/>
          </a:xfrm>
        </p:grpSpPr>
        <p:pic>
          <p:nvPicPr>
            <p:cNvPr id="120" name="Picture 8" descr="8"/>
            <p:cNvPicPr/>
            <p:nvPr/>
          </p:nvPicPr>
          <p:blipFill>
            <a:blip r:embed="rId2"/>
            <a:stretch/>
          </p:blipFill>
          <p:spPr>
            <a:xfrm>
              <a:off x="-925560" y="3860640"/>
              <a:ext cx="356040" cy="38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9" descr="9"/>
            <p:cNvPicPr/>
            <p:nvPr/>
          </p:nvPicPr>
          <p:blipFill>
            <a:blip r:embed="rId3"/>
            <a:stretch/>
          </p:blipFill>
          <p:spPr>
            <a:xfrm>
              <a:off x="-782640" y="3789360"/>
              <a:ext cx="78264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"/>
          <p:cNvGrpSpPr/>
          <p:nvPr/>
        </p:nvGrpSpPr>
        <p:grpSpPr>
          <a:xfrm>
            <a:off x="-925560" y="2565360"/>
            <a:ext cx="925560" cy="568440"/>
            <a:chOff x="-925560" y="2565360"/>
            <a:chExt cx="925560" cy="568440"/>
          </a:xfrm>
        </p:grpSpPr>
        <p:pic>
          <p:nvPicPr>
            <p:cNvPr id="123" name="Picture 12" descr="8"/>
            <p:cNvPicPr/>
            <p:nvPr/>
          </p:nvPicPr>
          <p:blipFill>
            <a:blip r:embed="rId4"/>
            <a:stretch/>
          </p:blipFill>
          <p:spPr>
            <a:xfrm>
              <a:off x="-925560" y="2636640"/>
              <a:ext cx="356040" cy="38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13" descr="9"/>
            <p:cNvPicPr/>
            <p:nvPr/>
          </p:nvPicPr>
          <p:blipFill>
            <a:blip r:embed="rId5"/>
            <a:stretch/>
          </p:blipFill>
          <p:spPr>
            <a:xfrm>
              <a:off x="-782640" y="2565360"/>
              <a:ext cx="78264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"/>
          <p:cNvGrpSpPr/>
          <p:nvPr/>
        </p:nvGrpSpPr>
        <p:grpSpPr>
          <a:xfrm>
            <a:off x="9468000" y="1268280"/>
            <a:ext cx="936000" cy="568440"/>
            <a:chOff x="9468000" y="1268280"/>
            <a:chExt cx="936000" cy="568440"/>
          </a:xfrm>
        </p:grpSpPr>
        <p:pic>
          <p:nvPicPr>
            <p:cNvPr id="126" name="Picture 15" descr="8"/>
            <p:cNvPicPr/>
            <p:nvPr/>
          </p:nvPicPr>
          <p:blipFill>
            <a:blip r:embed="rId6"/>
            <a:stretch/>
          </p:blipFill>
          <p:spPr>
            <a:xfrm>
              <a:off x="9468000" y="1339560"/>
              <a:ext cx="360000" cy="38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6" descr="9"/>
            <p:cNvPicPr/>
            <p:nvPr/>
          </p:nvPicPr>
          <p:blipFill>
            <a:blip r:embed="rId7"/>
            <a:stretch/>
          </p:blipFill>
          <p:spPr>
            <a:xfrm>
              <a:off x="9612000" y="1268280"/>
              <a:ext cx="79200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"/>
          <p:cNvGrpSpPr/>
          <p:nvPr/>
        </p:nvGrpSpPr>
        <p:grpSpPr>
          <a:xfrm>
            <a:off x="9468000" y="5300640"/>
            <a:ext cx="936000" cy="568440"/>
            <a:chOff x="9468000" y="5300640"/>
            <a:chExt cx="936000" cy="568440"/>
          </a:xfrm>
        </p:grpSpPr>
        <p:pic>
          <p:nvPicPr>
            <p:cNvPr id="129" name="Picture 18" descr="8"/>
            <p:cNvPicPr/>
            <p:nvPr/>
          </p:nvPicPr>
          <p:blipFill>
            <a:blip r:embed="rId8"/>
            <a:stretch/>
          </p:blipFill>
          <p:spPr>
            <a:xfrm>
              <a:off x="9468000" y="5371920"/>
              <a:ext cx="360000" cy="38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19" descr="9"/>
            <p:cNvPicPr/>
            <p:nvPr/>
          </p:nvPicPr>
          <p:blipFill>
            <a:blip r:embed="rId9"/>
            <a:stretch/>
          </p:blipFill>
          <p:spPr>
            <a:xfrm>
              <a:off x="9612000" y="5300640"/>
              <a:ext cx="792000" cy="56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Text Box 20"/>
          <p:cNvSpPr/>
          <p:nvPr/>
        </p:nvSpPr>
        <p:spPr>
          <a:xfrm>
            <a:off x="5614920" y="64911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2720" y="692280"/>
            <a:ext cx="2158920" cy="78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英文名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68360" y="2925720"/>
            <a:ext cx="1729080" cy="78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性别：男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51120" y="3146400"/>
            <a:ext cx="124452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3860640"/>
            <a:ext cx="115092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44720" y="3933720"/>
            <a:ext cx="1943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爱好：男女通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40360" y="4653000"/>
            <a:ext cx="4679640" cy="78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40360" y="5013360"/>
            <a:ext cx="4103640" cy="78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生格言：责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创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成功；站在群众最底层，演绎湛蓝天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96296E-006 L 0.47257 -2.96296E-006 E">
                                      <p:cBhvr>
                                        <p:cTn id="252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54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986 2.96296E-006 L 0.60243 2.96296E-006 E">
                                      <p:cBhvr>
                                        <p:cTn id="259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11111E-006 L -0.45677 -1.11111E-006 E">
                                      <p:cBhvr>
                                        <p:cTn id="261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3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11111E-006 L -0.45677 -1.11111E-006 E">
                                      <p:cBhvr>
                                        <p:cTn id="26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1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84" dur="1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85" dur="1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2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2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88副本"/>
          <p:cNvPicPr/>
          <p:nvPr/>
        </p:nvPicPr>
        <p:blipFill>
          <a:blip r:embed="rId2"/>
          <a:stretch/>
        </p:blipFill>
        <p:spPr>
          <a:xfrm flipH="1" rot="13970400">
            <a:off x="762120" y="1692720"/>
            <a:ext cx="4539960" cy="3258720"/>
          </a:xfrm>
          <a:prstGeom prst="rect">
            <a:avLst/>
          </a:prstGeom>
          <a:ln w="0">
            <a:noFill/>
          </a:ln>
        </p:spPr>
      </p:pic>
      <p:sp>
        <p:nvSpPr>
          <p:cNvPr id="140" name="Oval 6"/>
          <p:cNvSpPr/>
          <p:nvPr/>
        </p:nvSpPr>
        <p:spPr>
          <a:xfrm>
            <a:off x="2627280" y="2205000"/>
            <a:ext cx="287280" cy="7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3059280" y="2205000"/>
            <a:ext cx="287280" cy="7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9"/>
          <p:cNvSpPr/>
          <p:nvPr/>
        </p:nvSpPr>
        <p:spPr>
          <a:xfrm>
            <a:off x="2916360" y="2492280"/>
            <a:ext cx="276120" cy="28908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2771640" y="220500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1"/>
          <p:cNvSpPr/>
          <p:nvPr/>
        </p:nvSpPr>
        <p:spPr>
          <a:xfrm>
            <a:off x="3203640" y="220500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3"/>
          <p:cNvSpPr/>
          <p:nvPr/>
        </p:nvSpPr>
        <p:spPr>
          <a:xfrm>
            <a:off x="1835280" y="1413000"/>
            <a:ext cx="576000" cy="50328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4"/>
          <p:cNvSpPr/>
          <p:nvPr/>
        </p:nvSpPr>
        <p:spPr>
          <a:xfrm>
            <a:off x="2195640" y="1197000"/>
            <a:ext cx="431640" cy="64764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5"/>
          <p:cNvSpPr/>
          <p:nvPr/>
        </p:nvSpPr>
        <p:spPr>
          <a:xfrm>
            <a:off x="2556000" y="1052640"/>
            <a:ext cx="239760" cy="72072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35"/>
          <p:cNvSpPr/>
          <p:nvPr/>
        </p:nvSpPr>
        <p:spPr>
          <a:xfrm>
            <a:off x="3851280" y="-401760"/>
            <a:ext cx="152280" cy="401760"/>
          </a:xfrm>
          <a:prstGeom prst="pie">
            <a:avLst/>
          </a:prstGeom>
          <a:gradFill rotWithShape="0">
            <a:gsLst>
              <a:gs pos="0">
                <a:srgbClr val="475e76"/>
              </a:gs>
              <a:gs pos="100000">
                <a:srgbClr val="99ccff">
                  <a:alpha val="5019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39"/>
          <p:cNvSpPr/>
          <p:nvPr/>
        </p:nvSpPr>
        <p:spPr>
          <a:xfrm>
            <a:off x="3780000" y="4508640"/>
            <a:ext cx="718920" cy="1008000"/>
          </a:xfrm>
          <a:prstGeom prst="can">
            <a:avLst>
              <a:gd name="adj" fmla="val 25000"/>
            </a:avLst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1"/>
          <p:cNvSpPr/>
          <p:nvPr/>
        </p:nvSpPr>
        <p:spPr>
          <a:xfrm rot="5400000">
            <a:off x="3852000" y="4437720"/>
            <a:ext cx="649080" cy="1225440"/>
          </a:xfrm>
          <a:prstGeom prst="pie">
            <a:avLst/>
          </a:prstGeom>
          <a:solidFill>
            <a:srgbClr val="00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43"/>
          <p:cNvSpPr/>
          <p:nvPr/>
        </p:nvSpPr>
        <p:spPr>
          <a:xfrm>
            <a:off x="2340000" y="3429000"/>
            <a:ext cx="466560" cy="80496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44"/>
          <p:cNvSpPr/>
          <p:nvPr/>
        </p:nvSpPr>
        <p:spPr>
          <a:xfrm>
            <a:off x="3059280" y="3068640"/>
            <a:ext cx="1091880" cy="32544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45"/>
          <p:cNvSpPr/>
          <p:nvPr/>
        </p:nvSpPr>
        <p:spPr>
          <a:xfrm>
            <a:off x="2843280" y="5013360"/>
            <a:ext cx="252360" cy="116532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46"/>
          <p:cNvSpPr/>
          <p:nvPr/>
        </p:nvSpPr>
        <p:spPr>
          <a:xfrm>
            <a:off x="3059280" y="4941720"/>
            <a:ext cx="396720" cy="12240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7"/>
          <p:cNvSpPr/>
          <p:nvPr/>
        </p:nvSpPr>
        <p:spPr>
          <a:xfrm>
            <a:off x="6012000" y="1484280"/>
            <a:ext cx="25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8"/>
          <p:cNvSpPr/>
          <p:nvPr/>
        </p:nvSpPr>
        <p:spPr>
          <a:xfrm>
            <a:off x="9468000" y="765000"/>
            <a:ext cx="295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要看到满的那杯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ways try to see the glass half fu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49"/>
          <p:cNvSpPr/>
          <p:nvPr/>
        </p:nvSpPr>
        <p:spPr>
          <a:xfrm>
            <a:off x="5724360" y="4508640"/>
            <a:ext cx="719280" cy="1009440"/>
          </a:xfrm>
          <a:prstGeom prst="can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0"/>
          <p:cNvSpPr/>
          <p:nvPr/>
        </p:nvSpPr>
        <p:spPr>
          <a:xfrm rot="5400000">
            <a:off x="5796000" y="4437000"/>
            <a:ext cx="650880" cy="122544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56"/>
          <p:cNvSpPr/>
          <p:nvPr/>
        </p:nvSpPr>
        <p:spPr>
          <a:xfrm rot="1027200">
            <a:off x="4208040" y="2923920"/>
            <a:ext cx="69840" cy="195120"/>
          </a:xfrm>
          <a:prstGeom prst="pie">
            <a:avLst/>
          </a:prstGeom>
          <a:gradFill rotWithShape="0">
            <a:gsLst>
              <a:gs pos="0">
                <a:srgbClr val="475e76"/>
              </a:gs>
              <a:gs pos="100000">
                <a:srgbClr val="99ccff">
                  <a:alpha val="50196"/>
                </a:srgbClr>
              </a:gs>
            </a:gsLst>
            <a:lin ang="70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57"/>
          <p:cNvSpPr/>
          <p:nvPr/>
        </p:nvSpPr>
        <p:spPr>
          <a:xfrm rot="3411600">
            <a:off x="4255560" y="3138480"/>
            <a:ext cx="71640" cy="144360"/>
          </a:xfrm>
          <a:prstGeom prst="pie">
            <a:avLst/>
          </a:prstGeom>
          <a:gradFill rotWithShape="0">
            <a:gsLst>
              <a:gs pos="0">
                <a:srgbClr val="475e76"/>
              </a:gs>
              <a:gs pos="100000">
                <a:srgbClr val="99ccff">
                  <a:alpha val="50196"/>
                </a:srgbClr>
              </a:gs>
            </a:gsLst>
            <a:lin ang="46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58"/>
          <p:cNvSpPr/>
          <p:nvPr/>
        </p:nvSpPr>
        <p:spPr>
          <a:xfrm rot="19965000">
            <a:off x="3708000" y="2997000"/>
            <a:ext cx="79560" cy="123840"/>
          </a:xfrm>
          <a:prstGeom prst="pie">
            <a:avLst/>
          </a:prstGeom>
          <a:gradFill rotWithShape="0">
            <a:gsLst>
              <a:gs pos="0">
                <a:srgbClr val="475e76"/>
              </a:gs>
              <a:gs pos="100000">
                <a:srgbClr val="99ccff">
                  <a:alpha val="50196"/>
                </a:srgbClr>
              </a:gs>
            </a:gsLst>
            <a:lin ang="97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59"/>
          <p:cNvSpPr/>
          <p:nvPr/>
        </p:nvSpPr>
        <p:spPr>
          <a:xfrm rot="8179200">
            <a:off x="4048200" y="3219480"/>
            <a:ext cx="79200" cy="216000"/>
          </a:xfrm>
          <a:prstGeom prst="pie">
            <a:avLst/>
          </a:prstGeom>
          <a:gradFill rotWithShape="0">
            <a:gsLst>
              <a:gs pos="0">
                <a:srgbClr val="475e76"/>
              </a:gs>
              <a:gs pos="100000">
                <a:srgbClr val="99ccff">
                  <a:alpha val="50196"/>
                </a:srgbClr>
              </a:gs>
            </a:gsLst>
            <a:lin ang="215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60"/>
          <p:cNvSpPr/>
          <p:nvPr/>
        </p:nvSpPr>
        <p:spPr>
          <a:xfrm rot="19701000">
            <a:off x="3898800" y="2919240"/>
            <a:ext cx="69840" cy="114480"/>
          </a:xfrm>
          <a:prstGeom prst="pie">
            <a:avLst/>
          </a:prstGeom>
          <a:gradFill rotWithShape="0">
            <a:gsLst>
              <a:gs pos="0">
                <a:srgbClr val="475e76"/>
              </a:gs>
              <a:gs pos="100000">
                <a:srgbClr val="99ccff">
                  <a:alpha val="50196"/>
                </a:srgbClr>
              </a:gs>
            </a:gsLst>
            <a:lin ang="100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62"/>
          <p:cNvSpPr/>
          <p:nvPr/>
        </p:nvSpPr>
        <p:spPr>
          <a:xfrm>
            <a:off x="5927760" y="4568760"/>
            <a:ext cx="304920" cy="152640"/>
          </a:xfrm>
          <a:prstGeom prst="pi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3"/>
          <p:cNvSpPr/>
          <p:nvPr/>
        </p:nvSpPr>
        <p:spPr>
          <a:xfrm>
            <a:off x="5918040" y="4575240"/>
            <a:ext cx="304920" cy="152280"/>
          </a:xfrm>
          <a:prstGeom prst="pi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64"/>
          <p:cNvSpPr/>
          <p:nvPr/>
        </p:nvSpPr>
        <p:spPr>
          <a:xfrm>
            <a:off x="5924520" y="4575240"/>
            <a:ext cx="304920" cy="152280"/>
          </a:xfrm>
          <a:prstGeom prst="pi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65"/>
          <p:cNvSpPr/>
          <p:nvPr/>
        </p:nvSpPr>
        <p:spPr>
          <a:xfrm>
            <a:off x="6012000" y="-401760"/>
            <a:ext cx="152280" cy="401760"/>
          </a:xfrm>
          <a:prstGeom prst="pie">
            <a:avLst/>
          </a:prstGeom>
          <a:gradFill rotWithShape="0">
            <a:gsLst>
              <a:gs pos="0">
                <a:srgbClr val="475e76"/>
              </a:gs>
              <a:gs pos="100000">
                <a:srgbClr val="99ccff">
                  <a:alpha val="5019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8"/>
          <p:cNvSpPr/>
          <p:nvPr/>
        </p:nvSpPr>
        <p:spPr>
          <a:xfrm>
            <a:off x="6300720" y="649116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87640" y="549360"/>
            <a:ext cx="3384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招新章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60000">
            <a:off x="6861960" y="1427400"/>
            <a:ext cx="1146240" cy="287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ffff66"/>
                </a:solidFill>
                <a:latin typeface="Arial"/>
              </a:rPr>
              <a:t>招新目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为了提高院学生会的办事效率、充实其中坚力量、更进一步完善和做好我院的学生工作，也为了给新生一个施展自己才华的舞台，招纳一些有才之士到我们学生会当中，以更好的为广大师生服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226360" y="2781360"/>
            <a:ext cx="457200" cy="345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9375 0 E">
                                      <p:cBhvr>
                                        <p:cTn id="299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2" dur="500" autoRev="1" fill="hold"/>
                                        <p:tgtEl>
                                          <p:spTgt spid="1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08 0.11979 L 0.00608 0.45282 E">
                                      <p:cBhvr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3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3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3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3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100"/>
                            </p:stCondLst>
                            <p:childTnLst>
                              <p:par>
                                <p:cTn id="3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2.96296E-006 C 0.00521 -2.96296E-006 0.0106 0.00023 0.01355 -0.00139 C 0.0165 -0.00301 0.01702 -0.00833 0.01771 -0.00972 E">
                                      <p:cBhvr>
                                        <p:cTn id="368" dur="3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3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C 0.00174 -0.00231 0.00296 -0.00255 0.00521 -0.00347 C 0.00973 -0.00301 0.01164 -0.00139 0.01407 -0.00625 C 0.01511 -0.01296 0.01355 -0.0125 0.01615 -0.0125 E">
                                      <p:cBhvr>
                                        <p:cTn id="373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7 C 0.0026 0.00185 0.00417 0.00231 0.00573 0.00555 C 0.00365 0.0074 0.00312 0.01018 0.00156 0.01319 C 0.00121 0.01388 0.00052 0.01527 0.00052 0.01527 C 0.00017 0.01689 -0.0007 0.01851 -0.00052 0.02013 C -5.55556000000012E-007 0.02662 0.00295 0.02615 0.00573 0.02986 E">
                                      <p:cBhvr>
                                        <p:cTn id="378" dur="5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6.66667E-006 C -2.5E-006 -0.00093 -0.00017 -0.00649 -0.00104 -0.00834 C -0.00364 -0.01436 -0.01128 -0.01389 -0.01562 -0.01528 C -0.01632 -0.01598 -0.01753 -0.01621 -0.01771 -0.01737 C -0.01875 -0.02385 -0.01285 -0.0213 -0.01146 -0.02501 E">
                                      <p:cBhvr>
                                        <p:cTn id="383" dur="5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7037E-007 C -0.00208 -0.00439 -0.00382 -0.01064 -0.00781 -0.0125 C -0.01042 -0.01944 -0.01701 -0.02222 -0.0224 -0.02361 C -0.02274 -0.0243 -0.02344 -0.02569 -0.02344 -0.02569 E">
                                      <p:cBhvr>
                                        <p:cTn id="388" dur="5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600"/>
                            </p:stCondLst>
                            <p:childTnLst>
                              <p:par>
                                <p:cTn id="39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0.03075 L 0.00035 0.66859 E">
                                      <p:cBhvr>
                                        <p:cTn id="394" dur="5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100"/>
                            </p:stCondLst>
                            <p:childTnLst>
                              <p:par>
                                <p:cTn id="3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0" dur="200" fill="hold"/>
                                        <p:tgtEl>
                                          <p:spTgt spid="16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4" dur="300" fill="hold"/>
                                        <p:tgtEl>
                                          <p:spTgt spid="164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411" dur="300" fill="hold"/>
                                        <p:tgtEl>
                                          <p:spTgt spid="165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418" dur="300" fill="hold"/>
                                        <p:tgtEl>
                                          <p:spTgt spid="166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1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31" dur="1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32" dur="1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4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4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223 -0.258982 C -0.093223 -0.250982 -0.142223 -0.230982 -0.142223 -0.214982 C -0.142223 -0.200312 -0.094223 -0.189652 -0.030223 -0.189652 C 0.033777 -0.189652 0.087777 -0.200312 0.087777 -0.214982 C 0.087777 -0.230982 0.031777 -0.234982 -0.032223 -0.224312 C -0.095223 -0.212312 -0.142223 -0.192312 -0.142223 -0.177652 C -0.142223 -0.162982 -0.093223 -0.150982 -0.030223 -0.150982 C 0.033777 -0.150982 0.087777 -0.162982 0.087777 -0.177652 C 0.087777 -0.192312 0.031777 -0.196312 -0.031223 -0.185652 C -0.095223 -0.174982 -0.142223 -0.154982 -0.142223 -0.140312 C -0.142223 -0.124312 -0.093223 -0.112312 -0.029223 -0.112312 C 0.033777 -0.112312 0.087777 -0.124312 0.087777 -0.140312 C 0.087777 -0.153652 0.031777 -0.157652 -0.031223 -0.148312 C -0.094223 -0.137652 -0.142223 -0.116312 -0.142223 -0.101652 C -0.142223 -0.086982 -0.092223 -0.074982 -0.029223 -0.074982 C 0.035777 -0.074982 0.087777 -0.086982 0.087777 -0.101652 C 0.087777 -0.116312 0.032777 -0.120312 -0.030223 -0.109652 C -0.093223 -0.098982 -0.142223 -0.078982 -0.142223 -0.064312 C -0.142223 -0.048312 -0.092223 -0.037652 -0.028223 -0.037652 C 0.035777 -0.037652 0.087777 -0.049652 0.087777 -0.064312 C 0.087777 -0.078982 0.032777 -0.082982 -0.030223 -0.072312 C -0.093223 -0.061652 -0.142223 -0.040311 -0.142223 -0.026981 C -0.142223 -0.012312 -0.091223 -0.000312 -0.028223 -0.000312 C 0.035777 -0.000312 0.087777 -0.012312 0.087777 -0.026981 C 0.087777 -0.040311 0.033777 -0.044312 -0.030223 -0.034982 C -0.093223 -0.024312 -0.142223 -0.002982 -0.142223 0.011688 C -0.142223 0.025018 -0.091223 0.038349 -0.027223 0.038349 C 0.036777 0.038349 0.087777 0.026348 0.087777 0.011688 C 0.087777 -0.002982 0.033777 -0.006982 -0.029223 0.003688 C -0.092223 0.014349 -0.143223 0.034348 -0.142223 0.049018 C -0.141223 0.063688 -0.091223 0.074348 -0.027223 0.074348 C 0.036777 0.074348 0.087777 0.062348 0.087777 0.047688 C 0.087777 0.034348 0.035777 0.030349 -0.027223 0.042349 E">
                                      <p:cBhvr>
                                        <p:cTn id="439" dur="5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88副本"/>
          <p:cNvPicPr/>
          <p:nvPr/>
        </p:nvPicPr>
        <p:blipFill>
          <a:blip r:embed="rId2"/>
          <a:stretch/>
        </p:blipFill>
        <p:spPr>
          <a:xfrm rot="7602000">
            <a:off x="238320" y="2145240"/>
            <a:ext cx="4160880" cy="2984760"/>
          </a:xfrm>
          <a:prstGeom prst="rect">
            <a:avLst/>
          </a:prstGeom>
          <a:ln w="0">
            <a:noFill/>
          </a:ln>
        </p:spPr>
      </p:pic>
      <p:sp>
        <p:nvSpPr>
          <p:cNvPr id="173" name="Freeform 5"/>
          <p:cNvSpPr/>
          <p:nvPr/>
        </p:nvSpPr>
        <p:spPr>
          <a:xfrm>
            <a:off x="2484360" y="3573360"/>
            <a:ext cx="1258920" cy="21600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6"/>
          <p:cNvSpPr/>
          <p:nvPr/>
        </p:nvSpPr>
        <p:spPr>
          <a:xfrm>
            <a:off x="3552840" y="3465360"/>
            <a:ext cx="82440" cy="32400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3479760" y="3430440"/>
            <a:ext cx="239760" cy="35892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9"/>
          <p:cNvSpPr/>
          <p:nvPr/>
        </p:nvSpPr>
        <p:spPr>
          <a:xfrm>
            <a:off x="3348000" y="3789360"/>
            <a:ext cx="433440" cy="8568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0"/>
          <p:cNvSpPr/>
          <p:nvPr/>
        </p:nvSpPr>
        <p:spPr>
          <a:xfrm>
            <a:off x="3348000" y="3789360"/>
            <a:ext cx="216000" cy="136836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1"/>
          <p:cNvSpPr/>
          <p:nvPr/>
        </p:nvSpPr>
        <p:spPr>
          <a:xfrm flipH="1">
            <a:off x="3564000" y="3862440"/>
            <a:ext cx="216000" cy="129528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8"/>
          <p:cNvSpPr/>
          <p:nvPr/>
        </p:nvSpPr>
        <p:spPr>
          <a:xfrm>
            <a:off x="3419640" y="3789360"/>
            <a:ext cx="215640" cy="135720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9"/>
          <p:cNvSpPr/>
          <p:nvPr/>
        </p:nvSpPr>
        <p:spPr>
          <a:xfrm>
            <a:off x="1897200" y="3693960"/>
            <a:ext cx="371160" cy="127188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21"/>
          <p:cNvSpPr/>
          <p:nvPr/>
        </p:nvSpPr>
        <p:spPr>
          <a:xfrm>
            <a:off x="2016000" y="5051520"/>
            <a:ext cx="335160" cy="125892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22"/>
          <p:cNvSpPr/>
          <p:nvPr/>
        </p:nvSpPr>
        <p:spPr>
          <a:xfrm>
            <a:off x="2519280" y="5157720"/>
            <a:ext cx="263520" cy="113976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23"/>
          <p:cNvSpPr/>
          <p:nvPr/>
        </p:nvSpPr>
        <p:spPr>
          <a:xfrm>
            <a:off x="2268360" y="2422440"/>
            <a:ext cx="239760" cy="15732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24"/>
          <p:cNvSpPr/>
          <p:nvPr/>
        </p:nvSpPr>
        <p:spPr>
          <a:xfrm>
            <a:off x="2627280" y="2422440"/>
            <a:ext cx="239760" cy="15732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25"/>
          <p:cNvSpPr/>
          <p:nvPr/>
        </p:nvSpPr>
        <p:spPr>
          <a:xfrm>
            <a:off x="2411280" y="249408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26"/>
          <p:cNvSpPr/>
          <p:nvPr/>
        </p:nvSpPr>
        <p:spPr>
          <a:xfrm>
            <a:off x="2771640" y="249408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28"/>
          <p:cNvSpPr/>
          <p:nvPr/>
        </p:nvSpPr>
        <p:spPr>
          <a:xfrm>
            <a:off x="2232000" y="2806560"/>
            <a:ext cx="453960" cy="43200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29"/>
          <p:cNvSpPr/>
          <p:nvPr/>
        </p:nvSpPr>
        <p:spPr>
          <a:xfrm>
            <a:off x="2340000" y="2997360"/>
            <a:ext cx="287280" cy="727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31"/>
          <p:cNvSpPr/>
          <p:nvPr/>
        </p:nvSpPr>
        <p:spPr>
          <a:xfrm>
            <a:off x="2630520" y="2147760"/>
            <a:ext cx="406440" cy="50796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32"/>
          <p:cNvSpPr/>
          <p:nvPr/>
        </p:nvSpPr>
        <p:spPr>
          <a:xfrm>
            <a:off x="2602080" y="2235240"/>
            <a:ext cx="347400" cy="55224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33"/>
          <p:cNvSpPr/>
          <p:nvPr/>
        </p:nvSpPr>
        <p:spPr>
          <a:xfrm>
            <a:off x="2630520" y="2090880"/>
            <a:ext cx="522360" cy="38088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4" descr="9999"/>
          <p:cNvPicPr/>
          <p:nvPr/>
        </p:nvPicPr>
        <p:blipFill>
          <a:blip r:embed="rId3"/>
          <a:stretch/>
        </p:blipFill>
        <p:spPr>
          <a:xfrm>
            <a:off x="5148360" y="907920"/>
            <a:ext cx="7129440" cy="5346720"/>
          </a:xfrm>
          <a:prstGeom prst="rect">
            <a:avLst/>
          </a:prstGeom>
          <a:ln w="0">
            <a:noFill/>
          </a:ln>
        </p:spPr>
      </p:pic>
      <p:sp>
        <p:nvSpPr>
          <p:cNvPr id="193" name="Oval 43"/>
          <p:cNvSpPr/>
          <p:nvPr/>
        </p:nvSpPr>
        <p:spPr>
          <a:xfrm>
            <a:off x="7308720" y="29973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50"/>
          <p:cNvSpPr/>
          <p:nvPr/>
        </p:nvSpPr>
        <p:spPr>
          <a:xfrm>
            <a:off x="7058160" y="3157560"/>
            <a:ext cx="9360" cy="60480"/>
          </a:xfrm>
          <a:prstGeom prst="pie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51"/>
          <p:cNvSpPr/>
          <p:nvPr/>
        </p:nvSpPr>
        <p:spPr>
          <a:xfrm>
            <a:off x="7129440" y="3141720"/>
            <a:ext cx="1440" cy="54000"/>
          </a:xfrm>
          <a:prstGeom prst="pie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52"/>
          <p:cNvSpPr/>
          <p:nvPr/>
        </p:nvSpPr>
        <p:spPr>
          <a:xfrm>
            <a:off x="7083360" y="3157560"/>
            <a:ext cx="14400" cy="381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53"/>
          <p:cNvSpPr/>
          <p:nvPr/>
        </p:nvSpPr>
        <p:spPr>
          <a:xfrm>
            <a:off x="7399440" y="3141720"/>
            <a:ext cx="27000" cy="61920"/>
          </a:xfrm>
          <a:prstGeom prst="pie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54"/>
          <p:cNvSpPr/>
          <p:nvPr/>
        </p:nvSpPr>
        <p:spPr>
          <a:xfrm>
            <a:off x="7426440" y="3127320"/>
            <a:ext cx="34920" cy="68400"/>
          </a:xfrm>
          <a:prstGeom prst="pi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6"/>
          <p:cNvSpPr/>
          <p:nvPr/>
        </p:nvSpPr>
        <p:spPr>
          <a:xfrm>
            <a:off x="6924600" y="3776760"/>
            <a:ext cx="397080" cy="83952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37"/>
          <p:cNvSpPr/>
          <p:nvPr/>
        </p:nvSpPr>
        <p:spPr>
          <a:xfrm>
            <a:off x="7237440" y="3776760"/>
            <a:ext cx="539640" cy="82692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38"/>
          <p:cNvSpPr/>
          <p:nvPr/>
        </p:nvSpPr>
        <p:spPr>
          <a:xfrm>
            <a:off x="7020000" y="5156280"/>
            <a:ext cx="228600" cy="102060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39"/>
          <p:cNvSpPr/>
          <p:nvPr/>
        </p:nvSpPr>
        <p:spPr>
          <a:xfrm>
            <a:off x="7237440" y="5156280"/>
            <a:ext cx="181080" cy="102060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40"/>
          <p:cNvSpPr/>
          <p:nvPr/>
        </p:nvSpPr>
        <p:spPr>
          <a:xfrm>
            <a:off x="7020000" y="2995560"/>
            <a:ext cx="216000" cy="716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41"/>
          <p:cNvSpPr/>
          <p:nvPr/>
        </p:nvSpPr>
        <p:spPr>
          <a:xfrm>
            <a:off x="7308720" y="2995560"/>
            <a:ext cx="216000" cy="716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42"/>
          <p:cNvSpPr/>
          <p:nvPr/>
        </p:nvSpPr>
        <p:spPr>
          <a:xfrm>
            <a:off x="7020000" y="299556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45"/>
          <p:cNvSpPr/>
          <p:nvPr/>
        </p:nvSpPr>
        <p:spPr>
          <a:xfrm>
            <a:off x="7164360" y="3284640"/>
            <a:ext cx="289080" cy="7128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55"/>
          <p:cNvSpPr/>
          <p:nvPr/>
        </p:nvSpPr>
        <p:spPr>
          <a:xfrm>
            <a:off x="7358040" y="3149640"/>
            <a:ext cx="22320" cy="68400"/>
          </a:xfrm>
          <a:prstGeom prst="pie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56"/>
          <p:cNvSpPr/>
          <p:nvPr/>
        </p:nvSpPr>
        <p:spPr>
          <a:xfrm>
            <a:off x="7089840" y="3151080"/>
            <a:ext cx="4680" cy="58680"/>
          </a:xfrm>
          <a:prstGeom prst="pie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356600" y="2768760"/>
            <a:ext cx="373680" cy="217440"/>
            <a:chOff x="7356600" y="2768760"/>
            <a:chExt cx="373680" cy="217440"/>
          </a:xfrm>
        </p:grpSpPr>
        <p:sp>
          <p:nvSpPr>
            <p:cNvPr id="210" name="Freeform 57"/>
            <p:cNvSpPr/>
            <p:nvPr/>
          </p:nvSpPr>
          <p:spPr>
            <a:xfrm>
              <a:off x="7356600" y="2768760"/>
              <a:ext cx="167760" cy="16812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58"/>
            <p:cNvSpPr/>
            <p:nvPr/>
          </p:nvSpPr>
          <p:spPr>
            <a:xfrm>
              <a:off x="7513560" y="2841840"/>
              <a:ext cx="82080" cy="8244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1"/>
            <p:cNvSpPr/>
            <p:nvPr/>
          </p:nvSpPr>
          <p:spPr>
            <a:xfrm flipH="1">
              <a:off x="7561800" y="2818080"/>
              <a:ext cx="168120" cy="16812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2"/>
            <p:cNvSpPr/>
            <p:nvPr/>
          </p:nvSpPr>
          <p:spPr>
            <a:xfrm>
              <a:off x="7411680" y="2833920"/>
              <a:ext cx="95040" cy="28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3"/>
            <p:cNvSpPr/>
            <p:nvPr/>
          </p:nvSpPr>
          <p:spPr>
            <a:xfrm>
              <a:off x="7418160" y="2811600"/>
              <a:ext cx="75960" cy="28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4"/>
            <p:cNvSpPr/>
            <p:nvPr/>
          </p:nvSpPr>
          <p:spPr>
            <a:xfrm>
              <a:off x="7576920" y="2887920"/>
              <a:ext cx="95040" cy="48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5"/>
            <p:cNvSpPr/>
            <p:nvPr/>
          </p:nvSpPr>
          <p:spPr>
            <a:xfrm>
              <a:off x="7605360" y="2887920"/>
              <a:ext cx="63360" cy="7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66"/>
          <p:cNvSpPr/>
          <p:nvPr/>
        </p:nvSpPr>
        <p:spPr>
          <a:xfrm>
            <a:off x="6335640" y="1484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果没有人来帮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那么就去帮助别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7"/>
          <p:cNvSpPr/>
          <p:nvPr/>
        </p:nvSpPr>
        <p:spPr>
          <a:xfrm>
            <a:off x="-3409920" y="-15840"/>
            <a:ext cx="2879640" cy="1212840"/>
          </a:xfrm>
          <a:prstGeom prst="cloudCallout">
            <a:avLst>
              <a:gd name="adj1" fmla="val -56837"/>
              <a:gd name="adj2" fmla="val 46240"/>
            </a:avLst>
          </a:prstGeom>
          <a:blipFill rotWithShape="0">
            <a:blip r:embed="rId4"/>
            <a:srcRect/>
            <a:stretch/>
          </a:blip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76"/>
          <p:cNvSpPr/>
          <p:nvPr/>
        </p:nvSpPr>
        <p:spPr>
          <a:xfrm>
            <a:off x="14941440" y="476280"/>
            <a:ext cx="2016360" cy="792000"/>
          </a:xfrm>
          <a:prstGeom prst="cloudCallout">
            <a:avLst>
              <a:gd name="adj1" fmla="val -334722"/>
              <a:gd name="adj2" fmla="val 22546"/>
            </a:avLst>
          </a:prstGeom>
          <a:blipFill rotWithShape="0">
            <a:blip r:embed="rId5"/>
            <a:srcRect/>
            <a:stretch/>
          </a:blip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77"/>
          <p:cNvSpPr/>
          <p:nvPr/>
        </p:nvSpPr>
        <p:spPr>
          <a:xfrm rot="11322600">
            <a:off x="9828000" y="-1212480"/>
            <a:ext cx="2879640" cy="1212840"/>
          </a:xfrm>
          <a:prstGeom prst="cloudCallout">
            <a:avLst>
              <a:gd name="adj1" fmla="val -53064"/>
              <a:gd name="adj2" fmla="val 34962"/>
            </a:avLst>
          </a:prstGeom>
          <a:blipFill rotWithShape="0">
            <a:blip r:embed="rId6"/>
            <a:srcRect/>
            <a:stretch/>
          </a:blip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40"/>
          <p:cNvSpPr/>
          <p:nvPr/>
        </p:nvSpPr>
        <p:spPr>
          <a:xfrm rot="19718400">
            <a:off x="3708360" y="-1816200"/>
            <a:ext cx="3672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41"/>
          <p:cNvSpPr/>
          <p:nvPr/>
        </p:nvSpPr>
        <p:spPr>
          <a:xfrm rot="19718400">
            <a:off x="3276720" y="-159984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42"/>
          <p:cNvSpPr/>
          <p:nvPr/>
        </p:nvSpPr>
        <p:spPr>
          <a:xfrm rot="19718400">
            <a:off x="2050920" y="-952200"/>
            <a:ext cx="36720" cy="99684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43"/>
          <p:cNvSpPr/>
          <p:nvPr/>
        </p:nvSpPr>
        <p:spPr>
          <a:xfrm rot="19718400">
            <a:off x="2771640" y="-1096920"/>
            <a:ext cx="3672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44"/>
          <p:cNvSpPr/>
          <p:nvPr/>
        </p:nvSpPr>
        <p:spPr>
          <a:xfrm rot="19718400">
            <a:off x="2627280" y="-996480"/>
            <a:ext cx="36720" cy="99684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45"/>
          <p:cNvSpPr/>
          <p:nvPr/>
        </p:nvSpPr>
        <p:spPr>
          <a:xfrm rot="19718400">
            <a:off x="2340000" y="-996840"/>
            <a:ext cx="36360" cy="99684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46"/>
          <p:cNvSpPr/>
          <p:nvPr/>
        </p:nvSpPr>
        <p:spPr>
          <a:xfrm rot="19718400">
            <a:off x="2484360" y="-952200"/>
            <a:ext cx="36720" cy="99684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47"/>
          <p:cNvSpPr/>
          <p:nvPr/>
        </p:nvSpPr>
        <p:spPr>
          <a:xfrm rot="19718400">
            <a:off x="3708360" y="-996480"/>
            <a:ext cx="36720" cy="99684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48"/>
          <p:cNvSpPr/>
          <p:nvPr/>
        </p:nvSpPr>
        <p:spPr>
          <a:xfrm rot="19718400">
            <a:off x="610920" y="-1168200"/>
            <a:ext cx="36360" cy="100836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49"/>
          <p:cNvSpPr/>
          <p:nvPr/>
        </p:nvSpPr>
        <p:spPr>
          <a:xfrm rot="19718400">
            <a:off x="3814920" y="-232056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50"/>
          <p:cNvSpPr/>
          <p:nvPr/>
        </p:nvSpPr>
        <p:spPr>
          <a:xfrm rot="19718400">
            <a:off x="-385560" y="-996480"/>
            <a:ext cx="36720" cy="99684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51"/>
          <p:cNvSpPr/>
          <p:nvPr/>
        </p:nvSpPr>
        <p:spPr>
          <a:xfrm rot="19718400">
            <a:off x="3851280" y="-159984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54"/>
          <p:cNvSpPr/>
          <p:nvPr/>
        </p:nvSpPr>
        <p:spPr>
          <a:xfrm rot="19718400">
            <a:off x="4966920" y="-1168200"/>
            <a:ext cx="36360" cy="100836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55"/>
          <p:cNvSpPr/>
          <p:nvPr/>
        </p:nvSpPr>
        <p:spPr>
          <a:xfrm rot="19718400">
            <a:off x="5327280" y="-1168200"/>
            <a:ext cx="36360" cy="100836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56"/>
          <p:cNvSpPr/>
          <p:nvPr/>
        </p:nvSpPr>
        <p:spPr>
          <a:xfrm rot="19718400">
            <a:off x="5614920" y="-1384200"/>
            <a:ext cx="3672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57"/>
          <p:cNvSpPr/>
          <p:nvPr/>
        </p:nvSpPr>
        <p:spPr>
          <a:xfrm rot="19718400">
            <a:off x="4297320" y="-1744560"/>
            <a:ext cx="3672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58"/>
          <p:cNvSpPr/>
          <p:nvPr/>
        </p:nvSpPr>
        <p:spPr>
          <a:xfrm rot="19718400">
            <a:off x="5040360" y="-210456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59"/>
          <p:cNvSpPr/>
          <p:nvPr/>
        </p:nvSpPr>
        <p:spPr>
          <a:xfrm rot="19718400">
            <a:off x="4356000" y="-996480"/>
            <a:ext cx="36720" cy="99684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60"/>
          <p:cNvSpPr/>
          <p:nvPr/>
        </p:nvSpPr>
        <p:spPr>
          <a:xfrm rot="19718400">
            <a:off x="3924360" y="-996840"/>
            <a:ext cx="36360" cy="99684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61"/>
          <p:cNvSpPr/>
          <p:nvPr/>
        </p:nvSpPr>
        <p:spPr>
          <a:xfrm rot="19718400">
            <a:off x="5904000" y="-145548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62"/>
          <p:cNvSpPr/>
          <p:nvPr/>
        </p:nvSpPr>
        <p:spPr>
          <a:xfrm rot="19718400">
            <a:off x="6407280" y="-123948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63"/>
          <p:cNvSpPr/>
          <p:nvPr/>
        </p:nvSpPr>
        <p:spPr>
          <a:xfrm rot="19718400">
            <a:off x="6119640" y="-1239840"/>
            <a:ext cx="3672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164"/>
          <p:cNvSpPr/>
          <p:nvPr/>
        </p:nvSpPr>
        <p:spPr>
          <a:xfrm rot="19718400">
            <a:off x="6622920" y="-1600200"/>
            <a:ext cx="3672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65"/>
          <p:cNvSpPr/>
          <p:nvPr/>
        </p:nvSpPr>
        <p:spPr>
          <a:xfrm rot="19718400">
            <a:off x="7056360" y="-952200"/>
            <a:ext cx="36720" cy="99684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66"/>
          <p:cNvSpPr/>
          <p:nvPr/>
        </p:nvSpPr>
        <p:spPr>
          <a:xfrm rot="19718400">
            <a:off x="7272360" y="-102348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67"/>
          <p:cNvSpPr/>
          <p:nvPr/>
        </p:nvSpPr>
        <p:spPr>
          <a:xfrm rot="19718400">
            <a:off x="7272360" y="-138384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68"/>
          <p:cNvSpPr/>
          <p:nvPr/>
        </p:nvSpPr>
        <p:spPr>
          <a:xfrm rot="19718400">
            <a:off x="5759280" y="-1023840"/>
            <a:ext cx="3672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69"/>
          <p:cNvSpPr/>
          <p:nvPr/>
        </p:nvSpPr>
        <p:spPr>
          <a:xfrm rot="19718400">
            <a:off x="5435640" y="-102348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70"/>
          <p:cNvSpPr/>
          <p:nvPr/>
        </p:nvSpPr>
        <p:spPr>
          <a:xfrm rot="19718400">
            <a:off x="6335640" y="-1023840"/>
            <a:ext cx="3672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71"/>
          <p:cNvSpPr/>
          <p:nvPr/>
        </p:nvSpPr>
        <p:spPr>
          <a:xfrm rot="19718400">
            <a:off x="6659640" y="-138384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73"/>
          <p:cNvSpPr/>
          <p:nvPr/>
        </p:nvSpPr>
        <p:spPr>
          <a:xfrm rot="19718400">
            <a:off x="1547280" y="-1168560"/>
            <a:ext cx="36720" cy="100836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74"/>
          <p:cNvSpPr/>
          <p:nvPr/>
        </p:nvSpPr>
        <p:spPr>
          <a:xfrm rot="19718400">
            <a:off x="1258920" y="-996840"/>
            <a:ext cx="36360" cy="99684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75"/>
          <p:cNvSpPr/>
          <p:nvPr/>
        </p:nvSpPr>
        <p:spPr>
          <a:xfrm rot="19718400">
            <a:off x="1908000" y="-996480"/>
            <a:ext cx="36720" cy="99684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76"/>
          <p:cNvSpPr/>
          <p:nvPr/>
        </p:nvSpPr>
        <p:spPr>
          <a:xfrm rot="19718400">
            <a:off x="1116000" y="-996840"/>
            <a:ext cx="36360" cy="99684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77"/>
          <p:cNvSpPr/>
          <p:nvPr/>
        </p:nvSpPr>
        <p:spPr>
          <a:xfrm rot="19718400">
            <a:off x="1547640" y="-996480"/>
            <a:ext cx="36720" cy="99684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78"/>
          <p:cNvSpPr/>
          <p:nvPr/>
        </p:nvSpPr>
        <p:spPr>
          <a:xfrm rot="19718400">
            <a:off x="826920" y="-996480"/>
            <a:ext cx="36720" cy="99684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79"/>
          <p:cNvSpPr/>
          <p:nvPr/>
        </p:nvSpPr>
        <p:spPr>
          <a:xfrm rot="19718400">
            <a:off x="1115640" y="-1168200"/>
            <a:ext cx="36360" cy="100836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80"/>
          <p:cNvSpPr/>
          <p:nvPr/>
        </p:nvSpPr>
        <p:spPr>
          <a:xfrm rot="19718400">
            <a:off x="1908000" y="-996480"/>
            <a:ext cx="36720" cy="99684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81"/>
          <p:cNvSpPr/>
          <p:nvPr/>
        </p:nvSpPr>
        <p:spPr>
          <a:xfrm rot="19718400">
            <a:off x="0" y="-996840"/>
            <a:ext cx="36360" cy="99684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82"/>
          <p:cNvSpPr/>
          <p:nvPr/>
        </p:nvSpPr>
        <p:spPr>
          <a:xfrm rot="19718400">
            <a:off x="2195640" y="-996840"/>
            <a:ext cx="36360" cy="99684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83"/>
          <p:cNvSpPr/>
          <p:nvPr/>
        </p:nvSpPr>
        <p:spPr>
          <a:xfrm rot="19718400">
            <a:off x="324000" y="-996840"/>
            <a:ext cx="36360" cy="99684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84"/>
          <p:cNvSpPr/>
          <p:nvPr/>
        </p:nvSpPr>
        <p:spPr>
          <a:xfrm rot="19718400">
            <a:off x="611280" y="-996840"/>
            <a:ext cx="36360" cy="99684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85"/>
          <p:cNvSpPr/>
          <p:nvPr/>
        </p:nvSpPr>
        <p:spPr>
          <a:xfrm rot="19718400">
            <a:off x="-385560" y="-493200"/>
            <a:ext cx="36720" cy="99684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86"/>
          <p:cNvSpPr/>
          <p:nvPr/>
        </p:nvSpPr>
        <p:spPr>
          <a:xfrm rot="19718400">
            <a:off x="-782280" y="-663120"/>
            <a:ext cx="36360" cy="99684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87"/>
          <p:cNvSpPr/>
          <p:nvPr/>
        </p:nvSpPr>
        <p:spPr>
          <a:xfrm rot="19718400">
            <a:off x="-709200" y="-88560"/>
            <a:ext cx="36360" cy="99684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88"/>
          <p:cNvSpPr/>
          <p:nvPr/>
        </p:nvSpPr>
        <p:spPr>
          <a:xfrm rot="19718400">
            <a:off x="2951280" y="-131256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89"/>
          <p:cNvSpPr/>
          <p:nvPr/>
        </p:nvSpPr>
        <p:spPr>
          <a:xfrm rot="19718400">
            <a:off x="3022560" y="-1023840"/>
            <a:ext cx="3672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190"/>
          <p:cNvSpPr/>
          <p:nvPr/>
        </p:nvSpPr>
        <p:spPr>
          <a:xfrm rot="19718400">
            <a:off x="3022560" y="-1096920"/>
            <a:ext cx="3672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91"/>
          <p:cNvSpPr/>
          <p:nvPr/>
        </p:nvSpPr>
        <p:spPr>
          <a:xfrm rot="19718400">
            <a:off x="2627280" y="-1312920"/>
            <a:ext cx="3672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192"/>
          <p:cNvSpPr/>
          <p:nvPr/>
        </p:nvSpPr>
        <p:spPr>
          <a:xfrm rot="19718400">
            <a:off x="3456000" y="-102348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93"/>
          <p:cNvSpPr/>
          <p:nvPr/>
        </p:nvSpPr>
        <p:spPr>
          <a:xfrm rot="19718400">
            <a:off x="3203640" y="-102348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94"/>
          <p:cNvSpPr/>
          <p:nvPr/>
        </p:nvSpPr>
        <p:spPr>
          <a:xfrm rot="19718400">
            <a:off x="3022560" y="-1023840"/>
            <a:ext cx="3672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95"/>
          <p:cNvSpPr/>
          <p:nvPr/>
        </p:nvSpPr>
        <p:spPr>
          <a:xfrm rot="19718400">
            <a:off x="2771640" y="-1023840"/>
            <a:ext cx="3672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96"/>
          <p:cNvSpPr/>
          <p:nvPr/>
        </p:nvSpPr>
        <p:spPr>
          <a:xfrm rot="19718400">
            <a:off x="-601200" y="11736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197"/>
          <p:cNvSpPr/>
          <p:nvPr/>
        </p:nvSpPr>
        <p:spPr>
          <a:xfrm rot="19718400">
            <a:off x="-672840" y="43920"/>
            <a:ext cx="36720" cy="100836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98"/>
          <p:cNvSpPr/>
          <p:nvPr/>
        </p:nvSpPr>
        <p:spPr>
          <a:xfrm rot="19718400">
            <a:off x="-672840" y="475920"/>
            <a:ext cx="3672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99"/>
          <p:cNvSpPr/>
          <p:nvPr/>
        </p:nvSpPr>
        <p:spPr>
          <a:xfrm rot="19718400">
            <a:off x="-888480" y="-88560"/>
            <a:ext cx="36360" cy="99684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200"/>
          <p:cNvSpPr/>
          <p:nvPr/>
        </p:nvSpPr>
        <p:spPr>
          <a:xfrm rot="19718400">
            <a:off x="-529920" y="-159840"/>
            <a:ext cx="36720" cy="99684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01"/>
          <p:cNvSpPr/>
          <p:nvPr/>
        </p:nvSpPr>
        <p:spPr>
          <a:xfrm rot="19718400">
            <a:off x="-529920" y="836280"/>
            <a:ext cx="3672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202"/>
          <p:cNvSpPr/>
          <p:nvPr/>
        </p:nvSpPr>
        <p:spPr>
          <a:xfrm rot="19718400">
            <a:off x="-456840" y="47628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203"/>
          <p:cNvSpPr/>
          <p:nvPr/>
        </p:nvSpPr>
        <p:spPr>
          <a:xfrm rot="19718400">
            <a:off x="-277560" y="-304560"/>
            <a:ext cx="36720" cy="9972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204"/>
          <p:cNvSpPr/>
          <p:nvPr/>
        </p:nvSpPr>
        <p:spPr>
          <a:xfrm rot="19718400">
            <a:off x="-601200" y="98100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205"/>
          <p:cNvSpPr/>
          <p:nvPr/>
        </p:nvSpPr>
        <p:spPr>
          <a:xfrm rot="19718400">
            <a:off x="-421920" y="18900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206"/>
          <p:cNvSpPr/>
          <p:nvPr/>
        </p:nvSpPr>
        <p:spPr>
          <a:xfrm rot="19718400">
            <a:off x="-1356840" y="1268280"/>
            <a:ext cx="36360" cy="100836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207"/>
          <p:cNvSpPr/>
          <p:nvPr/>
        </p:nvSpPr>
        <p:spPr>
          <a:xfrm rot="19718400">
            <a:off x="-1320480" y="259920"/>
            <a:ext cx="3672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208"/>
          <p:cNvSpPr/>
          <p:nvPr/>
        </p:nvSpPr>
        <p:spPr>
          <a:xfrm rot="19718400">
            <a:off x="-456840" y="-159840"/>
            <a:ext cx="36360" cy="99684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209"/>
          <p:cNvSpPr/>
          <p:nvPr/>
        </p:nvSpPr>
        <p:spPr>
          <a:xfrm rot="19718400">
            <a:off x="-529920" y="1341000"/>
            <a:ext cx="3672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10"/>
          <p:cNvSpPr/>
          <p:nvPr/>
        </p:nvSpPr>
        <p:spPr>
          <a:xfrm rot="19718400">
            <a:off x="-385560" y="1267920"/>
            <a:ext cx="36720" cy="100836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11"/>
          <p:cNvSpPr/>
          <p:nvPr/>
        </p:nvSpPr>
        <p:spPr>
          <a:xfrm rot="19718400">
            <a:off x="-493200" y="119700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12"/>
          <p:cNvSpPr/>
          <p:nvPr/>
        </p:nvSpPr>
        <p:spPr>
          <a:xfrm rot="19718400">
            <a:off x="-277560" y="1196640"/>
            <a:ext cx="3672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13"/>
          <p:cNvSpPr/>
          <p:nvPr/>
        </p:nvSpPr>
        <p:spPr>
          <a:xfrm rot="19718400">
            <a:off x="-888480" y="134136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14"/>
          <p:cNvSpPr/>
          <p:nvPr/>
        </p:nvSpPr>
        <p:spPr>
          <a:xfrm rot="19718400">
            <a:off x="-277560" y="1341000"/>
            <a:ext cx="3672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15"/>
          <p:cNvSpPr/>
          <p:nvPr/>
        </p:nvSpPr>
        <p:spPr>
          <a:xfrm rot="19718400">
            <a:off x="-817200" y="119700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16"/>
          <p:cNvSpPr/>
          <p:nvPr/>
        </p:nvSpPr>
        <p:spPr>
          <a:xfrm rot="19718400">
            <a:off x="-709200" y="1268280"/>
            <a:ext cx="36360" cy="100836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17"/>
          <p:cNvSpPr/>
          <p:nvPr/>
        </p:nvSpPr>
        <p:spPr>
          <a:xfrm rot="19718400">
            <a:off x="-456840" y="177336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18"/>
          <p:cNvSpPr/>
          <p:nvPr/>
        </p:nvSpPr>
        <p:spPr>
          <a:xfrm rot="19718400">
            <a:off x="-745920" y="1628280"/>
            <a:ext cx="36720" cy="100836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19"/>
          <p:cNvSpPr/>
          <p:nvPr/>
        </p:nvSpPr>
        <p:spPr>
          <a:xfrm rot="19718400">
            <a:off x="-1248840" y="155736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220"/>
          <p:cNvSpPr/>
          <p:nvPr/>
        </p:nvSpPr>
        <p:spPr>
          <a:xfrm rot="19718400">
            <a:off x="-745920" y="1844280"/>
            <a:ext cx="3672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221"/>
          <p:cNvSpPr/>
          <p:nvPr/>
        </p:nvSpPr>
        <p:spPr>
          <a:xfrm rot="19718400">
            <a:off x="-529920" y="1844280"/>
            <a:ext cx="3672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222"/>
          <p:cNvSpPr/>
          <p:nvPr/>
        </p:nvSpPr>
        <p:spPr>
          <a:xfrm rot="19718400">
            <a:off x="-1464840" y="1628640"/>
            <a:ext cx="36360" cy="100836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223"/>
          <p:cNvSpPr/>
          <p:nvPr/>
        </p:nvSpPr>
        <p:spPr>
          <a:xfrm rot="19718400">
            <a:off x="-1393560" y="1773000"/>
            <a:ext cx="3672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224"/>
          <p:cNvSpPr/>
          <p:nvPr/>
        </p:nvSpPr>
        <p:spPr>
          <a:xfrm rot="19718400">
            <a:off x="-672840" y="2276280"/>
            <a:ext cx="3672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225"/>
          <p:cNvSpPr/>
          <p:nvPr/>
        </p:nvSpPr>
        <p:spPr>
          <a:xfrm rot="19718400">
            <a:off x="-456840" y="191628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226"/>
          <p:cNvSpPr/>
          <p:nvPr/>
        </p:nvSpPr>
        <p:spPr>
          <a:xfrm rot="19718400">
            <a:off x="-1393560" y="1773000"/>
            <a:ext cx="3672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227"/>
          <p:cNvSpPr/>
          <p:nvPr/>
        </p:nvSpPr>
        <p:spPr>
          <a:xfrm rot="19718400">
            <a:off x="-1033200" y="2276280"/>
            <a:ext cx="3672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228"/>
          <p:cNvSpPr/>
          <p:nvPr/>
        </p:nvSpPr>
        <p:spPr>
          <a:xfrm rot="19718400">
            <a:off x="-1464840" y="191628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229"/>
          <p:cNvSpPr/>
          <p:nvPr/>
        </p:nvSpPr>
        <p:spPr>
          <a:xfrm rot="19718400">
            <a:off x="-961560" y="249228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230"/>
          <p:cNvSpPr/>
          <p:nvPr/>
        </p:nvSpPr>
        <p:spPr>
          <a:xfrm rot="19718400">
            <a:off x="-1574280" y="220500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231"/>
          <p:cNvSpPr/>
          <p:nvPr/>
        </p:nvSpPr>
        <p:spPr>
          <a:xfrm rot="19718400">
            <a:off x="-1393560" y="2565000"/>
            <a:ext cx="3672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232"/>
          <p:cNvSpPr/>
          <p:nvPr/>
        </p:nvSpPr>
        <p:spPr>
          <a:xfrm rot="19718400">
            <a:off x="-1609200" y="278136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233"/>
          <p:cNvSpPr/>
          <p:nvPr/>
        </p:nvSpPr>
        <p:spPr>
          <a:xfrm rot="19718400">
            <a:off x="-1177560" y="299736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234"/>
          <p:cNvSpPr/>
          <p:nvPr/>
        </p:nvSpPr>
        <p:spPr>
          <a:xfrm rot="19718400">
            <a:off x="-1537920" y="299736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235"/>
          <p:cNvSpPr/>
          <p:nvPr/>
        </p:nvSpPr>
        <p:spPr>
          <a:xfrm rot="19718400">
            <a:off x="-1861920" y="3141360"/>
            <a:ext cx="3672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236"/>
          <p:cNvSpPr/>
          <p:nvPr/>
        </p:nvSpPr>
        <p:spPr>
          <a:xfrm rot="19718400">
            <a:off x="-1825200" y="342900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237"/>
          <p:cNvSpPr/>
          <p:nvPr/>
        </p:nvSpPr>
        <p:spPr>
          <a:xfrm rot="19718400">
            <a:off x="-1464840" y="328464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238"/>
          <p:cNvSpPr/>
          <p:nvPr/>
        </p:nvSpPr>
        <p:spPr>
          <a:xfrm rot="19718400">
            <a:off x="-1177560" y="378936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239"/>
          <p:cNvSpPr/>
          <p:nvPr/>
        </p:nvSpPr>
        <p:spPr>
          <a:xfrm rot="19718400">
            <a:off x="-1574280" y="3860640"/>
            <a:ext cx="36360" cy="100836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240"/>
          <p:cNvSpPr/>
          <p:nvPr/>
        </p:nvSpPr>
        <p:spPr>
          <a:xfrm rot="19718400">
            <a:off x="-1177560" y="407664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241"/>
          <p:cNvSpPr/>
          <p:nvPr/>
        </p:nvSpPr>
        <p:spPr>
          <a:xfrm rot="19718400">
            <a:off x="-1464840" y="429264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242"/>
          <p:cNvSpPr/>
          <p:nvPr/>
        </p:nvSpPr>
        <p:spPr>
          <a:xfrm rot="19718400">
            <a:off x="-1248840" y="436572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243"/>
          <p:cNvSpPr/>
          <p:nvPr/>
        </p:nvSpPr>
        <p:spPr>
          <a:xfrm rot="19718400">
            <a:off x="-2257200" y="3644640"/>
            <a:ext cx="3672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72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47"/>
          <p:cNvSpPr/>
          <p:nvPr/>
        </p:nvSpPr>
        <p:spPr>
          <a:xfrm>
            <a:off x="5614920" y="649116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70"/>
          <p:cNvSpPr/>
          <p:nvPr/>
        </p:nvSpPr>
        <p:spPr>
          <a:xfrm>
            <a:off x="324000" y="299736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拿去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别淋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274"/>
          <p:cNvSpPr/>
          <p:nvPr/>
        </p:nvSpPr>
        <p:spPr>
          <a:xfrm>
            <a:off x="311040" y="2752560"/>
            <a:ext cx="1708200" cy="113832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12720" y="1413000"/>
            <a:ext cx="3540240" cy="105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ffff66"/>
                </a:solidFill>
                <a:latin typeface="Arial"/>
              </a:rPr>
              <a:t>招新对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届新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976 -0.003293 C 0.122818 -0.058383 0.164478 0.003887 0.258408 0.021707 C 0.261528 0.023097 0.264828 0.024027 0.267778 0.025877 C 0.271078 0.028187 0.273338 0.034207 0.277158 0.034207 C 0.285668 0.034207 0.302158 0.025877 0.302158 0.026107 C 0.330458 0.000646999999999998 0.313438 0.010137 0.355278 0.005037 C 0.377678 -0.004913 0.368478 0.001567 0.383408 -0.011623 C 0.397988 0.001337 0.388958 -0.003293 0.411528 -0.003293 E">
                                      <p:cBhvr>
                                        <p:cTn id="445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.01806 C -0.02812 0.01736 -0.23767 0.02315 -0.29062 0.00556 C -0.33646 0.00695 -0.38246 0.00371 -0.42812 0.00973 C -0.43559 0.01065 -0.4401 0.02199 -0.44687 0.02639 C -0.45434 0.03148 -0.46128 0.03797 -0.46875 0.04306 C -0.4783 0.04931 -0.48993 0.05116 -0.5 0.05556 C -0.50399 0.05556 -0.6276 0.05787 -0.675 0.04723 C -0.6908 0.04375 -0.69913 0.02408 -0.71562 0.02223 C -0.7375 0.01991 -0.75937 0.01945 -0.78125 0.01806 C -0.80764 0.00926 -0.83542 0.00973 -0.8625 0.00556 C -0.98802 -0.01412 -1.11337 -0.00902 -1.24062 -0.01111 C -1.24479 -0.0125 -1.24913 -0.01296 -1.25312 -0.01527 C -1.2566 -0.01736 -1.25903 -0.02176 -1.2625 -0.02361 C -1.26753 -0.02615 -1.27292 -0.02639 -1.27812 -0.02777 C -1.28125 -0.03055 -1.28403 -0.03402 -1.2875 -0.03611 C -1.30017 -0.04328 -1.30625 -0.03703 -1.30625 -0.06111 E">
                                      <p:cBhvr>
                                        <p:cTn id="447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6 3.7037E-007 C 0.00903 0.00509 -0.00607 0.01551 -0.02465 0.03333 C -0.02778 0.03634 -0.03055 0.03958 -0.03403 0.04167 C -0.0401 0.04514 -0.05278 0.05 -0.05278 0.05023 C -0.06528 0.0625 -0.07847 0.06991 -0.08715 0.0875 C -0.09028 0.1044 -0.09653 0.12083 -0.1059 0.13333 C -0.10851 0.13681 -0.11267 0.13819 -0.11528 0.14167 C -0.11892 0.14653 -0.12101 0.15347 -0.12465 0.15833 C -0.14253 0.18218 -0.13038 0.16319 -0.14653 0.175 C -0.16041 0.18542 -0.16927 0.19768 -0.18403 0.20417 C -0.19462 0.20069 -0.19982 0.20185 -0.2059 0.1875 C -0.21111 0.175 -0.20798 0.15764 -0.22153 0.15417 C -0.23489 0.15093 -0.24861 0.15139 -0.26215 0.15 C -0.32448 0.15393 -0.38003 0.15995 -0.4434 0.1625 C -0.44757 0.16389 -0.45208 0.16412 -0.4559 0.16667 C -0.46476 0.17245 -0.47205 0.18171 -0.4809 0.1875 E">
                                      <p:cBhvr>
                                        <p:cTn id="449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6" dur="13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619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1" dur="1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624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13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629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1" dur="13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634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6" dur="13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639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1" dur="13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644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6" dur="13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649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1" dur="13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654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13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659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1" dur="13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664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6" dur="13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81481E-006 L 0.6401 0.85023 E">
                                      <p:cBhvr>
                                        <p:cTn id="669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1" dur="13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674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6" dur="13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679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1" dur="13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684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6" dur="1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689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1" dur="13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694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3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699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1" dur="13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704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6" dur="13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709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1" dur="13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714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6" dur="13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719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1" dur="13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724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6" dur="13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729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1" dur="13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734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6" dur="13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739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1" dur="13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744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6" dur="13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749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1" dur="13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754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6" dur="13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759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1" dur="13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764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6" dur="13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769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1" dur="13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774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6" dur="13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779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1" dur="13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784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6" dur="13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789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1" dur="13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794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6" dur="13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799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1" dur="13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11 0.047874 L 0.638086 0.8981 E">
                                      <p:cBhvr>
                                        <p:cTn id="804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6" dur="13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809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1" dur="13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814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6" dur="13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819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1" dur="13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824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6" dur="13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829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1" dur="1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834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6" dur="1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839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1" dur="13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844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6" dur="13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849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1" dur="13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854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6" dur="13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859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1" dur="13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864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6" dur="13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869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1" dur="13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874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6" dur="13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879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1" dur="13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884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6" dur="13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889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1" dur="13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894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13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899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1" dur="13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904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6" dur="13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909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1" dur="13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914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6" dur="13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919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1" dur="13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924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6" dur="13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929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1" dur="13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934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6" dur="13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939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1" dur="13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944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6" dur="13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949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1" dur="13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954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6" dur="13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959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1" dur="13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964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6" dur="13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969" dur="2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1" dur="13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974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6" dur="13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979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1" dur="13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984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6" dur="13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989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1" dur="13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994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6" dur="13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999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1" dur="13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1004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6" dur="13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1009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1" dur="13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1014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6" dur="13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1019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1" dur="13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1024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6" dur="13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1029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1" dur="1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1034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6" dur="13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1039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1" dur="13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1044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6" dur="13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1049" dur="2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1" dur="13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1054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6" dur="13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1059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13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1064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6" dur="13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1069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1" dur="13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1074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6" dur="13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1079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1" dur="13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1084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6" dur="13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1089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1" dur="13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1094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6" dur="13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1099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1" dur="13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1104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6" dur="13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1109" dur="2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0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1" dur="13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1114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5" nodeType="withEffect" fill="hold" presetClass="exit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6" dur="13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12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8" nodeType="withEffect" fill="hold" presetClass="path" presetID="4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6401 0.85023 E">
                                      <p:cBhvr>
                                        <p:cTn id="1119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21" dur="2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456456"/>
          <p:cNvPicPr/>
          <p:nvPr/>
        </p:nvPicPr>
        <p:blipFill>
          <a:blip r:embed="rId2"/>
          <a:stretch/>
        </p:blipFill>
        <p:spPr>
          <a:xfrm rot="7306200">
            <a:off x="2017440" y="1879560"/>
            <a:ext cx="3810240" cy="2733480"/>
          </a:xfrm>
          <a:prstGeom prst="rect">
            <a:avLst/>
          </a:prstGeom>
          <a:ln w="0">
            <a:noFill/>
          </a:ln>
        </p:spPr>
      </p:pic>
      <p:sp>
        <p:nvSpPr>
          <p:cNvPr id="327" name="Freeform 3"/>
          <p:cNvSpPr/>
          <p:nvPr/>
        </p:nvSpPr>
        <p:spPr>
          <a:xfrm>
            <a:off x="3121200" y="3008160"/>
            <a:ext cx="298440" cy="22860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4"/>
          <p:cNvSpPr/>
          <p:nvPr/>
        </p:nvSpPr>
        <p:spPr>
          <a:xfrm>
            <a:off x="4427640" y="3021120"/>
            <a:ext cx="287280" cy="21564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5"/>
          <p:cNvSpPr/>
          <p:nvPr/>
        </p:nvSpPr>
        <p:spPr>
          <a:xfrm>
            <a:off x="3635280" y="2133720"/>
            <a:ext cx="28908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6"/>
          <p:cNvSpPr/>
          <p:nvPr/>
        </p:nvSpPr>
        <p:spPr>
          <a:xfrm>
            <a:off x="4067280" y="2133720"/>
            <a:ext cx="28872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7"/>
          <p:cNvSpPr/>
          <p:nvPr/>
        </p:nvSpPr>
        <p:spPr>
          <a:xfrm flipH="1">
            <a:off x="3707640" y="213372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8"/>
          <p:cNvSpPr/>
          <p:nvPr/>
        </p:nvSpPr>
        <p:spPr>
          <a:xfrm flipH="1">
            <a:off x="4140360" y="2133720"/>
            <a:ext cx="1425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9"/>
          <p:cNvSpPr/>
          <p:nvPr/>
        </p:nvSpPr>
        <p:spPr>
          <a:xfrm>
            <a:off x="3637080" y="2397240"/>
            <a:ext cx="635040" cy="3823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10"/>
          <p:cNvSpPr/>
          <p:nvPr/>
        </p:nvSpPr>
        <p:spPr>
          <a:xfrm>
            <a:off x="3708360" y="2492280"/>
            <a:ext cx="503280" cy="1684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11"/>
          <p:cNvSpPr/>
          <p:nvPr/>
        </p:nvSpPr>
        <p:spPr>
          <a:xfrm>
            <a:off x="3851280" y="5540400"/>
            <a:ext cx="228600" cy="50328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12"/>
          <p:cNvSpPr/>
          <p:nvPr/>
        </p:nvSpPr>
        <p:spPr>
          <a:xfrm>
            <a:off x="4284720" y="5468760"/>
            <a:ext cx="287280" cy="50328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627280" y="3164040"/>
            <a:ext cx="2678040" cy="2544120"/>
            <a:chOff x="2627280" y="3164040"/>
            <a:chExt cx="2678040" cy="2544120"/>
          </a:xfrm>
        </p:grpSpPr>
        <p:sp>
          <p:nvSpPr>
            <p:cNvPr id="338" name="Freeform 14"/>
            <p:cNvSpPr/>
            <p:nvPr/>
          </p:nvSpPr>
          <p:spPr>
            <a:xfrm>
              <a:off x="2700360" y="3164040"/>
              <a:ext cx="1211040" cy="155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5"/>
            <p:cNvSpPr/>
            <p:nvPr/>
          </p:nvSpPr>
          <p:spPr>
            <a:xfrm>
              <a:off x="2627280" y="3284280"/>
              <a:ext cx="2556000" cy="24238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6"/>
            <p:cNvSpPr/>
            <p:nvPr/>
          </p:nvSpPr>
          <p:spPr>
            <a:xfrm>
              <a:off x="3058920" y="3524040"/>
              <a:ext cx="781200" cy="288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7"/>
            <p:cNvSpPr/>
            <p:nvPr/>
          </p:nvSpPr>
          <p:spPr>
            <a:xfrm>
              <a:off x="4356000" y="3595320"/>
              <a:ext cx="311040" cy="433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8"/>
            <p:cNvSpPr/>
            <p:nvPr/>
          </p:nvSpPr>
          <p:spPr>
            <a:xfrm>
              <a:off x="3203640" y="4387680"/>
              <a:ext cx="431640" cy="7203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9"/>
            <p:cNvSpPr/>
            <p:nvPr/>
          </p:nvSpPr>
          <p:spPr>
            <a:xfrm>
              <a:off x="4788000" y="3357360"/>
              <a:ext cx="517320" cy="19555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Freeform 20"/>
          <p:cNvSpPr/>
          <p:nvPr/>
        </p:nvSpPr>
        <p:spPr>
          <a:xfrm>
            <a:off x="5291280" y="4789440"/>
            <a:ext cx="112680" cy="3049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21"/>
          <p:cNvSpPr/>
          <p:nvPr/>
        </p:nvSpPr>
        <p:spPr>
          <a:xfrm>
            <a:off x="5370480" y="5065560"/>
            <a:ext cx="57240" cy="1890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22"/>
          <p:cNvSpPr/>
          <p:nvPr/>
        </p:nvSpPr>
        <p:spPr>
          <a:xfrm>
            <a:off x="5037120" y="3208320"/>
            <a:ext cx="166680" cy="4636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23"/>
          <p:cNvSpPr/>
          <p:nvPr/>
        </p:nvSpPr>
        <p:spPr>
          <a:xfrm>
            <a:off x="2496960" y="3236760"/>
            <a:ext cx="158760" cy="3049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24"/>
          <p:cNvSpPr/>
          <p:nvPr/>
        </p:nvSpPr>
        <p:spPr>
          <a:xfrm>
            <a:off x="2395440" y="3468600"/>
            <a:ext cx="144720" cy="4510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25"/>
          <p:cNvSpPr/>
          <p:nvPr/>
        </p:nvSpPr>
        <p:spPr>
          <a:xfrm flipV="1">
            <a:off x="3251160" y="5634000"/>
            <a:ext cx="241200" cy="698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26"/>
          <p:cNvSpPr/>
          <p:nvPr/>
        </p:nvSpPr>
        <p:spPr>
          <a:xfrm>
            <a:off x="3924360" y="1125360"/>
            <a:ext cx="66600" cy="82584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27"/>
          <p:cNvSpPr/>
          <p:nvPr/>
        </p:nvSpPr>
        <p:spPr>
          <a:xfrm>
            <a:off x="4064040" y="1379520"/>
            <a:ext cx="231840" cy="49212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28"/>
          <p:cNvSpPr/>
          <p:nvPr/>
        </p:nvSpPr>
        <p:spPr>
          <a:xfrm>
            <a:off x="4157640" y="1566720"/>
            <a:ext cx="371520" cy="37800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9"/>
          <p:cNvSpPr/>
          <p:nvPr/>
        </p:nvSpPr>
        <p:spPr>
          <a:xfrm>
            <a:off x="6156360" y="54936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生活中的创新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就是把睡过两个月的床单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拿起来抖抖，反过来再铺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580000" y="2997360"/>
            <a:ext cx="3168720" cy="24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ffff66"/>
                </a:solidFill>
                <a:latin typeface="Arial"/>
              </a:rPr>
              <a:t>招新要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有高度的责任心和集体荣誉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勤奋踏实、能吃苦、有耐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有端正的工作态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居有一定的创新和交际能力，并有信心处理好学习与工作的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/>
  </p:transition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0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9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3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4" dur="1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135" dur="1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36" dur="1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1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1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250" autoRev="1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4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7" dur="250" autoRev="1" fill="hold"/>
                                        <p:tgtEl>
                                          <p:spTgt spid="3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4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0" dur="250" autoRev="1" fill="hold"/>
                                        <p:tgtEl>
                                          <p:spTgt spid="3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5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2" dur="1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153" dur="1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154" dur="1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1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580">
                                      <p:cBhvr>
                                        <p:cTn id="11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1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2" dur="1000" autoRev="1" fill="hold"/>
                                        <p:tgtEl>
                                          <p:spTgt spid="3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5" dur="1000" autoRev="1" fill="hold"/>
                                        <p:tgtEl>
                                          <p:spTgt spid="3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7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8" dur="1000" autoRev="1" fill="hold"/>
                                        <p:tgtEl>
                                          <p:spTgt spid="3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0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1" dur="1000" autoRev="1" fill="hold"/>
                                        <p:tgtEl>
                                          <p:spTgt spid="3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7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3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4" dur="1000" autoRev="1" fill="hold"/>
                                        <p:tgtEl>
                                          <p:spTgt spid="3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7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7" dur="1000" autoRev="1" fill="hold"/>
                                        <p:tgtEl>
                                          <p:spTgt spid="3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3623 -0.06517 0.09625 -0.318349 0.081736 -0.391019 C 0.067222 -0.463688 -0.043241 -0.452994 -0.087083 -0.436019 C -0.130926 -0.419043 -0.141331 -0.291528 -0.181319 -0.289167 C -0.221308 -0.286806 -0.278738 -0.41554 -0.327014 -0.421852 C -0.375289 -0.428164 -0.482222 -0.415911 -0.470972 -0.327037 C -0.459722 -0.238164 -0.315787 0.016991 -0.259514 0.111389 C -0.203241 0.205787 -0.177176 0.260293 -0.133333 0.239352 C -0.089491 0.21841 -0.021042 0.029583 0.003542 -0.014259 C 0.028125 -0.058102 0.012396 -0.02213 0.014167 -0.023704 E">
                                      <p:cBhvr>
                                        <p:cTn id="1179" dur="5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3623 -0.06517 0.09625 -0.318349 0.081736 -0.391019 C 0.067222 -0.463688 -0.043241 -0.452994 -0.087083 -0.436019 C -0.130926 -0.419043 -0.141331 -0.291528 -0.181319 -0.289167 C -0.221308 -0.286806 -0.278738 -0.41554 -0.327014 -0.421852 C -0.375289 -0.428164 -0.482222 -0.415911 -0.470972 -0.327037 C -0.459722 -0.238164 -0.315787 0.016991 -0.259514 0.111389 C -0.203241 0.205787 -0.177176 0.260293 -0.133333 0.239352 C -0.089491 0.21841 -0.021042 0.029583 0.003542 -0.014259 C 0.028125 -0.058102 0.012396 -0.02213 0.014167 -0.023704 E">
                                      <p:cBhvr>
                                        <p:cTn id="1181" dur="2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3623 -0.06517 0.09625 -0.318349 0.081736 -0.391019 C 0.067222 -0.463688 -0.043241 -0.452994 -0.087083 -0.436019 C -0.130926 -0.419043 -0.141331 -0.291528 -0.181319 -0.289167 C -0.221308 -0.286806 -0.278738 -0.41554 -0.327014 -0.421852 C -0.375289 -0.428164 -0.482222 -0.415911 -0.470972 -0.327037 C -0.459722 -0.238164 -0.315787 0.016991 -0.259514 0.111389 C -0.203241 0.205787 -0.177176 0.260293 -0.133333 0.239352 C -0.089491 0.21841 -0.021042 0.029583 0.003542 -0.014259 C 0.028125 -0.058102 0.012396 -0.02213 0.014167 -0.023704 E">
                                      <p:cBhvr>
                                        <p:cTn id="1183" dur="2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 0.005 C 0.008623 -0.06017 0.09125 -0.313349 0.076736 -0.386019 C 0.062222 -0.458688 -0.048241 -0.447994 -0.092083 -0.431019 C -0.135926 -0.414043 -0.146331 -0.286528 -0.186319 -0.284167 C -0.226308 -0.281806 -0.283738 -0.41054 -0.332014 -0.416852 C -0.380289 -0.423164 -0.487222 -0.410911 -0.475972 -0.322037 C -0.464722 -0.233164 -0.320787 0.021991 -0.264514 0.116389 C -0.208241 0.210787 -0.182176 0.265293 -0.138333 0.244352 C -0.094491 0.22341 -0.026042 0.034583 -0.001458 -0.009259 C 0.023125 -0.053102 0.007396 -0.01713 0.009167 -0.018704 E">
                                      <p:cBhvr>
                                        <p:cTn id="1185" dur="2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3623 -0.06517 0.09625 -0.318349 0.081736 -0.391019 C 0.067222 -0.463688 -0.043241 -0.452994 -0.087083 -0.436019 C -0.130926 -0.419043 -0.141331 -0.291528 -0.181319 -0.289167 C -0.221308 -0.286806 -0.278738 -0.41554 -0.327014 -0.421852 C -0.375289 -0.428164 -0.482222 -0.415911 -0.470972 -0.327037 C -0.459722 -0.238164 -0.315787 0.016991 -0.259514 0.111389 C -0.203241 0.205787 -0.177176 0.260293 -0.133333 0.239352 C -0.089491 0.21841 -0.021042 0.029583 0.003542 -0.014259 C 0.028125 -0.058102 0.012396 -0.02213 0.014167 -0.023704 E">
                                      <p:cBhvr>
                                        <p:cTn id="1187" dur="20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0" descr="10000000"/>
          <p:cNvPicPr/>
          <p:nvPr/>
        </p:nvPicPr>
        <p:blipFill>
          <a:blip r:embed="rId2"/>
          <a:stretch/>
        </p:blipFill>
        <p:spPr>
          <a:xfrm rot="7310400">
            <a:off x="-537840" y="2095200"/>
            <a:ext cx="3809880" cy="2733840"/>
          </a:xfrm>
          <a:prstGeom prst="rect">
            <a:avLst/>
          </a:prstGeom>
          <a:ln w="0">
            <a:noFill/>
          </a:ln>
        </p:spPr>
      </p:pic>
      <p:sp>
        <p:nvSpPr>
          <p:cNvPr id="356" name="Freeform 16"/>
          <p:cNvSpPr/>
          <p:nvPr/>
        </p:nvSpPr>
        <p:spPr>
          <a:xfrm>
            <a:off x="527040" y="2278080"/>
            <a:ext cx="1752480" cy="45576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17"/>
          <p:cNvSpPr/>
          <p:nvPr/>
        </p:nvSpPr>
        <p:spPr>
          <a:xfrm>
            <a:off x="1150920" y="2060640"/>
            <a:ext cx="649440" cy="36036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19"/>
          <p:cNvSpPr/>
          <p:nvPr/>
        </p:nvSpPr>
        <p:spPr>
          <a:xfrm>
            <a:off x="1200240" y="2133720"/>
            <a:ext cx="600120" cy="36036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3"/>
          <p:cNvSpPr/>
          <p:nvPr/>
        </p:nvSpPr>
        <p:spPr>
          <a:xfrm>
            <a:off x="1170000" y="26668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24"/>
          <p:cNvSpPr/>
          <p:nvPr/>
        </p:nvSpPr>
        <p:spPr>
          <a:xfrm>
            <a:off x="1295280" y="263700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26"/>
          <p:cNvSpPr/>
          <p:nvPr/>
        </p:nvSpPr>
        <p:spPr>
          <a:xfrm>
            <a:off x="1176480" y="2913120"/>
            <a:ext cx="442800" cy="2286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27"/>
          <p:cNvSpPr/>
          <p:nvPr/>
        </p:nvSpPr>
        <p:spPr>
          <a:xfrm>
            <a:off x="1366920" y="2986200"/>
            <a:ext cx="215640" cy="824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29"/>
          <p:cNvSpPr/>
          <p:nvPr/>
        </p:nvSpPr>
        <p:spPr>
          <a:xfrm>
            <a:off x="71280" y="3502080"/>
            <a:ext cx="1235160" cy="22680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30"/>
          <p:cNvSpPr/>
          <p:nvPr/>
        </p:nvSpPr>
        <p:spPr>
          <a:xfrm>
            <a:off x="1582560" y="2925720"/>
            <a:ext cx="1873440" cy="71928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31"/>
          <p:cNvSpPr/>
          <p:nvPr/>
        </p:nvSpPr>
        <p:spPr>
          <a:xfrm>
            <a:off x="863640" y="5013360"/>
            <a:ext cx="503280" cy="133344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32"/>
          <p:cNvSpPr/>
          <p:nvPr/>
        </p:nvSpPr>
        <p:spPr>
          <a:xfrm>
            <a:off x="1655640" y="4784760"/>
            <a:ext cx="755640" cy="168120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33"/>
          <p:cNvSpPr/>
          <p:nvPr/>
        </p:nvSpPr>
        <p:spPr>
          <a:xfrm>
            <a:off x="1943280" y="1341360"/>
            <a:ext cx="1404720" cy="3743280"/>
          </a:xfrm>
          <a:prstGeom prst="pie">
            <a:avLst/>
          </a:prstGeom>
          <a:noFill/>
          <a:ln w="57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34"/>
          <p:cNvSpPr/>
          <p:nvPr/>
        </p:nvSpPr>
        <p:spPr>
          <a:xfrm>
            <a:off x="1943280" y="1341360"/>
            <a:ext cx="1081080" cy="36720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40" descr="剪裁"/>
          <p:cNvPicPr/>
          <p:nvPr/>
        </p:nvPicPr>
        <p:blipFill>
          <a:blip r:embed="rId3"/>
          <a:stretch/>
        </p:blipFill>
        <p:spPr>
          <a:xfrm>
            <a:off x="5724360" y="765000"/>
            <a:ext cx="3157560" cy="2713320"/>
          </a:xfrm>
          <a:prstGeom prst="rect">
            <a:avLst/>
          </a:prstGeom>
          <a:ln w="0">
            <a:noFill/>
          </a:ln>
        </p:spPr>
      </p:pic>
      <p:pic>
        <p:nvPicPr>
          <p:cNvPr id="370" name="图片 14" descr="arrow.png"/>
          <p:cNvPicPr/>
          <p:nvPr/>
        </p:nvPicPr>
        <p:blipFill>
          <a:blip r:embed="rId4"/>
          <a:stretch/>
        </p:blipFill>
        <p:spPr>
          <a:xfrm rot="311400">
            <a:off x="2123640" y="2708280"/>
            <a:ext cx="1846440" cy="839880"/>
          </a:xfrm>
          <a:prstGeom prst="rect">
            <a:avLst/>
          </a:prstGeom>
          <a:ln w="0">
            <a:noFill/>
          </a:ln>
        </p:spPr>
      </p:pic>
      <p:pic>
        <p:nvPicPr>
          <p:cNvPr id="371" name="图片 14" descr="arrow.png"/>
          <p:cNvPicPr/>
          <p:nvPr/>
        </p:nvPicPr>
        <p:blipFill>
          <a:blip r:embed="rId5"/>
          <a:stretch/>
        </p:blipFill>
        <p:spPr>
          <a:xfrm rot="311400">
            <a:off x="2050560" y="2708280"/>
            <a:ext cx="1846440" cy="839880"/>
          </a:xfrm>
          <a:prstGeom prst="rect">
            <a:avLst/>
          </a:prstGeom>
          <a:ln w="0">
            <a:noFill/>
          </a:ln>
        </p:spPr>
      </p:pic>
      <p:pic>
        <p:nvPicPr>
          <p:cNvPr id="372" name="图片 14" descr="arrow.png"/>
          <p:cNvPicPr/>
          <p:nvPr/>
        </p:nvPicPr>
        <p:blipFill>
          <a:blip r:embed="rId6"/>
          <a:stretch/>
        </p:blipFill>
        <p:spPr>
          <a:xfrm rot="311400">
            <a:off x="2123640" y="2708280"/>
            <a:ext cx="1846440" cy="839880"/>
          </a:xfrm>
          <a:prstGeom prst="rect">
            <a:avLst/>
          </a:prstGeom>
          <a:ln w="0">
            <a:noFill/>
          </a:ln>
        </p:spPr>
      </p:pic>
      <p:pic>
        <p:nvPicPr>
          <p:cNvPr id="373" name="图片 14" descr="arrow.png"/>
          <p:cNvPicPr/>
          <p:nvPr/>
        </p:nvPicPr>
        <p:blipFill>
          <a:blip r:embed="rId7"/>
          <a:stretch/>
        </p:blipFill>
        <p:spPr>
          <a:xfrm rot="311400">
            <a:off x="2123640" y="2708280"/>
            <a:ext cx="1846440" cy="839880"/>
          </a:xfrm>
          <a:prstGeom prst="rect">
            <a:avLst/>
          </a:prstGeom>
          <a:ln w="0">
            <a:noFill/>
          </a:ln>
        </p:spPr>
      </p:pic>
      <p:pic>
        <p:nvPicPr>
          <p:cNvPr id="374" name="图片 14" descr="arrow.png"/>
          <p:cNvPicPr/>
          <p:nvPr/>
        </p:nvPicPr>
        <p:blipFill>
          <a:blip r:embed="rId8"/>
          <a:stretch/>
        </p:blipFill>
        <p:spPr>
          <a:xfrm rot="311400">
            <a:off x="2123640" y="2708280"/>
            <a:ext cx="1846440" cy="839880"/>
          </a:xfrm>
          <a:prstGeom prst="rect">
            <a:avLst/>
          </a:prstGeom>
          <a:ln w="0">
            <a:noFill/>
          </a:ln>
        </p:spPr>
      </p:pic>
      <p:pic>
        <p:nvPicPr>
          <p:cNvPr id="375" name="图片 14" descr="arrow.png"/>
          <p:cNvPicPr/>
          <p:nvPr/>
        </p:nvPicPr>
        <p:blipFill>
          <a:blip r:embed="rId9"/>
          <a:stretch/>
        </p:blipFill>
        <p:spPr>
          <a:xfrm rot="311400">
            <a:off x="2123640" y="2708280"/>
            <a:ext cx="1846440" cy="83988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51"/>
          <p:cNvSpPr/>
          <p:nvPr/>
        </p:nvSpPr>
        <p:spPr>
          <a:xfrm>
            <a:off x="3708360" y="4581360"/>
            <a:ext cx="489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ff"/>
                </a:solidFill>
                <a:latin typeface="Arial"/>
              </a:rPr>
              <a:t>四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ffff66"/>
                </a:solidFill>
                <a:latin typeface="Arial"/>
              </a:rPr>
              <a:t>招新人数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：正式新干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2"/>
          <p:cNvSpPr/>
          <p:nvPr/>
        </p:nvSpPr>
        <p:spPr>
          <a:xfrm>
            <a:off x="5614920" y="64911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/>
  </p:transition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0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4" dur="250" autoRev="1" fill="hold"/>
                                        <p:tgtEl>
                                          <p:spTgt spid="3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9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7" dur="250" autoRev="1" fill="hold"/>
                                        <p:tgtEl>
                                          <p:spTgt spid="3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802 -0.03056 L 0.30347 -0.14491 E">
                                      <p:cBhvr>
                                        <p:cTn id="1203" dur="5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542 -0.02014 L 0.35087 -0.13449 E">
                                      <p:cBhvr>
                                        <p:cTn id="1209" dur="5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104 0.08472 L 0.36649 -0.02963 E">
                                      <p:cBhvr>
                                        <p:cTn id="1215" dur="5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743 0.04282 L 0.34288 -0.07153 E">
                                      <p:cBhvr>
                                        <p:cTn id="1221" dur="5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962 -0.10417 L 0.33507 -0.21852 E">
                                      <p:cBhvr>
                                        <p:cTn id="1227" dur="5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382 0.02176 L 0.31927 -0.09259 E">
                                      <p:cBhvr>
                                        <p:cTn id="1233" dur="5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4700"/>
                            </p:stCondLst>
                            <p:childTnLst>
                              <p:par>
                                <p:cTn id="12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244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4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4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4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4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5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"/>
          <p:cNvGrpSpPr/>
          <p:nvPr/>
        </p:nvGrpSpPr>
        <p:grpSpPr>
          <a:xfrm>
            <a:off x="3735720" y="660600"/>
            <a:ext cx="4907520" cy="5036760"/>
            <a:chOff x="3735720" y="660600"/>
            <a:chExt cx="4907520" cy="5036760"/>
          </a:xfrm>
        </p:grpSpPr>
        <p:pic>
          <p:nvPicPr>
            <p:cNvPr id="379" name="Picture 2" descr="88副本"/>
            <p:cNvPicPr/>
            <p:nvPr/>
          </p:nvPicPr>
          <p:blipFill>
            <a:blip r:embed="rId2"/>
            <a:stretch/>
          </p:blipFill>
          <p:spPr>
            <a:xfrm flipH="1" rot="13770000">
              <a:off x="4136040" y="1705680"/>
              <a:ext cx="4106880" cy="29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AutoShape 4"/>
            <p:cNvSpPr/>
            <p:nvPr/>
          </p:nvSpPr>
          <p:spPr>
            <a:xfrm>
              <a:off x="5508360" y="1989000"/>
              <a:ext cx="360360" cy="35856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47600 h 358560"/>
                <a:gd name="textAreaBottom" fmla="*/ 210960 h 35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5"/>
            <p:cNvSpPr/>
            <p:nvPr/>
          </p:nvSpPr>
          <p:spPr>
            <a:xfrm>
              <a:off x="5940360" y="1989000"/>
              <a:ext cx="360360" cy="35856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47600 h 358560"/>
                <a:gd name="textAreaBottom" fmla="*/ 210960 h 35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1"/>
            <p:cNvSpPr/>
            <p:nvPr/>
          </p:nvSpPr>
          <p:spPr>
            <a:xfrm>
              <a:off x="5724360" y="2997000"/>
              <a:ext cx="360360" cy="216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2"/>
            <p:cNvSpPr/>
            <p:nvPr/>
          </p:nvSpPr>
          <p:spPr>
            <a:xfrm>
              <a:off x="6084720" y="2997000"/>
              <a:ext cx="360360" cy="216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3"/>
            <p:cNvSpPr/>
            <p:nvPr/>
          </p:nvSpPr>
          <p:spPr>
            <a:xfrm>
              <a:off x="5879880" y="3066840"/>
              <a:ext cx="127080" cy="23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4"/>
            <p:cNvSpPr/>
            <p:nvPr/>
          </p:nvSpPr>
          <p:spPr>
            <a:xfrm>
              <a:off x="6168960" y="3041640"/>
              <a:ext cx="150840" cy="712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5"/>
            <p:cNvSpPr/>
            <p:nvPr/>
          </p:nvSpPr>
          <p:spPr>
            <a:xfrm>
              <a:off x="5846760" y="3071520"/>
              <a:ext cx="150840" cy="428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6"/>
            <p:cNvSpPr/>
            <p:nvPr/>
          </p:nvSpPr>
          <p:spPr>
            <a:xfrm>
              <a:off x="5700600" y="3141360"/>
              <a:ext cx="395280" cy="3589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7"/>
            <p:cNvSpPr/>
            <p:nvPr/>
          </p:nvSpPr>
          <p:spPr>
            <a:xfrm>
              <a:off x="6084720" y="3141360"/>
              <a:ext cx="216000" cy="287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8"/>
            <p:cNvSpPr/>
            <p:nvPr/>
          </p:nvSpPr>
          <p:spPr>
            <a:xfrm flipH="1">
              <a:off x="5867280" y="4652640"/>
              <a:ext cx="216000" cy="9478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9"/>
            <p:cNvSpPr/>
            <p:nvPr/>
          </p:nvSpPr>
          <p:spPr>
            <a:xfrm>
              <a:off x="6156360" y="4641840"/>
              <a:ext cx="298440" cy="10555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4"/>
            <p:cNvSpPr/>
            <p:nvPr/>
          </p:nvSpPr>
          <p:spPr>
            <a:xfrm>
              <a:off x="5646600" y="1190520"/>
              <a:ext cx="101520" cy="711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5"/>
            <p:cNvSpPr/>
            <p:nvPr/>
          </p:nvSpPr>
          <p:spPr>
            <a:xfrm>
              <a:off x="5763960" y="1190520"/>
              <a:ext cx="114480" cy="6382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6"/>
            <p:cNvSpPr/>
            <p:nvPr/>
          </p:nvSpPr>
          <p:spPr>
            <a:xfrm>
              <a:off x="5930640" y="1292040"/>
              <a:ext cx="92160" cy="4636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4" name="Picture 3" descr="镜子"/>
          <p:cNvPicPr/>
          <p:nvPr/>
        </p:nvPicPr>
        <p:blipFill>
          <a:blip r:embed="rId3"/>
          <a:stretch/>
        </p:blipFill>
        <p:spPr>
          <a:xfrm>
            <a:off x="2195640" y="549360"/>
            <a:ext cx="2255760" cy="376560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5686560" y="2358360"/>
            <a:ext cx="722880" cy="556200"/>
            <a:chOff x="5686560" y="2358360"/>
            <a:chExt cx="722880" cy="556200"/>
          </a:xfrm>
        </p:grpSpPr>
        <p:sp>
          <p:nvSpPr>
            <p:cNvPr id="396" name="AutoShape 6"/>
            <p:cNvSpPr/>
            <p:nvPr/>
          </p:nvSpPr>
          <p:spPr>
            <a:xfrm rot="15483600">
              <a:off x="5832000" y="2312280"/>
              <a:ext cx="431640" cy="647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1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7"/>
            <p:cNvSpPr/>
            <p:nvPr/>
          </p:nvSpPr>
          <p:spPr>
            <a:xfrm>
              <a:off x="5795640" y="2565360"/>
              <a:ext cx="0" cy="14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8"/>
            <p:cNvSpPr/>
            <p:nvPr/>
          </p:nvSpPr>
          <p:spPr>
            <a:xfrm>
              <a:off x="5940360" y="2637000"/>
              <a:ext cx="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9"/>
            <p:cNvSpPr/>
            <p:nvPr/>
          </p:nvSpPr>
          <p:spPr>
            <a:xfrm>
              <a:off x="6084720" y="2637000"/>
              <a:ext cx="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0"/>
            <p:cNvSpPr/>
            <p:nvPr/>
          </p:nvSpPr>
          <p:spPr>
            <a:xfrm>
              <a:off x="6227640" y="256536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Text Box 20"/>
          <p:cNvSpPr/>
          <p:nvPr/>
        </p:nvSpPr>
        <p:spPr>
          <a:xfrm>
            <a:off x="2627280" y="1052640"/>
            <a:ext cx="144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1"/>
          <p:cNvSpPr/>
          <p:nvPr/>
        </p:nvSpPr>
        <p:spPr>
          <a:xfrm>
            <a:off x="6300720" y="476280"/>
            <a:ext cx="244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笑口常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gh oft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22"/>
          <p:cNvSpPr/>
          <p:nvPr/>
        </p:nvSpPr>
        <p:spPr>
          <a:xfrm>
            <a:off x="3348000" y="2060640"/>
            <a:ext cx="360360" cy="3585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7600 h 358560"/>
              <a:gd name="textAreaBottom" fmla="*/ 21096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23"/>
          <p:cNvSpPr/>
          <p:nvPr/>
        </p:nvSpPr>
        <p:spPr>
          <a:xfrm>
            <a:off x="2916360" y="2060640"/>
            <a:ext cx="360360" cy="358560"/>
          </a:xfrm>
          <a:custGeom>
            <a:avLst/>
            <a:gdLst>
              <a:gd name="textAreaLeft" fmla="*/ 148320 w 360360"/>
              <a:gd name="textAreaRight" fmla="*/ 212040 w 360360"/>
              <a:gd name="textAreaTop" fmla="*/ 147600 h 358560"/>
              <a:gd name="textAreaBottom" fmla="*/ 210960 h 35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79280" y="1413000"/>
            <a:ext cx="1871640" cy="36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4000" y="1125360"/>
            <a:ext cx="18349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Arial"/>
              </a:rPr>
              <a:t>生活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Arial"/>
              </a:rPr>
              <a:t>是做什么的呢？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-4851360" y="4941720"/>
            <a:ext cx="5030640" cy="78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492360" y="5661000"/>
            <a:ext cx="337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宿舍管理。包括宿舍卫生检查，宿舍文化评比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9640" y="4365720"/>
            <a:ext cx="47498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服务同学们的食宿生活。和学校有关部门组织建立经常性联系，并深入同学中了解情况，及时向学校反映同学们的问题和需求，起到桥梁纽带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-4282920" y="3860640"/>
            <a:ext cx="8348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/>
  </p:transition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0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7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60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2" dur="250" autoRev="1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63" dur="250" autoRev="1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4" dur="250" autoRev="1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6" dur="250" autoRev="1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67" dur="250" autoRev="1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8" dur="250" autoRev="1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0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4" dur="250" autoRev="1" fill="hold"/>
                                        <p:tgtEl>
                                          <p:spTgt spid="3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3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3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580">
                                      <p:cBhvr>
                                        <p:cTn id="1292" dur="3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4" dur="3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1" dur="1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02" dur="1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03" dur="1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0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130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0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130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0" dur="1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11" dur="1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12" dur="1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13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1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699">
                                      <p:cBhvr>
                                        <p:cTn id="131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2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2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2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2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2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2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2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2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88副本"/>
          <p:cNvPicPr/>
          <p:nvPr/>
        </p:nvPicPr>
        <p:blipFill>
          <a:blip r:embed="rId2"/>
          <a:stretch/>
        </p:blipFill>
        <p:spPr>
          <a:xfrm rot="7602000">
            <a:off x="-101160" y="2196000"/>
            <a:ext cx="4016520" cy="2881440"/>
          </a:xfrm>
          <a:prstGeom prst="rect">
            <a:avLst/>
          </a:prstGeom>
          <a:ln w="0">
            <a:noFill/>
          </a:ln>
        </p:spPr>
      </p:pic>
      <p:sp>
        <p:nvSpPr>
          <p:cNvPr id="412" name="Freeform 3"/>
          <p:cNvSpPr/>
          <p:nvPr/>
        </p:nvSpPr>
        <p:spPr>
          <a:xfrm>
            <a:off x="888840" y="4965840"/>
            <a:ext cx="946440" cy="136836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4"/>
          <p:cNvSpPr/>
          <p:nvPr/>
        </p:nvSpPr>
        <p:spPr>
          <a:xfrm>
            <a:off x="1908000" y="5013360"/>
            <a:ext cx="287640" cy="136836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WordArt 5"/>
          <p:cNvSpPr txBox="1"/>
          <p:nvPr/>
        </p:nvSpPr>
        <p:spPr>
          <a:xfrm rot="19965600">
            <a:off x="324000" y="-66312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￥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15" name="Freeform 6"/>
          <p:cNvSpPr/>
          <p:nvPr/>
        </p:nvSpPr>
        <p:spPr>
          <a:xfrm>
            <a:off x="1163520" y="3789360"/>
            <a:ext cx="779760" cy="45576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7"/>
          <p:cNvSpPr/>
          <p:nvPr/>
        </p:nvSpPr>
        <p:spPr>
          <a:xfrm>
            <a:off x="1967040" y="3789360"/>
            <a:ext cx="529920" cy="53964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WordArt 8"/>
          <p:cNvSpPr txBox="1"/>
          <p:nvPr/>
        </p:nvSpPr>
        <p:spPr>
          <a:xfrm>
            <a:off x="1692360" y="-808200"/>
            <a:ext cx="9144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机会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18" name="WordArt 9"/>
          <p:cNvSpPr txBox="1"/>
          <p:nvPr/>
        </p:nvSpPr>
        <p:spPr>
          <a:xfrm>
            <a:off x="1979640" y="-446040"/>
            <a:ext cx="914400" cy="446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工作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19" name="WordArt 10"/>
          <p:cNvSpPr txBox="1"/>
          <p:nvPr/>
        </p:nvSpPr>
        <p:spPr>
          <a:xfrm>
            <a:off x="1258920" y="-446040"/>
            <a:ext cx="914400" cy="4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5000"/>
                    </a:srgbClr>
                  </a:outerShdw>
                </a:effectLst>
                <a:latin typeface="宋体"/>
              </a:rPr>
              <a:t>学业</a:t>
            </a:r>
            <a:endParaRPr b="0" lang="en-US" sz="18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0" name="WordArt 11"/>
          <p:cNvSpPr txBox="1"/>
          <p:nvPr/>
        </p:nvSpPr>
        <p:spPr>
          <a:xfrm>
            <a:off x="2843280" y="-754200"/>
            <a:ext cx="914400" cy="7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宋体"/>
              </a:rPr>
              <a:t>房子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1" name="Oval 12"/>
          <p:cNvSpPr/>
          <p:nvPr/>
        </p:nvSpPr>
        <p:spPr>
          <a:xfrm>
            <a:off x="1763640" y="24210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13"/>
          <p:cNvSpPr/>
          <p:nvPr/>
        </p:nvSpPr>
        <p:spPr>
          <a:xfrm>
            <a:off x="2124000" y="24210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14"/>
          <p:cNvSpPr/>
          <p:nvPr/>
        </p:nvSpPr>
        <p:spPr>
          <a:xfrm>
            <a:off x="1979640" y="2492280"/>
            <a:ext cx="144360" cy="18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15"/>
          <p:cNvSpPr/>
          <p:nvPr/>
        </p:nvSpPr>
        <p:spPr>
          <a:xfrm>
            <a:off x="2340000" y="2421000"/>
            <a:ext cx="71280" cy="712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16"/>
          <p:cNvSpPr/>
          <p:nvPr/>
        </p:nvSpPr>
        <p:spPr>
          <a:xfrm>
            <a:off x="1763640" y="2492280"/>
            <a:ext cx="216000" cy="71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17"/>
          <p:cNvSpPr/>
          <p:nvPr/>
        </p:nvSpPr>
        <p:spPr>
          <a:xfrm>
            <a:off x="1835280" y="2492280"/>
            <a:ext cx="72720" cy="730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18"/>
          <p:cNvSpPr/>
          <p:nvPr/>
        </p:nvSpPr>
        <p:spPr>
          <a:xfrm>
            <a:off x="2195640" y="249228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19"/>
          <p:cNvSpPr/>
          <p:nvPr/>
        </p:nvSpPr>
        <p:spPr>
          <a:xfrm>
            <a:off x="2124000" y="2492280"/>
            <a:ext cx="216000" cy="71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20"/>
          <p:cNvSpPr/>
          <p:nvPr/>
        </p:nvSpPr>
        <p:spPr>
          <a:xfrm>
            <a:off x="1763640" y="2192400"/>
            <a:ext cx="216000" cy="156960"/>
          </a:xfrm>
          <a:prstGeom prst="pi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21"/>
          <p:cNvSpPr/>
          <p:nvPr/>
        </p:nvSpPr>
        <p:spPr>
          <a:xfrm>
            <a:off x="2195640" y="2205000"/>
            <a:ext cx="215640" cy="144360"/>
          </a:xfrm>
          <a:prstGeom prst="pi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22"/>
          <p:cNvSpPr/>
          <p:nvPr/>
        </p:nvSpPr>
        <p:spPr>
          <a:xfrm>
            <a:off x="1895400" y="1724040"/>
            <a:ext cx="238320" cy="53352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23"/>
          <p:cNvSpPr/>
          <p:nvPr/>
        </p:nvSpPr>
        <p:spPr>
          <a:xfrm>
            <a:off x="2050920" y="1743120"/>
            <a:ext cx="82800" cy="48564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24"/>
          <p:cNvSpPr/>
          <p:nvPr/>
        </p:nvSpPr>
        <p:spPr>
          <a:xfrm>
            <a:off x="2219400" y="1800360"/>
            <a:ext cx="57240" cy="39816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5"/>
          <p:cNvSpPr/>
          <p:nvPr/>
        </p:nvSpPr>
        <p:spPr>
          <a:xfrm>
            <a:off x="0" y="620640"/>
            <a:ext cx="40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抓住机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ize the Mom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26"/>
          <p:cNvSpPr/>
          <p:nvPr/>
        </p:nvSpPr>
        <p:spPr>
          <a:xfrm flipV="1">
            <a:off x="1763640" y="2997360"/>
            <a:ext cx="432000" cy="142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060720" y="2637000"/>
            <a:ext cx="5724360" cy="24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时参加学生会的大小例会，积极参与学生会组织的各项活动。如有特殊情况必须提前请假说明原因，事后了解大概情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按时例行学生会值班签到制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积极辅佐部长的工作，及时从上级接受任务，认真对待，按时按质按时完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积极配合其他部门的工作，本部门工作也可以寻求其他部门的帮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搞好与同事之间的关系，团结友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监督部长工作，给部长意见和建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780000" y="1628640"/>
            <a:ext cx="4054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活部干事职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/>
  </p:transition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fill="hold">
                      <p:stCondLst>
                        <p:cond delay="0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1"/>
                            </p:stCondLst>
                            <p:childTnLst>
                              <p:par>
                                <p:cTn id="133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3001"/>
                            </p:stCondLst>
                            <p:childTnLst>
                              <p:par>
                                <p:cTn id="134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7501"/>
                            </p:stCondLst>
                            <p:childTnLst>
                              <p:par>
                                <p:cTn id="1353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66667E-006 1.32948E-006 C 0.02396 0.00555 0.04827 0.0104 0.0717 0.01711 C 0.11406 0.0289 0.11163 0.04994 0.12587 0.08092 C 0.1283 0.08601 0.13229 0.08971 0.13472 0.09457 C 0.13646 0.0978 0.1375 0.1015 0.13889 0.10451 C 0.13611 0.13641 0.13559 0.16809 0.13056 0.19954 C 0.13004 0.20324 0.12361 0.20578 0.12188 0.20948 C 0.10434 0.24162 0.07448 0.27376 0.03768 0.2941 C 0.03351 0.30035 0.03125 0.30867 0.02535 0.31422 C 0.02257 0.31676 0.01615 0.31514 0.01285 0.31792 C 0.00834 0.32162 0.00695 0.3267 0.00417 0.3311 C 0.00643 0.35561 -0.0151 0.42659 0.03351 0.43954 C 0.03629 0.44162 0.03854 0.44416 0.04219 0.44601 C 0.0474 0.44786 0.05417 0.44694 0.05886 0.44948 C 0.06302 0.45156 0.06337 0.45688 0.06702 0.45896 C 0.07084 0.46266 0.07587 0.46428 0.08004 0.46636 C 0.08594 0.49017 0.08594 0.48162 0.10521 0.49641 C 0.1066 0.50011 0.10747 0.50381 0.10938 0.50682 C 0.11163 0.51075 0.1158 0.51329 0.11771 0.51676 C 0.11997 0.52162 0.11997 0.52624 0.12188 0.53087 C 0.12413 0.53641 0.12778 0.5415 0.13056 0.54751 C 0.13507 0.62289 0.13472 0.5926 0.13472 0.63884 E">
                                      <p:cBhvr>
                                        <p:cTn id="1354" dur="20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5" nodeType="withEffect" fill="hold" presetClass="exit" presetID="10">
                                  <p:stCondLst>
                                    <p:cond delay="8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56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8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3.61111E-006 -3.81503E-006 C 0.01736 0.00671 0.03559 0.01318 0.05296 0.01919 C 0.05955 0.02151 0.06111 0.02521 0.06858 0.02729 C 0.07448 0.02891 0.08351 0.02891 0.09098 0.0296 C 0.14966 0.05087 0.08507 0.07931 0.03802 0.09596 C 0.02657 0.10867 -0.00069 0.11769 -0.02222 0.12856 C -0.04861 0.157 -0.02725 0.1859 -0.00729 0.21388 C -0.01979 0.2363 -0.05121 0.25943 -0.09826 0.27538 C -0.11805 0.29688 -0.12621 0.29642 -0.08993 0.32393 C -0.0776 0.33249 -0.03715 0.34775 -0.03715 0.34798 C -0.04288 0.36763 -0.04461 0.37919 -0.0677 0.3963 C -0.07343 0.41758 -0.08246 0.43723 -0.09826 0.45758 C -0.08576 0.517 -0.0677 0.57873 -0.0677 0.63769 E">
                                      <p:cBhvr>
                                        <p:cTn id="1359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0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1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2.5E-006 2.54335E-006 C -0.02066 0.00323 -0.03941 0.01017 -0.05938 0.01526 C -0.0665 0.02034 -0.07101 0.02173 -0.07431 0.03098 C -0.08247 0.05387 -0.07066 0.04046 -0.08334 0.05248 C -0.09479 0.08855 -0.0941 0.12601 -0.07726 0.16046 C -0.07292 0.18728 -0.06459 0.21803 -0.05052 0.24115 C -0.04722 0.25433 -0.04306 0.26381 -0.03559 0.27491 C -0.03195 0.2904 -0.03038 0.30612 -0.02674 0.32162 C -0.02847 0.34497 -0.02483 0.36647 -0.04167 0.38312 C -0.04375 0.38913 -0.04566 0.3956 -0.04757 0.40185 C -0.05156 0.41456 -0.04636 0.42913 -0.05052 0.44208 C -0.05174 0.44647 -0.05868 0.44601 -0.0625 0.44809 C -0.0665 0.4541 -0.07257 0.45965 -0.07431 0.46659 C -0.07813 0.483 -0.075 0.47584 -0.08334 0.48832 C -0.09375 0.52185 -0.08299 0.48462 -0.08924 0.56878 C -0.09184 0.60231 -0.12795 0.60601 -0.14584 0.62474 C -0.14948 0.6393 -0.15226 0.64948 -0.13386 0.64948 E">
                                      <p:cBhvr>
                                        <p:cTn id="1364" dur="2000" fill="hold"/>
                                        <p:tgtEl>
                                          <p:spTgt spid="4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5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6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8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3.05556E-006 -4.27746E-006 C 0.00521 0.02266 0.01285 0.0444 0.02066 0.06313 C 0.02934 0.08393 0.0415 0.10104 0.04914 0.12324 C 0.04358 0.20047 0.05174 0.14683 0.04115 0.17642 C 0.03768 0.1859 0.0349 0.19654 0.03177 0.20625 C 0.03073 0.20948 0.02848 0.21642 0.02848 0.21688 C 0.02622 0.23076 0.02032 0.23746 0.0158 0.24948 C 0.01702 0.27908 0.01893 0.30174 0.02223 0.32972 C 0.01875 0.33665 0.01459 0.34197 0.01111 0.34937 C 0.00764 0.35654 0.00504 0.36532 0.00157 0.37272 C 0.00278 0.46359 -3.05556E-006 0.5422 -3.05556E-006 0.63261 E">
                                      <p:cBhvr>
                                        <p:cTn id="1369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0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1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00382 3.2948E-006 C 0.00434 0.00624 0.02934 0.02797 0.03524 0.02936 C 0.05729 0.03422 0.07951 0.03144 0.10174 0.0326 C 0.11406 0.03861 0.12552 0.0474 0.1375 0.05526 C 0.15208 0.07375 0.14774 0.06312 0.15365 0.08115 C 0.1533 0.10173 0.16198 0.17849 0.14722 0.20809 C 0.1441 0.22636 0.14375 0.23352 0.13576 0.2437 C 0.1342 0.24809 0.13333 0.25364 0.13108 0.25688 C 0.12812 0.26081 0.12118 0.26335 0.12118 0.26358 C 0.1158 0.27445 0.11181 0.28508 0.1066 0.29618 C 0.10746 0.31144 0.10608 0.3741 0.11649 0.39352 C 0.11875 0.41179 0.11996 0.41965 0.11962 0.44231 C 0.11927 0.46312 0.1184 0.48416 0.11649 0.50427 C 0.11545 0.51583 0.10816 0.52046 0.10347 0.52716 C 0.08455 0.5556 0.0776 0.57664 0.05312 0.57919 C 0.03802 0.58081 0.02274 0.58127 0.00764 0.58242 C 5.55555999999687E-007 0.59445 -0.0066 0.60786 -0.01354 0.6215 C -0.0151 0.62474 -0.01667 0.62797 -0.01823 0.63098 C -0.01997 0.63422 -0.02326 0.64115 -0.02326 0.64138 C -0.025 0.65826 -0.02222 0.65711 -0.02639 0.65711 E">
                                      <p:cBhvr>
                                        <p:cTn id="1374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7" dur="250" autoRev="1" fill="hold"/>
                                        <p:tgtEl>
                                          <p:spTgt spid="4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482 -0.039506 -0.004445 -0.236636 -0.008889 -0.237037 C -0.013333 -0.237438 -0.023704 -0.041512 -0.026667 -0.002407 E">
                                      <p:cBhvr>
                                        <p:cTn id="1379" dur="20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482 -0.039506 -0.004445 -0.236636 -0.008889 -0.237037 C -0.013333 -0.237438 -0.023704 -0.041512 -0.026667 -0.002407 E">
                                      <p:cBhvr>
                                        <p:cTn id="1381" dur="20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482 -0.039506 -0.004445 -0.236636 -0.008889 -0.237037 C -0.013333 -0.237438 -0.023704 -0.041512 -0.026667 -0.002407 E">
                                      <p:cBhvr>
                                        <p:cTn id="1383" dur="20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482 -0.039506 -0.004445 -0.236636 -0.008889 -0.237037 C -0.013333 -0.237438 -0.023704 -0.041512 -0.026667 -0.002407 E">
                                      <p:cBhvr>
                                        <p:cTn id="1385" dur="20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482 -0.039506 -0.004445 -0.236636 -0.008889 -0.237037 C -0.013333 -0.237438 -0.023704 -0.041512 -0.026667 -0.002407 E">
                                      <p:cBhvr>
                                        <p:cTn id="1387" dur="20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482 -0.039506 -0.004445 -0.236636 -0.008889 -0.237037 C -0.013333 -0.237438 -0.023704 -0.041512 -0.026667 -0.002407 E">
                                      <p:cBhvr>
                                        <p:cTn id="1389" dur="20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0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3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3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3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"/>
          <p:cNvGrpSpPr/>
          <p:nvPr/>
        </p:nvGrpSpPr>
        <p:grpSpPr>
          <a:xfrm>
            <a:off x="-156240" y="836640"/>
            <a:ext cx="7752240" cy="4943520"/>
            <a:chOff x="-156240" y="836640"/>
            <a:chExt cx="7752240" cy="4943520"/>
          </a:xfrm>
        </p:grpSpPr>
        <p:pic>
          <p:nvPicPr>
            <p:cNvPr id="439" name="Picture 4" descr="88副本"/>
            <p:cNvPicPr/>
            <p:nvPr/>
          </p:nvPicPr>
          <p:blipFill>
            <a:blip r:embed="rId2"/>
            <a:stretch/>
          </p:blipFill>
          <p:spPr>
            <a:xfrm rot="7091400">
              <a:off x="31680" y="2053080"/>
              <a:ext cx="3591000" cy="25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Picture 5" descr="9999"/>
            <p:cNvPicPr/>
            <p:nvPr/>
          </p:nvPicPr>
          <p:blipFill>
            <a:blip r:embed="rId3"/>
            <a:stretch/>
          </p:blipFill>
          <p:spPr>
            <a:xfrm>
              <a:off x="1116000" y="836640"/>
              <a:ext cx="6480000" cy="48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Freeform 7"/>
            <p:cNvSpPr/>
            <p:nvPr/>
          </p:nvSpPr>
          <p:spPr>
            <a:xfrm>
              <a:off x="1547640" y="2349360"/>
              <a:ext cx="216000" cy="716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8"/>
            <p:cNvSpPr/>
            <p:nvPr/>
          </p:nvSpPr>
          <p:spPr>
            <a:xfrm>
              <a:off x="1908000" y="2349360"/>
              <a:ext cx="216000" cy="716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9"/>
            <p:cNvSpPr/>
            <p:nvPr/>
          </p:nvSpPr>
          <p:spPr>
            <a:xfrm>
              <a:off x="1620720" y="2708280"/>
              <a:ext cx="431640" cy="85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0"/>
            <p:cNvSpPr/>
            <p:nvPr/>
          </p:nvSpPr>
          <p:spPr>
            <a:xfrm>
              <a:off x="1620720" y="2708280"/>
              <a:ext cx="431640" cy="252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14"/>
            <p:cNvSpPr/>
            <p:nvPr/>
          </p:nvSpPr>
          <p:spPr>
            <a:xfrm flipV="1">
              <a:off x="1763640" y="278100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15"/>
            <p:cNvSpPr/>
            <p:nvPr/>
          </p:nvSpPr>
          <p:spPr>
            <a:xfrm flipV="1">
              <a:off x="1836720" y="278100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16"/>
            <p:cNvSpPr/>
            <p:nvPr/>
          </p:nvSpPr>
          <p:spPr>
            <a:xfrm>
              <a:off x="1908000" y="278136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17"/>
            <p:cNvSpPr/>
            <p:nvPr/>
          </p:nvSpPr>
          <p:spPr>
            <a:xfrm>
              <a:off x="1979640" y="2781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9"/>
            <p:cNvSpPr/>
            <p:nvPr/>
          </p:nvSpPr>
          <p:spPr>
            <a:xfrm>
              <a:off x="1535040" y="1700280"/>
              <a:ext cx="98280" cy="504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0"/>
            <p:cNvSpPr/>
            <p:nvPr/>
          </p:nvSpPr>
          <p:spPr>
            <a:xfrm>
              <a:off x="1751040" y="1628640"/>
              <a:ext cx="98280" cy="505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1"/>
            <p:cNvSpPr/>
            <p:nvPr/>
          </p:nvSpPr>
          <p:spPr>
            <a:xfrm>
              <a:off x="1966680" y="1557360"/>
              <a:ext cx="98640" cy="5763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2"/>
            <p:cNvSpPr/>
            <p:nvPr/>
          </p:nvSpPr>
          <p:spPr>
            <a:xfrm>
              <a:off x="1655640" y="3429000"/>
              <a:ext cx="757080" cy="4921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4"/>
            <p:cNvSpPr/>
            <p:nvPr/>
          </p:nvSpPr>
          <p:spPr>
            <a:xfrm>
              <a:off x="2052360" y="3405240"/>
              <a:ext cx="432000" cy="4078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5"/>
            <p:cNvSpPr/>
            <p:nvPr/>
          </p:nvSpPr>
          <p:spPr>
            <a:xfrm>
              <a:off x="2916000" y="2708280"/>
              <a:ext cx="144720" cy="73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6"/>
            <p:cNvSpPr/>
            <p:nvPr/>
          </p:nvSpPr>
          <p:spPr>
            <a:xfrm>
              <a:off x="3132000" y="2708280"/>
              <a:ext cx="144360" cy="73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7"/>
            <p:cNvSpPr/>
            <p:nvPr/>
          </p:nvSpPr>
          <p:spPr>
            <a:xfrm>
              <a:off x="2916000" y="2924280"/>
              <a:ext cx="397080" cy="156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31"/>
            <p:cNvSpPr/>
            <p:nvPr/>
          </p:nvSpPr>
          <p:spPr>
            <a:xfrm>
              <a:off x="2519280" y="3357720"/>
              <a:ext cx="468360" cy="4921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36"/>
            <p:cNvSpPr/>
            <p:nvPr/>
          </p:nvSpPr>
          <p:spPr>
            <a:xfrm>
              <a:off x="3205080" y="3309840"/>
              <a:ext cx="299880" cy="8874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7"/>
            <p:cNvSpPr/>
            <p:nvPr/>
          </p:nvSpPr>
          <p:spPr>
            <a:xfrm>
              <a:off x="1871640" y="4568760"/>
              <a:ext cx="263520" cy="1079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8"/>
            <p:cNvSpPr/>
            <p:nvPr/>
          </p:nvSpPr>
          <p:spPr>
            <a:xfrm>
              <a:off x="2197080" y="4581720"/>
              <a:ext cx="215640" cy="9475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44"/>
            <p:cNvSpPr/>
            <p:nvPr/>
          </p:nvSpPr>
          <p:spPr>
            <a:xfrm>
              <a:off x="2833560" y="4869000"/>
              <a:ext cx="177840" cy="911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51"/>
            <p:cNvSpPr/>
            <p:nvPr/>
          </p:nvSpPr>
          <p:spPr>
            <a:xfrm>
              <a:off x="3119400" y="4869000"/>
              <a:ext cx="156960" cy="804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1"/>
            <p:cNvSpPr/>
            <p:nvPr/>
          </p:nvSpPr>
          <p:spPr>
            <a:xfrm>
              <a:off x="1692000" y="2781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Oval 28"/>
          <p:cNvSpPr/>
          <p:nvPr/>
        </p:nvSpPr>
        <p:spPr>
          <a:xfrm>
            <a:off x="1547640" y="2492280"/>
            <a:ext cx="216000" cy="730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29"/>
          <p:cNvSpPr/>
          <p:nvPr/>
        </p:nvSpPr>
        <p:spPr>
          <a:xfrm>
            <a:off x="2050920" y="2492280"/>
            <a:ext cx="216000" cy="730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8"/>
          <p:cNvSpPr/>
          <p:nvPr/>
        </p:nvSpPr>
        <p:spPr>
          <a:xfrm>
            <a:off x="5254560" y="227664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结识新朋友，即使他们看起来和你那么不一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59"/>
          <p:cNvSpPr/>
          <p:nvPr/>
        </p:nvSpPr>
        <p:spPr>
          <a:xfrm>
            <a:off x="5398920" y="364500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Gulim"/>
              </a:rPr>
              <a:t>Meet new people, even if they look different to y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84360" y="836640"/>
            <a:ext cx="3095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活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家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203640" y="1484280"/>
            <a:ext cx="3384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们相遇  相识  相知 每一分每一秒都是那么的可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274640" y="2852640"/>
            <a:ext cx="454680" cy="352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这里我们一起帮助别人，为他们的生活添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/>
  </p:transition>
  <p:timing>
    <p:tnLst>
      <p:par>
        <p:cTn id="1395" dur="indefinite" restart="never" nodeType="tmRoot">
          <p:childTnLst>
            <p:seq>
              <p:cTn id="1396" dur="indefinite" nodeType="mainSeq">
                <p:childTnLst>
                  <p:par>
                    <p:cTn id="1397" fill="hold">
                      <p:stCondLst>
                        <p:cond delay="0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5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5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0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3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3050"/>
                            </p:stCondLst>
                            <p:childTnLst>
                              <p:par>
                                <p:cTn id="1425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6" dur="500" autoRev="1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1427" dur="500" autoRev="1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1428" dur="500" autoRev="1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5950"/>
                            </p:stCondLst>
                            <p:childTnLst>
                              <p:par>
                                <p:cTn id="1430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31" dur="250" autoRev="1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1432" dur="250" autoRev="1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1433" dur="250" autoRev="1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5764 0 C 0.174201 -0.003164 0.25478 -0.034784 0.316389 -0.018981 C 0.377998 -0.003179 0.526088 0.007531 0.515417 0.094815 C 0.504745 0.182099 0.364028 0.44588 0.252361 0.504722 C 0.140694 0.563565 -0.186574 0.407191 -0.154583 0.44787 C -0.122593 0.488549 0.412616 0.825015 0.444306 0.748796 C 0.475995 0.672577 0.108414 0.112593 0.035556 -0.009444 C -0.037303 -0.131481 0.011597 0.014614 0.007153 0.016574 C 0.002708 0.018534 0.0086 0.004691 0.008889 0.002315 C 0.009178 -6.2E-005 0.01037 0.002701 0.008889 0.002315 C 0.007407 0.001929 0.001481 0.000386 0 0 E">
                                      <p:cBhvr>
                                        <p:cTn id="1435" dur="5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1852 -0.010278 -0.06963 -0.034012 -0.071111 -0.061667 C -0.072593 -0.089321 -0.0311 -0.158827 -0.008889 -0.165926 C 0.013322 -0.173025 0.060081 -0.131512 0.062153 -0.104259 C 0.064225 -0.077006 0.0139 -0.019784 0.003542 -0.002407 C -0.006817 0.014969 0.00059 -0.000401 0 0 Z">
                                      <p:cBhvr>
                                        <p:cTn id="1437" dur="2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8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39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40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41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442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4T07:55:35Z</dcterms:created>
  <dc:creator>微软用户</dc:creator>
  <dc:description/>
  <dc:language>en-US</dc:language>
  <cp:lastModifiedBy>User</cp:lastModifiedBy>
  <cp:lastPrinted>1899-12-30T00:00:00Z</cp:lastPrinted>
  <dcterms:modified xsi:type="dcterms:W3CDTF">2011-10-02T17:55:37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