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8640" y="25142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8640" y="47430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864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4732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864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4732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8640" y="25142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71840" y="25142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45040" y="25142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8640" y="47430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71840" y="47430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45040" y="47430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98640" y="2514240"/>
            <a:ext cx="7315200" cy="426708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98640" y="25142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9864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4732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8640" y="1645920"/>
            <a:ext cx="7315200" cy="3320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9864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4732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864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8640" y="2514240"/>
            <a:ext cx="7315200" cy="426708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9864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4732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4732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9864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4732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8640" y="47430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98640" y="25142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8640" y="47430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9864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4732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864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4732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98640" y="25142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71840" y="25142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45040" y="25142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8640" y="47430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71840" y="47430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45040" y="47430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8640" y="25142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864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4732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8640" y="1645920"/>
            <a:ext cx="7315200" cy="3320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864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4732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864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8640" y="25142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4732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47320" y="47430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8640" y="1621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864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47320" y="25142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8640" y="47430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8640" y="25142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28440" y="3276720"/>
            <a:ext cx="70866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icrosoft Sans Serif"/>
              </a:rPr>
              <a:t>Click to edit the title text format</a:t>
            </a:r>
            <a:endParaRPr b="0" i="1" lang="en-US" sz="40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icrosoft Sans Serif"/>
              </a:rPr>
              <a:t>Click to edit the outline text format</a:t>
            </a:r>
            <a:endParaRPr b="0" i="1" lang="en-US" sz="28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3276720"/>
            <a:ext cx="70866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icrosoft Sans Serif"/>
                <a:ea typeface="宋体"/>
              </a:rPr>
              <a:t>Name of presentation</a:t>
            </a:r>
            <a:endParaRPr b="0" i="1" lang="en-US" sz="4000" spc="-1" strike="noStrike">
              <a:solidFill>
                <a:srgbClr val="ffffff"/>
              </a:solidFill>
              <a:latin typeface="Microsoft Sans Serif"/>
            </a:endParaRPr>
          </a:p>
        </p:txBody>
      </p:sp>
      <p:sp>
        <p:nvSpPr>
          <p:cNvPr id="77" name="PlaceHolder 2"/>
          <p:cNvSpPr>
            <a:spLocks noGrp="1"/>
          </p:cNvSpPr>
          <p:nvPr>
            <p:ph type="subTitle"/>
          </p:nvPr>
        </p:nvSpPr>
        <p:spPr>
          <a:xfrm>
            <a:off x="1828440" y="3902040"/>
            <a:ext cx="7086600" cy="44136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icrosoft Sans Serif"/>
                <a:ea typeface="宋体"/>
              </a:rPr>
              <a:t>Company name</a:t>
            </a:r>
            <a:endParaRPr b="0" i="1" lang="en-US" sz="2800" spc="-1" strike="noStrike">
              <a:solidFill>
                <a:srgbClr val="ffffff"/>
              </a:solidFill>
              <a:latin typeface="Microsoft Sans Serif"/>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79" name="PlaceHolder 2"/>
          <p:cNvSpPr>
            <a:spLocks noGrp="1"/>
          </p:cNvSpPr>
          <p:nvPr>
            <p:ph/>
          </p:nvPr>
        </p:nvSpPr>
        <p:spPr>
          <a:xfrm>
            <a:off x="998640" y="2514240"/>
            <a:ext cx="73152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81"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13:01:43Z</dcterms:created>
  <dc:creator>pc</dc:creator>
  <dc:description/>
  <dc:language>en-US</dc:language>
  <cp:lastModifiedBy>pc</cp:lastModifiedBy>
  <cp:lastPrinted>1899-12-30T00:00:00Z</cp:lastPrinted>
  <dcterms:modified xsi:type="dcterms:W3CDTF">2012-03-09T13:05:31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