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690-884A-49FD-9554-60C26556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73C-B9CB-4B86-8F14-370BC12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64B-0111-40E8-967C-3B51CC3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77F-7C70-4CF7-B6CC-F31A12A6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601-C939-4732-AC96-6823A442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0DA-190B-4BF5-938D-E7543B1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7A8-AD10-4FFB-A923-067CE60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93D-1346-47C4-A42D-8BC55FD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812-4612-4EC8-8F98-F1F5E7C9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072-4810-4AFB-A0D7-8614E14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ABC-B178-41F9-B75D-C6DE9D3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CD0-8086-4F6D-B762-D394862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3542-7C2B-48DB-9C80-DC781A275F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479240" y="1714680"/>
            <a:ext cx="13068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2262240" y="178596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7"/>
          <p:cNvGrpSpPr/>
          <p:nvPr/>
        </p:nvGrpSpPr>
        <p:grpSpPr>
          <a:xfrm>
            <a:off x="1500120" y="1370160"/>
            <a:ext cx="6551640" cy="4273560"/>
            <a:chOff x="1500120" y="1370160"/>
            <a:chExt cx="6551640" cy="4273560"/>
          </a:xfrm>
        </p:grpSpPr>
        <p:pic>
          <p:nvPicPr>
            <p:cNvPr id="237" name="组合 10" descr=""/>
            <p:cNvPicPr/>
            <p:nvPr/>
          </p:nvPicPr>
          <p:blipFill>
            <a:blip r:embed="rId1"/>
            <a:stretch/>
          </p:blipFill>
          <p:spPr>
            <a:xfrm>
              <a:off x="1500120" y="1370160"/>
              <a:ext cx="3094920" cy="18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组合 14" descr=""/>
            <p:cNvPicPr/>
            <p:nvPr/>
          </p:nvPicPr>
          <p:blipFill>
            <a:blip r:embed="rId2"/>
            <a:stretch/>
          </p:blipFill>
          <p:spPr>
            <a:xfrm>
              <a:off x="4830120" y="1424160"/>
              <a:ext cx="315504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组合 18" descr=""/>
            <p:cNvPicPr/>
            <p:nvPr/>
          </p:nvPicPr>
          <p:blipFill>
            <a:blip r:embed="rId3"/>
            <a:stretch/>
          </p:blipFill>
          <p:spPr>
            <a:xfrm>
              <a:off x="1536120" y="3723120"/>
              <a:ext cx="3058560" cy="185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组合 22" descr=""/>
            <p:cNvPicPr/>
            <p:nvPr/>
          </p:nvPicPr>
          <p:blipFill>
            <a:blip r:embed="rId4"/>
            <a:stretch/>
          </p:blipFill>
          <p:spPr>
            <a:xfrm>
              <a:off x="4830120" y="3723120"/>
              <a:ext cx="322164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橢圓 19"/>
            <p:cNvSpPr/>
            <p:nvPr/>
          </p:nvSpPr>
          <p:spPr>
            <a:xfrm>
              <a:off x="3896640" y="2686680"/>
              <a:ext cx="1553760" cy="1545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23"/>
          <p:cNvSpPr/>
          <p:nvPr/>
        </p:nvSpPr>
        <p:spPr>
          <a:xfrm>
            <a:off x="3327480" y="1819440"/>
            <a:ext cx="3778200" cy="369720"/>
          </a:xfrm>
          <a:prstGeom prst="roundRect">
            <a:avLst>
              <a:gd name="adj" fmla="val 24407"/>
            </a:avLst>
          </a:prstGeom>
          <a:solidFill>
            <a:srgbClr val="87ad41"/>
          </a:solidFill>
          <a:ln w="19080">
            <a:solidFill>
              <a:srgbClr val="4c8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2857680" y="1697040"/>
            <a:ext cx="620640" cy="614520"/>
            <a:chOff x="2857680" y="1697040"/>
            <a:chExt cx="620640" cy="614520"/>
          </a:xfrm>
        </p:grpSpPr>
        <p:pic>
          <p:nvPicPr>
            <p:cNvPr id="46" name="图片 1" descr=""/>
            <p:cNvPicPr/>
            <p:nvPr/>
          </p:nvPicPr>
          <p:blipFill>
            <a:blip r:embed="rId2"/>
            <a:stretch/>
          </p:blipFill>
          <p:spPr>
            <a:xfrm>
              <a:off x="2857680" y="1697040"/>
              <a:ext cx="620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2"/>
            <p:cNvSpPr/>
            <p:nvPr/>
          </p:nvSpPr>
          <p:spPr>
            <a:xfrm>
              <a:off x="3012120" y="1819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7"/>
          <p:cNvSpPr/>
          <p:nvPr/>
        </p:nvSpPr>
        <p:spPr>
          <a:xfrm>
            <a:off x="3344760" y="2535120"/>
            <a:ext cx="3778200" cy="370080"/>
          </a:xfrm>
          <a:prstGeom prst="roundRect">
            <a:avLst>
              <a:gd name="adj" fmla="val 24407"/>
            </a:avLst>
          </a:prstGeom>
          <a:solidFill>
            <a:srgbClr val="87ad41"/>
          </a:solidFill>
          <a:ln w="19080">
            <a:solidFill>
              <a:srgbClr val="4c8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3"/>
          <p:cNvGrpSpPr/>
          <p:nvPr/>
        </p:nvGrpSpPr>
        <p:grpSpPr>
          <a:xfrm>
            <a:off x="2874960" y="2413080"/>
            <a:ext cx="620640" cy="614160"/>
            <a:chOff x="2874960" y="2413080"/>
            <a:chExt cx="620640" cy="614160"/>
          </a:xfrm>
        </p:grpSpPr>
        <p:pic>
          <p:nvPicPr>
            <p:cNvPr id="50" name="图片 1" descr=""/>
            <p:cNvPicPr/>
            <p:nvPr/>
          </p:nvPicPr>
          <p:blipFill>
            <a:blip r:embed="rId3"/>
            <a:stretch/>
          </p:blipFill>
          <p:spPr>
            <a:xfrm>
              <a:off x="2874960" y="2413080"/>
              <a:ext cx="62064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2"/>
            <p:cNvSpPr/>
            <p:nvPr/>
          </p:nvSpPr>
          <p:spPr>
            <a:xfrm>
              <a:off x="3029400" y="2535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圆角矩形 31"/>
          <p:cNvSpPr/>
          <p:nvPr/>
        </p:nvSpPr>
        <p:spPr>
          <a:xfrm>
            <a:off x="3344760" y="3292560"/>
            <a:ext cx="3778200" cy="369720"/>
          </a:xfrm>
          <a:prstGeom prst="roundRect">
            <a:avLst>
              <a:gd name="adj" fmla="val 24407"/>
            </a:avLst>
          </a:prstGeom>
          <a:solidFill>
            <a:srgbClr val="87ad41"/>
          </a:solidFill>
          <a:ln w="19080">
            <a:solidFill>
              <a:srgbClr val="4c8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3"/>
          <p:cNvGrpSpPr/>
          <p:nvPr/>
        </p:nvGrpSpPr>
        <p:grpSpPr>
          <a:xfrm>
            <a:off x="2874960" y="3170160"/>
            <a:ext cx="620640" cy="614520"/>
            <a:chOff x="2874960" y="3170160"/>
            <a:chExt cx="620640" cy="614520"/>
          </a:xfrm>
        </p:grpSpPr>
        <p:pic>
          <p:nvPicPr>
            <p:cNvPr id="54" name="图片 1" descr=""/>
            <p:cNvPicPr/>
            <p:nvPr/>
          </p:nvPicPr>
          <p:blipFill>
            <a:blip r:embed="rId4"/>
            <a:stretch/>
          </p:blipFill>
          <p:spPr>
            <a:xfrm>
              <a:off x="2874960" y="3170160"/>
              <a:ext cx="620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2"/>
            <p:cNvSpPr/>
            <p:nvPr/>
          </p:nvSpPr>
          <p:spPr>
            <a:xfrm>
              <a:off x="3029400" y="3292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35"/>
          <p:cNvSpPr/>
          <p:nvPr/>
        </p:nvSpPr>
        <p:spPr>
          <a:xfrm>
            <a:off x="3362400" y="4008600"/>
            <a:ext cx="3778200" cy="369720"/>
          </a:xfrm>
          <a:prstGeom prst="roundRect">
            <a:avLst>
              <a:gd name="adj" fmla="val 24407"/>
            </a:avLst>
          </a:prstGeom>
          <a:solidFill>
            <a:srgbClr val="87ad41"/>
          </a:solidFill>
          <a:ln w="19080">
            <a:solidFill>
              <a:srgbClr val="4c8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"/>
          <p:cNvGrpSpPr/>
          <p:nvPr/>
        </p:nvGrpSpPr>
        <p:grpSpPr>
          <a:xfrm>
            <a:off x="2892600" y="3886200"/>
            <a:ext cx="620640" cy="614520"/>
            <a:chOff x="2892600" y="3886200"/>
            <a:chExt cx="620640" cy="614520"/>
          </a:xfrm>
        </p:grpSpPr>
        <p:pic>
          <p:nvPicPr>
            <p:cNvPr id="58" name="图片 1" descr=""/>
            <p:cNvPicPr/>
            <p:nvPr/>
          </p:nvPicPr>
          <p:blipFill>
            <a:blip r:embed="rId5"/>
            <a:stretch/>
          </p:blipFill>
          <p:spPr>
            <a:xfrm>
              <a:off x="2892600" y="3886200"/>
              <a:ext cx="620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2"/>
            <p:cNvSpPr/>
            <p:nvPr/>
          </p:nvSpPr>
          <p:spPr>
            <a:xfrm>
              <a:off x="3047040" y="4008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00040" y="50004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4494600" y="252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494600" y="1812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567680" y="40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567680" y="3300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"/>
          <p:cNvSpPr/>
          <p:nvPr/>
        </p:nvSpPr>
        <p:spPr>
          <a:xfrm rot="10800000">
            <a:off x="6985080" y="3454560"/>
            <a:ext cx="922320" cy="75384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65"/>
          <p:cNvSpPr/>
          <p:nvPr/>
        </p:nvSpPr>
        <p:spPr>
          <a:xfrm rot="10800000">
            <a:off x="4174920" y="3611520"/>
            <a:ext cx="2757240" cy="471600"/>
          </a:xfrm>
          <a:custGeom>
            <a:avLst/>
            <a:gdLst/>
            <a:ahLst/>
            <a:rect l="l" t="t" r="r" b="b"/>
            <a:pathLst>
              <a:path w="2880223" h="492200">
                <a:moveTo>
                  <a:pt x="2880223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3" y="0"/>
                </a:ln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"/>
          <p:cNvSpPr/>
          <p:nvPr/>
        </p:nvSpPr>
        <p:spPr>
          <a:xfrm>
            <a:off x="1373040" y="1806480"/>
            <a:ext cx="924120" cy="75240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15"/>
          <p:cNvSpPr/>
          <p:nvPr/>
        </p:nvSpPr>
        <p:spPr>
          <a:xfrm>
            <a:off x="2362320" y="1940040"/>
            <a:ext cx="3530520" cy="471240"/>
          </a:xfrm>
          <a:custGeom>
            <a:avLst/>
            <a:gdLst/>
            <a:ahLst/>
            <a:rect l="l" t="t" r="r" b="b"/>
            <a:pathLst>
              <a:path w="3688747" h="492200">
                <a:moveTo>
                  <a:pt x="246100" y="0"/>
                </a:moveTo>
                <a:lnTo>
                  <a:pt x="1568164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56816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"/>
          <p:cNvSpPr/>
          <p:nvPr/>
        </p:nvSpPr>
        <p:spPr>
          <a:xfrm>
            <a:off x="1373040" y="2924280"/>
            <a:ext cx="924120" cy="75384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9"/>
          <p:cNvSpPr/>
          <p:nvPr/>
        </p:nvSpPr>
        <p:spPr>
          <a:xfrm>
            <a:off x="2352600" y="3054240"/>
            <a:ext cx="3530520" cy="471600"/>
          </a:xfrm>
          <a:custGeom>
            <a:avLst/>
            <a:gdLst/>
            <a:ahLst/>
            <a:rect l="l" t="t" r="r" b="b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"/>
          <p:cNvSpPr/>
          <p:nvPr/>
        </p:nvSpPr>
        <p:spPr>
          <a:xfrm>
            <a:off x="1373040" y="4041720"/>
            <a:ext cx="924120" cy="75420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38"/>
          <p:cNvSpPr/>
          <p:nvPr/>
        </p:nvSpPr>
        <p:spPr>
          <a:xfrm>
            <a:off x="2340000" y="4168800"/>
            <a:ext cx="3530520" cy="471600"/>
          </a:xfrm>
          <a:custGeom>
            <a:avLst/>
            <a:gdLst/>
            <a:ahLst/>
            <a:rect l="l" t="t" r="r" b="b"/>
            <a:pathLst>
              <a:path w="3688747" h="492200">
                <a:moveTo>
                  <a:pt x="246100" y="0"/>
                </a:moveTo>
                <a:lnTo>
                  <a:pt x="1047422" y="0"/>
                </a:lnTo>
                <a:lnTo>
                  <a:pt x="1621044" y="0"/>
                </a:lnTo>
                <a:lnTo>
                  <a:pt x="3688747" y="0"/>
                </a:lnTo>
                <a:lnTo>
                  <a:pt x="3688747" y="492200"/>
                </a:lnTo>
                <a:lnTo>
                  <a:pt x="1621044" y="492200"/>
                </a:lnTo>
                <a:lnTo>
                  <a:pt x="1047422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"/>
          <p:cNvSpPr/>
          <p:nvPr/>
        </p:nvSpPr>
        <p:spPr>
          <a:xfrm rot="10800000">
            <a:off x="6985080" y="2340000"/>
            <a:ext cx="922320" cy="75240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6"/>
          <p:cNvSpPr/>
          <p:nvPr/>
        </p:nvSpPr>
        <p:spPr>
          <a:xfrm rot="10800000">
            <a:off x="4174920" y="2496960"/>
            <a:ext cx="2757240" cy="471600"/>
          </a:xfrm>
          <a:custGeom>
            <a:avLst/>
            <a:gdLst/>
            <a:ahLst/>
            <a:rect l="l" t="t" r="r" b="b"/>
            <a:pathLst>
              <a:path w="2880222" h="492200">
                <a:moveTo>
                  <a:pt x="2880222" y="492200"/>
                </a:moveTo>
                <a:lnTo>
                  <a:pt x="1621044" y="492200"/>
                </a:lnTo>
                <a:lnTo>
                  <a:pt x="1047424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4" y="0"/>
                </a:lnTo>
                <a:lnTo>
                  <a:pt x="1621044" y="0"/>
                </a:lnTo>
                <a:lnTo>
                  <a:pt x="2880222" y="0"/>
                </a:ln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"/>
          <p:cNvSpPr/>
          <p:nvPr/>
        </p:nvSpPr>
        <p:spPr>
          <a:xfrm rot="10800000">
            <a:off x="6985080" y="4570560"/>
            <a:ext cx="922320" cy="752400"/>
          </a:xfrm>
          <a:custGeom>
            <a:avLst/>
            <a:gdLst/>
            <a:ahLst/>
            <a:rect l="l" t="t" r="r" b="b"/>
            <a:pathLst>
              <a:path w="1281095" h="1045028">
                <a:moveTo>
                  <a:pt x="522514" y="0"/>
                </a:moveTo>
                <a:cubicBezTo>
                  <a:pt x="778529" y="0"/>
                  <a:pt x="991539" y="184122"/>
                  <a:pt x="1035434" y="427341"/>
                </a:cubicBezTo>
                <a:lnTo>
                  <a:pt x="1281095" y="530977"/>
                </a:lnTo>
                <a:lnTo>
                  <a:pt x="1036611" y="606006"/>
                </a:lnTo>
                <a:cubicBezTo>
                  <a:pt x="998262" y="855039"/>
                  <a:pt x="782576" y="1045028"/>
                  <a:pt x="522514" y="1045028"/>
                </a:cubicBezTo>
                <a:cubicBezTo>
                  <a:pt x="233937" y="1045028"/>
                  <a:pt x="0" y="811091"/>
                  <a:pt x="0" y="522514"/>
                </a:cubicBezTo>
                <a:cubicBezTo>
                  <a:pt x="0" y="233937"/>
                  <a:pt x="233937" y="0"/>
                  <a:pt x="522514" y="0"/>
                </a:cubicBezTo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74"/>
          <p:cNvSpPr/>
          <p:nvPr/>
        </p:nvSpPr>
        <p:spPr>
          <a:xfrm rot="10800000">
            <a:off x="4174920" y="4725720"/>
            <a:ext cx="2757240" cy="471240"/>
          </a:xfrm>
          <a:custGeom>
            <a:avLst/>
            <a:gdLst/>
            <a:ahLst/>
            <a:rect l="l" t="t" r="r" b="b"/>
            <a:pathLst>
              <a:path w="2880223" h="492200">
                <a:moveTo>
                  <a:pt x="2880223" y="492200"/>
                </a:moveTo>
                <a:lnTo>
                  <a:pt x="1621043" y="492200"/>
                </a:lnTo>
                <a:lnTo>
                  <a:pt x="1047423" y="492200"/>
                </a:lnTo>
                <a:lnTo>
                  <a:pt x="246100" y="492200"/>
                </a:lnTo>
                <a:cubicBezTo>
                  <a:pt x="110183" y="492200"/>
                  <a:pt x="0" y="382017"/>
                  <a:pt x="0" y="246100"/>
                </a:cubicBezTo>
                <a:cubicBezTo>
                  <a:pt x="0" y="110183"/>
                  <a:pt x="110183" y="0"/>
                  <a:pt x="246100" y="0"/>
                </a:cubicBezTo>
                <a:lnTo>
                  <a:pt x="1047423" y="0"/>
                </a:lnTo>
                <a:lnTo>
                  <a:pt x="1621043" y="0"/>
                </a:lnTo>
                <a:lnTo>
                  <a:pt x="2880223" y="0"/>
                </a:lnTo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空心弧 29"/>
          <p:cNvSpPr/>
          <p:nvPr/>
        </p:nvSpPr>
        <p:spPr>
          <a:xfrm rot="16200000">
            <a:off x="1265400" y="1708200"/>
            <a:ext cx="947520" cy="947520"/>
          </a:xfrm>
          <a:custGeom>
            <a:avLst/>
            <a:gdLst>
              <a:gd name="textAreaLeft" fmla="*/ 0 w 947520"/>
              <a:gd name="textAreaRight" fmla="*/ 947520 w 947520"/>
              <a:gd name="textAreaTop" fmla="*/ 0 h 947520"/>
              <a:gd name="textAreaBottom" fmla="*/ 473760 h 947520"/>
            </a:gdLst>
            <a:ahLst/>
            <a:rect l="textAreaLeft" t="textAreaTop" r="textAreaRight" b="textAreaBottom"/>
            <a:pathLst>
              <a:path w="947738" h="947737">
                <a:moveTo>
                  <a:pt x="0" y="473868"/>
                </a:moveTo>
                <a:lnTo>
                  <a:pt x="0" y="473868"/>
                </a:lnTo>
                <a:arcTo wR="473869" hR="473869" stAng="-10799993" swAng="10738782"/>
                <a:lnTo>
                  <a:pt x="903780" y="466213"/>
                </a:lnTo>
                <a:lnTo>
                  <a:pt x="903780" y="466213"/>
                </a:lnTo>
                <a:arcTo wR="429979" hR="429979" stAng="-61206" swAng="-10738794"/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空心弧 30"/>
          <p:cNvSpPr/>
          <p:nvPr/>
        </p:nvSpPr>
        <p:spPr>
          <a:xfrm rot="16200000">
            <a:off x="1265040" y="2825280"/>
            <a:ext cx="947880" cy="947520"/>
          </a:xfrm>
          <a:custGeom>
            <a:avLst/>
            <a:gdLst>
              <a:gd name="textAreaLeft" fmla="*/ 0 w 947880"/>
              <a:gd name="textAreaRight" fmla="*/ 947880 w 947880"/>
              <a:gd name="textAreaTop" fmla="*/ 0 h 947520"/>
              <a:gd name="textAreaBottom" fmla="*/ 473760 h 947520"/>
            </a:gdLst>
            <a:ahLst/>
            <a:rect l="textAreaLeft" t="textAreaTop" r="textAreaRight" b="textAreaBottom"/>
            <a:pathLst>
              <a:path w="947738" h="947737">
                <a:moveTo>
                  <a:pt x="0" y="473868"/>
                </a:moveTo>
                <a:lnTo>
                  <a:pt x="0" y="473868"/>
                </a:lnTo>
                <a:arcTo wR="473869" hR="473869" stAng="-10799993" swAng="10738782"/>
                <a:lnTo>
                  <a:pt x="903780" y="466213"/>
                </a:lnTo>
                <a:lnTo>
                  <a:pt x="903780" y="466213"/>
                </a:lnTo>
                <a:arcTo wR="429979" hR="429979" stAng="-61206" swAng="-10738794"/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空心弧 31"/>
          <p:cNvSpPr/>
          <p:nvPr/>
        </p:nvSpPr>
        <p:spPr>
          <a:xfrm rot="16200000">
            <a:off x="1265040" y="3947760"/>
            <a:ext cx="947880" cy="947520"/>
          </a:xfrm>
          <a:custGeom>
            <a:avLst/>
            <a:gdLst>
              <a:gd name="textAreaLeft" fmla="*/ 0 w 947880"/>
              <a:gd name="textAreaRight" fmla="*/ 947880 w 947880"/>
              <a:gd name="textAreaTop" fmla="*/ 0 h 947520"/>
              <a:gd name="textAreaBottom" fmla="*/ 473760 h 947520"/>
            </a:gdLst>
            <a:ahLst/>
            <a:rect l="textAreaLeft" t="textAreaTop" r="textAreaRight" b="textAreaBottom"/>
            <a:pathLst>
              <a:path w="947737" h="947737">
                <a:moveTo>
                  <a:pt x="0" y="473868"/>
                </a:moveTo>
                <a:lnTo>
                  <a:pt x="0" y="473868"/>
                </a:lnTo>
                <a:arcTo wR="473869" hR="473869" stAng="-10799993" swAng="10738782"/>
                <a:lnTo>
                  <a:pt x="903779" y="466213"/>
                </a:lnTo>
                <a:lnTo>
                  <a:pt x="903779" y="466213"/>
                </a:lnTo>
                <a:arcTo wR="429979" hR="429979" stAng="-61206" swAng="-10738794"/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组合 124" descr=""/>
          <p:cNvPicPr/>
          <p:nvPr/>
        </p:nvPicPr>
        <p:blipFill>
          <a:blip r:embed="rId1"/>
          <a:stretch/>
        </p:blipFill>
        <p:spPr>
          <a:xfrm>
            <a:off x="7540560" y="2249640"/>
            <a:ext cx="487440" cy="3181320"/>
          </a:xfrm>
          <a:prstGeom prst="rect">
            <a:avLst/>
          </a:prstGeom>
          <a:ln w="0">
            <a:noFill/>
          </a:ln>
        </p:spPr>
      </p:pic>
      <p:sp>
        <p:nvSpPr>
          <p:cNvPr id="90" name="椭圆 36"/>
          <p:cNvSpPr/>
          <p:nvPr/>
        </p:nvSpPr>
        <p:spPr>
          <a:xfrm>
            <a:off x="2417760" y="206532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7"/>
          <p:cNvSpPr/>
          <p:nvPr/>
        </p:nvSpPr>
        <p:spPr>
          <a:xfrm>
            <a:off x="2487600" y="2116080"/>
            <a:ext cx="41400" cy="7956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8"/>
          <p:cNvSpPr/>
          <p:nvPr/>
        </p:nvSpPr>
        <p:spPr>
          <a:xfrm>
            <a:off x="2417760" y="319572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39"/>
          <p:cNvSpPr/>
          <p:nvPr/>
        </p:nvSpPr>
        <p:spPr>
          <a:xfrm>
            <a:off x="2487600" y="3246480"/>
            <a:ext cx="41400" cy="7920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40"/>
          <p:cNvSpPr/>
          <p:nvPr/>
        </p:nvSpPr>
        <p:spPr>
          <a:xfrm>
            <a:off x="2417760" y="431316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41"/>
          <p:cNvSpPr/>
          <p:nvPr/>
        </p:nvSpPr>
        <p:spPr>
          <a:xfrm>
            <a:off x="2487600" y="4363920"/>
            <a:ext cx="41400" cy="7956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2"/>
          <p:cNvSpPr/>
          <p:nvPr/>
        </p:nvSpPr>
        <p:spPr>
          <a:xfrm rot="10800000">
            <a:off x="6648480" y="4865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43"/>
          <p:cNvSpPr/>
          <p:nvPr/>
        </p:nvSpPr>
        <p:spPr>
          <a:xfrm rot="10800000">
            <a:off x="6716520" y="4916520"/>
            <a:ext cx="42840" cy="7920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44"/>
          <p:cNvSpPr/>
          <p:nvPr/>
        </p:nvSpPr>
        <p:spPr>
          <a:xfrm rot="10800000">
            <a:off x="6648480" y="37350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45"/>
          <p:cNvSpPr/>
          <p:nvPr/>
        </p:nvSpPr>
        <p:spPr>
          <a:xfrm rot="10800000">
            <a:off x="6716520" y="3785760"/>
            <a:ext cx="42840" cy="7956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6"/>
          <p:cNvSpPr/>
          <p:nvPr/>
        </p:nvSpPr>
        <p:spPr>
          <a:xfrm rot="10800000">
            <a:off x="6648480" y="2617920"/>
            <a:ext cx="1792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47"/>
          <p:cNvSpPr/>
          <p:nvPr/>
        </p:nvSpPr>
        <p:spPr>
          <a:xfrm rot="10800000">
            <a:off x="6716520" y="2668680"/>
            <a:ext cx="42840" cy="79200"/>
          </a:xfrm>
          <a:custGeom>
            <a:avLst/>
            <a:gdLst/>
            <a:ahLst/>
            <a:rect l="l" t="t" r="r" b="b"/>
            <a:pathLst>
              <a:path w="857250" h="1571625">
                <a:moveTo>
                  <a:pt x="66675" y="0"/>
                </a:moveTo>
                <a:lnTo>
                  <a:pt x="857250" y="790575"/>
                </a:lnTo>
                <a:lnTo>
                  <a:pt x="0" y="1571625"/>
                </a:lnTo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381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4712040" y="3695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3211920" y="4208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997880" y="478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3354840" y="3065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78368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354840" y="1994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空心弧 2"/>
          <p:cNvSpPr/>
          <p:nvPr/>
        </p:nvSpPr>
        <p:spPr>
          <a:xfrm flipH="1" flipV="1" rot="5400000">
            <a:off x="4822920" y="1528560"/>
            <a:ext cx="4003920" cy="3645000"/>
          </a:xfrm>
          <a:custGeom>
            <a:avLst/>
            <a:gdLst>
              <a:gd name="textAreaLeft" fmla="*/ 574200 w 4003920"/>
              <a:gd name="textAreaRight" fmla="*/ 3449880 w 4003920"/>
              <a:gd name="textAreaTop" fmla="*/ -360 h 3645000"/>
              <a:gd name="textAreaBottom" fmla="*/ 1143720 h 3645000"/>
            </a:gdLst>
            <a:ahLst/>
            <a:rect l="textAreaLeft" t="textAreaTop" r="textAreaRight" b="textAreaBottom"/>
            <a:pathLst>
              <a:path w="4003675" h="3644900">
                <a:moveTo>
                  <a:pt x="574152" y="544962"/>
                </a:moveTo>
                <a:lnTo>
                  <a:pt x="574152" y="544962"/>
                </a:lnTo>
                <a:arcTo wR="2001838" hR="1822450" stAng="-8290675" swAng="5830811"/>
                <a:lnTo>
                  <a:pt x="2782312" y="1144048"/>
                </a:lnTo>
                <a:lnTo>
                  <a:pt x="2782312" y="1144048"/>
                </a:lnTo>
                <a:arcTo wR="1122943" hR="943555" stAng="-2459865" swAng="-5830811"/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15"/>
          <p:cNvSpPr/>
          <p:nvPr/>
        </p:nvSpPr>
        <p:spPr>
          <a:xfrm flipV="1" rot="16200000">
            <a:off x="749160" y="1513800"/>
            <a:ext cx="4003560" cy="3644640"/>
          </a:xfrm>
          <a:custGeom>
            <a:avLst/>
            <a:gdLst>
              <a:gd name="textAreaLeft" fmla="*/ 556560 w 4003560"/>
              <a:gd name="textAreaRight" fmla="*/ 3449880 w 4003560"/>
              <a:gd name="textAreaTop" fmla="*/ 360 h 3644640"/>
              <a:gd name="textAreaBottom" fmla="*/ 1144080 h 3644640"/>
            </a:gdLst>
            <a:ahLst/>
            <a:rect l="textAreaLeft" t="textAreaTop" r="textAreaRight" b="textAreaBottom"/>
            <a:pathLst>
              <a:path w="4003675" h="3644900">
                <a:moveTo>
                  <a:pt x="556645" y="561382"/>
                </a:moveTo>
                <a:lnTo>
                  <a:pt x="556645" y="561382"/>
                </a:lnTo>
                <a:arcTo wR="2001838" hR="1822450" stAng="-8333533" swAng="5873669"/>
                <a:lnTo>
                  <a:pt x="2782312" y="1144048"/>
                </a:lnTo>
                <a:lnTo>
                  <a:pt x="2782312" y="1144048"/>
                </a:lnTo>
                <a:arcTo wR="1122943" hR="943555" stAng="-2459865" swAng="-5873665"/>
                <a:close/>
              </a:path>
            </a:pathLst>
          </a:custGeom>
          <a:solidFill>
            <a:srgbClr val="4c830a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空心弧 16"/>
          <p:cNvSpPr/>
          <p:nvPr/>
        </p:nvSpPr>
        <p:spPr>
          <a:xfrm flipH="1" flipV="1">
            <a:off x="2800800" y="-597960"/>
            <a:ext cx="4003560" cy="3644640"/>
          </a:xfrm>
          <a:custGeom>
            <a:avLst/>
            <a:gdLst>
              <a:gd name="textAreaLeft" fmla="*/ 560880 w 4003560"/>
              <a:gd name="textAreaRight" fmla="*/ 3449520 w 4003560"/>
              <a:gd name="textAreaTop" fmla="*/ 0 h 3644640"/>
              <a:gd name="textAreaBottom" fmla="*/ 1144080 h 3644640"/>
            </a:gdLst>
            <a:ahLst/>
            <a:rect l="textAreaLeft" t="textAreaTop" r="textAreaRight" b="textAreaBottom"/>
            <a:pathLst>
              <a:path w="4003675" h="3644901">
                <a:moveTo>
                  <a:pt x="561222" y="557049"/>
                </a:moveTo>
                <a:lnTo>
                  <a:pt x="561222" y="557049"/>
                </a:lnTo>
                <a:arcTo wR="2001838" hR="1822451" stAng="-8322284" swAng="5862420"/>
                <a:lnTo>
                  <a:pt x="2782312" y="1144049"/>
                </a:lnTo>
                <a:lnTo>
                  <a:pt x="2782312" y="1144049"/>
                </a:lnTo>
                <a:arcTo wR="1122943" hR="943556" stAng="-2459863" swAng="-5862419"/>
                <a:close/>
              </a:path>
            </a:pathLst>
          </a:custGeom>
          <a:solidFill>
            <a:srgbClr val="87ad4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17"/>
          <p:cNvSpPr/>
          <p:nvPr/>
        </p:nvSpPr>
        <p:spPr>
          <a:xfrm>
            <a:off x="2774880" y="3641760"/>
            <a:ext cx="4005360" cy="3645000"/>
          </a:xfrm>
          <a:custGeom>
            <a:avLst/>
            <a:gdLst>
              <a:gd name="textAreaLeft" fmla="*/ 561600 w 4005360"/>
              <a:gd name="textAreaRight" fmla="*/ 3450960 w 4005360"/>
              <a:gd name="textAreaTop" fmla="*/ 0 h 3645000"/>
              <a:gd name="textAreaBottom" fmla="*/ 1143720 h 3645000"/>
            </a:gdLst>
            <a:ahLst/>
            <a:rect l="textAreaLeft" t="textAreaTop" r="textAreaRight" b="textAreaBottom"/>
            <a:pathLst>
              <a:path w="4005263" h="3644900">
                <a:moveTo>
                  <a:pt x="561720" y="556789"/>
                </a:moveTo>
                <a:lnTo>
                  <a:pt x="561720" y="556789"/>
                </a:lnTo>
                <a:arcTo wR="2002632" hR="1822450" stAng="-8322284" swAng="5862420"/>
                <a:lnTo>
                  <a:pt x="2783372" y="1143817"/>
                </a:lnTo>
                <a:lnTo>
                  <a:pt x="2783372" y="1143817"/>
                </a:lnTo>
                <a:arcTo wR="1123737" hR="943555" stAng="-2459863" swAng="-5862423"/>
                <a:close/>
              </a:path>
            </a:pathLst>
          </a:custGeom>
          <a:solidFill>
            <a:srgbClr val="87ad4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8"/>
          <p:cNvSpPr/>
          <p:nvPr/>
        </p:nvSpPr>
        <p:spPr>
          <a:xfrm rot="19142400">
            <a:off x="2602080" y="2023560"/>
            <a:ext cx="19684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5"/>
          <p:cNvGrpSpPr/>
          <p:nvPr/>
        </p:nvGrpSpPr>
        <p:grpSpPr>
          <a:xfrm>
            <a:off x="5092200" y="1570320"/>
            <a:ext cx="1419120" cy="1280520"/>
            <a:chOff x="5092200" y="1570320"/>
            <a:chExt cx="1419120" cy="128052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861080" y="219528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矩形 17"/>
            <p:cNvGrpSpPr/>
            <p:nvPr/>
          </p:nvGrpSpPr>
          <p:grpSpPr>
            <a:xfrm>
              <a:off x="5374440" y="1814040"/>
              <a:ext cx="900360" cy="789840"/>
              <a:chOff x="5374440" y="1814040"/>
              <a:chExt cx="900360" cy="789840"/>
            </a:xfrm>
          </p:grpSpPr>
          <p:pic>
            <p:nvPicPr>
              <p:cNvPr id="116" name="矩形 17" descr=""/>
              <p:cNvPicPr/>
              <p:nvPr/>
            </p:nvPicPr>
            <p:blipFill>
              <a:blip r:embed="rId2"/>
              <a:stretch/>
            </p:blipFill>
            <p:spPr>
              <a:xfrm rot="21598800">
                <a:off x="5374440" y="2115720"/>
                <a:ext cx="900360" cy="1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3317600">
                <a:off x="5235840" y="2206800"/>
                <a:ext cx="1176840" cy="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18"/>
          <p:cNvGrpSpPr/>
          <p:nvPr/>
        </p:nvGrpSpPr>
        <p:grpSpPr>
          <a:xfrm>
            <a:off x="3090960" y="1553040"/>
            <a:ext cx="1419120" cy="1280520"/>
            <a:chOff x="3090960" y="1553040"/>
            <a:chExt cx="1419120" cy="1280520"/>
          </a:xfrm>
        </p:grpSpPr>
        <p:pic>
          <p:nvPicPr>
            <p:cNvPr id="119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59840" y="21780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矩形 34"/>
            <p:cNvGrpSpPr/>
            <p:nvPr/>
          </p:nvGrpSpPr>
          <p:grpSpPr>
            <a:xfrm>
              <a:off x="3334320" y="1797840"/>
              <a:ext cx="891000" cy="785520"/>
              <a:chOff x="3334320" y="1797840"/>
              <a:chExt cx="891000" cy="785520"/>
            </a:xfrm>
          </p:grpSpPr>
          <p:pic>
            <p:nvPicPr>
              <p:cNvPr id="121" name="矩形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3334320" y="2097720"/>
                <a:ext cx="891000" cy="18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 rot="8281200">
                <a:off x="3193560" y="218844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21"/>
          <p:cNvGrpSpPr/>
          <p:nvPr/>
        </p:nvGrpSpPr>
        <p:grpSpPr>
          <a:xfrm>
            <a:off x="5119200" y="3805200"/>
            <a:ext cx="1419120" cy="1280520"/>
            <a:chOff x="5119200" y="3805200"/>
            <a:chExt cx="1419120" cy="1280520"/>
          </a:xfrm>
        </p:grpSpPr>
        <p:pic>
          <p:nvPicPr>
            <p:cNvPr id="124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887720" y="443016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矩形 32"/>
            <p:cNvGrpSpPr/>
            <p:nvPr/>
          </p:nvGrpSpPr>
          <p:grpSpPr>
            <a:xfrm>
              <a:off x="5406480" y="4053960"/>
              <a:ext cx="891000" cy="785520"/>
              <a:chOff x="5406480" y="4053960"/>
              <a:chExt cx="891000" cy="785520"/>
            </a:xfrm>
          </p:grpSpPr>
          <p:pic>
            <p:nvPicPr>
              <p:cNvPr id="126" name="矩形 32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406480" y="4352760"/>
                <a:ext cx="89100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rot="19081200">
                <a:off x="5266440" y="444492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组合 24"/>
          <p:cNvGrpSpPr/>
          <p:nvPr/>
        </p:nvGrpSpPr>
        <p:grpSpPr>
          <a:xfrm>
            <a:off x="3024360" y="3781440"/>
            <a:ext cx="1419120" cy="1280520"/>
            <a:chOff x="3024360" y="3781440"/>
            <a:chExt cx="1419120" cy="1280520"/>
          </a:xfrm>
        </p:grpSpPr>
        <p:pic>
          <p:nvPicPr>
            <p:cNvPr id="129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792880" y="44064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矩形 30"/>
            <p:cNvGrpSpPr/>
            <p:nvPr/>
          </p:nvGrpSpPr>
          <p:grpSpPr>
            <a:xfrm>
              <a:off x="3267000" y="4030560"/>
              <a:ext cx="891000" cy="785520"/>
              <a:chOff x="3267000" y="4030560"/>
              <a:chExt cx="891000" cy="785520"/>
            </a:xfrm>
          </p:grpSpPr>
          <p:pic>
            <p:nvPicPr>
              <p:cNvPr id="131" name="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3267000" y="4329720"/>
                <a:ext cx="89100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2518200">
                <a:off x="3126240" y="4421160"/>
                <a:ext cx="1170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6140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2211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2283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5"/>
          <p:cNvGrpSpPr/>
          <p:nvPr/>
        </p:nvGrpSpPr>
        <p:grpSpPr>
          <a:xfrm>
            <a:off x="404640" y="1857240"/>
            <a:ext cx="2762280" cy="2749680"/>
            <a:chOff x="404640" y="1857240"/>
            <a:chExt cx="2762280" cy="2749680"/>
          </a:xfrm>
        </p:grpSpPr>
        <p:sp>
          <p:nvSpPr>
            <p:cNvPr id="143" name="直角三角形 10"/>
            <p:cNvSpPr/>
            <p:nvPr/>
          </p:nvSpPr>
          <p:spPr>
            <a:xfrm flipH="1">
              <a:off x="40464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1"/>
            <p:cNvSpPr/>
            <p:nvPr/>
          </p:nvSpPr>
          <p:spPr>
            <a:xfrm rot="5400000">
              <a:off x="411120" y="2178720"/>
              <a:ext cx="2749680" cy="2106720"/>
            </a:xfrm>
            <a:prstGeom prst="rect">
              <a:avLst/>
            </a:prstGeom>
            <a:solidFill>
              <a:srgbClr val="87ad4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角三角形 12"/>
            <p:cNvSpPr/>
            <p:nvPr/>
          </p:nvSpPr>
          <p:spPr>
            <a:xfrm flipH="1" flipV="1">
              <a:off x="40464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角三角形 13"/>
            <p:cNvSpPr/>
            <p:nvPr/>
          </p:nvSpPr>
          <p:spPr>
            <a:xfrm>
              <a:off x="284004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角三角形 14"/>
            <p:cNvSpPr/>
            <p:nvPr/>
          </p:nvSpPr>
          <p:spPr>
            <a:xfrm flipV="1">
              <a:off x="284004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6"/>
          <p:cNvGrpSpPr/>
          <p:nvPr/>
        </p:nvGrpSpPr>
        <p:grpSpPr>
          <a:xfrm>
            <a:off x="3166920" y="1857240"/>
            <a:ext cx="2762280" cy="2749680"/>
            <a:chOff x="3166920" y="1857240"/>
            <a:chExt cx="2762280" cy="2749680"/>
          </a:xfrm>
        </p:grpSpPr>
        <p:sp>
          <p:nvSpPr>
            <p:cNvPr id="149" name="直角三角形 17"/>
            <p:cNvSpPr/>
            <p:nvPr/>
          </p:nvSpPr>
          <p:spPr>
            <a:xfrm flipH="1">
              <a:off x="316692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8"/>
            <p:cNvSpPr/>
            <p:nvPr/>
          </p:nvSpPr>
          <p:spPr>
            <a:xfrm rot="5400000">
              <a:off x="3173760" y="2178720"/>
              <a:ext cx="2749680" cy="2106720"/>
            </a:xfrm>
            <a:prstGeom prst="rect">
              <a:avLst/>
            </a:prstGeom>
            <a:solidFill>
              <a:srgbClr val="87ad4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角三角形 19"/>
            <p:cNvSpPr/>
            <p:nvPr/>
          </p:nvSpPr>
          <p:spPr>
            <a:xfrm flipH="1" flipV="1">
              <a:off x="316692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角三角形 20"/>
            <p:cNvSpPr/>
            <p:nvPr/>
          </p:nvSpPr>
          <p:spPr>
            <a:xfrm>
              <a:off x="560232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角三角形 21"/>
            <p:cNvSpPr/>
            <p:nvPr/>
          </p:nvSpPr>
          <p:spPr>
            <a:xfrm flipV="1">
              <a:off x="560232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2"/>
          <p:cNvGrpSpPr/>
          <p:nvPr/>
        </p:nvGrpSpPr>
        <p:grpSpPr>
          <a:xfrm>
            <a:off x="5881680" y="1857240"/>
            <a:ext cx="2762280" cy="2749680"/>
            <a:chOff x="5881680" y="1857240"/>
            <a:chExt cx="2762280" cy="2749680"/>
          </a:xfrm>
        </p:grpSpPr>
        <p:sp>
          <p:nvSpPr>
            <p:cNvPr id="155" name="直角三角形 23"/>
            <p:cNvSpPr/>
            <p:nvPr/>
          </p:nvSpPr>
          <p:spPr>
            <a:xfrm flipH="1">
              <a:off x="588168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4"/>
            <p:cNvSpPr/>
            <p:nvPr/>
          </p:nvSpPr>
          <p:spPr>
            <a:xfrm rot="5400000">
              <a:off x="5888520" y="2178720"/>
              <a:ext cx="2749680" cy="2106720"/>
            </a:xfrm>
            <a:prstGeom prst="rect">
              <a:avLst/>
            </a:prstGeom>
            <a:solidFill>
              <a:srgbClr val="87ad4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角三角形 25"/>
            <p:cNvSpPr/>
            <p:nvPr/>
          </p:nvSpPr>
          <p:spPr>
            <a:xfrm flipH="1" flipV="1">
              <a:off x="588168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角三角形 26"/>
            <p:cNvSpPr/>
            <p:nvPr/>
          </p:nvSpPr>
          <p:spPr>
            <a:xfrm>
              <a:off x="8317080" y="186192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角三角形 27"/>
            <p:cNvSpPr/>
            <p:nvPr/>
          </p:nvSpPr>
          <p:spPr>
            <a:xfrm flipV="1">
              <a:off x="8317080" y="4285800"/>
              <a:ext cx="326880" cy="315720"/>
            </a:xfrm>
            <a:prstGeom prst="rtTriangle">
              <a:avLst/>
            </a:prstGeom>
            <a:solidFill>
              <a:srgbClr val="4c8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组合 31" descr=""/>
          <p:cNvPicPr/>
          <p:nvPr/>
        </p:nvPicPr>
        <p:blipFill>
          <a:blip r:embed="rId1"/>
          <a:stretch/>
        </p:blipFill>
        <p:spPr>
          <a:xfrm>
            <a:off x="974880" y="3816360"/>
            <a:ext cx="2506680" cy="21207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3897720" y="23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3969360" y="403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组合 31" descr=""/>
          <p:cNvPicPr/>
          <p:nvPr/>
        </p:nvPicPr>
        <p:blipFill>
          <a:blip r:embed="rId2"/>
          <a:stretch/>
        </p:blipFill>
        <p:spPr>
          <a:xfrm>
            <a:off x="1006560" y="1414440"/>
            <a:ext cx="2498760" cy="212076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57"/>
          <p:cNvSpPr/>
          <p:nvPr/>
        </p:nvSpPr>
        <p:spPr>
          <a:xfrm>
            <a:off x="3286080" y="2211480"/>
            <a:ext cx="4929120" cy="0"/>
          </a:xfrm>
          <a:prstGeom prst="line">
            <a:avLst/>
          </a:prstGeom>
          <a:ln w="15840">
            <a:solidFill>
              <a:srgbClr val="4c830a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57"/>
          <p:cNvSpPr/>
          <p:nvPr/>
        </p:nvSpPr>
        <p:spPr>
          <a:xfrm>
            <a:off x="3286080" y="3919680"/>
            <a:ext cx="4900680" cy="0"/>
          </a:xfrm>
          <a:prstGeom prst="line">
            <a:avLst/>
          </a:prstGeom>
          <a:ln w="15840">
            <a:solidFill>
              <a:srgbClr val="4c830a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6069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1711800" y="255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17830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0"/>
          <p:cNvGrpSpPr/>
          <p:nvPr/>
        </p:nvGrpSpPr>
        <p:grpSpPr>
          <a:xfrm>
            <a:off x="2948400" y="1220760"/>
            <a:ext cx="3753720" cy="3914640"/>
            <a:chOff x="2948400" y="1220760"/>
            <a:chExt cx="3753720" cy="3914640"/>
          </a:xfrm>
        </p:grpSpPr>
        <p:sp>
          <p:nvSpPr>
            <p:cNvPr id="184" name="橢圓 12"/>
            <p:cNvSpPr/>
            <p:nvPr/>
          </p:nvSpPr>
          <p:spPr>
            <a:xfrm>
              <a:off x="2951280" y="1288800"/>
              <a:ext cx="3749400" cy="3846600"/>
            </a:xfrm>
            <a:prstGeom prst="ellipse">
              <a:avLst/>
            </a:prstGeom>
            <a:noFill/>
            <a:ln w="19080">
              <a:solidFill>
                <a:srgbClr val="4c830a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等腰三角形 13"/>
            <p:cNvSpPr/>
            <p:nvPr/>
          </p:nvSpPr>
          <p:spPr>
            <a:xfrm rot="5400000">
              <a:off x="4740480" y="1242000"/>
              <a:ext cx="17280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4c8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等腰三角形 14"/>
            <p:cNvSpPr/>
            <p:nvPr/>
          </p:nvSpPr>
          <p:spPr>
            <a:xfrm rot="9120000">
              <a:off x="6517440" y="248832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4c8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等腰三角形 15"/>
            <p:cNvSpPr/>
            <p:nvPr/>
          </p:nvSpPr>
          <p:spPr>
            <a:xfrm rot="13080000">
              <a:off x="6010200" y="4550760"/>
              <a:ext cx="16488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4c8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等腰三角形 16"/>
            <p:cNvSpPr/>
            <p:nvPr/>
          </p:nvSpPr>
          <p:spPr>
            <a:xfrm rot="18240000">
              <a:off x="3740040" y="4768920"/>
              <a:ext cx="171360" cy="12996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4c8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等腰三角形 17"/>
            <p:cNvSpPr/>
            <p:nvPr/>
          </p:nvSpPr>
          <p:spPr>
            <a:xfrm rot="1500000">
              <a:off x="2970000" y="256320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rgbClr val="eeece1"/>
            </a:solidFill>
            <a:ln w="9360">
              <a:solidFill>
                <a:srgbClr val="4c83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一般五邊形 4"/>
          <p:cNvSpPr/>
          <p:nvPr/>
        </p:nvSpPr>
        <p:spPr>
          <a:xfrm>
            <a:off x="3730680" y="2112840"/>
            <a:ext cx="2179440" cy="2075040"/>
          </a:xfrm>
          <a:prstGeom prst="pentagon">
            <a:avLst/>
          </a:prstGeom>
          <a:solidFill>
            <a:srgbClr val="4c8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5"/>
          <p:cNvSpPr/>
          <p:nvPr/>
        </p:nvSpPr>
        <p:spPr>
          <a:xfrm rot="2160000">
            <a:off x="5151240" y="1207800"/>
            <a:ext cx="1341360" cy="1350720"/>
          </a:xfrm>
          <a:prstGeom prst="triangle">
            <a:avLst>
              <a:gd name="adj" fmla="val 50000"/>
            </a:avLst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6"/>
          <p:cNvSpPr/>
          <p:nvPr/>
        </p:nvSpPr>
        <p:spPr>
          <a:xfrm rot="6480000">
            <a:off x="5766120" y="3088440"/>
            <a:ext cx="1339560" cy="1351080"/>
          </a:xfrm>
          <a:prstGeom prst="triangle">
            <a:avLst>
              <a:gd name="adj" fmla="val 50000"/>
            </a:avLst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7"/>
          <p:cNvSpPr/>
          <p:nvPr/>
        </p:nvSpPr>
        <p:spPr>
          <a:xfrm rot="10800000">
            <a:off x="4156200" y="4271760"/>
            <a:ext cx="1341360" cy="1352520"/>
          </a:xfrm>
          <a:prstGeom prst="triangle">
            <a:avLst>
              <a:gd name="adj" fmla="val 50000"/>
            </a:avLst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8"/>
          <p:cNvSpPr/>
          <p:nvPr/>
        </p:nvSpPr>
        <p:spPr>
          <a:xfrm rot="15118800">
            <a:off x="2527920" y="314388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9"/>
          <p:cNvSpPr/>
          <p:nvPr/>
        </p:nvSpPr>
        <p:spPr>
          <a:xfrm rot="19500000">
            <a:off x="3133800" y="1190520"/>
            <a:ext cx="1339920" cy="1351080"/>
          </a:xfrm>
          <a:prstGeom prst="triangle">
            <a:avLst>
              <a:gd name="adj" fmla="val 50000"/>
            </a:avLst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2784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5999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4356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33562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5"/>
          <p:cNvSpPr/>
          <p:nvPr/>
        </p:nvSpPr>
        <p:spPr>
          <a:xfrm>
            <a:off x="5283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心圆 10"/>
          <p:cNvSpPr/>
          <p:nvPr/>
        </p:nvSpPr>
        <p:spPr>
          <a:xfrm rot="10800000">
            <a:off x="696600" y="366660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987" h="1404938">
                <a:moveTo>
                  <a:pt x="0" y="702469"/>
                </a:moveTo>
                <a:lnTo>
                  <a:pt x="0" y="702469"/>
                </a:lnTo>
                <a:arcTo wR="711994" hR="702469" stAng="-10799995" swAng="5400000"/>
                <a:lnTo>
                  <a:pt x="711995" y="1"/>
                </a:lnTo>
                <a:arcTo wR="711994" hR="702469" stAng="-5399995" swAng="5400000"/>
                <a:lnTo>
                  <a:pt x="1423988" y="702471"/>
                </a:lnTo>
                <a:arcTo wR="711994" hR="702469" stAng="0" swAng="5400000"/>
                <a:lnTo>
                  <a:pt x="711994" y="1404940"/>
                </a:lnTo>
                <a:arcTo wR="711994" hR="702469" stAng="5400000" swAng="5400005"/>
                <a:close/>
                <a:moveTo>
                  <a:pt x="194556" y="702469"/>
                </a:moveTo>
                <a:lnTo>
                  <a:pt x="194556" y="702469"/>
                </a:lnTo>
                <a:arcTo wR="517438" hR="507913" stAng="-10799993" swAng="-5400000"/>
                <a:lnTo>
                  <a:pt x="711993" y="1210383"/>
                </a:lnTo>
                <a:arcTo wR="517438" hR="507913" stAng="5400000" swAng="-5400000"/>
                <a:lnTo>
                  <a:pt x="1229431" y="702470"/>
                </a:lnTo>
                <a:arcTo wR="517438" hR="507913" stAng="0" swAng="-5400000"/>
                <a:lnTo>
                  <a:pt x="711993" y="194557"/>
                </a:lnTo>
                <a:arcTo wR="517438" hR="507913" stAng="-5399993" swAng="-5400000"/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同心圆 11"/>
          <p:cNvSpPr/>
          <p:nvPr/>
        </p:nvSpPr>
        <p:spPr>
          <a:xfrm>
            <a:off x="2552760" y="178596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988" h="1404937">
                <a:moveTo>
                  <a:pt x="0" y="702469"/>
                </a:moveTo>
                <a:lnTo>
                  <a:pt x="0" y="702469"/>
                </a:lnTo>
                <a:arcTo wR="711994" hR="702469" stAng="-10799995" swAng="5400000"/>
                <a:lnTo>
                  <a:pt x="711995" y="1"/>
                </a:lnTo>
                <a:arcTo wR="711994" hR="702469" stAng="-5399995" swAng="5400000"/>
                <a:lnTo>
                  <a:pt x="1423988" y="702471"/>
                </a:lnTo>
                <a:arcTo wR="711994" hR="702469" stAng="0" swAng="5400000"/>
                <a:lnTo>
                  <a:pt x="711994" y="1404940"/>
                </a:lnTo>
                <a:arcTo wR="711994" hR="702469" stAng="5400000" swAng="5400005"/>
                <a:close/>
                <a:moveTo>
                  <a:pt x="194556" y="702469"/>
                </a:moveTo>
                <a:lnTo>
                  <a:pt x="194556" y="702469"/>
                </a:lnTo>
                <a:arcTo wR="517438" hR="507913" stAng="-10799993" swAng="-5400000"/>
                <a:lnTo>
                  <a:pt x="711993" y="1210383"/>
                </a:lnTo>
                <a:arcTo wR="517438" hR="507913" stAng="5400000" swAng="-5400000"/>
                <a:lnTo>
                  <a:pt x="1229431" y="702470"/>
                </a:lnTo>
                <a:arcTo wR="517438" hR="507913" stAng="0" swAng="-5400000"/>
                <a:lnTo>
                  <a:pt x="711993" y="194557"/>
                </a:lnTo>
                <a:arcTo wR="517438" hR="507913" stAng="-5399993" swAng="-5400000"/>
                <a:close/>
              </a:path>
            </a:pathLst>
          </a:cu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同心圆 12"/>
          <p:cNvSpPr/>
          <p:nvPr/>
        </p:nvSpPr>
        <p:spPr>
          <a:xfrm rot="10800000">
            <a:off x="4500360" y="3357720"/>
            <a:ext cx="1423800" cy="140472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4720"/>
              <a:gd name="textAreaBottom" fmla="*/ 1199160 h 1404720"/>
            </a:gdLst>
            <a:ahLst/>
            <a:rect l="textAreaLeft" t="textAreaTop" r="textAreaRight" b="textAreaBottom"/>
            <a:pathLst>
              <a:path w="1423987" h="1404937">
                <a:moveTo>
                  <a:pt x="0" y="702469"/>
                </a:moveTo>
                <a:lnTo>
                  <a:pt x="0" y="702469"/>
                </a:lnTo>
                <a:arcTo wR="711994" hR="702469" stAng="-10799995" swAng="5400000"/>
                <a:lnTo>
                  <a:pt x="711995" y="1"/>
                </a:lnTo>
                <a:arcTo wR="711994" hR="702469" stAng="-5399995" swAng="5400000"/>
                <a:lnTo>
                  <a:pt x="1423988" y="702471"/>
                </a:lnTo>
                <a:arcTo wR="711994" hR="702469" stAng="0" swAng="5400000"/>
                <a:lnTo>
                  <a:pt x="711994" y="1404940"/>
                </a:lnTo>
                <a:arcTo wR="711994" hR="702469" stAng="5400000" swAng="5400005"/>
                <a:close/>
                <a:moveTo>
                  <a:pt x="194556" y="702469"/>
                </a:moveTo>
                <a:lnTo>
                  <a:pt x="194556" y="702469"/>
                </a:lnTo>
                <a:arcTo wR="517438" hR="507913" stAng="-10799993" swAng="-5400000"/>
                <a:lnTo>
                  <a:pt x="711993" y="1210383"/>
                </a:lnTo>
                <a:arcTo wR="517438" hR="507913" stAng="5400000" swAng="-5400000"/>
                <a:lnTo>
                  <a:pt x="1229431" y="702470"/>
                </a:lnTo>
                <a:arcTo wR="517438" hR="507913" stAng="0" swAng="-5400000"/>
                <a:lnTo>
                  <a:pt x="711993" y="194557"/>
                </a:lnTo>
                <a:arcTo wR="517438" hR="507913" stAng="-5399993" swAng="-5400000"/>
                <a:close/>
              </a:path>
            </a:pathLst>
          </a:custGeom>
          <a:solidFill>
            <a:srgbClr val="4c8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4783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4"/>
          <p:cNvSpPr/>
          <p:nvPr/>
        </p:nvSpPr>
        <p:spPr>
          <a:xfrm>
            <a:off x="2783520" y="227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5"/>
          <p:cNvSpPr/>
          <p:nvPr/>
        </p:nvSpPr>
        <p:spPr>
          <a:xfrm>
            <a:off x="925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0" y="3029040"/>
            <a:ext cx="3257640" cy="162000"/>
          </a:xfrm>
          <a:prstGeom prst="rect">
            <a:avLst/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"/>
          <p:cNvSpPr/>
          <p:nvPr/>
        </p:nvSpPr>
        <p:spPr>
          <a:xfrm flipV="1">
            <a:off x="0" y="3666960"/>
            <a:ext cx="1417680" cy="162000"/>
          </a:xfrm>
          <a:prstGeom prst="rect">
            <a:avLst/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5"/>
          <p:cNvSpPr/>
          <p:nvPr/>
        </p:nvSpPr>
        <p:spPr>
          <a:xfrm>
            <a:off x="-3240" y="3365640"/>
            <a:ext cx="5232600" cy="161640"/>
          </a:xfrm>
          <a:prstGeom prst="rect">
            <a:avLst/>
          </a:prstGeom>
          <a:solidFill>
            <a:srgbClr val="4c8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628380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428840" y="2862360"/>
            <a:ext cx="6172200" cy="685800"/>
          </a:xfrm>
          <a:prstGeom prst="rightArrow">
            <a:avLst>
              <a:gd name="adj1" fmla="val 65278"/>
              <a:gd name="adj2" fmla="val 53125"/>
            </a:avLst>
          </a:prstGeom>
          <a:solidFill>
            <a:srgbClr val="4c8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676520" y="2481120"/>
            <a:ext cx="1447560" cy="1447920"/>
          </a:xfrm>
          <a:prstGeom prst="ellipse">
            <a:avLst/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586320" y="2481120"/>
            <a:ext cx="1447560" cy="1447920"/>
          </a:xfrm>
          <a:prstGeom prst="ellipse">
            <a:avLst/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5391000" y="2481120"/>
            <a:ext cx="1447920" cy="1447920"/>
          </a:xfrm>
          <a:prstGeom prst="ellipse">
            <a:avLst/>
          </a:prstGeom>
          <a:solidFill>
            <a:srgbClr val="87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2"/>
          <p:cNvSpPr/>
          <p:nvPr/>
        </p:nvSpPr>
        <p:spPr>
          <a:xfrm>
            <a:off x="1883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3"/>
          <p:cNvSpPr/>
          <p:nvPr/>
        </p:nvSpPr>
        <p:spPr>
          <a:xfrm>
            <a:off x="5671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3812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8:07:15Z</dcterms:modified>
  <cp:revision>296</cp:revision>
  <dc:subject/>
  <dc:title>幻灯片 1</dc:title>
</cp:coreProperties>
</file>