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1BA-1472-4FCD-8B7B-64909C5B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C31-776C-4EFB-8C1A-58E13D90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A71-A7B6-48C3-B71C-24D8851B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CDC-58FA-4396-A423-5129FA9B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54B-7199-4FFC-A2FB-80E14D5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BCF-0D2F-4269-B01C-743B8F96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6FD-E506-4669-8DA9-03956316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EDD-4D0D-4F16-99FE-CE3B0C25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6B4-D613-4D2D-936B-891B04F0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171-C630-43D2-A5E2-ABCD1BD9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0D0-AA30-4790-91FC-2CBE40A3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C33-8F65-4333-B033-C8E1393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FF2-B4DD-41DA-BFC2-342B2F3199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1785960"/>
            <a:ext cx="9144000" cy="1428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1071720" y="1857240"/>
            <a:ext cx="485748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0" y="657072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2386080" y="2081160"/>
            <a:ext cx="4757760" cy="26337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0"/>
          <p:cNvSpPr/>
          <p:nvPr/>
        </p:nvSpPr>
        <p:spPr>
          <a:xfrm>
            <a:off x="2671920" y="2271600"/>
            <a:ext cx="236520" cy="23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671920" y="2776680"/>
            <a:ext cx="236520" cy="23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671920" y="4294080"/>
            <a:ext cx="236520" cy="23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3"/>
          <p:cNvSpPr/>
          <p:nvPr/>
        </p:nvSpPr>
        <p:spPr>
          <a:xfrm>
            <a:off x="2671920" y="3789360"/>
            <a:ext cx="236520" cy="23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4"/>
          <p:cNvSpPr/>
          <p:nvPr/>
        </p:nvSpPr>
        <p:spPr>
          <a:xfrm>
            <a:off x="2671920" y="3282840"/>
            <a:ext cx="236520" cy="236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3214800" y="2273400"/>
            <a:ext cx="35719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3214800" y="2773440"/>
            <a:ext cx="35719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8"/>
          <p:cNvSpPr/>
          <p:nvPr/>
        </p:nvSpPr>
        <p:spPr>
          <a:xfrm>
            <a:off x="3214800" y="3295800"/>
            <a:ext cx="35719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3214800" y="3795840"/>
            <a:ext cx="35719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3214800" y="4273560"/>
            <a:ext cx="3571920" cy="23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459320" y="22240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459320" y="2724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4459320" y="3273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>
            <a:off x="4459320" y="37735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506840" y="42242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4069080" y="3421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6926760" y="3421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1354680" y="3421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4"/>
          <p:cNvSpPr/>
          <p:nvPr/>
        </p:nvSpPr>
        <p:spPr>
          <a:xfrm>
            <a:off x="500040" y="2092320"/>
            <a:ext cx="3051360" cy="3051360"/>
          </a:xfrm>
          <a:prstGeom prst="ellipse">
            <a:avLst/>
          </a:prstGeom>
          <a:noFill/>
          <a:ln w="25560">
            <a:solidFill>
              <a:srgbClr val="6c7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5"/>
          <p:cNvSpPr/>
          <p:nvPr/>
        </p:nvSpPr>
        <p:spPr>
          <a:xfrm>
            <a:off x="3089160" y="2092320"/>
            <a:ext cx="3051360" cy="3051360"/>
          </a:xfrm>
          <a:prstGeom prst="ellipse">
            <a:avLst/>
          </a:prstGeom>
          <a:noFill/>
          <a:ln w="25560">
            <a:solidFill>
              <a:srgbClr val="6c7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6"/>
          <p:cNvSpPr/>
          <p:nvPr/>
        </p:nvSpPr>
        <p:spPr>
          <a:xfrm>
            <a:off x="5665680" y="2092320"/>
            <a:ext cx="3051360" cy="3051360"/>
          </a:xfrm>
          <a:prstGeom prst="ellipse">
            <a:avLst/>
          </a:prstGeom>
          <a:noFill/>
          <a:ln w="25560">
            <a:solidFill>
              <a:srgbClr val="6c7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17"/>
          <p:cNvSpPr/>
          <p:nvPr/>
        </p:nvSpPr>
        <p:spPr>
          <a:xfrm>
            <a:off x="5999040" y="2004840"/>
            <a:ext cx="1043280" cy="1043280"/>
          </a:xfrm>
          <a:prstGeom prst="ellipse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8"/>
          <p:cNvSpPr/>
          <p:nvPr/>
        </p:nvSpPr>
        <p:spPr>
          <a:xfrm>
            <a:off x="3317760" y="1992240"/>
            <a:ext cx="1044720" cy="1042920"/>
          </a:xfrm>
          <a:prstGeom prst="ellipse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9"/>
          <p:cNvSpPr/>
          <p:nvPr/>
        </p:nvSpPr>
        <p:spPr>
          <a:xfrm>
            <a:off x="660240" y="2013120"/>
            <a:ext cx="1043280" cy="1042920"/>
          </a:xfrm>
          <a:prstGeom prst="ellipse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1"/>
          <p:cNvGrpSpPr/>
          <p:nvPr/>
        </p:nvGrpSpPr>
        <p:grpSpPr>
          <a:xfrm>
            <a:off x="638280" y="1454040"/>
            <a:ext cx="4076640" cy="2046240"/>
            <a:chOff x="638280" y="1454040"/>
            <a:chExt cx="4076640" cy="2046240"/>
          </a:xfrm>
        </p:grpSpPr>
        <p:sp>
          <p:nvSpPr>
            <p:cNvPr id="86" name="圆角矩形 10"/>
            <p:cNvSpPr/>
            <p:nvPr/>
          </p:nvSpPr>
          <p:spPr>
            <a:xfrm flipH="1">
              <a:off x="638280" y="1682640"/>
              <a:ext cx="4076640" cy="1817640"/>
            </a:xfrm>
            <a:prstGeom prst="roundRect">
              <a:avLst>
                <a:gd name="adj" fmla="val 14713"/>
              </a:avLst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圆角矩形 11"/>
            <p:cNvSpPr/>
            <p:nvPr/>
          </p:nvSpPr>
          <p:spPr>
            <a:xfrm flipH="1">
              <a:off x="750960" y="2211120"/>
              <a:ext cx="3841920" cy="1193760"/>
            </a:xfrm>
            <a:prstGeom prst="roundRect">
              <a:avLst>
                <a:gd name="adj" fmla="val 1711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2"/>
            <p:cNvSpPr/>
            <p:nvPr/>
          </p:nvSpPr>
          <p:spPr>
            <a:xfrm flipH="1">
              <a:off x="946080" y="1454040"/>
              <a:ext cx="522000" cy="533160"/>
            </a:xfrm>
            <a:prstGeom prst="ellipse">
              <a:avLst/>
            </a:prstGeom>
            <a:solidFill>
              <a:srgbClr val="ffffff"/>
            </a:solidFill>
            <a:ln w="108000">
              <a:solidFill>
                <a:srgbClr val="6c7f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3"/>
          <p:cNvSpPr/>
          <p:nvPr/>
        </p:nvSpPr>
        <p:spPr>
          <a:xfrm>
            <a:off x="1941840" y="259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2"/>
          <p:cNvGrpSpPr/>
          <p:nvPr/>
        </p:nvGrpSpPr>
        <p:grpSpPr>
          <a:xfrm>
            <a:off x="4357800" y="3500280"/>
            <a:ext cx="4076640" cy="2046600"/>
            <a:chOff x="4357800" y="3500280"/>
            <a:chExt cx="4076640" cy="2046600"/>
          </a:xfrm>
        </p:grpSpPr>
        <p:sp>
          <p:nvSpPr>
            <p:cNvPr id="91" name="圆角矩形 23"/>
            <p:cNvSpPr/>
            <p:nvPr/>
          </p:nvSpPr>
          <p:spPr>
            <a:xfrm>
              <a:off x="4357800" y="3728880"/>
              <a:ext cx="4076640" cy="1818000"/>
            </a:xfrm>
            <a:prstGeom prst="roundRect">
              <a:avLst>
                <a:gd name="adj" fmla="val 14713"/>
              </a:avLst>
            </a:prstGeom>
            <a:solidFill>
              <a:srgbClr val="6c7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24"/>
            <p:cNvSpPr/>
            <p:nvPr/>
          </p:nvSpPr>
          <p:spPr>
            <a:xfrm>
              <a:off x="4479840" y="4257720"/>
              <a:ext cx="3841920" cy="1194120"/>
            </a:xfrm>
            <a:prstGeom prst="roundRect">
              <a:avLst>
                <a:gd name="adj" fmla="val 1711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25"/>
            <p:cNvSpPr/>
            <p:nvPr/>
          </p:nvSpPr>
          <p:spPr>
            <a:xfrm>
              <a:off x="7604640" y="3500280"/>
              <a:ext cx="522000" cy="533520"/>
            </a:xfrm>
            <a:prstGeom prst="ellipse">
              <a:avLst/>
            </a:prstGeom>
            <a:solidFill>
              <a:srgbClr val="ffffff"/>
            </a:solidFill>
            <a:ln w="108000">
              <a:solidFill>
                <a:srgbClr val="6c7f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26"/>
          <p:cNvSpPr/>
          <p:nvPr/>
        </p:nvSpPr>
        <p:spPr>
          <a:xfrm>
            <a:off x="5712120" y="46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组合 6" descr=""/>
          <p:cNvPicPr/>
          <p:nvPr/>
        </p:nvPicPr>
        <p:blipFill>
          <a:blip r:embed="rId1"/>
          <a:stretch/>
        </p:blipFill>
        <p:spPr>
          <a:xfrm>
            <a:off x="785880" y="1944720"/>
            <a:ext cx="573120" cy="1493640"/>
          </a:xfrm>
          <a:prstGeom prst="rect">
            <a:avLst/>
          </a:prstGeom>
          <a:ln w="0">
            <a:noFill/>
          </a:ln>
        </p:spPr>
      </p:pic>
      <p:pic>
        <p:nvPicPr>
          <p:cNvPr id="101" name="组合 24" descr=""/>
          <p:cNvPicPr/>
          <p:nvPr/>
        </p:nvPicPr>
        <p:blipFill>
          <a:blip r:embed="rId2"/>
          <a:stretch/>
        </p:blipFill>
        <p:spPr>
          <a:xfrm>
            <a:off x="3554280" y="1944720"/>
            <a:ext cx="5796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组合 11" descr=""/>
          <p:cNvPicPr/>
          <p:nvPr/>
        </p:nvPicPr>
        <p:blipFill>
          <a:blip r:embed="rId3"/>
          <a:stretch/>
        </p:blipFill>
        <p:spPr>
          <a:xfrm>
            <a:off x="6327720" y="1944720"/>
            <a:ext cx="579600" cy="1493640"/>
          </a:xfrm>
          <a:prstGeom prst="rect">
            <a:avLst/>
          </a:prstGeom>
          <a:ln w="0">
            <a:noFill/>
          </a:ln>
        </p:spPr>
      </p:pic>
      <p:sp>
        <p:nvSpPr>
          <p:cNvPr id="103" name="矩形 19"/>
          <p:cNvSpPr/>
          <p:nvPr/>
        </p:nvSpPr>
        <p:spPr>
          <a:xfrm>
            <a:off x="1387440" y="1785960"/>
            <a:ext cx="1214640" cy="33591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0"/>
          <p:cNvSpPr/>
          <p:nvPr/>
        </p:nvSpPr>
        <p:spPr>
          <a:xfrm>
            <a:off x="4173480" y="1785960"/>
            <a:ext cx="1214640" cy="33591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6959520" y="1785960"/>
            <a:ext cx="1214640" cy="33591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2"/>
          <p:cNvSpPr/>
          <p:nvPr/>
        </p:nvSpPr>
        <p:spPr>
          <a:xfrm flipH="1">
            <a:off x="2641680" y="1787400"/>
            <a:ext cx="1440" cy="3357720"/>
          </a:xfrm>
          <a:prstGeom prst="line">
            <a:avLst/>
          </a:prstGeom>
          <a:ln w="25560">
            <a:solidFill>
              <a:srgbClr val="6c7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3"/>
          <p:cNvSpPr/>
          <p:nvPr/>
        </p:nvSpPr>
        <p:spPr>
          <a:xfrm flipH="1">
            <a:off x="5427720" y="1785960"/>
            <a:ext cx="1440" cy="3359160"/>
          </a:xfrm>
          <a:prstGeom prst="line">
            <a:avLst/>
          </a:prstGeom>
          <a:ln w="25560">
            <a:solidFill>
              <a:srgbClr val="6c7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24"/>
          <p:cNvSpPr/>
          <p:nvPr/>
        </p:nvSpPr>
        <p:spPr>
          <a:xfrm flipH="1">
            <a:off x="8213760" y="1785960"/>
            <a:ext cx="1440" cy="3359160"/>
          </a:xfrm>
          <a:prstGeom prst="line">
            <a:avLst/>
          </a:prstGeom>
          <a:ln w="25560">
            <a:solidFill>
              <a:srgbClr val="6c7f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7358040" y="2500200"/>
            <a:ext cx="571680" cy="91692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4643280" y="2532240"/>
            <a:ext cx="571680" cy="91692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1714680" y="2460600"/>
            <a:ext cx="571320" cy="91692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1"/>
          <p:cNvSpPr/>
          <p:nvPr/>
        </p:nvSpPr>
        <p:spPr>
          <a:xfrm>
            <a:off x="304812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椭圆 11"/>
          <p:cNvGrpSpPr/>
          <p:nvPr/>
        </p:nvGrpSpPr>
        <p:grpSpPr>
          <a:xfrm>
            <a:off x="433440" y="1822320"/>
            <a:ext cx="3290760" cy="3299040"/>
            <a:chOff x="433440" y="1822320"/>
            <a:chExt cx="3290760" cy="3299040"/>
          </a:xfrm>
        </p:grpSpPr>
        <p:pic>
          <p:nvPicPr>
            <p:cNvPr id="119" name="椭圆 11" descr=""/>
            <p:cNvPicPr/>
            <p:nvPr/>
          </p:nvPicPr>
          <p:blipFill>
            <a:blip r:embed="rId1"/>
            <a:stretch/>
          </p:blipFill>
          <p:spPr>
            <a:xfrm>
              <a:off x="433440" y="1822320"/>
              <a:ext cx="329076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190520" y="2405160"/>
              <a:ext cx="19573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椭圆 12"/>
          <p:cNvGrpSpPr/>
          <p:nvPr/>
        </p:nvGrpSpPr>
        <p:grpSpPr>
          <a:xfrm>
            <a:off x="2846520" y="3475080"/>
            <a:ext cx="1609560" cy="1614600"/>
            <a:chOff x="2846520" y="3475080"/>
            <a:chExt cx="1609560" cy="1614600"/>
          </a:xfrm>
        </p:grpSpPr>
        <p:pic>
          <p:nvPicPr>
            <p:cNvPr id="122" name="椭圆 12" descr=""/>
            <p:cNvPicPr/>
            <p:nvPr/>
          </p:nvPicPr>
          <p:blipFill>
            <a:blip r:embed="rId2"/>
            <a:stretch/>
          </p:blipFill>
          <p:spPr>
            <a:xfrm>
              <a:off x="2846520" y="3475080"/>
              <a:ext cx="160956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359160" y="3808440"/>
              <a:ext cx="7682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椭圆 13"/>
          <p:cNvGrpSpPr/>
          <p:nvPr/>
        </p:nvGrpSpPr>
        <p:grpSpPr>
          <a:xfrm>
            <a:off x="3352680" y="3803760"/>
            <a:ext cx="781200" cy="780840"/>
            <a:chOff x="3352680" y="3803760"/>
            <a:chExt cx="781200" cy="780840"/>
          </a:xfrm>
        </p:grpSpPr>
        <p:pic>
          <p:nvPicPr>
            <p:cNvPr id="125" name="椭圆 13" descr=""/>
            <p:cNvPicPr/>
            <p:nvPr/>
          </p:nvPicPr>
          <p:blipFill>
            <a:blip r:embed="rId3"/>
            <a:stretch/>
          </p:blipFill>
          <p:spPr>
            <a:xfrm>
              <a:off x="3352680" y="380376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468600" y="3917880"/>
              <a:ext cx="54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20"/>
          <p:cNvSpPr/>
          <p:nvPr/>
        </p:nvSpPr>
        <p:spPr>
          <a:xfrm flipH="1">
            <a:off x="4717440" y="3497400"/>
            <a:ext cx="1330200" cy="1330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椭圆 15"/>
          <p:cNvGrpSpPr/>
          <p:nvPr/>
        </p:nvGrpSpPr>
        <p:grpSpPr>
          <a:xfrm>
            <a:off x="5187960" y="1822320"/>
            <a:ext cx="3290760" cy="3299040"/>
            <a:chOff x="5187960" y="1822320"/>
            <a:chExt cx="3290760" cy="3299040"/>
          </a:xfrm>
        </p:grpSpPr>
        <p:pic>
          <p:nvPicPr>
            <p:cNvPr id="129" name="椭圆 15" descr=""/>
            <p:cNvPicPr/>
            <p:nvPr/>
          </p:nvPicPr>
          <p:blipFill>
            <a:blip r:embed="rId4"/>
            <a:stretch/>
          </p:blipFill>
          <p:spPr>
            <a:xfrm>
              <a:off x="5187960" y="1822320"/>
              <a:ext cx="3290760" cy="32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948280" y="2405160"/>
              <a:ext cx="19573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椭圆 16"/>
          <p:cNvGrpSpPr/>
          <p:nvPr/>
        </p:nvGrpSpPr>
        <p:grpSpPr>
          <a:xfrm>
            <a:off x="4456080" y="3475080"/>
            <a:ext cx="1609920" cy="1614600"/>
            <a:chOff x="4456080" y="3475080"/>
            <a:chExt cx="1609920" cy="1614600"/>
          </a:xfrm>
        </p:grpSpPr>
        <p:pic>
          <p:nvPicPr>
            <p:cNvPr id="132" name="椭圆 16" descr=""/>
            <p:cNvPicPr/>
            <p:nvPr/>
          </p:nvPicPr>
          <p:blipFill>
            <a:blip r:embed="rId5"/>
            <a:stretch/>
          </p:blipFill>
          <p:spPr>
            <a:xfrm>
              <a:off x="4456080" y="3475080"/>
              <a:ext cx="160992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968720" y="3808440"/>
              <a:ext cx="77004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椭圆 17"/>
          <p:cNvGrpSpPr/>
          <p:nvPr/>
        </p:nvGrpSpPr>
        <p:grpSpPr>
          <a:xfrm>
            <a:off x="4968720" y="3803760"/>
            <a:ext cx="773280" cy="780840"/>
            <a:chOff x="4968720" y="3803760"/>
            <a:chExt cx="773280" cy="780840"/>
          </a:xfrm>
        </p:grpSpPr>
        <p:pic>
          <p:nvPicPr>
            <p:cNvPr id="135" name="椭圆 17" descr=""/>
            <p:cNvPicPr/>
            <p:nvPr/>
          </p:nvPicPr>
          <p:blipFill>
            <a:blip r:embed="rId6"/>
            <a:stretch/>
          </p:blipFill>
          <p:spPr>
            <a:xfrm>
              <a:off x="4968720" y="3803760"/>
              <a:ext cx="7732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5078520" y="3917880"/>
              <a:ext cx="54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矩形 13"/>
          <p:cNvSpPr/>
          <p:nvPr/>
        </p:nvSpPr>
        <p:spPr>
          <a:xfrm>
            <a:off x="6499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17132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3"/>
          <p:cNvSpPr/>
          <p:nvPr/>
        </p:nvSpPr>
        <p:spPr>
          <a:xfrm>
            <a:off x="4578480" y="3592440"/>
            <a:ext cx="3539880" cy="19605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弦形 24"/>
          <p:cNvSpPr/>
          <p:nvPr/>
        </p:nvSpPr>
        <p:spPr>
          <a:xfrm rot="10800000">
            <a:off x="3935520" y="3959280"/>
            <a:ext cx="1239840" cy="124128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402706" y="1244140"/>
                  <a:pt x="194018" y="1124804"/>
                  <a:pt x="82162" y="929519"/>
                </a:cubicBezTo>
                <a:cubicBezTo>
                  <a:pt x="-29508" y="734559"/>
                  <a:pt x="-27203" y="494388"/>
                  <a:pt x="88189" y="301613"/>
                </a:cubicBezTo>
                <a:cubicBezTo>
                  <a:pt x="203777" y="108510"/>
                  <a:pt x="414727" y="-6789"/>
                  <a:pt x="639458" y="307"/>
                </a:cubicBezTo>
                <a:lnTo>
                  <a:pt x="627523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4578480" y="1571760"/>
            <a:ext cx="3539880" cy="19605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弦形 22"/>
          <p:cNvSpPr/>
          <p:nvPr/>
        </p:nvSpPr>
        <p:spPr>
          <a:xfrm rot="10800000">
            <a:off x="3935520" y="1937880"/>
            <a:ext cx="1239840" cy="1241640"/>
          </a:xfrm>
          <a:custGeom>
            <a:avLst/>
            <a:gdLst/>
            <a:ahLst/>
            <a:rect l="l" t="t" r="r" b="b"/>
            <a:pathLst>
              <a:path w="1239837" h="1241425">
                <a:moveTo>
                  <a:pt x="627523" y="1241378"/>
                </a:moveTo>
                <a:cubicBezTo>
                  <a:pt x="402706" y="1244140"/>
                  <a:pt x="194018" y="1124804"/>
                  <a:pt x="82162" y="929519"/>
                </a:cubicBezTo>
                <a:cubicBezTo>
                  <a:pt x="-29508" y="734559"/>
                  <a:pt x="-27203" y="494388"/>
                  <a:pt x="88189" y="301613"/>
                </a:cubicBezTo>
                <a:cubicBezTo>
                  <a:pt x="203777" y="108510"/>
                  <a:pt x="414727" y="-6789"/>
                  <a:pt x="639458" y="307"/>
                </a:cubicBezTo>
                <a:lnTo>
                  <a:pt x="627523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 flipH="1">
            <a:off x="1000080" y="3592440"/>
            <a:ext cx="3540240" cy="19605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弦形 18"/>
          <p:cNvSpPr/>
          <p:nvPr/>
        </p:nvSpPr>
        <p:spPr>
          <a:xfrm flipH="1" rot="10800000">
            <a:off x="3943440" y="3959280"/>
            <a:ext cx="1239840" cy="1241280"/>
          </a:xfrm>
          <a:custGeom>
            <a:avLst/>
            <a:gdLst/>
            <a:ahLst/>
            <a:rect l="l" t="t" r="r" b="b"/>
            <a:pathLst>
              <a:path w="1239838" h="1241425">
                <a:moveTo>
                  <a:pt x="627524" y="1241378"/>
                </a:moveTo>
                <a:cubicBezTo>
                  <a:pt x="402707" y="1244140"/>
                  <a:pt x="194019" y="1124804"/>
                  <a:pt x="82163" y="929519"/>
                </a:cubicBezTo>
                <a:cubicBezTo>
                  <a:pt x="-29507" y="734559"/>
                  <a:pt x="-27202" y="494388"/>
                  <a:pt x="88190" y="301613"/>
                </a:cubicBezTo>
                <a:cubicBezTo>
                  <a:pt x="203778" y="108510"/>
                  <a:pt x="414728" y="-6789"/>
                  <a:pt x="639459" y="307"/>
                </a:cubicBezTo>
                <a:lnTo>
                  <a:pt x="627524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5"/>
          <p:cNvSpPr/>
          <p:nvPr/>
        </p:nvSpPr>
        <p:spPr>
          <a:xfrm flipH="1">
            <a:off x="1000080" y="1571760"/>
            <a:ext cx="3540240" cy="1960560"/>
          </a:xfrm>
          <a:prstGeom prst="rect">
            <a:avLst/>
          </a:prstGeom>
          <a:solidFill>
            <a:srgbClr val="6c7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弦形 16"/>
          <p:cNvSpPr/>
          <p:nvPr/>
        </p:nvSpPr>
        <p:spPr>
          <a:xfrm flipH="1" rot="10800000">
            <a:off x="3943440" y="1937880"/>
            <a:ext cx="1239840" cy="1241640"/>
          </a:xfrm>
          <a:custGeom>
            <a:avLst/>
            <a:gdLst/>
            <a:ahLst/>
            <a:rect l="l" t="t" r="r" b="b"/>
            <a:pathLst>
              <a:path w="1239838" h="1241425">
                <a:moveTo>
                  <a:pt x="627524" y="1241378"/>
                </a:moveTo>
                <a:cubicBezTo>
                  <a:pt x="402707" y="1244140"/>
                  <a:pt x="194019" y="1124804"/>
                  <a:pt x="82163" y="929519"/>
                </a:cubicBezTo>
                <a:cubicBezTo>
                  <a:pt x="-29507" y="734559"/>
                  <a:pt x="-27202" y="494388"/>
                  <a:pt x="88190" y="301613"/>
                </a:cubicBezTo>
                <a:cubicBezTo>
                  <a:pt x="203778" y="108510"/>
                  <a:pt x="414728" y="-6789"/>
                  <a:pt x="639459" y="307"/>
                </a:cubicBezTo>
                <a:lnTo>
                  <a:pt x="627524" y="12413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5997960" y="4338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5926680" y="2195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2140560" y="4338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2068920" y="2195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Sky123.Org</cp:lastModifiedBy>
  <dcterms:modified xsi:type="dcterms:W3CDTF">2015-09-21T09:03:39Z</dcterms:modified>
  <cp:revision>288</cp:revision>
  <dc:subject/>
  <dc:title>幻灯片 1</dc:title>
</cp:coreProperties>
</file>