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D637-06C2-4775-A1CD-84208A43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5941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20F8-5306-44ED-ACE0-A8687C6A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5941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D3B5-E6E0-4808-B274-7C2947E2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5941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71CC-9819-4BEA-8B9A-EEB19036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CE39-79C0-4E73-9BD5-74679F0E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5941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6d6d6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9669-D510-4758-B709-5DD36B21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5941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CB2B-AE33-42BA-A2AF-BC6B0E29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5941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90DD-FF9E-4387-B9F7-CCE67C5F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594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2231-EA88-450D-88FE-320F1BAD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6d6d6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46CE-BE65-478C-8F69-910492C2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5941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4F9A-F73C-4FD0-B156-7B4870A2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5941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6d6d6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C037-FAB3-451B-8981-C5A3AE03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5941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8622-9CB4-4385-B907-6BCAD5FC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5941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1D50-7A03-4AE3-A021-D66288D0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5941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D07E-9CC7-4F2E-9896-DB1E4D2D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5941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6956-15BA-413E-A211-75D82059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5941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D58C-55F8-4C4A-923B-22AF7CE2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5941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056B-EC52-4DE1-9810-19942546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5941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6BC-A447-4EF8-AE51-57B9E726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594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3022-F155-4780-B482-81592007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6d6d6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1D6C-0E98-403D-A655-C9EE4A94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5941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7E8-3BD1-42CA-854B-5EB2B228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5941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A92-CC94-4A37-8BEA-8B773FB2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5941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2A7C-DD9D-4C3C-B187-E8150242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048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029040" y="644220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d3f41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9B64-F502-4CDE-95C6-C9DD5FED6E94}" type="slidenum"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b9aa53"/>
              </a:buClr>
              <a:buSzPct val="80000"/>
              <a:buFont typeface="Wingdings" charset="2"/>
              <a:buChar char="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b57a5f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5cc98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b57a5f"/>
                </a:solidFill>
                <a:latin typeface="幼圆"/>
              </a:rPr>
              <a:t>Second Outline Level</a:t>
            </a: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b57a5f"/>
                </a:solidFill>
                <a:latin typeface="幼圆"/>
              </a:rPr>
              <a:t>Third Outline Level</a:t>
            </a: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b57a5f"/>
                </a:solidFill>
                <a:latin typeface="幼圆"/>
              </a:rPr>
              <a:t>Fourth Outline Level</a:t>
            </a: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b57a5f"/>
                </a:solidFill>
                <a:latin typeface="幼圆"/>
              </a:rPr>
              <a:t>Fifth Outline Level</a:t>
            </a: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b57a5f"/>
                </a:solidFill>
                <a:latin typeface="幼圆"/>
              </a:rPr>
              <a:t>Sixth Outline Level</a:t>
            </a: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b57a5f"/>
                </a:solidFill>
                <a:latin typeface="幼圆"/>
              </a:rPr>
              <a:t>Seventh Outline Level</a:t>
            </a: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8e5941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8e5941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8" descr=""/>
          <p:cNvPicPr/>
          <p:nvPr/>
        </p:nvPicPr>
        <p:blipFill>
          <a:blip r:embed="rId2"/>
          <a:stretch/>
        </p:blipFill>
        <p:spPr>
          <a:xfrm>
            <a:off x="-25560" y="-12600"/>
            <a:ext cx="9245880" cy="6935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d3f41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C9F1-3937-4D86-B71D-1F832C40B7C4}" type="slidenum"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8292960" y="313920"/>
            <a:ext cx="648000" cy="59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8e5941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8e5941"/>
              </a:solidFill>
              <a:latin typeface="微软雅黑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6d6d6d"/>
                </a:solidFill>
                <a:latin typeface="幼圆"/>
              </a:rPr>
              <a:t>Click to edit the outline text format</a:t>
            </a:r>
            <a:endParaRPr b="1" lang="en-US" sz="1800" spc="-1" strike="noStrike">
              <a:solidFill>
                <a:srgbClr val="6d6d6d"/>
              </a:solidFill>
              <a:latin typeface="幼圆"/>
            </a:endParaRPr>
          </a:p>
          <a:p>
            <a:pPr lvl="1" indent="0" algn="ctr"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3d3f41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3d3f41"/>
              </a:solidFill>
              <a:latin typeface="幼圆"/>
            </a:endParaRPr>
          </a:p>
          <a:p>
            <a:pPr lvl="2" marL="68580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3d3f41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3d3f41"/>
              </a:solidFill>
              <a:latin typeface="Calibri"/>
            </a:endParaRPr>
          </a:p>
          <a:p>
            <a:pPr lvl="3" marL="102888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4" marL="137160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5" marL="1371600">
              <a:spcBef>
                <a:spcPts val="326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6" marL="1371600">
              <a:spcBef>
                <a:spcPts val="326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92960" y="313920"/>
            <a:ext cx="648000" cy="59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5941"/>
              </a:solidFill>
              <a:latin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934320" y="2425680"/>
            <a:ext cx="49536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6d6d6d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5941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b57a5f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2:52:00Z</dcterms:created>
  <dc:creator>admin</dc:creator>
  <dc:description/>
  <dc:language>en-US</dc:language>
  <cp:lastModifiedBy>admin</cp:lastModifiedBy>
  <dcterms:modified xsi:type="dcterms:W3CDTF">2015-07-30T03:14:14Z</dcterms:modified>
  <cp:revision>115</cp:revision>
  <dc:subject/>
  <dc:title>fds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80455</vt:lpwstr>
  </property>
  <property fmtid="{D5CDD505-2E9C-101B-9397-08002B2CF9AE}" pid="3" name="name">
    <vt:lpwstr>A000120150716A22PWBG.ppt</vt:lpwstr>
  </property>
</Properties>
</file>