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B855-0B03-40EB-A49E-37EAE0743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93BE-03E5-4F51-987A-EBCF4EB2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DD02-AD3C-4CA8-A6F4-8068DB71C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7F75-76C0-4468-92EC-44EE0E13E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D643-7788-4F3A-9CF0-AC026357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3CA9-8F65-400B-927D-2C8CDF25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EA04-970A-478C-9EEB-EA2231F5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C0B0-BCE3-45DB-B227-D06E17F7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6EDB-F11E-4B9E-BBE4-F7A1E6C7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1425-9DF0-4BBF-A0A3-6DD22A95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EFD1-A166-49D8-BE32-A055755A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6A75-83B9-400A-8804-87C42D6A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B05A-24C8-4052-A349-B0B006D083D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ffff"/>
                </a:solidFill>
                <a:latin typeface="Arial"/>
              </a:rPr>
              <a:t>8*</a:t>
            </a:r>
            <a:r>
              <a:rPr b="1" lang="zh-CN" sz="4400" spc="-1" strike="noStrike">
                <a:solidFill>
                  <a:srgbClr val="ccffff"/>
                </a:solidFill>
                <a:latin typeface="Arial"/>
              </a:rPr>
              <a:t>世界地图引出的发现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ffff"/>
                </a:solidFill>
                <a:latin typeface="Arial"/>
              </a:rPr>
              <a:t>作业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完成第八课课堂练习册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查阅有关大陆漂移学说的其他资料进行交流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宁静       静谧       无聊       偶然    软禁      叩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漂移       崭新       召开        吻合    鼓舞      震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证明       考证       轻易        假说    资料      起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坐卧不安      消磨时光       不可思议     精神大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枉费心机      浩如烟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ffff"/>
                </a:solidFill>
                <a:latin typeface="Arial"/>
              </a:rPr>
              <a:t>思考问题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魏格纳为什么要观察世界地图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魏格纳的假想是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.”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大陆漂移”是什么意思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魏格纳发现了一个怎样的重要证据证明他的假想是正确的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ffff"/>
                </a:solidFill>
                <a:latin typeface="Arial"/>
              </a:rPr>
              <a:t>句子一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魏格纳性格豪放，天性好动，在静谧舒适的病房里坐卧不安，就像软禁在牢笼中的困兽一般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ffff"/>
                </a:solidFill>
                <a:latin typeface="Arial"/>
              </a:rPr>
              <a:t>句子二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突然，他的手指慢了下来，停在地图上南美洲上巴西的一块突出的部分，眼睛却盯住非洲西海岸成直角凹进的几内亚湾。瞧！这两个地方的形状竟是这般不可思议的吻合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ffff"/>
                </a:solidFill>
                <a:latin typeface="Arial"/>
              </a:rPr>
              <a:t>句子三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于是，这位年轻人的脑海里形成了一个崭新的奇想：在太古时代，地球上所有的陆地都是连在一起的，后来因为不断漂移，才分成今天的各个大陆，它们的海岸线才会惊人的吻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ffff"/>
                </a:solidFill>
                <a:latin typeface="Arial"/>
              </a:rPr>
              <a:t>句子四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他开始在各大洲之间的联系和对比中进行考察，在浩如烟海的资料中寻找大陆漂移的证据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ffff"/>
                </a:solidFill>
                <a:latin typeface="Arial"/>
              </a:rPr>
              <a:t>句子五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一种叫中龙的爬行动物，既见于巴西东部，也见于非洲西南部，显然，这些动物当时生活在同一块大陆上，否则，即使是插上翅膀也难以飞渡重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ffff"/>
                </a:solidFill>
                <a:latin typeface="Arial"/>
              </a:rPr>
              <a:t>启示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魏格纳的重大发现靠的是：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Arial"/>
              </a:rPr>
              <a:t>仔细观察、认真思考、反复论证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23:57:35Z</dcterms:created>
  <dc:creator>Chinese</dc:creator>
  <dc:description/>
  <dc:language>en-US</dc:language>
  <cp:lastModifiedBy>流言飞鱼</cp:lastModifiedBy>
  <dcterms:modified xsi:type="dcterms:W3CDTF">2011-09-12T01:00:41Z</dcterms:modified>
  <cp:revision>5</cp:revision>
  <dc:subject/>
  <dc:title>8*世界地图引出的发现</dc:title>
</cp:coreProperties>
</file>