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3FB-3C13-456F-B066-BA079CEE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27B-DF0A-480C-B459-30C8CD3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1E1-EADC-4764-88F0-E8448268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669-0B01-4395-8123-9AA10A2A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61A-735B-4C10-A622-314E93F0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8CD-C03D-4885-9CED-8DF899C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BD1-6927-4ED0-9682-6368BE9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A2E-AE3C-4A21-91FF-AB286EE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B25-03AE-4DBF-A87E-72F0385D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472-F92E-495D-99FC-83103B9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4CE-F9CA-4BBB-987A-EF7CEF7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5D8-7341-49EC-9F84-D4170FC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CC30-0E97-4203-8F19-1388DAA0DD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66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alphaModFix amt="53000"/>
          </a:blip>
          <a:stretch/>
        </p:blipFill>
        <p:spPr>
          <a:xfrm>
            <a:off x="4836960" y="0"/>
            <a:ext cx="4307040" cy="6858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201840" cy="4932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76720" y="657360"/>
            <a:ext cx="3924360" cy="44830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Arial"/>
              </a:rPr>
              <a:t>No smoking , No crying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0464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If you smoke , tomorrow is a good day to die.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2920" y="1341360"/>
            <a:ext cx="3600360" cy="2016000"/>
            <a:chOff x="142920" y="1341360"/>
            <a:chExt cx="3600360" cy="2016000"/>
          </a:xfrm>
        </p:grpSpPr>
        <p:sp>
          <p:nvSpPr>
            <p:cNvPr id="47" name=""/>
            <p:cNvSpPr/>
            <p:nvPr/>
          </p:nvSpPr>
          <p:spPr>
            <a:xfrm>
              <a:off x="214200" y="1412640"/>
              <a:ext cx="352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    “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我小时候不得不偷偷摸摸地到处躲着抽烟．唯恐被父母亲发现，”一位已有三个儿子的父亲说，“如今为了不让儿子们看了跟着学，我还得偷偷摸摸地抽烟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2920" y="1341360"/>
              <a:ext cx="3600360" cy="20160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067280" y="225360"/>
            <a:ext cx="4681080" cy="3888000"/>
            <a:chOff x="4067280" y="225360"/>
            <a:chExt cx="4681080" cy="3888000"/>
          </a:xfrm>
        </p:grpSpPr>
        <p:sp>
          <p:nvSpPr>
            <p:cNvPr id="50" name=""/>
            <p:cNvSpPr/>
            <p:nvPr/>
          </p:nvSpPr>
          <p:spPr>
            <a:xfrm>
              <a:off x="4140720" y="297000"/>
              <a:ext cx="46076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     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某化学工厂的围墙壁上写着“严禁烟火”四个大字。尤特每天到这里来溜达。他的行为引起了工厂警卫的注意。 </a:t>
              </a:r>
              <a:br>
                <a:rPr sz="2000"/>
              </a:b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     警卫：“你每天在本厂的四周踱来踱去，是否有什么不良的企图？” </a:t>
              </a:r>
              <a:br>
                <a:rPr sz="2000"/>
              </a:b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     尤特：“哦！绝对没有，我是到这儿来戒烟的。我妻子对我说，‘你要么要烟，要么要我，两者选一’。所以我不得不每天到这里来看看、走走，直至戒烟为止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67280" y="225360"/>
              <a:ext cx="4681080" cy="38880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黑色笑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5600" y="4292640"/>
            <a:ext cx="790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eorgia"/>
                <a:ea typeface="新宋体"/>
              </a:rPr>
              <a:t>请问这仅仅是两个笑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16000" y="3824280"/>
            <a:ext cx="7561080" cy="1952640"/>
            <a:chOff x="216000" y="3824280"/>
            <a:chExt cx="7561080" cy="1952640"/>
          </a:xfrm>
        </p:grpSpPr>
        <p:grpSp>
          <p:nvGrpSpPr>
            <p:cNvPr id="55" name=""/>
            <p:cNvGrpSpPr/>
            <p:nvPr/>
          </p:nvGrpSpPr>
          <p:grpSpPr>
            <a:xfrm>
              <a:off x="216000" y="3824280"/>
              <a:ext cx="7561080" cy="1952640"/>
              <a:chOff x="216000" y="3824280"/>
              <a:chExt cx="7561080" cy="1952640"/>
            </a:xfrm>
          </p:grpSpPr>
          <p:sp>
            <p:nvSpPr>
              <p:cNvPr id="56" name=""/>
              <p:cNvSpPr/>
              <p:nvPr/>
            </p:nvSpPr>
            <p:spPr>
              <a:xfrm>
                <a:off x="216000" y="3824280"/>
                <a:ext cx="3527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6000" y="3824280"/>
                <a:ext cx="0" cy="1952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6000" y="5776920"/>
                <a:ext cx="75610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43280" y="3824280"/>
                <a:ext cx="0" cy="604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43280" y="4429080"/>
                <a:ext cx="39607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704000" y="4429080"/>
                <a:ext cx="0" cy="134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43000" y="3833640"/>
              <a:ext cx="36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当前全世界烟民已达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亿，每年因吸烟导致疾病死亡者约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万。在我国有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亿吸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000" y="4724280"/>
              <a:ext cx="7272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上升趋势。据卫生部门近年来所作的抽样调查发现，在大学、高中和初中男生中，吸烟的比率分别高达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％、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％和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形势是异常严峻的。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8640" y="4410000"/>
              <a:ext cx="432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者，其中未成年人吸烟比率呈逐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62064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是“世界无烟日，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世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代以来，全球范围内已有大量流行病学研究证实，吸烟是导致肺癌的首要危险因素。为了引起国际社会对烟草危害人类健康的重视，世界卫生组织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987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建议将每年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定为“世界无烟日”，并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98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开始执行。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起，世界无烟日改为每年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。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20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实验证明，提取香烟中的尼古丁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滴放在小狗的舌头上，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分钟小狗立即中毒死亡，成人只要服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毫克尼古丁，就会立即身亡。美国有一个团体举行吸烟比赛，一位“吸烟冠军”接连吸了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支香烟，还没来得及领奖，当场中毒死亡了。可见烟中的尼古丁、烟焦油等的毒性是多么的厉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3537000"/>
            <a:ext cx="74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科学家曾对千余名儿童进行长期研究，结果发现，家庭成员每天吸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支以下香烟，其儿童身高平均矮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0.45cm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；每天吸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支以上的家庭，儿童身高平均矮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0.65cm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；每天吸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支以上的家庭儿童，其身高平均矮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0.91cm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12536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据调查，在吸烟家庭成长到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岁的儿童，其阅读能力明显低于不吸烟家庭的儿童，在吸烟家庭成长到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岁的儿童，其阅读能力延迟了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个月，算术能力延迟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个月。留级生的家庭成员多数吸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188136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280" y="3465360"/>
            <a:ext cx="76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由于人的大脑对氧的需要量大，对缺氧十分敏感，因此，吸多了烟就会感到精力不集中，甚至出现头痛、头昏现象，久之，大脑就要受到损害，使思维变得迟钝，记忆力减退，必然影响学习和工作，使学生的成绩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1640" y="944640"/>
            <a:ext cx="349272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88000" y="944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7280" y="152280"/>
            <a:ext cx="86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时候相爱是一种无奈，有时候离开是另一种安排。为了爱你和你爱的人，请不要吸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5:50:52Z</dcterms:created>
  <dc:creator>未知用户</dc:creator>
  <dc:description/>
  <dc:language>en-US</dc:language>
  <cp:lastModifiedBy>niuser</cp:lastModifiedBy>
  <dcterms:modified xsi:type="dcterms:W3CDTF">2012-05-17T11:00:11Z</dcterms:modified>
  <cp:revision>4</cp:revision>
  <dc:subject/>
  <dc:title>幻灯片 1</dc:title>
</cp:coreProperties>
</file>