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38.jpeg" ContentType="image/jpeg"/>
  <Override PartName="/ppt/media/image45.png" ContentType="image/png"/>
  <Override PartName="/ppt/media/image44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7199313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9475-2513-493B-8AD0-A6B2C2857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663588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2240" y="2900520"/>
            <a:ext cx="663588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1B0B-CD53-499D-A682-6A9D8D6D0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280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2240" y="290052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2800" y="290052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1677-DB9B-48A2-BCC5-D4936B4A3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26120" y="88704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70000" y="88704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2240" y="290052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26120" y="290052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70000" y="290052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5FAA-CCBF-430F-8BF6-371E7FCCB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B7FF6-BCB8-4DF2-8CD7-D8611FD4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2240" y="887040"/>
            <a:ext cx="663588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C7E27-D097-47F2-9A29-582771EE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663588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A5F82-0392-4096-9367-55789A60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32382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2800" y="887040"/>
            <a:ext cx="32382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7033A-3FF8-4B09-B163-97B60B9E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2E73B-A125-4198-B30A-72DA44B2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0000" y="215280"/>
            <a:ext cx="647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1F725-CC5D-4E42-A3B0-D2F2A2D4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82800" y="887040"/>
            <a:ext cx="32382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2240" y="290052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D0279-29EE-40A6-806B-C33BCDCF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2240" y="887040"/>
            <a:ext cx="663588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F7AB-8807-4D85-AFDD-E2624D787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32382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8280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82800" y="290052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DF700-A2EE-49BC-ACCF-2C251CE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8280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2240" y="2900520"/>
            <a:ext cx="663588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F81A1-3DAF-4DDA-86D4-FAE9FDD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663588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2240" y="2900520"/>
            <a:ext cx="663588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0C667-9DB1-44FB-A8F6-FDE99B15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80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2240" y="290052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82800" y="290052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7A08-69D5-4245-B88D-7169916D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26120" y="88704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70000" y="88704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2240" y="290052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26120" y="290052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770000" y="2900520"/>
            <a:ext cx="21366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481CC-ED47-4B75-8BD8-95E56F95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663588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4C53-DA11-4065-8FE8-89D632AEC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32382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2800" y="887040"/>
            <a:ext cx="32382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E6DD-9060-48AC-9644-7ADE90800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6E68-83D9-4074-80DB-D07EC7CBD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215280"/>
            <a:ext cx="647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19CA-DE38-4397-97AC-813724304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2800" y="887040"/>
            <a:ext cx="32382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2240" y="290052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07FB-7C8C-4B30-A381-4E1EF29C5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323820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280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2800" y="290052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9CF9-B2D0-4F98-AEED-3608656CD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224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2800" y="887040"/>
            <a:ext cx="323820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2240" y="2900520"/>
            <a:ext cx="663588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1598-71EA-422C-BA7B-1389C1552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82240" y="887040"/>
            <a:ext cx="663588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5160960" y="4860720"/>
            <a:ext cx="1765440" cy="523800"/>
          </a:xfrm>
          <a:prstGeom prst="rect">
            <a:avLst/>
          </a:prstGeom>
          <a:noFill/>
          <a:ln w="0">
            <a:noFill/>
          </a:ln>
        </p:spPr>
        <p:txBody>
          <a:bodyPr lIns="283680" rIns="283680" tIns="170280" bIns="17028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600" spc="-1" strike="noStrike">
                <a:solidFill>
                  <a:srgbClr val="6d757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6FBA7563-B73F-4F9B-8F51-FE9D236500A3}" type="slidenum">
              <a:rPr b="0" lang="zh-CN" sz="600" spc="-1" strike="noStrike">
                <a:solidFill>
                  <a:srgbClr val="6d7579"/>
                </a:solidFill>
                <a:latin typeface="Arial"/>
              </a:rPr>
              <a:t>&lt;number&gt;</a:t>
            </a:fld>
            <a:r>
              <a:rPr b="0" lang="de-DE" sz="600" spc="-1" strike="noStrike">
                <a:solidFill>
                  <a:srgbClr val="6d7579"/>
                </a:solidFill>
                <a:latin typeface="Arial"/>
              </a:rPr>
              <a:t>  Titel oder Name, Abteilung,  </a:t>
            </a:r>
            <a:r>
              <a:rPr b="0" lang="zh-CN" sz="600" spc="-1" strike="noStrike">
                <a:solidFill>
                  <a:srgbClr val="6d7579"/>
                </a:solidFill>
                <a:latin typeface="Arial"/>
              </a:rPr>
              <a:t>Dat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486400" y="4751280"/>
            <a:ext cx="1482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你的天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v. 27th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24000" y="4807080"/>
            <a:ext cx="230508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——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失恋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60000" y="215280"/>
            <a:ext cx="647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0360" y="1260360"/>
            <a:ext cx="6480000" cy="35625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53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79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360000" y="4917600"/>
            <a:ext cx="1679400" cy="376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460600" y="4917600"/>
            <a:ext cx="2279520" cy="376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5160600" y="4917600"/>
            <a:ext cx="1679400" cy="376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5DBA2B27-4EC4-414D-AC1F-DF9CB69AA4AA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486400" y="4751280"/>
            <a:ext cx="1482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你的天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v. 27th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24000" y="4807080"/>
            <a:ext cx="230508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——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失恋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040360" y="1476360"/>
            <a:ext cx="1206360" cy="248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 rot="6846600">
            <a:off x="-177480" y="-1217160"/>
            <a:ext cx="1009440" cy="1219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1160" y="380844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不是你的天使原创</a:t>
            </a:r>
            <a:r>
              <a:rPr b="0" lang="en-US" sz="20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PPT——</a:t>
            </a:r>
            <a:r>
              <a:rPr b="0" lang="zh-CN" sz="20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失恋</a:t>
            </a:r>
            <a:r>
              <a:rPr b="0" lang="en-US" sz="20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33</a:t>
            </a:r>
            <a:r>
              <a:rPr b="0" lang="zh-CN" sz="20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 rot="18145200">
            <a:off x="-1181880" y="-913320"/>
            <a:ext cx="1009800" cy="1220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7196040" cy="5403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144360" y="4788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1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1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0353E-006 1.17647E-006 C 0.05269 0.06412 0.19952 0.27059 0.3168 0.38382 C 0.43409 0.49706 0.53836 0.59382 0.70437 0.68 C 0.87037 0.76618 1.18607 0.855 1.31283 0.90118 E">
                                      <p:cBhvr>
                                        <p:cTn id="27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1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9753E-006 -3.52941E-006 C 0.05754 0.05971 0.23391 0.25853 0.34458 0.35736 C 0.45525 0.45618 0.54454 0.52647 0.66358 0.59265 C 0.78263 0.65883 0.95371 0.71471 1.05887 0.755 C 1.1638 0.7953 1.24449 0.81824 1.29343 0.83471 E">
                                      <p:cBhvr>
                                        <p:cTn id="36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1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0" y="-1440"/>
            <a:ext cx="7196400" cy="5402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77720" y="4835160"/>
            <a:ext cx="28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已 经 过 去 两 个 礼 拜 了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￣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ε(#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￣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13000" y="204444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十四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0" y="-1440"/>
            <a:ext cx="7196400" cy="5402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9960" y="4835160"/>
            <a:ext cx="28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开 始，从 窗 口 寻 找 你 的 身 影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(‘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﹏′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13000" y="204444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康娃娃体W5(P)"/>
                <a:ea typeface="华康娃娃体W5(P)"/>
              </a:rPr>
              <a:t>失恋  第十七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01080" cy="5403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81600" y="204444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康娃娃体W5(P)"/>
                <a:ea typeface="华康娃娃体W5(P)"/>
              </a:rPr>
              <a:t>失恋  第十八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9440" y="4835160"/>
            <a:ext cx="42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一 次，又 一 次 的 想 象，你 就 在 楼 下 等 我</a:t>
            </a:r>
            <a:r>
              <a:rPr b="0" lang="de-DE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&lt;(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￣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c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￣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)y▂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43640" y="4835160"/>
            <a:ext cx="34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从 白 天 到 黑 夜，从 黑 夜 到 白 天  （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—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.—||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24280" y="204444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康娃娃体W5(P)"/>
                <a:ea typeface="华康娃娃体W5(P)"/>
              </a:rPr>
              <a:t>失恋  第十九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4427E-006 5.55112E-017 L -0.15101 5.55112E-017 E">
                                      <p:cBhvr>
                                        <p:cTn id="319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0" y="-1440"/>
            <a:ext cx="7196400" cy="5402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99200" y="4835160"/>
            <a:ext cx="38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傻 傻 的，就 这 样 傻 傻 的，过 了 三 个 礼 拜   ╮</a:t>
            </a:r>
            <a:r>
              <a:rPr b="0" lang="de-DE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(╯▽╰)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9640" y="1263960"/>
            <a:ext cx="38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3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5403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7201080" cy="5402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95640" y="4835160"/>
            <a:ext cx="12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仿佛一回头，就能看见你，仿佛你从未离开过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╮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（￣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﹏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￣）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53320" y="20444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二十三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608560" y="4835160"/>
            <a:ext cx="219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真 的 真 的，好 想 你  （＞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﹏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＜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5760" y="20444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二十五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04040" y="4835160"/>
            <a:ext cx="166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打 开 衣 柜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(&gt;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。ヘ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8480" y="1263960"/>
            <a:ext cx="302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3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7196040" cy="5402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80" y="-1440"/>
            <a:ext cx="7196400" cy="5402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26560" y="483516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闻 闻 你 的 味 道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(Θω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8480" y="1263960"/>
            <a:ext cx="302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64374E-007 4.70588E-006 L 0.11398 4.70588E-006 E">
                                      <p:cBhvr>
                                        <p:cTn id="410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08520" y="4835160"/>
            <a:ext cx="32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每 一 个 曾 经 缠 绵 过 的 地 方   ＼（￣）￣）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31040" y="20444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二十八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87240" y="941400"/>
            <a:ext cx="279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Arial"/>
                <a:ea typeface="迷你简汉真广标"/>
              </a:rPr>
              <a:t>分手后如果再相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50560" y="1547640"/>
            <a:ext cx="1521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分手⒈天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假若我们相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我会看着你的眼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用泪水告诉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不愿意看你离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只要你回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重新开始多少次我都愿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8280" y="1547640"/>
            <a:ext cx="127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分手⒈周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假若我们相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我不知所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直到你消失在人群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我才知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这个夜晚陪伴我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只剩下哭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9960" y="1547640"/>
            <a:ext cx="164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分手半个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假若我们相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我会掉转眼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假装没有看见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却在心中升起希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希望听到你叫我的声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听见我每晚魂牵梦绕的声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31560" y="1547640"/>
            <a:ext cx="176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分手⒈个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假若我们相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我会停下脚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静静地站在街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不想被你的快乐看见我的哀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已经注定的结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好不容易平复下来的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不想再被打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62880" y="1301760"/>
            <a:ext cx="24238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分手已经</a:t>
            </a:r>
            <a:r>
              <a:rPr b="0" lang="en-US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33</a:t>
            </a: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天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假若我们相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打招呼的表情可以是淡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心里涌起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却还是深深的惋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也许还有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是爱情留下的痕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這一秒，我說我愛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下一秒，我已經失去了你</a:t>
            </a:r>
            <a:r>
              <a:rPr b="0" lang="en-US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不過一秒，我承諾的愛，無法兌現</a:t>
            </a:r>
            <a:r>
              <a:rPr b="0" lang="en-US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愛情，過了限期  成了悔疚</a:t>
            </a:r>
            <a:r>
              <a:rPr b="0" lang="en-US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沒法讓我</a:t>
            </a:r>
            <a:r>
              <a:rPr b="0" lang="en-US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…</a:t>
            </a: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再說一次 </a:t>
            </a:r>
            <a:r>
              <a:rPr b="0" lang="en-US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~ </a:t>
            </a:r>
            <a:r>
              <a:rPr b="0" lang="zh-CN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我愛你</a:t>
            </a:r>
            <a:r>
              <a:rPr b="0" lang="en-US" sz="1600" spc="-1" strike="noStrike">
                <a:solidFill>
                  <a:srgbClr val="996633"/>
                </a:solidFill>
                <a:latin typeface="华康娃娃体W5"/>
                <a:ea typeface="华康娃娃体W5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8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8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8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8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8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8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78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8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18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0" y="-1440"/>
            <a:ext cx="7196400" cy="5402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54560" y="483516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都 让 我 无 法 自 拔  （┬＿┬）↘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22360" y="20444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康娃娃体W5(P)"/>
                <a:ea typeface="华康娃娃体W5(P)"/>
              </a:rPr>
              <a:t>失恋  第二十九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5403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01080" cy="5403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594520" y="48351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身 旁 依 然 没 有 你 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○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（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〒▽〒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）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23400" y="29793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康娃娃体W5(P)"/>
                <a:ea typeface="华康娃娃体W5(P)"/>
              </a:rPr>
              <a:t>失恋  第三十一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8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7201080" cy="5402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7201080" cy="5402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456640" y="4835160"/>
            <a:ext cx="24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好 想 你 再 次 抓 住 我 的 手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ノへ￣、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09320" y="20444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三十二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96040" cy="5403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83360" y="4835160"/>
            <a:ext cx="40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哪 怕 是 一 个 梦，就 让 我 永 远 不 要 醒 来    </a:t>
            </a:r>
            <a:r>
              <a:rPr b="0" lang="de-DE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～</a:t>
            </a:r>
            <a:r>
              <a:rPr b="0" lang="de-DE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﹃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～</a:t>
            </a:r>
            <a:r>
              <a:rPr b="0" lang="de-DE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)~z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0800" y="16124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康娃娃体W5(P)"/>
                <a:ea typeface="华康娃娃体W5(P)"/>
              </a:rPr>
              <a:t>失恋  第三十三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7196040" cy="5402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0" y="-1440"/>
            <a:ext cx="7196400" cy="5402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16000" y="1405080"/>
            <a:ext cx="6753240" cy="1476360"/>
          </a:xfrm>
          <a:prstGeom prst="rect">
            <a:avLst/>
          </a:prstGeom>
          <a:ln w="0">
            <a:noFill/>
          </a:ln>
        </p:spPr>
      </p:pic>
    </p:spTree>
  </p:cSld>
  <p:transition advTm="20000"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0" y="-1440"/>
            <a:ext cx="7196400" cy="540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145600" y="132372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一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33320" y="4835160"/>
            <a:ext cx="39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有 什 么 了 不 起，就 算 他 来 找 我，我 也 不 原 谅 他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￣、￣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6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7196040" cy="540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88080" y="4835160"/>
            <a:ext cx="28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打 电 话 给 我，就 原 谅 你   （～￣▽￣～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29960" y="1507320"/>
            <a:ext cx="30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24720" y="132372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三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23720" y="4835160"/>
            <a:ext cx="28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为 什 么 电 话 还 没 有 响 呢   （￣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c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￣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7196400" cy="5403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17120" y="312372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五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8520" y="4835160"/>
            <a:ext cx="45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门 外 的 每 一 次 脚 步 声，都 让 我 心 跳 加 速，是 你 吗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~(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￣▽￣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)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7196040" cy="5402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71960" y="20444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八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98600" y="4835160"/>
            <a:ext cx="27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开 始 喝 酒 了。可 是 你 都 不 管 我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╥﹏╥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5403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40920" y="20444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十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64080" y="4835160"/>
            <a:ext cx="18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我 想 你 了   </a:t>
            </a:r>
            <a:r>
              <a:rPr b="0" lang="de-DE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(ˇˍˇ</a:t>
            </a: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） 想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96040" cy="5403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43000" y="4835160"/>
            <a:ext cx="32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脑 海 里，为 什 么 都 是 你 的 影 子   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╮</a:t>
            </a:r>
            <a:r>
              <a:rPr b="0" lang="en-US" sz="1600" spc="-1" strike="noStrike">
                <a:solidFill>
                  <a:srgbClr val="ffffff"/>
                </a:solidFill>
                <a:latin typeface="华康娃娃体W5(P)"/>
                <a:ea typeface="华康娃娃体W5(P)"/>
              </a:rPr>
              <a:t>(╯_╰)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13000" y="204444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华康娃娃体W5(P)"/>
                <a:ea typeface="华康娃娃体W5(P)"/>
              </a:rPr>
              <a:t>失恋  第十三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dc:language>en-US</dc:language>
  <cp:lastModifiedBy>User</cp:lastModifiedBy>
  <dcterms:modified xsi:type="dcterms:W3CDTF">2015-07-24T06:37:01Z</dcterms:modified>
  <cp:revision>1479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