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84362-0943-4444-A224-990C8DF4B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1288E-0673-44E2-AC62-5AF9A5AF6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9DABB-F292-4457-9A0C-CF42767BA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4EAC5-5CA4-45CC-B6F6-B6C7109AA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AFA88-22EB-4B0D-ADB7-1EA28A429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6241F-F197-4242-BB21-82CCF78A5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7BE7D-9418-44DC-9E13-CA35E6653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2EA8D-AEE1-443C-BA75-6497B8E39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561E0-571F-4C02-A00D-AFB0A0771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64E6D-5EE6-44D0-8C89-7BCD86066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AA149-DB32-4A7D-A719-697DC8702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11343-D33D-48EE-8949-AF8395217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3E854-782B-4911-94A0-D5868D5ED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C563C-4130-48D0-A152-037EA8414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64D79-13AF-4CED-8533-8C0B07485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DA936-F995-4149-B77F-557D91309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5D8A4-539E-444B-938D-7E771C2F8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85200-2B0C-4E14-AB3F-6E9857104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A2DA6-63C0-4FFB-8F85-D1682119C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84CCB-946A-4AB7-9EE6-735553561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3BE4E-B9E5-44C5-8A1F-97B54D296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67F10-404E-4342-A325-D0E2BFC54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7E728-4C1D-44AC-821C-38DE1A699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FF99F-F1DF-44D5-9388-55D47B54F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A84DA-E181-4952-8308-F8FEEAB109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Object 8"/>
          <p:cNvGraphicFramePr/>
          <p:nvPr/>
        </p:nvGraphicFramePr>
        <p:xfrm>
          <a:off x="0" y="-1440"/>
          <a:ext cx="9906120" cy="685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2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-1440"/>
                    <a:ext cx="990612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2F38F-C7C2-4FA7-9BAA-3153D74113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그림 81" descr="BG_004.jpg"/>
          <p:cNvPicPr/>
          <p:nvPr/>
        </p:nvPicPr>
        <p:blipFill>
          <a:blip r:embed="rId1"/>
          <a:stretch/>
        </p:blipFill>
        <p:spPr>
          <a:xfrm>
            <a:off x="0" y="0"/>
            <a:ext cx="992988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矩形 6"/>
          <p:cNvSpPr/>
          <p:nvPr/>
        </p:nvSpPr>
        <p:spPr>
          <a:xfrm>
            <a:off x="3350160" y="549360"/>
            <a:ext cx="3610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00000"/>
                </a:solidFill>
                <a:latin typeface="华文隶书"/>
                <a:ea typeface="华文隶书"/>
              </a:rPr>
              <a:t>时尚女孩幻灯片模板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Group 37"/>
          <p:cNvGrpSpPr/>
          <p:nvPr/>
        </p:nvGrpSpPr>
        <p:grpSpPr>
          <a:xfrm>
            <a:off x="2286000" y="2725560"/>
            <a:ext cx="5547600" cy="432000"/>
            <a:chOff x="2286000" y="2725560"/>
            <a:chExt cx="5547600" cy="432000"/>
          </a:xfrm>
        </p:grpSpPr>
        <p:sp>
          <p:nvSpPr>
            <p:cNvPr id="87" name="AutoShape 38"/>
            <p:cNvSpPr/>
            <p:nvPr/>
          </p:nvSpPr>
          <p:spPr>
            <a:xfrm>
              <a:off x="2286000" y="2725560"/>
              <a:ext cx="5547600" cy="432000"/>
            </a:xfrm>
            <a:prstGeom prst="roundRect">
              <a:avLst>
                <a:gd name="adj" fmla="val 28167"/>
              </a:avLst>
            </a:prstGeom>
            <a:gradFill rotWithShape="0">
              <a:gsLst>
                <a:gs pos="0">
                  <a:srgbClr val="1a558a"/>
                </a:gs>
                <a:gs pos="50000">
                  <a:srgbClr val="43a7e5"/>
                </a:gs>
                <a:gs pos="100000">
                  <a:srgbClr val="1a558a"/>
                </a:gs>
              </a:gsLst>
              <a:lin ang="0"/>
            </a:gradFill>
            <a:ln w="19080">
              <a:solidFill>
                <a:srgbClr val="ffffff"/>
              </a:solidFill>
              <a:miter/>
            </a:ln>
            <a:effectLst>
              <a:outerShdw dist="153753" dir="2700000" blurRad="0" rotWithShape="0">
                <a:srgbClr val="1b83c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8" name="AutoShape 39"/>
            <p:cNvSpPr/>
            <p:nvPr/>
          </p:nvSpPr>
          <p:spPr>
            <a:xfrm>
              <a:off x="2395800" y="2729880"/>
              <a:ext cx="5322960" cy="1202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beeff">
                    <a:alpha val="4117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9" name="Text Box 23"/>
          <p:cNvSpPr/>
          <p:nvPr/>
        </p:nvSpPr>
        <p:spPr>
          <a:xfrm>
            <a:off x="3189240" y="2743200"/>
            <a:ext cx="4495680" cy="371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 marL="457200" indent="-45720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굴림"/>
                <a:ea typeface="Arial"/>
              </a:rPr>
              <a:t>Click to add title in here    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Text Box 41"/>
          <p:cNvSpPr/>
          <p:nvPr/>
        </p:nvSpPr>
        <p:spPr>
          <a:xfrm>
            <a:off x="2300400" y="2743200"/>
            <a:ext cx="869760" cy="31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 marL="457200" indent="-45720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3a7e5"/>
                </a:solidFill>
                <a:latin typeface="굴림"/>
                <a:ea typeface="Arial"/>
              </a:rPr>
              <a:t>01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91" name="Group 112"/>
          <p:cNvGrpSpPr/>
          <p:nvPr/>
        </p:nvGrpSpPr>
        <p:grpSpPr>
          <a:xfrm>
            <a:off x="2286000" y="3335400"/>
            <a:ext cx="5547600" cy="431640"/>
            <a:chOff x="2286000" y="3335400"/>
            <a:chExt cx="5547600" cy="431640"/>
          </a:xfrm>
        </p:grpSpPr>
        <p:sp>
          <p:nvSpPr>
            <p:cNvPr id="92" name="AutoShape 113"/>
            <p:cNvSpPr/>
            <p:nvPr/>
          </p:nvSpPr>
          <p:spPr>
            <a:xfrm>
              <a:off x="2286000" y="3335400"/>
              <a:ext cx="5547600" cy="431640"/>
            </a:xfrm>
            <a:prstGeom prst="roundRect">
              <a:avLst>
                <a:gd name="adj" fmla="val 28167"/>
              </a:avLst>
            </a:prstGeom>
            <a:gradFill rotWithShape="0">
              <a:gsLst>
                <a:gs pos="0">
                  <a:srgbClr val="1a558a"/>
                </a:gs>
                <a:gs pos="50000">
                  <a:srgbClr val="43a7e5"/>
                </a:gs>
                <a:gs pos="100000">
                  <a:srgbClr val="1a558a"/>
                </a:gs>
              </a:gsLst>
              <a:lin ang="0"/>
            </a:gradFill>
            <a:ln w="19080">
              <a:solidFill>
                <a:srgbClr val="ffffff"/>
              </a:solidFill>
              <a:miter/>
            </a:ln>
            <a:effectLst>
              <a:outerShdw dist="153753" dir="2700000" blurRad="0" rotWithShape="0">
                <a:srgbClr val="1b83c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3" name="AutoShape 114"/>
            <p:cNvSpPr/>
            <p:nvPr/>
          </p:nvSpPr>
          <p:spPr>
            <a:xfrm>
              <a:off x="2395800" y="3339720"/>
              <a:ext cx="5322960" cy="1198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beeff">
                    <a:alpha val="4117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94" name="Text Box 115"/>
          <p:cNvSpPr/>
          <p:nvPr/>
        </p:nvSpPr>
        <p:spPr>
          <a:xfrm>
            <a:off x="3189240" y="3352680"/>
            <a:ext cx="4495680" cy="371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 marL="457200" indent="-45720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굴림"/>
                <a:ea typeface="Arial"/>
              </a:rPr>
              <a:t>Click to add title in here    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Text Box 116"/>
          <p:cNvSpPr/>
          <p:nvPr/>
        </p:nvSpPr>
        <p:spPr>
          <a:xfrm>
            <a:off x="2300400" y="3352680"/>
            <a:ext cx="869760" cy="31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 marL="457200" indent="-45720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3a7e5"/>
                </a:solidFill>
                <a:latin typeface="굴림"/>
                <a:ea typeface="Arial"/>
              </a:rPr>
              <a:t>02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96" name="Group 117"/>
          <p:cNvGrpSpPr/>
          <p:nvPr/>
        </p:nvGrpSpPr>
        <p:grpSpPr>
          <a:xfrm>
            <a:off x="2286000" y="3944880"/>
            <a:ext cx="5547600" cy="432000"/>
            <a:chOff x="2286000" y="3944880"/>
            <a:chExt cx="5547600" cy="432000"/>
          </a:xfrm>
        </p:grpSpPr>
        <p:sp>
          <p:nvSpPr>
            <p:cNvPr id="97" name="AutoShape 118"/>
            <p:cNvSpPr/>
            <p:nvPr/>
          </p:nvSpPr>
          <p:spPr>
            <a:xfrm>
              <a:off x="2286000" y="3944880"/>
              <a:ext cx="5547600" cy="432000"/>
            </a:xfrm>
            <a:prstGeom prst="roundRect">
              <a:avLst>
                <a:gd name="adj" fmla="val 28167"/>
              </a:avLst>
            </a:prstGeom>
            <a:gradFill rotWithShape="0">
              <a:gsLst>
                <a:gs pos="0">
                  <a:srgbClr val="1a558a"/>
                </a:gs>
                <a:gs pos="50000">
                  <a:srgbClr val="43a7e5"/>
                </a:gs>
                <a:gs pos="100000">
                  <a:srgbClr val="1a558a"/>
                </a:gs>
              </a:gsLst>
              <a:lin ang="0"/>
            </a:gradFill>
            <a:ln w="19080">
              <a:solidFill>
                <a:srgbClr val="ffffff"/>
              </a:solidFill>
              <a:miter/>
            </a:ln>
            <a:effectLst>
              <a:outerShdw dist="153753" dir="2700000" blurRad="0" rotWithShape="0">
                <a:srgbClr val="1b83c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8" name="AutoShape 119"/>
            <p:cNvSpPr/>
            <p:nvPr/>
          </p:nvSpPr>
          <p:spPr>
            <a:xfrm>
              <a:off x="2395800" y="3949200"/>
              <a:ext cx="5322960" cy="1202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beeff">
                    <a:alpha val="4117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99" name="Text Box 120"/>
          <p:cNvSpPr/>
          <p:nvPr/>
        </p:nvSpPr>
        <p:spPr>
          <a:xfrm>
            <a:off x="3189240" y="3962520"/>
            <a:ext cx="4495680" cy="371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 marL="457200" indent="-45720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굴림"/>
                <a:ea typeface="Arial"/>
              </a:rPr>
              <a:t>Click to add title in here    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Text Box 121"/>
          <p:cNvSpPr/>
          <p:nvPr/>
        </p:nvSpPr>
        <p:spPr>
          <a:xfrm>
            <a:off x="2300400" y="3962520"/>
            <a:ext cx="869760" cy="31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 marL="457200" indent="-45720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3a7e5"/>
                </a:solidFill>
                <a:latin typeface="굴림"/>
                <a:ea typeface="Arial"/>
              </a:rPr>
              <a:t>03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01" name="Group 122"/>
          <p:cNvGrpSpPr/>
          <p:nvPr/>
        </p:nvGrpSpPr>
        <p:grpSpPr>
          <a:xfrm>
            <a:off x="2286000" y="4554360"/>
            <a:ext cx="5547600" cy="432000"/>
            <a:chOff x="2286000" y="4554360"/>
            <a:chExt cx="5547600" cy="432000"/>
          </a:xfrm>
        </p:grpSpPr>
        <p:sp>
          <p:nvSpPr>
            <p:cNvPr id="102" name="AutoShape 123"/>
            <p:cNvSpPr/>
            <p:nvPr/>
          </p:nvSpPr>
          <p:spPr>
            <a:xfrm>
              <a:off x="2286000" y="4554360"/>
              <a:ext cx="5547600" cy="432000"/>
            </a:xfrm>
            <a:prstGeom prst="roundRect">
              <a:avLst>
                <a:gd name="adj" fmla="val 28167"/>
              </a:avLst>
            </a:prstGeom>
            <a:gradFill rotWithShape="0">
              <a:gsLst>
                <a:gs pos="0">
                  <a:srgbClr val="1a558a"/>
                </a:gs>
                <a:gs pos="50000">
                  <a:srgbClr val="43a7e5"/>
                </a:gs>
                <a:gs pos="100000">
                  <a:srgbClr val="1a558a"/>
                </a:gs>
              </a:gsLst>
              <a:lin ang="0"/>
            </a:gradFill>
            <a:ln w="19080">
              <a:solidFill>
                <a:srgbClr val="ffffff"/>
              </a:solidFill>
              <a:miter/>
            </a:ln>
            <a:effectLst>
              <a:outerShdw dist="153753" dir="2700000" blurRad="0" rotWithShape="0">
                <a:srgbClr val="1b83c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3" name="AutoShape 124"/>
            <p:cNvSpPr/>
            <p:nvPr/>
          </p:nvSpPr>
          <p:spPr>
            <a:xfrm>
              <a:off x="2395800" y="4558680"/>
              <a:ext cx="5322960" cy="1202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beeff">
                    <a:alpha val="4117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04" name="Text Box 125"/>
          <p:cNvSpPr/>
          <p:nvPr/>
        </p:nvSpPr>
        <p:spPr>
          <a:xfrm>
            <a:off x="3189240" y="4572000"/>
            <a:ext cx="4495680" cy="371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 marL="457200" indent="-45720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굴림"/>
                <a:ea typeface="Arial"/>
              </a:rPr>
              <a:t>Click to add title in here    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Text Box 126"/>
          <p:cNvSpPr/>
          <p:nvPr/>
        </p:nvSpPr>
        <p:spPr>
          <a:xfrm>
            <a:off x="2300400" y="4572000"/>
            <a:ext cx="869760" cy="31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 marL="457200" indent="-45720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3a7e5"/>
                </a:solidFill>
                <a:latin typeface="굴림"/>
                <a:ea typeface="Arial"/>
              </a:rPr>
              <a:t>04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06" name="Group 127"/>
          <p:cNvGrpSpPr/>
          <p:nvPr/>
        </p:nvGrpSpPr>
        <p:grpSpPr>
          <a:xfrm>
            <a:off x="2286000" y="5164200"/>
            <a:ext cx="5547600" cy="431640"/>
            <a:chOff x="2286000" y="5164200"/>
            <a:chExt cx="5547600" cy="431640"/>
          </a:xfrm>
        </p:grpSpPr>
        <p:sp>
          <p:nvSpPr>
            <p:cNvPr id="107" name="AutoShape 128"/>
            <p:cNvSpPr/>
            <p:nvPr/>
          </p:nvSpPr>
          <p:spPr>
            <a:xfrm>
              <a:off x="2286000" y="5164200"/>
              <a:ext cx="5547600" cy="431640"/>
            </a:xfrm>
            <a:prstGeom prst="roundRect">
              <a:avLst>
                <a:gd name="adj" fmla="val 28167"/>
              </a:avLst>
            </a:prstGeom>
            <a:gradFill rotWithShape="0">
              <a:gsLst>
                <a:gs pos="0">
                  <a:srgbClr val="1a558a"/>
                </a:gs>
                <a:gs pos="50000">
                  <a:srgbClr val="43a7e5"/>
                </a:gs>
                <a:gs pos="100000">
                  <a:srgbClr val="1a558a"/>
                </a:gs>
              </a:gsLst>
              <a:lin ang="0"/>
            </a:gradFill>
            <a:ln w="19080">
              <a:solidFill>
                <a:srgbClr val="ffffff"/>
              </a:solidFill>
              <a:miter/>
            </a:ln>
            <a:effectLst>
              <a:outerShdw dist="153753" dir="2700000" blurRad="0" rotWithShape="0">
                <a:srgbClr val="1b83c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8" name="AutoShape 129"/>
            <p:cNvSpPr/>
            <p:nvPr/>
          </p:nvSpPr>
          <p:spPr>
            <a:xfrm>
              <a:off x="2395800" y="5168520"/>
              <a:ext cx="5322960" cy="1198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beeff">
                    <a:alpha val="4117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09" name="Text Box 130"/>
          <p:cNvSpPr/>
          <p:nvPr/>
        </p:nvSpPr>
        <p:spPr>
          <a:xfrm>
            <a:off x="3189240" y="5181480"/>
            <a:ext cx="4495680" cy="371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 marL="457200" indent="-45720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굴림"/>
                <a:ea typeface="Arial"/>
              </a:rPr>
              <a:t>Click to add title in here    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Text Box 131"/>
          <p:cNvSpPr/>
          <p:nvPr/>
        </p:nvSpPr>
        <p:spPr>
          <a:xfrm>
            <a:off x="2300400" y="5181480"/>
            <a:ext cx="869760" cy="31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 marL="457200" indent="-45720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3a7e5"/>
                </a:solidFill>
                <a:latin typeface="굴림"/>
                <a:ea typeface="Arial"/>
              </a:rPr>
              <a:t>05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1" name="Picture 22" descr="bar"/>
          <p:cNvPicPr/>
          <p:nvPr/>
        </p:nvPicPr>
        <p:blipFill>
          <a:blip r:embed="rId1"/>
          <a:stretch/>
        </p:blipFill>
        <p:spPr>
          <a:xfrm>
            <a:off x="2405160" y="1773360"/>
            <a:ext cx="5427720" cy="59364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13"/>
          <p:cNvSpPr/>
          <p:nvPr/>
        </p:nvSpPr>
        <p:spPr>
          <a:xfrm>
            <a:off x="2865600" y="1844640"/>
            <a:ext cx="45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CONTENT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직사각형 17"/>
          <p:cNvSpPr/>
          <p:nvPr/>
        </p:nvSpPr>
        <p:spPr>
          <a:xfrm>
            <a:off x="2571840" y="3143160"/>
            <a:ext cx="500040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a6a6a6"/>
                </a:solidFill>
                <a:latin typeface="Tahoma"/>
                <a:ea typeface="Galapogos BRK"/>
              </a:rPr>
              <a:t>Insert Text</a:t>
            </a:r>
            <a:endParaRPr b="0" lang="en-US" sz="5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4" name="직사각형 21" descr=""/>
          <p:cNvPicPr/>
          <p:nvPr/>
        </p:nvPicPr>
        <p:blipFill>
          <a:blip r:embed="rId1"/>
          <a:stretch/>
        </p:blipFill>
        <p:spPr>
          <a:xfrm>
            <a:off x="-6480" y="122400"/>
            <a:ext cx="3157560" cy="74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12"/>
          <p:cNvSpPr/>
          <p:nvPr/>
        </p:nvSpPr>
        <p:spPr>
          <a:xfrm>
            <a:off x="3405960" y="3032280"/>
            <a:ext cx="3192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HC헤드라인1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矩形 2"/>
          <p:cNvSpPr/>
          <p:nvPr/>
        </p:nvSpPr>
        <p:spPr>
          <a:xfrm>
            <a:off x="2268360" y="2708280"/>
            <a:ext cx="66060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굴림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굴림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굴림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굴림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굴림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굴림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굴림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굴림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굴림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굴림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굴림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굴림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굴림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굴림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굴림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굴림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굴림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굴림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굴림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굴림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굴림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굴림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굴림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굴림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굴림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굴림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굴림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굴림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굴림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굴림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굴림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굴림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굴림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굴림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굴림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굴림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굴림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굴림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굴림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1T05:05:33Z</dcterms:created>
  <dc:creator>강은정</dc:creator>
  <dc:description/>
  <dc:language>en-US</dc:language>
  <cp:lastModifiedBy>Administrator</cp:lastModifiedBy>
  <dcterms:modified xsi:type="dcterms:W3CDTF">2015-07-04T01:25:04Z</dcterms:modified>
  <cp:revision>17</cp:revision>
  <dc:subject/>
  <dc:title>슬라이드 1</dc:title>
</cp:coreProperties>
</file>