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1" descr="PPT封面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TextBox 2"/>
          <p:cNvSpPr/>
          <p:nvPr/>
        </p:nvSpPr>
        <p:spPr>
          <a:xfrm>
            <a:off x="1979640" y="2781360"/>
            <a:ext cx="5472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物即媒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来生活网营销新路径探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Box 3"/>
          <p:cNvSpPr/>
          <p:nvPr/>
        </p:nvSpPr>
        <p:spPr>
          <a:xfrm>
            <a:off x="3116520" y="4253040"/>
            <a:ext cx="305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来生活网       上海营销中心总经理     邹一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99560" y="1123920"/>
            <a:ext cx="503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物即媒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优质食物作为媒介，成为合作伙伴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39640" y="2492280"/>
            <a:ext cx="7201080" cy="3111480"/>
          </a:xfrm>
          <a:prstGeom prst="rect">
            <a:avLst/>
          </a:prstGeom>
          <a:noFill/>
          <a:ln w="648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节的广泛异业合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媒介价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质食物为竞争领域的促销手段添砖加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一儿童节广泛的婴童类商品降价大促，仅上海便有超过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门店，利用本来生活网提供的优质食物作为促销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商品定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传播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伙伴自媒体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门店活动曝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668880" y="213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案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690920" y="11239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物即媒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食物的美好体验，可以成为传播媒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39640" y="2492280"/>
            <a:ext cx="7417080" cy="3111480"/>
          </a:xfrm>
          <a:prstGeom prst="rect">
            <a:avLst/>
          </a:prstGeom>
          <a:noFill/>
          <a:ln w="648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食进名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媒介价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质食物走进名企，即是为员工带去健康，也是为员工带去额外福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时试吃带来的美好味觉体验，办公室人群的传播效应，都是最好的传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商品定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它即食类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传播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内部员工沟通渠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68880" y="213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案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1335960" y="11239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商营销新路径探索的启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395280" y="1628640"/>
            <a:ext cx="7488360" cy="4537080"/>
            <a:chOff x="395280" y="1628640"/>
            <a:chExt cx="7488360" cy="4537080"/>
          </a:xfrm>
        </p:grpSpPr>
        <p:sp>
          <p:nvSpPr>
            <p:cNvPr id="96" name="AutoShape 4"/>
            <p:cNvSpPr/>
            <p:nvPr/>
          </p:nvSpPr>
          <p:spPr>
            <a:xfrm>
              <a:off x="395280" y="1628640"/>
              <a:ext cx="7488360" cy="4537080"/>
            </a:xfrm>
            <a:prstGeom prst="diamond">
              <a:avLst/>
            </a:prstGeom>
            <a:solidFill>
              <a:srgbClr val="cfd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5"/>
            <p:cNvSpPr/>
            <p:nvPr/>
          </p:nvSpPr>
          <p:spPr>
            <a:xfrm>
              <a:off x="1485720" y="2059560"/>
              <a:ext cx="2555280" cy="17694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1485720" y="2059560"/>
              <a:ext cx="255528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将你可能被需要的价值最大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7"/>
            <p:cNvSpPr/>
            <p:nvPr/>
          </p:nvSpPr>
          <p:spPr>
            <a:xfrm>
              <a:off x="4237920" y="2059560"/>
              <a:ext cx="2555280" cy="17694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4237920" y="2059560"/>
              <a:ext cx="255528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你的价值成为媒介中心，而不是你的企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"/>
            <p:cNvSpPr/>
            <p:nvPr/>
          </p:nvSpPr>
          <p:spPr>
            <a:xfrm>
              <a:off x="1485720" y="3965400"/>
              <a:ext cx="2555280" cy="17694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1485720" y="3965400"/>
              <a:ext cx="255528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单、直接、粗暴也可能奏效，电商营销并不完全等同于高精尖营销手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>
              <a:off x="4237920" y="3965400"/>
              <a:ext cx="2555280" cy="17694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2"/>
            <p:cNvSpPr/>
            <p:nvPr/>
          </p:nvSpPr>
          <p:spPr>
            <a:xfrm>
              <a:off x="4237920" y="3965400"/>
              <a:ext cx="255528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始终关注典型目标用户，用户在哪，我即在哪儿，方式与方法随用户习惯而随时改变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PPT封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3850560" y="17733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仅供交流，请大家指正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1"/>
          <p:cNvSpPr/>
          <p:nvPr/>
        </p:nvSpPr>
        <p:spPr>
          <a:xfrm>
            <a:off x="1187280" y="162864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致谢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易观国际，因此得以有机会来此和大家交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大家接下来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的倾听，电商人有点忙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得简陋，容易招瞌睡，尽力提高音量，以免浪费大家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1"/>
          <p:cNvSpPr/>
          <p:nvPr/>
        </p:nvSpPr>
        <p:spPr>
          <a:xfrm>
            <a:off x="1304280" y="112392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低投入探索期的成绩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Group 3"/>
          <p:cNvGrpSpPr/>
          <p:nvPr/>
        </p:nvGrpSpPr>
        <p:grpSpPr>
          <a:xfrm>
            <a:off x="539640" y="1773360"/>
            <a:ext cx="3889440" cy="3887640"/>
            <a:chOff x="539640" y="1773360"/>
            <a:chExt cx="3889440" cy="3887640"/>
          </a:xfrm>
        </p:grpSpPr>
        <p:sp>
          <p:nvSpPr>
            <p:cNvPr id="42" name="Rectangle 4"/>
            <p:cNvSpPr/>
            <p:nvPr/>
          </p:nvSpPr>
          <p:spPr>
            <a:xfrm>
              <a:off x="539640" y="1773360"/>
              <a:ext cx="1185480" cy="430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539640" y="1773360"/>
              <a:ext cx="118548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73080" bIns="730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商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539640" y="2203920"/>
              <a:ext cx="1185480" cy="3457080"/>
            </a:xfrm>
            <a:prstGeom prst="rect">
              <a:avLst/>
            </a:prstGeom>
            <a:solidFill>
              <a:srgbClr val="cfd8e7">
                <a:alpha val="89000"/>
              </a:srgbClr>
            </a:solidFill>
            <a:ln w="25560">
              <a:solidFill>
                <a:srgbClr val="cfd8e7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539640" y="2203920"/>
              <a:ext cx="118548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113760" tIns="85320" bIns="12816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6000+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优质食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一批明星单品：褚橙、柳桃、潘苹果、安岳柠檬、华子鱼、不知火柑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1891080" y="1818000"/>
              <a:ext cx="1186560" cy="430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1891080" y="1818000"/>
              <a:ext cx="11865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73080" bIns="730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1891080" y="2278440"/>
              <a:ext cx="1186560" cy="3337560"/>
            </a:xfrm>
            <a:prstGeom prst="rect">
              <a:avLst/>
            </a:prstGeom>
            <a:solidFill>
              <a:srgbClr val="cfd8e7">
                <a:alpha val="89000"/>
              </a:srgbClr>
            </a:solidFill>
            <a:ln w="25560">
              <a:solidFill>
                <a:srgbClr val="cfd8e7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1891080" y="2278440"/>
              <a:ext cx="1186560" cy="33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113760" tIns="85320" bIns="12816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北上广深生鲜当日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全国百城配送生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先行赔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本地化的全职能服务团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3243600" y="1803240"/>
              <a:ext cx="1185480" cy="430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3"/>
            <p:cNvSpPr/>
            <p:nvPr/>
          </p:nvSpPr>
          <p:spPr>
            <a:xfrm>
              <a:off x="3243600" y="1803240"/>
              <a:ext cx="118548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73080" bIns="730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口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3243600" y="2234160"/>
              <a:ext cx="1185480" cy="3396960"/>
            </a:xfrm>
            <a:prstGeom prst="rect">
              <a:avLst/>
            </a:prstGeom>
            <a:solidFill>
              <a:srgbClr val="cfd8e7">
                <a:alpha val="89000"/>
              </a:srgbClr>
            </a:solidFill>
            <a:ln w="25560">
              <a:solidFill>
                <a:srgbClr val="cfd8e7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5"/>
            <p:cNvSpPr/>
            <p:nvPr/>
          </p:nvSpPr>
          <p:spPr>
            <a:xfrm>
              <a:off x="3243600" y="2234160"/>
              <a:ext cx="1185480" cy="33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113760" tIns="85320" bIns="12816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优质食品代名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明星大品竞相传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6"/>
          <p:cNvGrpSpPr/>
          <p:nvPr/>
        </p:nvGrpSpPr>
        <p:grpSpPr>
          <a:xfrm>
            <a:off x="4643280" y="1773360"/>
            <a:ext cx="4105440" cy="3960720"/>
            <a:chOff x="4643280" y="1773360"/>
            <a:chExt cx="4105440" cy="3960720"/>
          </a:xfrm>
        </p:grpSpPr>
        <p:sp>
          <p:nvSpPr>
            <p:cNvPr id="55" name="Rectangle 17"/>
            <p:cNvSpPr/>
            <p:nvPr/>
          </p:nvSpPr>
          <p:spPr>
            <a:xfrm>
              <a:off x="4643280" y="1773360"/>
              <a:ext cx="1251360" cy="500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8"/>
            <p:cNvSpPr/>
            <p:nvPr/>
          </p:nvSpPr>
          <p:spPr>
            <a:xfrm>
              <a:off x="4643280" y="1773360"/>
              <a:ext cx="125136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73080" bIns="730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物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9"/>
            <p:cNvSpPr/>
            <p:nvPr/>
          </p:nvSpPr>
          <p:spPr>
            <a:xfrm>
              <a:off x="4643280" y="2255400"/>
              <a:ext cx="1251360" cy="3478680"/>
            </a:xfrm>
            <a:prstGeom prst="rect">
              <a:avLst/>
            </a:prstGeom>
            <a:solidFill>
              <a:srgbClr val="cfd8e7">
                <a:alpha val="89000"/>
              </a:srgbClr>
            </a:solidFill>
            <a:ln w="25560">
              <a:solidFill>
                <a:srgbClr val="cfd8e7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0"/>
            <p:cNvSpPr/>
            <p:nvPr/>
          </p:nvSpPr>
          <p:spPr>
            <a:xfrm>
              <a:off x="4643280" y="2255400"/>
              <a:ext cx="1251360" cy="34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113760" tIns="85320" bIns="12816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全国领先的自有冷链混配物流平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大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一线城市当日达，其它城市次日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配送品质与成本实现良好平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6069600" y="1773360"/>
              <a:ext cx="1251360" cy="500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6069600" y="1773360"/>
              <a:ext cx="125136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73080" bIns="730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供应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3"/>
            <p:cNvSpPr/>
            <p:nvPr/>
          </p:nvSpPr>
          <p:spPr>
            <a:xfrm>
              <a:off x="6082200" y="2292120"/>
              <a:ext cx="1225800" cy="3429720"/>
            </a:xfrm>
            <a:prstGeom prst="rect">
              <a:avLst/>
            </a:prstGeom>
            <a:solidFill>
              <a:srgbClr val="cfd8e7">
                <a:alpha val="89000"/>
              </a:srgbClr>
            </a:solidFill>
            <a:ln w="25560">
              <a:solidFill>
                <a:srgbClr val="cfd8e7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4"/>
            <p:cNvSpPr/>
            <p:nvPr/>
          </p:nvSpPr>
          <p:spPr>
            <a:xfrm>
              <a:off x="6082200" y="2292120"/>
              <a:ext cx="1225800" cy="34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113760" tIns="85320" bIns="12816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十大采购原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趋于成熟、深入腹地的美食买手团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基地直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合作社探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国际直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地方政府合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5"/>
            <p:cNvSpPr/>
            <p:nvPr/>
          </p:nvSpPr>
          <p:spPr>
            <a:xfrm>
              <a:off x="7497360" y="1773360"/>
              <a:ext cx="1251360" cy="500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6"/>
            <p:cNvSpPr/>
            <p:nvPr/>
          </p:nvSpPr>
          <p:spPr>
            <a:xfrm>
              <a:off x="7497360" y="1773360"/>
              <a:ext cx="125136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73080" bIns="7308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规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7"/>
            <p:cNvSpPr/>
            <p:nvPr/>
          </p:nvSpPr>
          <p:spPr>
            <a:xfrm>
              <a:off x="7496280" y="2283120"/>
              <a:ext cx="1251360" cy="3441600"/>
            </a:xfrm>
            <a:prstGeom prst="rect">
              <a:avLst/>
            </a:prstGeom>
            <a:solidFill>
              <a:srgbClr val="cfd8e7">
                <a:alpha val="89000"/>
              </a:srgbClr>
            </a:solidFill>
            <a:ln w="25560">
              <a:solidFill>
                <a:srgbClr val="cfd8e7">
                  <a:alpha val="8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8"/>
            <p:cNvSpPr/>
            <p:nvPr/>
          </p:nvSpPr>
          <p:spPr>
            <a:xfrm>
              <a:off x="7496280" y="2283120"/>
              <a:ext cx="1251360" cy="34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113760" tIns="85320" bIns="128160" anchor="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员工数过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高峰日订单过万，行业三甲位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获得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轮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5000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万美元投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87408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来走向何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982240" y="2276640"/>
            <a:ext cx="279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6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6092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366092"/>
                </a:solidFill>
                <a:latin typeface="微软雅黑"/>
                <a:ea typeface="微软雅黑"/>
              </a:rPr>
              <a:t>科技领先的农业互联网企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渠道销售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先、可靠的冷链物流体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信任的优质食品标志性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农共赢的健康合作体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237680" y="1484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得不做的营销新路径探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140560" y="2276640"/>
            <a:ext cx="22176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线初期并不自信的用户体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只能小步快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线前大投入冷链物流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366092"/>
                </a:solidFill>
                <a:latin typeface="微软雅黑"/>
                <a:ea typeface="微软雅黑"/>
              </a:rPr>
              <a:t>资金消耗过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跨界不远，电商跨界太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366092"/>
                </a:solidFill>
                <a:latin typeface="微软雅黑"/>
                <a:ea typeface="微软雅黑"/>
              </a:rPr>
              <a:t>摸着石头过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既非电商出身、亦非零售出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先活下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大括号 3"/>
          <p:cNvSpPr/>
          <p:nvPr/>
        </p:nvSpPr>
        <p:spPr>
          <a:xfrm>
            <a:off x="5022720" y="2349360"/>
            <a:ext cx="649440" cy="3311640"/>
          </a:xfrm>
          <a:custGeom>
            <a:avLst/>
            <a:gdLst>
              <a:gd name="textAreaLeft" fmla="*/ 0 w 649440"/>
              <a:gd name="textAreaRight" fmla="*/ 234360 w 649440"/>
              <a:gd name="textAreaTop" fmla="*/ 16200 h 3311640"/>
              <a:gd name="textAreaBottom" fmla="*/ 329544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9"/>
                  <a:pt x="10800" y="338"/>
                </a:cubicBezTo>
                <a:lnTo>
                  <a:pt x="10800" y="10462"/>
                </a:lnTo>
                <a:cubicBezTo>
                  <a:pt x="10800" y="10631"/>
                  <a:pt x="16200" y="10800"/>
                  <a:pt x="21600" y="10800"/>
                </a:cubicBezTo>
                <a:cubicBezTo>
                  <a:pt x="16200" y="10800"/>
                  <a:pt x="10800" y="10969"/>
                  <a:pt x="10800" y="11138"/>
                </a:cubicBezTo>
                <a:lnTo>
                  <a:pt x="10800" y="21262"/>
                </a:lnTo>
                <a:cubicBezTo>
                  <a:pt x="10800" y="2143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4"/>
          <p:cNvSpPr/>
          <p:nvPr/>
        </p:nvSpPr>
        <p:spPr>
          <a:xfrm>
            <a:off x="6083280" y="3500280"/>
            <a:ext cx="244944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初期唯一出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低成本探索式成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199520" y="1484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营销新路径探索的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5761080" y="1197000"/>
            <a:ext cx="2122560" cy="2014200"/>
          </a:xfrm>
          <a:prstGeom prst="rect">
            <a:avLst/>
          </a:prstGeom>
          <a:noFill/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成本能否做大营销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造势还是借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什么是我们最大的价值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左大括号 3"/>
          <p:cNvSpPr/>
          <p:nvPr/>
        </p:nvSpPr>
        <p:spPr>
          <a:xfrm rot="16200000">
            <a:off x="6648120" y="3704760"/>
            <a:ext cx="382680" cy="1944720"/>
          </a:xfrm>
          <a:custGeom>
            <a:avLst/>
            <a:gdLst>
              <a:gd name="textAreaLeft" fmla="*/ 244440 w 382680"/>
              <a:gd name="textAreaRight" fmla="*/ 383040 w 382680"/>
              <a:gd name="textAreaTop" fmla="*/ 9360 h 1944720"/>
              <a:gd name="textAreaBottom" fmla="*/ 193536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0"/>
                  <a:pt x="10800" y="339"/>
                </a:cubicBezTo>
                <a:lnTo>
                  <a:pt x="10800" y="10461"/>
                </a:lnTo>
                <a:cubicBezTo>
                  <a:pt x="10800" y="10631"/>
                  <a:pt x="5400" y="10800"/>
                  <a:pt x="0" y="10800"/>
                </a:cubicBezTo>
                <a:cubicBezTo>
                  <a:pt x="5400" y="10800"/>
                  <a:pt x="10800" y="10970"/>
                  <a:pt x="10800" y="11139"/>
                </a:cubicBezTo>
                <a:lnTo>
                  <a:pt x="10800" y="21261"/>
                </a:lnTo>
                <a:cubicBezTo>
                  <a:pt x="10800" y="2143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4932360" y="486900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6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食物是永恒的话题中心，即最大的媒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6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将食物的媒介作用发挥到极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6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让我们的价值，成为别人的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6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小成本借势以成大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554480" y="11239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物即媒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优质食物及其背后故事成为话题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539640" y="2492280"/>
            <a:ext cx="3745080" cy="3385800"/>
          </a:xfrm>
          <a:prstGeom prst="rect">
            <a:avLst/>
          </a:prstGeom>
          <a:noFill/>
          <a:ln w="648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褚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话题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褚时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矛盾突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励志的传奇人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代少有的精神领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商品定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励志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传播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财经媒体深度报道、名人企业家赠尝、新媒体主动传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668880" y="213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案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4716360" y="2492280"/>
            <a:ext cx="3745080" cy="3385800"/>
          </a:xfrm>
          <a:prstGeom prst="rect">
            <a:avLst/>
          </a:prstGeom>
          <a:noFill/>
          <a:ln w="648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褚橙柳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话题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褚时健  柳传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雄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商品定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雄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褚橙柳桃组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传播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闻发布会、企业家赠尝、新媒体主动传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554480" y="11239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物即媒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优质食物及其背后故事成为话题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395280" y="2533680"/>
            <a:ext cx="3745080" cy="3111480"/>
          </a:xfrm>
          <a:prstGeom prst="rect">
            <a:avLst/>
          </a:prstGeom>
          <a:noFill/>
          <a:ln w="648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潘苹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话题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潘石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益扶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商品定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水花牛苹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潘苹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传播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潘石屹微博、新闻发布会、企业家赠尝、新媒体主动传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38200" y="2124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案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4500720" y="2533680"/>
            <a:ext cx="4427280" cy="3111480"/>
          </a:xfrm>
          <a:prstGeom prst="rect">
            <a:avLst/>
          </a:prstGeom>
          <a:noFill/>
          <a:ln w="648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17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家吃饭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话题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回家吃饭日  不加班、不应酬，准时回家吃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家吃饭是检验生活幸福的唯一标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商品定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鲜网购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传播路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新浪微博、腾讯微博，传统媒体跟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699560" y="1123920"/>
            <a:ext cx="503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物即媒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优质食物作为媒介，成为合作伙伴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539640" y="2492280"/>
            <a:ext cx="7272360" cy="3111480"/>
          </a:xfrm>
          <a:prstGeom prst="rect">
            <a:avLst/>
          </a:prstGeom>
          <a:noFill/>
          <a:ln w="648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的打车合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媒介价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物的硬通货价值，可替代打车软件的现金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车软件补贴话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商品定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鸡蛋等生活必需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66092"/>
                </a:solidFill>
                <a:latin typeface="微软雅黑"/>
                <a:ea typeface="微软雅黑"/>
              </a:rPr>
              <a:t>传播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的打车软件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统媒体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媒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68880" y="213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案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02:19:00Z</dcterms:created>
  <dc:creator>Erwin</dc:creator>
  <dc:description/>
  <cp:keywords/>
  <dc:language>en-US</dc:language>
  <cp:lastModifiedBy>d17221</cp:lastModifiedBy>
  <dcterms:modified xsi:type="dcterms:W3CDTF">2015-09-24T03:30:34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5</vt:lpwstr>
  </property>
  <property fmtid="{D5CDD505-2E9C-101B-9397-08002B2CF9AE}" pid="3" name="fileid">
    <vt:lpwstr>627433</vt:lpwstr>
  </property>
  <property fmtid="{D5CDD505-2E9C-101B-9397-08002B2CF9AE}" pid="4" name="name">
    <vt:lpwstr>食物即媒介——本来生活网的营销新路径探索.ppt</vt:lpwstr>
  </property>
</Properties>
</file>