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A4B-BDC1-4AED-A5D6-6D72AAA3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14E-C897-4196-AF00-62078849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ED8-A56F-4B60-9FD7-CA6F907A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D26-8568-41F5-B529-A6CB5465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00A-8BD5-4267-99C9-87BC9187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DFA-1D3E-4DE6-8B2D-097B8E17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AC2-3B50-477B-96C5-55174BCB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5BB-C1CE-4F3C-A398-EA1C9195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CDB-5FAD-42BC-8FA6-3EB1458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51F-B9B4-4A8C-9BD4-D71B522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E46-C027-43B2-9E4D-199B1AD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0BC-7F56-431E-8B1F-059D3D8D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482-3F12-4317-A9B0-D0AB4FE61D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CE8-D48A-4D6B-B029-FB707D4021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93960" y="688680"/>
            <a:ext cx="65404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ppt.downhot.co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7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a5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28880" y="927000"/>
            <a:ext cx="5194080" cy="3098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654960" y="736200"/>
            <a:ext cx="4216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60520" y="647640"/>
            <a:ext cx="4013280" cy="2425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311880" y="647640"/>
            <a:ext cx="4013280" cy="242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261800" y="3720600"/>
            <a:ext cx="44910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0840" y="3720600"/>
            <a:ext cx="447372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96800" y="609120"/>
            <a:ext cx="2438280" cy="280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09800" y="609120"/>
            <a:ext cx="2438280" cy="280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810200" y="609120"/>
            <a:ext cx="2438280" cy="2806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261800" y="4000320"/>
            <a:ext cx="27637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760" y="4000320"/>
            <a:ext cx="27640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57920" y="4000320"/>
            <a:ext cx="27637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475080" y="1999080"/>
            <a:ext cx="5261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471840" y="324468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eibo.com/1749205637/BcUxuBFbC?ref=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3471840" y="324468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eibo.com/1749205637/BcUxuBFbC?ref=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1600" y="607320"/>
            <a:ext cx="9747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a5"/>
              </a:solidFill>
              <a:latin typeface="微软雅黑"/>
              <a:ea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1600" y="1447560"/>
            <a:ext cx="9747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0009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微软雅黑"/>
                <a:ea typeface="微软雅黑"/>
              </a:rPr>
              <a:t>带有列表的标题和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7720" y="1825560"/>
            <a:ext cx="9866520" cy="31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微软雅黑"/>
                <a:ea typeface="微软雅黑"/>
              </a:rPr>
              <a:t>在此处添加第一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微软雅黑"/>
                <a:ea typeface="微软雅黑"/>
              </a:rPr>
              <a:t>在此处添加第二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微软雅黑"/>
                <a:ea typeface="微软雅黑"/>
              </a:rPr>
              <a:t>在此处添加第三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微软雅黑"/>
                <a:ea typeface="微软雅黑"/>
              </a:rPr>
              <a:t>带有 </a:t>
            </a:r>
            <a:r>
              <a:rPr b="1" lang="en-US" sz="4400" spc="-1" strike="noStrike">
                <a:solidFill>
                  <a:srgbClr val="0000a5"/>
                </a:solidFill>
                <a:latin typeface="微软雅黑"/>
                <a:ea typeface="微软雅黑"/>
              </a:rPr>
              <a:t>SmartArt </a:t>
            </a:r>
            <a:r>
              <a:rPr b="1" lang="zh-CN" sz="4400" spc="-1" strike="noStrike">
                <a:solidFill>
                  <a:srgbClr val="0000a5"/>
                </a:solidFill>
                <a:latin typeface="微软雅黑"/>
                <a:ea typeface="微软雅黑"/>
              </a:rPr>
              <a:t>的标题和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38080" y="1825560"/>
            <a:ext cx="9866520" cy="3191040"/>
            <a:chOff x="838080" y="1825560"/>
            <a:chExt cx="9866520" cy="3191040"/>
          </a:xfrm>
        </p:grpSpPr>
        <p:sp>
          <p:nvSpPr>
            <p:cNvPr id="48" name=""/>
            <p:cNvSpPr/>
            <p:nvPr/>
          </p:nvSpPr>
          <p:spPr>
            <a:xfrm rot="16200000">
              <a:off x="410040" y="2253240"/>
              <a:ext cx="3191040" cy="2335320"/>
            </a:xfrm>
            <a:prstGeom prst="flowChartManualOperation">
              <a:avLst/>
            </a:prstGeom>
            <a:solidFill>
              <a:srgbClr val="f6541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2463480"/>
              <a:ext cx="233532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6200000">
              <a:off x="2920320" y="2253240"/>
              <a:ext cx="3191040" cy="2335320"/>
            </a:xfrm>
            <a:prstGeom prst="flowChartManualOperation">
              <a:avLst/>
            </a:prstGeom>
            <a:solidFill>
              <a:srgbClr val="f6851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48360" y="2463480"/>
              <a:ext cx="233532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430960" y="2253240"/>
              <a:ext cx="3191040" cy="2335320"/>
            </a:xfrm>
            <a:prstGeom prst="flowChartManualOperation">
              <a:avLst/>
            </a:prstGeom>
            <a:solidFill>
              <a:srgbClr val="f6ae1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59000" y="2463480"/>
              <a:ext cx="233532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7941240" y="2253240"/>
              <a:ext cx="3191040" cy="2335320"/>
            </a:xfrm>
            <a:prstGeom prst="flowChartManualOperation">
              <a:avLst/>
            </a:prstGeom>
            <a:solidFill>
              <a:srgbClr val="fadc2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69280" y="2463480"/>
              <a:ext cx="233532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步骤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说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8618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微软雅黑"/>
                <a:ea typeface="微软雅黑"/>
              </a:rPr>
              <a:t>带有表格的两栏内容版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微软雅黑"/>
                <a:ea typeface="微软雅黑"/>
              </a:rPr>
              <a:t>此处为第一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微软雅黑"/>
                <a:ea typeface="微软雅黑"/>
              </a:rPr>
              <a:t>此处为第二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00090"/>
                </a:solidFill>
                <a:latin typeface="微软雅黑"/>
                <a:ea typeface="微软雅黑"/>
              </a:rPr>
              <a:t>此处为第三个要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975280" y="1825560"/>
          <a:ext cx="4724280" cy="1482840"/>
        </p:xfrm>
        <a:graphic>
          <a:graphicData uri="http://schemas.openxmlformats.org/drawingml/2006/table">
            <a:tbl>
              <a:tblPr/>
              <a:tblGrid>
                <a:gridCol w="1574640"/>
                <a:gridCol w="1575000"/>
                <a:gridCol w="1574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组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icrosoft YaHei UI"/>
                          <a:ea typeface="Microsoft YaHei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a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 </a:t>
                      </a: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</a:t>
                      </a: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ae1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类 </a:t>
                      </a: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Microsoft YaHei UI"/>
                          <a:ea typeface="Microsoft YaHei U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dc2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8618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a5"/>
              </a:solidFill>
              <a:latin typeface="微软雅黑"/>
              <a:ea typeface="微软雅黑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75280" y="1825560"/>
            <a:ext cx="4724640" cy="32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98726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a5"/>
              </a:solidFill>
              <a:latin typeface="微软雅黑"/>
              <a:ea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880" y="1680840"/>
            <a:ext cx="47131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0090"/>
              </a:solidFill>
              <a:latin typeface="微软雅黑"/>
              <a:ea typeface="微软雅黑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74920" y="1680840"/>
            <a:ext cx="47372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2505240"/>
            <a:ext cx="472464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987880" y="2505240"/>
            <a:ext cx="472464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9866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a5"/>
              </a:solidFill>
              <a:latin typeface="微软雅黑"/>
              <a:ea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9880" y="1680840"/>
            <a:ext cx="32400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0090"/>
              </a:solidFill>
              <a:latin typeface="微软雅黑"/>
              <a:ea typeface="微软雅黑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54400" y="1680840"/>
            <a:ext cx="32385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467480" y="1680840"/>
            <a:ext cx="32385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9880" y="2505240"/>
            <a:ext cx="3241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52960" y="2505240"/>
            <a:ext cx="3241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65680" y="2505240"/>
            <a:ext cx="32418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内容占位符 5" descr=""/>
          <p:cNvPicPr/>
          <p:nvPr/>
        </p:nvPicPr>
        <p:blipFill>
          <a:blip r:embed="rId2"/>
          <a:stretch/>
        </p:blipFill>
        <p:spPr>
          <a:xfrm>
            <a:off x="838080" y="1690560"/>
            <a:ext cx="10033200" cy="3326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86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a5"/>
                </a:solidFill>
                <a:latin typeface="微软雅黑"/>
                <a:ea typeface="微软雅黑"/>
              </a:rPr>
              <a:t>标题和图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10:41:00Z</dcterms:created>
  <dc:creator>Administrator</dc:creator>
  <dc:description/>
  <dc:language>en-US</dc:language>
  <cp:lastModifiedBy/>
  <dcterms:modified xsi:type="dcterms:W3CDTF">2015-06-26T02:20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_TemplateID">
    <vt:lpwstr>TC042498939991</vt:lpwstr>
  </property>
</Properties>
</file>