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FBE-877A-489B-B922-B7F631BC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4B5-D9A3-403B-8616-5B9910C8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FDD-1BC2-4C66-9DF9-0E217D66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158-8CE0-43B9-9E7F-484A5CA1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A85E-768F-42D2-91D6-BAE3C8D0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3885-D7E7-46F9-AC6D-3F2332B3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6777-8F14-4D2B-A5F6-AD99AD9E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F04-4DDC-4012-87AA-F840F02C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C16-5EE9-42D3-B518-D044E1B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93D0-FBB7-41E8-BA22-C34A45D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05FA-AEF2-4080-9157-7CFDB491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B65-A340-4A10-A584-4A34A22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F4BA-8984-4E57-B4A4-B5A9CC8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4182-A269-4FE4-90CF-186AE3EF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9A50-5ADA-44D2-8ABD-2B99C1F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C02-30D7-4A77-B971-9BFCD3C7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1559-DA04-4175-A77E-FD2936FC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C37-C058-4EC7-9592-EAC1217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EC2-C241-4807-8C52-AFCB00B6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7EE-EB56-48A5-9CE3-1E491CD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9DD-4D52-4830-85E6-FA160C69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999-CA03-4E3B-A4B2-4C421B5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1C2-09BB-470B-92C1-6E0391A8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900-8D9D-4263-BB33-FA960A3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EC87-BBBF-4B3B-914C-F574ABB8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040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040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040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040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0400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9679-8FC9-4B39-871A-DB9EBF277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9280" y="620640"/>
            <a:ext cx="4824360" cy="143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001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040010"/>
                </a:solidFill>
                <a:latin typeface="方正姚体"/>
                <a:ea typeface="方正姚体"/>
              </a:rPr>
              <a:t>2</a:t>
            </a:r>
            <a:r>
              <a:rPr b="0" lang="zh-CN" sz="4400" spc="-1" strike="noStrike">
                <a:solidFill>
                  <a:srgbClr val="040010"/>
                </a:solidFill>
                <a:latin typeface="方正姚体"/>
                <a:ea typeface="方正姚体"/>
              </a:rPr>
              <a:t>课  </a:t>
            </a:r>
            <a:br>
              <a:rPr sz="4400"/>
            </a:br>
            <a:r>
              <a:rPr b="0" lang="zh-CN" sz="4400" spc="-1" strike="noStrike">
                <a:solidFill>
                  <a:srgbClr val="040010"/>
                </a:solidFill>
                <a:latin typeface="方正姚体"/>
                <a:ea typeface="方正姚体"/>
              </a:rPr>
              <a:t>积极的生活态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2195640" y="2565360"/>
            <a:ext cx="547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100a2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保持乐观心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100a2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5976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、保持乐观心态的注意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乐观的心态要求我们既要看到积极的、有利的因素，又要看到消极的、不利的因素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乐观的心态既要看到问题和困难，又要看到前途和希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顺利时，信心十足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困难时，毫不气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95280" y="260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Comic Sans MS"/>
                <a:ea typeface="华文隶书"/>
              </a:rPr>
              <a:t>美丽人生</a:t>
            </a:r>
            <a:r>
              <a:rPr b="0" lang="en-US" sz="3600" spc="-1" strike="noStrike">
                <a:solidFill>
                  <a:srgbClr val="993366"/>
                </a:solidFill>
                <a:latin typeface="Comic Sans MS"/>
              </a:rPr>
              <a:t>(Life Is Beautiful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该片获得包括奥斯卡最佳外语片奖，戛纳影展评审团大奖在内的二十八项国际大奖，片子在戛纳电影节试映时，全体观众起立鼓掌长达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分钟之久，个个含泪步出影院。这部影片是由意大利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国宝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人物罗贝尔托贝贝尼自编自导自演的。以极为乐观的态度讲述了一个极为悲惨的故事。感人肺腑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95280" y="314172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犹太青年圭多和好友驾车来到阿雷佐小镇准备开一家书店，途中邂逅美丽的女教师多拉。两人好事多磨，终成眷属。好景不长，圭多和儿子因犹太血统被强行送往集中营。多拉虽没有犹太血统，为了能和儿子丈夫在一起，毅然同行，在集中营里毅然前同行被分开关押。圭多不愿让孩子幼小的心灵蒙上悲惨的阴影，在惨无人道的集中营里，他骗儿子这只是一场游戏。他以游戏的方式让儿子的童心没有受到任何伤害，自己却惨死在纳粹的枪口下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5905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、怎样保持乐观心态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要认识到每个人的心态都是自己选择的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要热爱生活，善于从身边寻找快乐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要正确看待生活中的不如意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要借助运动以保持健康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要学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别人，宽容别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45"/>
          <p:cNvSpPr/>
          <p:nvPr/>
        </p:nvSpPr>
        <p:spPr>
          <a:xfrm>
            <a:off x="395280" y="1197000"/>
            <a:ext cx="8424720" cy="3115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学生宿舍的条件很差劲，作息时间定得太死，我很不适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学校生活好枯燥，默写、作业、考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什么时候能脱离苦海啊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这次大考我分数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了，觉得很丢脸，心情变得很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因为没在规定时间内吃零食，被扣了分，又挨了班主任的批评，心里很不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我一直很热心地帮助同桌，但今天题目不会做问他，他却不愿意教我，我很生气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5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J_052"/>
          <p:cNvPicPr/>
          <p:nvPr/>
        </p:nvPicPr>
        <p:blipFill>
          <a:blip r:embed="rId1"/>
          <a:stretch/>
        </p:blipFill>
        <p:spPr>
          <a:xfrm>
            <a:off x="1835280" y="1943280"/>
            <a:ext cx="6913440" cy="4914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保持乐观心态的秘诀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起床的时候照照镜子，冲着镜子里的自己露出笑脸，挺胸抬头，唱自己喜欢的歌曲，吹口哨也可以，记住自己快乐的表情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BJ_023"/>
          <p:cNvPicPr/>
          <p:nvPr/>
        </p:nvPicPr>
        <p:blipFill>
          <a:blip r:embed="rId1"/>
          <a:stretch/>
        </p:blipFill>
        <p:spPr>
          <a:xfrm>
            <a:off x="0" y="189000"/>
            <a:ext cx="7740720" cy="5160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58920" y="148392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4000" spc="-1" strike="noStrike">
                <a:solidFill>
                  <a:srgbClr val="003399"/>
                </a:solidFill>
                <a:latin typeface="Comic Sans MS"/>
              </a:rPr>
              <a:t>微笑，时刻微笑着面对别人。笑可以使肺部扩张，促进血液循环。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Comic Sans MS"/>
              </a:rPr>
              <a:t>     幽默是调剂生活和压力的良方，可以从容应对许多令人不快、烦恼，甚至痛苦、悲哀的事情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BJ_001"/>
          <p:cNvPicPr/>
          <p:nvPr/>
        </p:nvPicPr>
        <p:blipFill>
          <a:blip r:embed="rId1"/>
          <a:stretch/>
        </p:blipFill>
        <p:spPr>
          <a:xfrm>
            <a:off x="1835280" y="907920"/>
            <a:ext cx="6264000" cy="519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75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拥有一颗包容的心。试着容纳别人。当别人试图激怒你时，自我暗示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我是一个豁达的人，一个胸如大海的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4105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个师傅对于徒弟不停地抱怨这抱怨那感到非常讨厌。于是，有一天早晨，他派徒弟去取一些盐回来。当徒弟很不情愿的把盐取回来后，师傅让徒弟把盐倒进水杯里，然后喝下去，并问他味道如何。徒弟吐了出来，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笑着让徒弟带着一些盐，跟着他一起去湖边。师傅让徒弟把盐撒进湖水里，然后对徒弟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你喝点儿湖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徒弟喝了口湖水。师傅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味道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徒弟回答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清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尝到咸味了吗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徒弟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，师傅坐在这个总爱怨天尤人的徒弟身边，握着他的手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人生的痛苦如同这些盐，有一定的数量，既不会多也不会少。我们承受痛苦的容积大小决定痛苦的程度。所以，当你感到痛苦的时候，就把你的承受的容积放大些，不是一杯水，而是一个湖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3" descr="BD10263_"/>
          <p:cNvPicPr/>
          <p:nvPr/>
        </p:nvPicPr>
        <p:blipFill>
          <a:blip r:embed="rId1"/>
          <a:stretch/>
        </p:blipFill>
        <p:spPr>
          <a:xfrm>
            <a:off x="324000" y="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，在夏令营行军时，遇到一条一米多宽的河。许多学生都跳了过去。我身后一直跟着一个胆小的女孩子，她怕掉到水里，不敢跳，看我那么胖都跳过去了，放心了，一跳，只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，掉进了河里。我忍住笑，伸出一只手扶起她，看她跟我说什么。只见她拉着我的手，一边往上爬一边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好了，我终于掉到河里了，太凉快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完，我们俩哈哈大笑起来。上岸后我们去追赶队伍，每走一步，她的鞋里就发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咕叽，咕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，她神气地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，多么美妙的音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好了，我们行军有乐队伴奏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路上，她一点也不觉得沮丧，反而感到轻松愉快。这个女孩如果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别人没掉进河里，偏偏我掉进去，真倒霉透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，肯定会觉得又苦又累，甚至会哭鼻子，一天都会不高兴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BD10263_"/>
          <p:cNvPicPr/>
          <p:nvPr/>
        </p:nvPicPr>
        <p:blipFill>
          <a:blip r:embed="rId2"/>
          <a:stretch/>
        </p:blipFill>
        <p:spPr>
          <a:xfrm>
            <a:off x="324000" y="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113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科学家法拉第，年轻时，体质很差，加上工作紧张，用脑过度，所以身体十分虚弱，多方救治也不见效。后来，一位名医给他进行了检查。医生没有给他开药，只是送给他一句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小丑进城，胜过一打名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拉第细细品位这句话，悟出了其中的奥妙。从此，他经常抽空去看看马戏和戏剧，调剂生活，经常保持愉快的情绪。久而久之，法拉第的身体逐渐地康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法拉第"/>
          <p:cNvPicPr/>
          <p:nvPr/>
        </p:nvPicPr>
        <p:blipFill>
          <a:blip r:embed="rId1"/>
          <a:stretch/>
        </p:blipFill>
        <p:spPr>
          <a:xfrm>
            <a:off x="468360" y="260280"/>
            <a:ext cx="11826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世界上最广阔的是海洋，比海洋更广阔的是天空，比天空更广阔的是人的胸怀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雨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5" descr="BD10263_"/>
          <p:cNvPicPr/>
          <p:nvPr/>
        </p:nvPicPr>
        <p:blipFill>
          <a:blip r:embed="rId1"/>
          <a:stretch/>
        </p:blipFill>
        <p:spPr>
          <a:xfrm>
            <a:off x="395280" y="90792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zun"/>
          <p:cNvPicPr/>
          <p:nvPr/>
        </p:nvPicPr>
        <p:blipFill>
          <a:blip r:embed="rId1"/>
          <a:stretch/>
        </p:blipFill>
        <p:spPr>
          <a:xfrm>
            <a:off x="2556000" y="260280"/>
            <a:ext cx="4411440" cy="618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2006052311191468485"/>
          <p:cNvPicPr/>
          <p:nvPr/>
        </p:nvPicPr>
        <p:blipFill>
          <a:blip r:embed="rId2"/>
          <a:stretch/>
        </p:blipFill>
        <p:spPr>
          <a:xfrm>
            <a:off x="2556000" y="260280"/>
            <a:ext cx="4411440" cy="6183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25000" y="31320"/>
            <a:ext cx="606960" cy="60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拓展兴趣爱好  丰富课余生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2－3美国女作家和教育家海伦·凯勒"/>
          <p:cNvPicPr/>
          <p:nvPr/>
        </p:nvPicPr>
        <p:blipFill>
          <a:blip r:embed="rId1"/>
          <a:stretch/>
        </p:blipFill>
        <p:spPr>
          <a:xfrm>
            <a:off x="6248520" y="404640"/>
            <a:ext cx="2895480" cy="259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张海迪"/>
          <p:cNvPicPr/>
          <p:nvPr/>
        </p:nvPicPr>
        <p:blipFill>
          <a:blip r:embed="rId2"/>
          <a:stretch/>
        </p:blipFill>
        <p:spPr>
          <a:xfrm>
            <a:off x="6248520" y="2895480"/>
            <a:ext cx="2895480" cy="1920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桑兰2"/>
          <p:cNvPicPr/>
          <p:nvPr/>
        </p:nvPicPr>
        <p:blipFill>
          <a:blip r:embed="rId3"/>
          <a:stretch/>
        </p:blipFill>
        <p:spPr>
          <a:xfrm>
            <a:off x="6248520" y="4800600"/>
            <a:ext cx="2895480" cy="1714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1352160" y="828720"/>
            <a:ext cx="3594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他们为什么这么快乐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他们热爱生活，有着乐观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生活态度，即使遭遇到挫折、失败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甚至危机到生命，他们依然能够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持积极向上的情绪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（提问）：我们怎样才能热爱生活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培养乐观的生活态度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善于寻找快乐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7077600" y="23274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凯勒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7407720" y="430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张海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499160" y="613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桑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187280" y="765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幼圆"/>
              </a:rPr>
              <a:t>小鸟说，我从天空中飞过，但天空中没有留下我的痕迹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716360" y="112536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66"/>
                </a:solidFill>
                <a:latin typeface="Comic Sans MS"/>
                <a:ea typeface="幼圆"/>
              </a:rPr>
              <a:t>泰戈尔说，天空中没有留下我的痕迹，但我曾经飞过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4462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c00a8"/>
                </a:solidFill>
                <a:latin typeface="方正姚体"/>
                <a:ea typeface="方正姚体"/>
              </a:rPr>
              <a:t>保持乐观心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4898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面对同样的生活，人们的态度是不同的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1908000" y="2492280"/>
            <a:ext cx="4319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  积极、乐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  消极、悲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611280" y="476280"/>
            <a:ext cx="56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66"/>
                </a:solidFill>
                <a:latin typeface="Comic Sans MS"/>
                <a:ea typeface="幼圆"/>
              </a:rPr>
              <a:t>感悟小剧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360" y="170028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某老板派职员到非洲某地考察鞋业市场，结果发现那儿的人一年四季都习惯打赤脚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以小组为单位，表演该小品，重点表现职员回来后对老板的报告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28814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c00a8"/>
                </a:solidFill>
                <a:latin typeface="Comic Sans MS"/>
                <a:ea typeface="幼圆"/>
              </a:rPr>
              <a:t>两只羊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066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学家做过一个实验：把同窝生的两只羊给以同样的食物，但分别放在不同的地方饲养。一只羊放在没有危险的草坪上，另一只放在旁边关着狼的笼子里。不久，关在狼旁边的羊就死了。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2"/>
          <p:cNvPicPr/>
          <p:nvPr/>
        </p:nvPicPr>
        <p:blipFill>
          <a:blip r:embed="rId1"/>
          <a:stretch/>
        </p:blipFill>
        <p:spPr>
          <a:xfrm>
            <a:off x="3203640" y="333360"/>
            <a:ext cx="89532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3"/>
          <p:cNvPicPr/>
          <p:nvPr/>
        </p:nvPicPr>
        <p:blipFill>
          <a:blip r:embed="rId2"/>
          <a:stretch/>
        </p:blipFill>
        <p:spPr>
          <a:xfrm>
            <a:off x="4211640" y="907920"/>
            <a:ext cx="1079640" cy="978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MCj03362510000[1]"/>
          <p:cNvPicPr/>
          <p:nvPr/>
        </p:nvPicPr>
        <p:blipFill>
          <a:blip r:embed="rId3"/>
          <a:stretch/>
        </p:blipFill>
        <p:spPr>
          <a:xfrm>
            <a:off x="5508720" y="476280"/>
            <a:ext cx="89352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Comic Sans MS"/>
              </a:rPr>
              <a:t>牵一只蜗牛去散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上帝给我一个任务，叫我牵一只蜗牛去散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我不能走得太快，蜗牛已经尽力爬了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每次总是往前挪那么一点点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我催它，我唬它，我责备它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蜗牛用抱歉的眼光看着我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彷佛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人家已经尽力了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我拉它，我扯它，我甚至想踢它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蜗牛受了伤，流着汗，喘着气，往前爬．．．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真奇怪，为什么上帝叫我牵一只蜗牛去散步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上帝啊！为什么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468360" y="33336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天上一片安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唉！也许上帝抓蜗牛去了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好吧！松手吧！反正上帝都不管了，我还管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任蜗牛往前爬，我在后面生闷气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咦！我闻到花香，原来这边有个花园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我感到微风吹来，原来夜里的风这么温柔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慢着！我听到鸟叫，我听到虫鸣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我看到满天的星斗多亮丽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咦！以前怎么没有这些体会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幼圆"/>
              </a:rPr>
              <a:t>我忽然想起来，莫非是我弄错了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Comic Sans MS"/>
                <a:ea typeface="幼圆"/>
              </a:rPr>
              <a:t>原来是上帝叫蜗牛牵我去散步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  <a:ea typeface="幼圆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5418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黑体"/>
                <a:ea typeface="黑体"/>
              </a:rPr>
              <a:t>小结</a:t>
            </a:r>
            <a:r>
              <a:rPr b="0" lang="en-US" sz="4000" spc="-1" strike="noStrike">
                <a:solidFill>
                  <a:srgbClr val="993366"/>
                </a:solidFill>
                <a:latin typeface="黑体"/>
                <a:ea typeface="黑体"/>
              </a:rPr>
              <a:t>:</a:t>
            </a:r>
            <a:r>
              <a:rPr b="0" lang="zh-CN" sz="4000" spc="-1" strike="noStrike">
                <a:solidFill>
                  <a:srgbClr val="993366"/>
                </a:solidFill>
                <a:latin typeface="黑体"/>
                <a:ea typeface="黑体"/>
              </a:rPr>
              <a:t>保持乐观心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52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乐观带来希望和机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乐观地面对生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选择乐观的心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热爱生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正确看待生活中的不如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借助运动保持健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学会爱与宽容，和谐人际关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注意问题的两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6:56:24Z</dcterms:created>
  <dc:creator>fly</dc:creator>
  <dc:description/>
  <dc:language>en-US</dc:language>
  <cp:lastModifiedBy>靓靓</cp:lastModifiedBy>
  <dcterms:modified xsi:type="dcterms:W3CDTF">2008-09-11T06:59:17Z</dcterms:modified>
  <cp:revision>55</cp:revision>
  <dc:subject/>
  <dc:title>第2课  积极的生活态度</dc:title>
</cp:coreProperties>
</file>