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FA1-2CF2-486B-A4E2-7C35F0DE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BF1-44FE-4426-BF11-4A7FA851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A7E-9EC1-48A3-91CB-EE823C32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B56-5DC3-4DAB-AEB6-889B18D5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16B-2118-4051-B708-0CE8B89C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BFB-0CAC-44EF-85A7-2777E08A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F18-3B1E-43F4-9E9E-441CCECD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8AC-7FE8-4A49-96AA-55B44FF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87A-B036-4489-86A0-7A265E70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733-436B-409C-B31C-2077318B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75F-7C14-457D-AD33-113D49C9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6A6-8256-4986-8BAC-EA82C19D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7E06-ADCD-4462-BAB7-28CA87852D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48578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72040" y="56926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浪漫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4412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22831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5926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832320" y="785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4140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2120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22118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140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6724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4069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2120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407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672480" y="762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21200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1408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497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744120" y="762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78612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283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6724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714680" y="32860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5783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4980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65052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997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997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6069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65052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7120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35690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640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2926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4412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3140640" y="3773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43549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01T06:17:02Z</dcterms:modified>
  <cp:revision>36</cp:revision>
  <dc:subject/>
  <dc:title>幻灯片 1</dc:title>
</cp:coreProperties>
</file>