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08000" y="358596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0152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532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6264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0800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532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6264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08000" y="328464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08000" y="328464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0152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08000" y="358596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0152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8532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62640" y="328464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0800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48532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262640" y="3585960"/>
            <a:ext cx="1692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525636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01520" y="358596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0800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01520" y="3284640"/>
            <a:ext cx="2565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08000" y="3585960"/>
            <a:ext cx="525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620640"/>
            <a:chOff x="0" y="0"/>
            <a:chExt cx="9144000" cy="620640"/>
          </a:xfrm>
        </p:grpSpPr>
        <p:pic>
          <p:nvPicPr>
            <p:cNvPr id="3" name="" descr=""/>
            <p:cNvPicPr/>
            <p:nvPr/>
          </p:nvPicPr>
          <p:blipFill>
            <a:blip r:embed="rId2"/>
            <a:srcRect l="0" t="0" r="0" b="84557"/>
            <a:stretch/>
          </p:blipFill>
          <p:spPr>
            <a:xfrm>
              <a:off x="0" y="0"/>
              <a:ext cx="9144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843280" y="404640"/>
              <a:ext cx="28872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480" t="16062" r="0" b="52399"/>
          <a:stretch/>
        </p:blipFill>
        <p:spPr>
          <a:xfrm>
            <a:off x="0" y="3952800"/>
            <a:ext cx="9144000" cy="290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907200"/>
            <a:chOff x="0" y="0"/>
            <a:chExt cx="9144000" cy="907200"/>
          </a:xfrm>
        </p:grpSpPr>
        <p:pic>
          <p:nvPicPr>
            <p:cNvPr id="44" name="" descr=""/>
            <p:cNvPicPr/>
            <p:nvPr/>
          </p:nvPicPr>
          <p:blipFill>
            <a:blip r:embed="rId3"/>
            <a:srcRect l="0" t="0" r="0" b="84557"/>
            <a:stretch/>
          </p:blipFill>
          <p:spPr>
            <a:xfrm>
              <a:off x="0" y="0"/>
              <a:ext cx="9144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843280" y="591480"/>
              <a:ext cx="28872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24360" y="3141720"/>
            <a:ext cx="29052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P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pto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5640" y="1341360"/>
            <a:ext cx="7489800" cy="2016000"/>
            <a:chOff x="755640" y="1341360"/>
            <a:chExt cx="7489800" cy="2016000"/>
          </a:xfrm>
        </p:grpSpPr>
        <p:sp>
          <p:nvSpPr>
            <p:cNvPr id="240" name=""/>
            <p:cNvSpPr/>
            <p:nvPr/>
          </p:nvSpPr>
          <p:spPr>
            <a:xfrm>
              <a:off x="755640" y="1341360"/>
              <a:ext cx="7489800" cy="2016000"/>
            </a:xfrm>
            <a:prstGeom prst="horizontalScroll">
              <a:avLst>
                <a:gd name="adj" fmla="val 12500"/>
              </a:avLst>
            </a:prstGeom>
            <a:solidFill>
              <a:srgbClr val="0000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"/>
            <a:srcRect l="24375" t="0" r="16009" b="-1594"/>
            <a:stretch/>
          </p:blipFill>
          <p:spPr>
            <a:xfrm>
              <a:off x="1192320" y="1700280"/>
              <a:ext cx="85860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124000" y="1701720"/>
              <a:ext cx="57610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268360" y="1844640"/>
            <a:ext cx="547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26920" y="3357720"/>
            <a:ext cx="7489800" cy="2016000"/>
            <a:chOff x="826920" y="3357720"/>
            <a:chExt cx="7489800" cy="2016000"/>
          </a:xfrm>
        </p:grpSpPr>
        <p:sp>
          <p:nvSpPr>
            <p:cNvPr id="245" name=""/>
            <p:cNvSpPr/>
            <p:nvPr/>
          </p:nvSpPr>
          <p:spPr>
            <a:xfrm>
              <a:off x="826920" y="3357720"/>
              <a:ext cx="7489800" cy="2016000"/>
            </a:xfrm>
            <a:prstGeom prst="horizontalScroll">
              <a:avLst>
                <a:gd name="adj" fmla="val 12500"/>
              </a:avLst>
            </a:prstGeom>
            <a:solidFill>
              <a:srgbClr val="0000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2"/>
            <a:srcRect l="24375" t="0" r="16009" b="-1594"/>
            <a:stretch/>
          </p:blipFill>
          <p:spPr>
            <a:xfrm>
              <a:off x="1263600" y="3716640"/>
              <a:ext cx="85860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195280" y="3718080"/>
              <a:ext cx="57610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340000" y="3860640"/>
            <a:ext cx="5472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2600" y="14130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4797360"/>
            <a:ext cx="3919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4130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00680" y="4797360"/>
            <a:ext cx="3919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3880" y="1341360"/>
            <a:ext cx="8424720" cy="4464000"/>
            <a:chOff x="353880" y="1341360"/>
            <a:chExt cx="8424720" cy="4464000"/>
          </a:xfrm>
        </p:grpSpPr>
        <p:sp>
          <p:nvSpPr>
            <p:cNvPr id="255" name=""/>
            <p:cNvSpPr/>
            <p:nvPr/>
          </p:nvSpPr>
          <p:spPr>
            <a:xfrm>
              <a:off x="353880" y="3573360"/>
              <a:ext cx="25923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6240" y="3502080"/>
              <a:ext cx="259236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74960" y="1341360"/>
              <a:ext cx="0" cy="122400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674960" y="4581360"/>
              <a:ext cx="0" cy="122400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"/>
            <a:srcRect l="0" t="15126" r="0" b="20438"/>
            <a:stretch/>
          </p:blipFill>
          <p:spPr>
            <a:xfrm>
              <a:off x="3058920" y="2565360"/>
              <a:ext cx="309744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987640" y="2565360"/>
              <a:ext cx="3240000" cy="2016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115640" y="1413000"/>
            <a:ext cx="7525080" cy="3528720"/>
            <a:chOff x="1115640" y="1413000"/>
            <a:chExt cx="7525080" cy="3528720"/>
          </a:xfrm>
        </p:grpSpPr>
        <p:grpSp>
          <p:nvGrpSpPr>
            <p:cNvPr id="263" name=""/>
            <p:cNvGrpSpPr/>
            <p:nvPr/>
          </p:nvGrpSpPr>
          <p:grpSpPr>
            <a:xfrm>
              <a:off x="5364000" y="2781000"/>
              <a:ext cx="3276720" cy="2158560"/>
              <a:chOff x="5364000" y="2781000"/>
              <a:chExt cx="3276720" cy="215856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"/>
              <a:srcRect l="0" t="15126" r="0" b="20438"/>
              <a:stretch/>
            </p:blipFill>
            <p:spPr>
              <a:xfrm>
                <a:off x="5435280" y="2923560"/>
                <a:ext cx="3097440" cy="199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64000" y="2781000"/>
                <a:ext cx="3276720" cy="21585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492360" y="141300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04360" y="1413000"/>
              <a:ext cx="0" cy="35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8028000" y="1413000"/>
              <a:ext cx="574560" cy="288720"/>
              <a:chOff x="8028000" y="1413000"/>
              <a:chExt cx="574560" cy="28872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8316360" y="155700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316360" y="141300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387280" y="1485720"/>
                <a:ext cx="21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87280" y="14857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172360" y="1701720"/>
                <a:ext cx="21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8172360" y="1413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8028000" y="1413000"/>
                <a:ext cx="574560" cy="21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H="1">
              <a:off x="1115640" y="141300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555640" y="141300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42920" y="1700280"/>
            <a:ext cx="7202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700360" y="191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Thank you!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1844640"/>
            <a:ext cx="360360" cy="432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18194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华文行楷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11280" y="2203920"/>
            <a:ext cx="4464360" cy="73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2733840"/>
            <a:ext cx="217440" cy="28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720" y="25621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华文行楷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13080" y="2946960"/>
            <a:ext cx="4464000" cy="73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33814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华文行楷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11280" y="3766320"/>
            <a:ext cx="4464360" cy="73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3309840"/>
            <a:ext cx="504720" cy="550800"/>
          </a:xfrm>
          <a:prstGeom prst="ellipse">
            <a:avLst/>
          </a:prstGeom>
          <a:gradFill rotWithShape="0">
            <a:gsLst>
              <a:gs pos="0">
                <a:srgbClr val="1d7775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42656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华文行楷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411280" y="4650480"/>
            <a:ext cx="4464360" cy="73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508640"/>
            <a:ext cx="432000" cy="288720"/>
          </a:xfrm>
          <a:prstGeom prst="ellipse">
            <a:avLst/>
          </a:prstGeom>
          <a:gradFill rotWithShape="0">
            <a:gsLst>
              <a:gs pos="0">
                <a:srgbClr val="25627d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93080" y="5661000"/>
            <a:ext cx="2050920" cy="1197000"/>
            <a:chOff x="7093080" y="5661000"/>
            <a:chExt cx="2050920" cy="11970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55016" t="16062" r="0" b="54064"/>
            <a:stretch/>
          </p:blipFill>
          <p:spPr>
            <a:xfrm>
              <a:off x="7134840" y="5698080"/>
              <a:ext cx="2009160" cy="11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7093080" y="5661000"/>
              <a:ext cx="464400" cy="119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9640" y="1297080"/>
            <a:ext cx="8064360" cy="4795920"/>
            <a:chOff x="539640" y="1297080"/>
            <a:chExt cx="8064360" cy="479592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lum bright="6000"/>
            </a:blip>
            <a:srcRect l="0" t="73082" r="29995" b="0"/>
            <a:stretch/>
          </p:blipFill>
          <p:spPr>
            <a:xfrm>
              <a:off x="539640" y="4464000"/>
              <a:ext cx="352728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9640" y="1297080"/>
              <a:ext cx="8064360" cy="4751280"/>
            </a:xfrm>
            <a:prstGeom prst="roundRect">
              <a:avLst>
                <a:gd name="adj" fmla="val 1062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844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55640" y="1557360"/>
            <a:ext cx="7416720" cy="1728720"/>
            <a:chOff x="755640" y="1557360"/>
            <a:chExt cx="7416720" cy="1728720"/>
          </a:xfrm>
        </p:grpSpPr>
        <p:grpSp>
          <p:nvGrpSpPr>
            <p:cNvPr id="106" name=""/>
            <p:cNvGrpSpPr/>
            <p:nvPr/>
          </p:nvGrpSpPr>
          <p:grpSpPr>
            <a:xfrm>
              <a:off x="6551280" y="2565360"/>
              <a:ext cx="1620720" cy="720720"/>
              <a:chOff x="6551280" y="2565360"/>
              <a:chExt cx="1620720" cy="7207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rcRect l="55016" t="16062" r="0" b="54064"/>
              <a:stretch/>
            </p:blipFill>
            <p:spPr>
              <a:xfrm>
                <a:off x="6584400" y="2587680"/>
                <a:ext cx="1587600" cy="69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flipH="1">
                <a:off x="6550920" y="2565360"/>
                <a:ext cx="366840" cy="720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55640" y="1557360"/>
              <a:ext cx="7416720" cy="16574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26920" y="2133720"/>
            <a:ext cx="65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406520"/>
            <a:ext cx="2303640" cy="368280"/>
            <a:chOff x="1116000" y="1406520"/>
            <a:chExt cx="2303640" cy="368280"/>
          </a:xfrm>
        </p:grpSpPr>
        <p:sp>
          <p:nvSpPr>
            <p:cNvPr id="112" name=""/>
            <p:cNvSpPr/>
            <p:nvPr/>
          </p:nvSpPr>
          <p:spPr>
            <a:xfrm>
              <a:off x="1116000" y="1413000"/>
              <a:ext cx="230364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60360" y="1406520"/>
              <a:ext cx="20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55640" y="3718080"/>
            <a:ext cx="7416720" cy="1871640"/>
            <a:chOff x="755640" y="3718080"/>
            <a:chExt cx="7416720" cy="1871640"/>
          </a:xfrm>
        </p:grpSpPr>
        <p:grpSp>
          <p:nvGrpSpPr>
            <p:cNvPr id="115" name=""/>
            <p:cNvGrpSpPr/>
            <p:nvPr/>
          </p:nvGrpSpPr>
          <p:grpSpPr>
            <a:xfrm>
              <a:off x="755640" y="3861000"/>
              <a:ext cx="7416720" cy="1728720"/>
              <a:chOff x="755640" y="3861000"/>
              <a:chExt cx="7416720" cy="17287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551280" y="4869000"/>
                <a:ext cx="1620720" cy="720720"/>
                <a:chOff x="6551280" y="4869000"/>
                <a:chExt cx="1620720" cy="72072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2"/>
                <a:srcRect l="55016" t="16062" r="0" b="54064"/>
                <a:stretch/>
              </p:blipFill>
              <p:spPr>
                <a:xfrm>
                  <a:off x="6584400" y="4891320"/>
                  <a:ext cx="1587600" cy="69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 flipH="1">
                  <a:off x="6550920" y="4869000"/>
                  <a:ext cx="366840" cy="720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755640" y="3861000"/>
                <a:ext cx="7416720" cy="1657440"/>
              </a:xfrm>
              <a:prstGeom prst="rect">
                <a:avLst/>
              </a:prstGeom>
              <a:noFill/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26920" y="4445280"/>
              <a:ext cx="651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042920" y="3718080"/>
              <a:ext cx="2303640" cy="368280"/>
              <a:chOff x="1042920" y="3718080"/>
              <a:chExt cx="2303640" cy="368280"/>
            </a:xfrm>
          </p:grpSpPr>
          <p:sp>
            <p:nvSpPr>
              <p:cNvPr id="122" name=""/>
              <p:cNvSpPr/>
              <p:nvPr/>
            </p:nvSpPr>
            <p:spPr>
              <a:xfrm>
                <a:off x="1042920" y="3724560"/>
                <a:ext cx="2303640" cy="28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87280" y="3718080"/>
                <a:ext cx="207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33"/>
                    </a:solidFill>
                    <a:latin typeface="Arial"/>
                  </a:rPr>
                  <a:t>ADD YOUR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2898" t="35768" r="52241" b="36683"/>
          <a:stretch/>
        </p:blipFill>
        <p:spPr>
          <a:xfrm>
            <a:off x="7091280" y="4076640"/>
            <a:ext cx="10810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71640" y="1553760"/>
            <a:ext cx="7200720" cy="1586160"/>
            <a:chOff x="971640" y="1553760"/>
            <a:chExt cx="7200720" cy="158616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rcRect l="55931" t="34252" r="0" b="34252"/>
            <a:stretch/>
          </p:blipFill>
          <p:spPr>
            <a:xfrm>
              <a:off x="7090920" y="1985760"/>
              <a:ext cx="1062000" cy="115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971640" y="1553760"/>
              <a:ext cx="7200720" cy="1586160"/>
              <a:chOff x="971640" y="1553760"/>
              <a:chExt cx="7200720" cy="15861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1554120"/>
                <a:ext cx="7200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971640" y="1553760"/>
                <a:ext cx="576000" cy="289440"/>
                <a:chOff x="971640" y="1553760"/>
                <a:chExt cx="576000" cy="289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971640" y="169848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1258560" y="155376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71640" y="162720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187280" y="162720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187280" y="1843200"/>
                  <a:ext cx="21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1402920" y="15537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971640" y="1554120"/>
                  <a:ext cx="576000" cy="216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596000" y="2851200"/>
                <a:ext cx="576000" cy="288720"/>
                <a:chOff x="7596000" y="2851200"/>
                <a:chExt cx="576000" cy="2887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7885080" y="29959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885080" y="2995920"/>
                  <a:ext cx="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956360" y="306720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956360" y="28515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7741080" y="2851200"/>
                  <a:ext cx="21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40720" y="285120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0800000">
                  <a:off x="7596000" y="2924280"/>
                  <a:ext cx="576000" cy="215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058840"/>
            <a:ext cx="65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71640" y="3498480"/>
            <a:ext cx="7200720" cy="1586160"/>
            <a:chOff x="971640" y="3498480"/>
            <a:chExt cx="7200720" cy="1586160"/>
          </a:xfrm>
        </p:grpSpPr>
        <p:sp>
          <p:nvSpPr>
            <p:cNvPr id="149" name=""/>
            <p:cNvSpPr/>
            <p:nvPr/>
          </p:nvSpPr>
          <p:spPr>
            <a:xfrm>
              <a:off x="971640" y="3498840"/>
              <a:ext cx="7200720" cy="1584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71640" y="3498480"/>
              <a:ext cx="576000" cy="289440"/>
              <a:chOff x="971640" y="3498480"/>
              <a:chExt cx="576000" cy="28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971640" y="36432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1258560" y="349848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71640" y="357192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87280" y="3571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87280" y="3787920"/>
                <a:ext cx="21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402920" y="34984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71640" y="3498840"/>
                <a:ext cx="576000" cy="2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596000" y="4795920"/>
              <a:ext cx="576000" cy="288720"/>
              <a:chOff x="7596000" y="4795920"/>
              <a:chExt cx="576000" cy="28872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7885080" y="49406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5080" y="494064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956360" y="501192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956360" y="47962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741080" y="4795920"/>
                <a:ext cx="21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40720" y="479592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800000">
                <a:off x="7596000" y="4869000"/>
                <a:ext cx="576000" cy="215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1042920" y="4003560"/>
            <a:ext cx="65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042920" y="1413000"/>
            <a:ext cx="7634160" cy="1008000"/>
            <a:chOff x="1042920" y="1413000"/>
            <a:chExt cx="7634160" cy="1008000"/>
          </a:xfrm>
        </p:grpSpPr>
        <p:grpSp>
          <p:nvGrpSpPr>
            <p:cNvPr id="168" name=""/>
            <p:cNvGrpSpPr/>
            <p:nvPr/>
          </p:nvGrpSpPr>
          <p:grpSpPr>
            <a:xfrm>
              <a:off x="1042920" y="1413000"/>
              <a:ext cx="3889440" cy="1008000"/>
              <a:chOff x="1042920" y="1413000"/>
              <a:chExt cx="3889440" cy="1008000"/>
            </a:xfrm>
          </p:grpSpPr>
          <p:sp>
            <p:nvSpPr>
              <p:cNvPr id="169" name=""/>
              <p:cNvSpPr/>
              <p:nvPr/>
            </p:nvSpPr>
            <p:spPr>
              <a:xfrm>
                <a:off x="1476360" y="1413000"/>
                <a:ext cx="3456000" cy="10080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42920" y="1413000"/>
                <a:ext cx="1009800" cy="100800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124000" y="1555920"/>
              <a:ext cx="65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42920" y="2924280"/>
            <a:ext cx="7634160" cy="1008000"/>
            <a:chOff x="1042920" y="2924280"/>
            <a:chExt cx="7634160" cy="1008000"/>
          </a:xfrm>
        </p:grpSpPr>
        <p:grpSp>
          <p:nvGrpSpPr>
            <p:cNvPr id="173" name=""/>
            <p:cNvGrpSpPr/>
            <p:nvPr/>
          </p:nvGrpSpPr>
          <p:grpSpPr>
            <a:xfrm>
              <a:off x="1042920" y="2924280"/>
              <a:ext cx="3889440" cy="1008000"/>
              <a:chOff x="1042920" y="2924280"/>
              <a:chExt cx="3889440" cy="10080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76360" y="2924280"/>
                <a:ext cx="3456000" cy="10080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42920" y="2924280"/>
                <a:ext cx="1009800" cy="1008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124000" y="3067200"/>
              <a:ext cx="65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2920" y="4365720"/>
            <a:ext cx="7634160" cy="1008000"/>
            <a:chOff x="1042920" y="4365720"/>
            <a:chExt cx="7634160" cy="1008000"/>
          </a:xfrm>
        </p:grpSpPr>
        <p:grpSp>
          <p:nvGrpSpPr>
            <p:cNvPr id="178" name=""/>
            <p:cNvGrpSpPr/>
            <p:nvPr/>
          </p:nvGrpSpPr>
          <p:grpSpPr>
            <a:xfrm>
              <a:off x="1042920" y="4365720"/>
              <a:ext cx="3889440" cy="1008000"/>
              <a:chOff x="1042920" y="4365720"/>
              <a:chExt cx="3889440" cy="1008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476360" y="4365720"/>
                <a:ext cx="3456000" cy="10080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42920" y="4365720"/>
                <a:ext cx="1009800" cy="10080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124000" y="4508640"/>
              <a:ext cx="65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624720" y="3500280"/>
            <a:ext cx="2050920" cy="1197000"/>
            <a:chOff x="6624720" y="3500280"/>
            <a:chExt cx="2050920" cy="1197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55016" t="16062" r="0" b="54064"/>
            <a:stretch/>
          </p:blipFill>
          <p:spPr>
            <a:xfrm>
              <a:off x="6666480" y="3537360"/>
              <a:ext cx="2009160" cy="11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6624720" y="3500280"/>
              <a:ext cx="464400" cy="119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468360" y="1557360"/>
          <a:ext cx="8229600" cy="3105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ff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ff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ff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ff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ffe5e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"/>
          <p:cNvGrpSpPr/>
          <p:nvPr/>
        </p:nvGrpSpPr>
        <p:grpSpPr>
          <a:xfrm>
            <a:off x="468360" y="1557000"/>
            <a:ext cx="576360" cy="289440"/>
            <a:chOff x="468360" y="1557000"/>
            <a:chExt cx="576360" cy="289440"/>
          </a:xfrm>
        </p:grpSpPr>
        <p:sp>
          <p:nvSpPr>
            <p:cNvPr id="188" name=""/>
            <p:cNvSpPr/>
            <p:nvPr/>
          </p:nvSpPr>
          <p:spPr>
            <a:xfrm>
              <a:off x="468360" y="1701720"/>
              <a:ext cx="2872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55640" y="1557000"/>
              <a:ext cx="0" cy="144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360" y="1630440"/>
              <a:ext cx="2160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4360" y="1630440"/>
              <a:ext cx="0" cy="2160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360" y="1846440"/>
              <a:ext cx="21564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900000" y="1557000"/>
              <a:ext cx="0" cy="28908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360" y="1557360"/>
              <a:ext cx="576360" cy="21600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101080" y="1557000"/>
            <a:ext cx="574560" cy="289440"/>
            <a:chOff x="8101080" y="1557000"/>
            <a:chExt cx="574560" cy="289440"/>
          </a:xfrm>
        </p:grpSpPr>
        <p:sp>
          <p:nvSpPr>
            <p:cNvPr id="196" name=""/>
            <p:cNvSpPr/>
            <p:nvPr/>
          </p:nvSpPr>
          <p:spPr>
            <a:xfrm flipH="1">
              <a:off x="8389440" y="1701720"/>
              <a:ext cx="2862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89440" y="1557000"/>
              <a:ext cx="0" cy="144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460360" y="1630440"/>
              <a:ext cx="2152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60360" y="1630440"/>
              <a:ext cx="0" cy="2160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245440" y="1846440"/>
              <a:ext cx="21492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245440" y="1557000"/>
              <a:ext cx="0" cy="28908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101080" y="1557360"/>
              <a:ext cx="574560" cy="21600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4920" y="2205000"/>
            <a:ext cx="6984720" cy="1429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74920" y="1700280"/>
            <a:ext cx="865080" cy="576360"/>
            <a:chOff x="1474920" y="1700280"/>
            <a:chExt cx="865080" cy="576360"/>
          </a:xfrm>
        </p:grpSpPr>
        <p:pic>
          <p:nvPicPr>
            <p:cNvPr id="207" name="" descr=""/>
            <p:cNvPicPr/>
            <p:nvPr/>
          </p:nvPicPr>
          <p:blipFill>
            <a:blip r:embed="rId1">
              <a:lum bright="6000"/>
            </a:blip>
            <a:srcRect l="5703" t="75022" r="77130" b="15455"/>
            <a:stretch/>
          </p:blipFill>
          <p:spPr>
            <a:xfrm>
              <a:off x="1474920" y="1700280"/>
              <a:ext cx="865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95640" y="2131920"/>
              <a:ext cx="14436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340000" y="1413000"/>
            <a:ext cx="5472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4920" y="3214800"/>
            <a:ext cx="6984720" cy="142920"/>
          </a:xfrm>
          <a:prstGeom prst="ellipse">
            <a:avLst/>
          </a:prstGeom>
          <a:gradFill rotWithShape="0">
            <a:gsLst>
              <a:gs pos="0">
                <a:srgbClr val="1d7775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474920" y="2709720"/>
            <a:ext cx="865080" cy="576360"/>
            <a:chOff x="1474920" y="2709720"/>
            <a:chExt cx="865080" cy="576360"/>
          </a:xfrm>
        </p:grpSpPr>
        <p:pic>
          <p:nvPicPr>
            <p:cNvPr id="212" name="" descr=""/>
            <p:cNvPicPr/>
            <p:nvPr/>
          </p:nvPicPr>
          <p:blipFill>
            <a:blip r:embed="rId2">
              <a:lum bright="6000"/>
            </a:blip>
            <a:srcRect l="5703" t="75022" r="77130" b="15455"/>
            <a:stretch/>
          </p:blipFill>
          <p:spPr>
            <a:xfrm>
              <a:off x="1474920" y="2709720"/>
              <a:ext cx="865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195640" y="3141360"/>
              <a:ext cx="14436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340000" y="2422440"/>
            <a:ext cx="5472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74920" y="4294080"/>
            <a:ext cx="6984720" cy="1429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74920" y="3789360"/>
            <a:ext cx="865080" cy="576360"/>
            <a:chOff x="1474920" y="3789360"/>
            <a:chExt cx="865080" cy="576360"/>
          </a:xfrm>
        </p:grpSpPr>
        <p:pic>
          <p:nvPicPr>
            <p:cNvPr id="217" name="" descr=""/>
            <p:cNvPicPr/>
            <p:nvPr/>
          </p:nvPicPr>
          <p:blipFill>
            <a:blip r:embed="rId3">
              <a:lum bright="6000"/>
            </a:blip>
            <a:srcRect l="5703" t="75022" r="77130" b="15455"/>
            <a:stretch/>
          </p:blipFill>
          <p:spPr>
            <a:xfrm>
              <a:off x="1474920" y="3789360"/>
              <a:ext cx="865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195640" y="4221000"/>
              <a:ext cx="14436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340000" y="3502080"/>
            <a:ext cx="5472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4920" y="5373720"/>
            <a:ext cx="6984720" cy="142920"/>
          </a:xfrm>
          <a:prstGeom prst="ellipse">
            <a:avLst/>
          </a:prstGeom>
          <a:gradFill rotWithShape="0">
            <a:gsLst>
              <a:gs pos="0">
                <a:srgbClr val="1d7775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4920" y="4869000"/>
            <a:ext cx="865080" cy="576000"/>
            <a:chOff x="1474920" y="4869000"/>
            <a:chExt cx="865080" cy="576000"/>
          </a:xfrm>
        </p:grpSpPr>
        <p:pic>
          <p:nvPicPr>
            <p:cNvPr id="222" name="" descr=""/>
            <p:cNvPicPr/>
            <p:nvPr/>
          </p:nvPicPr>
          <p:blipFill>
            <a:blip r:embed="rId4">
              <a:lum bright="6000"/>
            </a:blip>
            <a:srcRect l="5703" t="75022" r="77130" b="15455"/>
            <a:stretch/>
          </p:blipFill>
          <p:spPr>
            <a:xfrm>
              <a:off x="1474920" y="4869000"/>
              <a:ext cx="86508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195640" y="5300280"/>
              <a:ext cx="1443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340000" y="4581360"/>
            <a:ext cx="5472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99120" y="1304280"/>
            <a:ext cx="7889760" cy="2232000"/>
            <a:chOff x="699120" y="1304280"/>
            <a:chExt cx="7889760" cy="2232000"/>
          </a:xfrm>
        </p:grpSpPr>
        <p:sp>
          <p:nvSpPr>
            <p:cNvPr id="227" name=""/>
            <p:cNvSpPr/>
            <p:nvPr/>
          </p:nvSpPr>
          <p:spPr>
            <a:xfrm>
              <a:off x="2124000" y="3444120"/>
              <a:ext cx="518472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9640" y="1396080"/>
              <a:ext cx="511344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1411600">
              <a:off x="755640" y="1396080"/>
              <a:ext cx="1370160" cy="210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49" y="2314"/>
                    <a:pt x="12897" y="5080"/>
                    <a:pt x="12897" y="10800"/>
                  </a:cubicBezTo>
                  <a:cubicBezTo>
                    <a:pt x="12897" y="16520"/>
                    <a:pt x="17249" y="192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21412200">
              <a:off x="7162560" y="1339920"/>
              <a:ext cx="1369800" cy="210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49" y="2314"/>
                    <a:pt x="12897" y="5080"/>
                    <a:pt x="12897" y="10800"/>
                  </a:cubicBezTo>
                  <a:cubicBezTo>
                    <a:pt x="12897" y="16520"/>
                    <a:pt x="17249" y="192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835280" y="1987560"/>
            <a:ext cx="5472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99120" y="3680640"/>
            <a:ext cx="7890120" cy="2232360"/>
            <a:chOff x="699120" y="3680640"/>
            <a:chExt cx="7890120" cy="2232360"/>
          </a:xfrm>
        </p:grpSpPr>
        <p:sp>
          <p:nvSpPr>
            <p:cNvPr id="233" name=""/>
            <p:cNvSpPr/>
            <p:nvPr/>
          </p:nvSpPr>
          <p:spPr>
            <a:xfrm>
              <a:off x="2124000" y="5820840"/>
              <a:ext cx="518472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9640" y="3772440"/>
              <a:ext cx="511344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411600">
              <a:off x="755640" y="3772440"/>
              <a:ext cx="1370160" cy="21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49" y="2314"/>
                    <a:pt x="12897" y="5080"/>
                    <a:pt x="12897" y="10800"/>
                  </a:cubicBezTo>
                  <a:cubicBezTo>
                    <a:pt x="12897" y="16520"/>
                    <a:pt x="17249" y="192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21412200">
              <a:off x="7162560" y="3716280"/>
              <a:ext cx="1369800" cy="21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49" y="2314"/>
                    <a:pt x="12897" y="5080"/>
                    <a:pt x="12897" y="10800"/>
                  </a:cubicBezTo>
                  <a:cubicBezTo>
                    <a:pt x="12897" y="16520"/>
                    <a:pt x="17249" y="192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835280" y="4363920"/>
            <a:ext cx="5472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3:24:59Z</dcterms:created>
  <dc:creator>user</dc:creator>
  <dc:description/>
  <dc:language>en-US</dc:language>
  <cp:lastModifiedBy>keke</cp:lastModifiedBy>
  <cp:lastPrinted>1899-12-30T00:00:00Z</cp:lastPrinted>
  <dcterms:modified xsi:type="dcterms:W3CDTF">2009-09-27T03:41:50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