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6A66-F061-4A80-90B1-060E76EFC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7CCF-CD23-452F-A287-EC853D9C1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EA10-D279-415C-A578-0164B659F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4E3D-7C3E-47C4-9266-BD67FF7DD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7FE2-2499-4137-B8A0-D9DB768ED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0AF5-00E3-42BD-8E6F-4E4B9D4B7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BAAE-1B74-4CB8-B98B-B0AC5761E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80D8-5A74-45CF-A5FA-68A0EA185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BC03-1569-4B49-A3D5-CAC2B32C7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66C4-2522-4E3A-ACF9-C2F83EFB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06D5-5B14-4236-9F01-88E46535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EE05-62D0-449B-A2B0-7882B18D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8038B-7997-40C9-A8C2-61291DB919FC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85920" y="765000"/>
            <a:ext cx="667224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04040"/>
                </a:solidFill>
                <a:latin typeface="黑体"/>
                <a:ea typeface="黑体"/>
              </a:rPr>
              <a:t>数据分析</a:t>
            </a:r>
            <a:r>
              <a:rPr b="0" lang="en-US" sz="4400" spc="-1" strike="noStrike">
                <a:solidFill>
                  <a:srgbClr val="404040"/>
                </a:solidFill>
                <a:latin typeface="黑体"/>
                <a:ea typeface="黑体"/>
              </a:rPr>
              <a:t>PowerPoint</a:t>
            </a:r>
            <a:r>
              <a:rPr b="0" lang="zh-CN" sz="4400" spc="-1" strike="noStrike">
                <a:solidFill>
                  <a:srgbClr val="404040"/>
                </a:solidFill>
                <a:latin typeface="黑体"/>
                <a:ea typeface="黑体"/>
              </a:rPr>
              <a:t>模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68360" y="1696680"/>
            <a:ext cx="4572000" cy="79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华文宋体"/>
                <a:ea typeface="华文宋体"/>
              </a:rPr>
              <a:t>西西软件园，</a:t>
            </a:r>
            <a:r>
              <a:rPr b="0" lang="en-US" sz="2400" spc="-1" strike="noStrike">
                <a:solidFill>
                  <a:srgbClr val="7f7f7f"/>
                </a:solidFill>
                <a:latin typeface="华文宋体"/>
                <a:ea typeface="华文宋体"/>
              </a:rPr>
              <a:t>www.cr173.c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404040"/>
                </a:solidFill>
                <a:latin typeface="Calibri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Lorem ipsum dolor sit amet, consectetuer adipiscing elit. Vivamus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Lorem ipsum dolor sit amet, consectetu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262626"/>
                </a:solidFill>
                <a:latin typeface="Calibri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89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orem ipsum dolor sit amet, consectetuer adipiscing eli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orem ipsum dolor sit amet,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orem ipsum dolor sit amet,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404040"/>
                </a:solidFill>
                <a:latin typeface="Calibri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832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Lorem ipsum dolor sit amet, consectetuer adipiscing elit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Lorem ipsum dolor sit amet, consectetuer adipiscing elit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Lorem ipsum dolor sit amet,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矩形 2"/>
          <p:cNvSpPr/>
          <p:nvPr/>
        </p:nvSpPr>
        <p:spPr>
          <a:xfrm>
            <a:off x="533520" y="6475320"/>
            <a:ext cx="1393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600" spc="-1" strike="noStrike">
                <a:solidFill>
                  <a:srgbClr val="ffffff"/>
                </a:solidFill>
                <a:latin typeface="Arial"/>
                <a:ea typeface="宋体"/>
              </a:rPr>
              <a:t>模板下载：</a:t>
            </a:r>
            <a:r>
              <a:rPr b="0" lang="en-US" sz="600" spc="-1" strike="noStrike">
                <a:solidFill>
                  <a:srgbClr val="ffffff"/>
                </a:solidFill>
                <a:latin typeface="Arial"/>
                <a:ea typeface="宋体"/>
              </a:rPr>
              <a:t>www.1ppt.com/moban/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16:02:59Z</dcterms:created>
  <dc:creator>脡ric Vadeboncoeur</dc:creator>
  <dc:description/>
  <cp:keywords>鎴戠埍PPT涓枃缃</cp:keywords>
  <dc:language>en-US</dc:language>
  <cp:lastModifiedBy>Administrator</cp:lastModifiedBy>
  <cp:lastPrinted>1899-12-30T00:00:00Z</cp:lastPrinted>
  <dcterms:modified xsi:type="dcterms:W3CDTF">2015-07-09T02:30:01Z</dcterms:modified>
  <cp:revision>17</cp:revision>
  <dc:subject/>
  <dc:title>INFOCHIN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