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D47-6B7D-4B62-8A60-C4890630A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B62D-911D-4429-8BCB-4F2BDBD8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7A76-DD68-4235-842F-D2AD4C35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E1C-028F-4923-BCE9-5B49A7FE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1A0-B0EB-460F-9AFC-FA8AB151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599D-3C1B-4D5E-AF33-69FD1187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75BB-E3B4-48E6-957D-C66C38A6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F4F5-A82B-4F31-B1DB-DF6F75DFA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3D5-047A-491D-8DD3-C4A18A99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499-1AE6-437F-ADE7-56333B48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0BC-EFA8-420E-8D3B-E7F10F7A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471-C278-41A0-B78C-E8BBC0FC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984-DE3C-4D7A-B53F-750A03E7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D65-B7CF-4A9D-B329-4F53C0C1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49320" y="6443640"/>
            <a:ext cx="32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Eras Demi ITC"/>
                <a:ea typeface="微软雅黑"/>
              </a:rPr>
              <a:t>http://blog.sina.com.cn/xiaowenzi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教程\PPT\PPT素材\3D小人\小人\图片1.jpg"/>
          <p:cNvPicPr/>
          <p:nvPr/>
        </p:nvPicPr>
        <p:blipFill>
          <a:blip r:embed="rId1"/>
          <a:srcRect l="0" t="5497" r="0" b="14561"/>
          <a:stretch/>
        </p:blipFill>
        <p:spPr>
          <a:xfrm>
            <a:off x="12600" y="2406600"/>
            <a:ext cx="9131400" cy="4454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04920" y="677880"/>
            <a:ext cx="85341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技能提升十大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八、关注行业动态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5484960" y="206280"/>
            <a:ext cx="1643040" cy="776520"/>
          </a:xfrm>
          <a:prstGeom prst="rect">
            <a:avLst/>
          </a:prstGeom>
          <a:ln w="0">
            <a:noFill/>
          </a:ln>
        </p:spPr>
      </p:pic>
      <p:sp>
        <p:nvSpPr>
          <p:cNvPr id="74" name="矩形 13"/>
          <p:cNvSpPr/>
          <p:nvPr/>
        </p:nvSpPr>
        <p:spPr>
          <a:xfrm>
            <a:off x="190440" y="6021360"/>
            <a:ext cx="69818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注：以上微博排名不分先后，欢迎大家继续补充数据分析方面有价值的微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4"/>
          <p:cNvGrpSpPr/>
          <p:nvPr/>
        </p:nvGrpSpPr>
        <p:grpSpPr>
          <a:xfrm>
            <a:off x="190440" y="1274760"/>
            <a:ext cx="8763120" cy="4600440"/>
            <a:chOff x="190440" y="1274760"/>
            <a:chExt cx="8763120" cy="4600440"/>
          </a:xfrm>
        </p:grpSpPr>
        <p:sp>
          <p:nvSpPr>
            <p:cNvPr id="76" name="AutoShape 13"/>
            <p:cNvSpPr/>
            <p:nvPr/>
          </p:nvSpPr>
          <p:spPr>
            <a:xfrm>
              <a:off x="190440" y="1274760"/>
              <a:ext cx="8763120" cy="4600440"/>
            </a:xfrm>
            <a:prstGeom prst="roundRect">
              <a:avLst>
                <a:gd name="adj" fmla="val 4588"/>
              </a:avLst>
            </a:pr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6616800" y="1785960"/>
              <a:ext cx="208116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蝇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栗子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秋叶语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西岭夜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曹将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a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Lonely_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刘俊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7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小田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_P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爱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PPT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精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无敌的面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教育技术秋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482400" y="1812600"/>
              <a:ext cx="25192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沈浩老师     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文彤老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刘德寰        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车品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化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张磊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D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小蚊子乐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挖掘与数据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郑来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庖丁的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sxl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文心武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夏之朝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朝阳小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10"/>
            <p:cNvSpPr/>
            <p:nvPr/>
          </p:nvSpPr>
          <p:spPr>
            <a:xfrm>
              <a:off x="3581280" y="1785960"/>
              <a:ext cx="245736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刘万祥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ExcelP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MrExce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演绎生动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Excel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图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 Excel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技巧网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_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官方微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每日图表        </a:t>
              </a: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图表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知天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EasyTrace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网站分析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中商联数据分析委员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 SAS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中文论坛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挖掘研究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中国统计网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网站分析星期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1"/>
            <p:cNvSpPr/>
            <p:nvPr/>
          </p:nvSpPr>
          <p:spPr>
            <a:xfrm>
              <a:off x="445680" y="1347480"/>
              <a:ext cx="15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数据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2"/>
            <p:cNvSpPr/>
            <p:nvPr/>
          </p:nvSpPr>
          <p:spPr>
            <a:xfrm>
              <a:off x="3440160" y="134748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数据分析与展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3"/>
            <p:cNvSpPr/>
            <p:nvPr/>
          </p:nvSpPr>
          <p:spPr>
            <a:xfrm>
              <a:off x="6434280" y="1347480"/>
              <a:ext cx="15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九、收藏几本分析秘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0" y="116532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通过不同合法途径（购买、赠书等），收藏一些实用的分析工具书，以便随时查阅，如：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图表说话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《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EXCEL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图表之道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、以及近期（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底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-6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初）将上市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谁说菜鸟不会数据分析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6"/>
          <p:cNvGrpSpPr/>
          <p:nvPr/>
        </p:nvGrpSpPr>
        <p:grpSpPr>
          <a:xfrm>
            <a:off x="2782800" y="2662200"/>
            <a:ext cx="3578400" cy="4016520"/>
            <a:chOff x="2782800" y="2662200"/>
            <a:chExt cx="3578400" cy="4016520"/>
          </a:xfrm>
        </p:grpSpPr>
        <p:pic>
          <p:nvPicPr>
            <p:cNvPr id="86" name="Picture 5" descr="D:\教程\PPT\PPT素材\3D小人\3D小人--高清\书.png"/>
            <p:cNvPicPr/>
            <p:nvPr/>
          </p:nvPicPr>
          <p:blipFill>
            <a:blip r:embed="rId1"/>
            <a:srcRect l="9465" t="10144" r="3982" b="9731"/>
            <a:stretch/>
          </p:blipFill>
          <p:spPr>
            <a:xfrm>
              <a:off x="2782800" y="2662200"/>
              <a:ext cx="3578400" cy="40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15"/>
            <p:cNvSpPr/>
            <p:nvPr/>
          </p:nvSpPr>
          <p:spPr>
            <a:xfrm rot="2246400">
              <a:off x="4037400" y="3222720"/>
              <a:ext cx="161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谁说菜鸟不会数据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十、锻炼身体、享受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工作之余，还要不忘锻炼身体，保持身心健康，普华永道的小表妹就是我们的前车之鉴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做数据的伤不起呀！ ！谨记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教程\PPT\PPT素材\3D小人\休闲\www_tuweimei_comComp_23110069_jbA4710wjZVGGt3lBaRLqsUfiX0PL4yu.jpg"/>
          <p:cNvPicPr/>
          <p:nvPr/>
        </p:nvPicPr>
        <p:blipFill>
          <a:blip r:embed="rId1"/>
          <a:stretch/>
        </p:blipFill>
        <p:spPr>
          <a:xfrm>
            <a:off x="4060800" y="2297160"/>
            <a:ext cx="449280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教程\PPT\PPT素材\3D小人\体育\www_tuweimei_comComp_23276578_VriFvUzq9Sgh68yAVt1LmAj5Zz1dEh0Z.jpg"/>
          <p:cNvPicPr/>
          <p:nvPr/>
        </p:nvPicPr>
        <p:blipFill>
          <a:blip r:embed="rId2"/>
          <a:stretch/>
        </p:blipFill>
        <p:spPr>
          <a:xfrm>
            <a:off x="263520" y="2406600"/>
            <a:ext cx="3397320" cy="339732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6"/>
          <p:cNvSpPr/>
          <p:nvPr/>
        </p:nvSpPr>
        <p:spPr>
          <a:xfrm flipH="1">
            <a:off x="3693600" y="2589120"/>
            <a:ext cx="1800" cy="325116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0" y="70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不仅是个工具，而且是门艺术，优秀的数据分析师不光要懂业务、懂管理，懂分析、还要懂创意、懂设计、懂生活，所以数据分析师也是个艺术家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教程\PPT\PPT素材\3D小人\学习\www.tuweimei.comComp_10056590_vo0Vk7dMfXJPbsM1RnXlOWRGMgyX8Bmu.jpg"/>
          <p:cNvPicPr/>
          <p:nvPr/>
        </p:nvPicPr>
        <p:blipFill>
          <a:blip r:embed="rId1"/>
          <a:stretch/>
        </p:blipFill>
        <p:spPr>
          <a:xfrm>
            <a:off x="2936880" y="2954160"/>
            <a:ext cx="3270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熟悉行业、公司业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熟悉行业、公司业务及流程，若脱离行业认知和公司业务背景，分析的结果只会是脱了线的风筝，没有太大的实用价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D:\教程\PPT\PPT素材\3D小人\8\Comp_8030640356.jpg"/>
          <p:cNvPicPr/>
          <p:nvPr/>
        </p:nvPicPr>
        <p:blipFill>
          <a:blip r:embed="rId1"/>
          <a:stretch/>
        </p:blipFill>
        <p:spPr>
          <a:xfrm>
            <a:off x="2525760" y="2295360"/>
            <a:ext cx="4092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明确分析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常常有朋友问我这些数据可以做什么分析？这是典型的为了分析而分析。数据分析的前提需要先明确分析目的，这样分析才有意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教程\PPT\PPT素材\3D小人\目标\目标2.jpg"/>
          <p:cNvPicPr/>
          <p:nvPr/>
        </p:nvPicPr>
        <p:blipFill>
          <a:blip r:embed="rId1"/>
          <a:stretch/>
        </p:blipFill>
        <p:spPr>
          <a:xfrm>
            <a:off x="2708280" y="2478240"/>
            <a:ext cx="3727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运用营销、管理等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营销、管理等理论是数据分析的指导思想，使分析思路系统化。例如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4P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理论等，从哪几个维度去分析？考虑哪几个方面？故而使数据分析变得有血有肉有脉络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真正做到理论指导实践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教程\PPT\PPT素材\3D小人\2\www_tuweimei_comComp_22357487_KqjyNJsNtHzQcsMcA6CbqGKVyDCNTepd.jpg"/>
          <p:cNvPicPr/>
          <p:nvPr/>
        </p:nvPicPr>
        <p:blipFill>
          <a:blip r:embed="rId1"/>
          <a:stretch/>
        </p:blipFill>
        <p:spPr>
          <a:xfrm>
            <a:off x="2398680" y="2870280"/>
            <a:ext cx="4346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四、掌握有效数据分析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了解数据分析流程，掌握数据分析基本原理与方法，并灵活运用到实践工作中，不论简单还是复杂的分析方法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方法就是好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:\教程\PPT\PPT素材\3D小人\8\Comp_8023312306.jpg"/>
          <p:cNvPicPr/>
          <p:nvPr/>
        </p:nvPicPr>
        <p:blipFill>
          <a:blip r:embed="rId1"/>
          <a:stretch/>
        </p:blipFill>
        <p:spPr>
          <a:xfrm>
            <a:off x="2581200" y="2881440"/>
            <a:ext cx="39816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五、玩转数据分析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数据分析工具，建议先玩转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EXCEL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数据透视表，有兴趣、时间、需要的话，再学习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SPSS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SAS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等统计分析工具，同样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工具就是好工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D:\教程\PPT\PPT素材\3D小人\工程\锤子8.jpg"/>
          <p:cNvPicPr/>
          <p:nvPr/>
        </p:nvPicPr>
        <p:blipFill>
          <a:blip r:embed="rId1"/>
          <a:srcRect l="0" t="7036" r="0" b="0"/>
          <a:stretch/>
        </p:blipFill>
        <p:spPr>
          <a:xfrm>
            <a:off x="2417760" y="2954160"/>
            <a:ext cx="430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六、学会用图表说话，玩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等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学会如何用图表有效展现分析结果，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有助于数据分析结果展现， 达人必备；水晶易表亦对分析结果的展现有很大帮助，选择性使用；思维导图可帮助理清分析思路，根据需要选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教程\PPT\PPT素材\3D小人\数据\图片3.png"/>
          <p:cNvPicPr/>
          <p:nvPr/>
        </p:nvPicPr>
        <p:blipFill>
          <a:blip r:embed="rId1"/>
          <a:stretch/>
        </p:blipFill>
        <p:spPr>
          <a:xfrm>
            <a:off x="2643120" y="2759040"/>
            <a:ext cx="3857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七、勤思考、多动手、多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0" y="11653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需要经常发问为什么是这样的？为什么不是那样的？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有这样才有突破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光靠脑袋想是不够的，需要多动手实践，不要怕错，大不了错了重来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就是一个不断假设、验证的过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断总结分析方法、分析思路、分析流程，在总结中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:\教程\PPT\PPT素材\3D小人\问号-3D小人\问号29.jpg"/>
          <p:cNvPicPr/>
          <p:nvPr/>
        </p:nvPicPr>
        <p:blipFill>
          <a:blip r:embed="rId1"/>
          <a:srcRect l="0" t="0" r="0" b="6224"/>
          <a:stretch/>
        </p:blipFill>
        <p:spPr>
          <a:xfrm>
            <a:off x="2928960" y="3444840"/>
            <a:ext cx="3176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教程\PPT\PPT素材\3D小人\主题\www_tuweimei_comComp_27790037_2hHdUlO1NSgc7Orvidf0O0dYyuaLz2or.jpg"/>
          <p:cNvPicPr/>
          <p:nvPr/>
        </p:nvPicPr>
        <p:blipFill>
          <a:blip r:embed="rId1"/>
          <a:srcRect l="0" t="12518" r="0" b="9927"/>
          <a:stretch/>
        </p:blipFill>
        <p:spPr>
          <a:xfrm>
            <a:off x="2763720" y="3594240"/>
            <a:ext cx="3616560" cy="2865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八、关注行业动态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0" y="1165320"/>
            <a:ext cx="9144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关注数据分析行业动态，如可关注业内人士博客，如沈浩老师的博客、小蚊子乐园、数据挖掘与数据分析、数据化管理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开新浪微博，加入数据分析微博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圈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q.weibo.com/2335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关注数据分析业内人士微博（见下页），学习他人经验分享，也可分享你的经验心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40Z</dcterms:created>
  <dc:creator>Eric Bao</dc:creator>
  <dc:description/>
  <dc:language>en-US</dc:language>
  <cp:lastModifiedBy>Administrator</cp:lastModifiedBy>
  <dcterms:modified xsi:type="dcterms:W3CDTF">2015-08-01T03:47:37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</Properties>
</file>