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chimes.wav" ContentType="audio/x-wav"/>
  <Override PartName="/ppt/media/image6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CA7-DE06-4FE8-96DE-E1DB1E6C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874-A246-415F-945E-E62EEFB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00B-F093-4068-A579-749ACEDF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78F-42F9-411B-92D6-3068FA2D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598-B340-4DAD-A2DC-BFF9F468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0BA-FA91-47AD-90E4-06DBFE3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2BF-8D49-4336-9D6B-595AB95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B76-2A1C-4458-B834-014017E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38A-A835-45C8-A51E-F563166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C22-C12B-4B02-BA64-448AEF1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712-36BD-43ED-A29C-B1E3B4E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07C-3B8F-43E2-9B9F-A52897A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F24-F664-4C23-88E0-441A6BEE7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66200.htm" TargetMode="External"/><Relationship Id="rId2" Type="http://schemas.openxmlformats.org/officeDocument/2006/relationships/hyperlink" Target="http://baike.baidu.com/view/8732.htm" TargetMode="External"/><Relationship Id="rId3" Type="http://schemas.openxmlformats.org/officeDocument/2006/relationships/hyperlink" Target="http://baike.baidu.com/view/2335507.htm" TargetMode="External"/><Relationship Id="rId4" Type="http://schemas.openxmlformats.org/officeDocument/2006/relationships/hyperlink" Target="http://baike.baidu.com/view/17658.htm" TargetMode="External"/><Relationship Id="rId5" Type="http://schemas.openxmlformats.org/officeDocument/2006/relationships/hyperlink" Target="http://baike.baidu.com/view/27696.htm" TargetMode="External"/><Relationship Id="rId6" Type="http://schemas.openxmlformats.org/officeDocument/2006/relationships/image" Target="../media/image2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201072995317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905120" y="838080"/>
            <a:ext cx="5410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司马光救友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众皆弃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他小孩子都吓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司马光砸缸5"/>
          <p:cNvPicPr/>
          <p:nvPr/>
        </p:nvPicPr>
        <p:blipFill>
          <a:blip r:embed="rId1"/>
          <a:stretch/>
        </p:blipFill>
        <p:spPr>
          <a:xfrm>
            <a:off x="1116000" y="2205000"/>
            <a:ext cx="6985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持石击瓮破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司马光拿着石头把水缸砸破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3"/>
          <p:cNvPicPr/>
          <p:nvPr/>
        </p:nvPicPr>
        <p:blipFill>
          <a:blip r:embed="rId1"/>
          <a:stretch/>
        </p:blipFill>
        <p:spPr>
          <a:xfrm>
            <a:off x="900000" y="2421000"/>
            <a:ext cx="684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748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流出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4"/>
          <p:cNvPicPr/>
          <p:nvPr/>
        </p:nvPicPr>
        <p:blipFill>
          <a:blip r:embed="rId1"/>
          <a:stretch/>
        </p:blipFill>
        <p:spPr>
          <a:xfrm>
            <a:off x="990720" y="2209680"/>
            <a:ext cx="6696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儿得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孩子得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6"/>
          <p:cNvPicPr/>
          <p:nvPr/>
        </p:nvPicPr>
        <p:blipFill>
          <a:blip r:embed="rId1"/>
          <a:stretch/>
        </p:blipFill>
        <p:spPr>
          <a:xfrm>
            <a:off x="914400" y="2133720"/>
            <a:ext cx="73436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遇事沉着冷静，肯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司马光砸缸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诚信卖马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司马光要卖一匹马，这匹马毛色纯正漂亮，高大有力，性情温顺，只可惜夏季有肺病。司马光对管家说：“这匹马夏季有肺病，这一定要告诉给买主听。”管家笑了笑说：“哪有人像你这样的呀？我们卖马怎能把人家看不出的毛病说出来！”司马光可不认同管家这种看法，对他说：“一匹马多少钱事小，对人不讲真话，坏了做人的名声事大。我们做人必须得要诚信，要是我们失去了诚信，损失将更大。”管家听后惭愧极了。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调淡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066680" y="6094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默读课文，边读边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8600" y="16765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讲述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2280" y="2286000"/>
            <a:ext cx="3048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原文回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事的起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59092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与群儿戏于庭，一儿登瓮，足跌没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514600" y="3733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皆弃去，光持石击瓮破之，水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81952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儿得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762120" y="685800"/>
            <a:ext cx="308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拓展延伸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080" y="19051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司马光救友这件事上，你觉得司马光是个怎样的孩子？你想对他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91440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当时你在场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动画片：司马光砸缸.~1 00_00_00-00_00_59.wmv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533520" y="30492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反馈练习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371600"/>
            <a:ext cx="8381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加点的字注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迸射（  ）          皆是 （  ）            登瓮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下面加点的字并翻译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持石击瓮破之，水迸，儿得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登瓮，足跌没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，赞扬了司马光的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动画片：司马光砸缸.~1 00_00_00-00_00_59.wmv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7467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600200" y="4114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876920" y="4114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038480" y="4800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295280" y="2057400"/>
            <a:ext cx="647712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再见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241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司马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字君     实，号迂夫，晚号迂叟，陕州夏县（今山西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夏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涑水乡人，北宋政治家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文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、史学家，为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司马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子。历仕仁宗、英宗、神宗、哲宗四朝，卒赠太师、温国公，谥文正，主持编纂了中国历史上第一部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编年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资治通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国文正司马公文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77094b36acaf2edd1bf3c3468d1001e93901931b"/>
          <p:cNvPicPr/>
          <p:nvPr/>
        </p:nvPicPr>
        <p:blipFill>
          <a:blip r:embed="rId6"/>
          <a:stretch/>
        </p:blipFill>
        <p:spPr>
          <a:xfrm>
            <a:off x="0" y="0"/>
            <a:ext cx="1542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言文：就是指用书面语言写成的文章。是相对于白话文，但区别于白话文。在我国古代，要表述同一件事，用口头语言及书面语言来表述，是不同的，例如，想问某人是否吃饭了，用口头语言表述，是“吃饭了吗？”书面语言是“饭否？”我国的古代，所有的文章都是用书面语言写成的。所以，现在我们一般将古文称为“文言文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33720" y="304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09480" y="1828800"/>
            <a:ext cx="8153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准确、通顺、有感情的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古文的意思，了解司马光是个怎样的孩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43200" y="7621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司马光救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38080" y="2057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七岁，与群儿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戏于庭，一儿登瓮，足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跌没水中，众皆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弃去，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持石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击瓮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之，水迸，儿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得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6849501046269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由读课文，结合注释疏通句子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90720" y="1905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自悟。结合注释揣摩重点词语及句子的意思，读懂每一句话，自己理解不了的标记下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38080" y="3581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学习。各自在小组内汇报对每句话的理解，逐句相互研讨，解决不了的标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029古文两篇.mp3" descr=""/>
          <p:cNvPicPr/>
          <p:nvPr/>
        </p:nvPicPr>
        <p:blipFill>
          <a:blip r:embed="rId2"/>
          <a:stretch/>
        </p:blipFill>
        <p:spPr>
          <a:xfrm>
            <a:off x="3352680" y="990720"/>
            <a:ext cx="9604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240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684950104626927867"/>
          <p:cNvPicPr/>
          <p:nvPr/>
        </p:nvPicPr>
        <p:blipFill>
          <a:blip r:embed="rId1"/>
          <a:stretch/>
        </p:blipFill>
        <p:spPr>
          <a:xfrm>
            <a:off x="-299880" y="0"/>
            <a:ext cx="91389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14400" y="762120"/>
            <a:ext cx="335268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09480" y="304920"/>
            <a:ext cx="19051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828800" y="304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3880" y="914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种盛东西的陶器，腹部较大。这里指陶制大水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828800" y="2133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淹没，沉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75248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676520" y="3962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放弃，扔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67652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打，敲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600200" y="5791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向外溅出或喷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52480" y="549360"/>
            <a:ext cx="8291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光生七岁，与群儿戏于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司马光七岁时，与一群小孩子在院子里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司马光砸缸1"/>
          <p:cNvPicPr/>
          <p:nvPr/>
        </p:nvPicPr>
        <p:blipFill>
          <a:blip r:embed="rId1"/>
          <a:stretch/>
        </p:blipFill>
        <p:spPr>
          <a:xfrm>
            <a:off x="684360" y="2060640"/>
            <a:ext cx="765792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儿登瓮，足跌没水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孩子爬到水缸上去玩，失足掉进缸中淹着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司马光砸缸2"/>
          <p:cNvPicPr/>
          <p:nvPr/>
        </p:nvPicPr>
        <p:blipFill>
          <a:blip r:embed="rId1"/>
          <a:stretch/>
        </p:blipFill>
        <p:spPr>
          <a:xfrm>
            <a:off x="1187280" y="2421000"/>
            <a:ext cx="70567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3:38:53Z</dcterms:created>
  <dc:creator>第一PPT模板网-WWW.1PPT.COM</dc:creator>
  <dc:description>第一PPT模板网-WWW.1PPT.COM
</dc:description>
  <cp:keywords>第一PPT模板网-WWW.1PPT.COM</cp:keywords>
  <dc:language>en-US</dc:language>
  <cp:lastModifiedBy>Sky123.Org</cp:lastModifiedBy>
  <dcterms:modified xsi:type="dcterms:W3CDTF">2015-08-03T08:35:3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