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0.jpeg" ContentType="image/jpeg"/>
  <Override PartName="/ppt/media/image5.png" ContentType="image/png"/>
  <Override PartName="/ppt/media/chimes.wav" ContentType="audio/x-wav"/>
  <Override PartName="/ppt/media/image13.gif" ContentType="image/gif"/>
  <Override PartName="/ppt/media/image8.png" ContentType="image/png"/>
  <Override PartName="/ppt/media/carbrake.wav" ContentType="audio/x-wav"/>
  <Override PartName="/ppt/media/image16.wmf" ContentType="image/x-wmf"/>
  <Override PartName="/ppt/media/glass.wav" ContentType="audio/x-wav"/>
  <Override PartName="/ppt/media/driveby.wav" ContentType="audio/x-wav"/>
  <Override PartName="/ppt/media/image14.png" ContentType="image/png"/>
  <Override PartName="/ppt/media/projctor.wav" ContentType="audio/x-wav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7E0-9A28-40AD-8D2A-DFF15198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85E-87A5-4BA2-90A8-5F76CA2A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739B-83B9-4247-A794-66DBA623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F24-224F-4BEA-BC70-164F43D7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DEA-4EF0-424A-BD89-B8A2D154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33D-05AC-477E-8E68-EE135B5D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AE2-72FB-42CC-88BE-B8FF1ECE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AD5-5BD6-444E-A766-1319DDA9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307-8AE5-4B96-BE27-94823391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CE4-CAE5-4475-9DDF-5F9D2641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348-ACC5-4A65-A44B-40EFD22A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F53-0A98-4FCF-8D3B-8C427B0D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50D3-C331-4DB2-BC8B-71C7B3679D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3.png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rbrake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086600" cy="990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钓鱼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2514600"/>
            <a:ext cx="472464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57400" cy="955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320" y="533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9d0517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9d0517"/>
                </a:solidFill>
                <a:latin typeface="Times New Roman"/>
              </a:rPr>
              <a:t>我”好不容易钓到一条大鱼，父亲却让“我”放掉，他是不喜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2349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d0517"/>
                </a:solidFill>
                <a:latin typeface="Times New Roman"/>
              </a:rPr>
              <a:t>你觉得父亲的做法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335268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d0517"/>
                </a:solidFill>
                <a:latin typeface="Times New Roman"/>
              </a:rPr>
              <a:t>父亲是不是有点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79640" y="4508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d0517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d0517"/>
                </a:solidFill>
                <a:latin typeface="Times New Roman"/>
              </a:rPr>
              <a:t>假如当时父亲让我把鱼带回家，我以后再遇到这种事可能会怎么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95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△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再没有钓到过像三十四年前那个夜晚所钓到的那样大的    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△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但是，在人生的旅途中，我却不止一次地遇到了与那条鲈鱼相似的诱惑人的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581280"/>
            <a:ext cx="7056360" cy="703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指吸引人的，让人喜欢的事物，诸如：金钱、地位、名利……甚至哪些暂时能带来一点方便的事、一点好处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6720" y="914400"/>
            <a:ext cx="86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经典隶书简"/>
              </a:rPr>
              <a:t>鱼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经典隶书简"/>
              <a:ea typeface="经典隶书简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8380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大鲈鱼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71640" y="2743200"/>
            <a:ext cx="122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经典隶书简"/>
              </a:rPr>
              <a:t>“</a:t>
            </a: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经典隶书简"/>
              </a:rPr>
              <a:t>鱼”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经典隶书简"/>
              <a:ea typeface="经典隶书简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609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中第几自然段讲我和爸爸钓鱼的故事？哪个自然段写了钓鱼给我的启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出来，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7620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默读描写我和爸爸钓鱼的内容，画出描写我心情变化的句子，然后完成下列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得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（       ）   （       ）  （        ）   （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724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43434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急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4343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委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49528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乞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952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依依不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宋体"/>
                <a:ea typeface="隶书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宋体"/>
                <a:ea typeface="隶书"/>
              </a:rPr>
              <a:t>我和父亲</a:t>
            </a:r>
            <a:r>
              <a:rPr b="1" lang="zh-CN" sz="4000" spc="-1" strike="noStrike">
                <a:solidFill>
                  <a:srgbClr val="003300"/>
                </a:solidFill>
                <a:latin typeface="宋体"/>
                <a:ea typeface="隶书"/>
              </a:rPr>
              <a:t>得意</a:t>
            </a:r>
            <a:r>
              <a:rPr b="1" lang="zh-CN" sz="4000" spc="-1" strike="noStrike">
                <a:solidFill>
                  <a:srgbClr val="a50021"/>
                </a:solidFill>
                <a:latin typeface="宋体"/>
                <a:ea typeface="隶书"/>
              </a:rPr>
              <a:t>地欣赏着那条漂亮的大鲈鱼，看着鱼腮在银色的月光下轻轻翕动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可是不会再钓到这么大的鱼了。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我大声</a:t>
            </a:r>
            <a:r>
              <a:rPr b="1" lang="zh-CN" sz="4000" spc="-1" strike="noStrike">
                <a:solidFill>
                  <a:srgbClr val="ffcc00"/>
                </a:solidFill>
                <a:latin typeface="隶书"/>
                <a:ea typeface="隶书"/>
              </a:rPr>
              <a:t>争辩</a:t>
            </a:r>
            <a:r>
              <a:rPr b="1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着，哭出了声。</a:t>
            </a:r>
            <a:r>
              <a:rPr b="1" lang="zh-CN" sz="3600" spc="-1" strike="noStrike">
                <a:solidFill>
                  <a:srgbClr val="0033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4145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5357"/>
                </a:solidFill>
                <a:latin typeface="隶书"/>
                <a:ea typeface="隶书"/>
              </a:rPr>
              <a:t>4.</a:t>
            </a:r>
            <a:r>
              <a:rPr b="1" lang="zh-CN" sz="4000" spc="-1" strike="noStrike">
                <a:solidFill>
                  <a:srgbClr val="4e5357"/>
                </a:solidFill>
                <a:latin typeface="隶书"/>
                <a:ea typeface="隶书"/>
              </a:rPr>
              <a:t>我再次把</a:t>
            </a:r>
            <a:r>
              <a:rPr b="1" lang="zh-CN" sz="4000" spc="-1" strike="noStrike">
                <a:solidFill>
                  <a:srgbClr val="9a2a0c"/>
                </a:solidFill>
                <a:latin typeface="隶书"/>
                <a:ea typeface="隶书"/>
              </a:rPr>
              <a:t>乞求</a:t>
            </a:r>
            <a:r>
              <a:rPr b="1" lang="zh-CN" sz="4000" spc="-1" strike="noStrike">
                <a:solidFill>
                  <a:srgbClr val="4e5357"/>
                </a:solidFill>
                <a:latin typeface="隶书"/>
                <a:ea typeface="隶书"/>
              </a:rPr>
              <a:t>的目光投向父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4998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5357"/>
                </a:solidFill>
                <a:latin typeface="隶书"/>
                <a:ea typeface="隶书"/>
              </a:rPr>
              <a:t>5.</a:t>
            </a:r>
            <a:r>
              <a:rPr b="1" lang="zh-CN" sz="4000" spc="-1" strike="noStrike">
                <a:solidFill>
                  <a:srgbClr val="4e5357"/>
                </a:solidFill>
                <a:latin typeface="隶书"/>
                <a:ea typeface="隶书"/>
              </a:rPr>
              <a:t>我慢慢地把鱼钩从大鲈鱼的嘴唇上取下来，然后，</a:t>
            </a:r>
            <a:r>
              <a:rPr b="1" lang="zh-CN" sz="4000" spc="-1" strike="noStrike">
                <a:solidFill>
                  <a:srgbClr val="9a2a0c"/>
                </a:solidFill>
                <a:latin typeface="隶书"/>
                <a:ea typeface="隶书"/>
              </a:rPr>
              <a:t>依依不舍</a:t>
            </a:r>
            <a:r>
              <a:rPr b="1" lang="zh-CN" sz="4000" spc="-1" strike="noStrike">
                <a:solidFill>
                  <a:srgbClr val="4e5357"/>
                </a:solidFill>
                <a:latin typeface="隶书"/>
                <a:ea typeface="隶书"/>
              </a:rPr>
              <a:t>地把它放回到湖里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23623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2.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“</a:t>
            </a:r>
            <a:r>
              <a:rPr b="1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爸爸！为什么？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”</a:t>
            </a:r>
            <a:r>
              <a:rPr b="1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我</a:t>
            </a:r>
            <a:r>
              <a:rPr b="1" lang="zh-CN" sz="4000" spc="-1" strike="noStrike">
                <a:solidFill>
                  <a:srgbClr val="cc0000"/>
                </a:solidFill>
                <a:latin typeface="隶书"/>
                <a:ea typeface="隶书"/>
              </a:rPr>
              <a:t>急切</a:t>
            </a:r>
            <a:r>
              <a:rPr b="1" lang="zh-CN" sz="4000" spc="-1" strike="noStrike">
                <a:solidFill>
                  <a:srgbClr val="003300"/>
                </a:solidFill>
                <a:latin typeface="隶书"/>
                <a:ea typeface="隶书"/>
              </a:rPr>
              <a:t>地问道</a:t>
            </a:r>
            <a:r>
              <a:rPr b="1" lang="zh-CN" sz="4000" spc="-1" strike="noStrike">
                <a:solidFill>
                  <a:srgbClr val="4e5357"/>
                </a:solidFill>
                <a:latin typeface="隶书"/>
                <a:ea typeface="隶书"/>
              </a:rPr>
              <a:t>。</a:t>
            </a:r>
            <a:r>
              <a:rPr b="1" lang="zh-CN" sz="3600" spc="-1" strike="noStrike">
                <a:solidFill>
                  <a:srgbClr val="4e5357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01028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155736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</a:rPr>
              <a:t>体会“我”的心里变化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276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惊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3276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惊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3276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疑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可奈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19320" y="1700280"/>
            <a:ext cx="79246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d0517"/>
                </a:solidFill>
                <a:latin typeface="Times New Roman"/>
              </a:rPr>
              <a:t>衡量真正的品德，是看他在知道没有人发觉的时候做些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d0517"/>
                </a:solidFill>
                <a:latin typeface="Times New Roman"/>
              </a:rPr>
              <a:t>                                                                                  ——</a:t>
            </a:r>
            <a:r>
              <a:rPr b="0" lang="zh-CN" sz="4400" spc="-1" strike="noStrike">
                <a:solidFill>
                  <a:srgbClr val="9d0517"/>
                </a:solidFill>
                <a:latin typeface="Times New Roman"/>
              </a:rPr>
              <a:t>孟德斯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关道德修养的名言警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111744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5357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4e5357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4e5357"/>
                </a:solidFill>
                <a:latin typeface="Arial"/>
                <a:ea typeface="隶书"/>
              </a:rPr>
              <a:t>衡量真正的品德，是看他在知道没有人发觉时做些什么。</a:t>
            </a:r>
            <a:r>
              <a:rPr b="1" lang="zh-CN" sz="4400" spc="-1" strike="noStrike">
                <a:solidFill>
                  <a:srgbClr val="4e5357"/>
                </a:solidFill>
                <a:latin typeface="Times New Roman"/>
                <a:ea typeface="隶书"/>
              </a:rPr>
              <a:t>”——</a:t>
            </a:r>
            <a:r>
              <a:rPr b="1" lang="zh-CN" sz="4400" spc="-1" strike="noStrike">
                <a:solidFill>
                  <a:srgbClr val="4e5357"/>
                </a:solidFill>
                <a:latin typeface="Arial"/>
                <a:ea typeface="隶书"/>
              </a:rPr>
              <a:t>孟德斯鸠（法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0" y="332424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5357"/>
                </a:solidFill>
                <a:latin typeface="Arial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4e5357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4e5357"/>
                </a:solidFill>
                <a:latin typeface="Arial"/>
                <a:ea typeface="隶书"/>
              </a:rPr>
              <a:t>无论是别人在跟前或者自己单独的时候，都不要做一点卑鄙的事情：最重要的是自尊。</a:t>
            </a:r>
            <a:r>
              <a:rPr b="1" lang="zh-CN" sz="4400" spc="-1" strike="noStrike">
                <a:solidFill>
                  <a:srgbClr val="4e5357"/>
                </a:solidFill>
                <a:latin typeface="Times New Roman"/>
                <a:ea typeface="隶书"/>
              </a:rPr>
              <a:t>”——</a:t>
            </a:r>
            <a:r>
              <a:rPr b="1" lang="zh-CN" sz="4400" spc="-1" strike="noStrike">
                <a:solidFill>
                  <a:srgbClr val="4e5357"/>
                </a:solidFill>
                <a:latin typeface="Arial"/>
                <a:ea typeface="隶书"/>
              </a:rPr>
              <a:t>毕达哥拉斯（希腊</a:t>
            </a:r>
            <a:r>
              <a:rPr b="1" lang="zh-CN" sz="4400" spc="-1" strike="noStrike">
                <a:solidFill>
                  <a:srgbClr val="4e5357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09680" y="5257800"/>
            <a:ext cx="617220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990720" y="914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作业“自助餐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3623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b.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回家把课文的前半部分读给爸爸听，然后采访爸爸，如果他遇到那种情况会怎么做？然后在班上交流（两天完成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167652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a.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积累本文中好词佳句（今天完成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1911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c.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华文新魏"/>
              </a:rPr>
              <a:t>将文中的某句话改造成自己的一句格言警句（三天完成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1752480"/>
            <a:ext cx="7162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鲈鱼 鱼饵 操纵  鱼鳃  翕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皎洁 嘴唇 沮丧  抉择  告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实践 争辩 涟漪  抖动  诱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心翼翼 筋疲力尽 依依不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晚霞辉映 银光闪闪 不容争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6248520"/>
            <a:ext cx="2437920" cy="609480"/>
            <a:chOff x="0" y="6248520"/>
            <a:chExt cx="2437920" cy="60948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0" y="6248520"/>
              <a:ext cx="10382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1399680" y="6248520"/>
              <a:ext cx="103824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09480" y="0"/>
            <a:ext cx="202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-228600"/>
            <a:ext cx="655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1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800" spc="-1" strike="noStrike">
                <a:solidFill>
                  <a:srgbClr val="000000"/>
                </a:solidFill>
                <a:latin typeface="Arial"/>
                <a:ea typeface="楷体_GB2312"/>
              </a:rPr>
              <a:t>溅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526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-533520"/>
            <a:ext cx="6248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800" spc="-1" strike="noStrike">
                <a:solidFill>
                  <a:srgbClr val="000000"/>
                </a:solidFill>
                <a:latin typeface="Arial"/>
                <a:ea typeface="楷体_GB2312"/>
              </a:rPr>
              <a:t>翼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33526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-533520"/>
            <a:ext cx="6629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11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800" spc="-1" strike="noStrike">
                <a:solidFill>
                  <a:srgbClr val="000000"/>
                </a:solidFill>
                <a:latin typeface="Arial"/>
                <a:ea typeface="楷体_GB2312"/>
              </a:rPr>
              <a:t>诫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-533520"/>
            <a:ext cx="6629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11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800" spc="-1" strike="noStrike">
                <a:solidFill>
                  <a:srgbClr val="000000"/>
                </a:solidFill>
                <a:latin typeface="Arial"/>
                <a:ea typeface="楷体_GB2312"/>
              </a:rPr>
              <a:t>唇</a:t>
            </a:r>
            <a:endParaRPr b="0" lang="en-US" sz="4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33530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读词语，说说我是怎样钓鱼的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好鱼饵     举起鱼竿     抛出钓线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溅起涟漪     鱼竿剧抖     大鱼上钩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心翼翼     熟练操纵     鱼跃不停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啪啪作响     筋疲力尽     拉鱼上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8006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从父亲那不容争辩的声音中，我清楚地知道，父亲的话是没有商量的余地的。我慢慢地把鱼钩从大鲈鱼的嘴唇上取下来，依依不舍地把它放回到湖里去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28964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112536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不想放鱼的原因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3003480"/>
            <a:ext cx="914400" cy="42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914400" cy="425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33520" y="5365800"/>
            <a:ext cx="914400" cy="425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2637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”钓到这条鱼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不容易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24000" y="38098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鲈鱼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又大又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2293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钓着鱼时四周又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无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0T03:28:43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