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32E-4AD3-4049-94D9-83244C76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7E9-146F-456E-AB88-F5C4BF0B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4BB-4073-4F03-91E7-86617E27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714-FDA5-440C-8595-015637C6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DA82-6589-4361-8C6E-0D442D76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781-0E11-41DF-99D1-EFD45AF0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A3C-8978-4E5A-8DD3-349C01F0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EDEC-2A83-48AC-9EA5-2DB742B8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3EA-12E2-4A57-B96B-2DA0E7EC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356-4E27-418F-A472-2D50A7F4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4F9-CE24-46F5-9C3D-E0DC8D0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440-08FD-4DAE-943A-5729F8F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2540-1CF6-4F23-8E3D-C7D8839AB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5b481adbfd0d9bb7d567f07599b47ab8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4608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宋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宋江是施耐庵所作古典名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浒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的重要人物。宋江，表字公明，排行第三，原籍为山东郓城县宋家村，江湖人称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及时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，又号“呼保义”。为他面黑身矮，人又唤他做黑宋江；又且于家大孝，为人仗义疏财，人皆称他做“孝义黑郎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6F91C7590CBAA34306D00FE833E13C4A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292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事迹一：怒杀阎婆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36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阎婆惜随父母流落到济州郓城县。后其父得病身亡，无钱安葬，得当时任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郓城县押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宋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帮助。在其母阎婆的主导下，阎婆惜被作为小妾嫁给宋江。由于宋江不重女色，为阎婆惜所厌。结果阎婆惜喜欢上宋江的同事并勾搭通奸。其后，劫了生辰纲的晁盖写给宋江的信件及酬谢黄金碰巧为阎婆惜所获；宋江发觉后要其交出，被阎婆惜否认；一怒之下，宋江将其杀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833c895d143ad4bf944b79b82025aafa40f0606"/>
          <p:cNvPicPr/>
          <p:nvPr/>
        </p:nvPicPr>
        <p:blipFill>
          <a:blip r:embed="rId1"/>
          <a:stretch/>
        </p:blipFill>
        <p:spPr>
          <a:xfrm>
            <a:off x="5148360" y="41400"/>
            <a:ext cx="3995640" cy="6816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事迹二：三打祝家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181080" y="1268280"/>
            <a:ext cx="5437440" cy="626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梁山好汉因杨雄、石秀上山，决意攻打祝家庄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宋江带兵一打祝家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命石秀、杨林去探庄。杨林被擒，石秀遇钟离老人，得知盘陀路走法。祝家庄伏兵齐出，梁山人马迷路，幸亏石秀赶到说出暗记，花荣射落号灯，人马才得安全退出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宋江二打祝家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仍然失利，但活捉了祝家庄的同盟军扈家庄的女将扈三娘，剪去了祝家一翼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三打祝家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利用新来投寨入伙的孙立与祝家庄教师栾廷玉是师兄弟的关系，骗得祝家相信，孙立和家人亲戚打入祝家庄作内应。梁山人马与他们里应外合，最后攻破祝家庄，得胜回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7869948_205937443000_2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事例三：私放晁天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2196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晁盖七人劫了生辰纲不料事情败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官府派何观察前去捉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宋江当时任押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得知此事后先把何观察稳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借禀告知府之际快马赶到晁盖处告之此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又急忙赶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劝知府晚上再去捉人以给晁盖等人撤退争取时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时正副都头朱仝雷横都是宋江兄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也一直佩服晁盖的为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朱仝故意摔了一跤拖慢了追捕的速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得晁盖得以安然脱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事例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宋公明夜打曾头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宋江先前攻打祝家庄得了战功 晁盖觉的不服气。恰好曾头市强抢了晁盖的宝马，晁盖为了稳固自己地位，便要下山攻打，没想到最终连命也搭进去了。晁盖临终说，谁给他报仇，便立谁为梁山之主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宋江便以为晁盖报仇为名，攻打曾头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（</a:t>
            </a:r>
            <a:r>
              <a:rPr b="0" lang="zh-CN" sz="2800" spc="-1" strike="noStrike">
                <a:solidFill>
                  <a:srgbClr val="4463c8"/>
                </a:solidFill>
                <a:latin typeface="Arial"/>
              </a:rPr>
              <a:t>一打曾头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因为夺马事件，宋江决定向曾头市旧账新帐一起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4463c8"/>
                </a:solidFill>
                <a:latin typeface="Arial"/>
              </a:rPr>
              <a:t>再次兵发曾头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梁山好汉先是用火攻和诱敌追击的计策摧毁了曾头市外围的陷阱，再阵斩曾涂，又设伏大破劫营的曾家军，斩杀曾密。曾头市被迫求和。此时官军来援，吴用料曾头市必然变卦，将计就计派时迁以和谈为名卧底曾头市。当曾家军变卦夜袭梁山军营，遭到早已埋伏好的梁山好汉毁灭性打击，全军覆没。曾头市也在梁山好汉里应外合下攻破。史文恭逃走，在野外被埋伏待机的卢俊义生擒。至此曾头市被彻底灭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res25_attpic_brief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788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宋江性格特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788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从这几个事例我们可看出宋江是一个疏财仗义；爱好结交；注重贤才 ，任人为才，具有高超的组织管理才能和军事才能；不恋于儿女情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重视兄弟情谊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侠肝义胆 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3:01:04Z</dcterms:created>
  <dc:creator>ChinaUSER</dc:creator>
  <dc:description/>
  <dc:language>en-US</dc:language>
  <cp:lastModifiedBy>Sky123.Org</cp:lastModifiedBy>
  <dcterms:modified xsi:type="dcterms:W3CDTF">2015-07-13T07:05:13Z</dcterms:modified>
  <cp:revision>4</cp:revision>
  <dc:subject/>
  <dc:title>宋江</dc:title>
</cp:coreProperties>
</file>