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4D372-D81C-46AB-A1FC-6B5BB29E26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A99A1-5C74-4955-A9A8-1C2E40A9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1D1F9-903A-4126-92A6-0781EA4F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67C9A-3014-4AF3-BDF9-DD8B670F89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F5F62-E111-4A8A-80FC-85BCFC06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D339B-7E07-4A53-A236-11E10D49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46D1A-9010-4ED8-81B8-4EFEE4D7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1F218-4416-48DB-88F9-B4BA7A24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B380B-ED72-401E-B191-91E92300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5186B-90B4-4CA0-887E-0E95F72B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78C97-B42F-4B8D-96F1-D9548B30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13F99-3173-4242-AC68-04B4942F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07C5-73F2-4FD7-BF36-8F8DA8C105B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5BE5-0A33-4336-A125-CAC25C69817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6"/>
          <p:cNvSpPr/>
          <p:nvPr/>
        </p:nvSpPr>
        <p:spPr>
          <a:xfrm>
            <a:off x="2195640" y="3076560"/>
            <a:ext cx="482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1"/>
          <p:cNvSpPr/>
          <p:nvPr/>
        </p:nvSpPr>
        <p:spPr>
          <a:xfrm>
            <a:off x="7524720" y="4587840"/>
            <a:ext cx="161928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2"/>
          <p:cNvSpPr/>
          <p:nvPr/>
        </p:nvSpPr>
        <p:spPr>
          <a:xfrm>
            <a:off x="1835280" y="123840"/>
            <a:ext cx="5905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斜纹 11"/>
          <p:cNvSpPr/>
          <p:nvPr/>
        </p:nvSpPr>
        <p:spPr>
          <a:xfrm flipV="1" rot="16200000">
            <a:off x="3951000" y="-47880"/>
            <a:ext cx="1227240" cy="9155160"/>
          </a:xfrm>
          <a:custGeom>
            <a:avLst/>
            <a:gdLst>
              <a:gd name="textAreaLeft" fmla="*/ 0 w 1227240"/>
              <a:gd name="textAreaRight" fmla="*/ 1227600 w 1227240"/>
              <a:gd name="textAreaTop" fmla="*/ -360 h 9155160"/>
              <a:gd name="textAreaBottom" fmla="*/ 9155160 h 9155160"/>
            </a:gdLst>
            <a:ahLst/>
            <a:rect l="textAreaLeft" t="textAreaTop" r="textAreaRight" b="textAreaBottom"/>
            <a:pathLst>
              <a:path w="1227148" h="9158491">
                <a:moveTo>
                  <a:pt x="867109" y="556322"/>
                </a:moveTo>
                <a:cubicBezTo>
                  <a:pt x="867109" y="496669"/>
                  <a:pt x="915468" y="448310"/>
                  <a:pt x="975121" y="448310"/>
                </a:cubicBezTo>
                <a:cubicBezTo>
                  <a:pt x="1034774" y="448310"/>
                  <a:pt x="1083133" y="496669"/>
                  <a:pt x="1083133" y="556322"/>
                </a:cubicBezTo>
                <a:cubicBezTo>
                  <a:pt x="1083133" y="615975"/>
                  <a:pt x="1034774" y="664334"/>
                  <a:pt x="975121" y="664334"/>
                </a:cubicBezTo>
                <a:cubicBezTo>
                  <a:pt x="915468" y="664334"/>
                  <a:pt x="867109" y="615975"/>
                  <a:pt x="867109" y="556322"/>
                </a:cubicBezTo>
                <a:close/>
                <a:moveTo>
                  <a:pt x="723093" y="1708847"/>
                </a:moveTo>
                <a:cubicBezTo>
                  <a:pt x="723093" y="1649194"/>
                  <a:pt x="771452" y="1600835"/>
                  <a:pt x="831105" y="1600835"/>
                </a:cubicBezTo>
                <a:cubicBezTo>
                  <a:pt x="890758" y="1600835"/>
                  <a:pt x="939117" y="1649194"/>
                  <a:pt x="939117" y="1708847"/>
                </a:cubicBezTo>
                <a:cubicBezTo>
                  <a:pt x="939117" y="1768500"/>
                  <a:pt x="890758" y="1816859"/>
                  <a:pt x="831105" y="1816859"/>
                </a:cubicBezTo>
                <a:cubicBezTo>
                  <a:pt x="771452" y="1816859"/>
                  <a:pt x="723093" y="1768500"/>
                  <a:pt x="723093" y="1708847"/>
                </a:cubicBezTo>
                <a:close/>
                <a:moveTo>
                  <a:pt x="506428" y="1130767"/>
                </a:moveTo>
                <a:cubicBezTo>
                  <a:pt x="506428" y="1071114"/>
                  <a:pt x="554787" y="1022755"/>
                  <a:pt x="614440" y="1022755"/>
                </a:cubicBezTo>
                <a:cubicBezTo>
                  <a:pt x="674093" y="1022755"/>
                  <a:pt x="722452" y="1071114"/>
                  <a:pt x="722452" y="1130767"/>
                </a:cubicBezTo>
                <a:cubicBezTo>
                  <a:pt x="722452" y="1190420"/>
                  <a:pt x="674093" y="1238779"/>
                  <a:pt x="614440" y="1238779"/>
                </a:cubicBezTo>
                <a:cubicBezTo>
                  <a:pt x="554787" y="1238779"/>
                  <a:pt x="506428" y="1190420"/>
                  <a:pt x="506428" y="1130767"/>
                </a:cubicBezTo>
                <a:close/>
                <a:moveTo>
                  <a:pt x="363052" y="2285110"/>
                </a:moveTo>
                <a:cubicBezTo>
                  <a:pt x="363053" y="2225457"/>
                  <a:pt x="411412" y="2177098"/>
                  <a:pt x="471065" y="2177098"/>
                </a:cubicBezTo>
                <a:cubicBezTo>
                  <a:pt x="530718" y="2177098"/>
                  <a:pt x="579077" y="2225457"/>
                  <a:pt x="579077" y="2285110"/>
                </a:cubicBezTo>
                <a:cubicBezTo>
                  <a:pt x="579077" y="2344763"/>
                  <a:pt x="530718" y="2393122"/>
                  <a:pt x="471065" y="2393122"/>
                </a:cubicBezTo>
                <a:cubicBezTo>
                  <a:pt x="411412" y="2393122"/>
                  <a:pt x="363053" y="2344763"/>
                  <a:pt x="363052" y="2285110"/>
                </a:cubicBezTo>
                <a:close/>
                <a:moveTo>
                  <a:pt x="0" y="4579246"/>
                </a:moveTo>
                <a:lnTo>
                  <a:pt x="0" y="9158491"/>
                </a:lnTo>
                <a:lnTo>
                  <a:pt x="1227148" y="0"/>
                </a:lnTo>
                <a:lnTo>
                  <a:pt x="613574" y="0"/>
                </a:lnTo>
                <a:lnTo>
                  <a:pt x="0" y="4579246"/>
                </a:lnTo>
                <a:close/>
              </a:path>
            </a:pathLst>
          </a:custGeom>
          <a:solidFill>
            <a:srgbClr val="2a8fbd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斜纹 11"/>
          <p:cNvSpPr/>
          <p:nvPr/>
        </p:nvSpPr>
        <p:spPr>
          <a:xfrm flipH="1" rot="16200000">
            <a:off x="3951720" y="-3981240"/>
            <a:ext cx="1224000" cy="9155160"/>
          </a:xfrm>
          <a:custGeom>
            <a:avLst/>
            <a:gdLst>
              <a:gd name="textAreaLeft" fmla="*/ 360 w 1224000"/>
              <a:gd name="textAreaRight" fmla="*/ 1224720 w 1224000"/>
              <a:gd name="textAreaTop" fmla="*/ 0 h 9155160"/>
              <a:gd name="textAreaBottom" fmla="*/ 9155520 h 9155160"/>
            </a:gdLst>
            <a:ahLst/>
            <a:rect l="textAreaLeft" t="textAreaTop" r="textAreaRight" b="textAreaBottom"/>
            <a:pathLst>
              <a:path w="1227148" h="9158491">
                <a:moveTo>
                  <a:pt x="867109" y="556322"/>
                </a:moveTo>
                <a:cubicBezTo>
                  <a:pt x="867109" y="496669"/>
                  <a:pt x="915468" y="448310"/>
                  <a:pt x="975121" y="448310"/>
                </a:cubicBezTo>
                <a:cubicBezTo>
                  <a:pt x="1034774" y="448310"/>
                  <a:pt x="1083133" y="496669"/>
                  <a:pt x="1083133" y="556322"/>
                </a:cubicBezTo>
                <a:cubicBezTo>
                  <a:pt x="1083133" y="615975"/>
                  <a:pt x="1034774" y="664334"/>
                  <a:pt x="975121" y="664334"/>
                </a:cubicBezTo>
                <a:cubicBezTo>
                  <a:pt x="915468" y="664334"/>
                  <a:pt x="867109" y="615975"/>
                  <a:pt x="867109" y="556322"/>
                </a:cubicBezTo>
                <a:close/>
                <a:moveTo>
                  <a:pt x="723093" y="1708847"/>
                </a:moveTo>
                <a:cubicBezTo>
                  <a:pt x="723093" y="1649194"/>
                  <a:pt x="771452" y="1600835"/>
                  <a:pt x="831105" y="1600835"/>
                </a:cubicBezTo>
                <a:cubicBezTo>
                  <a:pt x="890758" y="1600835"/>
                  <a:pt x="939117" y="1649194"/>
                  <a:pt x="939117" y="1708847"/>
                </a:cubicBezTo>
                <a:cubicBezTo>
                  <a:pt x="939117" y="1768500"/>
                  <a:pt x="890758" y="1816859"/>
                  <a:pt x="831105" y="1816859"/>
                </a:cubicBezTo>
                <a:cubicBezTo>
                  <a:pt x="771452" y="1816859"/>
                  <a:pt x="723093" y="1768500"/>
                  <a:pt x="723093" y="1708847"/>
                </a:cubicBezTo>
                <a:close/>
                <a:moveTo>
                  <a:pt x="506428" y="1130767"/>
                </a:moveTo>
                <a:cubicBezTo>
                  <a:pt x="506428" y="1071114"/>
                  <a:pt x="554787" y="1022755"/>
                  <a:pt x="614440" y="1022755"/>
                </a:cubicBezTo>
                <a:cubicBezTo>
                  <a:pt x="674093" y="1022755"/>
                  <a:pt x="722452" y="1071114"/>
                  <a:pt x="722452" y="1130767"/>
                </a:cubicBezTo>
                <a:cubicBezTo>
                  <a:pt x="722452" y="1190420"/>
                  <a:pt x="674093" y="1238779"/>
                  <a:pt x="614440" y="1238779"/>
                </a:cubicBezTo>
                <a:cubicBezTo>
                  <a:pt x="554787" y="1238779"/>
                  <a:pt x="506428" y="1190420"/>
                  <a:pt x="506428" y="1130767"/>
                </a:cubicBezTo>
                <a:close/>
                <a:moveTo>
                  <a:pt x="363052" y="2285110"/>
                </a:moveTo>
                <a:cubicBezTo>
                  <a:pt x="363053" y="2225457"/>
                  <a:pt x="411412" y="2177098"/>
                  <a:pt x="471065" y="2177098"/>
                </a:cubicBezTo>
                <a:cubicBezTo>
                  <a:pt x="530718" y="2177098"/>
                  <a:pt x="579077" y="2225457"/>
                  <a:pt x="579077" y="2285110"/>
                </a:cubicBezTo>
                <a:cubicBezTo>
                  <a:pt x="579077" y="2344763"/>
                  <a:pt x="530718" y="2393122"/>
                  <a:pt x="471065" y="2393122"/>
                </a:cubicBezTo>
                <a:cubicBezTo>
                  <a:pt x="411412" y="2393122"/>
                  <a:pt x="363053" y="2344763"/>
                  <a:pt x="363052" y="2285110"/>
                </a:cubicBezTo>
                <a:close/>
                <a:moveTo>
                  <a:pt x="0" y="4579246"/>
                </a:moveTo>
                <a:lnTo>
                  <a:pt x="0" y="9158491"/>
                </a:lnTo>
                <a:lnTo>
                  <a:pt x="1227148" y="0"/>
                </a:lnTo>
                <a:lnTo>
                  <a:pt x="613574" y="0"/>
                </a:lnTo>
                <a:lnTo>
                  <a:pt x="0" y="4579246"/>
                </a:lnTo>
                <a:close/>
              </a:path>
            </a:pathLst>
          </a:custGeom>
          <a:solidFill>
            <a:srgbClr val="2a8fbd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3924360" y="2768760"/>
            <a:ext cx="423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5258"/>
                </a:solidFill>
                <a:latin typeface="微软雅黑"/>
                <a:ea typeface="微软雅黑"/>
              </a:rPr>
              <a:t>适用于介绍</a:t>
            </a:r>
            <a:r>
              <a:rPr b="1" lang="en-US" sz="2800" spc="-1" strike="noStrike">
                <a:solidFill>
                  <a:srgbClr val="435258"/>
                </a:solidFill>
                <a:latin typeface="微软雅黑"/>
                <a:ea typeface="微软雅黑"/>
              </a:rPr>
              <a:t>5w</a:t>
            </a:r>
            <a:r>
              <a:rPr b="1" lang="zh-CN" sz="2800" spc="-1" strike="noStrike">
                <a:solidFill>
                  <a:srgbClr val="435258"/>
                </a:solidFill>
                <a:latin typeface="微软雅黑"/>
                <a:ea typeface="微软雅黑"/>
              </a:rPr>
              <a:t>讲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2"/>
          <p:cNvSpPr/>
          <p:nvPr/>
        </p:nvSpPr>
        <p:spPr>
          <a:xfrm>
            <a:off x="971640" y="1779480"/>
            <a:ext cx="78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35258"/>
                </a:solidFill>
                <a:latin typeface="微软雅黑"/>
                <a:ea typeface="微软雅黑"/>
              </a:rPr>
              <a:t>时尚艺术设计</a:t>
            </a:r>
            <a:r>
              <a:rPr b="1" lang="en-US" sz="4400" spc="-1" strike="noStrike">
                <a:solidFill>
                  <a:srgbClr val="435258"/>
                </a:solidFill>
                <a:latin typeface="微软雅黑"/>
                <a:ea typeface="微软雅黑"/>
              </a:rPr>
              <a:t>PPT</a:t>
            </a:r>
            <a:r>
              <a:rPr b="1" lang="zh-CN" sz="4400" spc="-1" strike="noStrike">
                <a:solidFill>
                  <a:srgbClr val="435258"/>
                </a:solidFill>
                <a:latin typeface="微软雅黑"/>
                <a:ea typeface="微软雅黑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斜纹 11"/>
          <p:cNvSpPr/>
          <p:nvPr/>
        </p:nvSpPr>
        <p:spPr>
          <a:xfrm flipH="1" rot="16200000">
            <a:off x="3950280" y="-3339720"/>
            <a:ext cx="1227240" cy="9155160"/>
          </a:xfrm>
          <a:custGeom>
            <a:avLst/>
            <a:gdLst>
              <a:gd name="textAreaLeft" fmla="*/ -360 w 1227240"/>
              <a:gd name="textAreaRight" fmla="*/ 1227240 w 1227240"/>
              <a:gd name="textAreaTop" fmla="*/ 0 h 9155160"/>
              <a:gd name="textAreaBottom" fmla="*/ 9155520 h 9155160"/>
            </a:gdLst>
            <a:ahLst/>
            <a:rect l="textAreaLeft" t="textAreaTop" r="textAreaRight" b="textAreaBottom"/>
            <a:pathLst>
              <a:path w="1227148" h="9158491">
                <a:moveTo>
                  <a:pt x="867109" y="556322"/>
                </a:moveTo>
                <a:cubicBezTo>
                  <a:pt x="867109" y="496669"/>
                  <a:pt x="915468" y="448310"/>
                  <a:pt x="975121" y="448310"/>
                </a:cubicBezTo>
                <a:cubicBezTo>
                  <a:pt x="1034774" y="448310"/>
                  <a:pt x="1083133" y="496669"/>
                  <a:pt x="1083133" y="556322"/>
                </a:cubicBezTo>
                <a:cubicBezTo>
                  <a:pt x="1083133" y="615975"/>
                  <a:pt x="1034774" y="664334"/>
                  <a:pt x="975121" y="664334"/>
                </a:cubicBezTo>
                <a:cubicBezTo>
                  <a:pt x="915468" y="664334"/>
                  <a:pt x="867109" y="615975"/>
                  <a:pt x="867109" y="556322"/>
                </a:cubicBezTo>
                <a:close/>
                <a:moveTo>
                  <a:pt x="723093" y="1708847"/>
                </a:moveTo>
                <a:cubicBezTo>
                  <a:pt x="723093" y="1649194"/>
                  <a:pt x="771452" y="1600835"/>
                  <a:pt x="831105" y="1600835"/>
                </a:cubicBezTo>
                <a:cubicBezTo>
                  <a:pt x="890758" y="1600835"/>
                  <a:pt x="939117" y="1649194"/>
                  <a:pt x="939117" y="1708847"/>
                </a:cubicBezTo>
                <a:cubicBezTo>
                  <a:pt x="939117" y="1768500"/>
                  <a:pt x="890758" y="1816859"/>
                  <a:pt x="831105" y="1816859"/>
                </a:cubicBezTo>
                <a:cubicBezTo>
                  <a:pt x="771452" y="1816859"/>
                  <a:pt x="723093" y="1768500"/>
                  <a:pt x="723093" y="1708847"/>
                </a:cubicBezTo>
                <a:close/>
                <a:moveTo>
                  <a:pt x="506428" y="1130767"/>
                </a:moveTo>
                <a:cubicBezTo>
                  <a:pt x="506428" y="1071114"/>
                  <a:pt x="554787" y="1022755"/>
                  <a:pt x="614440" y="1022755"/>
                </a:cubicBezTo>
                <a:cubicBezTo>
                  <a:pt x="674093" y="1022755"/>
                  <a:pt x="722452" y="1071114"/>
                  <a:pt x="722452" y="1130767"/>
                </a:cubicBezTo>
                <a:cubicBezTo>
                  <a:pt x="722452" y="1190420"/>
                  <a:pt x="674093" y="1238779"/>
                  <a:pt x="614440" y="1238779"/>
                </a:cubicBezTo>
                <a:cubicBezTo>
                  <a:pt x="554787" y="1238779"/>
                  <a:pt x="506428" y="1190420"/>
                  <a:pt x="506428" y="1130767"/>
                </a:cubicBezTo>
                <a:close/>
                <a:moveTo>
                  <a:pt x="363052" y="2285110"/>
                </a:moveTo>
                <a:cubicBezTo>
                  <a:pt x="363053" y="2225457"/>
                  <a:pt x="411412" y="2177098"/>
                  <a:pt x="471065" y="2177098"/>
                </a:cubicBezTo>
                <a:cubicBezTo>
                  <a:pt x="530718" y="2177098"/>
                  <a:pt x="579077" y="2225457"/>
                  <a:pt x="579077" y="2285110"/>
                </a:cubicBezTo>
                <a:cubicBezTo>
                  <a:pt x="579077" y="2344763"/>
                  <a:pt x="530718" y="2393122"/>
                  <a:pt x="471065" y="2393122"/>
                </a:cubicBezTo>
                <a:cubicBezTo>
                  <a:pt x="411412" y="2393122"/>
                  <a:pt x="363053" y="2344763"/>
                  <a:pt x="363052" y="2285110"/>
                </a:cubicBezTo>
                <a:close/>
                <a:moveTo>
                  <a:pt x="0" y="4579246"/>
                </a:moveTo>
                <a:lnTo>
                  <a:pt x="0" y="9158491"/>
                </a:lnTo>
                <a:lnTo>
                  <a:pt x="1227148" y="0"/>
                </a:lnTo>
                <a:lnTo>
                  <a:pt x="613574" y="0"/>
                </a:lnTo>
                <a:lnTo>
                  <a:pt x="0" y="4579246"/>
                </a:lnTo>
                <a:close/>
              </a:path>
            </a:pathLst>
          </a:custGeom>
          <a:solidFill>
            <a:srgbClr val="e4486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斜纹 11"/>
          <p:cNvSpPr/>
          <p:nvPr/>
        </p:nvSpPr>
        <p:spPr>
          <a:xfrm flipV="1" rot="16200000">
            <a:off x="3950280" y="-661680"/>
            <a:ext cx="1228680" cy="9155160"/>
          </a:xfrm>
          <a:custGeom>
            <a:avLst/>
            <a:gdLst>
              <a:gd name="textAreaLeft" fmla="*/ 0 w 1228680"/>
              <a:gd name="textAreaRight" fmla="*/ 1229040 w 1228680"/>
              <a:gd name="textAreaTop" fmla="*/ -360 h 9155160"/>
              <a:gd name="textAreaBottom" fmla="*/ 9155160 h 9155160"/>
            </a:gdLst>
            <a:ahLst/>
            <a:rect l="textAreaLeft" t="textAreaTop" r="textAreaRight" b="textAreaBottom"/>
            <a:pathLst>
              <a:path w="1227148" h="9158491">
                <a:moveTo>
                  <a:pt x="867109" y="556322"/>
                </a:moveTo>
                <a:cubicBezTo>
                  <a:pt x="867109" y="496669"/>
                  <a:pt x="915468" y="448310"/>
                  <a:pt x="975121" y="448310"/>
                </a:cubicBezTo>
                <a:cubicBezTo>
                  <a:pt x="1034774" y="448310"/>
                  <a:pt x="1083133" y="496669"/>
                  <a:pt x="1083133" y="556322"/>
                </a:cubicBezTo>
                <a:cubicBezTo>
                  <a:pt x="1083133" y="615975"/>
                  <a:pt x="1034774" y="664334"/>
                  <a:pt x="975121" y="664334"/>
                </a:cubicBezTo>
                <a:cubicBezTo>
                  <a:pt x="915468" y="664334"/>
                  <a:pt x="867109" y="615975"/>
                  <a:pt x="867109" y="556322"/>
                </a:cubicBezTo>
                <a:close/>
                <a:moveTo>
                  <a:pt x="723093" y="1708847"/>
                </a:moveTo>
                <a:cubicBezTo>
                  <a:pt x="723093" y="1649194"/>
                  <a:pt x="771452" y="1600835"/>
                  <a:pt x="831105" y="1600835"/>
                </a:cubicBezTo>
                <a:cubicBezTo>
                  <a:pt x="890758" y="1600835"/>
                  <a:pt x="939117" y="1649194"/>
                  <a:pt x="939117" y="1708847"/>
                </a:cubicBezTo>
                <a:cubicBezTo>
                  <a:pt x="939117" y="1768500"/>
                  <a:pt x="890758" y="1816859"/>
                  <a:pt x="831105" y="1816859"/>
                </a:cubicBezTo>
                <a:cubicBezTo>
                  <a:pt x="771452" y="1816859"/>
                  <a:pt x="723093" y="1768500"/>
                  <a:pt x="723093" y="1708847"/>
                </a:cubicBezTo>
                <a:close/>
                <a:moveTo>
                  <a:pt x="506428" y="1130767"/>
                </a:moveTo>
                <a:cubicBezTo>
                  <a:pt x="506428" y="1071114"/>
                  <a:pt x="554787" y="1022755"/>
                  <a:pt x="614440" y="1022755"/>
                </a:cubicBezTo>
                <a:cubicBezTo>
                  <a:pt x="674093" y="1022755"/>
                  <a:pt x="722452" y="1071114"/>
                  <a:pt x="722452" y="1130767"/>
                </a:cubicBezTo>
                <a:cubicBezTo>
                  <a:pt x="722452" y="1190420"/>
                  <a:pt x="674093" y="1238779"/>
                  <a:pt x="614440" y="1238779"/>
                </a:cubicBezTo>
                <a:cubicBezTo>
                  <a:pt x="554787" y="1238779"/>
                  <a:pt x="506428" y="1190420"/>
                  <a:pt x="506428" y="1130767"/>
                </a:cubicBezTo>
                <a:close/>
                <a:moveTo>
                  <a:pt x="363052" y="2285110"/>
                </a:moveTo>
                <a:cubicBezTo>
                  <a:pt x="363053" y="2225457"/>
                  <a:pt x="411412" y="2177098"/>
                  <a:pt x="471065" y="2177098"/>
                </a:cubicBezTo>
                <a:cubicBezTo>
                  <a:pt x="530718" y="2177098"/>
                  <a:pt x="579077" y="2225457"/>
                  <a:pt x="579077" y="2285110"/>
                </a:cubicBezTo>
                <a:cubicBezTo>
                  <a:pt x="579077" y="2344763"/>
                  <a:pt x="530718" y="2393122"/>
                  <a:pt x="471065" y="2393122"/>
                </a:cubicBezTo>
                <a:cubicBezTo>
                  <a:pt x="411412" y="2393122"/>
                  <a:pt x="363053" y="2344763"/>
                  <a:pt x="363052" y="2285110"/>
                </a:cubicBezTo>
                <a:close/>
                <a:moveTo>
                  <a:pt x="0" y="4579246"/>
                </a:moveTo>
                <a:lnTo>
                  <a:pt x="0" y="9158491"/>
                </a:lnTo>
                <a:lnTo>
                  <a:pt x="1227148" y="0"/>
                </a:lnTo>
                <a:lnTo>
                  <a:pt x="613574" y="0"/>
                </a:lnTo>
                <a:lnTo>
                  <a:pt x="0" y="4579246"/>
                </a:lnTo>
                <a:close/>
              </a:path>
            </a:pathLst>
          </a:custGeom>
          <a:solidFill>
            <a:srgbClr val="e4486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直接连接符 87"/>
          <p:cNvSpPr/>
          <p:nvPr/>
        </p:nvSpPr>
        <p:spPr>
          <a:xfrm>
            <a:off x="4211640" y="5578560"/>
            <a:ext cx="461340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1"/>
          <p:cNvGrpSpPr/>
          <p:nvPr/>
        </p:nvGrpSpPr>
        <p:grpSpPr>
          <a:xfrm>
            <a:off x="2277360" y="-93240"/>
            <a:ext cx="2252880" cy="5344560"/>
            <a:chOff x="2277360" y="-93240"/>
            <a:chExt cx="2252880" cy="5344560"/>
          </a:xfrm>
        </p:grpSpPr>
        <p:grpSp>
          <p:nvGrpSpPr>
            <p:cNvPr id="50" name="组合 8"/>
            <p:cNvGrpSpPr/>
            <p:nvPr/>
          </p:nvGrpSpPr>
          <p:grpSpPr>
            <a:xfrm>
              <a:off x="2277360" y="-93240"/>
              <a:ext cx="2252880" cy="5344560"/>
              <a:chOff x="2277360" y="-93240"/>
              <a:chExt cx="2252880" cy="5344560"/>
            </a:xfrm>
          </p:grpSpPr>
          <p:sp>
            <p:nvSpPr>
              <p:cNvPr id="51" name="圆角矩形 64"/>
              <p:cNvSpPr/>
              <p:nvPr/>
            </p:nvSpPr>
            <p:spPr>
              <a:xfrm rot="662400">
                <a:off x="2817000" y="-11160"/>
                <a:ext cx="1227240" cy="5193000"/>
              </a:xfrm>
              <a:prstGeom prst="foldedCorner">
                <a:avLst>
                  <a:gd name="adj" fmla="val 48157"/>
                </a:avLst>
              </a:pr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圆角矩形 65"/>
              <p:cNvSpPr/>
              <p:nvPr/>
            </p:nvSpPr>
            <p:spPr>
              <a:xfrm rot="662400">
                <a:off x="2757960" y="-23040"/>
                <a:ext cx="1227240" cy="5140440"/>
              </a:xfrm>
              <a:custGeom>
                <a:avLst/>
                <a:gdLst>
                  <a:gd name="textAreaLeft" fmla="*/ 0 w 1227240"/>
                  <a:gd name="textAreaRight" fmla="*/ 1227600 w 1227240"/>
                  <a:gd name="textAreaTop" fmla="*/ 0 h 5140440"/>
                  <a:gd name="textAreaBottom" fmla="*/ 5140800 h 5140440"/>
                </a:gdLst>
                <a:ahLst/>
                <a:rect l="textAreaLeft" t="textAreaTop" r="textAreaRight" b="textAreaBottom"/>
                <a:pathLst>
                  <a:path w="1227148" h="5142958">
                    <a:moveTo>
                      <a:pt x="234637" y="4752528"/>
                    </a:moveTo>
                    <a:cubicBezTo>
                      <a:pt x="194868" y="4752528"/>
                      <a:pt x="162629" y="4784767"/>
                      <a:pt x="162629" y="4824536"/>
                    </a:cubicBezTo>
                    <a:cubicBezTo>
                      <a:pt x="162629" y="4864305"/>
                      <a:pt x="194868" y="4896544"/>
                      <a:pt x="234637" y="4896544"/>
                    </a:cubicBezTo>
                    <a:cubicBezTo>
                      <a:pt x="274406" y="4896544"/>
                      <a:pt x="306645" y="4864305"/>
                      <a:pt x="306645" y="4824536"/>
                    </a:cubicBezTo>
                    <a:cubicBezTo>
                      <a:pt x="306645" y="4784767"/>
                      <a:pt x="274406" y="4752528"/>
                      <a:pt x="234637" y="4752528"/>
                    </a:cubicBezTo>
                    <a:close/>
                    <a:moveTo>
                      <a:pt x="494346" y="4464972"/>
                    </a:moveTo>
                    <a:cubicBezTo>
                      <a:pt x="444915" y="4464972"/>
                      <a:pt x="404843" y="4505044"/>
                      <a:pt x="404843" y="4554475"/>
                    </a:cubicBezTo>
                    <a:cubicBezTo>
                      <a:pt x="404843" y="4603906"/>
                      <a:pt x="444915" y="4643978"/>
                      <a:pt x="494346" y="4643978"/>
                    </a:cubicBezTo>
                    <a:cubicBezTo>
                      <a:pt x="543777" y="4643978"/>
                      <a:pt x="583849" y="4603906"/>
                      <a:pt x="583849" y="4554475"/>
                    </a:cubicBezTo>
                    <a:cubicBezTo>
                      <a:pt x="583849" y="4505044"/>
                      <a:pt x="543777" y="4464972"/>
                      <a:pt x="494346" y="4464972"/>
                    </a:cubicBezTo>
                    <a:close/>
                    <a:moveTo>
                      <a:pt x="727864" y="3888432"/>
                    </a:moveTo>
                    <a:cubicBezTo>
                      <a:pt x="648326" y="3888432"/>
                      <a:pt x="583848" y="3952910"/>
                      <a:pt x="583848" y="4032448"/>
                    </a:cubicBezTo>
                    <a:cubicBezTo>
                      <a:pt x="583848" y="4111986"/>
                      <a:pt x="648326" y="4176464"/>
                      <a:pt x="727864" y="4176464"/>
                    </a:cubicBezTo>
                    <a:cubicBezTo>
                      <a:pt x="807402" y="4176464"/>
                      <a:pt x="871880" y="4111986"/>
                      <a:pt x="871880" y="4032448"/>
                    </a:cubicBezTo>
                    <a:cubicBezTo>
                      <a:pt x="871880" y="3952910"/>
                      <a:pt x="807402" y="3888432"/>
                      <a:pt x="727864" y="3888432"/>
                    </a:cubicBezTo>
                    <a:close/>
                    <a:moveTo>
                      <a:pt x="0" y="0"/>
                    </a:moveTo>
                    <a:lnTo>
                      <a:pt x="1227148" y="0"/>
                    </a:lnTo>
                    <a:lnTo>
                      <a:pt x="1227148" y="4574543"/>
                    </a:lnTo>
                    <a:lnTo>
                      <a:pt x="658733" y="5142958"/>
                    </a:lnTo>
                    <a:lnTo>
                      <a:pt x="0" y="51429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52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TextBox 76"/>
            <p:cNvSpPr/>
            <p:nvPr/>
          </p:nvSpPr>
          <p:spPr>
            <a:xfrm rot="662400">
              <a:off x="3181680" y="77400"/>
              <a:ext cx="128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roadway"/>
                </a:rPr>
                <a:t>Part</a:t>
              </a:r>
              <a:r>
                <a:rPr b="0" lang="en-US" sz="1800" spc="-1" strike="noStrike">
                  <a:solidFill>
                    <a:srgbClr val="ffffff"/>
                  </a:solidFill>
                  <a:latin typeface="Broadway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Broadway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Box 3"/>
            <p:cNvSpPr/>
            <p:nvPr/>
          </p:nvSpPr>
          <p:spPr>
            <a:xfrm rot="662400">
              <a:off x="3432600" y="703800"/>
              <a:ext cx="7387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文本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矩形 32"/>
          <p:cNvSpPr/>
          <p:nvPr/>
        </p:nvSpPr>
        <p:spPr>
          <a:xfrm>
            <a:off x="71280" y="214200"/>
            <a:ext cx="26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e6787"/>
                </a:solidFill>
                <a:latin typeface="Showcard Gothic"/>
              </a:rPr>
              <a:t>log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2"/>
          <p:cNvGrpSpPr/>
          <p:nvPr/>
        </p:nvGrpSpPr>
        <p:grpSpPr>
          <a:xfrm>
            <a:off x="3907800" y="-91080"/>
            <a:ext cx="2213640" cy="5342400"/>
            <a:chOff x="3907800" y="-91080"/>
            <a:chExt cx="2213640" cy="5342400"/>
          </a:xfrm>
        </p:grpSpPr>
        <p:grpSp>
          <p:nvGrpSpPr>
            <p:cNvPr id="57" name="组合 94"/>
            <p:cNvGrpSpPr/>
            <p:nvPr/>
          </p:nvGrpSpPr>
          <p:grpSpPr>
            <a:xfrm>
              <a:off x="3907800" y="-91080"/>
              <a:ext cx="2213640" cy="5342400"/>
              <a:chOff x="3907800" y="-91080"/>
              <a:chExt cx="2213640" cy="5342400"/>
            </a:xfrm>
          </p:grpSpPr>
          <p:sp>
            <p:nvSpPr>
              <p:cNvPr id="58" name="圆角矩形 64"/>
              <p:cNvSpPr/>
              <p:nvPr/>
            </p:nvSpPr>
            <p:spPr>
              <a:xfrm rot="634200">
                <a:off x="4428000" y="-10080"/>
                <a:ext cx="1227600" cy="5193000"/>
              </a:xfrm>
              <a:prstGeom prst="foldedCorner">
                <a:avLst>
                  <a:gd name="adj" fmla="val 48157"/>
                </a:avLst>
              </a:pr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圆角矩形 65"/>
              <p:cNvSpPr/>
              <p:nvPr/>
            </p:nvSpPr>
            <p:spPr>
              <a:xfrm rot="634200">
                <a:off x="4368600" y="-21960"/>
                <a:ext cx="1227600" cy="5140440"/>
              </a:xfrm>
              <a:custGeom>
                <a:avLst/>
                <a:gdLst>
                  <a:gd name="textAreaLeft" fmla="*/ 0 w 1227600"/>
                  <a:gd name="textAreaRight" fmla="*/ 1227960 w 1227600"/>
                  <a:gd name="textAreaTop" fmla="*/ 0 h 5140440"/>
                  <a:gd name="textAreaBottom" fmla="*/ 5140800 h 5140440"/>
                </a:gdLst>
                <a:ahLst/>
                <a:rect l="textAreaLeft" t="textAreaTop" r="textAreaRight" b="textAreaBottom"/>
                <a:pathLst>
                  <a:path w="1227148" h="5142958">
                    <a:moveTo>
                      <a:pt x="234637" y="4752528"/>
                    </a:moveTo>
                    <a:cubicBezTo>
                      <a:pt x="194868" y="4752528"/>
                      <a:pt x="162629" y="4784767"/>
                      <a:pt x="162629" y="4824536"/>
                    </a:cubicBezTo>
                    <a:cubicBezTo>
                      <a:pt x="162629" y="4864305"/>
                      <a:pt x="194868" y="4896544"/>
                      <a:pt x="234637" y="4896544"/>
                    </a:cubicBezTo>
                    <a:cubicBezTo>
                      <a:pt x="274406" y="4896544"/>
                      <a:pt x="306645" y="4864305"/>
                      <a:pt x="306645" y="4824536"/>
                    </a:cubicBezTo>
                    <a:cubicBezTo>
                      <a:pt x="306645" y="4784767"/>
                      <a:pt x="274406" y="4752528"/>
                      <a:pt x="234637" y="4752528"/>
                    </a:cubicBezTo>
                    <a:close/>
                    <a:moveTo>
                      <a:pt x="494346" y="4464972"/>
                    </a:moveTo>
                    <a:cubicBezTo>
                      <a:pt x="444915" y="4464972"/>
                      <a:pt x="404843" y="4505044"/>
                      <a:pt x="404843" y="4554475"/>
                    </a:cubicBezTo>
                    <a:cubicBezTo>
                      <a:pt x="404843" y="4603906"/>
                      <a:pt x="444915" y="4643978"/>
                      <a:pt x="494346" y="4643978"/>
                    </a:cubicBezTo>
                    <a:cubicBezTo>
                      <a:pt x="543777" y="4643978"/>
                      <a:pt x="583849" y="4603906"/>
                      <a:pt x="583849" y="4554475"/>
                    </a:cubicBezTo>
                    <a:cubicBezTo>
                      <a:pt x="583849" y="4505044"/>
                      <a:pt x="543777" y="4464972"/>
                      <a:pt x="494346" y="4464972"/>
                    </a:cubicBezTo>
                    <a:close/>
                    <a:moveTo>
                      <a:pt x="727864" y="3888432"/>
                    </a:moveTo>
                    <a:cubicBezTo>
                      <a:pt x="648326" y="3888432"/>
                      <a:pt x="583848" y="3952910"/>
                      <a:pt x="583848" y="4032448"/>
                    </a:cubicBezTo>
                    <a:cubicBezTo>
                      <a:pt x="583848" y="4111986"/>
                      <a:pt x="648326" y="4176464"/>
                      <a:pt x="727864" y="4176464"/>
                    </a:cubicBezTo>
                    <a:cubicBezTo>
                      <a:pt x="807402" y="4176464"/>
                      <a:pt x="871880" y="4111986"/>
                      <a:pt x="871880" y="4032448"/>
                    </a:cubicBezTo>
                    <a:cubicBezTo>
                      <a:pt x="871880" y="3952910"/>
                      <a:pt x="807402" y="3888432"/>
                      <a:pt x="727864" y="3888432"/>
                    </a:cubicBezTo>
                    <a:close/>
                    <a:moveTo>
                      <a:pt x="0" y="0"/>
                    </a:moveTo>
                    <a:lnTo>
                      <a:pt x="1227148" y="0"/>
                    </a:lnTo>
                    <a:lnTo>
                      <a:pt x="1227148" y="4574543"/>
                    </a:lnTo>
                    <a:lnTo>
                      <a:pt x="658733" y="5142958"/>
                    </a:lnTo>
                    <a:lnTo>
                      <a:pt x="0" y="51429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e6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TextBox 89"/>
            <p:cNvSpPr/>
            <p:nvPr/>
          </p:nvSpPr>
          <p:spPr>
            <a:xfrm rot="634200">
              <a:off x="5023080" y="699480"/>
              <a:ext cx="7387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文本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Box 49"/>
            <p:cNvSpPr/>
            <p:nvPr/>
          </p:nvSpPr>
          <p:spPr>
            <a:xfrm rot="634200">
              <a:off x="4760280" y="72360"/>
              <a:ext cx="128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roadway"/>
                </a:rPr>
                <a:t>Part</a:t>
              </a:r>
              <a:r>
                <a:rPr b="0" lang="en-US" sz="1800" spc="-1" strike="noStrike">
                  <a:solidFill>
                    <a:srgbClr val="ffffff"/>
                  </a:solidFill>
                  <a:latin typeface="Broadway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Broadway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5"/>
          <p:cNvGrpSpPr/>
          <p:nvPr/>
        </p:nvGrpSpPr>
        <p:grpSpPr>
          <a:xfrm>
            <a:off x="7194240" y="-87120"/>
            <a:ext cx="2171160" cy="5339520"/>
            <a:chOff x="7194240" y="-87120"/>
            <a:chExt cx="2171160" cy="5339520"/>
          </a:xfrm>
        </p:grpSpPr>
        <p:grpSp>
          <p:nvGrpSpPr>
            <p:cNvPr id="63" name="组合 62"/>
            <p:cNvGrpSpPr/>
            <p:nvPr/>
          </p:nvGrpSpPr>
          <p:grpSpPr>
            <a:xfrm>
              <a:off x="7194240" y="-87120"/>
              <a:ext cx="2171160" cy="5339520"/>
              <a:chOff x="7194240" y="-87120"/>
              <a:chExt cx="2171160" cy="5339520"/>
            </a:xfrm>
          </p:grpSpPr>
          <p:sp>
            <p:nvSpPr>
              <p:cNvPr id="64" name="圆角矩形 64"/>
              <p:cNvSpPr/>
              <p:nvPr/>
            </p:nvSpPr>
            <p:spPr>
              <a:xfrm rot="604200">
                <a:off x="7693560" y="-7920"/>
                <a:ext cx="1227240" cy="5193000"/>
              </a:xfrm>
              <a:prstGeom prst="foldedCorner">
                <a:avLst>
                  <a:gd name="adj" fmla="val 48157"/>
                </a:avLst>
              </a:pr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圆角矩形 65"/>
              <p:cNvSpPr/>
              <p:nvPr/>
            </p:nvSpPr>
            <p:spPr>
              <a:xfrm rot="604200">
                <a:off x="7634160" y="-19080"/>
                <a:ext cx="1227240" cy="5140440"/>
              </a:xfrm>
              <a:custGeom>
                <a:avLst/>
                <a:gdLst>
                  <a:gd name="textAreaLeft" fmla="*/ 0 w 1227240"/>
                  <a:gd name="textAreaRight" fmla="*/ 1227600 w 1227240"/>
                  <a:gd name="textAreaTop" fmla="*/ 0 h 5140440"/>
                  <a:gd name="textAreaBottom" fmla="*/ 5140800 h 5140440"/>
                </a:gdLst>
                <a:ahLst/>
                <a:rect l="textAreaLeft" t="textAreaTop" r="textAreaRight" b="textAreaBottom"/>
                <a:pathLst>
                  <a:path w="1227148" h="5142958">
                    <a:moveTo>
                      <a:pt x="234637" y="4752528"/>
                    </a:moveTo>
                    <a:cubicBezTo>
                      <a:pt x="194868" y="4752528"/>
                      <a:pt x="162629" y="4784767"/>
                      <a:pt x="162629" y="4824536"/>
                    </a:cubicBezTo>
                    <a:cubicBezTo>
                      <a:pt x="162629" y="4864305"/>
                      <a:pt x="194868" y="4896544"/>
                      <a:pt x="234637" y="4896544"/>
                    </a:cubicBezTo>
                    <a:cubicBezTo>
                      <a:pt x="274406" y="4896544"/>
                      <a:pt x="306645" y="4864305"/>
                      <a:pt x="306645" y="4824536"/>
                    </a:cubicBezTo>
                    <a:cubicBezTo>
                      <a:pt x="306645" y="4784767"/>
                      <a:pt x="274406" y="4752528"/>
                      <a:pt x="234637" y="4752528"/>
                    </a:cubicBezTo>
                    <a:close/>
                    <a:moveTo>
                      <a:pt x="494346" y="4464972"/>
                    </a:moveTo>
                    <a:cubicBezTo>
                      <a:pt x="444915" y="4464972"/>
                      <a:pt x="404843" y="4505044"/>
                      <a:pt x="404843" y="4554475"/>
                    </a:cubicBezTo>
                    <a:cubicBezTo>
                      <a:pt x="404843" y="4603906"/>
                      <a:pt x="444915" y="4643978"/>
                      <a:pt x="494346" y="4643978"/>
                    </a:cubicBezTo>
                    <a:cubicBezTo>
                      <a:pt x="543777" y="4643978"/>
                      <a:pt x="583849" y="4603906"/>
                      <a:pt x="583849" y="4554475"/>
                    </a:cubicBezTo>
                    <a:cubicBezTo>
                      <a:pt x="583849" y="4505044"/>
                      <a:pt x="543777" y="4464972"/>
                      <a:pt x="494346" y="4464972"/>
                    </a:cubicBezTo>
                    <a:close/>
                    <a:moveTo>
                      <a:pt x="727864" y="3888432"/>
                    </a:moveTo>
                    <a:cubicBezTo>
                      <a:pt x="648326" y="3888432"/>
                      <a:pt x="583848" y="3952910"/>
                      <a:pt x="583848" y="4032448"/>
                    </a:cubicBezTo>
                    <a:cubicBezTo>
                      <a:pt x="583848" y="4111986"/>
                      <a:pt x="648326" y="4176464"/>
                      <a:pt x="727864" y="4176464"/>
                    </a:cubicBezTo>
                    <a:cubicBezTo>
                      <a:pt x="807402" y="4176464"/>
                      <a:pt x="871880" y="4111986"/>
                      <a:pt x="871880" y="4032448"/>
                    </a:cubicBezTo>
                    <a:cubicBezTo>
                      <a:pt x="871880" y="3952910"/>
                      <a:pt x="807402" y="3888432"/>
                      <a:pt x="727864" y="3888432"/>
                    </a:cubicBezTo>
                    <a:close/>
                    <a:moveTo>
                      <a:pt x="0" y="0"/>
                    </a:moveTo>
                    <a:lnTo>
                      <a:pt x="1227148" y="0"/>
                    </a:lnTo>
                    <a:lnTo>
                      <a:pt x="1227148" y="4574543"/>
                    </a:lnTo>
                    <a:lnTo>
                      <a:pt x="658733" y="5142958"/>
                    </a:lnTo>
                    <a:lnTo>
                      <a:pt x="0" y="51429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4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TextBox 91"/>
            <p:cNvSpPr/>
            <p:nvPr/>
          </p:nvSpPr>
          <p:spPr>
            <a:xfrm rot="604200">
              <a:off x="8311680" y="704520"/>
              <a:ext cx="7387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文本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Box 50"/>
            <p:cNvSpPr/>
            <p:nvPr/>
          </p:nvSpPr>
          <p:spPr>
            <a:xfrm rot="604200">
              <a:off x="7976520" y="66240"/>
              <a:ext cx="128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roadway"/>
                </a:rPr>
                <a:t>Part</a:t>
              </a:r>
              <a:r>
                <a:rPr b="0" lang="en-US" sz="1800" spc="-1" strike="noStrike">
                  <a:solidFill>
                    <a:srgbClr val="ffffff"/>
                  </a:solidFill>
                  <a:latin typeface="Broadway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Broadway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组合 4"/>
          <p:cNvGrpSpPr/>
          <p:nvPr/>
        </p:nvGrpSpPr>
        <p:grpSpPr>
          <a:xfrm>
            <a:off x="5545440" y="-88920"/>
            <a:ext cx="2187000" cy="5340600"/>
            <a:chOff x="5545440" y="-88920"/>
            <a:chExt cx="2187000" cy="5340600"/>
          </a:xfrm>
        </p:grpSpPr>
        <p:grpSp>
          <p:nvGrpSpPr>
            <p:cNvPr id="69" name="组合 97"/>
            <p:cNvGrpSpPr/>
            <p:nvPr/>
          </p:nvGrpSpPr>
          <p:grpSpPr>
            <a:xfrm>
              <a:off x="5545440" y="-88920"/>
              <a:ext cx="2187000" cy="5340600"/>
              <a:chOff x="5545440" y="-88920"/>
              <a:chExt cx="2187000" cy="5340600"/>
            </a:xfrm>
          </p:grpSpPr>
          <p:sp>
            <p:nvSpPr>
              <p:cNvPr id="70" name="圆角矩形 64"/>
              <p:cNvSpPr/>
              <p:nvPr/>
            </p:nvSpPr>
            <p:spPr>
              <a:xfrm rot="616200">
                <a:off x="6053040" y="-8640"/>
                <a:ext cx="1226160" cy="5193000"/>
              </a:xfrm>
              <a:prstGeom prst="foldedCorner">
                <a:avLst>
                  <a:gd name="adj" fmla="val 48157"/>
                </a:avLst>
              </a:pr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圆角矩形 65"/>
              <p:cNvSpPr/>
              <p:nvPr/>
            </p:nvSpPr>
            <p:spPr>
              <a:xfrm rot="616200">
                <a:off x="5993640" y="-20520"/>
                <a:ext cx="1226160" cy="5140440"/>
              </a:xfrm>
              <a:custGeom>
                <a:avLst/>
                <a:gdLst>
                  <a:gd name="textAreaLeft" fmla="*/ 0 w 1226160"/>
                  <a:gd name="textAreaRight" fmla="*/ 1226520 w 1226160"/>
                  <a:gd name="textAreaTop" fmla="*/ 0 h 5140440"/>
                  <a:gd name="textAreaBottom" fmla="*/ 5140800 h 5140440"/>
                </a:gdLst>
                <a:ahLst/>
                <a:rect l="textAreaLeft" t="textAreaTop" r="textAreaRight" b="textAreaBottom"/>
                <a:pathLst>
                  <a:path w="1227148" h="5142958">
                    <a:moveTo>
                      <a:pt x="234637" y="4752528"/>
                    </a:moveTo>
                    <a:cubicBezTo>
                      <a:pt x="194868" y="4752528"/>
                      <a:pt x="162629" y="4784767"/>
                      <a:pt x="162629" y="4824536"/>
                    </a:cubicBezTo>
                    <a:cubicBezTo>
                      <a:pt x="162629" y="4864305"/>
                      <a:pt x="194868" y="4896544"/>
                      <a:pt x="234637" y="4896544"/>
                    </a:cubicBezTo>
                    <a:cubicBezTo>
                      <a:pt x="274406" y="4896544"/>
                      <a:pt x="306645" y="4864305"/>
                      <a:pt x="306645" y="4824536"/>
                    </a:cubicBezTo>
                    <a:cubicBezTo>
                      <a:pt x="306645" y="4784767"/>
                      <a:pt x="274406" y="4752528"/>
                      <a:pt x="234637" y="4752528"/>
                    </a:cubicBezTo>
                    <a:close/>
                    <a:moveTo>
                      <a:pt x="494346" y="4464972"/>
                    </a:moveTo>
                    <a:cubicBezTo>
                      <a:pt x="444915" y="4464972"/>
                      <a:pt x="404843" y="4505044"/>
                      <a:pt x="404843" y="4554475"/>
                    </a:cubicBezTo>
                    <a:cubicBezTo>
                      <a:pt x="404843" y="4603906"/>
                      <a:pt x="444915" y="4643978"/>
                      <a:pt x="494346" y="4643978"/>
                    </a:cubicBezTo>
                    <a:cubicBezTo>
                      <a:pt x="543777" y="4643978"/>
                      <a:pt x="583849" y="4603906"/>
                      <a:pt x="583849" y="4554475"/>
                    </a:cubicBezTo>
                    <a:cubicBezTo>
                      <a:pt x="583849" y="4505044"/>
                      <a:pt x="543777" y="4464972"/>
                      <a:pt x="494346" y="4464972"/>
                    </a:cubicBezTo>
                    <a:close/>
                    <a:moveTo>
                      <a:pt x="727864" y="3888432"/>
                    </a:moveTo>
                    <a:cubicBezTo>
                      <a:pt x="648326" y="3888432"/>
                      <a:pt x="583848" y="3952910"/>
                      <a:pt x="583848" y="4032448"/>
                    </a:cubicBezTo>
                    <a:cubicBezTo>
                      <a:pt x="583848" y="4111986"/>
                      <a:pt x="648326" y="4176464"/>
                      <a:pt x="727864" y="4176464"/>
                    </a:cubicBezTo>
                    <a:cubicBezTo>
                      <a:pt x="807402" y="4176464"/>
                      <a:pt x="871880" y="4111986"/>
                      <a:pt x="871880" y="4032448"/>
                    </a:cubicBezTo>
                    <a:cubicBezTo>
                      <a:pt x="871880" y="3952910"/>
                      <a:pt x="807402" y="3888432"/>
                      <a:pt x="727864" y="3888432"/>
                    </a:cubicBezTo>
                    <a:close/>
                    <a:moveTo>
                      <a:pt x="0" y="0"/>
                    </a:moveTo>
                    <a:lnTo>
                      <a:pt x="1227148" y="0"/>
                    </a:lnTo>
                    <a:lnTo>
                      <a:pt x="1227148" y="4574543"/>
                    </a:lnTo>
                    <a:lnTo>
                      <a:pt x="658733" y="5142958"/>
                    </a:lnTo>
                    <a:lnTo>
                      <a:pt x="0" y="51429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a8f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TextBox 90"/>
            <p:cNvSpPr/>
            <p:nvPr/>
          </p:nvSpPr>
          <p:spPr>
            <a:xfrm rot="616200">
              <a:off x="6641640" y="698760"/>
              <a:ext cx="7380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文本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Box 51"/>
            <p:cNvSpPr/>
            <p:nvPr/>
          </p:nvSpPr>
          <p:spPr>
            <a:xfrm rot="616200">
              <a:off x="6358680" y="68760"/>
              <a:ext cx="127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roadway"/>
                </a:rPr>
                <a:t>Part</a:t>
              </a:r>
              <a:r>
                <a:rPr b="0" lang="en-US" sz="1800" spc="-1" strike="noStrike">
                  <a:solidFill>
                    <a:srgbClr val="ffffff"/>
                  </a:solidFill>
                  <a:latin typeface="Broadway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Broadway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组合 50"/>
          <p:cNvGrpSpPr/>
          <p:nvPr/>
        </p:nvGrpSpPr>
        <p:grpSpPr>
          <a:xfrm>
            <a:off x="34920" y="20520"/>
            <a:ext cx="1219320" cy="1281240"/>
            <a:chOff x="34920" y="20520"/>
            <a:chExt cx="1219320" cy="1281240"/>
          </a:xfrm>
        </p:grpSpPr>
        <p:grpSp>
          <p:nvGrpSpPr>
            <p:cNvPr id="75" name="组合 27"/>
            <p:cNvGrpSpPr/>
            <p:nvPr/>
          </p:nvGrpSpPr>
          <p:grpSpPr>
            <a:xfrm>
              <a:off x="55800" y="20520"/>
              <a:ext cx="1198440" cy="1281240"/>
              <a:chOff x="55800" y="20520"/>
              <a:chExt cx="1198440" cy="1281240"/>
            </a:xfrm>
          </p:grpSpPr>
          <p:sp>
            <p:nvSpPr>
              <p:cNvPr id="76" name="圆角矩形 28"/>
              <p:cNvSpPr/>
              <p:nvPr/>
            </p:nvSpPr>
            <p:spPr>
              <a:xfrm>
                <a:off x="128880" y="50400"/>
                <a:ext cx="1125360" cy="1251360"/>
              </a:xfrm>
              <a:custGeom>
                <a:avLst/>
                <a:gdLst>
                  <a:gd name="textAreaLeft" fmla="*/ 54720 w 1125360"/>
                  <a:gd name="textAreaRight" fmla="*/ 1070640 w 1125360"/>
                  <a:gd name="textAreaTop" fmla="*/ 54720 h 1251360"/>
                  <a:gd name="textAreaBottom" fmla="*/ 1196640 h 1251360"/>
                </a:gdLst>
                <a:ahLst/>
                <a:rect l="textAreaLeft" t="textAreaTop" r="textAreaRight" b="textAreaBottom"/>
                <a:pathLst>
                  <a:path w="21600" h="24018">
                    <a:moveTo>
                      <a:pt x="3600" y="0"/>
                    </a:moveTo>
                    <a:arcTo wR="3600" hR="3600" stAng="16200000" swAng="-5400000"/>
                    <a:lnTo>
                      <a:pt x="0" y="20418"/>
                    </a:lnTo>
                    <a:arcTo wR="3600" hR="3600" stAng="10800000" swAng="-5400000"/>
                    <a:lnTo>
                      <a:pt x="18000" y="2401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圆角矩形 29"/>
              <p:cNvSpPr/>
              <p:nvPr/>
            </p:nvSpPr>
            <p:spPr>
              <a:xfrm>
                <a:off x="55800" y="20520"/>
                <a:ext cx="1144800" cy="1238400"/>
              </a:xfrm>
              <a:custGeom>
                <a:avLst/>
                <a:gdLst>
                  <a:gd name="textAreaLeft" fmla="*/ 55800 w 1144800"/>
                  <a:gd name="textAreaRight" fmla="*/ 1089000 w 1144800"/>
                  <a:gd name="textAreaTop" fmla="*/ 55800 h 1238400"/>
                  <a:gd name="textAreaBottom" fmla="*/ 1182600 h 1238400"/>
                </a:gdLst>
                <a:ahLst/>
                <a:rect l="textAreaLeft" t="textAreaTop" r="textAreaRight" b="textAreaBottom"/>
                <a:pathLst>
                  <a:path w="21600" h="23365">
                    <a:moveTo>
                      <a:pt x="3600" y="0"/>
                    </a:moveTo>
                    <a:arcTo wR="3600" hR="3600" stAng="16200000" swAng="-5400000"/>
                    <a:lnTo>
                      <a:pt x="0" y="19765"/>
                    </a:lnTo>
                    <a:arcTo wR="3600" hR="3600" stAng="10800000" swAng="-5400000"/>
                    <a:lnTo>
                      <a:pt x="18000" y="2336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352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TextBox 40"/>
            <p:cNvSpPr/>
            <p:nvPr/>
          </p:nvSpPr>
          <p:spPr>
            <a:xfrm>
              <a:off x="34920" y="534600"/>
              <a:ext cx="52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Box 44"/>
            <p:cNvSpPr/>
            <p:nvPr/>
          </p:nvSpPr>
          <p:spPr>
            <a:xfrm>
              <a:off x="34920" y="762840"/>
              <a:ext cx="112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组合 49"/>
          <p:cNvGrpSpPr/>
          <p:nvPr/>
        </p:nvGrpSpPr>
        <p:grpSpPr>
          <a:xfrm>
            <a:off x="34920" y="1284120"/>
            <a:ext cx="1225440" cy="1278000"/>
            <a:chOff x="34920" y="1284120"/>
            <a:chExt cx="1225440" cy="1278000"/>
          </a:xfrm>
        </p:grpSpPr>
        <p:grpSp>
          <p:nvGrpSpPr>
            <p:cNvPr id="81" name="组合 30"/>
            <p:cNvGrpSpPr/>
            <p:nvPr/>
          </p:nvGrpSpPr>
          <p:grpSpPr>
            <a:xfrm>
              <a:off x="81360" y="1284120"/>
              <a:ext cx="1179000" cy="1278000"/>
              <a:chOff x="81360" y="1284120"/>
              <a:chExt cx="1179000" cy="1278000"/>
            </a:xfrm>
          </p:grpSpPr>
          <p:sp>
            <p:nvSpPr>
              <p:cNvPr id="82" name="圆角矩形 31"/>
              <p:cNvSpPr/>
              <p:nvPr/>
            </p:nvSpPr>
            <p:spPr>
              <a:xfrm>
                <a:off x="135000" y="1311480"/>
                <a:ext cx="1125360" cy="1250640"/>
              </a:xfrm>
              <a:custGeom>
                <a:avLst/>
                <a:gdLst>
                  <a:gd name="textAreaLeft" fmla="*/ 54720 w 1125360"/>
                  <a:gd name="textAreaRight" fmla="*/ 1070640 w 1125360"/>
                  <a:gd name="textAreaTop" fmla="*/ 54720 h 1250640"/>
                  <a:gd name="textAreaBottom" fmla="*/ 1195920 h 1250640"/>
                </a:gdLst>
                <a:ahLst/>
                <a:rect l="textAreaLeft" t="textAreaTop" r="textAreaRight" b="textAreaBottom"/>
                <a:pathLst>
                  <a:path w="21600" h="24004">
                    <a:moveTo>
                      <a:pt x="3600" y="0"/>
                    </a:moveTo>
                    <a:arcTo wR="3600" hR="3600" stAng="16200000" swAng="-5400000"/>
                    <a:lnTo>
                      <a:pt x="0" y="20404"/>
                    </a:lnTo>
                    <a:arcTo wR="3600" hR="3600" stAng="10800000" swAng="-5400000"/>
                    <a:lnTo>
                      <a:pt x="18000" y="2400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圆角矩形 32"/>
              <p:cNvSpPr/>
              <p:nvPr/>
            </p:nvSpPr>
            <p:spPr>
              <a:xfrm>
                <a:off x="81360" y="1284120"/>
                <a:ext cx="1125360" cy="1238040"/>
              </a:xfrm>
              <a:custGeom>
                <a:avLst/>
                <a:gdLst>
                  <a:gd name="textAreaLeft" fmla="*/ 54720 w 1125360"/>
                  <a:gd name="textAreaRight" fmla="*/ 1070640 w 1125360"/>
                  <a:gd name="textAreaTop" fmla="*/ 54720 h 1238040"/>
                  <a:gd name="textAreaBottom" fmla="*/ 1183320 h 1238040"/>
                </a:gdLst>
                <a:ahLst/>
                <a:rect l="textAreaLeft" t="textAreaTop" r="textAreaRight" b="textAreaBottom"/>
                <a:pathLst>
                  <a:path w="21600" h="23762">
                    <a:moveTo>
                      <a:pt x="3600" y="0"/>
                    </a:moveTo>
                    <a:arcTo wR="3600" hR="3600" stAng="16200000" swAng="-5400000"/>
                    <a:lnTo>
                      <a:pt x="0" y="20162"/>
                    </a:lnTo>
                    <a:arcTo wR="3600" hR="3600" stAng="10800000" swAng="-5400000"/>
                    <a:lnTo>
                      <a:pt x="18000" y="2376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1e6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TextBox 41"/>
            <p:cNvSpPr/>
            <p:nvPr/>
          </p:nvSpPr>
          <p:spPr>
            <a:xfrm>
              <a:off x="71280" y="1806120"/>
              <a:ext cx="52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45"/>
            <p:cNvSpPr/>
            <p:nvPr/>
          </p:nvSpPr>
          <p:spPr>
            <a:xfrm>
              <a:off x="34920" y="2022840"/>
              <a:ext cx="112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WH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48"/>
          <p:cNvGrpSpPr/>
          <p:nvPr/>
        </p:nvGrpSpPr>
        <p:grpSpPr>
          <a:xfrm>
            <a:off x="34920" y="2585880"/>
            <a:ext cx="1204920" cy="1278000"/>
            <a:chOff x="34920" y="2585880"/>
            <a:chExt cx="1204920" cy="1278000"/>
          </a:xfrm>
        </p:grpSpPr>
        <p:grpSp>
          <p:nvGrpSpPr>
            <p:cNvPr id="87" name="组合 33"/>
            <p:cNvGrpSpPr/>
            <p:nvPr/>
          </p:nvGrpSpPr>
          <p:grpSpPr>
            <a:xfrm>
              <a:off x="61200" y="2585880"/>
              <a:ext cx="1178640" cy="1278000"/>
              <a:chOff x="61200" y="2585880"/>
              <a:chExt cx="1178640" cy="1278000"/>
            </a:xfrm>
          </p:grpSpPr>
          <p:sp>
            <p:nvSpPr>
              <p:cNvPr id="88" name="圆角矩形 34"/>
              <p:cNvSpPr/>
              <p:nvPr/>
            </p:nvSpPr>
            <p:spPr>
              <a:xfrm>
                <a:off x="114840" y="2612160"/>
                <a:ext cx="1125000" cy="1251720"/>
              </a:xfrm>
              <a:custGeom>
                <a:avLst/>
                <a:gdLst>
                  <a:gd name="textAreaLeft" fmla="*/ 54720 w 1125000"/>
                  <a:gd name="textAreaRight" fmla="*/ 1070280 w 1125000"/>
                  <a:gd name="textAreaTop" fmla="*/ 54720 h 1251720"/>
                  <a:gd name="textAreaBottom" fmla="*/ 1197000 h 1251720"/>
                </a:gdLst>
                <a:ahLst/>
                <a:rect l="textAreaLeft" t="textAreaTop" r="textAreaRight" b="textAreaBottom"/>
                <a:pathLst>
                  <a:path w="21600" h="24032">
                    <a:moveTo>
                      <a:pt x="3600" y="0"/>
                    </a:moveTo>
                    <a:arcTo wR="3600" hR="3600" stAng="16200000" swAng="-5400000"/>
                    <a:lnTo>
                      <a:pt x="0" y="20432"/>
                    </a:lnTo>
                    <a:arcTo wR="3600" hR="3600" stAng="10800000" swAng="-5400000"/>
                    <a:lnTo>
                      <a:pt x="18000" y="2403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圆角矩形 35"/>
              <p:cNvSpPr/>
              <p:nvPr/>
            </p:nvSpPr>
            <p:spPr>
              <a:xfrm>
                <a:off x="61200" y="2585880"/>
                <a:ext cx="1125000" cy="1238760"/>
              </a:xfrm>
              <a:custGeom>
                <a:avLst/>
                <a:gdLst>
                  <a:gd name="textAreaLeft" fmla="*/ 54720 w 1125000"/>
                  <a:gd name="textAreaRight" fmla="*/ 1070280 w 1125000"/>
                  <a:gd name="textAreaTop" fmla="*/ 54720 h 1238760"/>
                  <a:gd name="textAreaBottom" fmla="*/ 1184040 h 1238760"/>
                </a:gdLst>
                <a:ahLst/>
                <a:rect l="textAreaLeft" t="textAreaTop" r="textAreaRight" b="textAreaBottom"/>
                <a:pathLst>
                  <a:path w="21600" h="23783">
                    <a:moveTo>
                      <a:pt x="3600" y="0"/>
                    </a:moveTo>
                    <a:arcTo wR="3600" hR="3600" stAng="16200000" swAng="-5400000"/>
                    <a:lnTo>
                      <a:pt x="0" y="20183"/>
                    </a:lnTo>
                    <a:arcTo wR="3600" hR="3600" stAng="10800000" swAng="-5400000"/>
                    <a:lnTo>
                      <a:pt x="18000" y="2378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2a8f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TextBox 42"/>
            <p:cNvSpPr/>
            <p:nvPr/>
          </p:nvSpPr>
          <p:spPr>
            <a:xfrm>
              <a:off x="51120" y="3104640"/>
              <a:ext cx="52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46"/>
            <p:cNvSpPr/>
            <p:nvPr/>
          </p:nvSpPr>
          <p:spPr>
            <a:xfrm>
              <a:off x="34920" y="3321360"/>
              <a:ext cx="111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WH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组合 1"/>
          <p:cNvGrpSpPr/>
          <p:nvPr/>
        </p:nvGrpSpPr>
        <p:grpSpPr>
          <a:xfrm>
            <a:off x="34920" y="3886200"/>
            <a:ext cx="1171440" cy="1278000"/>
            <a:chOff x="34920" y="3886200"/>
            <a:chExt cx="1171440" cy="1278000"/>
          </a:xfrm>
        </p:grpSpPr>
        <p:grpSp>
          <p:nvGrpSpPr>
            <p:cNvPr id="93" name="组合 36"/>
            <p:cNvGrpSpPr/>
            <p:nvPr/>
          </p:nvGrpSpPr>
          <p:grpSpPr>
            <a:xfrm>
              <a:off x="34920" y="3886200"/>
              <a:ext cx="1171440" cy="1278000"/>
              <a:chOff x="34920" y="3886200"/>
              <a:chExt cx="1171440" cy="1278000"/>
            </a:xfrm>
          </p:grpSpPr>
          <p:sp>
            <p:nvSpPr>
              <p:cNvPr id="94" name="圆角矩形 37"/>
              <p:cNvSpPr/>
              <p:nvPr/>
            </p:nvSpPr>
            <p:spPr>
              <a:xfrm>
                <a:off x="82080" y="3912480"/>
                <a:ext cx="1124280" cy="1251720"/>
              </a:xfrm>
              <a:custGeom>
                <a:avLst/>
                <a:gdLst>
                  <a:gd name="textAreaLeft" fmla="*/ 54720 w 1124280"/>
                  <a:gd name="textAreaRight" fmla="*/ 1069560 w 1124280"/>
                  <a:gd name="textAreaTop" fmla="*/ 54720 h 1251720"/>
                  <a:gd name="textAreaBottom" fmla="*/ 1197000 h 1251720"/>
                </a:gdLst>
                <a:ahLst/>
                <a:rect l="textAreaLeft" t="textAreaTop" r="textAreaRight" b="textAreaBottom"/>
                <a:pathLst>
                  <a:path w="21600" h="24048">
                    <a:moveTo>
                      <a:pt x="3600" y="0"/>
                    </a:moveTo>
                    <a:arcTo wR="3600" hR="3600" stAng="16200000" swAng="-5400000"/>
                    <a:lnTo>
                      <a:pt x="0" y="20448"/>
                    </a:lnTo>
                    <a:arcTo wR="3600" hR="3600" stAng="10800000" swAng="-5400000"/>
                    <a:lnTo>
                      <a:pt x="18000" y="2404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圆角矩形 38"/>
              <p:cNvSpPr/>
              <p:nvPr/>
            </p:nvSpPr>
            <p:spPr>
              <a:xfrm>
                <a:off x="34920" y="3886200"/>
                <a:ext cx="1124280" cy="1239120"/>
              </a:xfrm>
              <a:custGeom>
                <a:avLst/>
                <a:gdLst>
                  <a:gd name="textAreaLeft" fmla="*/ 54720 w 1124280"/>
                  <a:gd name="textAreaRight" fmla="*/ 1069560 w 1124280"/>
                  <a:gd name="textAreaTop" fmla="*/ 54720 h 1239120"/>
                  <a:gd name="textAreaBottom" fmla="*/ 1184400 h 1239120"/>
                </a:gdLst>
                <a:ahLst/>
                <a:rect l="textAreaLeft" t="textAreaTop" r="textAreaRight" b="textAreaBottom"/>
                <a:pathLst>
                  <a:path w="21600" h="23806">
                    <a:moveTo>
                      <a:pt x="3600" y="0"/>
                    </a:moveTo>
                    <a:arcTo wR="3600" hR="3600" stAng="16200000" swAng="-5400000"/>
                    <a:lnTo>
                      <a:pt x="0" y="20206"/>
                    </a:lnTo>
                    <a:arcTo wR="3600" hR="3600" stAng="10800000" swAng="-5400000"/>
                    <a:lnTo>
                      <a:pt x="18000" y="2380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44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TextBox 43"/>
            <p:cNvSpPr/>
            <p:nvPr/>
          </p:nvSpPr>
          <p:spPr>
            <a:xfrm>
              <a:off x="52200" y="4408920"/>
              <a:ext cx="52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47"/>
            <p:cNvSpPr/>
            <p:nvPr/>
          </p:nvSpPr>
          <p:spPr>
            <a:xfrm>
              <a:off x="58680" y="4614480"/>
              <a:ext cx="111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H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矩形 3"/>
          <p:cNvSpPr/>
          <p:nvPr/>
        </p:nvSpPr>
        <p:spPr>
          <a:xfrm>
            <a:off x="2266920" y="2571840"/>
            <a:ext cx="158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300" spc="-1" strike="noStrike">
                <a:solidFill>
                  <a:srgbClr val="494429"/>
                </a:solidFill>
                <a:latin typeface="宋体"/>
              </a:rPr>
              <a:t>模板下载：</a:t>
            </a:r>
            <a:r>
              <a:rPr b="0" lang="en-US" sz="3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moban/</a:t>
            </a: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     </a:t>
            </a:r>
            <a:r>
              <a:rPr b="0" lang="zh-CN" sz="300" spc="-1" strike="noStrike">
                <a:solidFill>
                  <a:srgbClr val="494429"/>
                </a:solidFill>
                <a:latin typeface="宋体"/>
              </a:rPr>
              <a:t>行业</a:t>
            </a: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300" spc="-1" strike="noStrike">
                <a:solidFill>
                  <a:srgbClr val="494429"/>
                </a:solidFill>
                <a:latin typeface="宋体"/>
              </a:rPr>
              <a:t>模板：</a:t>
            </a:r>
            <a:r>
              <a:rPr b="0" lang="en-US" sz="3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hangye/</a:t>
            </a: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94429"/>
                </a:solidFill>
                <a:latin typeface="宋体"/>
              </a:rPr>
              <a:t>节日</a:t>
            </a: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300" spc="-1" strike="noStrike">
                <a:solidFill>
                  <a:srgbClr val="494429"/>
                </a:solidFill>
                <a:latin typeface="宋体"/>
              </a:rPr>
              <a:t>模板：</a:t>
            </a:r>
            <a:r>
              <a:rPr b="0" lang="en-US" sz="3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jieri/</a:t>
            </a: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           PPT</a:t>
            </a:r>
            <a:r>
              <a:rPr b="0" lang="zh-CN" sz="300" spc="-1" strike="noStrike">
                <a:solidFill>
                  <a:srgbClr val="494429"/>
                </a:solidFill>
                <a:latin typeface="宋体"/>
              </a:rPr>
              <a:t>素材下载：</a:t>
            </a:r>
            <a:r>
              <a:rPr b="0" lang="en-US" sz="3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sucai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300" spc="-1" strike="noStrike">
                <a:solidFill>
                  <a:srgbClr val="494429"/>
                </a:solidFill>
                <a:latin typeface="宋体"/>
              </a:rPr>
              <a:t>背景图片：</a:t>
            </a:r>
            <a:r>
              <a:rPr b="0" lang="en-US" sz="3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beijing/</a:t>
            </a: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      PPT</a:t>
            </a:r>
            <a:r>
              <a:rPr b="0" lang="zh-CN" sz="300" spc="-1" strike="noStrike">
                <a:solidFill>
                  <a:srgbClr val="494429"/>
                </a:solidFill>
                <a:latin typeface="宋体"/>
              </a:rPr>
              <a:t>图表下载：</a:t>
            </a:r>
            <a:r>
              <a:rPr b="0" lang="en-US" sz="3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tubiao/</a:t>
            </a: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94429"/>
                </a:solidFill>
                <a:latin typeface="宋体"/>
              </a:rPr>
              <a:t>优秀</a:t>
            </a: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300" spc="-1" strike="noStrike">
                <a:solidFill>
                  <a:srgbClr val="494429"/>
                </a:solidFill>
                <a:latin typeface="宋体"/>
              </a:rPr>
              <a:t>下载：</a:t>
            </a:r>
            <a:r>
              <a:rPr b="0" lang="en-US" sz="3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xiazai/</a:t>
            </a: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        PPT</a:t>
            </a:r>
            <a:r>
              <a:rPr b="0" lang="zh-CN" sz="300" spc="-1" strike="noStrike">
                <a:solidFill>
                  <a:srgbClr val="494429"/>
                </a:solidFill>
                <a:latin typeface="宋体"/>
              </a:rPr>
              <a:t>教程： </a:t>
            </a:r>
            <a:r>
              <a:rPr b="0" lang="en-US" sz="3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powerpoint/</a:t>
            </a: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Word</a:t>
            </a:r>
            <a:r>
              <a:rPr b="0" lang="zh-CN" sz="300" spc="-1" strike="noStrike">
                <a:solidFill>
                  <a:srgbClr val="494429"/>
                </a:solidFill>
                <a:latin typeface="宋体"/>
              </a:rPr>
              <a:t>教程： </a:t>
            </a:r>
            <a:r>
              <a:rPr b="0" lang="en-US" sz="3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word/</a:t>
            </a: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 Excel</a:t>
            </a:r>
            <a:r>
              <a:rPr b="0" lang="zh-CN" sz="300" spc="-1" strike="noStrike">
                <a:solidFill>
                  <a:srgbClr val="494429"/>
                </a:solidFill>
                <a:latin typeface="宋体"/>
              </a:rPr>
              <a:t>教程：</a:t>
            </a:r>
            <a:r>
              <a:rPr b="0" lang="en-US" sz="3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excel/</a:t>
            </a: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94429"/>
                </a:solidFill>
                <a:latin typeface="宋体"/>
              </a:rPr>
              <a:t>表格下载：</a:t>
            </a:r>
            <a:r>
              <a:rPr b="0" lang="en-US" sz="3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biaoge/</a:t>
            </a: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PPT</a:t>
            </a:r>
            <a:r>
              <a:rPr b="0" lang="zh-CN" sz="300" spc="-1" strike="noStrike">
                <a:solidFill>
                  <a:srgbClr val="494429"/>
                </a:solidFill>
                <a:latin typeface="宋体"/>
              </a:rPr>
              <a:t>课件下载：</a:t>
            </a:r>
            <a:r>
              <a:rPr b="0" lang="en-US" sz="3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kejian/</a:t>
            </a: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94429"/>
                </a:solidFill>
                <a:latin typeface="宋体"/>
              </a:rPr>
              <a:t>范文下载：</a:t>
            </a:r>
            <a:r>
              <a:rPr b="0" lang="en-US" sz="3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fanwen/</a:t>
            </a: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表 28" descr=""/>
          <p:cNvPicPr/>
          <p:nvPr/>
        </p:nvPicPr>
        <p:blipFill>
          <a:blip r:embed="rId2"/>
          <a:stretch/>
        </p:blipFill>
        <p:spPr>
          <a:xfrm>
            <a:off x="5003640" y="700200"/>
            <a:ext cx="3797640" cy="4276440"/>
          </a:xfrm>
          <a:prstGeom prst="rect">
            <a:avLst/>
          </a:prstGeom>
          <a:ln w="0">
            <a:noFill/>
          </a:ln>
        </p:spPr>
      </p:pic>
      <p:pic>
        <p:nvPicPr>
          <p:cNvPr id="100" name="图表 27" descr=""/>
          <p:cNvPicPr/>
          <p:nvPr/>
        </p:nvPicPr>
        <p:blipFill>
          <a:blip r:embed="rId3"/>
          <a:stretch/>
        </p:blipFill>
        <p:spPr>
          <a:xfrm>
            <a:off x="1116000" y="868320"/>
            <a:ext cx="4716360" cy="39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组合 50"/>
          <p:cNvGrpSpPr/>
          <p:nvPr/>
        </p:nvGrpSpPr>
        <p:grpSpPr>
          <a:xfrm>
            <a:off x="34920" y="20520"/>
            <a:ext cx="1219320" cy="1281240"/>
            <a:chOff x="34920" y="20520"/>
            <a:chExt cx="1219320" cy="1281240"/>
          </a:xfrm>
        </p:grpSpPr>
        <p:grpSp>
          <p:nvGrpSpPr>
            <p:cNvPr id="102" name="组合 27"/>
            <p:cNvGrpSpPr/>
            <p:nvPr/>
          </p:nvGrpSpPr>
          <p:grpSpPr>
            <a:xfrm>
              <a:off x="55800" y="20520"/>
              <a:ext cx="1198440" cy="1281240"/>
              <a:chOff x="55800" y="20520"/>
              <a:chExt cx="1198440" cy="1281240"/>
            </a:xfrm>
          </p:grpSpPr>
          <p:sp>
            <p:nvSpPr>
              <p:cNvPr id="103" name="圆角矩形 28"/>
              <p:cNvSpPr/>
              <p:nvPr/>
            </p:nvSpPr>
            <p:spPr>
              <a:xfrm>
                <a:off x="128880" y="50400"/>
                <a:ext cx="1125360" cy="1251360"/>
              </a:xfrm>
              <a:custGeom>
                <a:avLst/>
                <a:gdLst>
                  <a:gd name="textAreaLeft" fmla="*/ 54720 w 1125360"/>
                  <a:gd name="textAreaRight" fmla="*/ 1070640 w 1125360"/>
                  <a:gd name="textAreaTop" fmla="*/ 54720 h 1251360"/>
                  <a:gd name="textAreaBottom" fmla="*/ 1196640 h 1251360"/>
                </a:gdLst>
                <a:ahLst/>
                <a:rect l="textAreaLeft" t="textAreaTop" r="textAreaRight" b="textAreaBottom"/>
                <a:pathLst>
                  <a:path w="21600" h="24018">
                    <a:moveTo>
                      <a:pt x="3600" y="0"/>
                    </a:moveTo>
                    <a:arcTo wR="3600" hR="3600" stAng="16200000" swAng="-5400000"/>
                    <a:lnTo>
                      <a:pt x="0" y="20418"/>
                    </a:lnTo>
                    <a:arcTo wR="3600" hR="3600" stAng="10800000" swAng="-5400000"/>
                    <a:lnTo>
                      <a:pt x="18000" y="2401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圆角矩形 29"/>
              <p:cNvSpPr/>
              <p:nvPr/>
            </p:nvSpPr>
            <p:spPr>
              <a:xfrm>
                <a:off x="55800" y="20520"/>
                <a:ext cx="1144800" cy="1238400"/>
              </a:xfrm>
              <a:custGeom>
                <a:avLst/>
                <a:gdLst>
                  <a:gd name="textAreaLeft" fmla="*/ 55800 w 1144800"/>
                  <a:gd name="textAreaRight" fmla="*/ 1089000 w 1144800"/>
                  <a:gd name="textAreaTop" fmla="*/ 55800 h 1238400"/>
                  <a:gd name="textAreaBottom" fmla="*/ 1182600 h 1238400"/>
                </a:gdLst>
                <a:ahLst/>
                <a:rect l="textAreaLeft" t="textAreaTop" r="textAreaRight" b="textAreaBottom"/>
                <a:pathLst>
                  <a:path w="21600" h="23365">
                    <a:moveTo>
                      <a:pt x="3600" y="0"/>
                    </a:moveTo>
                    <a:arcTo wR="3600" hR="3600" stAng="16200000" swAng="-5400000"/>
                    <a:lnTo>
                      <a:pt x="0" y="19765"/>
                    </a:lnTo>
                    <a:arcTo wR="3600" hR="3600" stAng="10800000" swAng="-5400000"/>
                    <a:lnTo>
                      <a:pt x="18000" y="2336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352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Box 40"/>
            <p:cNvSpPr/>
            <p:nvPr/>
          </p:nvSpPr>
          <p:spPr>
            <a:xfrm>
              <a:off x="34920" y="534600"/>
              <a:ext cx="52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44"/>
            <p:cNvSpPr/>
            <p:nvPr/>
          </p:nvSpPr>
          <p:spPr>
            <a:xfrm>
              <a:off x="34920" y="762840"/>
              <a:ext cx="112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49"/>
          <p:cNvGrpSpPr/>
          <p:nvPr/>
        </p:nvGrpSpPr>
        <p:grpSpPr>
          <a:xfrm>
            <a:off x="34920" y="1284120"/>
            <a:ext cx="1225440" cy="1278000"/>
            <a:chOff x="34920" y="1284120"/>
            <a:chExt cx="1225440" cy="1278000"/>
          </a:xfrm>
        </p:grpSpPr>
        <p:grpSp>
          <p:nvGrpSpPr>
            <p:cNvPr id="108" name="组合 30"/>
            <p:cNvGrpSpPr/>
            <p:nvPr/>
          </p:nvGrpSpPr>
          <p:grpSpPr>
            <a:xfrm>
              <a:off x="81360" y="1284120"/>
              <a:ext cx="1179000" cy="1278000"/>
              <a:chOff x="81360" y="1284120"/>
              <a:chExt cx="1179000" cy="1278000"/>
            </a:xfrm>
          </p:grpSpPr>
          <p:sp>
            <p:nvSpPr>
              <p:cNvPr id="109" name="圆角矩形 31"/>
              <p:cNvSpPr/>
              <p:nvPr/>
            </p:nvSpPr>
            <p:spPr>
              <a:xfrm>
                <a:off x="135000" y="1311480"/>
                <a:ext cx="1125360" cy="1250640"/>
              </a:xfrm>
              <a:custGeom>
                <a:avLst/>
                <a:gdLst>
                  <a:gd name="textAreaLeft" fmla="*/ 54720 w 1125360"/>
                  <a:gd name="textAreaRight" fmla="*/ 1070640 w 1125360"/>
                  <a:gd name="textAreaTop" fmla="*/ 54720 h 1250640"/>
                  <a:gd name="textAreaBottom" fmla="*/ 1195920 h 1250640"/>
                </a:gdLst>
                <a:ahLst/>
                <a:rect l="textAreaLeft" t="textAreaTop" r="textAreaRight" b="textAreaBottom"/>
                <a:pathLst>
                  <a:path w="21600" h="24004">
                    <a:moveTo>
                      <a:pt x="3600" y="0"/>
                    </a:moveTo>
                    <a:arcTo wR="3600" hR="3600" stAng="16200000" swAng="-5400000"/>
                    <a:lnTo>
                      <a:pt x="0" y="20404"/>
                    </a:lnTo>
                    <a:arcTo wR="3600" hR="3600" stAng="10800000" swAng="-5400000"/>
                    <a:lnTo>
                      <a:pt x="18000" y="2400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圆角矩形 32"/>
              <p:cNvSpPr/>
              <p:nvPr/>
            </p:nvSpPr>
            <p:spPr>
              <a:xfrm>
                <a:off x="81360" y="1284120"/>
                <a:ext cx="1125360" cy="1238040"/>
              </a:xfrm>
              <a:custGeom>
                <a:avLst/>
                <a:gdLst>
                  <a:gd name="textAreaLeft" fmla="*/ 54720 w 1125360"/>
                  <a:gd name="textAreaRight" fmla="*/ 1070640 w 1125360"/>
                  <a:gd name="textAreaTop" fmla="*/ 54720 h 1238040"/>
                  <a:gd name="textAreaBottom" fmla="*/ 1183320 h 1238040"/>
                </a:gdLst>
                <a:ahLst/>
                <a:rect l="textAreaLeft" t="textAreaTop" r="textAreaRight" b="textAreaBottom"/>
                <a:pathLst>
                  <a:path w="21600" h="23762">
                    <a:moveTo>
                      <a:pt x="3600" y="0"/>
                    </a:moveTo>
                    <a:arcTo wR="3600" hR="3600" stAng="16200000" swAng="-5400000"/>
                    <a:lnTo>
                      <a:pt x="0" y="20162"/>
                    </a:lnTo>
                    <a:arcTo wR="3600" hR="3600" stAng="10800000" swAng="-5400000"/>
                    <a:lnTo>
                      <a:pt x="18000" y="2376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1e6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TextBox 41"/>
            <p:cNvSpPr/>
            <p:nvPr/>
          </p:nvSpPr>
          <p:spPr>
            <a:xfrm>
              <a:off x="71280" y="1806120"/>
              <a:ext cx="52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45"/>
            <p:cNvSpPr/>
            <p:nvPr/>
          </p:nvSpPr>
          <p:spPr>
            <a:xfrm>
              <a:off x="34920" y="2022840"/>
              <a:ext cx="112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WH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48"/>
          <p:cNvGrpSpPr/>
          <p:nvPr/>
        </p:nvGrpSpPr>
        <p:grpSpPr>
          <a:xfrm>
            <a:off x="34920" y="2585880"/>
            <a:ext cx="1204920" cy="1278000"/>
            <a:chOff x="34920" y="2585880"/>
            <a:chExt cx="1204920" cy="1278000"/>
          </a:xfrm>
        </p:grpSpPr>
        <p:grpSp>
          <p:nvGrpSpPr>
            <p:cNvPr id="114" name="组合 33"/>
            <p:cNvGrpSpPr/>
            <p:nvPr/>
          </p:nvGrpSpPr>
          <p:grpSpPr>
            <a:xfrm>
              <a:off x="61200" y="2585880"/>
              <a:ext cx="1178640" cy="1278000"/>
              <a:chOff x="61200" y="2585880"/>
              <a:chExt cx="1178640" cy="1278000"/>
            </a:xfrm>
          </p:grpSpPr>
          <p:sp>
            <p:nvSpPr>
              <p:cNvPr id="115" name="圆角矩形 34"/>
              <p:cNvSpPr/>
              <p:nvPr/>
            </p:nvSpPr>
            <p:spPr>
              <a:xfrm>
                <a:off x="114840" y="2612160"/>
                <a:ext cx="1125000" cy="1251720"/>
              </a:xfrm>
              <a:custGeom>
                <a:avLst/>
                <a:gdLst>
                  <a:gd name="textAreaLeft" fmla="*/ 54720 w 1125000"/>
                  <a:gd name="textAreaRight" fmla="*/ 1070280 w 1125000"/>
                  <a:gd name="textAreaTop" fmla="*/ 54720 h 1251720"/>
                  <a:gd name="textAreaBottom" fmla="*/ 1197000 h 1251720"/>
                </a:gdLst>
                <a:ahLst/>
                <a:rect l="textAreaLeft" t="textAreaTop" r="textAreaRight" b="textAreaBottom"/>
                <a:pathLst>
                  <a:path w="21600" h="24032">
                    <a:moveTo>
                      <a:pt x="3600" y="0"/>
                    </a:moveTo>
                    <a:arcTo wR="3600" hR="3600" stAng="16200000" swAng="-5400000"/>
                    <a:lnTo>
                      <a:pt x="0" y="20432"/>
                    </a:lnTo>
                    <a:arcTo wR="3600" hR="3600" stAng="10800000" swAng="-5400000"/>
                    <a:lnTo>
                      <a:pt x="18000" y="2403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圆角矩形 35"/>
              <p:cNvSpPr/>
              <p:nvPr/>
            </p:nvSpPr>
            <p:spPr>
              <a:xfrm>
                <a:off x="61200" y="2585880"/>
                <a:ext cx="1125000" cy="1238760"/>
              </a:xfrm>
              <a:custGeom>
                <a:avLst/>
                <a:gdLst>
                  <a:gd name="textAreaLeft" fmla="*/ 54720 w 1125000"/>
                  <a:gd name="textAreaRight" fmla="*/ 1070280 w 1125000"/>
                  <a:gd name="textAreaTop" fmla="*/ 54720 h 1238760"/>
                  <a:gd name="textAreaBottom" fmla="*/ 1184040 h 1238760"/>
                </a:gdLst>
                <a:ahLst/>
                <a:rect l="textAreaLeft" t="textAreaTop" r="textAreaRight" b="textAreaBottom"/>
                <a:pathLst>
                  <a:path w="21600" h="23783">
                    <a:moveTo>
                      <a:pt x="3600" y="0"/>
                    </a:moveTo>
                    <a:arcTo wR="3600" hR="3600" stAng="16200000" swAng="-5400000"/>
                    <a:lnTo>
                      <a:pt x="0" y="20183"/>
                    </a:lnTo>
                    <a:arcTo wR="3600" hR="3600" stAng="10800000" swAng="-5400000"/>
                    <a:lnTo>
                      <a:pt x="18000" y="2378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2a8f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TextBox 42"/>
            <p:cNvSpPr/>
            <p:nvPr/>
          </p:nvSpPr>
          <p:spPr>
            <a:xfrm>
              <a:off x="51120" y="3104640"/>
              <a:ext cx="52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46"/>
            <p:cNvSpPr/>
            <p:nvPr/>
          </p:nvSpPr>
          <p:spPr>
            <a:xfrm>
              <a:off x="34920" y="3321360"/>
              <a:ext cx="111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WH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1"/>
          <p:cNvGrpSpPr/>
          <p:nvPr/>
        </p:nvGrpSpPr>
        <p:grpSpPr>
          <a:xfrm>
            <a:off x="34920" y="3886200"/>
            <a:ext cx="1171440" cy="1278000"/>
            <a:chOff x="34920" y="3886200"/>
            <a:chExt cx="1171440" cy="1278000"/>
          </a:xfrm>
        </p:grpSpPr>
        <p:grpSp>
          <p:nvGrpSpPr>
            <p:cNvPr id="120" name="组合 36"/>
            <p:cNvGrpSpPr/>
            <p:nvPr/>
          </p:nvGrpSpPr>
          <p:grpSpPr>
            <a:xfrm>
              <a:off x="34920" y="3886200"/>
              <a:ext cx="1171440" cy="1278000"/>
              <a:chOff x="34920" y="3886200"/>
              <a:chExt cx="1171440" cy="1278000"/>
            </a:xfrm>
          </p:grpSpPr>
          <p:sp>
            <p:nvSpPr>
              <p:cNvPr id="121" name="圆角矩形 37"/>
              <p:cNvSpPr/>
              <p:nvPr/>
            </p:nvSpPr>
            <p:spPr>
              <a:xfrm>
                <a:off x="82080" y="3912480"/>
                <a:ext cx="1124280" cy="1251720"/>
              </a:xfrm>
              <a:custGeom>
                <a:avLst/>
                <a:gdLst>
                  <a:gd name="textAreaLeft" fmla="*/ 54720 w 1124280"/>
                  <a:gd name="textAreaRight" fmla="*/ 1069560 w 1124280"/>
                  <a:gd name="textAreaTop" fmla="*/ 54720 h 1251720"/>
                  <a:gd name="textAreaBottom" fmla="*/ 1197000 h 1251720"/>
                </a:gdLst>
                <a:ahLst/>
                <a:rect l="textAreaLeft" t="textAreaTop" r="textAreaRight" b="textAreaBottom"/>
                <a:pathLst>
                  <a:path w="21600" h="24048">
                    <a:moveTo>
                      <a:pt x="3600" y="0"/>
                    </a:moveTo>
                    <a:arcTo wR="3600" hR="3600" stAng="16200000" swAng="-5400000"/>
                    <a:lnTo>
                      <a:pt x="0" y="20448"/>
                    </a:lnTo>
                    <a:arcTo wR="3600" hR="3600" stAng="10800000" swAng="-5400000"/>
                    <a:lnTo>
                      <a:pt x="18000" y="2404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圆角矩形 38"/>
              <p:cNvSpPr/>
              <p:nvPr/>
            </p:nvSpPr>
            <p:spPr>
              <a:xfrm>
                <a:off x="34920" y="3886200"/>
                <a:ext cx="1124280" cy="1239120"/>
              </a:xfrm>
              <a:custGeom>
                <a:avLst/>
                <a:gdLst>
                  <a:gd name="textAreaLeft" fmla="*/ 54720 w 1124280"/>
                  <a:gd name="textAreaRight" fmla="*/ 1069560 w 1124280"/>
                  <a:gd name="textAreaTop" fmla="*/ 54720 h 1239120"/>
                  <a:gd name="textAreaBottom" fmla="*/ 1184400 h 1239120"/>
                </a:gdLst>
                <a:ahLst/>
                <a:rect l="textAreaLeft" t="textAreaTop" r="textAreaRight" b="textAreaBottom"/>
                <a:pathLst>
                  <a:path w="21600" h="23806">
                    <a:moveTo>
                      <a:pt x="3600" y="0"/>
                    </a:moveTo>
                    <a:arcTo wR="3600" hR="3600" stAng="16200000" swAng="-5400000"/>
                    <a:lnTo>
                      <a:pt x="0" y="20206"/>
                    </a:lnTo>
                    <a:arcTo wR="3600" hR="3600" stAng="10800000" swAng="-5400000"/>
                    <a:lnTo>
                      <a:pt x="18000" y="2380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44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TextBox 43"/>
            <p:cNvSpPr/>
            <p:nvPr/>
          </p:nvSpPr>
          <p:spPr>
            <a:xfrm>
              <a:off x="52200" y="4408920"/>
              <a:ext cx="52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47"/>
            <p:cNvSpPr/>
            <p:nvPr/>
          </p:nvSpPr>
          <p:spPr>
            <a:xfrm>
              <a:off x="58680" y="4614480"/>
              <a:ext cx="111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H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图表 1" descr=""/>
          <p:cNvPicPr/>
          <p:nvPr/>
        </p:nvPicPr>
        <p:blipFill>
          <a:blip r:embed="rId2"/>
          <a:stretch/>
        </p:blipFill>
        <p:spPr>
          <a:xfrm>
            <a:off x="1835280" y="339840"/>
            <a:ext cx="6095880" cy="40640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"/>
          <p:cNvSpPr/>
          <p:nvPr/>
        </p:nvSpPr>
        <p:spPr>
          <a:xfrm>
            <a:off x="6899400" y="1434960"/>
            <a:ext cx="504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435258"/>
                </a:solidFill>
                <a:latin typeface="微软雅黑"/>
                <a:ea typeface="微软雅黑"/>
              </a:rPr>
              <a:t>请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2411280" y="1616040"/>
            <a:ext cx="505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35258"/>
                </a:solidFill>
                <a:latin typeface="微软雅黑"/>
                <a:ea typeface="微软雅黑"/>
              </a:rPr>
              <a:t>请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组合 50"/>
          <p:cNvGrpSpPr/>
          <p:nvPr/>
        </p:nvGrpSpPr>
        <p:grpSpPr>
          <a:xfrm>
            <a:off x="34920" y="20520"/>
            <a:ext cx="1219320" cy="1281240"/>
            <a:chOff x="34920" y="20520"/>
            <a:chExt cx="1219320" cy="1281240"/>
          </a:xfrm>
        </p:grpSpPr>
        <p:grpSp>
          <p:nvGrpSpPr>
            <p:cNvPr id="129" name="组合 27"/>
            <p:cNvGrpSpPr/>
            <p:nvPr/>
          </p:nvGrpSpPr>
          <p:grpSpPr>
            <a:xfrm>
              <a:off x="55800" y="20520"/>
              <a:ext cx="1198440" cy="1281240"/>
              <a:chOff x="55800" y="20520"/>
              <a:chExt cx="1198440" cy="1281240"/>
            </a:xfrm>
          </p:grpSpPr>
          <p:sp>
            <p:nvSpPr>
              <p:cNvPr id="130" name="圆角矩形 28"/>
              <p:cNvSpPr/>
              <p:nvPr/>
            </p:nvSpPr>
            <p:spPr>
              <a:xfrm>
                <a:off x="128880" y="50400"/>
                <a:ext cx="1125360" cy="1251360"/>
              </a:xfrm>
              <a:custGeom>
                <a:avLst/>
                <a:gdLst>
                  <a:gd name="textAreaLeft" fmla="*/ 54720 w 1125360"/>
                  <a:gd name="textAreaRight" fmla="*/ 1070640 w 1125360"/>
                  <a:gd name="textAreaTop" fmla="*/ 54720 h 1251360"/>
                  <a:gd name="textAreaBottom" fmla="*/ 1196640 h 1251360"/>
                </a:gdLst>
                <a:ahLst/>
                <a:rect l="textAreaLeft" t="textAreaTop" r="textAreaRight" b="textAreaBottom"/>
                <a:pathLst>
                  <a:path w="21600" h="24018">
                    <a:moveTo>
                      <a:pt x="3600" y="0"/>
                    </a:moveTo>
                    <a:arcTo wR="3600" hR="3600" stAng="16200000" swAng="-5400000"/>
                    <a:lnTo>
                      <a:pt x="0" y="20418"/>
                    </a:lnTo>
                    <a:arcTo wR="3600" hR="3600" stAng="10800000" swAng="-5400000"/>
                    <a:lnTo>
                      <a:pt x="18000" y="2401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圆角矩形 29"/>
              <p:cNvSpPr/>
              <p:nvPr/>
            </p:nvSpPr>
            <p:spPr>
              <a:xfrm>
                <a:off x="55800" y="20520"/>
                <a:ext cx="1144800" cy="1238400"/>
              </a:xfrm>
              <a:custGeom>
                <a:avLst/>
                <a:gdLst>
                  <a:gd name="textAreaLeft" fmla="*/ 55800 w 1144800"/>
                  <a:gd name="textAreaRight" fmla="*/ 1089000 w 1144800"/>
                  <a:gd name="textAreaTop" fmla="*/ 55800 h 1238400"/>
                  <a:gd name="textAreaBottom" fmla="*/ 1182600 h 1238400"/>
                </a:gdLst>
                <a:ahLst/>
                <a:rect l="textAreaLeft" t="textAreaTop" r="textAreaRight" b="textAreaBottom"/>
                <a:pathLst>
                  <a:path w="21600" h="23365">
                    <a:moveTo>
                      <a:pt x="3600" y="0"/>
                    </a:moveTo>
                    <a:arcTo wR="3600" hR="3600" stAng="16200000" swAng="-5400000"/>
                    <a:lnTo>
                      <a:pt x="0" y="19765"/>
                    </a:lnTo>
                    <a:arcTo wR="3600" hR="3600" stAng="10800000" swAng="-5400000"/>
                    <a:lnTo>
                      <a:pt x="18000" y="2336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352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TextBox 40"/>
            <p:cNvSpPr/>
            <p:nvPr/>
          </p:nvSpPr>
          <p:spPr>
            <a:xfrm>
              <a:off x="34920" y="534600"/>
              <a:ext cx="52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44"/>
            <p:cNvSpPr/>
            <p:nvPr/>
          </p:nvSpPr>
          <p:spPr>
            <a:xfrm>
              <a:off x="34920" y="762840"/>
              <a:ext cx="112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组合 49"/>
          <p:cNvGrpSpPr/>
          <p:nvPr/>
        </p:nvGrpSpPr>
        <p:grpSpPr>
          <a:xfrm>
            <a:off x="34920" y="1284120"/>
            <a:ext cx="1225440" cy="1278000"/>
            <a:chOff x="34920" y="1284120"/>
            <a:chExt cx="1225440" cy="1278000"/>
          </a:xfrm>
        </p:grpSpPr>
        <p:grpSp>
          <p:nvGrpSpPr>
            <p:cNvPr id="135" name="组合 30"/>
            <p:cNvGrpSpPr/>
            <p:nvPr/>
          </p:nvGrpSpPr>
          <p:grpSpPr>
            <a:xfrm>
              <a:off x="81360" y="1284120"/>
              <a:ext cx="1179000" cy="1278000"/>
              <a:chOff x="81360" y="1284120"/>
              <a:chExt cx="1179000" cy="1278000"/>
            </a:xfrm>
          </p:grpSpPr>
          <p:sp>
            <p:nvSpPr>
              <p:cNvPr id="136" name="圆角矩形 31"/>
              <p:cNvSpPr/>
              <p:nvPr/>
            </p:nvSpPr>
            <p:spPr>
              <a:xfrm>
                <a:off x="135000" y="1311480"/>
                <a:ext cx="1125360" cy="1250640"/>
              </a:xfrm>
              <a:custGeom>
                <a:avLst/>
                <a:gdLst>
                  <a:gd name="textAreaLeft" fmla="*/ 54720 w 1125360"/>
                  <a:gd name="textAreaRight" fmla="*/ 1070640 w 1125360"/>
                  <a:gd name="textAreaTop" fmla="*/ 54720 h 1250640"/>
                  <a:gd name="textAreaBottom" fmla="*/ 1195920 h 1250640"/>
                </a:gdLst>
                <a:ahLst/>
                <a:rect l="textAreaLeft" t="textAreaTop" r="textAreaRight" b="textAreaBottom"/>
                <a:pathLst>
                  <a:path w="21600" h="24004">
                    <a:moveTo>
                      <a:pt x="3600" y="0"/>
                    </a:moveTo>
                    <a:arcTo wR="3600" hR="3600" stAng="16200000" swAng="-5400000"/>
                    <a:lnTo>
                      <a:pt x="0" y="20404"/>
                    </a:lnTo>
                    <a:arcTo wR="3600" hR="3600" stAng="10800000" swAng="-5400000"/>
                    <a:lnTo>
                      <a:pt x="18000" y="2400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圆角矩形 32"/>
              <p:cNvSpPr/>
              <p:nvPr/>
            </p:nvSpPr>
            <p:spPr>
              <a:xfrm>
                <a:off x="81360" y="1284120"/>
                <a:ext cx="1125360" cy="1238040"/>
              </a:xfrm>
              <a:custGeom>
                <a:avLst/>
                <a:gdLst>
                  <a:gd name="textAreaLeft" fmla="*/ 54720 w 1125360"/>
                  <a:gd name="textAreaRight" fmla="*/ 1070640 w 1125360"/>
                  <a:gd name="textAreaTop" fmla="*/ 54720 h 1238040"/>
                  <a:gd name="textAreaBottom" fmla="*/ 1183320 h 1238040"/>
                </a:gdLst>
                <a:ahLst/>
                <a:rect l="textAreaLeft" t="textAreaTop" r="textAreaRight" b="textAreaBottom"/>
                <a:pathLst>
                  <a:path w="21600" h="23762">
                    <a:moveTo>
                      <a:pt x="3600" y="0"/>
                    </a:moveTo>
                    <a:arcTo wR="3600" hR="3600" stAng="16200000" swAng="-5400000"/>
                    <a:lnTo>
                      <a:pt x="0" y="20162"/>
                    </a:lnTo>
                    <a:arcTo wR="3600" hR="3600" stAng="10800000" swAng="-5400000"/>
                    <a:lnTo>
                      <a:pt x="18000" y="2376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1e6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TextBox 41"/>
            <p:cNvSpPr/>
            <p:nvPr/>
          </p:nvSpPr>
          <p:spPr>
            <a:xfrm>
              <a:off x="71280" y="1806120"/>
              <a:ext cx="52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Box 45"/>
            <p:cNvSpPr/>
            <p:nvPr/>
          </p:nvSpPr>
          <p:spPr>
            <a:xfrm>
              <a:off x="34920" y="2022840"/>
              <a:ext cx="112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WH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组合 48"/>
          <p:cNvGrpSpPr/>
          <p:nvPr/>
        </p:nvGrpSpPr>
        <p:grpSpPr>
          <a:xfrm>
            <a:off x="34920" y="2585880"/>
            <a:ext cx="1204920" cy="1278000"/>
            <a:chOff x="34920" y="2585880"/>
            <a:chExt cx="1204920" cy="1278000"/>
          </a:xfrm>
        </p:grpSpPr>
        <p:grpSp>
          <p:nvGrpSpPr>
            <p:cNvPr id="141" name="组合 33"/>
            <p:cNvGrpSpPr/>
            <p:nvPr/>
          </p:nvGrpSpPr>
          <p:grpSpPr>
            <a:xfrm>
              <a:off x="61200" y="2585880"/>
              <a:ext cx="1178640" cy="1278000"/>
              <a:chOff x="61200" y="2585880"/>
              <a:chExt cx="1178640" cy="1278000"/>
            </a:xfrm>
          </p:grpSpPr>
          <p:sp>
            <p:nvSpPr>
              <p:cNvPr id="142" name="圆角矩形 34"/>
              <p:cNvSpPr/>
              <p:nvPr/>
            </p:nvSpPr>
            <p:spPr>
              <a:xfrm>
                <a:off x="114840" y="2612160"/>
                <a:ext cx="1125000" cy="1251720"/>
              </a:xfrm>
              <a:custGeom>
                <a:avLst/>
                <a:gdLst>
                  <a:gd name="textAreaLeft" fmla="*/ 54720 w 1125000"/>
                  <a:gd name="textAreaRight" fmla="*/ 1070280 w 1125000"/>
                  <a:gd name="textAreaTop" fmla="*/ 54720 h 1251720"/>
                  <a:gd name="textAreaBottom" fmla="*/ 1197000 h 1251720"/>
                </a:gdLst>
                <a:ahLst/>
                <a:rect l="textAreaLeft" t="textAreaTop" r="textAreaRight" b="textAreaBottom"/>
                <a:pathLst>
                  <a:path w="21600" h="24032">
                    <a:moveTo>
                      <a:pt x="3600" y="0"/>
                    </a:moveTo>
                    <a:arcTo wR="3600" hR="3600" stAng="16200000" swAng="-5400000"/>
                    <a:lnTo>
                      <a:pt x="0" y="20432"/>
                    </a:lnTo>
                    <a:arcTo wR="3600" hR="3600" stAng="10800000" swAng="-5400000"/>
                    <a:lnTo>
                      <a:pt x="18000" y="2403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圆角矩形 35"/>
              <p:cNvSpPr/>
              <p:nvPr/>
            </p:nvSpPr>
            <p:spPr>
              <a:xfrm>
                <a:off x="61200" y="2585880"/>
                <a:ext cx="1125000" cy="1238760"/>
              </a:xfrm>
              <a:custGeom>
                <a:avLst/>
                <a:gdLst>
                  <a:gd name="textAreaLeft" fmla="*/ 54720 w 1125000"/>
                  <a:gd name="textAreaRight" fmla="*/ 1070280 w 1125000"/>
                  <a:gd name="textAreaTop" fmla="*/ 54720 h 1238760"/>
                  <a:gd name="textAreaBottom" fmla="*/ 1184040 h 1238760"/>
                </a:gdLst>
                <a:ahLst/>
                <a:rect l="textAreaLeft" t="textAreaTop" r="textAreaRight" b="textAreaBottom"/>
                <a:pathLst>
                  <a:path w="21600" h="23783">
                    <a:moveTo>
                      <a:pt x="3600" y="0"/>
                    </a:moveTo>
                    <a:arcTo wR="3600" hR="3600" stAng="16200000" swAng="-5400000"/>
                    <a:lnTo>
                      <a:pt x="0" y="20183"/>
                    </a:lnTo>
                    <a:arcTo wR="3600" hR="3600" stAng="10800000" swAng="-5400000"/>
                    <a:lnTo>
                      <a:pt x="18000" y="2378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2a8f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TextBox 42"/>
            <p:cNvSpPr/>
            <p:nvPr/>
          </p:nvSpPr>
          <p:spPr>
            <a:xfrm>
              <a:off x="51120" y="3104640"/>
              <a:ext cx="52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46"/>
            <p:cNvSpPr/>
            <p:nvPr/>
          </p:nvSpPr>
          <p:spPr>
            <a:xfrm>
              <a:off x="34920" y="3321360"/>
              <a:ext cx="111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WH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组合 1"/>
          <p:cNvGrpSpPr/>
          <p:nvPr/>
        </p:nvGrpSpPr>
        <p:grpSpPr>
          <a:xfrm>
            <a:off x="34920" y="3886200"/>
            <a:ext cx="1171440" cy="1278000"/>
            <a:chOff x="34920" y="3886200"/>
            <a:chExt cx="1171440" cy="1278000"/>
          </a:xfrm>
        </p:grpSpPr>
        <p:grpSp>
          <p:nvGrpSpPr>
            <p:cNvPr id="147" name="组合 36"/>
            <p:cNvGrpSpPr/>
            <p:nvPr/>
          </p:nvGrpSpPr>
          <p:grpSpPr>
            <a:xfrm>
              <a:off x="34920" y="3886200"/>
              <a:ext cx="1171440" cy="1278000"/>
              <a:chOff x="34920" y="3886200"/>
              <a:chExt cx="1171440" cy="1278000"/>
            </a:xfrm>
          </p:grpSpPr>
          <p:sp>
            <p:nvSpPr>
              <p:cNvPr id="148" name="圆角矩形 37"/>
              <p:cNvSpPr/>
              <p:nvPr/>
            </p:nvSpPr>
            <p:spPr>
              <a:xfrm>
                <a:off x="82080" y="3912480"/>
                <a:ext cx="1124280" cy="1251720"/>
              </a:xfrm>
              <a:custGeom>
                <a:avLst/>
                <a:gdLst>
                  <a:gd name="textAreaLeft" fmla="*/ 54720 w 1124280"/>
                  <a:gd name="textAreaRight" fmla="*/ 1069560 w 1124280"/>
                  <a:gd name="textAreaTop" fmla="*/ 54720 h 1251720"/>
                  <a:gd name="textAreaBottom" fmla="*/ 1197000 h 1251720"/>
                </a:gdLst>
                <a:ahLst/>
                <a:rect l="textAreaLeft" t="textAreaTop" r="textAreaRight" b="textAreaBottom"/>
                <a:pathLst>
                  <a:path w="21600" h="24048">
                    <a:moveTo>
                      <a:pt x="3600" y="0"/>
                    </a:moveTo>
                    <a:arcTo wR="3600" hR="3600" stAng="16200000" swAng="-5400000"/>
                    <a:lnTo>
                      <a:pt x="0" y="20448"/>
                    </a:lnTo>
                    <a:arcTo wR="3600" hR="3600" stAng="10800000" swAng="-5400000"/>
                    <a:lnTo>
                      <a:pt x="18000" y="2404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圆角矩形 38"/>
              <p:cNvSpPr/>
              <p:nvPr/>
            </p:nvSpPr>
            <p:spPr>
              <a:xfrm>
                <a:off x="34920" y="3886200"/>
                <a:ext cx="1124280" cy="1239120"/>
              </a:xfrm>
              <a:custGeom>
                <a:avLst/>
                <a:gdLst>
                  <a:gd name="textAreaLeft" fmla="*/ 54720 w 1124280"/>
                  <a:gd name="textAreaRight" fmla="*/ 1069560 w 1124280"/>
                  <a:gd name="textAreaTop" fmla="*/ 54720 h 1239120"/>
                  <a:gd name="textAreaBottom" fmla="*/ 1184400 h 1239120"/>
                </a:gdLst>
                <a:ahLst/>
                <a:rect l="textAreaLeft" t="textAreaTop" r="textAreaRight" b="textAreaBottom"/>
                <a:pathLst>
                  <a:path w="21600" h="23806">
                    <a:moveTo>
                      <a:pt x="3600" y="0"/>
                    </a:moveTo>
                    <a:arcTo wR="3600" hR="3600" stAng="16200000" swAng="-5400000"/>
                    <a:lnTo>
                      <a:pt x="0" y="20206"/>
                    </a:lnTo>
                    <a:arcTo wR="3600" hR="3600" stAng="10800000" swAng="-5400000"/>
                    <a:lnTo>
                      <a:pt x="18000" y="2380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44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TextBox 43"/>
            <p:cNvSpPr/>
            <p:nvPr/>
          </p:nvSpPr>
          <p:spPr>
            <a:xfrm>
              <a:off x="52200" y="4408920"/>
              <a:ext cx="52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47"/>
            <p:cNvSpPr/>
            <p:nvPr/>
          </p:nvSpPr>
          <p:spPr>
            <a:xfrm>
              <a:off x="58680" y="4614480"/>
              <a:ext cx="111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H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椭圆 3"/>
          <p:cNvSpPr/>
          <p:nvPr/>
        </p:nvSpPr>
        <p:spPr>
          <a:xfrm>
            <a:off x="3511440" y="915840"/>
            <a:ext cx="3313080" cy="3311640"/>
          </a:xfrm>
          <a:prstGeom prst="ellipse">
            <a:avLst/>
          </a:prstGeom>
          <a:solidFill>
            <a:srgbClr val="31859b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椭圆 2"/>
          <p:cNvSpPr/>
          <p:nvPr/>
        </p:nvSpPr>
        <p:spPr>
          <a:xfrm>
            <a:off x="3921120" y="1324080"/>
            <a:ext cx="2494080" cy="2493720"/>
          </a:xfrm>
          <a:prstGeom prst="ellipse">
            <a:avLst/>
          </a:prstGeom>
          <a:solidFill>
            <a:srgbClr val="1e6787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椭圆 1"/>
          <p:cNvSpPr/>
          <p:nvPr/>
        </p:nvSpPr>
        <p:spPr>
          <a:xfrm>
            <a:off x="4457880" y="1862280"/>
            <a:ext cx="1420560" cy="1419120"/>
          </a:xfrm>
          <a:prstGeom prst="ellipse">
            <a:avLst/>
          </a:prstGeom>
          <a:solidFill>
            <a:srgbClr val="43525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椭圆 5"/>
          <p:cNvSpPr/>
          <p:nvPr/>
        </p:nvSpPr>
        <p:spPr>
          <a:xfrm>
            <a:off x="4970520" y="2373480"/>
            <a:ext cx="396720" cy="396720"/>
          </a:xfrm>
          <a:prstGeom prst="ellipse">
            <a:avLst/>
          </a:prstGeom>
          <a:solidFill>
            <a:srgbClr val="e4486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16"/>
          <p:cNvSpPr/>
          <p:nvPr/>
        </p:nvSpPr>
        <p:spPr>
          <a:xfrm>
            <a:off x="5670720" y="3073320"/>
            <a:ext cx="1153800" cy="1154160"/>
          </a:xfrm>
          <a:prstGeom prst="line">
            <a:avLst/>
          </a:prstGeom>
          <a:ln w="19080">
            <a:solidFill>
              <a:srgbClr val="4352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22"/>
          <p:cNvSpPr/>
          <p:nvPr/>
        </p:nvSpPr>
        <p:spPr>
          <a:xfrm flipH="1">
            <a:off x="5308200" y="915840"/>
            <a:ext cx="1515960" cy="1516320"/>
          </a:xfrm>
          <a:prstGeom prst="line">
            <a:avLst/>
          </a:prstGeom>
          <a:ln w="19080">
            <a:solidFill>
              <a:srgbClr val="e448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接连接符 27"/>
          <p:cNvSpPr/>
          <p:nvPr/>
        </p:nvSpPr>
        <p:spPr>
          <a:xfrm flipH="1">
            <a:off x="1568160" y="915840"/>
            <a:ext cx="1942920" cy="0"/>
          </a:xfrm>
          <a:prstGeom prst="line">
            <a:avLst/>
          </a:prstGeom>
          <a:ln w="19080">
            <a:solidFill>
              <a:srgbClr val="2a8f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28"/>
          <p:cNvSpPr/>
          <p:nvPr/>
        </p:nvSpPr>
        <p:spPr>
          <a:xfrm flipH="1">
            <a:off x="1547280" y="4218120"/>
            <a:ext cx="1963800" cy="9360"/>
          </a:xfrm>
          <a:prstGeom prst="line">
            <a:avLst/>
          </a:prstGeom>
          <a:ln w="19080">
            <a:solidFill>
              <a:srgbClr val="1e67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接连接符 29"/>
          <p:cNvSpPr/>
          <p:nvPr/>
        </p:nvSpPr>
        <p:spPr>
          <a:xfrm flipH="1">
            <a:off x="6824520" y="915840"/>
            <a:ext cx="2160720" cy="0"/>
          </a:xfrm>
          <a:prstGeom prst="line">
            <a:avLst/>
          </a:prstGeom>
          <a:ln w="19080">
            <a:solidFill>
              <a:srgbClr val="e448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30"/>
          <p:cNvSpPr/>
          <p:nvPr/>
        </p:nvSpPr>
        <p:spPr>
          <a:xfrm flipH="1">
            <a:off x="6824520" y="4218120"/>
            <a:ext cx="2160720" cy="9360"/>
          </a:xfrm>
          <a:prstGeom prst="line">
            <a:avLst/>
          </a:prstGeom>
          <a:ln w="19080">
            <a:solidFill>
              <a:srgbClr val="4352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直接连接符 31"/>
          <p:cNvSpPr/>
          <p:nvPr/>
        </p:nvSpPr>
        <p:spPr>
          <a:xfrm flipH="1">
            <a:off x="3511440" y="3452760"/>
            <a:ext cx="774720" cy="774720"/>
          </a:xfrm>
          <a:prstGeom prst="line">
            <a:avLst/>
          </a:prstGeom>
          <a:ln w="19080">
            <a:solidFill>
              <a:srgbClr val="1e67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直接连接符 34"/>
          <p:cNvSpPr/>
          <p:nvPr/>
        </p:nvSpPr>
        <p:spPr>
          <a:xfrm>
            <a:off x="3511440" y="915840"/>
            <a:ext cx="486000" cy="484200"/>
          </a:xfrm>
          <a:prstGeom prst="line">
            <a:avLst/>
          </a:prstGeom>
          <a:ln w="19080">
            <a:solidFill>
              <a:srgbClr val="2a8f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7"/>
          <p:cNvSpPr/>
          <p:nvPr/>
        </p:nvSpPr>
        <p:spPr>
          <a:xfrm>
            <a:off x="6769080" y="97776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44860"/>
                </a:solidFill>
                <a:latin typeface="微软雅黑"/>
                <a:ea typeface="微软雅黑"/>
              </a:rPr>
              <a:t>请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9"/>
          <p:cNvSpPr/>
          <p:nvPr/>
        </p:nvSpPr>
        <p:spPr>
          <a:xfrm>
            <a:off x="6804000" y="38257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35258"/>
                </a:solidFill>
                <a:latin typeface="微软雅黑"/>
                <a:ea typeface="微软雅黑"/>
              </a:rPr>
              <a:t>请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1"/>
          <p:cNvSpPr/>
          <p:nvPr/>
        </p:nvSpPr>
        <p:spPr>
          <a:xfrm>
            <a:off x="1260360" y="379584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e6787"/>
                </a:solidFill>
                <a:latin typeface="微软雅黑"/>
                <a:ea typeface="微软雅黑"/>
              </a:rPr>
              <a:t>请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2"/>
          <p:cNvSpPr/>
          <p:nvPr/>
        </p:nvSpPr>
        <p:spPr>
          <a:xfrm>
            <a:off x="1368360" y="97776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8fbd"/>
                </a:solidFill>
                <a:latin typeface="微软雅黑"/>
                <a:ea typeface="微软雅黑"/>
              </a:rPr>
              <a:t>请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6"/>
          <p:cNvSpPr/>
          <p:nvPr/>
        </p:nvSpPr>
        <p:spPr>
          <a:xfrm>
            <a:off x="1260360" y="430992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e6787"/>
                </a:solidFill>
                <a:latin typeface="微软雅黑"/>
                <a:ea typeface="微软雅黑"/>
              </a:rPr>
              <a:t>请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7"/>
          <p:cNvSpPr/>
          <p:nvPr/>
        </p:nvSpPr>
        <p:spPr>
          <a:xfrm>
            <a:off x="6661080" y="43099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35258"/>
                </a:solidFill>
                <a:latin typeface="微软雅黑"/>
                <a:ea typeface="微软雅黑"/>
              </a:rPr>
              <a:t>请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8"/>
          <p:cNvSpPr/>
          <p:nvPr/>
        </p:nvSpPr>
        <p:spPr>
          <a:xfrm>
            <a:off x="6661080" y="53028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44860"/>
                </a:solidFill>
                <a:latin typeface="微软雅黑"/>
                <a:ea typeface="微软雅黑"/>
              </a:rPr>
              <a:t>请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9"/>
          <p:cNvSpPr/>
          <p:nvPr/>
        </p:nvSpPr>
        <p:spPr>
          <a:xfrm>
            <a:off x="1260360" y="53028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8fbd"/>
                </a:solidFill>
                <a:latin typeface="微软雅黑"/>
                <a:ea typeface="微软雅黑"/>
              </a:rPr>
              <a:t>请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斜纹 11"/>
          <p:cNvSpPr/>
          <p:nvPr/>
        </p:nvSpPr>
        <p:spPr>
          <a:xfrm flipV="1" rot="16200000">
            <a:off x="3951000" y="-47880"/>
            <a:ext cx="1227240" cy="9155160"/>
          </a:xfrm>
          <a:custGeom>
            <a:avLst/>
            <a:gdLst>
              <a:gd name="textAreaLeft" fmla="*/ 0 w 1227240"/>
              <a:gd name="textAreaRight" fmla="*/ 1227600 w 1227240"/>
              <a:gd name="textAreaTop" fmla="*/ -360 h 9155160"/>
              <a:gd name="textAreaBottom" fmla="*/ 9155160 h 9155160"/>
            </a:gdLst>
            <a:ahLst/>
            <a:rect l="textAreaLeft" t="textAreaTop" r="textAreaRight" b="textAreaBottom"/>
            <a:pathLst>
              <a:path w="1227148" h="9158491">
                <a:moveTo>
                  <a:pt x="867109" y="556322"/>
                </a:moveTo>
                <a:cubicBezTo>
                  <a:pt x="867109" y="496669"/>
                  <a:pt x="915468" y="448310"/>
                  <a:pt x="975121" y="448310"/>
                </a:cubicBezTo>
                <a:cubicBezTo>
                  <a:pt x="1034774" y="448310"/>
                  <a:pt x="1083133" y="496669"/>
                  <a:pt x="1083133" y="556322"/>
                </a:cubicBezTo>
                <a:cubicBezTo>
                  <a:pt x="1083133" y="615975"/>
                  <a:pt x="1034774" y="664334"/>
                  <a:pt x="975121" y="664334"/>
                </a:cubicBezTo>
                <a:cubicBezTo>
                  <a:pt x="915468" y="664334"/>
                  <a:pt x="867109" y="615975"/>
                  <a:pt x="867109" y="556322"/>
                </a:cubicBezTo>
                <a:close/>
                <a:moveTo>
                  <a:pt x="723093" y="1708847"/>
                </a:moveTo>
                <a:cubicBezTo>
                  <a:pt x="723093" y="1649194"/>
                  <a:pt x="771452" y="1600835"/>
                  <a:pt x="831105" y="1600835"/>
                </a:cubicBezTo>
                <a:cubicBezTo>
                  <a:pt x="890758" y="1600835"/>
                  <a:pt x="939117" y="1649194"/>
                  <a:pt x="939117" y="1708847"/>
                </a:cubicBezTo>
                <a:cubicBezTo>
                  <a:pt x="939117" y="1768500"/>
                  <a:pt x="890758" y="1816859"/>
                  <a:pt x="831105" y="1816859"/>
                </a:cubicBezTo>
                <a:cubicBezTo>
                  <a:pt x="771452" y="1816859"/>
                  <a:pt x="723093" y="1768500"/>
                  <a:pt x="723093" y="1708847"/>
                </a:cubicBezTo>
                <a:close/>
                <a:moveTo>
                  <a:pt x="506428" y="1130767"/>
                </a:moveTo>
                <a:cubicBezTo>
                  <a:pt x="506428" y="1071114"/>
                  <a:pt x="554787" y="1022755"/>
                  <a:pt x="614440" y="1022755"/>
                </a:cubicBezTo>
                <a:cubicBezTo>
                  <a:pt x="674093" y="1022755"/>
                  <a:pt x="722452" y="1071114"/>
                  <a:pt x="722452" y="1130767"/>
                </a:cubicBezTo>
                <a:cubicBezTo>
                  <a:pt x="722452" y="1190420"/>
                  <a:pt x="674093" y="1238779"/>
                  <a:pt x="614440" y="1238779"/>
                </a:cubicBezTo>
                <a:cubicBezTo>
                  <a:pt x="554787" y="1238779"/>
                  <a:pt x="506428" y="1190420"/>
                  <a:pt x="506428" y="1130767"/>
                </a:cubicBezTo>
                <a:close/>
                <a:moveTo>
                  <a:pt x="363052" y="2285110"/>
                </a:moveTo>
                <a:cubicBezTo>
                  <a:pt x="363053" y="2225457"/>
                  <a:pt x="411412" y="2177098"/>
                  <a:pt x="471065" y="2177098"/>
                </a:cubicBezTo>
                <a:cubicBezTo>
                  <a:pt x="530718" y="2177098"/>
                  <a:pt x="579077" y="2225457"/>
                  <a:pt x="579077" y="2285110"/>
                </a:cubicBezTo>
                <a:cubicBezTo>
                  <a:pt x="579077" y="2344763"/>
                  <a:pt x="530718" y="2393122"/>
                  <a:pt x="471065" y="2393122"/>
                </a:cubicBezTo>
                <a:cubicBezTo>
                  <a:pt x="411412" y="2393122"/>
                  <a:pt x="363053" y="2344763"/>
                  <a:pt x="363052" y="2285110"/>
                </a:cubicBezTo>
                <a:close/>
                <a:moveTo>
                  <a:pt x="0" y="4579246"/>
                </a:moveTo>
                <a:lnTo>
                  <a:pt x="0" y="9158491"/>
                </a:lnTo>
                <a:lnTo>
                  <a:pt x="1227148" y="0"/>
                </a:lnTo>
                <a:lnTo>
                  <a:pt x="613574" y="0"/>
                </a:lnTo>
                <a:lnTo>
                  <a:pt x="0" y="4579246"/>
                </a:lnTo>
                <a:close/>
              </a:path>
            </a:pathLst>
          </a:custGeom>
          <a:solidFill>
            <a:srgbClr val="2a8fbd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斜纹 11"/>
          <p:cNvSpPr/>
          <p:nvPr/>
        </p:nvSpPr>
        <p:spPr>
          <a:xfrm flipH="1" rot="16200000">
            <a:off x="3951720" y="-3981240"/>
            <a:ext cx="1224000" cy="9155160"/>
          </a:xfrm>
          <a:custGeom>
            <a:avLst/>
            <a:gdLst>
              <a:gd name="textAreaLeft" fmla="*/ 360 w 1224000"/>
              <a:gd name="textAreaRight" fmla="*/ 1224720 w 1224000"/>
              <a:gd name="textAreaTop" fmla="*/ 0 h 9155160"/>
              <a:gd name="textAreaBottom" fmla="*/ 9155520 h 9155160"/>
            </a:gdLst>
            <a:ahLst/>
            <a:rect l="textAreaLeft" t="textAreaTop" r="textAreaRight" b="textAreaBottom"/>
            <a:pathLst>
              <a:path w="1227148" h="9158491">
                <a:moveTo>
                  <a:pt x="867109" y="556322"/>
                </a:moveTo>
                <a:cubicBezTo>
                  <a:pt x="867109" y="496669"/>
                  <a:pt x="915468" y="448310"/>
                  <a:pt x="975121" y="448310"/>
                </a:cubicBezTo>
                <a:cubicBezTo>
                  <a:pt x="1034774" y="448310"/>
                  <a:pt x="1083133" y="496669"/>
                  <a:pt x="1083133" y="556322"/>
                </a:cubicBezTo>
                <a:cubicBezTo>
                  <a:pt x="1083133" y="615975"/>
                  <a:pt x="1034774" y="664334"/>
                  <a:pt x="975121" y="664334"/>
                </a:cubicBezTo>
                <a:cubicBezTo>
                  <a:pt x="915468" y="664334"/>
                  <a:pt x="867109" y="615975"/>
                  <a:pt x="867109" y="556322"/>
                </a:cubicBezTo>
                <a:close/>
                <a:moveTo>
                  <a:pt x="723093" y="1708847"/>
                </a:moveTo>
                <a:cubicBezTo>
                  <a:pt x="723093" y="1649194"/>
                  <a:pt x="771452" y="1600835"/>
                  <a:pt x="831105" y="1600835"/>
                </a:cubicBezTo>
                <a:cubicBezTo>
                  <a:pt x="890758" y="1600835"/>
                  <a:pt x="939117" y="1649194"/>
                  <a:pt x="939117" y="1708847"/>
                </a:cubicBezTo>
                <a:cubicBezTo>
                  <a:pt x="939117" y="1768500"/>
                  <a:pt x="890758" y="1816859"/>
                  <a:pt x="831105" y="1816859"/>
                </a:cubicBezTo>
                <a:cubicBezTo>
                  <a:pt x="771452" y="1816859"/>
                  <a:pt x="723093" y="1768500"/>
                  <a:pt x="723093" y="1708847"/>
                </a:cubicBezTo>
                <a:close/>
                <a:moveTo>
                  <a:pt x="506428" y="1130767"/>
                </a:moveTo>
                <a:cubicBezTo>
                  <a:pt x="506428" y="1071114"/>
                  <a:pt x="554787" y="1022755"/>
                  <a:pt x="614440" y="1022755"/>
                </a:cubicBezTo>
                <a:cubicBezTo>
                  <a:pt x="674093" y="1022755"/>
                  <a:pt x="722452" y="1071114"/>
                  <a:pt x="722452" y="1130767"/>
                </a:cubicBezTo>
                <a:cubicBezTo>
                  <a:pt x="722452" y="1190420"/>
                  <a:pt x="674093" y="1238779"/>
                  <a:pt x="614440" y="1238779"/>
                </a:cubicBezTo>
                <a:cubicBezTo>
                  <a:pt x="554787" y="1238779"/>
                  <a:pt x="506428" y="1190420"/>
                  <a:pt x="506428" y="1130767"/>
                </a:cubicBezTo>
                <a:close/>
                <a:moveTo>
                  <a:pt x="363052" y="2285110"/>
                </a:moveTo>
                <a:cubicBezTo>
                  <a:pt x="363053" y="2225457"/>
                  <a:pt x="411412" y="2177098"/>
                  <a:pt x="471065" y="2177098"/>
                </a:cubicBezTo>
                <a:cubicBezTo>
                  <a:pt x="530718" y="2177098"/>
                  <a:pt x="579077" y="2225457"/>
                  <a:pt x="579077" y="2285110"/>
                </a:cubicBezTo>
                <a:cubicBezTo>
                  <a:pt x="579077" y="2344763"/>
                  <a:pt x="530718" y="2393122"/>
                  <a:pt x="471065" y="2393122"/>
                </a:cubicBezTo>
                <a:cubicBezTo>
                  <a:pt x="411412" y="2393122"/>
                  <a:pt x="363053" y="2344763"/>
                  <a:pt x="363052" y="2285110"/>
                </a:cubicBezTo>
                <a:close/>
                <a:moveTo>
                  <a:pt x="0" y="4579246"/>
                </a:moveTo>
                <a:lnTo>
                  <a:pt x="0" y="9158491"/>
                </a:lnTo>
                <a:lnTo>
                  <a:pt x="1227148" y="0"/>
                </a:lnTo>
                <a:lnTo>
                  <a:pt x="613574" y="0"/>
                </a:lnTo>
                <a:lnTo>
                  <a:pt x="0" y="4579246"/>
                </a:lnTo>
                <a:close/>
              </a:path>
            </a:pathLst>
          </a:custGeom>
          <a:solidFill>
            <a:srgbClr val="2a8fbd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斜纹 11"/>
          <p:cNvSpPr/>
          <p:nvPr/>
        </p:nvSpPr>
        <p:spPr>
          <a:xfrm flipH="1" rot="16200000">
            <a:off x="3950280" y="-3339720"/>
            <a:ext cx="1227240" cy="9155160"/>
          </a:xfrm>
          <a:custGeom>
            <a:avLst/>
            <a:gdLst>
              <a:gd name="textAreaLeft" fmla="*/ -360 w 1227240"/>
              <a:gd name="textAreaRight" fmla="*/ 1227240 w 1227240"/>
              <a:gd name="textAreaTop" fmla="*/ 0 h 9155160"/>
              <a:gd name="textAreaBottom" fmla="*/ 9155520 h 9155160"/>
            </a:gdLst>
            <a:ahLst/>
            <a:rect l="textAreaLeft" t="textAreaTop" r="textAreaRight" b="textAreaBottom"/>
            <a:pathLst>
              <a:path w="1227148" h="9158491">
                <a:moveTo>
                  <a:pt x="867109" y="556322"/>
                </a:moveTo>
                <a:cubicBezTo>
                  <a:pt x="867109" y="496669"/>
                  <a:pt x="915468" y="448310"/>
                  <a:pt x="975121" y="448310"/>
                </a:cubicBezTo>
                <a:cubicBezTo>
                  <a:pt x="1034774" y="448310"/>
                  <a:pt x="1083133" y="496669"/>
                  <a:pt x="1083133" y="556322"/>
                </a:cubicBezTo>
                <a:cubicBezTo>
                  <a:pt x="1083133" y="615975"/>
                  <a:pt x="1034774" y="664334"/>
                  <a:pt x="975121" y="664334"/>
                </a:cubicBezTo>
                <a:cubicBezTo>
                  <a:pt x="915468" y="664334"/>
                  <a:pt x="867109" y="615975"/>
                  <a:pt x="867109" y="556322"/>
                </a:cubicBezTo>
                <a:close/>
                <a:moveTo>
                  <a:pt x="723093" y="1708847"/>
                </a:moveTo>
                <a:cubicBezTo>
                  <a:pt x="723093" y="1649194"/>
                  <a:pt x="771452" y="1600835"/>
                  <a:pt x="831105" y="1600835"/>
                </a:cubicBezTo>
                <a:cubicBezTo>
                  <a:pt x="890758" y="1600835"/>
                  <a:pt x="939117" y="1649194"/>
                  <a:pt x="939117" y="1708847"/>
                </a:cubicBezTo>
                <a:cubicBezTo>
                  <a:pt x="939117" y="1768500"/>
                  <a:pt x="890758" y="1816859"/>
                  <a:pt x="831105" y="1816859"/>
                </a:cubicBezTo>
                <a:cubicBezTo>
                  <a:pt x="771452" y="1816859"/>
                  <a:pt x="723093" y="1768500"/>
                  <a:pt x="723093" y="1708847"/>
                </a:cubicBezTo>
                <a:close/>
                <a:moveTo>
                  <a:pt x="506428" y="1130767"/>
                </a:moveTo>
                <a:cubicBezTo>
                  <a:pt x="506428" y="1071114"/>
                  <a:pt x="554787" y="1022755"/>
                  <a:pt x="614440" y="1022755"/>
                </a:cubicBezTo>
                <a:cubicBezTo>
                  <a:pt x="674093" y="1022755"/>
                  <a:pt x="722452" y="1071114"/>
                  <a:pt x="722452" y="1130767"/>
                </a:cubicBezTo>
                <a:cubicBezTo>
                  <a:pt x="722452" y="1190420"/>
                  <a:pt x="674093" y="1238779"/>
                  <a:pt x="614440" y="1238779"/>
                </a:cubicBezTo>
                <a:cubicBezTo>
                  <a:pt x="554787" y="1238779"/>
                  <a:pt x="506428" y="1190420"/>
                  <a:pt x="506428" y="1130767"/>
                </a:cubicBezTo>
                <a:close/>
                <a:moveTo>
                  <a:pt x="363052" y="2285110"/>
                </a:moveTo>
                <a:cubicBezTo>
                  <a:pt x="363053" y="2225457"/>
                  <a:pt x="411412" y="2177098"/>
                  <a:pt x="471065" y="2177098"/>
                </a:cubicBezTo>
                <a:cubicBezTo>
                  <a:pt x="530718" y="2177098"/>
                  <a:pt x="579077" y="2225457"/>
                  <a:pt x="579077" y="2285110"/>
                </a:cubicBezTo>
                <a:cubicBezTo>
                  <a:pt x="579077" y="2344763"/>
                  <a:pt x="530718" y="2393122"/>
                  <a:pt x="471065" y="2393122"/>
                </a:cubicBezTo>
                <a:cubicBezTo>
                  <a:pt x="411412" y="2393122"/>
                  <a:pt x="363053" y="2344763"/>
                  <a:pt x="363052" y="2285110"/>
                </a:cubicBezTo>
                <a:close/>
                <a:moveTo>
                  <a:pt x="0" y="4579246"/>
                </a:moveTo>
                <a:lnTo>
                  <a:pt x="0" y="9158491"/>
                </a:lnTo>
                <a:lnTo>
                  <a:pt x="1227148" y="0"/>
                </a:lnTo>
                <a:lnTo>
                  <a:pt x="613574" y="0"/>
                </a:lnTo>
                <a:lnTo>
                  <a:pt x="0" y="4579246"/>
                </a:lnTo>
                <a:close/>
              </a:path>
            </a:pathLst>
          </a:custGeom>
          <a:solidFill>
            <a:srgbClr val="e4486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斜纹 11"/>
          <p:cNvSpPr/>
          <p:nvPr/>
        </p:nvSpPr>
        <p:spPr>
          <a:xfrm flipV="1" rot="16200000">
            <a:off x="3950280" y="-661680"/>
            <a:ext cx="1228680" cy="9155160"/>
          </a:xfrm>
          <a:custGeom>
            <a:avLst/>
            <a:gdLst>
              <a:gd name="textAreaLeft" fmla="*/ 0 w 1228680"/>
              <a:gd name="textAreaRight" fmla="*/ 1229040 w 1228680"/>
              <a:gd name="textAreaTop" fmla="*/ -360 h 9155160"/>
              <a:gd name="textAreaBottom" fmla="*/ 9155160 h 9155160"/>
            </a:gdLst>
            <a:ahLst/>
            <a:rect l="textAreaLeft" t="textAreaTop" r="textAreaRight" b="textAreaBottom"/>
            <a:pathLst>
              <a:path w="1227148" h="9158491">
                <a:moveTo>
                  <a:pt x="867109" y="556322"/>
                </a:moveTo>
                <a:cubicBezTo>
                  <a:pt x="867109" y="496669"/>
                  <a:pt x="915468" y="448310"/>
                  <a:pt x="975121" y="448310"/>
                </a:cubicBezTo>
                <a:cubicBezTo>
                  <a:pt x="1034774" y="448310"/>
                  <a:pt x="1083133" y="496669"/>
                  <a:pt x="1083133" y="556322"/>
                </a:cubicBezTo>
                <a:cubicBezTo>
                  <a:pt x="1083133" y="615975"/>
                  <a:pt x="1034774" y="664334"/>
                  <a:pt x="975121" y="664334"/>
                </a:cubicBezTo>
                <a:cubicBezTo>
                  <a:pt x="915468" y="664334"/>
                  <a:pt x="867109" y="615975"/>
                  <a:pt x="867109" y="556322"/>
                </a:cubicBezTo>
                <a:close/>
                <a:moveTo>
                  <a:pt x="723093" y="1708847"/>
                </a:moveTo>
                <a:cubicBezTo>
                  <a:pt x="723093" y="1649194"/>
                  <a:pt x="771452" y="1600835"/>
                  <a:pt x="831105" y="1600835"/>
                </a:cubicBezTo>
                <a:cubicBezTo>
                  <a:pt x="890758" y="1600835"/>
                  <a:pt x="939117" y="1649194"/>
                  <a:pt x="939117" y="1708847"/>
                </a:cubicBezTo>
                <a:cubicBezTo>
                  <a:pt x="939117" y="1768500"/>
                  <a:pt x="890758" y="1816859"/>
                  <a:pt x="831105" y="1816859"/>
                </a:cubicBezTo>
                <a:cubicBezTo>
                  <a:pt x="771452" y="1816859"/>
                  <a:pt x="723093" y="1768500"/>
                  <a:pt x="723093" y="1708847"/>
                </a:cubicBezTo>
                <a:close/>
                <a:moveTo>
                  <a:pt x="506428" y="1130767"/>
                </a:moveTo>
                <a:cubicBezTo>
                  <a:pt x="506428" y="1071114"/>
                  <a:pt x="554787" y="1022755"/>
                  <a:pt x="614440" y="1022755"/>
                </a:cubicBezTo>
                <a:cubicBezTo>
                  <a:pt x="674093" y="1022755"/>
                  <a:pt x="722452" y="1071114"/>
                  <a:pt x="722452" y="1130767"/>
                </a:cubicBezTo>
                <a:cubicBezTo>
                  <a:pt x="722452" y="1190420"/>
                  <a:pt x="674093" y="1238779"/>
                  <a:pt x="614440" y="1238779"/>
                </a:cubicBezTo>
                <a:cubicBezTo>
                  <a:pt x="554787" y="1238779"/>
                  <a:pt x="506428" y="1190420"/>
                  <a:pt x="506428" y="1130767"/>
                </a:cubicBezTo>
                <a:close/>
                <a:moveTo>
                  <a:pt x="363052" y="2285110"/>
                </a:moveTo>
                <a:cubicBezTo>
                  <a:pt x="363053" y="2225457"/>
                  <a:pt x="411412" y="2177098"/>
                  <a:pt x="471065" y="2177098"/>
                </a:cubicBezTo>
                <a:cubicBezTo>
                  <a:pt x="530718" y="2177098"/>
                  <a:pt x="579077" y="2225457"/>
                  <a:pt x="579077" y="2285110"/>
                </a:cubicBezTo>
                <a:cubicBezTo>
                  <a:pt x="579077" y="2344763"/>
                  <a:pt x="530718" y="2393122"/>
                  <a:pt x="471065" y="2393122"/>
                </a:cubicBezTo>
                <a:cubicBezTo>
                  <a:pt x="411412" y="2393122"/>
                  <a:pt x="363053" y="2344763"/>
                  <a:pt x="363052" y="2285110"/>
                </a:cubicBezTo>
                <a:close/>
                <a:moveTo>
                  <a:pt x="0" y="4579246"/>
                </a:moveTo>
                <a:lnTo>
                  <a:pt x="0" y="9158491"/>
                </a:lnTo>
                <a:lnTo>
                  <a:pt x="1227148" y="0"/>
                </a:lnTo>
                <a:lnTo>
                  <a:pt x="613574" y="0"/>
                </a:lnTo>
                <a:lnTo>
                  <a:pt x="0" y="4579246"/>
                </a:lnTo>
                <a:close/>
              </a:path>
            </a:pathLst>
          </a:custGeom>
          <a:solidFill>
            <a:srgbClr val="e4486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>
            <a:off x="2195640" y="1968480"/>
            <a:ext cx="54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435258"/>
                </a:solidFill>
                <a:latin typeface="Matura MT Script Capitals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0T14:54:00Z</dcterms:created>
  <dc:creator>Administrator</dc:creator>
  <dc:description/>
  <dc:language>en-US</dc:language>
  <cp:lastModifiedBy>a</cp:lastModifiedBy>
  <dcterms:modified xsi:type="dcterms:W3CDTF">2015-05-16T14:54:48Z</dcterms:modified>
  <cp:revision>12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