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55F-787E-49FE-8873-611A71FD96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AF18-5061-4BF8-BE0F-6820BDA5F5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FBD-C504-4922-9A75-FD049A2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528-B944-4F37-9B8C-5D32B07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C048E-42C0-4B4A-BDEB-E7085476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69086-3507-4213-8739-E196085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5EF7-DA2D-46E4-9ECC-0CEC8244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D09E1-00E1-4A08-9358-DA8AF97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9182-0C04-47BC-A463-12EB0536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61CF2-3627-4F6F-AC40-2AF54C4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A759D-B3B5-42BB-B8EB-C1E469B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6C1D3-68D6-46A0-97B7-B2979BF4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B3BD-9553-498E-AE5B-3D42AD84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8D471-1D55-49E9-AE4C-75D05653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BC5-6BB4-4AE8-8C4C-B81DD1C0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554F1-5316-4F0E-A02D-D0541F8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9920-E1F8-483D-BD63-C225464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F5E3C-E314-46CE-B3EF-1E1248E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6BF5C-E1CF-4223-A00D-74E566D8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534A7-C729-4D4F-817E-6F363CD7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47334-0B45-462A-B044-59B15A13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99B55-7631-4A5D-870B-F33DFF0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13124-9919-463D-8CDB-C8662EF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B05D7-58F4-4E02-B1FB-1591B014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43410-84CE-46EF-86D5-AE58C0C5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749-6CE2-4B6D-9D06-912F6D22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A9319-C344-401B-8AA5-B30F598C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27B37-6907-4705-B64A-AF447843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ABFDD-7DDA-46FE-8808-E18B4665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E70EF-56A1-4C9A-93E2-8F49559A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023B8-2A66-44DE-98A0-3ABF20C0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50A2-A150-4104-B2C5-8AFF4F8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FE79E-079A-4743-AF36-1AD1D57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0232-0FB8-4E93-8674-BC0F98A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7E17B-6356-45CC-AE22-7F68726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08025-75A7-48E1-9706-1C0F36F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665-0FAD-45D3-8D2F-42DC9EFB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6940-62C1-4F45-B974-432608E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80986-8DF3-4835-8E8E-2ADC0137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407F4-740F-4877-B466-9BBF5452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B060A-A3A3-448F-8004-219E66C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AE3A4-C437-45B9-A67E-33F2193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91FC9-5939-4C23-B0B2-F7C31BC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9FA0-BC9B-4A86-ADA4-2C0D73E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945F9-6752-4DF8-AC81-C5BD332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1F564-A887-48EA-8230-3AFCE166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5C5CA-4772-4FF3-A9CF-8593786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12A-DE58-4A6A-8169-5DC7FD5E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D521B-48F5-4429-B694-EE5601C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25D24-C42A-471C-9AF8-EF8E996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EAF50-8496-44A4-9F86-815573E7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C5CE4-FCC1-4E87-8CE0-A7A252BE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AC054-D9EE-478E-B54F-9578C874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D8CBD-111E-42E9-92F5-A7F7E6A6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C19D2-6118-4B96-812C-D547BE9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2D7BD-83B2-46DD-B88F-BAF9CEF7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A4F26-A2B8-43B9-AF58-566E4720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1E2F2-EA6E-488E-BAE8-55554F8A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BEB0-63A1-48E0-85BB-5157C41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3491E-BE3B-464C-A615-978AC587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9EC5C-D102-4518-A496-21E33BC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89039-B5D9-4519-B192-CD2C3B5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ABA3B-7C36-41B2-BED8-4F9F9AA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8D1DF-16C8-4703-878B-EDA249D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237EC-7B4F-4578-AC6C-CA84BF98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4B30B-79FC-49A0-9074-9252E9A3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F4F5B-7199-47E3-B585-025A34F5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E3FC7-1077-4FD2-8522-24D22DE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8B3B6-4B56-47C0-971F-B11078E2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CEB-38F9-440A-8AD4-5357385A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C85DB-20A7-48B3-8FEA-6D0EB8E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C0285-9581-4FD4-8F21-C6909FDF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93AA8-7FFF-495F-9371-D03FEAB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F28EB-1C0E-4252-A0D2-5A56D84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100C7-FF2F-48DC-AA9A-A94080D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8F268-A8CC-4ED6-BC2B-C7FFB0C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472C2-170B-4E4A-9FCF-EA935A0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2AD35-89A9-4594-BCD2-30AEF89B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6FB5F-3746-4DD4-BA58-22B0421A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E11C0-90B0-410E-9361-468AACC9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1F34-24D3-4B62-816C-628F8F0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941B9-5FD9-4222-BB48-A19D731E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8DF8-C5F1-417C-968A-B10B30D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84E58-045F-4C07-B717-3AA60A63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14DA1-28E1-47C4-B7AB-D8637AE4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289F5-DDEF-43D2-A52B-9C32BD51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A777E-2314-40B7-B22E-FDF9124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08F03-5989-4D14-B87A-A5D10A1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3F3DF-E85F-445A-A0D0-20E7EB8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9C427-227B-456E-9242-F7E6CE3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43D02-5494-4D01-9087-5EFB6F6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0C76-AFC2-4226-A42C-11DDDCA0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AD792-02B9-44CB-AE5B-4EA30C95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1DAF0-8BFF-4D29-8DA5-10748DF7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D4211-5D21-4AE6-A977-F047D58B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000DA-9B9A-4005-B344-8A59D88E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2264B-8CF3-4236-BEAA-FEACB70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0F6FE-F0DA-4D29-8C79-945C109D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34B6E-A4E7-41C4-9AF2-D1F383F9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CABDE-D309-42C8-8F4F-B4B7BE8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CA4B0-5494-44EA-AC53-8038F2D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1C6B7-1E5C-44CF-848D-34F7D31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C62-0336-46AC-B58C-732F318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30DE5-79AC-4775-AAC6-1E5F0712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11400-F0C5-49E4-A222-C37C4462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1EB0D-CF41-43C7-AB5F-DF828281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62AA4-9B05-439F-BE1B-907B397D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6BB4C-6935-4CA3-9DE8-2ACDD38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A09A6-50EB-4519-BE25-2D44657C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B8D78-5027-4600-BBE6-B5E6CDD1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4AEF5-629C-4FA2-A96A-7ED36426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272F4-6E84-4F20-86CB-7B7E6933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5FF1-C2DA-47E5-83A2-B2FB12B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5C3-C8B0-4A79-B074-1D4C477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6196-333E-4170-8E5B-9367211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11B5A-DD4F-4872-8241-37F6E02F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184B0-F598-44FE-9BE6-0BBFC4E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4C4E7-4D12-4261-AD83-7BF53260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BDA99-2AAD-4160-9B69-4EC78FAF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33A36-21FF-419A-A357-789C8615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2E30A-8363-4D21-8EC9-ED19771D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AD1F2-F928-4B0D-ADF1-49BF2C5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45124-8076-496E-BE0C-2E579DC0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7EC68-CFA3-4B45-9FCD-7B2E414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D5D73-97CD-4A0A-8D1A-092D6E96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88D5-F048-43E7-94CC-A94D403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151FC-73D1-4956-9971-9934974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FA977-7A84-44B4-BFD5-425C263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A5EB9-D779-406D-8D10-5F71C0A5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CABB8-35EF-4540-8D5B-EC2A925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E4E3C-0583-45D5-B5B7-BBD32359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D8915-89D2-48C7-9F48-172CB1E9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C43B9-8FA1-413E-8262-4555F2F6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233-C7D6-4491-B462-3AA096A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6395-24B6-4C51-B422-9EC5F146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76F-B120-4BA9-9F3E-0F9EED6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4084-19A2-4094-B022-2955E7C7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57A5-7B21-4840-B454-E0D123B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155C-72F0-4B68-B741-407D4EA1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DD0D-1168-4B84-BD91-00BBD5F9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0735-6705-47EA-9848-745A818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573-04D8-44C6-863E-41DA43A5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5BDA-0666-4649-9F73-93D010D5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B474-C3DB-476D-9361-EC0075D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BA07-8B26-44A6-BCC7-29993FB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5685-DF87-4AEB-9676-85325DE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0B2E-91E3-4248-85A4-7F565B8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8965-598B-4D52-A43C-757EA100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A456-7A08-45AF-A45E-8C362E56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0BEC-60FD-4736-8D0C-331D4A02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BBDF-4F56-49C1-81B1-9485465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719B-FDCE-4261-AFFA-21A54C0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457-C822-40CF-A4A6-417348A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702A-12E3-4C4E-9E3C-BA8BF2E6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8FC2-15EB-4E75-9839-4263C6BC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6945-4646-4079-91F2-DE131B74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25BA-D3C5-4360-B86C-46923685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032B-5AC9-4B03-8BE2-FE3B5DD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A221-8AF4-4EF0-9B07-6A9926C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D4D6-A6D9-426E-98FC-E0D2980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194A-E55D-4C6F-9E25-FD6B51A2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F647-F79D-4B95-9ECD-0148CE0D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3EDE-E54B-4E18-A62E-7D4ADC8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9FE-B312-4678-8CCC-954FD54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1B34-464D-499C-8777-BE4735A0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AF37-43A0-4D4D-8014-A33C13D2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0871-FF26-4133-9399-E61D0F6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1313-4A19-4368-AC96-0E154F7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6A27-5274-44FC-8DBC-A172709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5322-F9AA-47D0-A4E7-19F5EAD5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AC024-EE89-49D9-B633-19E27409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80E7-C577-40A7-A50C-DC87279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73E9-C155-4206-B6F3-E792172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4481-94B0-4F7C-A2B8-7663BD64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5FB-3F2F-4FAA-88E3-AAD2B162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6E39C-CFAF-4138-902A-82D6FCCD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6AB9-759C-4488-A6EA-02ADDEE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3E15-EB17-4D59-AD54-E645448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12B5-2403-4497-9854-0651CEB8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9CD87-4054-41AC-8684-D1F175D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8A09-492B-4100-95C2-31EAE537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4776-A80C-43CC-A4CC-70579AC7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DFED5-0598-49CD-8B05-BDD724F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7F47-360A-486D-992D-BE6DF6DC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AEA0-19C0-46C0-9BCC-9FCDE63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6A7-306B-4631-AEAF-EB88182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C4DC-AF57-48F1-A5AA-D28EDA85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C1C3-2314-4111-9DD3-C9F489FB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2F4C-A378-4E10-AEA5-7E56E1ED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412B-0FA8-40E7-AA0C-60F1EC27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7D60F-8F79-4D7C-BC90-00E48B86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C2C39-4855-4006-815F-360EFCD7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857E7-C755-4F00-BA48-7252CD8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B0C6-80C4-4ACF-B359-49D11A4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2778-B7C6-41D6-9B49-2F5B008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00FB3-8AE4-4E83-B45D-ADC0C4B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0D1-DF41-41C2-8750-CCEFB5D4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9134-1522-4E1D-BBAE-1F7F314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3B48-9174-4029-A115-9EA87A6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C15CA-7629-4784-8E33-03864B7B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8918-D4C8-4D3C-91DD-AC9D4075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D064-BCEF-470C-BBEC-9E888E70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FE6F-E73B-4BBA-8D9D-97E9D1D2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6CCF-B8D5-4E5D-8932-4DB1D23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BB6C-DC8C-4BBA-916C-895D1963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180C-AB92-4FD3-AAE7-36F7022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3F6BA-9A25-42AC-BFBF-82793858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85F-266A-4534-8D15-FE4249D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F267A-ABAC-43E9-996E-D36292AC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80BA-2070-4649-8109-8DFDB3B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282D-E891-4C67-B5CA-E2894F2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6889-8052-443A-9AE4-42970B7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B2EC9-7F26-46E4-B84A-30C5CA6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7AF6-EE73-4726-9568-7E6BE4A5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2E08-F654-4AD1-819F-B4437A1F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72309-1C5C-4EE5-B34D-D8ED077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B6C1-B66B-434F-8B38-0C7DD3E3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00A71-53F7-4122-9110-6B273F7C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大祥云.png"/>
          <p:cNvPicPr/>
          <p:nvPr/>
        </p:nvPicPr>
        <p:blipFill>
          <a:blip r:embed="rId3"/>
          <a:stretch/>
        </p:blipFill>
        <p:spPr>
          <a:xfrm>
            <a:off x="-2387520" y="-30240"/>
            <a:ext cx="6530760" cy="653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1BE-AC46-4BB3-8834-0C8F9F4F2C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220-F953-4940-B3A8-303A98C098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4A6-1939-408E-986A-BB79A50601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3013-EC0F-4093-9739-1FCF2A8976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4F4-EA3F-4B43-A7B8-6FEEE05048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C64-C786-4FC5-9F01-4DAE770B7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AD6-2A29-46CB-9D24-99C8A864F6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8D8-9E87-47D0-80E5-27D9BCAFB0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386-5F98-4DE3-8755-88DD918708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39F6-6A39-416B-9F99-00469BAAC1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down.png"/>
          <p:cNvPicPr/>
          <p:nvPr/>
        </p:nvPicPr>
        <p:blipFill>
          <a:blip r:embed="rId3"/>
          <a:stretch/>
        </p:blipFill>
        <p:spPr>
          <a:xfrm>
            <a:off x="144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up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7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1A0-8385-4D27-AAA9-C61BC02CF7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76F5-D7BD-4106-A371-B838368CD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607-2182-4C27-B481-7BA36FF81A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小祥云.png"/>
          <p:cNvPicPr/>
          <p:nvPr/>
        </p:nvPicPr>
        <p:blipFill>
          <a:blip r:embed="rId3"/>
          <a:stretch/>
        </p:blipFill>
        <p:spPr>
          <a:xfrm>
            <a:off x="6500880" y="371484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A13-D1E4-40E1-A726-A4F07E9AF2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A01-FAA4-40CD-8C93-60B287EE04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8FC0-ECCB-43A1-8D85-3ED029037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3A5-0C60-4B9A-BCF6-82F88E3828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4513-BF68-4070-984D-34A39CBB11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image" Target="../media/image2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3"/>
          <p:cNvSpPr/>
          <p:nvPr/>
        </p:nvSpPr>
        <p:spPr>
          <a:xfrm>
            <a:off x="4481640" y="357192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人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4"/>
          <p:cNvSpPr/>
          <p:nvPr/>
        </p:nvSpPr>
        <p:spPr>
          <a:xfrm>
            <a:off x="4953240" y="2500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3"/>
          <p:cNvSpPr/>
          <p:nvPr/>
        </p:nvSpPr>
        <p:spPr>
          <a:xfrm>
            <a:off x="7286760" y="61405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e003e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8" descr="4.png"/>
          <p:cNvPicPr/>
          <p:nvPr/>
        </p:nvPicPr>
        <p:blipFill>
          <a:blip r:embed="rId1"/>
          <a:stretch/>
        </p:blipFill>
        <p:spPr>
          <a:xfrm>
            <a:off x="8331120" y="6143760"/>
            <a:ext cx="669960" cy="64296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4"/>
          <p:cNvGrpSpPr/>
          <p:nvPr/>
        </p:nvGrpSpPr>
        <p:grpSpPr>
          <a:xfrm>
            <a:off x="2230200" y="2142360"/>
            <a:ext cx="4088160" cy="758160"/>
            <a:chOff x="2230200" y="2142360"/>
            <a:chExt cx="4088160" cy="758160"/>
          </a:xfrm>
        </p:grpSpPr>
        <p:grpSp>
          <p:nvGrpSpPr>
            <p:cNvPr id="754" name="Group 5"/>
            <p:cNvGrpSpPr/>
            <p:nvPr/>
          </p:nvGrpSpPr>
          <p:grpSpPr>
            <a:xfrm>
              <a:off x="2230200" y="2142360"/>
              <a:ext cx="1473480" cy="758160"/>
              <a:chOff x="2230200" y="2142360"/>
              <a:chExt cx="1473480" cy="758160"/>
            </a:xfrm>
          </p:grpSpPr>
          <p:pic>
            <p:nvPicPr>
              <p:cNvPr id="755" name="图片 7" descr="3.png"/>
              <p:cNvPicPr/>
              <p:nvPr/>
            </p:nvPicPr>
            <p:blipFill>
              <a:blip r:embed="rId2"/>
              <a:stretch/>
            </p:blipFill>
            <p:spPr>
              <a:xfrm flipH="1" rot="900600">
                <a:off x="2286000" y="2247480"/>
                <a:ext cx="884160" cy="5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Box 10"/>
              <p:cNvSpPr/>
              <p:nvPr/>
            </p:nvSpPr>
            <p:spPr>
              <a:xfrm>
                <a:off x="3078000" y="221472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一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TextBox 12"/>
            <p:cNvSpPr/>
            <p:nvPr/>
          </p:nvSpPr>
          <p:spPr>
            <a:xfrm>
              <a:off x="4033800" y="2214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16"/>
            <p:cNvSpPr/>
            <p:nvPr/>
          </p:nvSpPr>
          <p:spPr>
            <a:xfrm>
              <a:off x="3317400" y="2643120"/>
              <a:ext cx="3000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0"/>
          <p:cNvGrpSpPr/>
          <p:nvPr/>
        </p:nvGrpSpPr>
        <p:grpSpPr>
          <a:xfrm>
            <a:off x="2261880" y="2857320"/>
            <a:ext cx="4086360" cy="757440"/>
            <a:chOff x="2261880" y="2857320"/>
            <a:chExt cx="4086360" cy="757440"/>
          </a:xfrm>
        </p:grpSpPr>
        <p:grpSp>
          <p:nvGrpSpPr>
            <p:cNvPr id="760" name="Group 11"/>
            <p:cNvGrpSpPr/>
            <p:nvPr/>
          </p:nvGrpSpPr>
          <p:grpSpPr>
            <a:xfrm>
              <a:off x="2261880" y="2857320"/>
              <a:ext cx="1320480" cy="757440"/>
              <a:chOff x="2261880" y="2857320"/>
              <a:chExt cx="1320480" cy="757440"/>
            </a:xfrm>
          </p:grpSpPr>
          <p:pic>
            <p:nvPicPr>
              <p:cNvPr id="761" name="图片 33" descr="3.png"/>
              <p:cNvPicPr/>
              <p:nvPr/>
            </p:nvPicPr>
            <p:blipFill>
              <a:blip r:embed="rId3"/>
              <a:stretch/>
            </p:blipFill>
            <p:spPr>
              <a:xfrm flipH="1" rot="899400">
                <a:off x="2317320" y="296208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TextBox 34"/>
              <p:cNvSpPr/>
              <p:nvPr/>
            </p:nvSpPr>
            <p:spPr>
              <a:xfrm>
                <a:off x="3261600" y="29289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二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TextBox 31"/>
            <p:cNvSpPr/>
            <p:nvPr/>
          </p:nvSpPr>
          <p:spPr>
            <a:xfrm>
              <a:off x="4064040" y="29289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直接连接符 32"/>
            <p:cNvSpPr/>
            <p:nvPr/>
          </p:nvSpPr>
          <p:spPr>
            <a:xfrm>
              <a:off x="3348720" y="335736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16"/>
          <p:cNvGrpSpPr/>
          <p:nvPr/>
        </p:nvGrpSpPr>
        <p:grpSpPr>
          <a:xfrm>
            <a:off x="2261880" y="3643200"/>
            <a:ext cx="4086360" cy="757440"/>
            <a:chOff x="2261880" y="3643200"/>
            <a:chExt cx="4086360" cy="757440"/>
          </a:xfrm>
        </p:grpSpPr>
        <p:grpSp>
          <p:nvGrpSpPr>
            <p:cNvPr id="766" name="Group 17"/>
            <p:cNvGrpSpPr/>
            <p:nvPr/>
          </p:nvGrpSpPr>
          <p:grpSpPr>
            <a:xfrm>
              <a:off x="2261880" y="3643200"/>
              <a:ext cx="1320480" cy="757440"/>
              <a:chOff x="2261880" y="3643200"/>
              <a:chExt cx="1320480" cy="757440"/>
            </a:xfrm>
          </p:grpSpPr>
          <p:pic>
            <p:nvPicPr>
              <p:cNvPr id="767" name="图片 39" descr="3.png"/>
              <p:cNvPicPr/>
              <p:nvPr/>
            </p:nvPicPr>
            <p:blipFill>
              <a:blip r:embed="rId4"/>
              <a:stretch/>
            </p:blipFill>
            <p:spPr>
              <a:xfrm flipH="1" rot="899400">
                <a:off x="2317320" y="3747960"/>
                <a:ext cx="88380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TextBox 40"/>
              <p:cNvSpPr/>
              <p:nvPr/>
            </p:nvSpPr>
            <p:spPr>
              <a:xfrm>
                <a:off x="3261600" y="3714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TextBox 37"/>
            <p:cNvSpPr/>
            <p:nvPr/>
          </p:nvSpPr>
          <p:spPr>
            <a:xfrm>
              <a:off x="4064040" y="3714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38"/>
            <p:cNvSpPr/>
            <p:nvPr/>
          </p:nvSpPr>
          <p:spPr>
            <a:xfrm>
              <a:off x="3348720" y="4143240"/>
              <a:ext cx="2999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Box 6"/>
          <p:cNvSpPr/>
          <p:nvPr/>
        </p:nvSpPr>
        <p:spPr>
          <a:xfrm>
            <a:off x="82080" y="3816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003e"/>
                </a:solidFill>
                <a:latin typeface="Calibri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1000080" y="571680"/>
            <a:ext cx="4857840" cy="5776560"/>
            <a:chOff x="1000080" y="571680"/>
            <a:chExt cx="4857840" cy="5776560"/>
          </a:xfrm>
        </p:grpSpPr>
        <p:grpSp>
          <p:nvGrpSpPr>
            <p:cNvPr id="773" name="Group 3"/>
            <p:cNvGrpSpPr/>
            <p:nvPr/>
          </p:nvGrpSpPr>
          <p:grpSpPr>
            <a:xfrm>
              <a:off x="3869280" y="4120200"/>
              <a:ext cx="1938240" cy="2228040"/>
              <a:chOff x="3869280" y="4120200"/>
              <a:chExt cx="1938240" cy="2228040"/>
            </a:xfrm>
          </p:grpSpPr>
          <p:pic>
            <p:nvPicPr>
              <p:cNvPr id="774" name="燕尾形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6840" y="4120200"/>
                <a:ext cx="1930680" cy="222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5" name="Text Box 5"/>
              <p:cNvSpPr/>
              <p:nvPr/>
            </p:nvSpPr>
            <p:spPr>
              <a:xfrm rot="14400000">
                <a:off x="4023720" y="448020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6"/>
            <p:cNvGrpSpPr/>
            <p:nvPr/>
          </p:nvGrpSpPr>
          <p:grpSpPr>
            <a:xfrm>
              <a:off x="2615040" y="1693440"/>
              <a:ext cx="2824920" cy="3430440"/>
              <a:chOff x="2615040" y="1693440"/>
              <a:chExt cx="2824920" cy="3430440"/>
            </a:xfrm>
          </p:grpSpPr>
          <p:grpSp>
            <p:nvGrpSpPr>
              <p:cNvPr id="777" name="Group 7"/>
              <p:cNvGrpSpPr/>
              <p:nvPr/>
            </p:nvGrpSpPr>
            <p:grpSpPr>
              <a:xfrm>
                <a:off x="3228840" y="2874600"/>
                <a:ext cx="1373760" cy="1277280"/>
                <a:chOff x="3228840" y="2874600"/>
                <a:chExt cx="1373760" cy="1277280"/>
              </a:xfrm>
            </p:grpSpPr>
            <p:pic>
              <p:nvPicPr>
                <p:cNvPr id="778" name="六边形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28840" y="2874600"/>
                  <a:ext cx="137376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9" name="Text Box 9"/>
                <p:cNvSpPr/>
                <p:nvPr/>
              </p:nvSpPr>
              <p:spPr>
                <a:xfrm>
                  <a:off x="3467160" y="3097440"/>
                  <a:ext cx="89892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0"/>
              <p:cNvGrpSpPr/>
              <p:nvPr/>
            </p:nvGrpSpPr>
            <p:grpSpPr>
              <a:xfrm>
                <a:off x="4301640" y="2874600"/>
                <a:ext cx="1138320" cy="1277280"/>
                <a:chOff x="4301640" y="2874600"/>
                <a:chExt cx="1138320" cy="1277280"/>
              </a:xfrm>
            </p:grpSpPr>
            <p:pic>
              <p:nvPicPr>
                <p:cNvPr id="781" name="燕尾形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01640" y="2874600"/>
                  <a:ext cx="1138320" cy="12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2" name="Text Box 12"/>
                <p:cNvSpPr/>
                <p:nvPr/>
              </p:nvSpPr>
              <p:spPr>
                <a:xfrm>
                  <a:off x="4644720" y="2880360"/>
                  <a:ext cx="450000" cy="12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3"/>
              <p:cNvGrpSpPr/>
              <p:nvPr/>
            </p:nvGrpSpPr>
            <p:grpSpPr>
              <a:xfrm>
                <a:off x="2797560" y="2085840"/>
                <a:ext cx="1427400" cy="1383120"/>
                <a:chOff x="2797560" y="2085840"/>
                <a:chExt cx="1427400" cy="1383120"/>
              </a:xfrm>
            </p:grpSpPr>
            <p:pic>
              <p:nvPicPr>
                <p:cNvPr id="784" name="燕尾形 2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02240" y="2085840"/>
                  <a:ext cx="1422720" cy="138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5" name="Text Box 15"/>
                <p:cNvSpPr/>
                <p:nvPr/>
              </p:nvSpPr>
              <p:spPr>
                <a:xfrm rot="14400000">
                  <a:off x="3186360" y="202968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16"/>
              <p:cNvGrpSpPr/>
              <p:nvPr/>
            </p:nvGrpSpPr>
            <p:grpSpPr>
              <a:xfrm>
                <a:off x="2797560" y="3563280"/>
                <a:ext cx="1427400" cy="1377360"/>
                <a:chOff x="2797560" y="3563280"/>
                <a:chExt cx="1427400" cy="1377360"/>
              </a:xfrm>
            </p:grpSpPr>
            <p:pic>
              <p:nvPicPr>
                <p:cNvPr id="787" name="燕尾形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02240" y="3563280"/>
                  <a:ext cx="1422720" cy="137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 Box 18"/>
                <p:cNvSpPr/>
                <p:nvPr/>
              </p:nvSpPr>
              <p:spPr>
                <a:xfrm rot="7200000">
                  <a:off x="3186720" y="3819960"/>
                  <a:ext cx="483840" cy="11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六边形 28"/>
              <p:cNvSpPr/>
              <p:nvPr/>
            </p:nvSpPr>
            <p:spPr>
              <a:xfrm>
                <a:off x="3233520" y="2775240"/>
                <a:ext cx="1366200" cy="1266840"/>
              </a:xfrm>
              <a:prstGeom prst="hexagon">
                <a:avLst>
                  <a:gd name="adj" fmla="val 27924"/>
                  <a:gd name="vf" fmla="val 115470"/>
                </a:avLst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燕尾形 29"/>
              <p:cNvSpPr/>
              <p:nvPr/>
            </p:nvSpPr>
            <p:spPr>
              <a:xfrm>
                <a:off x="4305240" y="2775240"/>
                <a:ext cx="1128600" cy="1266840"/>
              </a:xfrm>
              <a:custGeom>
                <a:avLst/>
                <a:gdLst>
                  <a:gd name="textAreaLeft" fmla="*/ 0 w 1128600"/>
                  <a:gd name="textAreaRight" fmla="*/ 1128960 w 1128600"/>
                  <a:gd name="textAreaTop" fmla="*/ 0 h 1266840"/>
                  <a:gd name="textAreaBottom" fmla="*/ 1267200 h 126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燕尾形 30"/>
              <p:cNvSpPr/>
              <p:nvPr/>
            </p:nvSpPr>
            <p:spPr>
              <a:xfrm rot="14400000">
                <a:off x="2821320" y="192420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燕尾形 31"/>
              <p:cNvSpPr/>
              <p:nvPr/>
            </p:nvSpPr>
            <p:spPr>
              <a:xfrm rot="7200000">
                <a:off x="2821680" y="3714840"/>
                <a:ext cx="1213920" cy="1177920"/>
              </a:xfrm>
              <a:custGeom>
                <a:avLst/>
                <a:gdLst>
                  <a:gd name="textAreaLeft" fmla="*/ 0 w 1213920"/>
                  <a:gd name="textAreaRight" fmla="*/ 1214280 w 121392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106" y="0"/>
                    </a:lnTo>
                    <a:lnTo>
                      <a:pt x="21600" y="10800"/>
                    </a:lnTo>
                    <a:lnTo>
                      <a:pt x="15106" y="21600"/>
                    </a:lnTo>
                    <a:lnTo>
                      <a:pt x="0" y="21600"/>
                    </a:lnTo>
                    <a:lnTo>
                      <a:pt x="6494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23"/>
            <p:cNvGrpSpPr/>
            <p:nvPr/>
          </p:nvGrpSpPr>
          <p:grpSpPr>
            <a:xfrm>
              <a:off x="3918960" y="571680"/>
              <a:ext cx="1938960" cy="2222280"/>
              <a:chOff x="3918960" y="571680"/>
              <a:chExt cx="1938960" cy="2222280"/>
            </a:xfrm>
          </p:grpSpPr>
          <p:pic>
            <p:nvPicPr>
              <p:cNvPr id="794" name="燕尾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927240" y="571680"/>
                <a:ext cx="1930680" cy="22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Text Box 25"/>
              <p:cNvSpPr/>
              <p:nvPr/>
            </p:nvSpPr>
            <p:spPr>
              <a:xfrm rot="7200000">
                <a:off x="4073760" y="1236240"/>
                <a:ext cx="1454760" cy="11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26"/>
            <p:cNvGrpSpPr/>
            <p:nvPr/>
          </p:nvGrpSpPr>
          <p:grpSpPr>
            <a:xfrm>
              <a:off x="1000080" y="2828160"/>
              <a:ext cx="2142360" cy="1245960"/>
              <a:chOff x="1000080" y="2828160"/>
              <a:chExt cx="2142360" cy="1245960"/>
            </a:xfrm>
          </p:grpSpPr>
          <p:pic>
            <p:nvPicPr>
              <p:cNvPr id="797" name="燕尾形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0080" y="2828160"/>
                <a:ext cx="2142360" cy="12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28"/>
              <p:cNvSpPr/>
              <p:nvPr/>
            </p:nvSpPr>
            <p:spPr>
              <a:xfrm>
                <a:off x="1365840" y="2833200"/>
                <a:ext cx="1409760" cy="12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9" name="Group 29"/>
          <p:cNvGrpSpPr/>
          <p:nvPr/>
        </p:nvGrpSpPr>
        <p:grpSpPr>
          <a:xfrm>
            <a:off x="1866600" y="1641960"/>
            <a:ext cx="3894840" cy="3928680"/>
            <a:chOff x="1866600" y="1641960"/>
            <a:chExt cx="3894840" cy="3928680"/>
          </a:xfrm>
        </p:grpSpPr>
        <p:pic>
          <p:nvPicPr>
            <p:cNvPr id="800" name="图片 38" descr="2.png"/>
            <p:cNvPicPr/>
            <p:nvPr/>
          </p:nvPicPr>
          <p:blipFill>
            <a:blip r:embed="rId8"/>
            <a:stretch/>
          </p:blipFill>
          <p:spPr>
            <a:xfrm rot="2853600">
              <a:off x="2043000" y="2801160"/>
              <a:ext cx="132480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39" descr="2.png"/>
            <p:cNvPicPr/>
            <p:nvPr/>
          </p:nvPicPr>
          <p:blipFill>
            <a:blip r:embed="rId9"/>
            <a:stretch/>
          </p:blipFill>
          <p:spPr>
            <a:xfrm rot="10256400">
              <a:off x="4360680" y="1739520"/>
              <a:ext cx="13251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图片 40" descr="2.png"/>
            <p:cNvPicPr/>
            <p:nvPr/>
          </p:nvPicPr>
          <p:blipFill>
            <a:blip r:embed="rId10"/>
            <a:stretch/>
          </p:blipFill>
          <p:spPr>
            <a:xfrm rot="17634000">
              <a:off x="4163400" y="4218480"/>
              <a:ext cx="1324800" cy="10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Group 33"/>
          <p:cNvGrpSpPr/>
          <p:nvPr/>
        </p:nvGrpSpPr>
        <p:grpSpPr>
          <a:xfrm>
            <a:off x="3357720" y="2071800"/>
            <a:ext cx="2143080" cy="2581200"/>
            <a:chOff x="3357720" y="2071800"/>
            <a:chExt cx="2143080" cy="2581200"/>
          </a:xfrm>
        </p:grpSpPr>
        <p:sp>
          <p:nvSpPr>
            <p:cNvPr id="804" name="TextBox 47"/>
            <p:cNvSpPr/>
            <p:nvPr/>
          </p:nvSpPr>
          <p:spPr>
            <a:xfrm>
              <a:off x="3357720" y="207180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48"/>
            <p:cNvSpPr/>
            <p:nvPr/>
          </p:nvSpPr>
          <p:spPr>
            <a:xfrm>
              <a:off x="5072400" y="314316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49"/>
            <p:cNvSpPr/>
            <p:nvPr/>
          </p:nvSpPr>
          <p:spPr>
            <a:xfrm>
              <a:off x="3357720" y="4071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50"/>
            <p:cNvSpPr/>
            <p:nvPr/>
          </p:nvSpPr>
          <p:spPr>
            <a:xfrm>
              <a:off x="3571920" y="31716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38"/>
          <p:cNvGrpSpPr/>
          <p:nvPr/>
        </p:nvGrpSpPr>
        <p:grpSpPr>
          <a:xfrm>
            <a:off x="357120" y="500040"/>
            <a:ext cx="2806560" cy="642960"/>
            <a:chOff x="357120" y="500040"/>
            <a:chExt cx="2806560" cy="642960"/>
          </a:xfrm>
        </p:grpSpPr>
        <p:sp>
          <p:nvSpPr>
            <p:cNvPr id="809" name="TextBox 3"/>
            <p:cNvSpPr/>
            <p:nvPr/>
          </p:nvSpPr>
          <p:spPr>
            <a:xfrm>
              <a:off x="1519920" y="5000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0" name="图片 53" descr="4.png"/>
            <p:cNvPicPr/>
            <p:nvPr/>
          </p:nvPicPr>
          <p:blipFill>
            <a:blip r:embed="rId11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Group 41"/>
          <p:cNvGrpSpPr/>
          <p:nvPr/>
        </p:nvGrpSpPr>
        <p:grpSpPr>
          <a:xfrm>
            <a:off x="-855720" y="1986120"/>
            <a:ext cx="4141800" cy="1371600"/>
            <a:chOff x="-855720" y="1986120"/>
            <a:chExt cx="4141800" cy="1371600"/>
          </a:xfrm>
        </p:grpSpPr>
        <p:grpSp>
          <p:nvGrpSpPr>
            <p:cNvPr id="812" name="平行四边形 45"/>
            <p:cNvGrpSpPr/>
            <p:nvPr/>
          </p:nvGrpSpPr>
          <p:grpSpPr>
            <a:xfrm>
              <a:off x="-855720" y="1986120"/>
              <a:ext cx="4141800" cy="1371600"/>
              <a:chOff x="-855720" y="1986120"/>
              <a:chExt cx="4141800" cy="1371600"/>
            </a:xfrm>
          </p:grpSpPr>
          <p:pic>
            <p:nvPicPr>
              <p:cNvPr id="813" name="平行四边形 45" descr=""/>
              <p:cNvPicPr/>
              <p:nvPr/>
            </p:nvPicPr>
            <p:blipFill>
              <a:blip r:embed="rId12"/>
              <a:stretch/>
            </p:blipFill>
            <p:spPr>
              <a:xfrm>
                <a:off x="-855720" y="1986120"/>
                <a:ext cx="41418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"/>
              <p:cNvSpPr/>
              <p:nvPr/>
            </p:nvSpPr>
            <p:spPr>
              <a:xfrm>
                <a:off x="-150480" y="2205360"/>
                <a:ext cx="276012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54"/>
            <p:cNvSpPr/>
            <p:nvPr/>
          </p:nvSpPr>
          <p:spPr>
            <a:xfrm>
              <a:off x="484560" y="23342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4"/>
          <p:cNvGrpSpPr/>
          <p:nvPr/>
        </p:nvGrpSpPr>
        <p:grpSpPr>
          <a:xfrm>
            <a:off x="-793800" y="3500280"/>
            <a:ext cx="4008600" cy="1371600"/>
            <a:chOff x="-793800" y="3500280"/>
            <a:chExt cx="4008600" cy="1371600"/>
          </a:xfrm>
        </p:grpSpPr>
        <p:grpSp>
          <p:nvGrpSpPr>
            <p:cNvPr id="817" name="平行四边形 44"/>
            <p:cNvGrpSpPr/>
            <p:nvPr/>
          </p:nvGrpSpPr>
          <p:grpSpPr>
            <a:xfrm>
              <a:off x="-793800" y="3500280"/>
              <a:ext cx="4008600" cy="1371600"/>
              <a:chOff x="-793800" y="3500280"/>
              <a:chExt cx="4008600" cy="1371600"/>
            </a:xfrm>
          </p:grpSpPr>
          <p:pic>
            <p:nvPicPr>
              <p:cNvPr id="818" name="平行四边形 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-793800" y="3500280"/>
                <a:ext cx="40086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-126720" y="3716280"/>
                <a:ext cx="27061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TextBox 55"/>
            <p:cNvSpPr/>
            <p:nvPr/>
          </p:nvSpPr>
          <p:spPr>
            <a:xfrm>
              <a:off x="485640" y="413064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47"/>
          <p:cNvGrpSpPr/>
          <p:nvPr/>
        </p:nvGrpSpPr>
        <p:grpSpPr>
          <a:xfrm>
            <a:off x="5572080" y="2714760"/>
            <a:ext cx="4000680" cy="1428480"/>
            <a:chOff x="5572080" y="2714760"/>
            <a:chExt cx="4000680" cy="1428480"/>
          </a:xfrm>
        </p:grpSpPr>
        <p:grpSp>
          <p:nvGrpSpPr>
            <p:cNvPr id="822" name="燕尾形 46"/>
            <p:cNvGrpSpPr/>
            <p:nvPr/>
          </p:nvGrpSpPr>
          <p:grpSpPr>
            <a:xfrm>
              <a:off x="5572080" y="2714760"/>
              <a:ext cx="4000680" cy="1428480"/>
              <a:chOff x="5572080" y="2714760"/>
              <a:chExt cx="4000680" cy="1428480"/>
            </a:xfrm>
          </p:grpSpPr>
          <p:pic>
            <p:nvPicPr>
              <p:cNvPr id="823" name="燕尾形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72080" y="2714760"/>
                <a:ext cx="400068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>
                <a:off x="5969880" y="2716560"/>
                <a:ext cx="3237120" cy="13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Box 56"/>
            <p:cNvSpPr/>
            <p:nvPr/>
          </p:nvSpPr>
          <p:spPr>
            <a:xfrm>
              <a:off x="6702120" y="320472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点击此处添加所需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186120" y="1145520"/>
            <a:ext cx="2977560" cy="952200"/>
            <a:chOff x="186120" y="1145520"/>
            <a:chExt cx="2977560" cy="952200"/>
          </a:xfrm>
        </p:grpSpPr>
        <p:sp>
          <p:nvSpPr>
            <p:cNvPr id="827" name="TextBox 3"/>
            <p:cNvSpPr/>
            <p:nvPr/>
          </p:nvSpPr>
          <p:spPr>
            <a:xfrm>
              <a:off x="1519920" y="12142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8" name="图片 13" descr="2.png"/>
            <p:cNvPicPr/>
            <p:nvPr/>
          </p:nvPicPr>
          <p:blipFill>
            <a:blip r:embed="rId1"/>
            <a:stretch/>
          </p:blipFill>
          <p:spPr>
            <a:xfrm rot="1422600">
              <a:off x="285480" y="1285560"/>
              <a:ext cx="838080" cy="6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TextBox 6"/>
          <p:cNvSpPr/>
          <p:nvPr/>
        </p:nvSpPr>
        <p:spPr>
          <a:xfrm>
            <a:off x="7866000" y="62737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4643280" y="2357280"/>
            <a:ext cx="3214800" cy="1143000"/>
            <a:chOff x="4643280" y="2357280"/>
            <a:chExt cx="3214800" cy="1143000"/>
          </a:xfrm>
        </p:grpSpPr>
        <p:sp>
          <p:nvSpPr>
            <p:cNvPr id="831" name="圆角矩形 16"/>
            <p:cNvSpPr/>
            <p:nvPr/>
          </p:nvSpPr>
          <p:spPr>
            <a:xfrm>
              <a:off x="4643280" y="235728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Box 20"/>
            <p:cNvSpPr/>
            <p:nvPr/>
          </p:nvSpPr>
          <p:spPr>
            <a:xfrm>
              <a:off x="5490720" y="25714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1279440" y="2374920"/>
            <a:ext cx="3214800" cy="1143000"/>
            <a:chOff x="1279440" y="2374920"/>
            <a:chExt cx="3214800" cy="1143000"/>
          </a:xfrm>
        </p:grpSpPr>
        <p:sp>
          <p:nvSpPr>
            <p:cNvPr id="834" name="圆角矩形 22"/>
            <p:cNvSpPr/>
            <p:nvPr/>
          </p:nvSpPr>
          <p:spPr>
            <a:xfrm>
              <a:off x="1279440" y="237492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Box 24"/>
            <p:cNvSpPr/>
            <p:nvPr/>
          </p:nvSpPr>
          <p:spPr>
            <a:xfrm>
              <a:off x="2205360" y="26290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4643280" y="3682800"/>
            <a:ext cx="3214800" cy="1143000"/>
            <a:chOff x="4643280" y="3682800"/>
            <a:chExt cx="3214800" cy="1143000"/>
          </a:xfrm>
        </p:grpSpPr>
        <p:sp>
          <p:nvSpPr>
            <p:cNvPr id="837" name="圆角矩形 30"/>
            <p:cNvSpPr/>
            <p:nvPr/>
          </p:nvSpPr>
          <p:spPr>
            <a:xfrm rot="10800000">
              <a:off x="4643280" y="368280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Box 29"/>
            <p:cNvSpPr/>
            <p:nvPr/>
          </p:nvSpPr>
          <p:spPr>
            <a:xfrm>
              <a:off x="5443920" y="386388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5"/>
          <p:cNvGrpSpPr/>
          <p:nvPr/>
        </p:nvGrpSpPr>
        <p:grpSpPr>
          <a:xfrm>
            <a:off x="1285920" y="3657240"/>
            <a:ext cx="3214800" cy="1143000"/>
            <a:chOff x="1285920" y="3657240"/>
            <a:chExt cx="3214800" cy="1143000"/>
          </a:xfrm>
        </p:grpSpPr>
        <p:sp>
          <p:nvSpPr>
            <p:cNvPr id="840" name="圆角矩形 35"/>
            <p:cNvSpPr/>
            <p:nvPr/>
          </p:nvSpPr>
          <p:spPr>
            <a:xfrm rot="10800000">
              <a:off x="1285920" y="3657240"/>
              <a:ext cx="3214800" cy="1143000"/>
            </a:xfrm>
            <a:prstGeom prst="roundRect">
              <a:avLst>
                <a:gd name="adj" fmla="val 6884"/>
              </a:avLst>
            </a:pr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Box 34"/>
            <p:cNvSpPr/>
            <p:nvPr/>
          </p:nvSpPr>
          <p:spPr>
            <a:xfrm>
              <a:off x="2205720" y="385704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正文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8"/>
          <p:cNvGrpSpPr/>
          <p:nvPr/>
        </p:nvGrpSpPr>
        <p:grpSpPr>
          <a:xfrm>
            <a:off x="785880" y="2708280"/>
            <a:ext cx="714240" cy="685800"/>
            <a:chOff x="785880" y="2708280"/>
            <a:chExt cx="714240" cy="685800"/>
          </a:xfrm>
        </p:grpSpPr>
        <p:pic>
          <p:nvPicPr>
            <p:cNvPr id="843" name="图片 37" descr="4.png"/>
            <p:cNvPicPr/>
            <p:nvPr/>
          </p:nvPicPr>
          <p:blipFill>
            <a:blip r:embed="rId2"/>
            <a:stretch/>
          </p:blipFill>
          <p:spPr>
            <a:xfrm>
              <a:off x="785880" y="2708280"/>
              <a:ext cx="714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TextBox 38"/>
            <p:cNvSpPr/>
            <p:nvPr/>
          </p:nvSpPr>
          <p:spPr>
            <a:xfrm>
              <a:off x="903960" y="28717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1"/>
          <p:cNvGrpSpPr/>
          <p:nvPr/>
        </p:nvGrpSpPr>
        <p:grpSpPr>
          <a:xfrm>
            <a:off x="7572240" y="2637000"/>
            <a:ext cx="714600" cy="685800"/>
            <a:chOff x="7572240" y="2637000"/>
            <a:chExt cx="714600" cy="685800"/>
          </a:xfrm>
        </p:grpSpPr>
        <p:pic>
          <p:nvPicPr>
            <p:cNvPr id="846" name="图片 41" descr="4.png"/>
            <p:cNvPicPr/>
            <p:nvPr/>
          </p:nvPicPr>
          <p:blipFill>
            <a:blip r:embed="rId3"/>
            <a:stretch/>
          </p:blipFill>
          <p:spPr>
            <a:xfrm>
              <a:off x="7572240" y="263700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42"/>
            <p:cNvSpPr/>
            <p:nvPr/>
          </p:nvSpPr>
          <p:spPr>
            <a:xfrm>
              <a:off x="7690680" y="28004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24"/>
          <p:cNvGrpSpPr/>
          <p:nvPr/>
        </p:nvGrpSpPr>
        <p:grpSpPr>
          <a:xfrm>
            <a:off x="857160" y="3922560"/>
            <a:ext cx="714600" cy="685800"/>
            <a:chOff x="857160" y="3922560"/>
            <a:chExt cx="714600" cy="685800"/>
          </a:xfrm>
        </p:grpSpPr>
        <p:pic>
          <p:nvPicPr>
            <p:cNvPr id="849" name="图片 44" descr="4.png"/>
            <p:cNvPicPr/>
            <p:nvPr/>
          </p:nvPicPr>
          <p:blipFill>
            <a:blip r:embed="rId4"/>
            <a:stretch/>
          </p:blipFill>
          <p:spPr>
            <a:xfrm>
              <a:off x="85716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Box 45"/>
            <p:cNvSpPr/>
            <p:nvPr/>
          </p:nvSpPr>
          <p:spPr>
            <a:xfrm>
              <a:off x="97560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7572240" y="3922560"/>
            <a:ext cx="714600" cy="685800"/>
            <a:chOff x="7572240" y="3922560"/>
            <a:chExt cx="714600" cy="685800"/>
          </a:xfrm>
        </p:grpSpPr>
        <p:pic>
          <p:nvPicPr>
            <p:cNvPr id="852" name="图片 47" descr="4.png"/>
            <p:cNvPicPr/>
            <p:nvPr/>
          </p:nvPicPr>
          <p:blipFill>
            <a:blip r:embed="rId5"/>
            <a:stretch/>
          </p:blipFill>
          <p:spPr>
            <a:xfrm>
              <a:off x="7572240" y="3922560"/>
              <a:ext cx="7146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TextBox 48"/>
            <p:cNvSpPr/>
            <p:nvPr/>
          </p:nvSpPr>
          <p:spPr>
            <a:xfrm>
              <a:off x="7690680" y="4086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1214280" y="1704960"/>
            <a:ext cx="6076080" cy="2208240"/>
            <a:chOff x="1214280" y="1704960"/>
            <a:chExt cx="6076080" cy="2208240"/>
          </a:xfrm>
        </p:grpSpPr>
        <p:grpSp>
          <p:nvGrpSpPr>
            <p:cNvPr id="855" name="Group 3"/>
            <p:cNvGrpSpPr/>
            <p:nvPr/>
          </p:nvGrpSpPr>
          <p:grpSpPr>
            <a:xfrm>
              <a:off x="1352880" y="2779560"/>
              <a:ext cx="5010480" cy="1012680"/>
              <a:chOff x="1352880" y="2779560"/>
              <a:chExt cx="5010480" cy="1012680"/>
            </a:xfrm>
          </p:grpSpPr>
          <p:pic>
            <p:nvPicPr>
              <p:cNvPr id="856" name="对角圆角矩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52880" y="2779560"/>
                <a:ext cx="5010480" cy="10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Text Box 5"/>
              <p:cNvSpPr/>
              <p:nvPr/>
            </p:nvSpPr>
            <p:spPr>
              <a:xfrm>
                <a:off x="1405440" y="2834640"/>
                <a:ext cx="4902840" cy="90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对角圆角矩形 16"/>
            <p:cNvSpPr/>
            <p:nvPr/>
          </p:nvSpPr>
          <p:spPr>
            <a:xfrm>
              <a:off x="1214280" y="2643120"/>
              <a:ext cx="5000040" cy="1000800"/>
            </a:xfrm>
            <a:custGeom>
              <a:avLst/>
              <a:gdLst>
                <a:gd name="textAreaLeft" fmla="*/ 48600 w 5000040"/>
                <a:gd name="textAreaRight" fmla="*/ 4951440 w 5000040"/>
                <a:gd name="textAreaTop" fmla="*/ 48600 h 1000800"/>
                <a:gd name="textAreaBottom" fmla="*/ 952200 h 1000800"/>
              </a:gdLst>
              <a:ahLst/>
              <a:rect l="textAreaLeft" t="textAreaTop" r="textAreaRight" b="textAreaBottom"/>
              <a:pathLst>
                <a:path w="5000660" h="1000132">
                  <a:moveTo>
                    <a:pt x="166692" y="0"/>
                  </a:moveTo>
                  <a:lnTo>
                    <a:pt x="5000660" y="0"/>
                  </a:lnTo>
                  <a:lnTo>
                    <a:pt x="5000660" y="833440"/>
                  </a:lnTo>
                  <a:cubicBezTo>
                    <a:pt x="5000660" y="925501"/>
                    <a:pt x="4926029" y="1000131"/>
                    <a:pt x="4833968" y="1000132"/>
                  </a:cubicBezTo>
                  <a:lnTo>
                    <a:pt x="0" y="1000132"/>
                  </a:lnTo>
                  <a:lnTo>
                    <a:pt x="0" y="166692"/>
                  </a:lnTo>
                  <a:cubicBezTo>
                    <a:pt x="0" y="74630"/>
                    <a:pt x="74630" y="0"/>
                    <a:pt x="166691" y="0"/>
                  </a:cubicBezTo>
                  <a:lnTo>
                    <a:pt x="166692" y="0"/>
                  </a:lnTo>
                  <a:close/>
                </a:path>
              </a:pathLst>
            </a:cu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图片 8" descr="1.png"/>
            <p:cNvPicPr/>
            <p:nvPr/>
          </p:nvPicPr>
          <p:blipFill>
            <a:blip r:embed="rId2"/>
            <a:stretch/>
          </p:blipFill>
          <p:spPr>
            <a:xfrm rot="221400">
              <a:off x="6067440" y="1739880"/>
              <a:ext cx="11552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Box 17"/>
            <p:cNvSpPr/>
            <p:nvPr/>
          </p:nvSpPr>
          <p:spPr>
            <a:xfrm>
              <a:off x="2113560" y="278604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TextBox 19"/>
          <p:cNvSpPr/>
          <p:nvPr/>
        </p:nvSpPr>
        <p:spPr>
          <a:xfrm>
            <a:off x="1359360" y="1785960"/>
            <a:ext cx="17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在此输入正文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10"/>
          <p:cNvGrpSpPr/>
          <p:nvPr/>
        </p:nvGrpSpPr>
        <p:grpSpPr>
          <a:xfrm>
            <a:off x="1214280" y="3857760"/>
            <a:ext cx="5143680" cy="2060280"/>
            <a:chOff x="1214280" y="3857760"/>
            <a:chExt cx="5143680" cy="2060280"/>
          </a:xfrm>
        </p:grpSpPr>
        <p:grpSp>
          <p:nvGrpSpPr>
            <p:cNvPr id="863" name="Group 11"/>
            <p:cNvGrpSpPr/>
            <p:nvPr/>
          </p:nvGrpSpPr>
          <p:grpSpPr>
            <a:xfrm>
              <a:off x="1352880" y="3992760"/>
              <a:ext cx="5005080" cy="1012320"/>
              <a:chOff x="1352880" y="3992760"/>
              <a:chExt cx="5005080" cy="1012320"/>
            </a:xfrm>
          </p:grpSpPr>
          <p:pic>
            <p:nvPicPr>
              <p:cNvPr id="864" name="对角圆角矩形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2880" y="3992760"/>
                <a:ext cx="5005080" cy="101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Text Box 13"/>
              <p:cNvSpPr/>
              <p:nvPr/>
            </p:nvSpPr>
            <p:spPr>
              <a:xfrm>
                <a:off x="1405440" y="4048920"/>
                <a:ext cx="4897440" cy="9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对角圆角矩形 23"/>
            <p:cNvSpPr/>
            <p:nvPr/>
          </p:nvSpPr>
          <p:spPr>
            <a:xfrm>
              <a:off x="1214280" y="3857760"/>
              <a:ext cx="4995000" cy="1000440"/>
            </a:xfrm>
            <a:custGeom>
              <a:avLst/>
              <a:gdLst>
                <a:gd name="textAreaLeft" fmla="*/ 48600 w 4995000"/>
                <a:gd name="textAreaRight" fmla="*/ 4946400 w 4995000"/>
                <a:gd name="textAreaTop" fmla="*/ 48600 h 1000440"/>
                <a:gd name="textAreaBottom" fmla="*/ 951840 h 1000440"/>
              </a:gdLst>
              <a:ahLst/>
              <a:rect l="textAreaLeft" t="textAreaTop" r="textAreaRight" b="textAreaBottom"/>
              <a:pathLst>
                <a:path w="5000660" h="1000132">
                  <a:moveTo>
                    <a:pt x="166692" y="0"/>
                  </a:moveTo>
                  <a:lnTo>
                    <a:pt x="5000660" y="0"/>
                  </a:lnTo>
                  <a:lnTo>
                    <a:pt x="5000660" y="833440"/>
                  </a:lnTo>
                  <a:cubicBezTo>
                    <a:pt x="5000660" y="925501"/>
                    <a:pt x="4926029" y="1000131"/>
                    <a:pt x="4833968" y="1000132"/>
                  </a:cubicBezTo>
                  <a:lnTo>
                    <a:pt x="0" y="1000132"/>
                  </a:lnTo>
                  <a:lnTo>
                    <a:pt x="0" y="166692"/>
                  </a:lnTo>
                  <a:cubicBezTo>
                    <a:pt x="0" y="74630"/>
                    <a:pt x="74630" y="0"/>
                    <a:pt x="166691" y="0"/>
                  </a:cubicBezTo>
                  <a:lnTo>
                    <a:pt x="166692" y="0"/>
                  </a:lnTo>
                  <a:close/>
                </a:path>
              </a:pathLst>
            </a:custGeom>
            <a:noFill/>
            <a:ln w="25560">
              <a:solidFill>
                <a:srgbClr val="3e0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7" name="图片 24" descr="1.png"/>
            <p:cNvPicPr/>
            <p:nvPr/>
          </p:nvPicPr>
          <p:blipFill>
            <a:blip r:embed="rId4"/>
            <a:stretch/>
          </p:blipFill>
          <p:spPr>
            <a:xfrm flipH="1" rot="16048800">
              <a:off x="4650480" y="4229280"/>
              <a:ext cx="1155960" cy="21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Box 25"/>
            <p:cNvSpPr/>
            <p:nvPr/>
          </p:nvSpPr>
          <p:spPr>
            <a:xfrm>
              <a:off x="2111760" y="4000680"/>
              <a:ext cx="164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e003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在此输入文本框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7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870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图片 26" descr="4.png"/>
            <p:cNvPicPr/>
            <p:nvPr/>
          </p:nvPicPr>
          <p:blipFill>
            <a:blip r:embed="rId5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梯形 6"/>
          <p:cNvSpPr/>
          <p:nvPr/>
        </p:nvSpPr>
        <p:spPr>
          <a:xfrm>
            <a:off x="2428920" y="3143160"/>
            <a:ext cx="1928880" cy="714600"/>
          </a:xfrm>
          <a:custGeom>
            <a:avLst/>
            <a:gdLst>
              <a:gd name="textAreaLeft" fmla="*/ 118800 w 1928880"/>
              <a:gd name="textAreaRight" fmla="*/ 1810080 w 192888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梯形 7"/>
          <p:cNvSpPr/>
          <p:nvPr/>
        </p:nvSpPr>
        <p:spPr>
          <a:xfrm rot="10800000">
            <a:off x="4286160" y="3142800"/>
            <a:ext cx="1928880" cy="714600"/>
          </a:xfrm>
          <a:custGeom>
            <a:avLst/>
            <a:gdLst>
              <a:gd name="textAreaLeft" fmla="*/ 118800 w 1928880"/>
              <a:gd name="textAreaRight" fmla="*/ 1810080 w 192888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梯形 8"/>
          <p:cNvSpPr/>
          <p:nvPr/>
        </p:nvSpPr>
        <p:spPr>
          <a:xfrm rot="10800000">
            <a:off x="571320" y="3142800"/>
            <a:ext cx="1928520" cy="714600"/>
          </a:xfrm>
          <a:custGeom>
            <a:avLst/>
            <a:gdLst>
              <a:gd name="textAreaLeft" fmla="*/ 118800 w 1928520"/>
              <a:gd name="textAreaRight" fmla="*/ 1809720 w 192852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梯形 9"/>
          <p:cNvSpPr/>
          <p:nvPr/>
        </p:nvSpPr>
        <p:spPr>
          <a:xfrm>
            <a:off x="6143760" y="3143160"/>
            <a:ext cx="1928520" cy="714600"/>
          </a:xfrm>
          <a:custGeom>
            <a:avLst/>
            <a:gdLst>
              <a:gd name="textAreaLeft" fmla="*/ 118800 w 1928520"/>
              <a:gd name="textAreaRight" fmla="*/ 1809720 w 1928520"/>
              <a:gd name="textAreaTop" fmla="*/ 43920 h 714600"/>
              <a:gd name="textAreaBottom" fmla="*/ 714960 h 714600"/>
            </a:gdLst>
            <a:ahLst/>
            <a:rect l="textAreaLeft" t="textAreaTop" r="textAreaRight" b="textAreaBottom"/>
            <a:pathLst>
              <a:path w="1928826" h="714380">
                <a:moveTo>
                  <a:pt x="0" y="714380"/>
                </a:moveTo>
                <a:lnTo>
                  <a:pt x="178595" y="0"/>
                </a:lnTo>
                <a:lnTo>
                  <a:pt x="1750231" y="0"/>
                </a:lnTo>
                <a:lnTo>
                  <a:pt x="1928826" y="714380"/>
                </a:lnTo>
                <a:lnTo>
                  <a:pt x="0" y="714380"/>
                </a:lnTo>
                <a:close/>
              </a:path>
            </a:pathLst>
          </a:cu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1" descr="4.png"/>
          <p:cNvPicPr/>
          <p:nvPr/>
        </p:nvPicPr>
        <p:blipFill>
          <a:blip r:embed="rId1"/>
          <a:stretch/>
        </p:blipFill>
        <p:spPr>
          <a:xfrm>
            <a:off x="214308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" descr="4.png"/>
          <p:cNvPicPr/>
          <p:nvPr/>
        </p:nvPicPr>
        <p:blipFill>
          <a:blip r:embed="rId2"/>
          <a:stretch/>
        </p:blipFill>
        <p:spPr>
          <a:xfrm>
            <a:off x="357120" y="321480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3" descr="4.png"/>
          <p:cNvPicPr/>
          <p:nvPr/>
        </p:nvPicPr>
        <p:blipFill>
          <a:blip r:embed="rId3"/>
          <a:stretch/>
        </p:blipFill>
        <p:spPr>
          <a:xfrm>
            <a:off x="4071960" y="3286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4" descr="4.png"/>
          <p:cNvPicPr/>
          <p:nvPr/>
        </p:nvPicPr>
        <p:blipFill>
          <a:blip r:embed="rId4"/>
          <a:stretch/>
        </p:blipFill>
        <p:spPr>
          <a:xfrm>
            <a:off x="5929200" y="321480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16"/>
          <p:cNvSpPr/>
          <p:nvPr/>
        </p:nvSpPr>
        <p:spPr>
          <a:xfrm>
            <a:off x="1239840" y="3286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7"/>
          <p:cNvSpPr/>
          <p:nvPr/>
        </p:nvSpPr>
        <p:spPr>
          <a:xfrm>
            <a:off x="304668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8"/>
          <p:cNvSpPr/>
          <p:nvPr/>
        </p:nvSpPr>
        <p:spPr>
          <a:xfrm>
            <a:off x="486756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19"/>
          <p:cNvSpPr/>
          <p:nvPr/>
        </p:nvSpPr>
        <p:spPr>
          <a:xfrm>
            <a:off x="6690240" y="3286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003e"/>
                </a:solidFill>
                <a:latin typeface="微软雅黑"/>
                <a:ea typeface="微软雅黑"/>
              </a:rPr>
              <a:t>阶段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形状 29"/>
          <p:cNvCxnSpPr/>
          <p:nvPr/>
        </p:nvCxnSpPr>
        <p:spPr>
          <a:xfrm flipH="1" flipV="1" rot="5400000">
            <a:off x="879840" y="2118960"/>
            <a:ext cx="900720" cy="109116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885" name="形状 30"/>
          <p:cNvCxnSpPr/>
          <p:nvPr/>
        </p:nvCxnSpPr>
        <p:spPr>
          <a:xfrm rot="5400000">
            <a:off x="295740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886" name="形状 39"/>
          <p:cNvCxnSpPr/>
          <p:nvPr/>
        </p:nvCxnSpPr>
        <p:spPr>
          <a:xfrm rot="5400000">
            <a:off x="6457680" y="3757680"/>
            <a:ext cx="948240" cy="114804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cxnSp>
        <p:nvCxnSpPr>
          <p:cNvPr id="887" name="形状 41"/>
          <p:cNvCxnSpPr/>
          <p:nvPr/>
        </p:nvCxnSpPr>
        <p:spPr>
          <a:xfrm flipH="1" flipV="1" rot="5400000">
            <a:off x="4738320" y="2118960"/>
            <a:ext cx="900720" cy="1091520"/>
          </a:xfrm>
          <a:prstGeom prst="curvedConnector2">
            <a:avLst/>
          </a:prstGeom>
          <a:ln w="28440">
            <a:solidFill>
              <a:srgbClr val="660066"/>
            </a:solidFill>
            <a:prstDash val="dash"/>
            <a:miter/>
            <a:tailEnd len="med" type="arrow" w="med"/>
          </a:ln>
        </p:spPr>
      </p:cxnSp>
      <p:grpSp>
        <p:nvGrpSpPr>
          <p:cNvPr id="888" name="Group 18"/>
          <p:cNvGrpSpPr/>
          <p:nvPr/>
        </p:nvGrpSpPr>
        <p:grpSpPr>
          <a:xfrm>
            <a:off x="285840" y="4143240"/>
            <a:ext cx="2571840" cy="1288800"/>
            <a:chOff x="285840" y="4143240"/>
            <a:chExt cx="2571840" cy="1288800"/>
          </a:xfrm>
        </p:grpSpPr>
        <p:grpSp>
          <p:nvGrpSpPr>
            <p:cNvPr id="889" name="Group 19"/>
            <p:cNvGrpSpPr/>
            <p:nvPr/>
          </p:nvGrpSpPr>
          <p:grpSpPr>
            <a:xfrm>
              <a:off x="285840" y="4143240"/>
              <a:ext cx="2571840" cy="1288800"/>
              <a:chOff x="285840" y="4143240"/>
              <a:chExt cx="2571840" cy="1288800"/>
            </a:xfrm>
          </p:grpSpPr>
          <p:grpSp>
            <p:nvGrpSpPr>
              <p:cNvPr id="890" name="Group 20"/>
              <p:cNvGrpSpPr/>
              <p:nvPr/>
            </p:nvGrpSpPr>
            <p:grpSpPr>
              <a:xfrm>
                <a:off x="285840" y="4143240"/>
                <a:ext cx="2571840" cy="1221120"/>
                <a:chOff x="285840" y="4143240"/>
                <a:chExt cx="2571840" cy="1221120"/>
              </a:xfrm>
            </p:grpSpPr>
            <p:pic>
              <p:nvPicPr>
                <p:cNvPr id="891" name="对角圆角矩形 4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5840" y="4143240"/>
                  <a:ext cx="2571840" cy="122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2" name="Text Box 22"/>
                <p:cNvSpPr/>
                <p:nvPr/>
              </p:nvSpPr>
              <p:spPr>
                <a:xfrm>
                  <a:off x="468000" y="4324680"/>
                  <a:ext cx="2205000" cy="85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93" name="图片 48" descr="1.png"/>
              <p:cNvPicPr/>
              <p:nvPr/>
            </p:nvPicPr>
            <p:blipFill>
              <a:blip r:embed="rId6"/>
              <a:stretch/>
            </p:blipFill>
            <p:spPr>
              <a:xfrm rot="16446600">
                <a:off x="579960" y="4489920"/>
                <a:ext cx="632880" cy="116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4" name="TextBox 54"/>
            <p:cNvSpPr/>
            <p:nvPr/>
          </p:nvSpPr>
          <p:spPr>
            <a:xfrm>
              <a:off x="1068840" y="4500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25"/>
          <p:cNvGrpSpPr/>
          <p:nvPr/>
        </p:nvGrpSpPr>
        <p:grpSpPr>
          <a:xfrm>
            <a:off x="1719000" y="1785960"/>
            <a:ext cx="2781720" cy="1301760"/>
            <a:chOff x="1719000" y="1785960"/>
            <a:chExt cx="2781720" cy="1301760"/>
          </a:xfrm>
        </p:grpSpPr>
        <p:grpSp>
          <p:nvGrpSpPr>
            <p:cNvPr id="896" name="Group 26"/>
            <p:cNvGrpSpPr/>
            <p:nvPr/>
          </p:nvGrpSpPr>
          <p:grpSpPr>
            <a:xfrm>
              <a:off x="1719000" y="1785960"/>
              <a:ext cx="2781720" cy="1301760"/>
              <a:chOff x="1719000" y="1785960"/>
              <a:chExt cx="2781720" cy="1301760"/>
            </a:xfrm>
          </p:grpSpPr>
          <p:grpSp>
            <p:nvGrpSpPr>
              <p:cNvPr id="897" name="Group 27"/>
              <p:cNvGrpSpPr/>
              <p:nvPr/>
            </p:nvGrpSpPr>
            <p:grpSpPr>
              <a:xfrm>
                <a:off x="1857240" y="1785960"/>
                <a:ext cx="2643480" cy="1220040"/>
                <a:chOff x="1857240" y="1785960"/>
                <a:chExt cx="2643480" cy="1220040"/>
              </a:xfrm>
            </p:grpSpPr>
            <p:pic>
              <p:nvPicPr>
                <p:cNvPr id="898" name="对角圆角矩形 4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7240" y="1785960"/>
                  <a:ext cx="2643480" cy="122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9" name="Text Box 29"/>
                <p:cNvSpPr/>
                <p:nvPr/>
              </p:nvSpPr>
              <p:spPr>
                <a:xfrm>
                  <a:off x="2038680" y="1968840"/>
                  <a:ext cx="2280600" cy="85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00" name="图片 50" descr="1.png"/>
              <p:cNvPicPr/>
              <p:nvPr/>
            </p:nvPicPr>
            <p:blipFill>
              <a:blip r:embed="rId8"/>
              <a:stretch/>
            </p:blipFill>
            <p:spPr>
              <a:xfrm rot="924600">
                <a:off x="1862640" y="1854720"/>
                <a:ext cx="63324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1" name="TextBox 58"/>
            <p:cNvSpPr/>
            <p:nvPr/>
          </p:nvSpPr>
          <p:spPr>
            <a:xfrm>
              <a:off x="2783160" y="21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32"/>
          <p:cNvGrpSpPr/>
          <p:nvPr/>
        </p:nvGrpSpPr>
        <p:grpSpPr>
          <a:xfrm>
            <a:off x="5715000" y="1785960"/>
            <a:ext cx="2617200" cy="1252440"/>
            <a:chOff x="5715000" y="1785960"/>
            <a:chExt cx="2617200" cy="1252440"/>
          </a:xfrm>
        </p:grpSpPr>
        <p:grpSp>
          <p:nvGrpSpPr>
            <p:cNvPr id="903" name="Group 33"/>
            <p:cNvGrpSpPr/>
            <p:nvPr/>
          </p:nvGrpSpPr>
          <p:grpSpPr>
            <a:xfrm>
              <a:off x="5715000" y="1785960"/>
              <a:ext cx="2573280" cy="1214280"/>
              <a:chOff x="5715000" y="1785960"/>
              <a:chExt cx="2573280" cy="1214280"/>
            </a:xfrm>
          </p:grpSpPr>
          <p:pic>
            <p:nvPicPr>
              <p:cNvPr id="904" name="对角圆角矩形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5000" y="1785960"/>
                <a:ext cx="257328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Text Box 35"/>
              <p:cNvSpPr/>
              <p:nvPr/>
            </p:nvSpPr>
            <p:spPr>
              <a:xfrm>
                <a:off x="5895360" y="1967760"/>
                <a:ext cx="2211480" cy="8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6" name="图片 52" descr="1.png"/>
            <p:cNvPicPr/>
            <p:nvPr/>
          </p:nvPicPr>
          <p:blipFill>
            <a:blip r:embed="rId10"/>
            <a:stretch/>
          </p:blipFill>
          <p:spPr>
            <a:xfrm flipH="1" rot="4801800">
              <a:off x="7387560" y="2043360"/>
              <a:ext cx="62964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TextBox 59"/>
            <p:cNvSpPr/>
            <p:nvPr/>
          </p:nvSpPr>
          <p:spPr>
            <a:xfrm>
              <a:off x="6355440" y="221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38"/>
          <p:cNvGrpSpPr/>
          <p:nvPr/>
        </p:nvGrpSpPr>
        <p:grpSpPr>
          <a:xfrm>
            <a:off x="3786120" y="4025160"/>
            <a:ext cx="2650680" cy="1357920"/>
            <a:chOff x="3786120" y="4025160"/>
            <a:chExt cx="2650680" cy="1357920"/>
          </a:xfrm>
        </p:grpSpPr>
        <p:grpSp>
          <p:nvGrpSpPr>
            <p:cNvPr id="909" name="Group 39"/>
            <p:cNvGrpSpPr/>
            <p:nvPr/>
          </p:nvGrpSpPr>
          <p:grpSpPr>
            <a:xfrm>
              <a:off x="3786120" y="4163040"/>
              <a:ext cx="2577960" cy="1220040"/>
              <a:chOff x="3786120" y="4163040"/>
              <a:chExt cx="2577960" cy="1220040"/>
            </a:xfrm>
          </p:grpSpPr>
          <p:pic>
            <p:nvPicPr>
              <p:cNvPr id="910" name="对角圆角矩形 4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6120" y="4163040"/>
                <a:ext cx="2577960" cy="122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Text Box 41"/>
              <p:cNvSpPr/>
              <p:nvPr/>
            </p:nvSpPr>
            <p:spPr>
              <a:xfrm>
                <a:off x="3970080" y="4344480"/>
                <a:ext cx="221040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2" name="图片 51" descr="1.png"/>
            <p:cNvPicPr/>
            <p:nvPr/>
          </p:nvPicPr>
          <p:blipFill>
            <a:blip r:embed="rId12"/>
            <a:stretch/>
          </p:blipFill>
          <p:spPr>
            <a:xfrm rot="5119800">
              <a:off x="5510520" y="3801960"/>
              <a:ext cx="6325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TextBox 60"/>
            <p:cNvSpPr/>
            <p:nvPr/>
          </p:nvSpPr>
          <p:spPr>
            <a:xfrm>
              <a:off x="4215960" y="4594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44"/>
          <p:cNvGrpSpPr/>
          <p:nvPr/>
        </p:nvGrpSpPr>
        <p:grpSpPr>
          <a:xfrm>
            <a:off x="357120" y="500040"/>
            <a:ext cx="3052080" cy="642960"/>
            <a:chOff x="357120" y="500040"/>
            <a:chExt cx="3052080" cy="642960"/>
          </a:xfrm>
        </p:grpSpPr>
        <p:sp>
          <p:nvSpPr>
            <p:cNvPr id="915" name="TextBox 3"/>
            <p:cNvSpPr/>
            <p:nvPr/>
          </p:nvSpPr>
          <p:spPr>
            <a:xfrm>
              <a:off x="1582560" y="50004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e003e"/>
                  </a:solidFill>
                  <a:latin typeface="微软雅黑"/>
                  <a:ea typeface="微软雅黑"/>
                </a:rPr>
                <a:t>添加二级标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6" name="图片 67" descr="4.png"/>
            <p:cNvPicPr/>
            <p:nvPr/>
          </p:nvPicPr>
          <p:blipFill>
            <a:blip r:embed="rId13"/>
            <a:stretch/>
          </p:blipFill>
          <p:spPr>
            <a:xfrm>
              <a:off x="357120" y="500040"/>
              <a:ext cx="67068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Box 8"/>
          <p:cNvSpPr/>
          <p:nvPr/>
        </p:nvSpPr>
        <p:spPr>
          <a:xfrm>
            <a:off x="3492720" y="2643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003e"/>
                </a:solidFill>
                <a:latin typeface="微软雅黑"/>
                <a:ea typeface="微软雅黑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9" descr="小祥云.png"/>
          <p:cNvPicPr/>
          <p:nvPr/>
        </p:nvPicPr>
        <p:blipFill>
          <a:blip r:embed="rId1"/>
          <a:stretch/>
        </p:blipFill>
        <p:spPr>
          <a:xfrm>
            <a:off x="1643040" y="2500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919" name="图片 11" descr="2.png"/>
          <p:cNvPicPr/>
          <p:nvPr/>
        </p:nvPicPr>
        <p:blipFill>
          <a:blip r:embed="rId2"/>
          <a:stretch/>
        </p:blipFill>
        <p:spPr>
          <a:xfrm>
            <a:off x="5756400" y="307188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9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0.48229 -0.00556 E">
                                      <p:cBhvr>
                                        <p:cTn id="138" dur="11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1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9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任意多边形 2"/>
          <p:cNvSpPr/>
          <p:nvPr/>
        </p:nvSpPr>
        <p:spPr>
          <a:xfrm>
            <a:off x="71928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3"/>
          <p:cNvSpPr/>
          <p:nvPr/>
        </p:nvSpPr>
        <p:spPr>
          <a:xfrm>
            <a:off x="1308240" y="2949480"/>
            <a:ext cx="783576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6"/>
          <p:cNvSpPr/>
          <p:nvPr/>
        </p:nvSpPr>
        <p:spPr>
          <a:xfrm>
            <a:off x="0" y="2182680"/>
            <a:ext cx="77882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角三角形 5"/>
          <p:cNvSpPr/>
          <p:nvPr/>
        </p:nvSpPr>
        <p:spPr>
          <a:xfrm>
            <a:off x="7788240" y="2178000"/>
            <a:ext cx="8874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1:14:52Z</dcterms:created>
  <dc:creator>www.pptbz.com</dc:creator>
  <dc:description/>
  <cp:keywords/>
  <dc:language>en-US</dc:language>
  <cp:lastModifiedBy>Administrator</cp:lastModifiedBy>
  <cp:lastPrinted>1899-12-30T00:00:00Z</cp:lastPrinted>
  <dcterms:modified xsi:type="dcterms:W3CDTF">2015-05-26T02:43:12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91</vt:lpwstr>
  </property>
</Properties>
</file>