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ind.wav" ContentType="audio/x-wav"/>
  <Override PartName="/ppt/media/chimes.wav" ContentType="audio/x-wav"/>
  <Override PartName="/ppt/media/image12.jpeg" ContentType="image/jpeg"/>
  <Override PartName="/ppt/media/cashreg.wav" ContentType="audio/x-wav"/>
  <Override PartName="/ppt/media/hammer.wav" ContentType="audio/x-wav"/>
  <Override PartName="/ppt/media/image7.jpeg" ContentType="image/jpeg"/>
  <Override PartName="/ppt/media/image6.jpeg" ContentType="image/jpeg"/>
  <Override PartName="/ppt/media/type.wav" ContentType="audio/x-wav"/>
  <Override PartName="/ppt/media/image15.jpeg" ContentType="image/jpeg"/>
  <Override PartName="/ppt/media/laser.wav" ContentType="audio/x-wav"/>
  <Override PartName="/ppt/media/image14.jpeg" ContentType="image/jpeg"/>
  <Override PartName="/ppt/media/camera.wav" ContentType="audio/x-wav"/>
  <Override PartName="/ppt/media/coin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suction.wav" ContentType="audio/x-wav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C48-0234-466E-AC5D-4B7FA8E7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C40-C76B-44AD-A7B4-18D32D15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2DA7F-D236-4C65-BF4C-C2C4793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C8C9F-582D-46AA-87C9-9E94C731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92146-C1B6-4B4D-9F56-4060639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9DF67-D08E-43AD-9513-A7B3C80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BFC5C-DD9F-42EC-9983-44C408F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D3512-58C5-4E2F-88D8-8E82632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AC94E-39A7-4C71-9807-2FA05EE3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7B4D4-21DA-4D26-A9B2-C399ACC7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C839A-2D4B-4DCD-A5EE-E150E460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EFA81-8F62-4F19-B85A-D46E9FB2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C69-3094-4C51-8038-D9F836DB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50C2B-F075-47F4-A832-5BE2FCC1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16B96-CBC0-4189-A871-90AE60B3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FB0ED-A957-4FFC-BCEC-958ADF2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4D6AD-69FE-466F-8587-18B2541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9829F-EB11-45CB-BA2C-48E3BE24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0A35-ACE5-4006-A168-34EB654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3730C-E9AD-4504-88F7-12439B8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5D4BB-7E85-4699-9603-541F3BFC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BC0DC-AABB-493C-B023-44682FD1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F3CE0-D62A-4EBD-B120-EA4860B7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1D8-1454-4FB0-A238-FB50C9D7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488D1-CB64-4BA2-9E30-085F09F7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7E34-D879-460D-B6D3-530984B2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6E7EC-A19F-4AC6-B9CF-2255C4CB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9FB5C-C6FA-428E-A0A2-CE64C34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14830-805D-4283-B463-B33097F2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F381B-1F9B-462E-854E-5DB2974D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772B-BA95-43C4-8658-12E3A45E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87BC3-9DE6-44A9-B954-A17A1FF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69862-C46A-49BE-9FC4-1AD4DED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36125-B98F-4BD8-AA7E-60CA6A4D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6B2-6FFF-445C-AF83-A122E382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CA6D7-D0E8-4C97-8D65-9D10FB0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D3347-2329-4F69-8743-3EFA2279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8DC95-987F-4F0E-9994-55567023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6D40B-98B2-479A-BA4A-9ABCB6EB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BAEA6-3270-4B44-97ED-15AC4489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F2CED-E524-4942-AC05-1CC86EB7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DFAB6-8220-4C9F-BD4A-0BFF189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4D634-00EE-48C5-98BC-3DC8CE29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F5376-4980-43BA-805C-2DD7D371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76CB8-6EC0-4779-BD87-CD515D3F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952-7F56-4CE5-88EA-89AD3238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C4926-6DA1-41EC-8FFF-ADB675C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03DC4-3A03-481F-B4D3-EC2DB04A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13F9B-31F2-4763-8688-812C2EB7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5D498-7A2D-40C5-B1BB-5948D3A3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E1554-0F94-4E9A-B086-052B2A61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1E44-D3A7-47DE-BDCD-77E9D98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7B56-CD28-4B68-B834-6B299EFD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56B3-807F-4E8A-89B5-531526D9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13C5-6C3E-402E-99EE-5D92FDA6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9DE9-DA21-4A4B-A5DE-7EF481D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BA3-C154-45B0-BC9C-67474BBA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951D-8293-4C73-ABC9-DE47F19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CEB0-12ED-4B32-9171-8395CD8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69FB-426A-48DF-8FBD-879C3BD6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EFEB-9602-4520-81F2-9A02240D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592-61F5-45F5-A325-3D2D2AEA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F199-A617-45E5-8443-0EBEF81C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2C0B-98E4-4056-AC37-DFDEE7E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373B-BF0F-475E-B72B-5D88F038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7404-4D3A-4286-AA4A-DA71222A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217B-6C9F-47BF-B5AC-198C12E5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F7D-3841-45F4-90A3-0F975DA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D4E2-0F18-4944-A1A4-2DA3AB9F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81A0-F49C-4CB3-A497-67BA684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0AA8-044A-49C4-9E27-B34DADF1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C1DD-F5F2-4BBB-B425-3BC28B4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45CB-CCE1-464B-9117-A4DFEDE2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1571-7702-4A95-8B11-3B3D188D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B3C3-E48C-4024-B45D-DD0D2223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4290-E8A7-4439-9037-958165A3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FCDA-ABD6-4687-8E84-74F67937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7185-BA70-4C26-9513-2F023B21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F39-66C0-433B-8B9D-CDDD108F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D142-33D7-4A0C-8E59-8964209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812E-462B-4F5B-AA8E-7F9AEC44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2707-0DD8-461F-8C15-8643DDF3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43D1-6A04-42E4-8D18-45670DE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C98C-8059-47E0-819A-E9CD3C7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EA41-9950-4EB6-8432-122B453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81E3-1ADC-400B-AFE4-35B488A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E28C-3F9F-440F-996B-49D05AE8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B966-5AD9-49E6-AE1C-CF8B62B2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9F29-23DB-49CC-8074-F1917122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75A-DFCD-483D-AF07-282B1D54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C91E-694F-46A0-B234-F1EDA43E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89C00-4495-4CD7-926A-267799A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3716-9022-4B4F-8296-02EF259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38E4-6666-4CEA-803B-AF92B77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2002-0EDD-4539-9DE1-6E1ED275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4FA4-B691-49E1-9C00-9609EE8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ECA5-99A1-4CF9-A241-57422F6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C8D9-C4BF-457B-BFEA-82C77DE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44C95-B339-4174-96FD-77BD32CE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2D04-EF48-46EF-B84E-BC9541DD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3E6-98C0-41FB-97FD-000E49BB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3944-FF1C-4A3F-977A-68C8AA13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67DB-D6EA-4EB2-AAE8-F5035B6A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228E-3EB9-48B9-9101-AFBCD73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36F3-6607-43D0-8582-5CA663B9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EB91B-A6C6-4E86-904A-CF0A6FE2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2D4F-03E5-4C00-8EA3-9BB57BD2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AD70-BFEF-470A-95DE-6EE07BE2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C148-3E60-41D2-90BA-FCBFFB0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A5FC-6939-4D0C-8686-FE63AB7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C955-3F70-476D-932A-4B41F025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E17-6C52-4DE3-B60C-697863E8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ACC75-4F75-4685-B11D-32E6595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A29A-6AAC-446E-902F-AFDC3689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D6F5E-C61D-498D-A9D1-EAAD3880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B5BC-5599-4348-94CA-F5884154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4FE5A-31D1-45AB-8F1C-1694F8D2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0CE4B-7298-46BE-9454-CF1EE875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2DCA3-A692-4143-8D94-4A7E2E2A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ECF8-B9C5-4835-83AA-949AE62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3FC9-7B5B-4E32-AA00-45D28C4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2581D-8404-42AF-B6F9-205B7BE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B70-D880-443E-8E45-6A0A2235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37FD-71B0-434B-9C98-709D4871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C811-10C2-4591-BFA5-B20A34F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E5CA0-7981-4ED4-A0F7-7AC63F2E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57EC-B2E8-49E5-A7D6-1BE6CE1E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F0AC9-77A2-41DC-86BF-13D57AE8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D0035-F302-48F9-9E05-AD5F479B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4A50-4C5D-4D1A-97E8-7224D6AA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E0586-C111-49DC-BFB9-1C152AC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2642-C37C-4479-A566-2749915B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F81A9-0536-414F-91C3-80243F9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084-E984-44F7-88A8-B740678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C417B-2828-49D5-BBDD-F37D5AB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81D46-FC96-4C27-BA0B-5EFC40D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517BE-7BDA-4DFB-891C-54428ED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12F43-8310-4F71-A3CD-46C3BCC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AA7BA-1412-4D61-9091-B3CF90DB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40E63-5054-4C1A-9B31-77D5A60C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8538-BBD1-49CD-93C7-187C8CC1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6470E-B294-40FB-AAEA-A704BE17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6E2BA-E1D8-40A0-AE1B-A6D09F6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DA649-0A24-4770-832B-1DB63CAE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4060-DFE4-4B88-854D-EA5ED90D65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9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3BA0-94A9-4D99-A319-A9E83BFA39F1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61A1-DD73-4C4E-A99B-0B8A4B7F41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DC0F-FEAA-460C-82EA-5273B920C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08ED-1F15-439B-98AC-4B41B55AEB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9C37-4218-4B0F-8A96-742FAD29E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FFA0-BDAA-48C1-B6EC-E293DE350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2279-0995-4726-ABF1-07E42128E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7F9C-C663-4DC2-B6A2-0D63D5952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44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90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04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18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32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46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60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74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76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6A2C-DFAE-4AED-A9EA-DD7975C64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32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46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1114-8E0E-4A6D-9028-E12656ABE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96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4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048-5EC5-442F-8AF9-677C0F1441A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hammer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oin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suction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oin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oin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ammer.wav"/><Relationship Id="rId3" Type="http://schemas.openxmlformats.org/officeDocument/2006/relationships/audio" Target="../media/camera.wav"/><Relationship Id="rId4" Type="http://schemas.openxmlformats.org/officeDocument/2006/relationships/audio" Target="../media/hamm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2895480" y="1752480"/>
            <a:ext cx="304812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孙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5486400" y="3657600"/>
            <a:ext cx="1828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华文行楷"/>
              </a:rPr>
              <a:t>司马迁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6"/>
          <a:stretch/>
        </p:blipFill>
        <p:spPr>
          <a:xfrm>
            <a:off x="152280" y="380880"/>
            <a:ext cx="1295640" cy="15242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7"/>
          <a:stretch/>
        </p:blipFill>
        <p:spPr>
          <a:xfrm>
            <a:off x="80773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04920" y="3599640"/>
            <a:ext cx="86868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buClr>
                <a:srgbClr val="008000"/>
              </a:buClr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如：“庞涓……乃阴使召孙膑”，一个“阴”字，“庞涓……疾之”一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疾”字就把庞涓其人的险恶用心，阴谋伎俩及心胸狭窄，嫉贤妒能的本能暴露无遗。写孙膑“围魏救赵”时用的“魏果去邯郸”设计杀庞涓时用的“庞涓果夜至斫木下”的两个“果”字就把孙膑的智谋过人、神机妙算表现得淋漓尽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89196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鉴赏与写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48440" y="990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言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34920" y="1828800"/>
            <a:ext cx="11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语言精练，富于表现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amera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457200" y="5044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庞涓：骄傲自大。具体表现在：当他看到孙膑设计的假象时，轻易大喜，还自得地说：“我固知齐军怯。”同时，庞涓还具有残忍、忌妒心强的性格特点，具体表现在他对同学孙膑因妒而施之以酷刑一事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66336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难点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57200" y="1295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合本文具体内容分析孙膑和庞涓的人物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" y="2362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孙膑：足智多谋，有卓越的军事才能。具体表现在：在马陵道之战中，孙膑洞悉敌军弱点，故作假象，巧设伏兵，造成庞涓的错觉，诱敌就范，战而胜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896400" y="3626640"/>
            <a:ext cx="48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弱罢于内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290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39160" y="1219320"/>
            <a:ext cx="13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35920" y="2033640"/>
            <a:ext cx="55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隐勿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　　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326600" y="2765520"/>
            <a:ext cx="58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夫解杂乱纷叫者不控捲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09680" y="25909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48320" y="3352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752480" y="4191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57200" y="5206320"/>
            <a:ext cx="86868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魏国去邯郸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　　　　　　　　　　　　　　　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921240" y="457200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523880" y="5791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07520" y="2057400"/>
            <a:ext cx="27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”通“现”；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299560" y="281952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捲”通“拳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66200" y="365760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罢”通“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16960" y="58672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古义：离开；今义：从所在地到别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975040" y="6018840"/>
            <a:ext cx="21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之二虫又何知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指示代词，这、此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290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205640" y="990720"/>
            <a:ext cx="10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0788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28520" y="182880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忌数与齐诸公子驰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次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805040" y="251460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又数刀毙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07880" y="4495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066400" y="327672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窃载与之齐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动词，去，往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313360" y="388620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齐将田忌善而客待之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代词，指孙膑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080800" y="449568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遂成竖子之名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助词，的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600200" y="5105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心之所向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助词，放在主语和谓语之间，取消句子的独立性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143000" y="200484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066680" y="3429000"/>
            <a:ext cx="381240" cy="2895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2209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81080" y="28954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28800" y="6400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133720" y="54864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048120" y="48769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191120" y="42670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666880" y="36576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34290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0880" y="54093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遂以为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”字后面省略宾语“膑”，指孙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92640" y="139716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0880" y="2057400"/>
            <a:ext cx="81536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以法刑断其两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词活用作动词，施行刑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隐勿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使动用法，使……隐居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乃钻火烛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词活用作动词，这里是照亮的意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92640" y="406404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言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25320" y="4800600"/>
            <a:ext cx="12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省略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3429000" y="3049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169640" y="1218240"/>
            <a:ext cx="23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易读错写错的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021440" y="5714280"/>
            <a:ext cx="13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刭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211760" y="211284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而黥之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211760" y="302724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说齐使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187880" y="218916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窃载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935400" y="21891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驷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02280" y="48560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馀  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935400" y="302724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辎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2120" y="3933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控捲  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935400" y="394164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亢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187880" y="394164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搏撠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26160" y="48276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悍勇  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87880" y="302724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趣利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26160" y="5694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道狭  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935400" y="485604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斫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098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弩  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200" y="20574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q</a:t>
            </a: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í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53720" y="213372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s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041560" y="38941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qu</a:t>
            </a: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063880" y="4808520"/>
            <a:ext cx="8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h</a:t>
            </a: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169760" y="480060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118600" y="29797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s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840200" y="48006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355160" y="297180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z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898880" y="213372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z</a:t>
            </a: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216160" y="56466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xi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825080" y="5638680"/>
            <a:ext cx="6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n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262280" y="5638680"/>
            <a:ext cx="8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j</a:t>
            </a: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ǐ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151400" y="388620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g</a:t>
            </a: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829400" y="297180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q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94964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j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371600" y="25909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90720" y="3505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419720" y="26668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934320" y="26668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0384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34320" y="3505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37160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4197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3716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8580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038480" y="6172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0" y="6172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371600" y="6172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而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能不及孙膑       认为（动词）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虏魏太子申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归           而，表修饰关系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孙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此名显天下         因为（介词）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于是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田忌为将         把（介词）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君之下驷与彼上驷     用（介词） 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庞涓恐其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己           比（介词） 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是忌进孙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威王       向（介词） 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轻兵锐卒必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外         在（介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 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以为能不及孙膑       可是（转折连词）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则以法刑断其两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黥之   并且（并列连词）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去韩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归                 承接连词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窃载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齐     动词  去，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齐将田忌善而客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代词 孙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遂成竖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名   助词 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457200" y="3326400"/>
            <a:ext cx="83818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司马迁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约前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45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或前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35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一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?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字子长，西汉夏阳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今陕西韩城南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人。我国古代杰出的史学家、文学家和思想家。其祖先做过周朝史官，父亲司马谈为汉朝太史令，司马迁从小受到良好的知识熏陶。青壮年时期曾漫游各地，足迹几乎遍及全国，考察了祖国的名山大川、各地的风土人情，寻访了名胜古迹，采集了轶闻传说，广泛接触了社会生活及不同阶层的人物，开拓了眼界，搜集并积累了丰富的史料。司马谈死后，他继承父亲官职，做了太史令，博览皇家图书、档案及各种史料，为精心编写《史记》准备了条件。汉武帝太初元年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前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04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正式开始编写《史记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104360" y="380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33520" y="175248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当他专心著书的时候，天汉二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9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汉将李陵败降匈奴，君臣震惊，司马迁因替李陵辩护，触怒了汉武帝，获罪下狱，遭受宫刑。蒙受了奇耻大辱的司马迁痛不欲生，但为了完成《史记》这部著作，他忍辱苟活，以刑后余生全力写作，终于在公元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完成了这部“究天人之际，通古今之变，成一家之言”的不朽巨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plus(out)" transition="out">
                                      <p:cBhvr additive="repl">
                                        <p:cTn id="3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685800" y="3009240"/>
            <a:ext cx="72388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孙膑，战国时兵家，齐国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山东阳谷东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，孙武的后代。膑，古代剔去人膝盖骨的一种酷刑。孙膑被庞涓施以此刑，后世就用“膑”做他的名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647160" y="53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文题阐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2971800" y="44190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减灶杀涓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063080" y="3206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5692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帮田忌赛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256920" y="320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围魏救赵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286000" y="228600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17920" cy="20574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570840" y="53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352680" cy="23590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4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1. </a:t>
            </a: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本文用哪些事例来表现孙膑的才能？这体现了司马迁人物传记在选材上的什么特点？ 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田忌赛马、围魏救赵、马陵之战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②在掌握丰富素材的基础上，选取与人物性格密切相关的材料，既体现人物的主题风貌，又表现其性格的丰富性。具有生活化的特征，不避小事俗事。材料的安排详略得当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1-05-17T11:29:45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